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hdphoto1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12295-521D-44A8-AE74-D100664C0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FC5D6C-0857-4B39-890E-7BF4DCC560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F07-53E6-4BDD-BBE7-B676032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64A-05A1-4D26-948F-51EAA638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749-B4B2-4B2D-AD9B-79707252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136-C438-41BC-B717-9155A2D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D65-1044-4FF8-9D11-EBA1B1EE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BC5-25F0-4C83-8209-FE28653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A260-DB12-4689-90E0-64C71DCD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CF8-10C5-4F70-AA7A-2AED55EA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720-9A11-4D85-9270-F9B2CFEB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556-8396-4497-8344-7F2DB0FE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1934-2523-4E49-9D65-88EFDEA9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4C4-775E-493A-9DF1-DB4B969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948-EDF7-45F8-BC40-3982BEC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DAB4-4562-4683-9A29-DDEF3CA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0AE7-8241-49FA-A866-0DBCE31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BA11-3BB5-4348-B846-40378C6C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563-CDA6-4826-AFF7-632064A6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02D-F28B-4D97-B310-15190FE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F14-7240-4B6C-8914-91DD340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20E-12F7-4865-A4DD-6A655FC4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BB9-35F2-4E4B-BBA1-4DF4E4D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725-2009-4FF5-A7FF-DCB7490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CE4-0982-46CF-BF49-CFC0B23E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1C6-32A0-467D-BD02-30C2ED0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iloveppt.org/" TargetMode="External"/><Relationship Id="rId4" Type="http://schemas.openxmlformats.org/officeDocument/2006/relationships/image" Target="../media/image3.png"/><Relationship Id="rId5" Type="http://schemas.microsoft.com/office/2007/relationships/hdphoto" Target="../media/hdphoto1.wdp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rcRect l="1975" t="0" r="0" b="0"/>
          <a:stretch/>
        </p:blipFill>
        <p:spPr>
          <a:xfrm>
            <a:off x="0" y="0"/>
            <a:ext cx="896328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27272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328500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72727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509D76-5B37-4AC6-AD8B-238FBB21BE88}" type="slidenum">
              <a:rPr b="0" lang="en-US" sz="1200" spc="-1" strike="noStrike">
                <a:solidFill>
                  <a:srgbClr val="72727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26262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2626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EF1724-28A4-43BE-9EDC-12AAE70C90D3}" type="slidenum">
              <a:rPr b="0" lang="en-US" sz="1200" spc="-1" strike="noStrike">
                <a:solidFill>
                  <a:srgbClr val="2626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Administrator\Desktop\新建文件夹 (4)\未标题-1.gif">
            <a:hlinkClick r:id="rId3"/>
          </p:cNvPr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rcRect l="0" t="0" r="54117" b="0"/>
          <a:stretch/>
        </p:blipFill>
        <p:spPr>
          <a:xfrm>
            <a:off x="7092360" y="188640"/>
            <a:ext cx="158436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285000"/>
            <a:ext cx="874800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立体向上箭头商务</a:t>
            </a:r>
            <a:r>
              <a:rPr b="1" lang="en-US" sz="4000" spc="-1" strike="noStrike">
                <a:solidFill>
                  <a:srgbClr val="262626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Verdana"/>
              </a:rPr>
              <a:t>图表在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120" y="450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6080" y="76464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262626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62626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4E7-D75B-402E-B37A-47EFCC5582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C140581-0F12-4D21-80EC-685BE6D60EF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  <Words>29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ilovePPT.ORG</dc:creator>
  <dc:description/>
  <cp:keywords>我爱PPT中文网 ppt ppt模版 ppt设计</cp:keywords>
  <dc:language>en-US</dc:language>
  <cp:lastModifiedBy>a</cp:lastModifiedBy>
  <dcterms:modified xsi:type="dcterms:W3CDTF">2015-07-25T07:55:04Z</dcterms:modified>
  <cp:revision>40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</Properties>
</file>