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7.wdp" ContentType="image/vnd.ms-photo"/>
  <Override PartName="/ppt/media/image17.png" ContentType="image/png"/>
  <Override PartName="/ppt/media/hdphoto6.wdp" ContentType="image/vnd.ms-photo"/>
  <Override PartName="/ppt/media/image16.png" ContentType="image/png"/>
  <Override PartName="/ppt/media/image15.png" ContentType="image/png"/>
  <Override PartName="/ppt/media/hdphoto5.wdp" ContentType="image/vnd.ms-photo"/>
  <Override PartName="/ppt/media/image14.png" ContentType="image/png"/>
  <Override PartName="/ppt/media/hdphoto4.wdp" ContentType="image/vnd.ms-photo"/>
  <Override PartName="/ppt/media/image13.png" ContentType="image/png"/>
  <Override PartName="/ppt/media/hdphoto3.wdp" ContentType="image/vnd.ms-photo"/>
  <Override PartName="/ppt/media/image20.png" ContentType="image/png"/>
  <Override PartName="/ppt/media/hdphoto11.wdp" ContentType="image/vnd.ms-photo"/>
  <Override PartName="/ppt/media/image21.png" ContentType="image/png"/>
  <Override PartName="/ppt/media/image22.png" ContentType="image/png"/>
  <Override PartName="/ppt/media/hdphoto12.wdp" ContentType="image/vnd.ms-photo"/>
  <Override PartName="/ppt/media/image6.png" ContentType="image/png"/>
  <Override PartName="/ppt/media/image23.png" ContentType="image/png"/>
  <Override PartName="/ppt/media/hdphoto13.wdp" ContentType="image/vnd.ms-photo"/>
  <Override PartName="/ppt/media/image7.png" ContentType="image/png"/>
  <Override PartName="/ppt/media/image24.png" ContentType="image/png"/>
  <Override PartName="/ppt/media/hdphoto14.wdp" ContentType="image/vnd.ms-photo"/>
  <Override PartName="/ppt/media/image25.png" ContentType="image/png"/>
  <Override PartName="/ppt/media/image2.png" ContentType="image/png"/>
  <Override PartName="/ppt/media/image18.png" ContentType="image/png"/>
  <Override PartName="/ppt/media/hdphoto8.wdp" ContentType="image/vnd.ms-photo"/>
  <Override PartName="/ppt/media/hdphoto15.wdp" ContentType="image/vnd.ms-photo"/>
  <Override PartName="/ppt/media/image4.png" ContentType="image/png"/>
  <Override PartName="/ppt/media/image9.png" ContentType="image/png"/>
  <Override PartName="/ppt/media/image3.png" ContentType="image/png"/>
  <Override PartName="/ppt/media/image19.png" ContentType="image/png"/>
  <Override PartName="/ppt/media/hdphoto9.wdp" ContentType="image/vnd.ms-photo"/>
  <Override PartName="/ppt/media/image8.png" ContentType="image/png"/>
  <Override PartName="/ppt/media/image1.jpeg" ContentType="image/jpeg"/>
  <Override PartName="/ppt/media/image10.png" ContentType="image/png"/>
  <Override PartName="/ppt/media/hdphoto10.wdp" ContentType="image/vnd.ms-photo"/>
  <Override PartName="/ppt/media/image5.png" ContentType="image/png"/>
  <Override PartName="/ppt/media/image11.png" ContentType="image/png"/>
  <Override PartName="/ppt/media/hdphoto1.wdp" ContentType="image/vnd.ms-photo"/>
  <Override PartName="/ppt/media/image12.png" ContentType="image/png"/>
  <Override PartName="/ppt/media/hdphoto2.wdp" ContentType="image/vnd.ms-photo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A18-C880-4EB7-BE7F-888DCBF9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69B-2C66-49FE-86F0-E13051C8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5AF-5DE6-4A80-8B76-6A595523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1A9-21FB-4D6A-BC7B-FF5F95A6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742D-C999-43A3-9FEA-F2D9FDD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2275-088F-49B9-871B-191D59F7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891A-E17F-485E-8FEB-5E443EA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CF94-8072-4FBC-94B2-7DEF7D9A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581B-18D6-4BAA-994A-52CCDF3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A7A-801A-4588-8A1F-EDED33D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A7F-5135-4B76-917B-5108FB3F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C10-FB61-4DC5-B02D-72D838B9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48B-5560-4511-BC15-18F2D11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D9F-D304-4BF5-B7D9-84B5D371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90D1-D531-434D-A9C1-DE483E94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B4A-B71B-4E15-94E4-E530F163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6F3-4649-43FD-8213-DA9F7A50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04C-3E43-4B99-A23B-890CE65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30A-FCAA-439A-BC17-B600E55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EC5-AE4A-4735-9E39-F3C000E5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03F-3CC1-4C49-AD6D-34F1EF0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FF8-6499-4D5E-87EE-65918CD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A3F-253C-4A81-9DB0-837F315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B7D-2200-4B52-ADF0-22FAB4A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956D3B-8A7C-4DAD-B0F0-F5EFF3900A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F86D87-86C5-4B39-BA8B-385003C418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microsoft.com/office/2007/relationships/hdphoto" Target="../media/hdphoto4.wdp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6.wdp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microsoft.com/office/2007/relationships/hdphoto" Target="../media/hdphoto7.wdp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microsoft.com/office/2007/relationships/hdphoto" Target="../media/hdphoto8.wdp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microsoft.com/office/2007/relationships/hdphoto" Target="../media/hdphoto9.wdp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microsoft.com/office/2007/relationships/hdphoto" Target="../media/hdphoto10.wdp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11.wdp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microsoft.com/office/2007/relationships/hdphoto" Target="../media/hdphoto12.wdp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microsoft.com/office/2007/relationships/hdphoto" Target="../media/hdphoto13.wdp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microsoft.com/office/2007/relationships/hdphoto" Target="../media/hdphoto14.wdp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microsoft.com/office/2007/relationships/hdphoto" Target="../media/hdphoto15.wdp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2734560"/>
            <a:ext cx="12191760" cy="2584080"/>
          </a:xfrm>
          <a:prstGeom prst="rect">
            <a:avLst/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4063320" y="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没事别随便思考人生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2" descr=""/>
          <p:cNvPicPr/>
          <p:nvPr/>
        </p:nvPicPr>
        <p:blipFill>
          <a:blip r:embed="rId1"/>
          <a:stretch/>
        </p:blipFill>
        <p:spPr>
          <a:xfrm>
            <a:off x="1143720" y="738360"/>
            <a:ext cx="4298760" cy="586296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bright="-5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6424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7"/>
          <p:cNvSpPr/>
          <p:nvPr/>
        </p:nvSpPr>
        <p:spPr>
          <a:xfrm>
            <a:off x="2782440" y="2434680"/>
            <a:ext cx="21625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没有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期望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一切都是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惊喜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2831760" y="590040"/>
            <a:ext cx="3893040" cy="137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8"/>
          <p:cNvSpPr/>
          <p:nvPr/>
        </p:nvSpPr>
        <p:spPr>
          <a:xfrm>
            <a:off x="6740640" y="2460600"/>
            <a:ext cx="240624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在这个世界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每个人都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独一无二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真实地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做自己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找到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世界就会找到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 flipH="1">
            <a:off x="770040" y="-376200"/>
            <a:ext cx="4822200" cy="72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生活就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任人打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的小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"/>
          <p:cNvSpPr/>
          <p:nvPr/>
        </p:nvSpPr>
        <p:spPr>
          <a:xfrm>
            <a:off x="4815720" y="2687040"/>
            <a:ext cx="59533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不用羡慕别人，别人过得也没那么开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要管结果，结果已经在那里了，只是现在你不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已经习惯了被套，一旦没有这些束缚，你反而觉得很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27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28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740240" y="-12240"/>
            <a:ext cx="10299600" cy="6869880"/>
          </a:xfrm>
          <a:prstGeom prst="rect">
            <a:avLst/>
          </a:prstGeom>
          <a:ln w="0">
            <a:noFill/>
          </a:ln>
        </p:spPr>
      </p:pic>
      <p:sp>
        <p:nvSpPr>
          <p:cNvPr id="131" name="梯形 5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8"/>
          <p:cNvSpPr/>
          <p:nvPr/>
        </p:nvSpPr>
        <p:spPr>
          <a:xfrm>
            <a:off x="1015560" y="2352960"/>
            <a:ext cx="2649960" cy="31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快乐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是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忧伤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是面具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如果没有了忧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一定也不会有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3" descr=""/>
          <p:cNvPicPr/>
          <p:nvPr/>
        </p:nvPicPr>
        <p:blipFill>
          <a:blip r:embed="rId1"/>
          <a:stretch/>
        </p:blipFill>
        <p:spPr>
          <a:xfrm flipH="1">
            <a:off x="360" y="-1253160"/>
            <a:ext cx="6072120" cy="8096040"/>
          </a:xfrm>
          <a:prstGeom prst="rect">
            <a:avLst/>
          </a:prstGeom>
          <a:ln w="0">
            <a:noFill/>
          </a:ln>
        </p:spPr>
      </p:pic>
      <p:sp>
        <p:nvSpPr>
          <p:cNvPr id="134" name="梯形 4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3191400" y="2480400"/>
            <a:ext cx="881568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没有必要羡慕别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不用同情心泛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看见别人的幸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是别人想要我们看见的幸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看见别人的不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只是别人想让我们看见的不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093920" y="0"/>
            <a:ext cx="106322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梯形 4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115640" y="2806200"/>
            <a:ext cx="237564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既然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喜欢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去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现在再晚也比未来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0" y="-619920"/>
            <a:ext cx="7748640" cy="7477560"/>
          </a:xfrm>
          <a:prstGeom prst="rect">
            <a:avLst/>
          </a:prstGeom>
          <a:ln w="0">
            <a:noFill/>
          </a:ln>
        </p:spPr>
      </p:pic>
      <p:sp>
        <p:nvSpPr>
          <p:cNvPr id="141" name="梯形 5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文本框 7"/>
          <p:cNvSpPr/>
          <p:nvPr/>
        </p:nvSpPr>
        <p:spPr>
          <a:xfrm>
            <a:off x="7541280" y="1593000"/>
            <a:ext cx="74055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生活中的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都只有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自己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去承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无论是成功还是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生活都在继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像列车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无论风景好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还是继续向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1998720" y="2541960"/>
            <a:ext cx="1004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人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都当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小乌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4815720" y="2687040"/>
            <a:ext cx="6436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人生只有两件事情是公平的，一件是死亡，另一件是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羡慕别人的，都是我们缺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若选对了一个行业，行业的发展速度会给你带来很大的助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47" name="组合 9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48" name="矩形 2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文本框 8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443" r="0" b="0"/>
          <a:stretch/>
        </p:blipFill>
        <p:spPr>
          <a:xfrm>
            <a:off x="1431720" y="0"/>
            <a:ext cx="1075968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梯形 4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文本框 7"/>
          <p:cNvSpPr/>
          <p:nvPr/>
        </p:nvSpPr>
        <p:spPr>
          <a:xfrm>
            <a:off x="1280880" y="3429000"/>
            <a:ext cx="2589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发生了就让它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发生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过去了就让它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过去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0"/>
            <a:ext cx="10311840" cy="6857640"/>
          </a:xfrm>
          <a:prstGeom prst="rect">
            <a:avLst/>
          </a:prstGeom>
          <a:ln w="0">
            <a:noFill/>
          </a:ln>
        </p:spPr>
      </p:pic>
      <p:sp>
        <p:nvSpPr>
          <p:cNvPr id="154" name="梯形 3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7436520" y="3071160"/>
            <a:ext cx="23756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羡慕别人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我们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缺少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不在意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自己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拥有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跟我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4815720" y="2687040"/>
            <a:ext cx="63471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忙着追赶越来越快的世界，却发现自己想慢都慢不下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其实，知识多了也没什么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真正让你失望和绝望的，并不是你的希望，而是你对希望的执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90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91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"/>
          <p:cNvSpPr/>
          <p:nvPr/>
        </p:nvSpPr>
        <p:spPr>
          <a:xfrm>
            <a:off x="2135880" y="2541960"/>
            <a:ext cx="729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情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一条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五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4815720" y="2687040"/>
            <a:ext cx="60537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当我们批评和指责别人的时候，我们觉得有优越感，觉得自己更加强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有情绪并不可怕，可怕的是被情绪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看见的所有问题，都来自你的内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60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61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0" r="11964" b="0"/>
          <a:stretch/>
        </p:blipFill>
        <p:spPr>
          <a:xfrm>
            <a:off x="5822280" y="-191880"/>
            <a:ext cx="6199920" cy="7049520"/>
          </a:xfrm>
          <a:prstGeom prst="rect">
            <a:avLst/>
          </a:prstGeom>
          <a:ln w="0">
            <a:noFill/>
          </a:ln>
        </p:spPr>
      </p:pic>
      <p:sp>
        <p:nvSpPr>
          <p:cNvPr id="164" name="矩形 2"/>
          <p:cNvSpPr/>
          <p:nvPr/>
        </p:nvSpPr>
        <p:spPr>
          <a:xfrm>
            <a:off x="627480" y="3583800"/>
            <a:ext cx="7616160" cy="2722680"/>
          </a:xfrm>
          <a:prstGeom prst="rect">
            <a:avLst/>
          </a:prstGeom>
          <a:solidFill>
            <a:schemeClr val="bg1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是否有涵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是否足够大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不在于我们的忍耐力如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而在于我们头脑中是否存在那些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触发点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305" r="0" b="0"/>
          <a:stretch/>
        </p:blipFill>
        <p:spPr>
          <a:xfrm flipH="1">
            <a:off x="-1400760" y="0"/>
            <a:ext cx="1074384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梯形 4"/>
          <p:cNvSpPr/>
          <p:nvPr/>
        </p:nvSpPr>
        <p:spPr>
          <a:xfrm>
            <a:off x="5589720" y="-1080"/>
            <a:ext cx="85978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6730200" y="2679840"/>
            <a:ext cx="70394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学会看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能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看见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自己情绪的变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看见自己的情绪触发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这就是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修行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564" r="0" b="0"/>
          <a:stretch/>
        </p:blipFill>
        <p:spPr>
          <a:xfrm>
            <a:off x="3152880" y="0"/>
            <a:ext cx="1077300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梯形 5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184400" y="3429000"/>
            <a:ext cx="215316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有发生的事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没有对和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有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因和果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998720" y="2541960"/>
            <a:ext cx="1004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每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另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4815720" y="2687040"/>
            <a:ext cx="6436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是做最好的自己，也不是做更棒的自己，而是做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任何人的决定，都是当下最适合他的决定。如果我们觉得他的决定错了，一定是我们不了解他的另外一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75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76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-72252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"/>
          <p:cNvSpPr/>
          <p:nvPr/>
        </p:nvSpPr>
        <p:spPr>
          <a:xfrm>
            <a:off x="7568640" y="2898000"/>
            <a:ext cx="365580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一个人开始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接受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自己的缺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接受所有问题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改变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才会真正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07000" y="0"/>
            <a:ext cx="6850800" cy="6857640"/>
          </a:xfrm>
          <a:prstGeom prst="rect">
            <a:avLst/>
          </a:prstGeom>
          <a:ln w="0">
            <a:noFill/>
          </a:ln>
        </p:spPr>
      </p:pic>
      <p:sp>
        <p:nvSpPr>
          <p:cNvPr id="182" name="矩形 2"/>
          <p:cNvSpPr/>
          <p:nvPr/>
        </p:nvSpPr>
        <p:spPr>
          <a:xfrm>
            <a:off x="2709720" y="3429000"/>
            <a:ext cx="280260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看见的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自己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内心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028664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梯形 4"/>
          <p:cNvSpPr/>
          <p:nvPr/>
        </p:nvSpPr>
        <p:spPr>
          <a:xfrm>
            <a:off x="659268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8432280" y="3606120"/>
            <a:ext cx="30067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人生是只能出发一次的旅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其实一直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在路上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3873" r="0" b="0"/>
          <a:stretch/>
        </p:blipFill>
        <p:spPr>
          <a:xfrm flipH="1">
            <a:off x="1692360" y="118080"/>
            <a:ext cx="10488600" cy="6724800"/>
          </a:xfrm>
          <a:prstGeom prst="rect">
            <a:avLst/>
          </a:prstGeom>
          <a:ln w="0">
            <a:noFill/>
          </a:ln>
        </p:spPr>
      </p:pic>
      <p:sp>
        <p:nvSpPr>
          <p:cNvPr id="187" name="梯形 5"/>
          <p:cNvSpPr/>
          <p:nvPr/>
        </p:nvSpPr>
        <p:spPr>
          <a:xfrm>
            <a:off x="-172548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390960" y="2917080"/>
            <a:ext cx="76968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做一件事情半途而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有批评你的人的话都会成为真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坚持到最后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那些话就自动烟消云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给所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觉得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失败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七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4815720" y="2687040"/>
            <a:ext cx="6436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明白的那些道理，都用在了别人的身上，都用在了抱怨生活和长吁短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当别人做得比我好时，我一点都不羡慕，因为他们比我更努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懦夫为自己的失败找了</a:t>
            </a:r>
            <a:r>
              <a:rPr b="0" lang="en-US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100</a:t>
            </a: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个借口，但他还是个懦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93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94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-1826640" y="1062000"/>
            <a:ext cx="11300040" cy="6356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9005040" y="2607840"/>
            <a:ext cx="1400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生活</a:t>
            </a: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好像有一根绳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牵着每个人走向那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一边厌恶，一边成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一边成为，一边厌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形成一个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45760" y="0"/>
            <a:ext cx="1029672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矩形 1"/>
          <p:cNvSpPr/>
          <p:nvPr/>
        </p:nvSpPr>
        <p:spPr>
          <a:xfrm>
            <a:off x="7283880" y="3685320"/>
            <a:ext cx="26136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所有的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只存在于别人的评价里</a:t>
            </a:r>
            <a:r>
              <a:rPr b="0" lang="en-US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所有的失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只存在于自己的眼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4380120" y="1799280"/>
            <a:ext cx="7064280" cy="1629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55132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>
            <a:off x="2094120" y="4192920"/>
            <a:ext cx="2954880" cy="1369440"/>
          </a:xfrm>
          <a:prstGeom prst="rect">
            <a:avLst/>
          </a:prstGeom>
          <a:solidFill>
            <a:schemeClr val="bg1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你真正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生活本来就没有意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你会发现生活到处都有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6009" r="0" b="0"/>
          <a:stretch/>
        </p:blipFill>
        <p:spPr>
          <a:xfrm flipH="1">
            <a:off x="186480" y="0"/>
            <a:ext cx="7351920" cy="6916680"/>
          </a:xfrm>
          <a:prstGeom prst="rect">
            <a:avLst/>
          </a:prstGeom>
          <a:ln w="0">
            <a:noFill/>
          </a:ln>
        </p:spPr>
      </p:pic>
      <p:sp>
        <p:nvSpPr>
          <p:cNvPr id="202" name="矩形 1"/>
          <p:cNvSpPr/>
          <p:nvPr/>
        </p:nvSpPr>
        <p:spPr>
          <a:xfrm>
            <a:off x="8414280" y="3177720"/>
            <a:ext cx="2741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你头脑中没有框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没有期待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你能接受所有发生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96" name="梯形 6"/>
          <p:cNvSpPr/>
          <p:nvPr/>
        </p:nvSpPr>
        <p:spPr>
          <a:xfrm>
            <a:off x="594972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7164720" y="2846880"/>
            <a:ext cx="69102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让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生活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慢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不需要面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不需要追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更不需要攀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都可以做回最真实的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" descr=""/>
          <p:cNvPicPr/>
          <p:nvPr/>
        </p:nvPicPr>
        <p:blipFill>
          <a:blip r:embed="rId1">
            <a:lum bright="12000"/>
          </a:blip>
          <a:srcRect l="0" t="7529" r="0" b="25592"/>
          <a:stretch/>
        </p:blipFill>
        <p:spPr>
          <a:xfrm flipH="1">
            <a:off x="5288040" y="0"/>
            <a:ext cx="690408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梯形 8"/>
          <p:cNvSpPr/>
          <p:nvPr/>
        </p:nvSpPr>
        <p:spPr>
          <a:xfrm>
            <a:off x="-270756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791000" y="2404080"/>
            <a:ext cx="27414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希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有了希望，你会产生拒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没有希望，你才会接受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0286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梯形 8"/>
          <p:cNvSpPr/>
          <p:nvPr/>
        </p:nvSpPr>
        <p:spPr>
          <a:xfrm>
            <a:off x="502920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6525720" y="1974240"/>
            <a:ext cx="8451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奋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你唯一能体会的是你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如果你的心情建立在别人的眼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那是最不牢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别人的眼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是你以为的别人的眼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其实就是你自己的眼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" descr=""/>
          <p:cNvPicPr/>
          <p:nvPr/>
        </p:nvPicPr>
        <p:blipFill>
          <a:blip r:embed="rId1"/>
          <a:srcRect l="0" t="0" r="0" b="40215"/>
          <a:stretch/>
        </p:blipFill>
        <p:spPr>
          <a:xfrm>
            <a:off x="3996720" y="0"/>
            <a:ext cx="819504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梯形 3"/>
          <p:cNvSpPr/>
          <p:nvPr/>
        </p:nvSpPr>
        <p:spPr>
          <a:xfrm>
            <a:off x="-248652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221400" y="1633680"/>
            <a:ext cx="8451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痛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是现实和你的期望产生了冲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有了冲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有了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而痛苦的根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来自你太相信自己的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84348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梯形 5"/>
          <p:cNvSpPr/>
          <p:nvPr/>
        </p:nvSpPr>
        <p:spPr>
          <a:xfrm>
            <a:off x="7389000" y="0"/>
            <a:ext cx="65185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8684640" y="2043000"/>
            <a:ext cx="314316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快乐只存在于当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一切的追求</a:t>
            </a:r>
            <a:r>
              <a:rPr b="0" lang="en-US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都是对当下的否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是对快乐的抹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"/>
          <p:cNvSpPr/>
          <p:nvPr/>
        </p:nvSpPr>
        <p:spPr>
          <a:xfrm>
            <a:off x="2185920" y="2534760"/>
            <a:ext cx="1552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趁还年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做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喜欢的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直接连接符 3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sp>
        <p:nvSpPr>
          <p:cNvPr id="113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4815720" y="2687040"/>
            <a:ext cx="62326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坚持用心做一件事情，不用多长时间，一定能做出一些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每个人都独一无二，真实地做自己，找到自己，世界就会找到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那么多束缚，我们自己进去的，然后再努力挣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8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16" name="矩形 9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文本框 10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  <Words>1071</Words>
  <Paragraphs>18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5:11:13Z</dcterms:created>
  <dc:creator>朱枫</dc:creator>
  <dc:description/>
  <dc:language>en-US</dc:language>
  <cp:lastModifiedBy>王玉清</cp:lastModifiedBy>
  <dcterms:modified xsi:type="dcterms:W3CDTF">2016-03-01T07:37:24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2</vt:r8>
  </property>
</Properties>
</file>