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embeddings/oleObject1.xls" ContentType="application/vnd.ms-exce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spPr>
            <a:solidFill>
              <a:srgbClr val="01b0f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  <c:holeSize val="50"/>
      </c:doughnutChart>
      <c:spPr>
        <a:noFill/>
        <a:ln w="29880">
          <a:noFill/>
        </a:ln>
      </c:spPr>
    </c:plotArea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141A80-A1A5-4197-B4BE-F3457F558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548CD5-3A31-44C5-9943-89BBA3D145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C9D8-E20C-492E-9B33-DBBF84E4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54AD-DAC5-4EB9-A304-7B643C43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D9F8-C48A-4B9C-8272-3EC8C531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5192-9CD8-4860-B42F-1FB5A2B0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BCEB-9D6C-4547-BB10-E35CDA9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17D5-8970-42FA-B499-EE0497CD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BD3D-6FAC-41BA-87C0-0A1730AD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D786-354A-4A07-9D27-9F7DBA5E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943E-F4E6-4A92-BAB6-7F5FD9F0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9E04-3B6E-4938-907C-BAF97FB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FF2F-585D-4966-B3FD-EFFEAB1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2FF7-A25E-4B90-AE52-3ACC56F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037800" y="63817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b0f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A482E7-E2C3-4C0A-ABB1-2C186EA3E399}" type="slidenum">
              <a:rPr b="0" lang="en-US" sz="2400" spc="-1" strike="noStrike">
                <a:solidFill>
                  <a:srgbClr val="01b0f1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oleObject" Target="../embeddings/oleObject1.xls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0"/>
            <a:ext cx="12191760" cy="4536720"/>
          </a:xfrm>
          <a:prstGeom prst="rect">
            <a:avLst/>
          </a:prstGeom>
          <a:solidFill>
            <a:srgbClr val="01b0f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1558800" y="2279520"/>
            <a:ext cx="907380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欧美风简洁商务</a:t>
            </a: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e Year In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图表 4"/>
          <p:cNvGraphicFramePr/>
          <p:nvPr/>
        </p:nvGraphicFramePr>
        <p:xfrm>
          <a:off x="-466560" y="1904760"/>
          <a:ext cx="5693760" cy="397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16" name="文本框 5"/>
          <p:cNvSpPr/>
          <p:nvPr/>
        </p:nvSpPr>
        <p:spPr>
          <a:xfrm>
            <a:off x="2861280" y="4482000"/>
            <a:ext cx="112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1st  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"/>
          <p:cNvSpPr/>
          <p:nvPr/>
        </p:nvSpPr>
        <p:spPr>
          <a:xfrm>
            <a:off x="737280" y="3785760"/>
            <a:ext cx="84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2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7"/>
          <p:cNvSpPr/>
          <p:nvPr/>
        </p:nvSpPr>
        <p:spPr>
          <a:xfrm>
            <a:off x="1106280" y="265212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3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8"/>
          <p:cNvSpPr/>
          <p:nvPr/>
        </p:nvSpPr>
        <p:spPr>
          <a:xfrm>
            <a:off x="1668240" y="2150640"/>
            <a:ext cx="723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4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8"/>
          <p:cNvGrpSpPr/>
          <p:nvPr/>
        </p:nvGrpSpPr>
        <p:grpSpPr>
          <a:xfrm>
            <a:off x="4249800" y="2063880"/>
            <a:ext cx="8229240" cy="2474640"/>
            <a:chOff x="4249800" y="2063880"/>
            <a:chExt cx="8229240" cy="2474640"/>
          </a:xfrm>
        </p:grpSpPr>
        <p:graphicFrame>
          <p:nvGraphicFramePr>
            <p:cNvPr id="221" name="图表 14"/>
            <p:cNvGraphicFramePr/>
            <p:nvPr/>
          </p:nvGraphicFramePr>
          <p:xfrm>
            <a:off x="4249800" y="2063880"/>
            <a:ext cx="8229240" cy="2474640"/>
          </p:xfrm>
          <a:graphic>
            <a:graphicData uri="http://schemas.openxmlformats.org/presentationml/2006/ole">
              <p:oleObj progId="Excel.Sheet.8" r:id="rId2" spid="">
                <p:embed/>
                <p:pic>
                  <p:nvPicPr>
                    <p:cNvPr id="222" name="图表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49800" y="2063880"/>
                      <a:ext cx="8229240" cy="24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文本框 15"/>
            <p:cNvSpPr/>
            <p:nvPr/>
          </p:nvSpPr>
          <p:spPr>
            <a:xfrm>
              <a:off x="5308560" y="26251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6"/>
            <p:cNvSpPr/>
            <p:nvPr/>
          </p:nvSpPr>
          <p:spPr>
            <a:xfrm>
              <a:off x="6229800" y="31453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7152840" y="32493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8"/>
            <p:cNvSpPr/>
            <p:nvPr/>
          </p:nvSpPr>
          <p:spPr>
            <a:xfrm>
              <a:off x="8070480" y="21816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19"/>
            <p:cNvSpPr/>
            <p:nvPr/>
          </p:nvSpPr>
          <p:spPr>
            <a:xfrm>
              <a:off x="8985960" y="2963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9938880" y="32472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1"/>
            <p:cNvSpPr/>
            <p:nvPr/>
          </p:nvSpPr>
          <p:spPr>
            <a:xfrm>
              <a:off x="10843560" y="26964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7"/>
          <p:cNvSpPr/>
          <p:nvPr/>
        </p:nvSpPr>
        <p:spPr>
          <a:xfrm>
            <a:off x="5126040" y="4851360"/>
            <a:ext cx="6463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 I want to play a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"/>
          <p:cNvSpPr/>
          <p:nvPr/>
        </p:nvSpPr>
        <p:spPr>
          <a:xfrm>
            <a:off x="372672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5388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0"/>
          <p:cNvSpPr/>
          <p:nvPr/>
        </p:nvSpPr>
        <p:spPr>
          <a:xfrm>
            <a:off x="6297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"/>
          <p:cNvSpPr/>
          <p:nvPr/>
        </p:nvSpPr>
        <p:spPr>
          <a:xfrm>
            <a:off x="7205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2"/>
          <p:cNvSpPr/>
          <p:nvPr/>
        </p:nvSpPr>
        <p:spPr>
          <a:xfrm>
            <a:off x="8114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3"/>
          <p:cNvSpPr/>
          <p:nvPr/>
        </p:nvSpPr>
        <p:spPr>
          <a:xfrm>
            <a:off x="905904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4"/>
          <p:cNvSpPr/>
          <p:nvPr/>
        </p:nvSpPr>
        <p:spPr>
          <a:xfrm>
            <a:off x="99799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5"/>
          <p:cNvSpPr/>
          <p:nvPr/>
        </p:nvSpPr>
        <p:spPr>
          <a:xfrm>
            <a:off x="108885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b0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3"/>
          <p:cNvSpPr/>
          <p:nvPr/>
        </p:nvSpPr>
        <p:spPr>
          <a:xfrm>
            <a:off x="3792600" y="4168800"/>
            <a:ext cx="460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cture 5"/>
          <p:cNvSpPr/>
          <p:nvPr/>
        </p:nvSpPr>
        <p:spPr>
          <a:xfrm>
            <a:off x="5040360" y="1700640"/>
            <a:ext cx="2111040" cy="2111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"/>
          <p:cNvGrpSpPr/>
          <p:nvPr/>
        </p:nvGrpSpPr>
        <p:grpSpPr>
          <a:xfrm>
            <a:off x="1169640" y="2363760"/>
            <a:ext cx="2927160" cy="3297240"/>
            <a:chOff x="1169640" y="2363760"/>
            <a:chExt cx="2927160" cy="3297240"/>
          </a:xfrm>
        </p:grpSpPr>
        <p:sp>
          <p:nvSpPr>
            <p:cNvPr id="52" name="椭圆 3"/>
            <p:cNvSpPr/>
            <p:nvPr/>
          </p:nvSpPr>
          <p:spPr>
            <a:xfrm>
              <a:off x="180540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3" name="椭圆 4"/>
            <p:cNvSpPr/>
            <p:nvPr/>
          </p:nvSpPr>
          <p:spPr>
            <a:xfrm>
              <a:off x="1912680" y="2471040"/>
              <a:ext cx="1441080" cy="1441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4" name="文本框 6"/>
            <p:cNvSpPr/>
            <p:nvPr/>
          </p:nvSpPr>
          <p:spPr>
            <a:xfrm>
              <a:off x="165960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7"/>
            <p:cNvSpPr/>
            <p:nvPr/>
          </p:nvSpPr>
          <p:spPr>
            <a:xfrm>
              <a:off x="1169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7"/>
          <p:cNvGrpSpPr/>
          <p:nvPr/>
        </p:nvGrpSpPr>
        <p:grpSpPr>
          <a:xfrm>
            <a:off x="4634640" y="2363760"/>
            <a:ext cx="2927160" cy="3297240"/>
            <a:chOff x="4634640" y="2363760"/>
            <a:chExt cx="2927160" cy="3297240"/>
          </a:xfrm>
        </p:grpSpPr>
        <p:sp>
          <p:nvSpPr>
            <p:cNvPr id="57" name="椭圆 30"/>
            <p:cNvSpPr/>
            <p:nvPr/>
          </p:nvSpPr>
          <p:spPr>
            <a:xfrm>
              <a:off x="5270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8" name="椭圆 31"/>
            <p:cNvSpPr/>
            <p:nvPr/>
          </p:nvSpPr>
          <p:spPr>
            <a:xfrm>
              <a:off x="5377320" y="2471040"/>
              <a:ext cx="1441080" cy="1441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59" name="文本框 6"/>
            <p:cNvSpPr/>
            <p:nvPr/>
          </p:nvSpPr>
          <p:spPr>
            <a:xfrm>
              <a:off x="5124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7"/>
            <p:cNvSpPr/>
            <p:nvPr/>
          </p:nvSpPr>
          <p:spPr>
            <a:xfrm>
              <a:off x="4634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6"/>
          <p:cNvGrpSpPr/>
          <p:nvPr/>
        </p:nvGrpSpPr>
        <p:grpSpPr>
          <a:xfrm>
            <a:off x="8099280" y="2363760"/>
            <a:ext cx="2927160" cy="3297240"/>
            <a:chOff x="8099280" y="2363760"/>
            <a:chExt cx="2927160" cy="3297240"/>
          </a:xfrm>
        </p:grpSpPr>
        <p:sp>
          <p:nvSpPr>
            <p:cNvPr id="62" name="椭圆 37"/>
            <p:cNvSpPr/>
            <p:nvPr/>
          </p:nvSpPr>
          <p:spPr>
            <a:xfrm>
              <a:off x="8735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63" name="椭圆 38"/>
            <p:cNvSpPr/>
            <p:nvPr/>
          </p:nvSpPr>
          <p:spPr>
            <a:xfrm>
              <a:off x="8842320" y="2471040"/>
              <a:ext cx="1441080" cy="1441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64" name="文本框 6"/>
            <p:cNvSpPr/>
            <p:nvPr/>
          </p:nvSpPr>
          <p:spPr>
            <a:xfrm>
              <a:off x="8589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7"/>
            <p:cNvSpPr/>
            <p:nvPr/>
          </p:nvSpPr>
          <p:spPr>
            <a:xfrm>
              <a:off x="809928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6"/>
          <p:cNvGrpSpPr/>
          <p:nvPr/>
        </p:nvGrpSpPr>
        <p:grpSpPr>
          <a:xfrm>
            <a:off x="1814760" y="1938240"/>
            <a:ext cx="3511080" cy="1701360"/>
            <a:chOff x="1814760" y="1938240"/>
            <a:chExt cx="3511080" cy="1701360"/>
          </a:xfrm>
        </p:grpSpPr>
        <p:sp>
          <p:nvSpPr>
            <p:cNvPr id="67" name="文本框 7"/>
            <p:cNvSpPr/>
            <p:nvPr/>
          </p:nvSpPr>
          <p:spPr>
            <a:xfrm>
              <a:off x="1814760" y="231552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5"/>
            <p:cNvSpPr/>
            <p:nvPr/>
          </p:nvSpPr>
          <p:spPr>
            <a:xfrm>
              <a:off x="1814760" y="193824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韩国商人在晚上"/>
          <p:cNvPicPr/>
          <p:nvPr/>
        </p:nvPicPr>
        <p:blipFill>
          <a:blip r:embed="rId1"/>
          <a:stretch/>
        </p:blipFill>
        <p:spPr>
          <a:xfrm>
            <a:off x="6098040" y="2065320"/>
            <a:ext cx="5378760" cy="358596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5"/>
          <p:cNvGrpSpPr/>
          <p:nvPr/>
        </p:nvGrpSpPr>
        <p:grpSpPr>
          <a:xfrm>
            <a:off x="669240" y="2068920"/>
            <a:ext cx="791640" cy="646560"/>
            <a:chOff x="669240" y="2068920"/>
            <a:chExt cx="791640" cy="646560"/>
          </a:xfrm>
        </p:grpSpPr>
        <p:sp>
          <p:nvSpPr>
            <p:cNvPr id="72" name="矩形 1"/>
            <p:cNvSpPr/>
            <p:nvPr/>
          </p:nvSpPr>
          <p:spPr>
            <a:xfrm>
              <a:off x="669240" y="206892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"/>
            <p:cNvSpPr/>
            <p:nvPr/>
          </p:nvSpPr>
          <p:spPr>
            <a:xfrm>
              <a:off x="669240" y="250344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DE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组合 6"/>
          <p:cNvGrpSpPr/>
          <p:nvPr/>
        </p:nvGrpSpPr>
        <p:grpSpPr>
          <a:xfrm>
            <a:off x="1814760" y="3996720"/>
            <a:ext cx="3511080" cy="1701360"/>
            <a:chOff x="1814760" y="3996720"/>
            <a:chExt cx="3511080" cy="1701360"/>
          </a:xfrm>
        </p:grpSpPr>
        <p:sp>
          <p:nvSpPr>
            <p:cNvPr id="75" name="文本框 7"/>
            <p:cNvSpPr/>
            <p:nvPr/>
          </p:nvSpPr>
          <p:spPr>
            <a:xfrm>
              <a:off x="1814760" y="437400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5"/>
            <p:cNvSpPr/>
            <p:nvPr/>
          </p:nvSpPr>
          <p:spPr>
            <a:xfrm>
              <a:off x="1814760" y="399672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69240" y="4127400"/>
            <a:ext cx="791640" cy="646560"/>
            <a:chOff x="669240" y="4127400"/>
            <a:chExt cx="791640" cy="646560"/>
          </a:xfrm>
        </p:grpSpPr>
        <p:sp>
          <p:nvSpPr>
            <p:cNvPr id="78" name="矩形 23"/>
            <p:cNvSpPr/>
            <p:nvPr/>
          </p:nvSpPr>
          <p:spPr>
            <a:xfrm>
              <a:off x="669240" y="412740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4"/>
            <p:cNvSpPr/>
            <p:nvPr/>
          </p:nvSpPr>
          <p:spPr>
            <a:xfrm>
              <a:off x="669240" y="456192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J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3"/>
          <p:cNvSpPr/>
          <p:nvPr/>
        </p:nvSpPr>
        <p:spPr>
          <a:xfrm>
            <a:off x="1195920" y="1974960"/>
            <a:ext cx="189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$80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7"/>
          <p:cNvSpPr/>
          <p:nvPr/>
        </p:nvSpPr>
        <p:spPr>
          <a:xfrm>
            <a:off x="546120" y="2355840"/>
            <a:ext cx="502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连接符 8"/>
          <p:cNvCxnSpPr/>
          <p:nvPr/>
        </p:nvCxnSpPr>
        <p:spPr>
          <a:xfrm>
            <a:off x="6086160" y="2415960"/>
            <a:ext cx="360" cy="177372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83" name="矩形 9"/>
          <p:cNvSpPr/>
          <p:nvPr/>
        </p:nvSpPr>
        <p:spPr>
          <a:xfrm>
            <a:off x="5400720" y="4633920"/>
            <a:ext cx="1447560" cy="4647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10"/>
          <p:cNvGrpSpPr/>
          <p:nvPr/>
        </p:nvGrpSpPr>
        <p:grpSpPr>
          <a:xfrm>
            <a:off x="6905520" y="1974960"/>
            <a:ext cx="5022360" cy="1293480"/>
            <a:chOff x="6905520" y="1974960"/>
            <a:chExt cx="5022360" cy="1293480"/>
          </a:xfrm>
        </p:grpSpPr>
        <p:sp>
          <p:nvSpPr>
            <p:cNvPr id="85" name="文本框 12"/>
            <p:cNvSpPr/>
            <p:nvPr/>
          </p:nvSpPr>
          <p:spPr>
            <a:xfrm>
              <a:off x="7686000" y="1974960"/>
              <a:ext cx="189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$60,00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7"/>
            <p:cNvSpPr/>
            <p:nvPr/>
          </p:nvSpPr>
          <p:spPr>
            <a:xfrm>
              <a:off x="6905520" y="2355840"/>
              <a:ext cx="50223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55"/>
          <p:cNvGrpSpPr/>
          <p:nvPr/>
        </p:nvGrpSpPr>
        <p:grpSpPr>
          <a:xfrm>
            <a:off x="485640" y="4146480"/>
            <a:ext cx="1898280" cy="1990080"/>
            <a:chOff x="485640" y="4146480"/>
            <a:chExt cx="1898280" cy="1990080"/>
          </a:xfrm>
        </p:grpSpPr>
        <p:grpSp>
          <p:nvGrpSpPr>
            <p:cNvPr id="88" name="组合 46"/>
            <p:cNvGrpSpPr/>
            <p:nvPr/>
          </p:nvGrpSpPr>
          <p:grpSpPr>
            <a:xfrm>
              <a:off x="714240" y="4146480"/>
              <a:ext cx="1441080" cy="1439640"/>
              <a:chOff x="714240" y="4146480"/>
              <a:chExt cx="1441080" cy="1439640"/>
            </a:xfrm>
          </p:grpSpPr>
          <p:sp>
            <p:nvSpPr>
              <p:cNvPr id="89" name="任意多边形 19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0" name="任意多边形 42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33765" y="304351"/>
                    </a:moveTo>
                    <a:lnTo>
                      <a:pt x="119464" y="323891"/>
                    </a:lnTo>
                    <a:lnTo>
                      <a:pt x="122965" y="317441"/>
                    </a:lnTo>
                    <a:close/>
                    <a:moveTo>
                      <a:pt x="218055" y="204966"/>
                    </a:moveTo>
                    <a:lnTo>
                      <a:pt x="200261" y="223758"/>
                    </a:lnTo>
                    <a:lnTo>
                      <a:pt x="210883" y="210883"/>
                    </a:lnTo>
                    <a:close/>
                    <a:moveTo>
                      <a:pt x="332546" y="114766"/>
                    </a:moveTo>
                    <a:lnTo>
                      <a:pt x="310528" y="128669"/>
                    </a:lnTo>
                    <a:lnTo>
                      <a:pt x="317441" y="122965"/>
                    </a:lnTo>
                    <a:close/>
                    <a:moveTo>
                      <a:pt x="446740" y="54410"/>
                    </a:moveTo>
                    <a:lnTo>
                      <a:pt x="424470" y="64871"/>
                    </a:lnTo>
                    <a:lnTo>
                      <a:pt x="439744" y="56581"/>
                    </a:lnTo>
                    <a:close/>
                    <a:moveTo>
                      <a:pt x="613292" y="8768"/>
                    </a:moveTo>
                    <a:lnTo>
                      <a:pt x="562112" y="18596"/>
                    </a:lnTo>
                    <a:lnTo>
                      <a:pt x="574895" y="14628"/>
                    </a:lnTo>
                    <a:close/>
                    <a:moveTo>
                      <a:pt x="720000" y="0"/>
                    </a:moveTo>
                    <a:lnTo>
                      <a:pt x="635657" y="5354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620589"/>
                      <a:pt x="20147" y="525883"/>
                      <a:pt x="56581" y="439744"/>
                    </a:cubicBezTo>
                    <a:lnTo>
                      <a:pt x="114416" y="333192"/>
                    </a:lnTo>
                    <a:lnTo>
                      <a:pt x="265812" y="429894"/>
                    </a:lnTo>
                    <a:lnTo>
                      <a:pt x="222436" y="509808"/>
                    </a:lnTo>
                    <a:cubicBezTo>
                      <a:pt x="195110" y="574412"/>
                      <a:pt x="180000" y="645442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91" name="文本框 50"/>
            <p:cNvSpPr/>
            <p:nvPr/>
          </p:nvSpPr>
          <p:spPr>
            <a:xfrm>
              <a:off x="48564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56"/>
          <p:cNvGrpSpPr/>
          <p:nvPr/>
        </p:nvGrpSpPr>
        <p:grpSpPr>
          <a:xfrm>
            <a:off x="2979720" y="4146480"/>
            <a:ext cx="1898280" cy="1990080"/>
            <a:chOff x="2979720" y="4146480"/>
            <a:chExt cx="1898280" cy="1990080"/>
          </a:xfrm>
        </p:grpSpPr>
        <p:grpSp>
          <p:nvGrpSpPr>
            <p:cNvPr id="93" name="组合 48"/>
            <p:cNvGrpSpPr/>
            <p:nvPr/>
          </p:nvGrpSpPr>
          <p:grpSpPr>
            <a:xfrm>
              <a:off x="3208320" y="4146480"/>
              <a:ext cx="1441080" cy="1439640"/>
              <a:chOff x="3208320" y="4146480"/>
              <a:chExt cx="1441080" cy="1439640"/>
            </a:xfrm>
          </p:grpSpPr>
          <p:sp>
            <p:nvSpPr>
              <p:cNvPr id="94" name="任意多边形 34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5" name="任意多边形 45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567170" y="1422974"/>
                    </a:moveTo>
                    <a:lnTo>
                      <a:pt x="694165" y="1438696"/>
                    </a:lnTo>
                    <a:lnTo>
                      <a:pt x="646384" y="1436283"/>
                    </a:lnTo>
                    <a:cubicBezTo>
                      <a:pt x="622180" y="1433825"/>
                      <a:pt x="598330" y="1430168"/>
                      <a:pt x="574895" y="1425372"/>
                    </a:cubicBezTo>
                    <a:close/>
                    <a:moveTo>
                      <a:pt x="433213" y="1379874"/>
                    </a:moveTo>
                    <a:lnTo>
                      <a:pt x="498269" y="1401586"/>
                    </a:lnTo>
                    <a:lnTo>
                      <a:pt x="439744" y="1383419"/>
                    </a:lnTo>
                    <a:close/>
                    <a:moveTo>
                      <a:pt x="312177" y="1312692"/>
                    </a:moveTo>
                    <a:lnTo>
                      <a:pt x="369950" y="1345536"/>
                    </a:lnTo>
                    <a:lnTo>
                      <a:pt x="317441" y="1317035"/>
                    </a:lnTo>
                    <a:close/>
                    <a:moveTo>
                      <a:pt x="206852" y="1224231"/>
                    </a:moveTo>
                    <a:lnTo>
                      <a:pt x="256870" y="1267060"/>
                    </a:lnTo>
                    <a:lnTo>
                      <a:pt x="210883" y="1229117"/>
                    </a:lnTo>
                    <a:close/>
                    <a:moveTo>
                      <a:pt x="120161" y="1117393"/>
                    </a:moveTo>
                    <a:lnTo>
                      <a:pt x="161572" y="1169352"/>
                    </a:lnTo>
                    <a:lnTo>
                      <a:pt x="122965" y="1122559"/>
                    </a:lnTo>
                    <a:close/>
                    <a:moveTo>
                      <a:pt x="54996" y="995149"/>
                    </a:moveTo>
                    <a:lnTo>
                      <a:pt x="86075" y="1054595"/>
                    </a:lnTo>
                    <a:lnTo>
                      <a:pt x="56581" y="1000257"/>
                    </a:lnTo>
                    <a:close/>
                    <a:moveTo>
                      <a:pt x="13648" y="858685"/>
                    </a:moveTo>
                    <a:lnTo>
                      <a:pt x="33108" y="924637"/>
                    </a:lnTo>
                    <a:lnTo>
                      <a:pt x="14628" y="865105"/>
                    </a:lnTo>
                    <a:close/>
                    <a:moveTo>
                      <a:pt x="290" y="714267"/>
                    </a:moveTo>
                    <a:lnTo>
                      <a:pt x="12174" y="849027"/>
                    </a:lnTo>
                    <a:lnTo>
                      <a:pt x="3717" y="793616"/>
                    </a:lnTo>
                    <a:cubicBezTo>
                      <a:pt x="1259" y="769412"/>
                      <a:pt x="0" y="744853"/>
                      <a:pt x="0" y="720000"/>
                    </a:cubicBezTo>
                    <a:close/>
                    <a:moveTo>
                      <a:pt x="15743" y="571301"/>
                    </a:moveTo>
                    <a:lnTo>
                      <a:pt x="736" y="705417"/>
                    </a:lnTo>
                    <a:lnTo>
                      <a:pt x="3717" y="646384"/>
                    </a:lnTo>
                    <a:cubicBezTo>
                      <a:pt x="6175" y="622180"/>
                      <a:pt x="9832" y="598330"/>
                      <a:pt x="14628" y="574895"/>
                    </a:cubicBezTo>
                    <a:close/>
                    <a:moveTo>
                      <a:pt x="58099" y="436948"/>
                    </a:moveTo>
                    <a:lnTo>
                      <a:pt x="37937" y="499805"/>
                    </a:lnTo>
                    <a:lnTo>
                      <a:pt x="56581" y="439744"/>
                    </a:lnTo>
                    <a:close/>
                    <a:moveTo>
                      <a:pt x="124633" y="315420"/>
                    </a:moveTo>
                    <a:lnTo>
                      <a:pt x="93986" y="370830"/>
                    </a:lnTo>
                    <a:lnTo>
                      <a:pt x="122965" y="317441"/>
                    </a:lnTo>
                    <a:close/>
                    <a:moveTo>
                      <a:pt x="212515" y="209537"/>
                    </a:moveTo>
                    <a:lnTo>
                      <a:pt x="173106" y="256670"/>
                    </a:lnTo>
                    <a:lnTo>
                      <a:pt x="210883" y="210883"/>
                    </a:lnTo>
                    <a:close/>
                    <a:moveTo>
                      <a:pt x="318883" y="122182"/>
                    </a:moveTo>
                    <a:lnTo>
                      <a:pt x="272086" y="160386"/>
                    </a:lnTo>
                    <a:lnTo>
                      <a:pt x="317441" y="122965"/>
                    </a:lnTo>
                    <a:close/>
                    <a:moveTo>
                      <a:pt x="440840" y="56241"/>
                    </a:moveTo>
                    <a:lnTo>
                      <a:pt x="389127" y="84055"/>
                    </a:lnTo>
                    <a:lnTo>
                      <a:pt x="439744" y="56581"/>
                    </a:lnTo>
                    <a:close/>
                    <a:moveTo>
                      <a:pt x="575693" y="14506"/>
                    </a:moveTo>
                    <a:lnTo>
                      <a:pt x="526480" y="29657"/>
                    </a:lnTo>
                    <a:lnTo>
                      <a:pt x="574895" y="14628"/>
                    </a:lnTo>
                    <a:close/>
                    <a:moveTo>
                      <a:pt x="720001" y="0"/>
                    </a:moveTo>
                    <a:lnTo>
                      <a:pt x="793616" y="3717"/>
                    </a:lnTo>
                    <a:cubicBezTo>
                      <a:pt x="1156680" y="40589"/>
                      <a:pt x="1440000" y="347208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lnTo>
                      <a:pt x="703119" y="1439148"/>
                    </a:lnTo>
                    <a:lnTo>
                      <a:pt x="707354" y="1258725"/>
                    </a:lnTo>
                    <a:lnTo>
                      <a:pt x="720000" y="1260000"/>
                    </a:ln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59045"/>
                      <a:pt x="1074898" y="241324"/>
                      <a:pt x="828829" y="190971"/>
                    </a:cubicBezTo>
                    <a:lnTo>
                      <a:pt x="720001" y="180000"/>
                    </a:lnTo>
                    <a:close/>
                    <a:moveTo>
                      <a:pt x="720000" y="0"/>
                    </a:moveTo>
                    <a:lnTo>
                      <a:pt x="720001" y="0"/>
                    </a:lnTo>
                    <a:lnTo>
                      <a:pt x="577040" y="14300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96" name="文本框 52"/>
            <p:cNvSpPr/>
            <p:nvPr/>
          </p:nvSpPr>
          <p:spPr>
            <a:xfrm>
              <a:off x="29797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57"/>
          <p:cNvGrpSpPr/>
          <p:nvPr/>
        </p:nvGrpSpPr>
        <p:grpSpPr>
          <a:xfrm>
            <a:off x="7288200" y="4146480"/>
            <a:ext cx="1898280" cy="1990080"/>
            <a:chOff x="7288200" y="4146480"/>
            <a:chExt cx="1898280" cy="1990080"/>
          </a:xfrm>
        </p:grpSpPr>
        <p:grpSp>
          <p:nvGrpSpPr>
            <p:cNvPr id="98" name="组合 47"/>
            <p:cNvGrpSpPr/>
            <p:nvPr/>
          </p:nvGrpSpPr>
          <p:grpSpPr>
            <a:xfrm>
              <a:off x="7516440" y="4146480"/>
              <a:ext cx="1441440" cy="1439640"/>
              <a:chOff x="7516440" y="4146480"/>
              <a:chExt cx="1441440" cy="1439640"/>
            </a:xfrm>
          </p:grpSpPr>
          <p:sp>
            <p:nvSpPr>
              <p:cNvPr id="99" name="任意多边形 28"/>
              <p:cNvSpPr/>
              <p:nvPr/>
            </p:nvSpPr>
            <p:spPr>
              <a:xfrm>
                <a:off x="751680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0" name="任意多边形 30"/>
              <p:cNvSpPr/>
              <p:nvPr/>
            </p:nvSpPr>
            <p:spPr>
              <a:xfrm flipH="1">
                <a:off x="751608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0"/>
                    </a:move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lnTo>
                      <a:pt x="1440000" y="720000"/>
                    </a:ln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01" name="文本框 53"/>
            <p:cNvSpPr/>
            <p:nvPr/>
          </p:nvSpPr>
          <p:spPr>
            <a:xfrm>
              <a:off x="728820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58"/>
          <p:cNvGrpSpPr/>
          <p:nvPr/>
        </p:nvGrpSpPr>
        <p:grpSpPr>
          <a:xfrm>
            <a:off x="9850320" y="4146480"/>
            <a:ext cx="1898280" cy="1990080"/>
            <a:chOff x="9850320" y="4146480"/>
            <a:chExt cx="1898280" cy="1990080"/>
          </a:xfrm>
        </p:grpSpPr>
        <p:grpSp>
          <p:nvGrpSpPr>
            <p:cNvPr id="103" name="组合 49"/>
            <p:cNvGrpSpPr/>
            <p:nvPr/>
          </p:nvGrpSpPr>
          <p:grpSpPr>
            <a:xfrm>
              <a:off x="10078560" y="4146480"/>
              <a:ext cx="1441440" cy="1439640"/>
              <a:chOff x="10078560" y="4146480"/>
              <a:chExt cx="1441440" cy="1439640"/>
            </a:xfrm>
          </p:grpSpPr>
          <p:sp>
            <p:nvSpPr>
              <p:cNvPr id="104" name="任意多边形 36"/>
              <p:cNvSpPr/>
              <p:nvPr/>
            </p:nvSpPr>
            <p:spPr>
              <a:xfrm>
                <a:off x="100789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" name="任意多边形 38"/>
              <p:cNvSpPr/>
              <p:nvPr/>
            </p:nvSpPr>
            <p:spPr>
              <a:xfrm flipH="1">
                <a:off x="1007820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130888" y="1310164"/>
                    </a:moveTo>
                    <a:lnTo>
                      <a:pt x="1122559" y="1317036"/>
                    </a:lnTo>
                    <a:lnTo>
                      <a:pt x="1087754" y="1335927"/>
                    </a:lnTo>
                    <a:close/>
                    <a:moveTo>
                      <a:pt x="1230561" y="1227367"/>
                    </a:moveTo>
                    <a:lnTo>
                      <a:pt x="1229117" y="1229117"/>
                    </a:lnTo>
                    <a:lnTo>
                      <a:pt x="1213503" y="1242000"/>
                    </a:lnTo>
                    <a:close/>
                    <a:moveTo>
                      <a:pt x="1332387" y="1094276"/>
                    </a:moveTo>
                    <a:lnTo>
                      <a:pt x="1317035" y="1122559"/>
                    </a:lnTo>
                    <a:lnTo>
                      <a:pt x="1313098" y="1127331"/>
                    </a:lnTo>
                    <a:close/>
                    <a:moveTo>
                      <a:pt x="1393667" y="967242"/>
                    </a:moveTo>
                    <a:lnTo>
                      <a:pt x="1383419" y="1000257"/>
                    </a:lnTo>
                    <a:lnTo>
                      <a:pt x="1375718" y="1014445"/>
                    </a:lnTo>
                    <a:close/>
                    <a:moveTo>
                      <a:pt x="1433756" y="810172"/>
                    </a:moveTo>
                    <a:lnTo>
                      <a:pt x="1425372" y="865105"/>
                    </a:lnTo>
                    <a:lnTo>
                      <a:pt x="1417984" y="888905"/>
                    </a:lnTo>
                    <a:close/>
                    <a:moveTo>
                      <a:pt x="1438638" y="693019"/>
                    </a:moveTo>
                    <a:lnTo>
                      <a:pt x="1440000" y="720000"/>
                    </a:lnTo>
                    <a:cubicBezTo>
                      <a:pt x="1440000" y="744853"/>
                      <a:pt x="1438741" y="769412"/>
                      <a:pt x="1436283" y="793616"/>
                    </a:cubicBezTo>
                    <a:lnTo>
                      <a:pt x="1435478" y="798886"/>
                    </a:lnTo>
                    <a:close/>
                    <a:moveTo>
                      <a:pt x="1422786" y="566565"/>
                    </a:moveTo>
                    <a:lnTo>
                      <a:pt x="1425372" y="574895"/>
                    </a:lnTo>
                    <a:cubicBezTo>
                      <a:pt x="1430168" y="598330"/>
                      <a:pt x="1433825" y="622180"/>
                      <a:pt x="1436283" y="646384"/>
                    </a:cubicBezTo>
                    <a:lnTo>
                      <a:pt x="1437493" y="670344"/>
                    </a:lnTo>
                    <a:close/>
                    <a:moveTo>
                      <a:pt x="1376951" y="427827"/>
                    </a:moveTo>
                    <a:lnTo>
                      <a:pt x="1383419" y="439744"/>
                    </a:lnTo>
                    <a:lnTo>
                      <a:pt x="1384969" y="444738"/>
                    </a:lnTo>
                    <a:lnTo>
                      <a:pt x="1383620" y="440557"/>
                    </a:lnTo>
                    <a:close/>
                    <a:moveTo>
                      <a:pt x="1295525" y="291370"/>
                    </a:moveTo>
                    <a:lnTo>
                      <a:pt x="1317035" y="317441"/>
                    </a:lnTo>
                    <a:lnTo>
                      <a:pt x="1321191" y="325099"/>
                    </a:lnTo>
                    <a:close/>
                    <a:moveTo>
                      <a:pt x="1204049" y="190200"/>
                    </a:moveTo>
                    <a:lnTo>
                      <a:pt x="1229117" y="210883"/>
                    </a:lnTo>
                    <a:lnTo>
                      <a:pt x="1239744" y="223763"/>
                    </a:lnTo>
                    <a:close/>
                    <a:moveTo>
                      <a:pt x="1098642" y="109983"/>
                    </a:moveTo>
                    <a:lnTo>
                      <a:pt x="1122559" y="122965"/>
                    </a:lnTo>
                    <a:lnTo>
                      <a:pt x="1141964" y="138975"/>
                    </a:lnTo>
                    <a:close/>
                    <a:moveTo>
                      <a:pt x="981520" y="50765"/>
                    </a:moveTo>
                    <a:lnTo>
                      <a:pt x="1000256" y="56581"/>
                    </a:lnTo>
                    <a:lnTo>
                      <a:pt x="1029214" y="72299"/>
                    </a:lnTo>
                    <a:close/>
                    <a:moveTo>
                      <a:pt x="849922" y="12311"/>
                    </a:moveTo>
                    <a:lnTo>
                      <a:pt x="865105" y="14628"/>
                    </a:lnTo>
                    <a:lnTo>
                      <a:pt x="899392" y="25271"/>
                    </a:lnTo>
                    <a:close/>
                    <a:moveTo>
                      <a:pt x="720000" y="0"/>
                    </a:moveTo>
                    <a:cubicBezTo>
                      <a:pt x="744853" y="0"/>
                      <a:pt x="769412" y="1259"/>
                      <a:pt x="793616" y="3717"/>
                    </a:cubicBezTo>
                    <a:lnTo>
                      <a:pt x="832590" y="9666"/>
                    </a:lnTo>
                    <a:lnTo>
                      <a:pt x="720000" y="1"/>
                    </a:ln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794559" y="1260000"/>
                      <a:pt x="865588" y="1244890"/>
                      <a:pt x="930192" y="1217564"/>
                    </a:cubicBezTo>
                    <a:lnTo>
                      <a:pt x="955410" y="1203877"/>
                    </a:lnTo>
                    <a:lnTo>
                      <a:pt x="1033880" y="1365169"/>
                    </a:lnTo>
                    <a:lnTo>
                      <a:pt x="1000256" y="1383419"/>
                    </a:lnTo>
                    <a:cubicBezTo>
                      <a:pt x="914117" y="1419853"/>
                      <a:pt x="819411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06" name="文本框 54"/>
            <p:cNvSpPr/>
            <p:nvPr/>
          </p:nvSpPr>
          <p:spPr>
            <a:xfrm>
              <a:off x="98503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59"/>
          <p:cNvSpPr/>
          <p:nvPr/>
        </p:nvSpPr>
        <p:spPr>
          <a:xfrm>
            <a:off x="7812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0"/>
          <p:cNvSpPr/>
          <p:nvPr/>
        </p:nvSpPr>
        <p:spPr>
          <a:xfrm>
            <a:off x="32670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"/>
          <p:cNvSpPr/>
          <p:nvPr/>
        </p:nvSpPr>
        <p:spPr>
          <a:xfrm>
            <a:off x="75708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2"/>
          <p:cNvSpPr/>
          <p:nvPr/>
        </p:nvSpPr>
        <p:spPr>
          <a:xfrm>
            <a:off x="10132920" y="463392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3"/>
          <p:cNvGrpSpPr/>
          <p:nvPr/>
        </p:nvGrpSpPr>
        <p:grpSpPr>
          <a:xfrm>
            <a:off x="724320" y="1849320"/>
            <a:ext cx="359640" cy="515880"/>
            <a:chOff x="724320" y="1849320"/>
            <a:chExt cx="359640" cy="515880"/>
          </a:xfrm>
        </p:grpSpPr>
        <p:sp>
          <p:nvSpPr>
            <p:cNvPr id="113" name="圆角矩形 6"/>
            <p:cNvSpPr/>
            <p:nvPr/>
          </p:nvSpPr>
          <p:spPr>
            <a:xfrm>
              <a:off x="724320" y="1849320"/>
              <a:ext cx="359640" cy="50904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圆角矩形 10"/>
            <p:cNvSpPr/>
            <p:nvPr/>
          </p:nvSpPr>
          <p:spPr>
            <a:xfrm>
              <a:off x="724320" y="2238120"/>
              <a:ext cx="359640" cy="12708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椭圆 12"/>
            <p:cNvSpPr/>
            <p:nvPr/>
          </p:nvSpPr>
          <p:spPr>
            <a:xfrm>
              <a:off x="862920" y="227376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7005240" y="1946880"/>
            <a:ext cx="570960" cy="437040"/>
            <a:chOff x="7005240" y="1946880"/>
            <a:chExt cx="570960" cy="437040"/>
          </a:xfrm>
        </p:grpSpPr>
        <p:sp>
          <p:nvSpPr>
            <p:cNvPr id="117" name="矩形 14"/>
            <p:cNvSpPr/>
            <p:nvPr/>
          </p:nvSpPr>
          <p:spPr>
            <a:xfrm>
              <a:off x="7005240" y="1946880"/>
              <a:ext cx="570960" cy="33372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18" name="直接连接符 18"/>
            <p:cNvCxnSpPr>
              <a:stCxn id="117" idx="2"/>
            </p:cNvCxnSpPr>
            <p:nvPr/>
          </p:nvCxnSpPr>
          <p:spPr>
            <a:xfrm flipH="1">
              <a:off x="7290000" y="2280600"/>
              <a:ext cx="1080" cy="10368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cxnSp>
          <p:nvCxnSpPr>
            <p:cNvPr id="119" name="直接连接符 21"/>
            <p:cNvCxnSpPr/>
            <p:nvPr/>
          </p:nvCxnSpPr>
          <p:spPr>
            <a:xfrm>
              <a:off x="7075440" y="2383920"/>
              <a:ext cx="429840" cy="36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</p:grp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椭圆 4"/>
          <p:cNvSpPr/>
          <p:nvPr/>
        </p:nvSpPr>
        <p:spPr>
          <a:xfrm>
            <a:off x="1706400" y="2141640"/>
            <a:ext cx="3239640" cy="3239640"/>
          </a:xfrm>
          <a:prstGeom prst="ellipse">
            <a:avLst/>
          </a:prstGeom>
          <a:noFill/>
          <a:ln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造字工房悦黑体验版纤细体"/>
              <a:ea typeface="造字工房悦黑体验版纤细体"/>
            </a:endParaRPr>
          </a:p>
        </p:txBody>
      </p:sp>
      <p:grpSp>
        <p:nvGrpSpPr>
          <p:cNvPr id="121" name="组合 8"/>
          <p:cNvGrpSpPr/>
          <p:nvPr/>
        </p:nvGrpSpPr>
        <p:grpSpPr>
          <a:xfrm>
            <a:off x="6564240" y="2457360"/>
            <a:ext cx="3511080" cy="2590200"/>
            <a:chOff x="6564240" y="2457360"/>
            <a:chExt cx="3511080" cy="2590200"/>
          </a:xfrm>
        </p:grpSpPr>
        <p:sp>
          <p:nvSpPr>
            <p:cNvPr id="122" name="文本框 7"/>
            <p:cNvSpPr/>
            <p:nvPr/>
          </p:nvSpPr>
          <p:spPr>
            <a:xfrm>
              <a:off x="6564240" y="3312000"/>
              <a:ext cx="351108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0"/>
            <p:cNvSpPr/>
            <p:nvPr/>
          </p:nvSpPr>
          <p:spPr>
            <a:xfrm>
              <a:off x="6564240" y="2457360"/>
              <a:ext cx="1898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icture 12"/>
          <p:cNvSpPr/>
          <p:nvPr/>
        </p:nvSpPr>
        <p:spPr>
          <a:xfrm>
            <a:off x="1868760" y="2303640"/>
            <a:ext cx="2915640" cy="291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0" descr="手机"/>
          <p:cNvPicPr/>
          <p:nvPr/>
        </p:nvPicPr>
        <p:blipFill>
          <a:blip r:embed="rId1"/>
          <a:stretch/>
        </p:blipFill>
        <p:spPr>
          <a:xfrm>
            <a:off x="695160" y="474120"/>
            <a:ext cx="3939840" cy="55105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5"/>
          <p:cNvGrpSpPr/>
          <p:nvPr/>
        </p:nvGrpSpPr>
        <p:grpSpPr>
          <a:xfrm>
            <a:off x="6528240" y="1989000"/>
            <a:ext cx="5047560" cy="1290600"/>
            <a:chOff x="6528240" y="1989000"/>
            <a:chExt cx="5047560" cy="1290600"/>
          </a:xfrm>
        </p:grpSpPr>
        <p:sp>
          <p:nvSpPr>
            <p:cNvPr id="128" name="文本框 7"/>
            <p:cNvSpPr/>
            <p:nvPr/>
          </p:nvSpPr>
          <p:spPr>
            <a:xfrm>
              <a:off x="6528240" y="236700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7"/>
            <p:cNvSpPr/>
            <p:nvPr/>
          </p:nvSpPr>
          <p:spPr>
            <a:xfrm>
              <a:off x="6528240" y="198900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0"/>
          <p:cNvGrpSpPr/>
          <p:nvPr/>
        </p:nvGrpSpPr>
        <p:grpSpPr>
          <a:xfrm>
            <a:off x="6528240" y="3400560"/>
            <a:ext cx="5047560" cy="1266120"/>
            <a:chOff x="6528240" y="3400560"/>
            <a:chExt cx="5047560" cy="1266120"/>
          </a:xfrm>
        </p:grpSpPr>
        <p:sp>
          <p:nvSpPr>
            <p:cNvPr id="131" name="文本框 7"/>
            <p:cNvSpPr/>
            <p:nvPr/>
          </p:nvSpPr>
          <p:spPr>
            <a:xfrm>
              <a:off x="6528240" y="3754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12"/>
            <p:cNvSpPr/>
            <p:nvPr/>
          </p:nvSpPr>
          <p:spPr>
            <a:xfrm>
              <a:off x="6528240" y="340056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5"/>
          <p:cNvGrpSpPr/>
          <p:nvPr/>
        </p:nvGrpSpPr>
        <p:grpSpPr>
          <a:xfrm>
            <a:off x="6528240" y="4821840"/>
            <a:ext cx="5047560" cy="1230840"/>
            <a:chOff x="6528240" y="4821840"/>
            <a:chExt cx="5047560" cy="1230840"/>
          </a:xfrm>
        </p:grpSpPr>
        <p:sp>
          <p:nvSpPr>
            <p:cNvPr id="134" name="文本框 7"/>
            <p:cNvSpPr/>
            <p:nvPr/>
          </p:nvSpPr>
          <p:spPr>
            <a:xfrm>
              <a:off x="6528240" y="5140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17"/>
            <p:cNvSpPr/>
            <p:nvPr/>
          </p:nvSpPr>
          <p:spPr>
            <a:xfrm>
              <a:off x="6528240" y="4821840"/>
              <a:ext cx="2729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h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2"/>
          <p:cNvSpPr/>
          <p:nvPr/>
        </p:nvSpPr>
        <p:spPr>
          <a:xfrm>
            <a:off x="60562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图片 2"/>
          <p:cNvSpPr/>
          <p:nvPr/>
        </p:nvSpPr>
        <p:spPr>
          <a:xfrm>
            <a:off x="5880960" y="1989000"/>
            <a:ext cx="539640" cy="5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图片 3"/>
          <p:cNvSpPr/>
          <p:nvPr/>
        </p:nvSpPr>
        <p:spPr>
          <a:xfrm>
            <a:off x="5880960" y="3400560"/>
            <a:ext cx="539640" cy="53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图片 5"/>
          <p:cNvSpPr/>
          <p:nvPr/>
        </p:nvSpPr>
        <p:spPr>
          <a:xfrm>
            <a:off x="5880960" y="4746600"/>
            <a:ext cx="539640" cy="53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261080" y="62496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14"/>
          <p:cNvGrpSpPr/>
          <p:nvPr/>
        </p:nvGrpSpPr>
        <p:grpSpPr>
          <a:xfrm>
            <a:off x="4095720" y="2190600"/>
            <a:ext cx="8229240" cy="4128840"/>
            <a:chOff x="4095720" y="2190600"/>
            <a:chExt cx="8229240" cy="4128840"/>
          </a:xfrm>
        </p:grpSpPr>
        <p:grpSp>
          <p:nvGrpSpPr>
            <p:cNvPr id="142" name="组合 3"/>
            <p:cNvGrpSpPr/>
            <p:nvPr/>
          </p:nvGrpSpPr>
          <p:grpSpPr>
            <a:xfrm>
              <a:off x="5143680" y="2190600"/>
              <a:ext cx="1331640" cy="1331640"/>
              <a:chOff x="5143680" y="2190600"/>
              <a:chExt cx="1331640" cy="1331640"/>
            </a:xfrm>
          </p:grpSpPr>
          <p:sp>
            <p:nvSpPr>
              <p:cNvPr id="143" name="椭圆 1"/>
              <p:cNvSpPr/>
              <p:nvPr/>
            </p:nvSpPr>
            <p:spPr>
              <a:xfrm>
                <a:off x="51436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44" name="文本框 2"/>
              <p:cNvSpPr/>
              <p:nvPr/>
            </p:nvSpPr>
            <p:spPr>
              <a:xfrm>
                <a:off x="52268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5"/>
            <p:cNvGrpSpPr/>
            <p:nvPr/>
          </p:nvGrpSpPr>
          <p:grpSpPr>
            <a:xfrm>
              <a:off x="7529400" y="2190600"/>
              <a:ext cx="1331640" cy="1331640"/>
              <a:chOff x="7529400" y="2190600"/>
              <a:chExt cx="1331640" cy="1331640"/>
            </a:xfrm>
          </p:grpSpPr>
          <p:sp>
            <p:nvSpPr>
              <p:cNvPr id="146" name="椭圆 6"/>
              <p:cNvSpPr/>
              <p:nvPr/>
            </p:nvSpPr>
            <p:spPr>
              <a:xfrm>
                <a:off x="752940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47" name="文本框 7"/>
              <p:cNvSpPr/>
              <p:nvPr/>
            </p:nvSpPr>
            <p:spPr>
              <a:xfrm>
                <a:off x="76136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8"/>
            <p:cNvGrpSpPr/>
            <p:nvPr/>
          </p:nvGrpSpPr>
          <p:grpSpPr>
            <a:xfrm>
              <a:off x="9917280" y="2190600"/>
              <a:ext cx="1331640" cy="1331640"/>
              <a:chOff x="9917280" y="2190600"/>
              <a:chExt cx="1331640" cy="1331640"/>
            </a:xfrm>
          </p:grpSpPr>
          <p:sp>
            <p:nvSpPr>
              <p:cNvPr id="149" name="椭圆 9"/>
              <p:cNvSpPr/>
              <p:nvPr/>
            </p:nvSpPr>
            <p:spPr>
              <a:xfrm>
                <a:off x="99172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50" name="文本框 10"/>
              <p:cNvSpPr/>
              <p:nvPr/>
            </p:nvSpPr>
            <p:spPr>
              <a:xfrm>
                <a:off x="1000080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51" name="图表 12"/>
            <p:cNvGraphicFramePr/>
            <p:nvPr/>
          </p:nvGraphicFramePr>
          <p:xfrm>
            <a:off x="4095720" y="3844080"/>
            <a:ext cx="8229240" cy="2475360"/>
          </p:xfrm>
          <a:graphic>
            <a:graphicData uri="http://schemas.openxmlformats.org/presentationml/2006/ole">
              <p:oleObj progId="Excel.Sheet.8" r:id="rId1" spid="">
                <p:embed/>
                <p:pic>
                  <p:nvPicPr>
                    <p:cNvPr id="152" name="图表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5720" y="3844080"/>
                      <a:ext cx="8229240" cy="247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文本框 13"/>
            <p:cNvSpPr/>
            <p:nvPr/>
          </p:nvSpPr>
          <p:spPr>
            <a:xfrm>
              <a:off x="5154480" y="4476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5"/>
            <p:cNvSpPr/>
            <p:nvPr/>
          </p:nvSpPr>
          <p:spPr>
            <a:xfrm>
              <a:off x="6076080" y="50450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6"/>
            <p:cNvSpPr/>
            <p:nvPr/>
          </p:nvSpPr>
          <p:spPr>
            <a:xfrm>
              <a:off x="6998760" y="5160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7"/>
            <p:cNvSpPr/>
            <p:nvPr/>
          </p:nvSpPr>
          <p:spPr>
            <a:xfrm>
              <a:off x="7916760" y="3962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18"/>
            <p:cNvSpPr/>
            <p:nvPr/>
          </p:nvSpPr>
          <p:spPr>
            <a:xfrm>
              <a:off x="8831880" y="48506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9"/>
            <p:cNvSpPr/>
            <p:nvPr/>
          </p:nvSpPr>
          <p:spPr>
            <a:xfrm>
              <a:off x="9737640" y="51469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0"/>
            <p:cNvSpPr/>
            <p:nvPr/>
          </p:nvSpPr>
          <p:spPr>
            <a:xfrm>
              <a:off x="10665720" y="45482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"/>
          <p:cNvGrpSpPr/>
          <p:nvPr/>
        </p:nvGrpSpPr>
        <p:grpSpPr>
          <a:xfrm>
            <a:off x="584280" y="2675520"/>
            <a:ext cx="4114440" cy="1317600"/>
            <a:chOff x="584280" y="2675520"/>
            <a:chExt cx="4114440" cy="1317600"/>
          </a:xfrm>
        </p:grpSpPr>
        <p:sp>
          <p:nvSpPr>
            <p:cNvPr id="161" name="文本框 12"/>
            <p:cNvSpPr/>
            <p:nvPr/>
          </p:nvSpPr>
          <p:spPr>
            <a:xfrm>
              <a:off x="584280" y="2675520"/>
              <a:ext cx="2800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7"/>
            <p:cNvSpPr/>
            <p:nvPr/>
          </p:nvSpPr>
          <p:spPr>
            <a:xfrm>
              <a:off x="646920" y="308052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0"/>
          <p:cNvGrpSpPr/>
          <p:nvPr/>
        </p:nvGrpSpPr>
        <p:grpSpPr>
          <a:xfrm>
            <a:off x="631800" y="4680000"/>
            <a:ext cx="4114440" cy="1317600"/>
            <a:chOff x="631800" y="4680000"/>
            <a:chExt cx="4114440" cy="1317600"/>
          </a:xfrm>
        </p:grpSpPr>
        <p:sp>
          <p:nvSpPr>
            <p:cNvPr id="164" name="文本框 12"/>
            <p:cNvSpPr/>
            <p:nvPr/>
          </p:nvSpPr>
          <p:spPr>
            <a:xfrm>
              <a:off x="631800" y="4680000"/>
              <a:ext cx="2871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7"/>
            <p:cNvSpPr/>
            <p:nvPr/>
          </p:nvSpPr>
          <p:spPr>
            <a:xfrm>
              <a:off x="694440" y="508500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7" name="直接连接符 14"/>
          <p:cNvCxnSpPr/>
          <p:nvPr/>
        </p:nvCxnSpPr>
        <p:spPr>
          <a:xfrm flipV="1">
            <a:off x="1763640" y="3427200"/>
            <a:ext cx="8649000" cy="1008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168" name="椭圆 2"/>
          <p:cNvSpPr/>
          <p:nvPr/>
        </p:nvSpPr>
        <p:spPr>
          <a:xfrm>
            <a:off x="5375160" y="2708280"/>
            <a:ext cx="1441080" cy="14396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连接符 11"/>
          <p:cNvCxnSpPr/>
          <p:nvPr/>
        </p:nvCxnSpPr>
        <p:spPr>
          <a:xfrm>
            <a:off x="178092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cxnSp>
        <p:nvCxnSpPr>
          <p:cNvPr id="170" name="直接连接符 12"/>
          <p:cNvCxnSpPr/>
          <p:nvPr/>
        </p:nvCxnSpPr>
        <p:spPr>
          <a:xfrm>
            <a:off x="1041228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171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1"/>
          <p:cNvGrpSpPr/>
          <p:nvPr/>
        </p:nvGrpSpPr>
        <p:grpSpPr>
          <a:xfrm>
            <a:off x="1423800" y="1593720"/>
            <a:ext cx="731520" cy="1117440"/>
            <a:chOff x="1423800" y="1593720"/>
            <a:chExt cx="731520" cy="1117440"/>
          </a:xfrm>
        </p:grpSpPr>
        <p:sp>
          <p:nvSpPr>
            <p:cNvPr id="173" name="椭圆 15"/>
            <p:cNvSpPr/>
            <p:nvPr/>
          </p:nvSpPr>
          <p:spPr>
            <a:xfrm>
              <a:off x="1425600" y="1992240"/>
              <a:ext cx="71892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74" name="文本框 19"/>
            <p:cNvSpPr/>
            <p:nvPr/>
          </p:nvSpPr>
          <p:spPr>
            <a:xfrm>
              <a:off x="1434960" y="15937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图片 1"/>
            <p:cNvSpPr/>
            <p:nvPr/>
          </p:nvSpPr>
          <p:spPr>
            <a:xfrm>
              <a:off x="1423800" y="1982520"/>
              <a:ext cx="719640" cy="71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2"/>
          <p:cNvGrpSpPr/>
          <p:nvPr/>
        </p:nvGrpSpPr>
        <p:grpSpPr>
          <a:xfrm>
            <a:off x="10063080" y="1582560"/>
            <a:ext cx="720360" cy="1116000"/>
            <a:chOff x="10063080" y="1582560"/>
            <a:chExt cx="720360" cy="1116000"/>
          </a:xfrm>
        </p:grpSpPr>
        <p:sp>
          <p:nvSpPr>
            <p:cNvPr id="177" name="椭圆 18"/>
            <p:cNvSpPr/>
            <p:nvPr/>
          </p:nvSpPr>
          <p:spPr>
            <a:xfrm>
              <a:off x="10063080" y="1978200"/>
              <a:ext cx="72036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78" name="文本框 20"/>
            <p:cNvSpPr/>
            <p:nvPr/>
          </p:nvSpPr>
          <p:spPr>
            <a:xfrm>
              <a:off x="10063080" y="158256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图片 3"/>
            <p:cNvSpPr/>
            <p:nvPr/>
          </p:nvSpPr>
          <p:spPr>
            <a:xfrm>
              <a:off x="10063800" y="1969200"/>
              <a:ext cx="719640" cy="71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0"/>
          <p:cNvGrpSpPr/>
          <p:nvPr/>
        </p:nvGrpSpPr>
        <p:grpSpPr>
          <a:xfrm>
            <a:off x="1409760" y="4152960"/>
            <a:ext cx="729000" cy="1127520"/>
            <a:chOff x="1409760" y="4152960"/>
            <a:chExt cx="729000" cy="1127520"/>
          </a:xfrm>
        </p:grpSpPr>
        <p:sp>
          <p:nvSpPr>
            <p:cNvPr id="181" name="椭圆 16"/>
            <p:cNvSpPr/>
            <p:nvPr/>
          </p:nvSpPr>
          <p:spPr>
            <a:xfrm>
              <a:off x="1419120" y="4152960"/>
              <a:ext cx="71892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82" name="文本框 22"/>
            <p:cNvSpPr/>
            <p:nvPr/>
          </p:nvSpPr>
          <p:spPr>
            <a:xfrm>
              <a:off x="1409760" y="49165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图片 5"/>
            <p:cNvSpPr/>
            <p:nvPr/>
          </p:nvSpPr>
          <p:spPr>
            <a:xfrm>
              <a:off x="1419120" y="4155840"/>
              <a:ext cx="719640" cy="719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3"/>
          <p:cNvGrpSpPr/>
          <p:nvPr/>
        </p:nvGrpSpPr>
        <p:grpSpPr>
          <a:xfrm>
            <a:off x="10051920" y="4157640"/>
            <a:ext cx="731520" cy="1132200"/>
            <a:chOff x="10051920" y="4157640"/>
            <a:chExt cx="731520" cy="1132200"/>
          </a:xfrm>
        </p:grpSpPr>
        <p:sp>
          <p:nvSpPr>
            <p:cNvPr id="185" name="椭圆 17"/>
            <p:cNvSpPr/>
            <p:nvPr/>
          </p:nvSpPr>
          <p:spPr>
            <a:xfrm>
              <a:off x="10051920" y="4157640"/>
              <a:ext cx="72036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86" name="文本框 21"/>
            <p:cNvSpPr/>
            <p:nvPr/>
          </p:nvSpPr>
          <p:spPr>
            <a:xfrm>
              <a:off x="10063080" y="492588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图片 7"/>
            <p:cNvSpPr/>
            <p:nvPr/>
          </p:nvSpPr>
          <p:spPr>
            <a:xfrm>
              <a:off x="10063080" y="4173480"/>
              <a:ext cx="719640" cy="719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"/>
          <p:cNvGrpSpPr/>
          <p:nvPr/>
        </p:nvGrpSpPr>
        <p:grpSpPr>
          <a:xfrm>
            <a:off x="3393720" y="2881080"/>
            <a:ext cx="1082520" cy="1085760"/>
            <a:chOff x="3393720" y="2881080"/>
            <a:chExt cx="1082520" cy="1085760"/>
          </a:xfrm>
        </p:grpSpPr>
        <p:sp>
          <p:nvSpPr>
            <p:cNvPr id="189" name="椭圆 8"/>
            <p:cNvSpPr/>
            <p:nvPr/>
          </p:nvSpPr>
          <p:spPr>
            <a:xfrm>
              <a:off x="339552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90" name="图片 10"/>
            <p:cNvSpPr/>
            <p:nvPr/>
          </p:nvSpPr>
          <p:spPr>
            <a:xfrm>
              <a:off x="3393720" y="2881080"/>
              <a:ext cx="1079640" cy="1079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6"/>
          <p:cNvGrpSpPr/>
          <p:nvPr/>
        </p:nvGrpSpPr>
        <p:grpSpPr>
          <a:xfrm>
            <a:off x="7718400" y="2881080"/>
            <a:ext cx="1083600" cy="1085760"/>
            <a:chOff x="7718400" y="2881080"/>
            <a:chExt cx="1083600" cy="1085760"/>
          </a:xfrm>
        </p:grpSpPr>
        <p:sp>
          <p:nvSpPr>
            <p:cNvPr id="192" name="椭圆 9"/>
            <p:cNvSpPr/>
            <p:nvPr/>
          </p:nvSpPr>
          <p:spPr>
            <a:xfrm>
              <a:off x="771840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93" name="图片 13"/>
            <p:cNvSpPr/>
            <p:nvPr/>
          </p:nvSpPr>
          <p:spPr>
            <a:xfrm>
              <a:off x="7722360" y="2881080"/>
              <a:ext cx="1079640" cy="1079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1"/>
          <p:cNvGrpSpPr/>
          <p:nvPr/>
        </p:nvGrpSpPr>
        <p:grpSpPr>
          <a:xfrm>
            <a:off x="2028960" y="2887560"/>
            <a:ext cx="8133840" cy="1166400"/>
            <a:chOff x="2028960" y="2887560"/>
            <a:chExt cx="8133840" cy="1166400"/>
          </a:xfrm>
        </p:grpSpPr>
        <p:grpSp>
          <p:nvGrpSpPr>
            <p:cNvPr id="195" name="组合 10"/>
            <p:cNvGrpSpPr/>
            <p:nvPr/>
          </p:nvGrpSpPr>
          <p:grpSpPr>
            <a:xfrm>
              <a:off x="2523240" y="3357360"/>
              <a:ext cx="7402320" cy="143640"/>
              <a:chOff x="2523240" y="3357360"/>
              <a:chExt cx="7402320" cy="143640"/>
            </a:xfrm>
          </p:grpSpPr>
          <p:sp>
            <p:nvSpPr>
              <p:cNvPr id="196" name="椭圆 2"/>
              <p:cNvSpPr/>
              <p:nvPr/>
            </p:nvSpPr>
            <p:spPr>
              <a:xfrm>
                <a:off x="252324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cxnSp>
            <p:nvCxnSpPr>
              <p:cNvPr id="197" name="直接连接符 4"/>
              <p:cNvCxnSpPr/>
              <p:nvPr/>
            </p:nvCxnSpPr>
            <p:spPr>
              <a:xfrm>
                <a:off x="2595240" y="3423600"/>
                <a:ext cx="7237080" cy="1116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</a:ln>
            </p:spPr>
          </p:cxnSp>
          <p:sp>
            <p:nvSpPr>
              <p:cNvPr id="198" name="椭圆 5"/>
              <p:cNvSpPr/>
              <p:nvPr/>
            </p:nvSpPr>
            <p:spPr>
              <a:xfrm>
                <a:off x="3979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99" name="椭圆 6"/>
              <p:cNvSpPr/>
              <p:nvPr/>
            </p:nvSpPr>
            <p:spPr>
              <a:xfrm>
                <a:off x="5436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00" name="椭圆 7"/>
              <p:cNvSpPr/>
              <p:nvPr/>
            </p:nvSpPr>
            <p:spPr>
              <a:xfrm>
                <a:off x="6868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01" name="椭圆 8"/>
              <p:cNvSpPr/>
              <p:nvPr/>
            </p:nvSpPr>
            <p:spPr>
              <a:xfrm>
                <a:off x="8325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02" name="椭圆 9"/>
              <p:cNvSpPr/>
              <p:nvPr/>
            </p:nvSpPr>
            <p:spPr>
              <a:xfrm>
                <a:off x="978192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</p:grpSp>
        <p:sp>
          <p:nvSpPr>
            <p:cNvPr id="203" name="矩形 11"/>
            <p:cNvSpPr/>
            <p:nvPr/>
          </p:nvSpPr>
          <p:spPr>
            <a:xfrm>
              <a:off x="225108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2"/>
            <p:cNvSpPr/>
            <p:nvPr/>
          </p:nvSpPr>
          <p:spPr>
            <a:xfrm>
              <a:off x="368316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3"/>
            <p:cNvSpPr/>
            <p:nvPr/>
          </p:nvSpPr>
          <p:spPr>
            <a:xfrm>
              <a:off x="6559560" y="2890800"/>
              <a:ext cx="761760" cy="272520"/>
            </a:xfrm>
            <a:prstGeom prst="rect">
              <a:avLst/>
            </a:prstGeom>
            <a:solidFill>
              <a:srgbClr val="3761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4"/>
            <p:cNvSpPr/>
            <p:nvPr/>
          </p:nvSpPr>
          <p:spPr>
            <a:xfrm>
              <a:off x="80168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5"/>
            <p:cNvSpPr/>
            <p:nvPr/>
          </p:nvSpPr>
          <p:spPr>
            <a:xfrm>
              <a:off x="94010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6"/>
            <p:cNvSpPr/>
            <p:nvPr/>
          </p:nvSpPr>
          <p:spPr>
            <a:xfrm>
              <a:off x="5126040" y="3763800"/>
              <a:ext cx="76320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7"/>
            <p:cNvSpPr/>
            <p:nvPr/>
          </p:nvSpPr>
          <p:spPr>
            <a:xfrm>
              <a:off x="2028960" y="369504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"/>
            <p:cNvSpPr/>
            <p:nvPr/>
          </p:nvSpPr>
          <p:spPr>
            <a:xfrm>
              <a:off x="4916520" y="28875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7"/>
            <p:cNvSpPr/>
            <p:nvPr/>
          </p:nvSpPr>
          <p:spPr>
            <a:xfrm>
              <a:off x="7795440" y="37209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图片 3"/>
          <p:cNvSpPr/>
          <p:nvPr/>
        </p:nvSpPr>
        <p:spPr>
          <a:xfrm>
            <a:off x="6580440" y="3673440"/>
            <a:ext cx="719640" cy="7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图片 17"/>
          <p:cNvSpPr/>
          <p:nvPr/>
        </p:nvSpPr>
        <p:spPr>
          <a:xfrm>
            <a:off x="9565920" y="3673440"/>
            <a:ext cx="719640" cy="7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  <Words>531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6:23:10Z</dcterms:created>
  <dc:creator>www.pptbz.com</dc:creator>
  <dc:description/>
  <dc:language>en-US</dc:language>
  <cp:lastModifiedBy>a</cp:lastModifiedBy>
  <dcterms:modified xsi:type="dcterms:W3CDTF">2015-07-25T02:30:33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