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9E26-0CDC-4243-B61B-5B98D90F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2EE7-D901-4364-9D8B-F6475970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1C2-A657-42AB-81E7-CAD26C07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A4B-CDDE-44E9-8A10-A10041F4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F3CB-2CB7-4BB3-B3A0-89C86CF6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23BE-75B3-4E80-A4DF-B2321A94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1902-5F59-4656-9A75-DD6D08B3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7061-4B17-4377-864A-8CE9721C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DD9F-9381-4049-9613-A873CA93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A4BF-5579-4AB8-BD7E-C61CC061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7549-86D3-402F-8084-99EABD05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F431-5FDA-4D69-85F6-9FE93F7C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9C32-95F1-4EC9-A3B2-F0BDDDB1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12F0-F655-4FCE-9AC9-EAC29EDC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1CA6-7BB3-4A7A-BE2A-6A463CB3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EEE1-E498-430B-88FE-3F0A7171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AFE3-9254-4DEB-A572-0D9E52BB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304B-A7D0-4E56-A02A-F42C7259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C11-ED94-4C4F-B803-3391FB44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19C3-B240-4EC0-865F-E08A9031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8F91-A291-4C4A-B488-26660AD2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2B5-CF3A-488B-9AC3-D404BE71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D3C4-A0CF-4F6D-8754-6C24CFB6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BC19-9585-4719-A491-919C5D0C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8E3668-9F90-4F60-939B-67EDBD8869A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474AE2-F233-4611-A005-2A3C4D8AB62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4.png"/><Relationship Id="rId10" Type="http://schemas.openxmlformats.org/officeDocument/2006/relationships/image" Target="../media/image8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640" y="553320"/>
            <a:ext cx="8490960" cy="9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chemeClr val="accent6">
                    <a:lumMod val="50000"/>
                  </a:schemeClr>
                </a:solidFill>
                <a:latin typeface="汉真广标"/>
                <a:ea typeface="汉真广标"/>
              </a:rPr>
              <a:t>七彩线条公司工作汇报</a:t>
            </a:r>
            <a:r>
              <a:rPr b="0" lang="en-US" sz="4000" spc="-1" strike="noStrike">
                <a:solidFill>
                  <a:schemeClr val="accent6">
                    <a:lumMod val="50000"/>
                  </a:schemeClr>
                </a:solidFill>
                <a:latin typeface="汉真广标"/>
                <a:ea typeface="汉真广标"/>
              </a:rPr>
              <a:t>PPT</a:t>
            </a:r>
            <a:r>
              <a:rPr b="0" lang="zh-CN" sz="4000" spc="-1" strike="noStrike">
                <a:solidFill>
                  <a:schemeClr val="accent6">
                    <a:lumMod val="50000"/>
                  </a:schemeClr>
                </a:solidFill>
                <a:latin typeface="汉真广标"/>
                <a:ea typeface="汉真广标"/>
              </a:rPr>
              <a:t>商务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143160" y="1380960"/>
            <a:ext cx="5014440" cy="618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简洁的商务演示工作汇报</a:t>
            </a:r>
            <a:r>
              <a:rPr b="1" lang="en-US" sz="18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0" y="0"/>
            <a:ext cx="7617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388800" y="53535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1360" y="157320"/>
            <a:ext cx="1828440" cy="271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4"/>
          <p:cNvGrpSpPr/>
          <p:nvPr/>
        </p:nvGrpSpPr>
        <p:grpSpPr>
          <a:xfrm>
            <a:off x="2129400" y="1149840"/>
            <a:ext cx="5190480" cy="3565440"/>
            <a:chOff x="2129400" y="1149840"/>
            <a:chExt cx="5190480" cy="3565440"/>
          </a:xfrm>
        </p:grpSpPr>
        <p:grpSp>
          <p:nvGrpSpPr>
            <p:cNvPr id="88" name="Group 5"/>
            <p:cNvGrpSpPr/>
            <p:nvPr/>
          </p:nvGrpSpPr>
          <p:grpSpPr>
            <a:xfrm>
              <a:off x="2129400" y="1149840"/>
              <a:ext cx="5190480" cy="864720"/>
              <a:chOff x="2129400" y="1149840"/>
              <a:chExt cx="5190480" cy="864720"/>
            </a:xfrm>
          </p:grpSpPr>
          <p:pic>
            <p:nvPicPr>
              <p:cNvPr id="89" name="AutoShape 86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29400" y="1149840"/>
                <a:ext cx="5190480" cy="86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Text Box 7"/>
              <p:cNvSpPr/>
              <p:nvPr/>
            </p:nvSpPr>
            <p:spPr>
              <a:xfrm>
                <a:off x="2282400" y="1294560"/>
                <a:ext cx="4741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  <a:ea typeface="Malgun Gothic"/>
                </a:endParaRPr>
              </a:p>
            </p:txBody>
          </p:sp>
        </p:grpSp>
        <p:pic>
          <p:nvPicPr>
            <p:cNvPr id="91" name="Picture 49" descr="그림자"/>
            <p:cNvPicPr/>
            <p:nvPr/>
          </p:nvPicPr>
          <p:blipFill>
            <a:blip r:embed="rId3"/>
            <a:stretch/>
          </p:blipFill>
          <p:spPr>
            <a:xfrm>
              <a:off x="2811600" y="1182600"/>
              <a:ext cx="4264560" cy="70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AutoShape 50"/>
            <p:cNvSpPr/>
            <p:nvPr/>
          </p:nvSpPr>
          <p:spPr>
            <a:xfrm>
              <a:off x="2923920" y="1287360"/>
              <a:ext cx="4032720" cy="42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6a6a6"/>
                </a:gs>
                <a:gs pos="100000">
                  <a:srgbClr val="ffffff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0" rIns="90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HY헤드라인M"/>
                  <a:ea typeface="HY헤드라인M"/>
                </a:rPr>
                <a:t>CLICK TO EDIT TITLE STY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51"/>
            <p:cNvSpPr/>
            <p:nvPr/>
          </p:nvSpPr>
          <p:spPr>
            <a:xfrm>
              <a:off x="3055680" y="1309680"/>
              <a:ext cx="3775680" cy="19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8039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0" rIns="90000" tIns="95760" bIns="-50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94" name="TextBox 47"/>
            <p:cNvSpPr/>
            <p:nvPr/>
          </p:nvSpPr>
          <p:spPr>
            <a:xfrm>
              <a:off x="2359080" y="1224720"/>
              <a:ext cx="4356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12"/>
            <p:cNvGrpSpPr/>
            <p:nvPr/>
          </p:nvGrpSpPr>
          <p:grpSpPr>
            <a:xfrm>
              <a:off x="2129400" y="1823760"/>
              <a:ext cx="5190480" cy="869760"/>
              <a:chOff x="2129400" y="1823760"/>
              <a:chExt cx="5190480" cy="869760"/>
            </a:xfrm>
          </p:grpSpPr>
          <p:pic>
            <p:nvPicPr>
              <p:cNvPr id="96" name="AutoShape 864" descr=""/>
              <p:cNvPicPr/>
              <p:nvPr/>
            </p:nvPicPr>
            <p:blipFill>
              <a:blip r:embed="rId4"/>
              <a:stretch/>
            </p:blipFill>
            <p:spPr>
              <a:xfrm>
                <a:off x="2129400" y="1823760"/>
                <a:ext cx="5190480" cy="86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Text Box 14"/>
              <p:cNvSpPr/>
              <p:nvPr/>
            </p:nvSpPr>
            <p:spPr>
              <a:xfrm>
                <a:off x="2282400" y="1969920"/>
                <a:ext cx="4741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  <a:ea typeface="Malgun Gothic"/>
                </a:endParaRPr>
              </a:p>
            </p:txBody>
          </p:sp>
        </p:grpSp>
        <p:grpSp>
          <p:nvGrpSpPr>
            <p:cNvPr id="98" name="Group 15"/>
            <p:cNvGrpSpPr/>
            <p:nvPr/>
          </p:nvGrpSpPr>
          <p:grpSpPr>
            <a:xfrm>
              <a:off x="2811600" y="1857960"/>
              <a:ext cx="4264560" cy="702360"/>
              <a:chOff x="2811600" y="1857960"/>
              <a:chExt cx="4264560" cy="702360"/>
            </a:xfrm>
          </p:grpSpPr>
          <p:pic>
            <p:nvPicPr>
              <p:cNvPr id="99" name="Picture 49" descr="그림자"/>
              <p:cNvPicPr/>
              <p:nvPr/>
            </p:nvPicPr>
            <p:blipFill>
              <a:blip r:embed="rId5"/>
              <a:stretch/>
            </p:blipFill>
            <p:spPr>
              <a:xfrm>
                <a:off x="2811600" y="1857960"/>
                <a:ext cx="4264560" cy="70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AutoShape 50"/>
              <p:cNvSpPr/>
              <p:nvPr/>
            </p:nvSpPr>
            <p:spPr>
              <a:xfrm>
                <a:off x="2923200" y="1963080"/>
                <a:ext cx="4034520" cy="418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6a6a6"/>
                  </a:gs>
                  <a:gs pos="100000">
                    <a:srgbClr val="ffffff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51"/>
              <p:cNvSpPr/>
              <p:nvPr/>
            </p:nvSpPr>
            <p:spPr>
              <a:xfrm>
                <a:off x="3054600" y="1986120"/>
                <a:ext cx="3777120" cy="19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95400" bIns="-50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</p:grpSp>
        <p:sp>
          <p:nvSpPr>
            <p:cNvPr id="102" name="TextBox 53"/>
            <p:cNvSpPr/>
            <p:nvPr/>
          </p:nvSpPr>
          <p:spPr>
            <a:xfrm>
              <a:off x="2359080" y="1900080"/>
              <a:ext cx="4356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20"/>
            <p:cNvGrpSpPr/>
            <p:nvPr/>
          </p:nvGrpSpPr>
          <p:grpSpPr>
            <a:xfrm>
              <a:off x="2129400" y="2497680"/>
              <a:ext cx="5190480" cy="869760"/>
              <a:chOff x="2129400" y="2497680"/>
              <a:chExt cx="5190480" cy="869760"/>
            </a:xfrm>
          </p:grpSpPr>
          <p:pic>
            <p:nvPicPr>
              <p:cNvPr id="104" name="AutoShape 864" descr=""/>
              <p:cNvPicPr/>
              <p:nvPr/>
            </p:nvPicPr>
            <p:blipFill>
              <a:blip r:embed="rId6"/>
              <a:stretch/>
            </p:blipFill>
            <p:spPr>
              <a:xfrm>
                <a:off x="2129400" y="2497680"/>
                <a:ext cx="5190480" cy="86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22"/>
              <p:cNvSpPr/>
              <p:nvPr/>
            </p:nvSpPr>
            <p:spPr>
              <a:xfrm>
                <a:off x="2282400" y="2644920"/>
                <a:ext cx="4742280" cy="41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  <a:ea typeface="Malgun Gothic"/>
                </a:endParaRPr>
              </a:p>
            </p:txBody>
          </p:sp>
        </p:grpSp>
        <p:grpSp>
          <p:nvGrpSpPr>
            <p:cNvPr id="106" name="Group 23"/>
            <p:cNvGrpSpPr/>
            <p:nvPr/>
          </p:nvGrpSpPr>
          <p:grpSpPr>
            <a:xfrm>
              <a:off x="2811600" y="2533320"/>
              <a:ext cx="4264560" cy="701280"/>
              <a:chOff x="2811600" y="2533320"/>
              <a:chExt cx="4264560" cy="701280"/>
            </a:xfrm>
          </p:grpSpPr>
          <p:pic>
            <p:nvPicPr>
              <p:cNvPr id="107" name="Picture 49" descr="그림자"/>
              <p:cNvPicPr/>
              <p:nvPr/>
            </p:nvPicPr>
            <p:blipFill>
              <a:blip r:embed="rId7"/>
              <a:stretch/>
            </p:blipFill>
            <p:spPr>
              <a:xfrm>
                <a:off x="2811600" y="2533320"/>
                <a:ext cx="426456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AutoShape 50"/>
              <p:cNvSpPr/>
              <p:nvPr/>
            </p:nvSpPr>
            <p:spPr>
              <a:xfrm>
                <a:off x="2923200" y="2638080"/>
                <a:ext cx="4034520" cy="421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6a6a6"/>
                  </a:gs>
                  <a:gs pos="100000">
                    <a:srgbClr val="ffffff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AutoShape 51"/>
              <p:cNvSpPr/>
              <p:nvPr/>
            </p:nvSpPr>
            <p:spPr>
              <a:xfrm>
                <a:off x="3054600" y="2661120"/>
                <a:ext cx="3777120" cy="19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95040" bIns="-50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</p:grpSp>
        <p:sp>
          <p:nvSpPr>
            <p:cNvPr id="110" name="TextBox 59"/>
            <p:cNvSpPr/>
            <p:nvPr/>
          </p:nvSpPr>
          <p:spPr>
            <a:xfrm>
              <a:off x="2359080" y="2575440"/>
              <a:ext cx="4356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8"/>
            <p:cNvGrpSpPr/>
            <p:nvPr/>
          </p:nvGrpSpPr>
          <p:grpSpPr>
            <a:xfrm>
              <a:off x="2129400" y="3171600"/>
              <a:ext cx="5190480" cy="869760"/>
              <a:chOff x="2129400" y="3171600"/>
              <a:chExt cx="5190480" cy="869760"/>
            </a:xfrm>
          </p:grpSpPr>
          <p:pic>
            <p:nvPicPr>
              <p:cNvPr id="112" name="AutoShape 864" descr=""/>
              <p:cNvPicPr/>
              <p:nvPr/>
            </p:nvPicPr>
            <p:blipFill>
              <a:blip r:embed="rId8"/>
              <a:stretch/>
            </p:blipFill>
            <p:spPr>
              <a:xfrm>
                <a:off x="2129400" y="3171600"/>
                <a:ext cx="5190480" cy="86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0"/>
              <p:cNvSpPr/>
              <p:nvPr/>
            </p:nvSpPr>
            <p:spPr>
              <a:xfrm>
                <a:off x="2282400" y="3320280"/>
                <a:ext cx="4742280" cy="41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  <a:ea typeface="Malgun Gothic"/>
                </a:endParaRPr>
              </a:p>
            </p:txBody>
          </p:sp>
        </p:grpSp>
        <p:grpSp>
          <p:nvGrpSpPr>
            <p:cNvPr id="114" name="Group 31"/>
            <p:cNvGrpSpPr/>
            <p:nvPr/>
          </p:nvGrpSpPr>
          <p:grpSpPr>
            <a:xfrm>
              <a:off x="2811600" y="3208680"/>
              <a:ext cx="4264560" cy="701280"/>
              <a:chOff x="2811600" y="3208680"/>
              <a:chExt cx="4264560" cy="701280"/>
            </a:xfrm>
          </p:grpSpPr>
          <p:pic>
            <p:nvPicPr>
              <p:cNvPr id="115" name="Picture 49" descr="그림자"/>
              <p:cNvPicPr/>
              <p:nvPr/>
            </p:nvPicPr>
            <p:blipFill>
              <a:blip r:embed="rId9"/>
              <a:stretch/>
            </p:blipFill>
            <p:spPr>
              <a:xfrm>
                <a:off x="2811600" y="3208680"/>
                <a:ext cx="426456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AutoShape 50"/>
              <p:cNvSpPr/>
              <p:nvPr/>
            </p:nvSpPr>
            <p:spPr>
              <a:xfrm>
                <a:off x="2923200" y="3313440"/>
                <a:ext cx="4034520" cy="420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6a6a6"/>
                  </a:gs>
                  <a:gs pos="100000">
                    <a:srgbClr val="ffffff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AutoShape 51"/>
              <p:cNvSpPr/>
              <p:nvPr/>
            </p:nvSpPr>
            <p:spPr>
              <a:xfrm>
                <a:off x="3054600" y="3336480"/>
                <a:ext cx="3777120" cy="19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95040" bIns="-50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</p:grpSp>
        <p:sp>
          <p:nvSpPr>
            <p:cNvPr id="118" name="TextBox 65"/>
            <p:cNvSpPr/>
            <p:nvPr/>
          </p:nvSpPr>
          <p:spPr>
            <a:xfrm>
              <a:off x="2359080" y="3250440"/>
              <a:ext cx="4356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36"/>
            <p:cNvGrpSpPr/>
            <p:nvPr/>
          </p:nvGrpSpPr>
          <p:grpSpPr>
            <a:xfrm>
              <a:off x="2129400" y="3850560"/>
              <a:ext cx="5190480" cy="864720"/>
              <a:chOff x="2129400" y="3850560"/>
              <a:chExt cx="5190480" cy="864720"/>
            </a:xfrm>
          </p:grpSpPr>
          <p:pic>
            <p:nvPicPr>
              <p:cNvPr id="120" name="AutoShape 8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2129400" y="3850560"/>
                <a:ext cx="5190480" cy="86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Text Box 38"/>
              <p:cNvSpPr/>
              <p:nvPr/>
            </p:nvSpPr>
            <p:spPr>
              <a:xfrm>
                <a:off x="2282400" y="3995640"/>
                <a:ext cx="4742280" cy="41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  <a:ea typeface="Malgun Gothic"/>
                </a:endParaRPr>
              </a:p>
            </p:txBody>
          </p:sp>
        </p:grpSp>
        <p:grpSp>
          <p:nvGrpSpPr>
            <p:cNvPr id="122" name="Group 39"/>
            <p:cNvGrpSpPr/>
            <p:nvPr/>
          </p:nvGrpSpPr>
          <p:grpSpPr>
            <a:xfrm>
              <a:off x="2811600" y="3884040"/>
              <a:ext cx="4264560" cy="701280"/>
              <a:chOff x="2811600" y="3884040"/>
              <a:chExt cx="4264560" cy="701280"/>
            </a:xfrm>
          </p:grpSpPr>
          <p:pic>
            <p:nvPicPr>
              <p:cNvPr id="123" name="Picture 49" descr="그림자"/>
              <p:cNvPicPr/>
              <p:nvPr/>
            </p:nvPicPr>
            <p:blipFill>
              <a:blip r:embed="rId11"/>
              <a:stretch/>
            </p:blipFill>
            <p:spPr>
              <a:xfrm>
                <a:off x="2811600" y="3884040"/>
                <a:ext cx="426456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AutoShape 50"/>
              <p:cNvSpPr/>
              <p:nvPr/>
            </p:nvSpPr>
            <p:spPr>
              <a:xfrm>
                <a:off x="2923200" y="3988800"/>
                <a:ext cx="4034520" cy="421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6a6a6"/>
                  </a:gs>
                  <a:gs pos="100000">
                    <a:srgbClr val="ffffff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utoShape 51"/>
              <p:cNvSpPr/>
              <p:nvPr/>
            </p:nvSpPr>
            <p:spPr>
              <a:xfrm>
                <a:off x="3054600" y="4011840"/>
                <a:ext cx="3777120" cy="19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95040" bIns="-50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</p:grpSp>
        <p:sp>
          <p:nvSpPr>
            <p:cNvPr id="126" name="TextBox 71"/>
            <p:cNvSpPr/>
            <p:nvPr/>
          </p:nvSpPr>
          <p:spPr>
            <a:xfrm>
              <a:off x="2359080" y="3925800"/>
              <a:ext cx="4356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1360" y="157320"/>
            <a:ext cx="1828440" cy="271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数据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Users\lidan\Desktop\tj1.png"/>
          <p:cNvPicPr/>
          <p:nvPr/>
        </p:nvPicPr>
        <p:blipFill>
          <a:blip r:embed="rId2"/>
          <a:stretch/>
        </p:blipFill>
        <p:spPr>
          <a:xfrm>
            <a:off x="500040" y="965160"/>
            <a:ext cx="3284280" cy="3177720"/>
          </a:xfrm>
          <a:prstGeom prst="rect">
            <a:avLst/>
          </a:prstGeom>
          <a:ln w="9525">
            <a:noFill/>
          </a:ln>
        </p:spPr>
      </p:pic>
      <p:sp>
        <p:nvSpPr>
          <p:cNvPr id="129" name="TextBox 12"/>
          <p:cNvSpPr/>
          <p:nvPr/>
        </p:nvSpPr>
        <p:spPr>
          <a:xfrm>
            <a:off x="4214880" y="1139760"/>
            <a:ext cx="4500360" cy="25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Calibri"/>
              <a:buAutoNum type="arabicPeriod"/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分析数据说明文字分析数据说明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Calibri"/>
              <a:buAutoNum type="arabicPeriod"/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分析数据说明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Calibri"/>
              <a:buAutoNum type="arabicPeriod"/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分析数据说明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Calibri"/>
              <a:buAutoNum type="arabicPeriod"/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分析数据说明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862920" y="2263680"/>
            <a:ext cx="4903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4"/>
          <p:cNvSpPr/>
          <p:nvPr/>
        </p:nvSpPr>
        <p:spPr>
          <a:xfrm>
            <a:off x="1932840" y="3621240"/>
            <a:ext cx="4903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7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5"/>
          <p:cNvSpPr/>
          <p:nvPr/>
        </p:nvSpPr>
        <p:spPr>
          <a:xfrm>
            <a:off x="3061440" y="1214280"/>
            <a:ext cx="4903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3146400" y="3478320"/>
            <a:ext cx="400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1360" y="157320"/>
            <a:ext cx="1828440" cy="271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数据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Users\lidan\Desktop\dit.png"/>
          <p:cNvPicPr/>
          <p:nvPr/>
        </p:nvPicPr>
        <p:blipFill>
          <a:blip r:embed="rId2"/>
          <a:stretch/>
        </p:blipFill>
        <p:spPr>
          <a:xfrm>
            <a:off x="428760" y="1143000"/>
            <a:ext cx="5721120" cy="3071520"/>
          </a:xfrm>
          <a:prstGeom prst="rect">
            <a:avLst/>
          </a:prstGeom>
          <a:ln w="9525">
            <a:noFill/>
          </a:ln>
        </p:spPr>
      </p:pic>
      <p:pic>
        <p:nvPicPr>
          <p:cNvPr id="136" name="Picture 3" descr="C:\Users\lidan\Desktop\num.png"/>
          <p:cNvPicPr/>
          <p:nvPr/>
        </p:nvPicPr>
        <p:blipFill>
          <a:blip r:embed="rId3"/>
          <a:stretch/>
        </p:blipFill>
        <p:spPr>
          <a:xfrm>
            <a:off x="7929720" y="1143000"/>
            <a:ext cx="645840" cy="3396960"/>
          </a:xfrm>
          <a:prstGeom prst="rect">
            <a:avLst/>
          </a:prstGeom>
          <a:ln w="9525">
            <a:noFill/>
          </a:ln>
        </p:spPr>
      </p:pic>
      <p:sp>
        <p:nvSpPr>
          <p:cNvPr id="137" name="TextBox 10"/>
          <p:cNvSpPr/>
          <p:nvPr/>
        </p:nvSpPr>
        <p:spPr>
          <a:xfrm>
            <a:off x="8043480" y="1246320"/>
            <a:ext cx="41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8051400" y="1701720"/>
            <a:ext cx="41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8043480" y="2138400"/>
            <a:ext cx="41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8059320" y="2558880"/>
            <a:ext cx="41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8045280" y="3011400"/>
            <a:ext cx="41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8051400" y="3436920"/>
            <a:ext cx="41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5129640" y="1438200"/>
            <a:ext cx="3366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2"/>
          <p:cNvSpPr/>
          <p:nvPr/>
        </p:nvSpPr>
        <p:spPr>
          <a:xfrm>
            <a:off x="2915280" y="3152880"/>
            <a:ext cx="3366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1510200" y="3279600"/>
            <a:ext cx="3366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4"/>
          <p:cNvSpPr/>
          <p:nvPr/>
        </p:nvSpPr>
        <p:spPr>
          <a:xfrm>
            <a:off x="1803960" y="1438200"/>
            <a:ext cx="3366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653040" y="2508120"/>
            <a:ext cx="3366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6"/>
          <p:cNvSpPr/>
          <p:nvPr/>
        </p:nvSpPr>
        <p:spPr>
          <a:xfrm>
            <a:off x="5336280" y="3819600"/>
            <a:ext cx="3366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1360" y="157320"/>
            <a:ext cx="1828440" cy="271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数据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6"/>
          <p:cNvSpPr/>
          <p:nvPr/>
        </p:nvSpPr>
        <p:spPr>
          <a:xfrm>
            <a:off x="5405400" y="2647800"/>
            <a:ext cx="20124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C:\Users\lidan\Desktop\sj2.png"/>
          <p:cNvPicPr/>
          <p:nvPr/>
        </p:nvPicPr>
        <p:blipFill>
          <a:blip r:embed="rId2"/>
          <a:stretch/>
        </p:blipFill>
        <p:spPr>
          <a:xfrm>
            <a:off x="571680" y="1143000"/>
            <a:ext cx="3863520" cy="2673000"/>
          </a:xfrm>
          <a:prstGeom prst="rect">
            <a:avLst/>
          </a:prstGeom>
          <a:ln w="9525">
            <a:noFill/>
          </a:ln>
        </p:spPr>
      </p:pic>
      <p:pic>
        <p:nvPicPr>
          <p:cNvPr id="152" name="Picture 3" descr="C:\Users\lidan\Desktop\sj1.png"/>
          <p:cNvPicPr/>
          <p:nvPr/>
        </p:nvPicPr>
        <p:blipFill>
          <a:blip r:embed="rId3"/>
          <a:stretch/>
        </p:blipFill>
        <p:spPr>
          <a:xfrm>
            <a:off x="4786200" y="1158840"/>
            <a:ext cx="3863520" cy="2673000"/>
          </a:xfrm>
          <a:prstGeom prst="rect">
            <a:avLst/>
          </a:prstGeom>
          <a:ln w="9525">
            <a:noFill/>
          </a:ln>
        </p:spPr>
      </p:pic>
      <p:sp>
        <p:nvSpPr>
          <p:cNvPr id="153" name="TextBox 27"/>
          <p:cNvSpPr/>
          <p:nvPr/>
        </p:nvSpPr>
        <p:spPr>
          <a:xfrm>
            <a:off x="2320920" y="1285920"/>
            <a:ext cx="321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走势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8"/>
          <p:cNvSpPr/>
          <p:nvPr/>
        </p:nvSpPr>
        <p:spPr>
          <a:xfrm>
            <a:off x="3659040" y="128592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chemeClr val="accent6"/>
                </a:solidFill>
                <a:latin typeface="微软雅黑"/>
                <a:ea typeface="微软雅黑"/>
              </a:rPr>
              <a:t>走势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9"/>
          <p:cNvSpPr/>
          <p:nvPr/>
        </p:nvSpPr>
        <p:spPr>
          <a:xfrm>
            <a:off x="6564240" y="1301760"/>
            <a:ext cx="321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948a54"/>
                </a:solidFill>
                <a:latin typeface="微软雅黑"/>
                <a:ea typeface="微软雅黑"/>
              </a:rPr>
              <a:t>走势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0"/>
          <p:cNvSpPr/>
          <p:nvPr/>
        </p:nvSpPr>
        <p:spPr>
          <a:xfrm>
            <a:off x="7908840" y="12938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走势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67640" y="513792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1360" y="157320"/>
            <a:ext cx="1828440" cy="271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数据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6"/>
          <p:cNvSpPr/>
          <p:nvPr/>
        </p:nvSpPr>
        <p:spPr>
          <a:xfrm>
            <a:off x="5405400" y="2647800"/>
            <a:ext cx="20124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C:\Users\lidan\Desktop\abc.png"/>
          <p:cNvPicPr/>
          <p:nvPr/>
        </p:nvPicPr>
        <p:blipFill>
          <a:blip r:embed="rId2"/>
          <a:stretch/>
        </p:blipFill>
        <p:spPr>
          <a:xfrm>
            <a:off x="279360" y="2982960"/>
            <a:ext cx="3220560" cy="1231560"/>
          </a:xfrm>
          <a:prstGeom prst="rect">
            <a:avLst/>
          </a:prstGeom>
          <a:ln w="9525">
            <a:noFill/>
          </a:ln>
        </p:spPr>
      </p:pic>
      <p:pic>
        <p:nvPicPr>
          <p:cNvPr id="161" name="Picture 3" descr="C:\Users\lidan\Desktop\sh4.png"/>
          <p:cNvPicPr/>
          <p:nvPr/>
        </p:nvPicPr>
        <p:blipFill>
          <a:blip r:embed="rId3"/>
          <a:stretch/>
        </p:blipFill>
        <p:spPr>
          <a:xfrm>
            <a:off x="3429000" y="642960"/>
            <a:ext cx="3404880" cy="3549240"/>
          </a:xfrm>
          <a:prstGeom prst="rect">
            <a:avLst/>
          </a:prstGeom>
          <a:ln w="9525">
            <a:noFill/>
          </a:ln>
        </p:spPr>
      </p:pic>
      <p:pic>
        <p:nvPicPr>
          <p:cNvPr id="162" name="Picture 4" descr="C:\Users\lidan\Desktop\sj5.png"/>
          <p:cNvPicPr/>
          <p:nvPr/>
        </p:nvPicPr>
        <p:blipFill>
          <a:blip r:embed="rId4"/>
          <a:stretch/>
        </p:blipFill>
        <p:spPr>
          <a:xfrm>
            <a:off x="6715080" y="2643120"/>
            <a:ext cx="2047680" cy="2068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63920" y="674640"/>
            <a:ext cx="5422680" cy="9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143160" y="1380960"/>
            <a:ext cx="5014440" cy="618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工作报告</a:t>
            </a:r>
            <a:r>
              <a:rPr b="1" lang="en-US" sz="18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325440" y="3786120"/>
            <a:ext cx="360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HE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  <Words>213</Words>
  <Paragraphs>6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08:54:07Z</dcterms:created>
  <dc:creator>lidan</dc:creator>
  <dc:description/>
  <dc:language>en-US</dc:language>
  <cp:lastModifiedBy>a</cp:lastModifiedBy>
  <dcterms:modified xsi:type="dcterms:W3CDTF">2015-07-25T02:04:42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7</vt:r8>
  </property>
</Properties>
</file>