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7199313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E931-4220-43BE-A686-289A09FD6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6721-4799-48F6-9A41-5B9680FEB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7A16-22EE-4633-A07F-2636F8319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12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000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224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2612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7000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0BDE-01A3-473E-9242-471DF9056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819D-CC3A-4C0F-ADDF-F2134B91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22C00-1223-4C3E-AA7D-8BA8A9EA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1C8B5-0CFC-4845-828F-D6A54FBB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DA0EC-A922-4517-B9BF-28E3159A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EB035-9D68-40D6-912C-91C94B82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190800"/>
            <a:ext cx="6479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B9D38-5F1F-4056-83CC-05888BC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7F559-79E4-4490-BA7D-22486B8A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828A-D219-4046-90AE-A8865BE52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9C5A7-7665-481C-AF04-A5091CA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99993-6A66-45E7-9304-75AB78E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4679-283C-4C64-A275-B865EF3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15956-7D93-480B-85CA-0B0F78C8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2612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0000" y="78588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224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2612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0000" y="2571840"/>
            <a:ext cx="21366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8F5AC-50FE-4C65-924D-C8A788EC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D1F3-AA90-416C-85B7-EDACFC47A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EF5E-2704-4FA2-8EED-4676E5CE7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AFBD-3156-468B-A195-6310C0D5E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0000" y="190800"/>
            <a:ext cx="6479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406A-083F-469F-A923-DCA6E9B4C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15E1-E46E-4CAB-8D77-EF55FE66D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82800" y="257184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E651-016D-441A-A76B-40CA4A86F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90800"/>
            <a:ext cx="6479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24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82800" y="785880"/>
            <a:ext cx="323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2240" y="2571840"/>
            <a:ext cx="66358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F11D-9625-4A64-AE56-5E8CAD334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85880"/>
            <a:ext cx="663588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309920"/>
            <a:ext cx="1765440" cy="52416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1C86B3F7-EEA5-4DA2-98E2-889B74643DFE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20516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图片1副本"/>
          <p:cNvPicPr/>
          <p:nvPr/>
        </p:nvPicPr>
        <p:blipFill>
          <a:blip r:embed="rId2"/>
          <a:stretch/>
        </p:blipFill>
        <p:spPr>
          <a:xfrm>
            <a:off x="282600" y="4238640"/>
            <a:ext cx="119232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190080"/>
            <a:ext cx="6480000" cy="800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360" y="1117440"/>
            <a:ext cx="6480000" cy="3160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8000"/>
          </a:bodyPr>
          <a:p>
            <a:pPr marL="264600" indent="-264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384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2000" indent="-175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4800" indent="-176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87960" indent="-176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87960" indent="-176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87960" indent="-176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360000" y="4362480"/>
            <a:ext cx="1679400" cy="3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2460600" y="4362480"/>
            <a:ext cx="2279520" cy="3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5160600" y="4362480"/>
            <a:ext cx="1679400" cy="3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E9934B07-F62F-46C2-BC2B-6B8EACBAA32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未标题-1"/>
          <p:cNvPicPr/>
          <p:nvPr/>
        </p:nvPicPr>
        <p:blipFill>
          <a:blip r:embed="rId2"/>
          <a:stretch/>
        </p:blipFill>
        <p:spPr>
          <a:xfrm>
            <a:off x="0" y="816120"/>
            <a:ext cx="720108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7" descr="m_1280887909282"/>
          <p:cNvPicPr/>
          <p:nvPr/>
        </p:nvPicPr>
        <p:blipFill>
          <a:blip r:embed="rId1"/>
          <a:stretch/>
        </p:blipFill>
        <p:spPr>
          <a:xfrm>
            <a:off x="0" y="0"/>
            <a:ext cx="7201080" cy="48182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2"/>
          <p:cNvGrpSpPr/>
          <p:nvPr/>
        </p:nvGrpSpPr>
        <p:grpSpPr>
          <a:xfrm>
            <a:off x="0" y="0"/>
            <a:ext cx="7201080" cy="4818240"/>
            <a:chOff x="0" y="0"/>
            <a:chExt cx="7201080" cy="4818240"/>
          </a:xfrm>
        </p:grpSpPr>
        <p:pic>
          <p:nvPicPr>
            <p:cNvPr id="84" name="Picture 39" descr="17126"/>
            <p:cNvPicPr/>
            <p:nvPr/>
          </p:nvPicPr>
          <p:blipFill>
            <a:blip r:embed="rId2"/>
            <a:stretch/>
          </p:blipFill>
          <p:spPr>
            <a:xfrm>
              <a:off x="0" y="96840"/>
              <a:ext cx="7201080" cy="47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8" descr="17126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201080" cy="469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40" descr="简单。爱"/>
          <p:cNvPicPr/>
          <p:nvPr/>
        </p:nvPicPr>
        <p:blipFill>
          <a:blip r:embed="rId4"/>
          <a:stretch/>
        </p:blipFill>
        <p:spPr>
          <a:xfrm>
            <a:off x="4968720" y="2251080"/>
            <a:ext cx="190188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天空之城八音盒.mp3" descr=""/>
          <p:cNvPicPr/>
          <p:nvPr/>
        </p:nvPicPr>
        <p:blipFill>
          <a:blip r:embed="rId5"/>
          <a:stretch/>
        </p:blipFill>
        <p:spPr>
          <a:xfrm>
            <a:off x="216000" y="4394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34720" y="112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爱情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50640" y="4255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0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8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爱"/>
          <p:cNvPicPr/>
          <p:nvPr/>
        </p:nvPicPr>
        <p:blipFill>
          <a:blip r:embed="rId2"/>
          <a:stretch/>
        </p:blipFill>
        <p:spPr>
          <a:xfrm>
            <a:off x="2952720" y="1674720"/>
            <a:ext cx="1587600" cy="1944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930040" y="254160"/>
            <a:ext cx="1270440" cy="84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迷你简汉真广标"/>
              </a:rPr>
              <a:t>爱。简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喜欢阳光的味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就像你身上淡淡的烟草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青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我们最美好的时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爱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在午后的阳光中绽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喜欢牵着你的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喜欢靠在你的肩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看着天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望着远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阳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轻抚我的脸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微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带走我的忧伤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思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远方的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远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你思念的我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时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总是短暂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生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也平淡的继续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就是如此的简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336600"/>
                </a:solidFill>
                <a:latin typeface="Arial"/>
                <a:ea typeface="时尚中黑简体"/>
              </a:rPr>
              <a:t>在我们彼此的心间徜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8" descr="插图01"/>
          <p:cNvPicPr/>
          <p:nvPr/>
        </p:nvPicPr>
        <p:blipFill>
          <a:blip r:embed="rId1"/>
          <a:stretch/>
        </p:blipFill>
        <p:spPr>
          <a:xfrm>
            <a:off x="4049640" y="0"/>
            <a:ext cx="3149640" cy="4789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26960" y="1098720"/>
            <a:ext cx="63421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Mastertextformat bearbei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Zwei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Drit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Vier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Fünf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0" descr=""/>
          <p:cNvPicPr/>
          <p:nvPr/>
        </p:nvPicPr>
        <p:blipFill>
          <a:blip r:embed="rId2"/>
          <a:stretch/>
        </p:blipFill>
        <p:spPr>
          <a:xfrm>
            <a:off x="1440" y="3240"/>
            <a:ext cx="7199640" cy="89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图片1"/>
          <p:cNvPicPr/>
          <p:nvPr/>
        </p:nvPicPr>
        <p:blipFill>
          <a:blip r:embed="rId3"/>
          <a:stretch/>
        </p:blipFill>
        <p:spPr>
          <a:xfrm>
            <a:off x="0" y="882720"/>
            <a:ext cx="7201080" cy="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2" descr="简单。爱"/>
          <p:cNvPicPr/>
          <p:nvPr/>
        </p:nvPicPr>
        <p:blipFill>
          <a:blip r:embed="rId4"/>
          <a:stretch/>
        </p:blipFill>
        <p:spPr>
          <a:xfrm>
            <a:off x="5400720" y="3240"/>
            <a:ext cx="1512720" cy="422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5" descr="插图02"/>
          <p:cNvPicPr/>
          <p:nvPr/>
        </p:nvPicPr>
        <p:blipFill>
          <a:blip r:embed="rId1"/>
          <a:stretch/>
        </p:blipFill>
        <p:spPr>
          <a:xfrm>
            <a:off x="0" y="0"/>
            <a:ext cx="3421080" cy="4789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26960" y="1098720"/>
            <a:ext cx="63421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9520" indent="-209520" algn="r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Mastertextformat bearbei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 algn="r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Zwei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 algn="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Drit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 algn="r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Vier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 algn="r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Fünf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6" descr=""/>
          <p:cNvPicPr/>
          <p:nvPr/>
        </p:nvPicPr>
        <p:blipFill>
          <a:blip r:embed="rId2"/>
          <a:stretch/>
        </p:blipFill>
        <p:spPr>
          <a:xfrm>
            <a:off x="1440" y="3240"/>
            <a:ext cx="7199640" cy="89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7" descr="图片1"/>
          <p:cNvPicPr/>
          <p:nvPr/>
        </p:nvPicPr>
        <p:blipFill>
          <a:blip r:embed="rId3"/>
          <a:stretch/>
        </p:blipFill>
        <p:spPr>
          <a:xfrm>
            <a:off x="0" y="882720"/>
            <a:ext cx="7201080" cy="1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简单。爱"/>
          <p:cNvPicPr/>
          <p:nvPr/>
        </p:nvPicPr>
        <p:blipFill>
          <a:blip r:embed="rId4"/>
          <a:stretch/>
        </p:blipFill>
        <p:spPr>
          <a:xfrm>
            <a:off x="5400720" y="3240"/>
            <a:ext cx="1512720" cy="422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908280" y="425520"/>
            <a:ext cx="240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1100" spc="-1" strike="noStrike" u="sng">
                <a:solidFill>
                  <a:srgbClr val="6d757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插图03"/>
          <p:cNvPicPr/>
          <p:nvPr/>
        </p:nvPicPr>
        <p:blipFill>
          <a:blip r:embed="rId2"/>
          <a:stretch/>
        </p:blipFill>
        <p:spPr>
          <a:xfrm>
            <a:off x="3676680" y="595440"/>
            <a:ext cx="3522600" cy="419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1440" y="3240"/>
            <a:ext cx="7199640" cy="8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图片1"/>
          <p:cNvPicPr/>
          <p:nvPr/>
        </p:nvPicPr>
        <p:blipFill>
          <a:blip r:embed="rId4"/>
          <a:stretch/>
        </p:blipFill>
        <p:spPr>
          <a:xfrm>
            <a:off x="0" y="882720"/>
            <a:ext cx="7201080" cy="19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26960" y="1098720"/>
            <a:ext cx="63421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Mastertextformat bearbei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Zwei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宋体"/>
              </a:rPr>
              <a:t>Drit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Vier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spcBef>
                <a:spcPts val="326"/>
              </a:spcBef>
              <a:buClr>
                <a:srgbClr val="6d7579"/>
              </a:buClr>
              <a:buFont typeface="Audi Type"/>
              <a:buChar char="►"/>
              <a:tabLst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de-DE" sz="1300" spc="-1" strike="noStrike">
                <a:solidFill>
                  <a:srgbClr val="6d7579"/>
                </a:solidFill>
                <a:latin typeface="Arial"/>
                <a:ea typeface="宋体"/>
              </a:rPr>
              <a:t>Fünfte Ebe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简单。爱"/>
          <p:cNvPicPr/>
          <p:nvPr/>
        </p:nvPicPr>
        <p:blipFill>
          <a:blip r:embed="rId5"/>
          <a:stretch/>
        </p:blipFill>
        <p:spPr>
          <a:xfrm>
            <a:off x="5400720" y="3240"/>
            <a:ext cx="1512720" cy="4222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2"/>
          <p:cNvSpPr/>
          <p:nvPr/>
        </p:nvSpPr>
        <p:spPr>
          <a:xfrm>
            <a:off x="477720" y="4421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9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8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背影"/>
          <p:cNvPicPr/>
          <p:nvPr/>
        </p:nvPicPr>
        <p:blipFill>
          <a:blip r:embed="rId2"/>
          <a:stretch/>
        </p:blipFill>
        <p:spPr>
          <a:xfrm>
            <a:off x="1871640" y="666720"/>
            <a:ext cx="3529080" cy="347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6" descr="不是你的天使"/>
          <p:cNvPicPr/>
          <p:nvPr/>
        </p:nvPicPr>
        <p:blipFill>
          <a:blip r:embed="rId3"/>
          <a:stretch/>
        </p:blipFill>
        <p:spPr>
          <a:xfrm>
            <a:off x="720720" y="1631880"/>
            <a:ext cx="5961240" cy="1303560"/>
          </a:xfrm>
          <a:prstGeom prst="rect">
            <a:avLst/>
          </a:prstGeom>
          <a:ln w="0">
            <a:noFill/>
          </a:ln>
        </p:spPr>
      </p:pic>
    </p:spTree>
  </p:cSld>
  <p:transition advTm="48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王玉清</cp:lastModifiedBy>
  <cp:lastPrinted>1899-12-30T00:00:00Z</cp:lastPrinted>
  <dcterms:modified xsi:type="dcterms:W3CDTF">2016-02-20T04:05:03Z</dcterms:modified>
  <cp:revision>1107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