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28621F-205D-439C-AE77-D45CD8361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781C75-3C22-422A-9E75-14969A26C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AB534-3C99-42FE-AD27-3FFEFDD92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E13F6-B84E-491E-AD92-F49D7FBA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9B87D-1933-43A7-9062-6A9F8D87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C76127-9AAA-49F4-A5DE-66E31944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09B0BC-030F-492D-B5B7-34B94162A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BC5647-745A-4EB2-8881-01C4BFC4B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31D357-1A92-401B-BBE6-12057692D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EE49B6-D285-4D25-9DB6-DA06987EC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BB4AE3-7E1E-4A47-955E-48D57D2B8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B004AA-2EC8-4A1F-B1D4-D7733DC0F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63E379-CBFF-4825-B798-186F228E7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69FEFC-54AB-4C55-9D9E-2EEE0A302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7C2081-6C68-4E42-A290-C8A619F54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F9C158-88E2-4633-B115-73051AE7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FE2735-D009-417C-B276-0860445D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4D5763-236B-4B97-A924-8D127464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667862-A520-4B2B-9B5C-3065E5368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2DC99E-456A-4773-B031-71FDE4B1B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B6AD40-4F91-4E17-9AF6-D3E0C80E7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D19CFD-EED0-43FC-87F4-BBD32B866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5ACF24-7948-46C6-A5D4-94FD8512A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2B33CE-1666-4138-A541-0EFAD0D33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0D7C23-9A39-476B-B9F8-19FFC9C55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25D6F1-B92B-4FB9-AF72-ECCC49087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9049A9-57A2-4E1B-A9F8-4AA378A31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002560-6F0D-42A3-B97F-1A77620F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47B3F4-90CB-4DEE-91A4-2C88850A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779C8C-D58B-4AD6-B6FC-785A0DBC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3EEF-04CB-4EFD-A3C9-43DB16F84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16D8BB-AE08-4909-9020-B58647C7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0FDC7F-D6F2-4DA9-B960-E57F6BFFD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8B28DE-CDF1-411F-86FB-E7FA6CB2B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21BEC5-C9F8-4A86-8CEB-AE45F5826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53E0E0-558A-40B2-B25C-5BC6A9F37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9A462F-D8EF-4189-82AE-502D06AB0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C25DF6-F7BE-4BB8-BD6C-8D350C3EF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9AB77C-DF67-4B82-A406-BA8D3025C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ECD0F6-E0D8-41DC-9EFB-73EB8C5E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84A6F3-AB19-4D5D-A0FD-9A5D5916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5113-C1D9-4C01-9366-191532F44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B29E93-8084-442E-BB47-65D36422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D5C169-00B6-448F-836E-C28EB4F5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2289F8-4B4F-43F0-8988-A35F82836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C3E960-90C4-416D-864E-C6DBC1BE5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E34C53-2940-457F-9D33-FE8E650C7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5669-9C4F-4032-B01D-03320A7FF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CC95-09A5-4525-9010-80543D1A4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D844-0310-4465-8290-2EDA75B7A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8115-E5DC-40EC-801A-9BAFACD90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420A-C75F-44B0-A821-DDF88C58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C586-6D10-4696-A838-82AF3FC1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A8F3-43B2-4875-B76F-A1799642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3A21-C526-4954-932B-573B067F4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F0D2-2F64-4753-B0CD-025BC77A3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ED00-AB69-4CB6-B960-4BBDEF0FA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9F502-2F9D-4E74-8CF9-62CBD08A9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D9FB4-E05B-4CF4-9F7C-C4746D482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0ED44-88EB-4406-AD9C-FA7212AE0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DC3E7-445E-4A68-8DC2-E9C3480D8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C7ED9-D38C-4A4F-B711-1BEDA97D1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BBAE8-EFCF-4ED6-AFCA-37AEABF97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F8AD2-3A8F-46C6-989B-FF3AA052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6852A-21A2-4F0D-BA4E-C3EEE66B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9D48B-7771-42A4-A4A6-7DAFC88C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4A302-2E79-4380-8CB9-1987EEC42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303C6-9CC2-471E-959F-4D4F2912B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1948B-1FD6-4428-B2F5-FB9D44EAC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B9028-9538-4A6A-8DC2-E3F1798CD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6AEB9-D751-4BF7-AB6C-9C9E53D04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17273-BB28-493B-8BAD-9B26B426C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2841B-3969-48EB-B7DC-05957317A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EE75F-30F4-43E1-946A-2FE621421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CC71D-9485-4415-B8BB-9DA92264E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26D5D-C48C-4DD5-8A81-541DE05B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3312C-8B2D-469F-BE3F-7CE19045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BABF9-D3F1-484A-AC88-414B6998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B741B-FC36-4ECA-B288-D903737CE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F9D5B-20A6-4964-A66E-2C560B87F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37948-20D3-40C8-8ABE-E28F2EA70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A15E0-2804-44F7-9AFC-01A7C7A22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B0CA9-2D0A-46D7-9A40-A779EF6AA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6D771-F753-43A2-A985-95E65A2A7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5C83B-4F15-4A3B-95B6-A166539D7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5647D-F394-4A80-99AD-40137F821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58A6A-61C1-4BF0-8457-FC527C0C5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00F88-1AD1-4CDA-B03C-5C8E0792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26F7E-A182-4617-BAF4-7993C39A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5C4FD-8046-4ADA-852D-4185AE2E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8A2C9-B88A-495D-B16A-D1B1B8D07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168F1-14AF-4BE4-AABF-F5C9AE328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F477A-5A95-43C1-97AA-61A097C8F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D28D1-0FF9-4FF0-A169-B8064ACE8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7BD68-3EBC-4C7B-AF99-919DF88CE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62F65-9849-471B-BF8F-05210B60D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11774-D169-4D69-B9E7-CD0568C76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36046-3FEE-43AF-80F4-8B6B847BC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0202E-11BC-4BB4-895C-98A54591C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CD1A5-16F0-497F-A01E-5B97ED1E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98FF3-D21C-4411-A90C-CC57755B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A448D-7BF2-44A3-B334-FF73FFB9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703C7-6C5A-48BC-A3CC-7C332B4AE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3FAD6-6FFF-4018-8B89-524EC0D77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79518-F7BE-4673-A4BD-B68CE3B10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BF5714-F0F7-46F9-9EA8-EA15D884D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DCB37-6C6D-4D51-8418-D33B7BB75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0E90A-D0B8-4CEB-85D2-4DAA7E9EE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3E183F-450C-48CF-BDFE-6E366F0AF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50792B-62C5-4998-B28F-1B15D493B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3802C-1FFF-4726-AAAB-B1FB3A2AF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F9DD7-FFB8-4175-B08C-02129274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F12EAC-6A3F-4382-94A4-2510D490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A5A1B-1D68-4F53-815C-79D0FFD1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1416D-EE6D-4FC3-B171-7A2F573F5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19F422-BF43-4220-9B12-B6D287367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C562EE-B4AF-4393-AE81-2D6420396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18AD1-B8F7-4891-A9FA-30160AF02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0C21E-2C43-4DB1-BEEF-021590FEC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14EB1-B6C7-4A53-86F5-95605BF05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427AE0-51B9-4E67-889E-5756334CB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645F18-AB5D-4A62-A284-918D000C2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2DF8D-E743-421C-A077-C42BB2514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5357B-CFD7-4F59-BA25-80304F43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E42FC-D9C5-407D-91F0-40A1D255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D1F61C-A341-424A-9439-C70BAC6B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6FF75-1580-4A4E-A9E9-1001F1D5D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4AF92-967B-4BE4-A55C-3E9CC9815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81B579-157D-4572-BC98-B1ED53DE5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46427C-28FF-4630-BAA5-D63161A02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32D46B-6AA7-4FBD-8A3E-EADDB8F01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6F80CE-9D7C-419D-B192-1DCD6F86A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e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e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48C1A-21EF-4D8C-A816-7703D5E9594E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e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888A0-41F9-4066-9320-3903787FB0B0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e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5A42A-4867-42CE-A5E2-8BC75B90AE2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e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任意多边形 2"/>
          <p:cNvSpPr/>
          <p:nvPr/>
        </p:nvSpPr>
        <p:spPr>
          <a:xfrm>
            <a:off x="9360" y="765000"/>
            <a:ext cx="9171000" cy="642960"/>
          </a:xfrm>
          <a:custGeom>
            <a:avLst/>
            <a:gdLst/>
            <a:ahLst/>
            <a:rect l="l" t="t" r="r" b="b"/>
            <a:pathLst>
              <a:path w="9171160" h="642796">
                <a:moveTo>
                  <a:pt x="0" y="0"/>
                </a:moveTo>
                <a:cubicBezTo>
                  <a:pt x="193140" y="180315"/>
                  <a:pt x="386281" y="360630"/>
                  <a:pt x="516047" y="371192"/>
                </a:cubicBezTo>
                <a:cubicBezTo>
                  <a:pt x="645813" y="381754"/>
                  <a:pt x="704661" y="66392"/>
                  <a:pt x="778598" y="63374"/>
                </a:cubicBezTo>
                <a:cubicBezTo>
                  <a:pt x="852535" y="60356"/>
                  <a:pt x="882713" y="344032"/>
                  <a:pt x="959667" y="353085"/>
                </a:cubicBezTo>
                <a:cubicBezTo>
                  <a:pt x="1036621" y="362138"/>
                  <a:pt x="828391" y="89026"/>
                  <a:pt x="1240324" y="117695"/>
                </a:cubicBezTo>
                <a:cubicBezTo>
                  <a:pt x="1652257" y="146364"/>
                  <a:pt x="2605889" y="496432"/>
                  <a:pt x="3431263" y="525101"/>
                </a:cubicBezTo>
                <a:cubicBezTo>
                  <a:pt x="4256637" y="553770"/>
                  <a:pt x="5235921" y="270095"/>
                  <a:pt x="6192570" y="289711"/>
                </a:cubicBezTo>
                <a:cubicBezTo>
                  <a:pt x="7149219" y="309327"/>
                  <a:pt x="8160189" y="476061"/>
                  <a:pt x="9171160" y="642796"/>
                </a:cubicBezTo>
              </a:path>
            </a:pathLst>
          </a:custGeom>
          <a:noFill/>
          <a:ln w="12600">
            <a:solidFill>
              <a:srgbClr val="9ebf2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258D6-2F24-480D-B3B0-127CC3B80D0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e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AF7E9-13DA-4C82-B77F-783FDDA49269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e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93F20-4C31-4B7C-8193-7F011D3615F9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e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E75C0-C4A0-4A46-9874-96324462D1F7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e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17984-577A-4109-ACEB-B9215CE63A7C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e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A2A72-0E12-4101-B0AB-94DC2C9137B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e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6102F-5B28-433B-A89F-87F1105430AA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e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54CE6-83BC-47DF-9AF2-EF1F271E6C17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矩形 4"/>
          <p:cNvSpPr/>
          <p:nvPr/>
        </p:nvSpPr>
        <p:spPr>
          <a:xfrm>
            <a:off x="0" y="1989000"/>
            <a:ext cx="9144000" cy="1800360"/>
          </a:xfrm>
          <a:prstGeom prst="rect">
            <a:avLst/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任意多边形 5"/>
          <p:cNvSpPr/>
          <p:nvPr/>
        </p:nvSpPr>
        <p:spPr>
          <a:xfrm>
            <a:off x="-17640" y="4076640"/>
            <a:ext cx="9152280" cy="2062080"/>
          </a:xfrm>
          <a:custGeom>
            <a:avLst/>
            <a:gdLst/>
            <a:ahLst/>
            <a:rect l="l" t="t" r="r" b="b"/>
            <a:pathLst>
              <a:path w="9153330" h="2062065">
                <a:moveTo>
                  <a:pt x="0" y="0"/>
                </a:moveTo>
                <a:cubicBezTo>
                  <a:pt x="685022" y="307910"/>
                  <a:pt x="1370045" y="615820"/>
                  <a:pt x="2136710" y="727787"/>
                </a:cubicBezTo>
                <a:cubicBezTo>
                  <a:pt x="2903375" y="839754"/>
                  <a:pt x="3833327" y="524069"/>
                  <a:pt x="4599992" y="671804"/>
                </a:cubicBezTo>
                <a:cubicBezTo>
                  <a:pt x="5366657" y="819539"/>
                  <a:pt x="5977812" y="1382486"/>
                  <a:pt x="6736702" y="1614196"/>
                </a:cubicBezTo>
                <a:cubicBezTo>
                  <a:pt x="7495592" y="1845906"/>
                  <a:pt x="8324461" y="1953985"/>
                  <a:pt x="9153330" y="2062065"/>
                </a:cubicBezTo>
              </a:path>
            </a:pathLst>
          </a:custGeom>
          <a:noFill/>
          <a:ln w="12600">
            <a:solidFill>
              <a:srgbClr val="9ebf2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任意多边形 6"/>
          <p:cNvSpPr/>
          <p:nvPr/>
        </p:nvSpPr>
        <p:spPr>
          <a:xfrm>
            <a:off x="-27000" y="4505400"/>
            <a:ext cx="8863200" cy="2343240"/>
          </a:xfrm>
          <a:custGeom>
            <a:avLst/>
            <a:gdLst/>
            <a:ahLst/>
            <a:rect l="l" t="t" r="r" b="b"/>
            <a:pathLst>
              <a:path w="8864082" h="2343480">
                <a:moveTo>
                  <a:pt x="0" y="1497"/>
                </a:moveTo>
                <a:cubicBezTo>
                  <a:pt x="438539" y="484356"/>
                  <a:pt x="877078" y="967215"/>
                  <a:pt x="1688841" y="971880"/>
                </a:cubicBezTo>
                <a:cubicBezTo>
                  <a:pt x="2500604" y="976545"/>
                  <a:pt x="3674707" y="-199111"/>
                  <a:pt x="4870580" y="29489"/>
                </a:cubicBezTo>
                <a:cubicBezTo>
                  <a:pt x="6066453" y="258089"/>
                  <a:pt x="7465267" y="1300784"/>
                  <a:pt x="8864082" y="2343480"/>
                </a:cubicBezTo>
              </a:path>
            </a:pathLst>
          </a:custGeom>
          <a:noFill/>
          <a:ln w="12600">
            <a:solidFill>
              <a:srgbClr val="9ebf2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TextBox 7"/>
          <p:cNvSpPr/>
          <p:nvPr/>
        </p:nvSpPr>
        <p:spPr>
          <a:xfrm>
            <a:off x="2799720" y="2427120"/>
            <a:ext cx="436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清新简洁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Box 4"/>
          <p:cNvSpPr/>
          <p:nvPr/>
        </p:nvSpPr>
        <p:spPr>
          <a:xfrm>
            <a:off x="835920" y="2667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ebf27"/>
                </a:solidFill>
                <a:latin typeface="微软雅黑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Freeform 3"/>
          <p:cNvSpPr/>
          <p:nvPr/>
        </p:nvSpPr>
        <p:spPr>
          <a:xfrm>
            <a:off x="5415120" y="2992320"/>
            <a:ext cx="1628640" cy="700200"/>
          </a:xfrm>
          <a:custGeom>
            <a:avLst/>
            <a:gdLst/>
            <a:ahLst/>
            <a:rect l="l" t="t" r="r" b="b"/>
            <a:pathLst>
              <a:path w="2061" h="1556">
                <a:moveTo>
                  <a:pt x="0" y="1544"/>
                </a:moveTo>
                <a:lnTo>
                  <a:pt x="112" y="1555"/>
                </a:lnTo>
                <a:lnTo>
                  <a:pt x="170" y="1555"/>
                </a:lnTo>
                <a:lnTo>
                  <a:pt x="237" y="1555"/>
                </a:lnTo>
                <a:lnTo>
                  <a:pt x="300" y="1551"/>
                </a:lnTo>
                <a:lnTo>
                  <a:pt x="365" y="1544"/>
                </a:lnTo>
                <a:lnTo>
                  <a:pt x="427" y="1533"/>
                </a:lnTo>
                <a:lnTo>
                  <a:pt x="484" y="1519"/>
                </a:lnTo>
                <a:lnTo>
                  <a:pt x="547" y="1501"/>
                </a:lnTo>
                <a:lnTo>
                  <a:pt x="622" y="1472"/>
                </a:lnTo>
                <a:lnTo>
                  <a:pt x="689" y="1439"/>
                </a:lnTo>
                <a:lnTo>
                  <a:pt x="754" y="1410"/>
                </a:lnTo>
                <a:lnTo>
                  <a:pt x="824" y="1371"/>
                </a:lnTo>
                <a:lnTo>
                  <a:pt x="891" y="1324"/>
                </a:lnTo>
                <a:lnTo>
                  <a:pt x="959" y="1280"/>
                </a:lnTo>
                <a:lnTo>
                  <a:pt x="1016" y="1233"/>
                </a:lnTo>
                <a:lnTo>
                  <a:pt x="1081" y="1190"/>
                </a:lnTo>
                <a:lnTo>
                  <a:pt x="1134" y="1143"/>
                </a:lnTo>
                <a:lnTo>
                  <a:pt x="1194" y="1092"/>
                </a:lnTo>
                <a:lnTo>
                  <a:pt x="1253" y="1041"/>
                </a:lnTo>
                <a:lnTo>
                  <a:pt x="1313" y="980"/>
                </a:lnTo>
                <a:lnTo>
                  <a:pt x="1366" y="929"/>
                </a:lnTo>
                <a:lnTo>
                  <a:pt x="1423" y="861"/>
                </a:lnTo>
                <a:lnTo>
                  <a:pt x="1476" y="799"/>
                </a:lnTo>
                <a:lnTo>
                  <a:pt x="1523" y="734"/>
                </a:lnTo>
                <a:lnTo>
                  <a:pt x="1566" y="665"/>
                </a:lnTo>
                <a:lnTo>
                  <a:pt x="1598" y="608"/>
                </a:lnTo>
                <a:lnTo>
                  <a:pt x="1626" y="546"/>
                </a:lnTo>
                <a:lnTo>
                  <a:pt x="2060" y="629"/>
                </a:lnTo>
                <a:lnTo>
                  <a:pt x="1993" y="586"/>
                </a:lnTo>
                <a:lnTo>
                  <a:pt x="1940" y="546"/>
                </a:lnTo>
                <a:lnTo>
                  <a:pt x="1875" y="506"/>
                </a:lnTo>
                <a:lnTo>
                  <a:pt x="1828" y="467"/>
                </a:lnTo>
                <a:lnTo>
                  <a:pt x="1785" y="427"/>
                </a:lnTo>
                <a:lnTo>
                  <a:pt x="1748" y="398"/>
                </a:lnTo>
                <a:lnTo>
                  <a:pt x="1713" y="354"/>
                </a:lnTo>
                <a:lnTo>
                  <a:pt x="1675" y="318"/>
                </a:lnTo>
                <a:lnTo>
                  <a:pt x="1638" y="275"/>
                </a:lnTo>
                <a:lnTo>
                  <a:pt x="1596" y="221"/>
                </a:lnTo>
                <a:lnTo>
                  <a:pt x="1551" y="166"/>
                </a:lnTo>
                <a:lnTo>
                  <a:pt x="1513" y="112"/>
                </a:lnTo>
                <a:lnTo>
                  <a:pt x="1473" y="51"/>
                </a:lnTo>
                <a:lnTo>
                  <a:pt x="1441" y="0"/>
                </a:lnTo>
                <a:lnTo>
                  <a:pt x="1408" y="18"/>
                </a:lnTo>
                <a:lnTo>
                  <a:pt x="1373" y="47"/>
                </a:lnTo>
                <a:lnTo>
                  <a:pt x="1338" y="72"/>
                </a:lnTo>
                <a:lnTo>
                  <a:pt x="1296" y="98"/>
                </a:lnTo>
                <a:lnTo>
                  <a:pt x="1251" y="127"/>
                </a:lnTo>
                <a:lnTo>
                  <a:pt x="1211" y="145"/>
                </a:lnTo>
                <a:lnTo>
                  <a:pt x="1174" y="163"/>
                </a:lnTo>
                <a:lnTo>
                  <a:pt x="1129" y="184"/>
                </a:lnTo>
                <a:lnTo>
                  <a:pt x="1084" y="199"/>
                </a:lnTo>
                <a:lnTo>
                  <a:pt x="1034" y="221"/>
                </a:lnTo>
                <a:lnTo>
                  <a:pt x="991" y="235"/>
                </a:lnTo>
                <a:lnTo>
                  <a:pt x="949" y="253"/>
                </a:lnTo>
                <a:lnTo>
                  <a:pt x="901" y="264"/>
                </a:lnTo>
                <a:lnTo>
                  <a:pt x="859" y="278"/>
                </a:lnTo>
                <a:lnTo>
                  <a:pt x="817" y="293"/>
                </a:lnTo>
                <a:lnTo>
                  <a:pt x="769" y="307"/>
                </a:lnTo>
                <a:lnTo>
                  <a:pt x="704" y="318"/>
                </a:lnTo>
                <a:lnTo>
                  <a:pt x="1154" y="438"/>
                </a:lnTo>
                <a:lnTo>
                  <a:pt x="1124" y="528"/>
                </a:lnTo>
                <a:lnTo>
                  <a:pt x="1089" y="597"/>
                </a:lnTo>
                <a:lnTo>
                  <a:pt x="1024" y="720"/>
                </a:lnTo>
                <a:lnTo>
                  <a:pt x="986" y="781"/>
                </a:lnTo>
                <a:lnTo>
                  <a:pt x="949" y="839"/>
                </a:lnTo>
                <a:lnTo>
                  <a:pt x="881" y="933"/>
                </a:lnTo>
                <a:lnTo>
                  <a:pt x="839" y="991"/>
                </a:lnTo>
                <a:lnTo>
                  <a:pt x="792" y="1060"/>
                </a:lnTo>
                <a:lnTo>
                  <a:pt x="747" y="1110"/>
                </a:lnTo>
                <a:lnTo>
                  <a:pt x="709" y="1154"/>
                </a:lnTo>
                <a:lnTo>
                  <a:pt x="672" y="1201"/>
                </a:lnTo>
                <a:lnTo>
                  <a:pt x="627" y="1244"/>
                </a:lnTo>
                <a:lnTo>
                  <a:pt x="577" y="1291"/>
                </a:lnTo>
                <a:lnTo>
                  <a:pt x="529" y="1324"/>
                </a:lnTo>
                <a:lnTo>
                  <a:pt x="479" y="1363"/>
                </a:lnTo>
                <a:lnTo>
                  <a:pt x="419" y="1400"/>
                </a:lnTo>
                <a:lnTo>
                  <a:pt x="365" y="1425"/>
                </a:lnTo>
                <a:lnTo>
                  <a:pt x="300" y="1450"/>
                </a:lnTo>
                <a:lnTo>
                  <a:pt x="240" y="1472"/>
                </a:lnTo>
                <a:lnTo>
                  <a:pt x="177" y="1494"/>
                </a:lnTo>
                <a:lnTo>
                  <a:pt x="107" y="1515"/>
                </a:lnTo>
                <a:lnTo>
                  <a:pt x="0" y="1544"/>
                </a:lnTo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Freeform 4"/>
          <p:cNvSpPr/>
          <p:nvPr/>
        </p:nvSpPr>
        <p:spPr>
          <a:xfrm>
            <a:off x="5319720" y="4299120"/>
            <a:ext cx="1630440" cy="674640"/>
          </a:xfrm>
          <a:custGeom>
            <a:avLst/>
            <a:gdLst/>
            <a:ahLst/>
            <a:rect l="l" t="t" r="r" b="b"/>
            <a:pathLst>
              <a:path w="2063" h="1497">
                <a:moveTo>
                  <a:pt x="0" y="11"/>
                </a:moveTo>
                <a:lnTo>
                  <a:pt x="115" y="0"/>
                </a:lnTo>
                <a:lnTo>
                  <a:pt x="170" y="0"/>
                </a:lnTo>
                <a:lnTo>
                  <a:pt x="237" y="0"/>
                </a:lnTo>
                <a:lnTo>
                  <a:pt x="302" y="7"/>
                </a:lnTo>
                <a:lnTo>
                  <a:pt x="364" y="11"/>
                </a:lnTo>
                <a:lnTo>
                  <a:pt x="429" y="22"/>
                </a:lnTo>
                <a:lnTo>
                  <a:pt x="484" y="40"/>
                </a:lnTo>
                <a:lnTo>
                  <a:pt x="549" y="54"/>
                </a:lnTo>
                <a:lnTo>
                  <a:pt x="624" y="83"/>
                </a:lnTo>
                <a:lnTo>
                  <a:pt x="691" y="116"/>
                </a:lnTo>
                <a:lnTo>
                  <a:pt x="754" y="141"/>
                </a:lnTo>
                <a:lnTo>
                  <a:pt x="826" y="181"/>
                </a:lnTo>
                <a:lnTo>
                  <a:pt x="894" y="224"/>
                </a:lnTo>
                <a:lnTo>
                  <a:pt x="961" y="267"/>
                </a:lnTo>
                <a:lnTo>
                  <a:pt x="1016" y="311"/>
                </a:lnTo>
                <a:lnTo>
                  <a:pt x="1081" y="354"/>
                </a:lnTo>
                <a:lnTo>
                  <a:pt x="1136" y="397"/>
                </a:lnTo>
                <a:lnTo>
                  <a:pt x="1196" y="444"/>
                </a:lnTo>
                <a:lnTo>
                  <a:pt x="1256" y="495"/>
                </a:lnTo>
                <a:lnTo>
                  <a:pt x="1316" y="553"/>
                </a:lnTo>
                <a:lnTo>
                  <a:pt x="1368" y="603"/>
                </a:lnTo>
                <a:lnTo>
                  <a:pt x="1423" y="669"/>
                </a:lnTo>
                <a:lnTo>
                  <a:pt x="1475" y="726"/>
                </a:lnTo>
                <a:lnTo>
                  <a:pt x="1525" y="788"/>
                </a:lnTo>
                <a:lnTo>
                  <a:pt x="1565" y="853"/>
                </a:lnTo>
                <a:lnTo>
                  <a:pt x="1600" y="911"/>
                </a:lnTo>
                <a:lnTo>
                  <a:pt x="1625" y="968"/>
                </a:lnTo>
                <a:lnTo>
                  <a:pt x="2062" y="889"/>
                </a:lnTo>
                <a:lnTo>
                  <a:pt x="2000" y="932"/>
                </a:lnTo>
                <a:lnTo>
                  <a:pt x="1930" y="976"/>
                </a:lnTo>
                <a:lnTo>
                  <a:pt x="1872" y="1012"/>
                </a:lnTo>
                <a:lnTo>
                  <a:pt x="1830" y="1041"/>
                </a:lnTo>
                <a:lnTo>
                  <a:pt x="1782" y="1077"/>
                </a:lnTo>
                <a:lnTo>
                  <a:pt x="1745" y="1109"/>
                </a:lnTo>
                <a:lnTo>
                  <a:pt x="1710" y="1145"/>
                </a:lnTo>
                <a:lnTo>
                  <a:pt x="1673" y="1189"/>
                </a:lnTo>
                <a:lnTo>
                  <a:pt x="1638" y="1229"/>
                </a:lnTo>
                <a:lnTo>
                  <a:pt x="1595" y="1283"/>
                </a:lnTo>
                <a:lnTo>
                  <a:pt x="1555" y="1337"/>
                </a:lnTo>
                <a:lnTo>
                  <a:pt x="1518" y="1384"/>
                </a:lnTo>
                <a:lnTo>
                  <a:pt x="1475" y="1445"/>
                </a:lnTo>
                <a:lnTo>
                  <a:pt x="1443" y="1496"/>
                </a:lnTo>
                <a:lnTo>
                  <a:pt x="1408" y="1474"/>
                </a:lnTo>
                <a:lnTo>
                  <a:pt x="1375" y="1445"/>
                </a:lnTo>
                <a:lnTo>
                  <a:pt x="1338" y="1424"/>
                </a:lnTo>
                <a:lnTo>
                  <a:pt x="1296" y="1398"/>
                </a:lnTo>
                <a:lnTo>
                  <a:pt x="1253" y="1373"/>
                </a:lnTo>
                <a:lnTo>
                  <a:pt x="1213" y="1351"/>
                </a:lnTo>
                <a:lnTo>
                  <a:pt x="1173" y="1337"/>
                </a:lnTo>
                <a:lnTo>
                  <a:pt x="1131" y="1315"/>
                </a:lnTo>
                <a:lnTo>
                  <a:pt x="1083" y="1301"/>
                </a:lnTo>
                <a:lnTo>
                  <a:pt x="1036" y="1283"/>
                </a:lnTo>
                <a:lnTo>
                  <a:pt x="991" y="1265"/>
                </a:lnTo>
                <a:lnTo>
                  <a:pt x="949" y="1250"/>
                </a:lnTo>
                <a:lnTo>
                  <a:pt x="904" y="1239"/>
                </a:lnTo>
                <a:lnTo>
                  <a:pt x="859" y="1225"/>
                </a:lnTo>
                <a:lnTo>
                  <a:pt x="819" y="1211"/>
                </a:lnTo>
                <a:lnTo>
                  <a:pt x="769" y="1196"/>
                </a:lnTo>
                <a:lnTo>
                  <a:pt x="704" y="1185"/>
                </a:lnTo>
                <a:lnTo>
                  <a:pt x="1153" y="1073"/>
                </a:lnTo>
                <a:lnTo>
                  <a:pt x="1123" y="986"/>
                </a:lnTo>
                <a:lnTo>
                  <a:pt x="1088" y="921"/>
                </a:lnTo>
                <a:lnTo>
                  <a:pt x="1024" y="799"/>
                </a:lnTo>
                <a:lnTo>
                  <a:pt x="986" y="744"/>
                </a:lnTo>
                <a:lnTo>
                  <a:pt x="949" y="690"/>
                </a:lnTo>
                <a:lnTo>
                  <a:pt x="881" y="596"/>
                </a:lnTo>
                <a:lnTo>
                  <a:pt x="841" y="542"/>
                </a:lnTo>
                <a:lnTo>
                  <a:pt x="791" y="477"/>
                </a:lnTo>
                <a:lnTo>
                  <a:pt x="746" y="430"/>
                </a:lnTo>
                <a:lnTo>
                  <a:pt x="709" y="387"/>
                </a:lnTo>
                <a:lnTo>
                  <a:pt x="672" y="343"/>
                </a:lnTo>
                <a:lnTo>
                  <a:pt x="627" y="300"/>
                </a:lnTo>
                <a:lnTo>
                  <a:pt x="579" y="257"/>
                </a:lnTo>
                <a:lnTo>
                  <a:pt x="529" y="224"/>
                </a:lnTo>
                <a:lnTo>
                  <a:pt x="482" y="184"/>
                </a:lnTo>
                <a:lnTo>
                  <a:pt x="422" y="152"/>
                </a:lnTo>
                <a:lnTo>
                  <a:pt x="364" y="126"/>
                </a:lnTo>
                <a:lnTo>
                  <a:pt x="302" y="105"/>
                </a:lnTo>
                <a:lnTo>
                  <a:pt x="242" y="83"/>
                </a:lnTo>
                <a:lnTo>
                  <a:pt x="177" y="61"/>
                </a:lnTo>
                <a:lnTo>
                  <a:pt x="110" y="43"/>
                </a:lnTo>
                <a:lnTo>
                  <a:pt x="0" y="11"/>
                </a:lnTo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Freeform 5"/>
          <p:cNvSpPr/>
          <p:nvPr/>
        </p:nvSpPr>
        <p:spPr>
          <a:xfrm>
            <a:off x="2517840" y="4246560"/>
            <a:ext cx="1628640" cy="701640"/>
          </a:xfrm>
          <a:custGeom>
            <a:avLst/>
            <a:gdLst/>
            <a:ahLst/>
            <a:rect l="l" t="t" r="r" b="b"/>
            <a:pathLst>
              <a:path w="2063" h="1556">
                <a:moveTo>
                  <a:pt x="2062" y="11"/>
                </a:moveTo>
                <a:lnTo>
                  <a:pt x="1947" y="0"/>
                </a:lnTo>
                <a:lnTo>
                  <a:pt x="1892" y="0"/>
                </a:lnTo>
                <a:lnTo>
                  <a:pt x="1825" y="0"/>
                </a:lnTo>
                <a:lnTo>
                  <a:pt x="1760" y="7"/>
                </a:lnTo>
                <a:lnTo>
                  <a:pt x="1698" y="11"/>
                </a:lnTo>
                <a:lnTo>
                  <a:pt x="1633" y="22"/>
                </a:lnTo>
                <a:lnTo>
                  <a:pt x="1578" y="40"/>
                </a:lnTo>
                <a:lnTo>
                  <a:pt x="1513" y="58"/>
                </a:lnTo>
                <a:lnTo>
                  <a:pt x="1438" y="83"/>
                </a:lnTo>
                <a:lnTo>
                  <a:pt x="1371" y="119"/>
                </a:lnTo>
                <a:lnTo>
                  <a:pt x="1308" y="148"/>
                </a:lnTo>
                <a:lnTo>
                  <a:pt x="1236" y="188"/>
                </a:lnTo>
                <a:lnTo>
                  <a:pt x="1168" y="231"/>
                </a:lnTo>
                <a:lnTo>
                  <a:pt x="1101" y="278"/>
                </a:lnTo>
                <a:lnTo>
                  <a:pt x="1046" y="322"/>
                </a:lnTo>
                <a:lnTo>
                  <a:pt x="981" y="369"/>
                </a:lnTo>
                <a:lnTo>
                  <a:pt x="926" y="412"/>
                </a:lnTo>
                <a:lnTo>
                  <a:pt x="866" y="463"/>
                </a:lnTo>
                <a:lnTo>
                  <a:pt x="806" y="514"/>
                </a:lnTo>
                <a:lnTo>
                  <a:pt x="746" y="579"/>
                </a:lnTo>
                <a:lnTo>
                  <a:pt x="694" y="629"/>
                </a:lnTo>
                <a:lnTo>
                  <a:pt x="639" y="698"/>
                </a:lnTo>
                <a:lnTo>
                  <a:pt x="587" y="759"/>
                </a:lnTo>
                <a:lnTo>
                  <a:pt x="537" y="825"/>
                </a:lnTo>
                <a:lnTo>
                  <a:pt x="497" y="893"/>
                </a:lnTo>
                <a:lnTo>
                  <a:pt x="462" y="947"/>
                </a:lnTo>
                <a:lnTo>
                  <a:pt x="437" y="1013"/>
                </a:lnTo>
                <a:lnTo>
                  <a:pt x="0" y="929"/>
                </a:lnTo>
                <a:lnTo>
                  <a:pt x="70" y="973"/>
                </a:lnTo>
                <a:lnTo>
                  <a:pt x="122" y="1013"/>
                </a:lnTo>
                <a:lnTo>
                  <a:pt x="185" y="1052"/>
                </a:lnTo>
                <a:lnTo>
                  <a:pt x="232" y="1092"/>
                </a:lnTo>
                <a:lnTo>
                  <a:pt x="275" y="1128"/>
                </a:lnTo>
                <a:lnTo>
                  <a:pt x="312" y="1157"/>
                </a:lnTo>
                <a:lnTo>
                  <a:pt x="349" y="1201"/>
                </a:lnTo>
                <a:lnTo>
                  <a:pt x="384" y="1240"/>
                </a:lnTo>
                <a:lnTo>
                  <a:pt x="424" y="1284"/>
                </a:lnTo>
                <a:lnTo>
                  <a:pt x="467" y="1338"/>
                </a:lnTo>
                <a:lnTo>
                  <a:pt x="512" y="1392"/>
                </a:lnTo>
                <a:lnTo>
                  <a:pt x="549" y="1447"/>
                </a:lnTo>
                <a:lnTo>
                  <a:pt x="589" y="1504"/>
                </a:lnTo>
                <a:lnTo>
                  <a:pt x="619" y="1555"/>
                </a:lnTo>
                <a:lnTo>
                  <a:pt x="654" y="1537"/>
                </a:lnTo>
                <a:lnTo>
                  <a:pt x="687" y="1508"/>
                </a:lnTo>
                <a:lnTo>
                  <a:pt x="724" y="1486"/>
                </a:lnTo>
                <a:lnTo>
                  <a:pt x="766" y="1457"/>
                </a:lnTo>
                <a:lnTo>
                  <a:pt x="809" y="1432"/>
                </a:lnTo>
                <a:lnTo>
                  <a:pt x="849" y="1410"/>
                </a:lnTo>
                <a:lnTo>
                  <a:pt x="889" y="1396"/>
                </a:lnTo>
                <a:lnTo>
                  <a:pt x="931" y="1374"/>
                </a:lnTo>
                <a:lnTo>
                  <a:pt x="979" y="1356"/>
                </a:lnTo>
                <a:lnTo>
                  <a:pt x="1026" y="1338"/>
                </a:lnTo>
                <a:lnTo>
                  <a:pt x="1071" y="1320"/>
                </a:lnTo>
                <a:lnTo>
                  <a:pt x="1113" y="1305"/>
                </a:lnTo>
                <a:lnTo>
                  <a:pt x="1158" y="1291"/>
                </a:lnTo>
                <a:lnTo>
                  <a:pt x="1203" y="1277"/>
                </a:lnTo>
                <a:lnTo>
                  <a:pt x="1243" y="1266"/>
                </a:lnTo>
                <a:lnTo>
                  <a:pt x="1293" y="1248"/>
                </a:lnTo>
                <a:lnTo>
                  <a:pt x="1356" y="1237"/>
                </a:lnTo>
                <a:lnTo>
                  <a:pt x="909" y="1117"/>
                </a:lnTo>
                <a:lnTo>
                  <a:pt x="939" y="1027"/>
                </a:lnTo>
                <a:lnTo>
                  <a:pt x="974" y="962"/>
                </a:lnTo>
                <a:lnTo>
                  <a:pt x="1038" y="835"/>
                </a:lnTo>
                <a:lnTo>
                  <a:pt x="1076" y="774"/>
                </a:lnTo>
                <a:lnTo>
                  <a:pt x="1113" y="720"/>
                </a:lnTo>
                <a:lnTo>
                  <a:pt x="1181" y="622"/>
                </a:lnTo>
                <a:lnTo>
                  <a:pt x="1221" y="568"/>
                </a:lnTo>
                <a:lnTo>
                  <a:pt x="1271" y="499"/>
                </a:lnTo>
                <a:lnTo>
                  <a:pt x="1316" y="448"/>
                </a:lnTo>
                <a:lnTo>
                  <a:pt x="1353" y="401"/>
                </a:lnTo>
                <a:lnTo>
                  <a:pt x="1390" y="358"/>
                </a:lnTo>
                <a:lnTo>
                  <a:pt x="1435" y="311"/>
                </a:lnTo>
                <a:lnTo>
                  <a:pt x="1483" y="268"/>
                </a:lnTo>
                <a:lnTo>
                  <a:pt x="1533" y="231"/>
                </a:lnTo>
                <a:lnTo>
                  <a:pt x="1580" y="192"/>
                </a:lnTo>
                <a:lnTo>
                  <a:pt x="1640" y="159"/>
                </a:lnTo>
                <a:lnTo>
                  <a:pt x="1698" y="130"/>
                </a:lnTo>
                <a:lnTo>
                  <a:pt x="1760" y="108"/>
                </a:lnTo>
                <a:lnTo>
                  <a:pt x="1820" y="83"/>
                </a:lnTo>
                <a:lnTo>
                  <a:pt x="1885" y="61"/>
                </a:lnTo>
                <a:lnTo>
                  <a:pt x="1952" y="43"/>
                </a:lnTo>
                <a:lnTo>
                  <a:pt x="2062" y="11"/>
                </a:lnTo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Freeform 6"/>
          <p:cNvSpPr/>
          <p:nvPr/>
        </p:nvSpPr>
        <p:spPr>
          <a:xfrm>
            <a:off x="2521080" y="2981160"/>
            <a:ext cx="1630080" cy="675000"/>
          </a:xfrm>
          <a:custGeom>
            <a:avLst/>
            <a:gdLst/>
            <a:ahLst/>
            <a:rect l="l" t="t" r="r" b="b"/>
            <a:pathLst>
              <a:path w="2061" h="1497">
                <a:moveTo>
                  <a:pt x="2060" y="1482"/>
                </a:moveTo>
                <a:lnTo>
                  <a:pt x="1945" y="1496"/>
                </a:lnTo>
                <a:lnTo>
                  <a:pt x="1890" y="1496"/>
                </a:lnTo>
                <a:lnTo>
                  <a:pt x="1823" y="1496"/>
                </a:lnTo>
                <a:lnTo>
                  <a:pt x="1760" y="1489"/>
                </a:lnTo>
                <a:lnTo>
                  <a:pt x="1695" y="1482"/>
                </a:lnTo>
                <a:lnTo>
                  <a:pt x="1633" y="1471"/>
                </a:lnTo>
                <a:lnTo>
                  <a:pt x="1576" y="1456"/>
                </a:lnTo>
                <a:lnTo>
                  <a:pt x="1513" y="1442"/>
                </a:lnTo>
                <a:lnTo>
                  <a:pt x="1438" y="1413"/>
                </a:lnTo>
                <a:lnTo>
                  <a:pt x="1371" y="1380"/>
                </a:lnTo>
                <a:lnTo>
                  <a:pt x="1306" y="1355"/>
                </a:lnTo>
                <a:lnTo>
                  <a:pt x="1236" y="1315"/>
                </a:lnTo>
                <a:lnTo>
                  <a:pt x="1169" y="1272"/>
                </a:lnTo>
                <a:lnTo>
                  <a:pt x="1101" y="1229"/>
                </a:lnTo>
                <a:lnTo>
                  <a:pt x="1044" y="1185"/>
                </a:lnTo>
                <a:lnTo>
                  <a:pt x="981" y="1142"/>
                </a:lnTo>
                <a:lnTo>
                  <a:pt x="926" y="1099"/>
                </a:lnTo>
                <a:lnTo>
                  <a:pt x="866" y="1052"/>
                </a:lnTo>
                <a:lnTo>
                  <a:pt x="807" y="1001"/>
                </a:lnTo>
                <a:lnTo>
                  <a:pt x="747" y="943"/>
                </a:lnTo>
                <a:lnTo>
                  <a:pt x="694" y="893"/>
                </a:lnTo>
                <a:lnTo>
                  <a:pt x="637" y="827"/>
                </a:lnTo>
                <a:lnTo>
                  <a:pt x="584" y="770"/>
                </a:lnTo>
                <a:lnTo>
                  <a:pt x="537" y="708"/>
                </a:lnTo>
                <a:lnTo>
                  <a:pt x="494" y="643"/>
                </a:lnTo>
                <a:lnTo>
                  <a:pt x="462" y="585"/>
                </a:lnTo>
                <a:lnTo>
                  <a:pt x="434" y="528"/>
                </a:lnTo>
                <a:lnTo>
                  <a:pt x="0" y="611"/>
                </a:lnTo>
                <a:lnTo>
                  <a:pt x="60" y="564"/>
                </a:lnTo>
                <a:lnTo>
                  <a:pt x="132" y="520"/>
                </a:lnTo>
                <a:lnTo>
                  <a:pt x="187" y="484"/>
                </a:lnTo>
                <a:lnTo>
                  <a:pt x="232" y="455"/>
                </a:lnTo>
                <a:lnTo>
                  <a:pt x="277" y="419"/>
                </a:lnTo>
                <a:lnTo>
                  <a:pt x="315" y="387"/>
                </a:lnTo>
                <a:lnTo>
                  <a:pt x="352" y="351"/>
                </a:lnTo>
                <a:lnTo>
                  <a:pt x="385" y="307"/>
                </a:lnTo>
                <a:lnTo>
                  <a:pt x="422" y="267"/>
                </a:lnTo>
                <a:lnTo>
                  <a:pt x="464" y="213"/>
                </a:lnTo>
                <a:lnTo>
                  <a:pt x="507" y="159"/>
                </a:lnTo>
                <a:lnTo>
                  <a:pt x="544" y="112"/>
                </a:lnTo>
                <a:lnTo>
                  <a:pt x="587" y="54"/>
                </a:lnTo>
                <a:lnTo>
                  <a:pt x="619" y="0"/>
                </a:lnTo>
                <a:lnTo>
                  <a:pt x="652" y="22"/>
                </a:lnTo>
                <a:lnTo>
                  <a:pt x="687" y="51"/>
                </a:lnTo>
                <a:lnTo>
                  <a:pt x="722" y="72"/>
                </a:lnTo>
                <a:lnTo>
                  <a:pt x="764" y="98"/>
                </a:lnTo>
                <a:lnTo>
                  <a:pt x="809" y="123"/>
                </a:lnTo>
                <a:lnTo>
                  <a:pt x="849" y="145"/>
                </a:lnTo>
                <a:lnTo>
                  <a:pt x="886" y="159"/>
                </a:lnTo>
                <a:lnTo>
                  <a:pt x="931" y="181"/>
                </a:lnTo>
                <a:lnTo>
                  <a:pt x="979" y="195"/>
                </a:lnTo>
                <a:lnTo>
                  <a:pt x="1026" y="213"/>
                </a:lnTo>
                <a:lnTo>
                  <a:pt x="1069" y="231"/>
                </a:lnTo>
                <a:lnTo>
                  <a:pt x="1111" y="246"/>
                </a:lnTo>
                <a:lnTo>
                  <a:pt x="1159" y="257"/>
                </a:lnTo>
                <a:lnTo>
                  <a:pt x="1201" y="271"/>
                </a:lnTo>
                <a:lnTo>
                  <a:pt x="1243" y="285"/>
                </a:lnTo>
                <a:lnTo>
                  <a:pt x="1291" y="300"/>
                </a:lnTo>
                <a:lnTo>
                  <a:pt x="1358" y="311"/>
                </a:lnTo>
                <a:lnTo>
                  <a:pt x="906" y="423"/>
                </a:lnTo>
                <a:lnTo>
                  <a:pt x="936" y="510"/>
                </a:lnTo>
                <a:lnTo>
                  <a:pt x="974" y="575"/>
                </a:lnTo>
                <a:lnTo>
                  <a:pt x="1036" y="697"/>
                </a:lnTo>
                <a:lnTo>
                  <a:pt x="1074" y="752"/>
                </a:lnTo>
                <a:lnTo>
                  <a:pt x="1111" y="806"/>
                </a:lnTo>
                <a:lnTo>
                  <a:pt x="1179" y="900"/>
                </a:lnTo>
                <a:lnTo>
                  <a:pt x="1221" y="954"/>
                </a:lnTo>
                <a:lnTo>
                  <a:pt x="1268" y="1019"/>
                </a:lnTo>
                <a:lnTo>
                  <a:pt x="1313" y="1066"/>
                </a:lnTo>
                <a:lnTo>
                  <a:pt x="1351" y="1109"/>
                </a:lnTo>
                <a:lnTo>
                  <a:pt x="1388" y="1153"/>
                </a:lnTo>
                <a:lnTo>
                  <a:pt x="1433" y="1196"/>
                </a:lnTo>
                <a:lnTo>
                  <a:pt x="1483" y="1239"/>
                </a:lnTo>
                <a:lnTo>
                  <a:pt x="1531" y="1272"/>
                </a:lnTo>
                <a:lnTo>
                  <a:pt x="1581" y="1312"/>
                </a:lnTo>
                <a:lnTo>
                  <a:pt x="1641" y="1344"/>
                </a:lnTo>
                <a:lnTo>
                  <a:pt x="1695" y="1370"/>
                </a:lnTo>
                <a:lnTo>
                  <a:pt x="1760" y="1391"/>
                </a:lnTo>
                <a:lnTo>
                  <a:pt x="1820" y="1413"/>
                </a:lnTo>
                <a:lnTo>
                  <a:pt x="1883" y="1435"/>
                </a:lnTo>
                <a:lnTo>
                  <a:pt x="1950" y="1453"/>
                </a:lnTo>
                <a:lnTo>
                  <a:pt x="2060" y="1482"/>
                </a:lnTo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AutoShape 7"/>
          <p:cNvSpPr/>
          <p:nvPr/>
        </p:nvSpPr>
        <p:spPr>
          <a:xfrm>
            <a:off x="3139920" y="3021120"/>
            <a:ext cx="3189600" cy="1812960"/>
          </a:xfrm>
          <a:prstGeom prst="octagon">
            <a:avLst>
              <a:gd name="adj" fmla="val 2928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AutoShape 8"/>
          <p:cNvSpPr/>
          <p:nvPr/>
        </p:nvSpPr>
        <p:spPr>
          <a:xfrm>
            <a:off x="1598760" y="1989000"/>
            <a:ext cx="2847960" cy="86544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AutoShape 9"/>
          <p:cNvSpPr/>
          <p:nvPr/>
        </p:nvSpPr>
        <p:spPr>
          <a:xfrm>
            <a:off x="4943520" y="1989000"/>
            <a:ext cx="2847960" cy="86544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AutoShape 10"/>
          <p:cNvSpPr/>
          <p:nvPr/>
        </p:nvSpPr>
        <p:spPr>
          <a:xfrm>
            <a:off x="1598760" y="5083200"/>
            <a:ext cx="2847960" cy="86508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AutoShape 11"/>
          <p:cNvSpPr/>
          <p:nvPr/>
        </p:nvSpPr>
        <p:spPr>
          <a:xfrm>
            <a:off x="4943520" y="5083200"/>
            <a:ext cx="2847960" cy="86508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TextBox 15"/>
          <p:cNvSpPr/>
          <p:nvPr/>
        </p:nvSpPr>
        <p:spPr>
          <a:xfrm>
            <a:off x="2626560" y="22208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TextBox 16"/>
          <p:cNvSpPr/>
          <p:nvPr/>
        </p:nvSpPr>
        <p:spPr>
          <a:xfrm>
            <a:off x="5971680" y="22208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TextBox 17"/>
          <p:cNvSpPr/>
          <p:nvPr/>
        </p:nvSpPr>
        <p:spPr>
          <a:xfrm>
            <a:off x="5949360" y="53150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TextBox 18"/>
          <p:cNvSpPr/>
          <p:nvPr/>
        </p:nvSpPr>
        <p:spPr>
          <a:xfrm>
            <a:off x="2626560" y="53150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TextBox 19"/>
          <p:cNvSpPr/>
          <p:nvPr/>
        </p:nvSpPr>
        <p:spPr>
          <a:xfrm>
            <a:off x="4338720" y="37418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AutoShape 3"/>
          <p:cNvSpPr/>
          <p:nvPr/>
        </p:nvSpPr>
        <p:spPr>
          <a:xfrm>
            <a:off x="1401840" y="2060640"/>
            <a:ext cx="3763800" cy="3984480"/>
          </a:xfrm>
          <a:prstGeom prst="rtTriangl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AutoShape 4"/>
          <p:cNvSpPr/>
          <p:nvPr/>
        </p:nvSpPr>
        <p:spPr>
          <a:xfrm>
            <a:off x="2684520" y="2119320"/>
            <a:ext cx="2954160" cy="56844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AutoShape 5"/>
          <p:cNvSpPr/>
          <p:nvPr/>
        </p:nvSpPr>
        <p:spPr>
          <a:xfrm>
            <a:off x="1901880" y="2225520"/>
            <a:ext cx="716040" cy="376560"/>
          </a:xfrm>
          <a:prstGeom prst="rightArrow">
            <a:avLst>
              <a:gd name="adj1" fmla="val 50000"/>
              <a:gd name="adj2" fmla="val 6415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AutoShape 6"/>
          <p:cNvSpPr/>
          <p:nvPr/>
        </p:nvSpPr>
        <p:spPr>
          <a:xfrm>
            <a:off x="3422520" y="2890800"/>
            <a:ext cx="2954520" cy="56988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AutoShape 7"/>
          <p:cNvSpPr/>
          <p:nvPr/>
        </p:nvSpPr>
        <p:spPr>
          <a:xfrm>
            <a:off x="4124160" y="3608280"/>
            <a:ext cx="2955960" cy="56988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AutoShape 8"/>
          <p:cNvSpPr/>
          <p:nvPr/>
        </p:nvSpPr>
        <p:spPr>
          <a:xfrm>
            <a:off x="4815000" y="4349880"/>
            <a:ext cx="2954160" cy="56988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AutoShape 9"/>
          <p:cNvSpPr/>
          <p:nvPr/>
        </p:nvSpPr>
        <p:spPr>
          <a:xfrm>
            <a:off x="5505480" y="5089680"/>
            <a:ext cx="2954160" cy="56808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AutoShape 10"/>
          <p:cNvSpPr/>
          <p:nvPr/>
        </p:nvSpPr>
        <p:spPr>
          <a:xfrm>
            <a:off x="2612880" y="2987640"/>
            <a:ext cx="723960" cy="380880"/>
          </a:xfrm>
          <a:prstGeom prst="rightArrow">
            <a:avLst>
              <a:gd name="adj1" fmla="val 50000"/>
              <a:gd name="adj2" fmla="val 6452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AutoShape 11"/>
          <p:cNvSpPr/>
          <p:nvPr/>
        </p:nvSpPr>
        <p:spPr>
          <a:xfrm>
            <a:off x="3314880" y="3703680"/>
            <a:ext cx="723600" cy="382680"/>
          </a:xfrm>
          <a:prstGeom prst="rightArrow">
            <a:avLst>
              <a:gd name="adj1" fmla="val 50000"/>
              <a:gd name="adj2" fmla="val 6415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AutoShape 12"/>
          <p:cNvSpPr/>
          <p:nvPr/>
        </p:nvSpPr>
        <p:spPr>
          <a:xfrm>
            <a:off x="4002120" y="4444920"/>
            <a:ext cx="725400" cy="379440"/>
          </a:xfrm>
          <a:prstGeom prst="rightArrow">
            <a:avLst>
              <a:gd name="adj1" fmla="val 50000"/>
              <a:gd name="adj2" fmla="val 64398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AutoShape 13"/>
          <p:cNvSpPr/>
          <p:nvPr/>
        </p:nvSpPr>
        <p:spPr>
          <a:xfrm>
            <a:off x="4702320" y="5184720"/>
            <a:ext cx="712800" cy="376200"/>
          </a:xfrm>
          <a:prstGeom prst="rightArrow">
            <a:avLst>
              <a:gd name="adj1" fmla="val 50000"/>
              <a:gd name="adj2" fmla="val 64184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TextBox 7"/>
          <p:cNvSpPr/>
          <p:nvPr/>
        </p:nvSpPr>
        <p:spPr>
          <a:xfrm>
            <a:off x="3522600" y="22194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TextBox 16"/>
          <p:cNvSpPr/>
          <p:nvPr/>
        </p:nvSpPr>
        <p:spPr>
          <a:xfrm>
            <a:off x="4963320" y="37180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TextBox 17"/>
          <p:cNvSpPr/>
          <p:nvPr/>
        </p:nvSpPr>
        <p:spPr>
          <a:xfrm>
            <a:off x="6440400" y="51912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TextBox 18"/>
          <p:cNvSpPr/>
          <p:nvPr/>
        </p:nvSpPr>
        <p:spPr>
          <a:xfrm>
            <a:off x="4378320" y="29718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TextBox 19"/>
          <p:cNvSpPr/>
          <p:nvPr/>
        </p:nvSpPr>
        <p:spPr>
          <a:xfrm>
            <a:off x="5653080" y="44467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TextBox 20"/>
          <p:cNvSpPr/>
          <p:nvPr/>
        </p:nvSpPr>
        <p:spPr>
          <a:xfrm>
            <a:off x="1973880" y="46404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TextBox 21"/>
          <p:cNvSpPr/>
          <p:nvPr/>
        </p:nvSpPr>
        <p:spPr>
          <a:xfrm>
            <a:off x="835920" y="2667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ebf27"/>
                </a:solidFill>
                <a:latin typeface="微软雅黑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矩形 4"/>
          <p:cNvSpPr/>
          <p:nvPr/>
        </p:nvSpPr>
        <p:spPr>
          <a:xfrm>
            <a:off x="0" y="1989000"/>
            <a:ext cx="9144000" cy="1800360"/>
          </a:xfrm>
          <a:prstGeom prst="rect">
            <a:avLst/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任意多边形 5"/>
          <p:cNvSpPr/>
          <p:nvPr/>
        </p:nvSpPr>
        <p:spPr>
          <a:xfrm>
            <a:off x="-17640" y="4076640"/>
            <a:ext cx="9152280" cy="2062080"/>
          </a:xfrm>
          <a:custGeom>
            <a:avLst/>
            <a:gdLst/>
            <a:ahLst/>
            <a:rect l="l" t="t" r="r" b="b"/>
            <a:pathLst>
              <a:path w="9153330" h="2062065">
                <a:moveTo>
                  <a:pt x="0" y="0"/>
                </a:moveTo>
                <a:cubicBezTo>
                  <a:pt x="685022" y="307910"/>
                  <a:pt x="1370045" y="615820"/>
                  <a:pt x="2136710" y="727787"/>
                </a:cubicBezTo>
                <a:cubicBezTo>
                  <a:pt x="2903375" y="839754"/>
                  <a:pt x="3833327" y="524069"/>
                  <a:pt x="4599992" y="671804"/>
                </a:cubicBezTo>
                <a:cubicBezTo>
                  <a:pt x="5366657" y="819539"/>
                  <a:pt x="5977812" y="1382486"/>
                  <a:pt x="6736702" y="1614196"/>
                </a:cubicBezTo>
                <a:cubicBezTo>
                  <a:pt x="7495592" y="1845906"/>
                  <a:pt x="8324461" y="1953985"/>
                  <a:pt x="9153330" y="2062065"/>
                </a:cubicBezTo>
              </a:path>
            </a:pathLst>
          </a:custGeom>
          <a:noFill/>
          <a:ln w="12600">
            <a:solidFill>
              <a:srgbClr val="9ebf2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任意多边形 6"/>
          <p:cNvSpPr/>
          <p:nvPr/>
        </p:nvSpPr>
        <p:spPr>
          <a:xfrm>
            <a:off x="-27000" y="4505400"/>
            <a:ext cx="8863200" cy="2343240"/>
          </a:xfrm>
          <a:custGeom>
            <a:avLst/>
            <a:gdLst/>
            <a:ahLst/>
            <a:rect l="l" t="t" r="r" b="b"/>
            <a:pathLst>
              <a:path w="8864082" h="2343480">
                <a:moveTo>
                  <a:pt x="0" y="1497"/>
                </a:moveTo>
                <a:cubicBezTo>
                  <a:pt x="438539" y="484356"/>
                  <a:pt x="877078" y="967215"/>
                  <a:pt x="1688841" y="971880"/>
                </a:cubicBezTo>
                <a:cubicBezTo>
                  <a:pt x="2500604" y="976545"/>
                  <a:pt x="3674707" y="-199111"/>
                  <a:pt x="4870580" y="29489"/>
                </a:cubicBezTo>
                <a:cubicBezTo>
                  <a:pt x="6066453" y="258089"/>
                  <a:pt x="7465267" y="1300784"/>
                  <a:pt x="8864082" y="2343480"/>
                </a:cubicBezTo>
              </a:path>
            </a:pathLst>
          </a:custGeom>
          <a:noFill/>
          <a:ln w="12600">
            <a:solidFill>
              <a:srgbClr val="9ebf2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TextBox 7"/>
          <p:cNvSpPr/>
          <p:nvPr/>
        </p:nvSpPr>
        <p:spPr>
          <a:xfrm>
            <a:off x="3764160" y="242712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欣赏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TextBox 9"/>
          <p:cNvSpPr/>
          <p:nvPr/>
        </p:nvSpPr>
        <p:spPr>
          <a:xfrm>
            <a:off x="6180840" y="4152960"/>
            <a:ext cx="146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ebf27"/>
                </a:solidFill>
                <a:latin typeface="微软雅黑"/>
                <a:ea typeface="微软雅黑"/>
              </a:rPr>
              <a:t>第一</a:t>
            </a:r>
            <a:r>
              <a:rPr b="0" lang="en-US" sz="2000" spc="-1" strike="noStrike">
                <a:solidFill>
                  <a:srgbClr val="9ebf27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9ebf27"/>
                </a:solidFill>
                <a:latin typeface="微软雅黑"/>
                <a:ea typeface="微软雅黑"/>
              </a:rPr>
              <a:t>模板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TextBox 10"/>
          <p:cNvSpPr/>
          <p:nvPr/>
        </p:nvSpPr>
        <p:spPr>
          <a:xfrm>
            <a:off x="5961240" y="4468680"/>
            <a:ext cx="198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ebf27"/>
                </a:solidFill>
                <a:latin typeface="微软雅黑"/>
                <a:ea typeface="微软雅黑"/>
              </a:rPr>
              <a:t>www.1ppt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30T09:16:50Z</dcterms:created>
  <dc:creator>PPT STORE</dc:creator>
  <dc:description> ☆ 感谢您使用PPT STORE网站平台上发布的免费原创作品，作品仅供个人或公司使用，为了您和PPT STORE以及原创作者的利益，请勿复制、传播、销售，否则将承担法律责任！
  ☆ 其他网站或个人若进行转载发布PPT STORE平台的免费原创作品，请保留此文件和注释的完整性，并注明来源于 PPT STORE 官方网站：http://www.pptstore.net和PPT STORE 官方微博：http://weibo.com/pptstore
     未按照要求转发或发布，PPT STORE平台将和原创作者共同维权，索取赔偿！
  ☆ 感谢您支持原创设计事业，支持设计版权产品 ！
  ☆ 本模板由PPT STORE官方网站 原创设计
  ☆ PPT STORE 官方网站：http://www.pptstore.net
  ☆ PPT STORE 官方微博：http://weibo.com/pptstore</dc:description>
  <cp:keywords>嫩绿 轻快 简洁 商务 PPT模板</cp:keywords>
  <dc:language>en-US</dc:language>
  <cp:lastModifiedBy>a</cp:lastModifiedBy>
  <cp:lastPrinted>1899-12-30T00:00:00Z</cp:lastPrinted>
  <dcterms:modified xsi:type="dcterms:W3CDTF">2015-07-25T01:49:50Z</dcterms:modified>
  <cp:revision>9</cp:revision>
  <dc:subject>商务PPT模板</dc:subject>
  <dc:title>嫩绿轻快简洁商务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