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438-8745-489F-85BE-4EDAD8A9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CF1-1E3E-4979-9670-EC9BBBD5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0AA-0365-4C5E-A33F-CBE98696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95E-1DD4-4BFB-85FE-1E1707FA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5371-9D39-45F6-8B8C-1DCB65F6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D255-F2AA-4C02-BDA4-9F965A52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569B-5EA5-4082-8026-D4C51D25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8833-5232-4650-9A76-338FE66E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F07F-B4BB-4757-8D5D-3D6BC143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C2EF-8D53-470B-BE4F-491037ED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386C-83F1-4A47-91E9-A65A8A7F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2AA-67CA-4BC8-97C3-4D92D3C9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A9CB-81AA-441A-BE4C-9BAFB98F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7CBB-7B42-47EE-8740-E4D6468E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7C06-3D16-47A5-AF64-8ABB3148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BD3F-2736-48DC-B6CA-7E59A4A8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20B2-0543-4BFD-82A7-06AD9E19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2DA-7C39-427B-943D-4327F747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4CF-CEFE-43C3-AFA1-383BCE55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015-3A2F-4CD4-97B4-6B4800B3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8C4-4D15-4595-8B50-C22635B9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E96-8FFE-4135-AA36-4DDC6DD9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597-0E29-4D10-9E0F-C59A2475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144-DA05-4A48-A430-35CE7FEB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3EB4-F5BC-40CC-9E36-79CF4CFA1F9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C9D8-3014-4428-A9A7-794A04F6CB0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480400" y="770040"/>
            <a:ext cx="433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nklepants"/>
                <a:ea typeface="宋体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Anklepants"/>
                <a:ea typeface="宋体"/>
              </a:rPr>
              <a:t>OWER</a:t>
            </a:r>
            <a:r>
              <a:rPr b="1" lang="en-US" sz="4800" spc="-1" strike="noStrike">
                <a:solidFill>
                  <a:srgbClr val="ff0000"/>
                </a:solidFill>
                <a:latin typeface="Anklepants"/>
                <a:ea typeface="宋体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Anklepants"/>
                <a:ea typeface="宋体"/>
              </a:rPr>
              <a:t>OIN</a:t>
            </a:r>
            <a:r>
              <a:rPr b="1" lang="en-US" sz="4800" spc="-1" strike="noStrike">
                <a:solidFill>
                  <a:srgbClr val="ff0000"/>
                </a:solidFill>
                <a:latin typeface="Anklepants"/>
                <a:ea typeface="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121480" y="13446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人物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41200" y="5305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9"/>
          <p:cNvGrpSpPr/>
          <p:nvPr/>
        </p:nvGrpSpPr>
        <p:grpSpPr>
          <a:xfrm>
            <a:off x="1827000" y="2787840"/>
            <a:ext cx="638640" cy="603000"/>
            <a:chOff x="1827000" y="2787840"/>
            <a:chExt cx="638640" cy="603000"/>
          </a:xfrm>
        </p:grpSpPr>
        <p:sp>
          <p:nvSpPr>
            <p:cNvPr id="93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ff9900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1"/>
            <p:cNvGrpSpPr/>
            <p:nvPr/>
          </p:nvGrpSpPr>
          <p:grpSpPr>
            <a:xfrm>
              <a:off x="1827000" y="3083760"/>
              <a:ext cx="475920" cy="307080"/>
              <a:chOff x="1827000" y="3083760"/>
              <a:chExt cx="475920" cy="307080"/>
            </a:xfrm>
          </p:grpSpPr>
          <p:grpSp>
            <p:nvGrpSpPr>
              <p:cNvPr id="95" name="Group 12"/>
              <p:cNvGrpSpPr/>
              <p:nvPr/>
            </p:nvGrpSpPr>
            <p:grpSpPr>
              <a:xfrm>
                <a:off x="1827000" y="3083760"/>
                <a:ext cx="475920" cy="307080"/>
                <a:chOff x="1827000" y="3083760"/>
                <a:chExt cx="475920" cy="307080"/>
              </a:xfrm>
            </p:grpSpPr>
            <p:grpSp>
              <p:nvGrpSpPr>
                <p:cNvPr id="96" name="Group 13"/>
                <p:cNvGrpSpPr/>
                <p:nvPr/>
              </p:nvGrpSpPr>
              <p:grpSpPr>
                <a:xfrm>
                  <a:off x="1881360" y="3171240"/>
                  <a:ext cx="421560" cy="210600"/>
                  <a:chOff x="1881360" y="3171240"/>
                  <a:chExt cx="421560" cy="210600"/>
                </a:xfrm>
              </p:grpSpPr>
              <p:sp>
                <p:nvSpPr>
                  <p:cNvPr id="97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AutoShape 12"/>
                  <p:cNvSpPr/>
                  <p:nvPr/>
                </p:nvSpPr>
                <p:spPr>
                  <a:xfrm flipH="1" flipV="1" rot="7017600">
                    <a:off x="1995840" y="312264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8"/>
                <p:cNvGrpSpPr/>
                <p:nvPr/>
              </p:nvGrpSpPr>
              <p:grpSpPr>
                <a:xfrm>
                  <a:off x="1827000" y="3083760"/>
                  <a:ext cx="383400" cy="307080"/>
                  <a:chOff x="1827000" y="3083760"/>
                  <a:chExt cx="383400" cy="307080"/>
                </a:xfrm>
              </p:grpSpPr>
              <p:sp>
                <p:nvSpPr>
                  <p:cNvPr id="102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AutoShape 17"/>
                  <p:cNvSpPr/>
                  <p:nvPr/>
                </p:nvSpPr>
                <p:spPr>
                  <a:xfrm flipH="1" flipV="1" rot="8370600">
                    <a:off x="1916280" y="30729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Group 23"/>
              <p:cNvGrpSpPr/>
              <p:nvPr/>
            </p:nvGrpSpPr>
            <p:grpSpPr>
              <a:xfrm>
                <a:off x="1868400" y="3115800"/>
                <a:ext cx="389880" cy="251280"/>
                <a:chOff x="1868400" y="3115800"/>
                <a:chExt cx="389880" cy="251280"/>
              </a:xfrm>
            </p:grpSpPr>
            <p:grpSp>
              <p:nvGrpSpPr>
                <p:cNvPr id="107" name="Group 24"/>
                <p:cNvGrpSpPr/>
                <p:nvPr/>
              </p:nvGrpSpPr>
              <p:grpSpPr>
                <a:xfrm>
                  <a:off x="1913040" y="3186720"/>
                  <a:ext cx="345240" cy="172440"/>
                  <a:chOff x="1913040" y="3186720"/>
                  <a:chExt cx="345240" cy="172440"/>
                </a:xfrm>
              </p:grpSpPr>
              <p:sp>
                <p:nvSpPr>
                  <p:cNvPr id="108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AutoShape 23"/>
                  <p:cNvSpPr/>
                  <p:nvPr/>
                </p:nvSpPr>
                <p:spPr>
                  <a:xfrm flipH="1" flipV="1" rot="7017600">
                    <a:off x="200700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29"/>
                <p:cNvGrpSpPr/>
                <p:nvPr/>
              </p:nvGrpSpPr>
              <p:grpSpPr>
                <a:xfrm>
                  <a:off x="1868400" y="3115800"/>
                  <a:ext cx="314640" cy="251280"/>
                  <a:chOff x="1868400" y="3115800"/>
                  <a:chExt cx="314640" cy="251280"/>
                </a:xfrm>
              </p:grpSpPr>
              <p:sp>
                <p:nvSpPr>
                  <p:cNvPr id="113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AutoShape 28"/>
                  <p:cNvSpPr/>
                  <p:nvPr/>
                </p:nvSpPr>
                <p:spPr>
                  <a:xfrm flipH="1" flipV="1" rot="8370600">
                    <a:off x="194184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7" name="Group 34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18" name="Group 35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19" name="Group 36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20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AutoShape 34"/>
                  <p:cNvSpPr/>
                  <p:nvPr/>
                </p:nvSpPr>
                <p:spPr>
                  <a:xfrm flipH="1" flipV="1" rot="18003000">
                    <a:off x="2219400" y="27514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AutoShape 35"/>
                  <p:cNvSpPr/>
                  <p:nvPr/>
                </p:nvSpPr>
                <p:spPr>
                  <a:xfrm flipH="1" flipV="1" rot="18535200">
                    <a:off x="2249640" y="277020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41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25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" name="Group 46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30" name="Group 47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31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52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36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0" name="Group 57"/>
          <p:cNvGrpSpPr/>
          <p:nvPr/>
        </p:nvGrpSpPr>
        <p:grpSpPr>
          <a:xfrm>
            <a:off x="1830600" y="1976400"/>
            <a:ext cx="612720" cy="599040"/>
            <a:chOff x="1830600" y="1976400"/>
            <a:chExt cx="612720" cy="599040"/>
          </a:xfrm>
        </p:grpSpPr>
        <p:sp>
          <p:nvSpPr>
            <p:cNvPr id="141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996600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59"/>
            <p:cNvGrpSpPr/>
            <p:nvPr/>
          </p:nvGrpSpPr>
          <p:grpSpPr>
            <a:xfrm>
              <a:off x="1830600" y="2273040"/>
              <a:ext cx="468720" cy="302400"/>
              <a:chOff x="1830600" y="2273040"/>
              <a:chExt cx="468720" cy="302400"/>
            </a:xfrm>
          </p:grpSpPr>
          <p:grpSp>
            <p:nvGrpSpPr>
              <p:cNvPr id="143" name="Group 60"/>
              <p:cNvGrpSpPr/>
              <p:nvPr/>
            </p:nvGrpSpPr>
            <p:grpSpPr>
              <a:xfrm>
                <a:off x="1830600" y="2273040"/>
                <a:ext cx="468720" cy="302400"/>
                <a:chOff x="1830600" y="2273040"/>
                <a:chExt cx="468720" cy="302400"/>
              </a:xfrm>
            </p:grpSpPr>
            <p:grpSp>
              <p:nvGrpSpPr>
                <p:cNvPr id="144" name="Group 61"/>
                <p:cNvGrpSpPr/>
                <p:nvPr/>
              </p:nvGrpSpPr>
              <p:grpSpPr>
                <a:xfrm>
                  <a:off x="1884240" y="2359080"/>
                  <a:ext cx="415080" cy="207000"/>
                  <a:chOff x="1884240" y="2359080"/>
                  <a:chExt cx="415080" cy="207000"/>
                </a:xfrm>
              </p:grpSpPr>
              <p:sp>
                <p:nvSpPr>
                  <p:cNvPr id="145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60"/>
                  <p:cNvSpPr/>
                  <p:nvPr/>
                </p:nvSpPr>
                <p:spPr>
                  <a:xfrm flipH="1" flipV="1" rot="7017600">
                    <a:off x="199656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66"/>
                <p:cNvGrpSpPr/>
                <p:nvPr/>
              </p:nvGrpSpPr>
              <p:grpSpPr>
                <a:xfrm>
                  <a:off x="1830600" y="2273040"/>
                  <a:ext cx="377280" cy="302400"/>
                  <a:chOff x="1830600" y="2273040"/>
                  <a:chExt cx="377280" cy="302400"/>
                </a:xfrm>
              </p:grpSpPr>
              <p:sp>
                <p:nvSpPr>
                  <p:cNvPr id="150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65"/>
                  <p:cNvSpPr/>
                  <p:nvPr/>
                </p:nvSpPr>
                <p:spPr>
                  <a:xfrm flipH="1" flipV="1" rot="8370600">
                    <a:off x="1919160" y="226188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" name="Group 71"/>
              <p:cNvGrpSpPr/>
              <p:nvPr/>
            </p:nvGrpSpPr>
            <p:grpSpPr>
              <a:xfrm>
                <a:off x="1872000" y="2304360"/>
                <a:ext cx="383760" cy="247680"/>
                <a:chOff x="1872000" y="2304360"/>
                <a:chExt cx="383760" cy="247680"/>
              </a:xfrm>
            </p:grpSpPr>
            <p:grpSp>
              <p:nvGrpSpPr>
                <p:cNvPr id="155" name="Group 72"/>
                <p:cNvGrpSpPr/>
                <p:nvPr/>
              </p:nvGrpSpPr>
              <p:grpSpPr>
                <a:xfrm>
                  <a:off x="1915560" y="2374920"/>
                  <a:ext cx="340200" cy="169560"/>
                  <a:chOff x="1915560" y="2374920"/>
                  <a:chExt cx="340200" cy="169560"/>
                </a:xfrm>
              </p:grpSpPr>
              <p:sp>
                <p:nvSpPr>
                  <p:cNvPr id="156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AutoShape 71"/>
                  <p:cNvSpPr/>
                  <p:nvPr/>
                </p:nvSpPr>
                <p:spPr>
                  <a:xfrm flipH="1" flipV="1" rot="7017600">
                    <a:off x="2008440" y="2335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77"/>
                <p:cNvGrpSpPr/>
                <p:nvPr/>
              </p:nvGrpSpPr>
              <p:grpSpPr>
                <a:xfrm>
                  <a:off x="1872000" y="2304360"/>
                  <a:ext cx="308880" cy="247680"/>
                  <a:chOff x="1872000" y="2304360"/>
                  <a:chExt cx="308880" cy="247680"/>
                </a:xfrm>
              </p:grpSpPr>
              <p:sp>
                <p:nvSpPr>
                  <p:cNvPr id="161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76"/>
                  <p:cNvSpPr/>
                  <p:nvPr/>
                </p:nvSpPr>
                <p:spPr>
                  <a:xfrm flipH="1" flipV="1" rot="8370600">
                    <a:off x="194436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5" name="Group 82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167" name="Group 84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168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89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173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94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178" name="Group 95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179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00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184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8" name="Group 105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189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996633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07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191" name="Group 108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192" name="Group 109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193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114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198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" name="Group 119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03" name="Group 120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04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125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09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3" name="Group 130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214" name="Group 131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215" name="Group 132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216" name="Group 133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217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AutoShape 131"/>
                    <p:cNvSpPr/>
                    <p:nvPr/>
                  </p:nvSpPr>
                  <p:spPr>
                    <a:xfrm flipH="1" flipV="1" rot="18283800">
                      <a:off x="220392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AutoShape 132"/>
                    <p:cNvSpPr/>
                    <p:nvPr/>
                  </p:nvSpPr>
                  <p:spPr>
                    <a:xfrm flipH="1" flipV="1" rot="18816000">
                      <a:off x="2231640" y="3511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Group 138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222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AutoShape 136"/>
                    <p:cNvSpPr/>
                    <p:nvPr/>
                  </p:nvSpPr>
                  <p:spPr>
                    <a:xfrm flipH="1" flipV="1" rot="19636800">
                      <a:off x="2275560" y="3550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AutoShape 137"/>
                    <p:cNvSpPr/>
                    <p:nvPr/>
                  </p:nvSpPr>
                  <p:spPr>
                    <a:xfrm flipH="1" flipV="1" rot="20169000">
                      <a:off x="2293560" y="35809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6" name="Group 143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227" name="Group 144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228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AutoShape 142"/>
                    <p:cNvSpPr/>
                    <p:nvPr/>
                  </p:nvSpPr>
                  <p:spPr>
                    <a:xfrm flipH="1" flipV="1" rot="18283800">
                      <a:off x="2210040" y="35244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AutoShape 143"/>
                    <p:cNvSpPr/>
                    <p:nvPr/>
                  </p:nvSpPr>
                  <p:spPr>
                    <a:xfrm flipH="1" flipV="1" rot="18816000">
                      <a:off x="2234880" y="35413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Group 149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233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AutoShape 148"/>
                    <p:cNvSpPr/>
                    <p:nvPr/>
                  </p:nvSpPr>
                  <p:spPr>
                    <a:xfrm flipH="1" flipV="1" rot="20169000">
                      <a:off x="2284560" y="359640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7" name="Group 154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238" name="Group 155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239" name="Group 156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240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AutoShape 154"/>
                    <p:cNvSpPr/>
                    <p:nvPr/>
                  </p:nvSpPr>
                  <p:spPr>
                    <a:xfrm flipH="1" flipV="1" rot="18283800">
                      <a:off x="222048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AutoShape 155"/>
                    <p:cNvSpPr/>
                    <p:nvPr/>
                  </p:nvSpPr>
                  <p:spPr>
                    <a:xfrm flipH="1" flipV="1" rot="18816000">
                      <a:off x="2248200" y="3522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Group 161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45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AutoShape 159"/>
                    <p:cNvSpPr/>
                    <p:nvPr/>
                  </p:nvSpPr>
                  <p:spPr>
                    <a:xfrm flipH="1" flipV="1" rot="19636800">
                      <a:off x="2291760" y="35618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AutoShape 160"/>
                    <p:cNvSpPr/>
                    <p:nvPr/>
                  </p:nvSpPr>
                  <p:spPr>
                    <a:xfrm flipH="1" flipV="1" rot="20169000">
                      <a:off x="2310120" y="35920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9" name="Group 166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50" name="Group 167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51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AutoShape 165"/>
                    <p:cNvSpPr/>
                    <p:nvPr/>
                  </p:nvSpPr>
                  <p:spPr>
                    <a:xfrm flipH="1" flipV="1" rot="18283800">
                      <a:off x="2226600" y="35355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AutoShape 166"/>
                    <p:cNvSpPr/>
                    <p:nvPr/>
                  </p:nvSpPr>
                  <p:spPr>
                    <a:xfrm flipH="1" flipV="1" rot="18816000">
                      <a:off x="2251080" y="355248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2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56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71"/>
                    <p:cNvSpPr/>
                    <p:nvPr/>
                  </p:nvSpPr>
                  <p:spPr>
                    <a:xfrm flipH="1" flipV="1" rot="20169000">
                      <a:off x="2300760" y="36075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60" name="Group 177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261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663300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79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263" name="Group 180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264" name="Group 181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265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Group 186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270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4" name="Group 191"/>
              <p:cNvGrpSpPr/>
              <p:nvPr/>
            </p:nvGrpSpPr>
            <p:grpSpPr>
              <a:xfrm>
                <a:off x="1863360" y="1515960"/>
                <a:ext cx="399600" cy="257040"/>
                <a:chOff x="1863360" y="1515960"/>
                <a:chExt cx="399600" cy="257040"/>
              </a:xfrm>
            </p:grpSpPr>
            <p:grpSp>
              <p:nvGrpSpPr>
                <p:cNvPr id="275" name="Group 192"/>
                <p:cNvGrpSpPr/>
                <p:nvPr/>
              </p:nvGrpSpPr>
              <p:grpSpPr>
                <a:xfrm>
                  <a:off x="1909080" y="1589040"/>
                  <a:ext cx="353880" cy="176040"/>
                  <a:chOff x="1909080" y="1589040"/>
                  <a:chExt cx="353880" cy="176040"/>
                </a:xfrm>
              </p:grpSpPr>
              <p:sp>
                <p:nvSpPr>
                  <p:cNvPr id="276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91"/>
                  <p:cNvSpPr/>
                  <p:nvPr/>
                </p:nvSpPr>
                <p:spPr>
                  <a:xfrm flipH="1" flipV="1" rot="7017600">
                    <a:off x="200592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197"/>
                <p:cNvGrpSpPr/>
                <p:nvPr/>
              </p:nvGrpSpPr>
              <p:grpSpPr>
                <a:xfrm>
                  <a:off x="1863360" y="1515960"/>
                  <a:ext cx="321840" cy="257040"/>
                  <a:chOff x="1863360" y="1515960"/>
                  <a:chExt cx="321840" cy="257040"/>
                </a:xfrm>
              </p:grpSpPr>
              <p:sp>
                <p:nvSpPr>
                  <p:cNvPr id="281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utoShape 196"/>
                  <p:cNvSpPr/>
                  <p:nvPr/>
                </p:nvSpPr>
                <p:spPr>
                  <a:xfrm flipH="1" flipV="1" rot="8370600">
                    <a:off x="1938960" y="15058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5" name="Group 202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86" name="Group 203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87" name="Group 204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88" name="Group 205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89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210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94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8" name="Group 215"/>
                <p:cNvGrpSpPr/>
                <p:nvPr/>
              </p:nvGrpSpPr>
              <p:grpSpPr>
                <a:xfrm>
                  <a:off x="2051280" y="1178280"/>
                  <a:ext cx="352800" cy="313200"/>
                  <a:chOff x="2051280" y="1178280"/>
                  <a:chExt cx="352800" cy="313200"/>
                </a:xfrm>
              </p:grpSpPr>
              <p:grpSp>
                <p:nvGrpSpPr>
                  <p:cNvPr id="299" name="Group 216"/>
                  <p:cNvGrpSpPr/>
                  <p:nvPr/>
                </p:nvGrpSpPr>
                <p:grpSpPr>
                  <a:xfrm>
                    <a:off x="2051280" y="1178280"/>
                    <a:ext cx="334800" cy="236520"/>
                    <a:chOff x="2051280" y="1178280"/>
                    <a:chExt cx="334800" cy="236520"/>
                  </a:xfrm>
                </p:grpSpPr>
                <p:sp>
                  <p:nvSpPr>
                    <p:cNvPr id="300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AutoShape 214"/>
                    <p:cNvSpPr/>
                    <p:nvPr/>
                  </p:nvSpPr>
                  <p:spPr>
                    <a:xfrm flipH="1" flipV="1" rot="18283800">
                      <a:off x="2213640" y="11552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AutoShape 215"/>
                    <p:cNvSpPr/>
                    <p:nvPr/>
                  </p:nvSpPr>
                  <p:spPr>
                    <a:xfrm flipH="1" flipV="1" rot="18816000">
                      <a:off x="2237400" y="11728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221"/>
                  <p:cNvGrpSpPr/>
                  <p:nvPr/>
                </p:nvGrpSpPr>
                <p:grpSpPr>
                  <a:xfrm>
                    <a:off x="2138040" y="1179720"/>
                    <a:ext cx="266040" cy="311760"/>
                    <a:chOff x="2138040" y="1179720"/>
                    <a:chExt cx="266040" cy="311760"/>
                  </a:xfrm>
                </p:grpSpPr>
                <p:sp>
                  <p:nvSpPr>
                    <p:cNvPr id="305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AutoShape 219"/>
                    <p:cNvSpPr/>
                    <p:nvPr/>
                  </p:nvSpPr>
                  <p:spPr>
                    <a:xfrm flipH="1" flipV="1" rot="19636800">
                      <a:off x="2274120" y="1206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9" name="Group 226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10" name="Group 227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11" name="Group 228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12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233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17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1" name="Group 238"/>
                <p:cNvGrpSpPr/>
                <p:nvPr/>
              </p:nvGrpSpPr>
              <p:grpSpPr>
                <a:xfrm>
                  <a:off x="2068200" y="1189800"/>
                  <a:ext cx="352800" cy="313200"/>
                  <a:chOff x="2068200" y="1189800"/>
                  <a:chExt cx="352800" cy="313200"/>
                </a:xfrm>
              </p:grpSpPr>
              <p:grpSp>
                <p:nvGrpSpPr>
                  <p:cNvPr id="322" name="Group 239"/>
                  <p:cNvGrpSpPr/>
                  <p:nvPr/>
                </p:nvGrpSpPr>
                <p:grpSpPr>
                  <a:xfrm>
                    <a:off x="2068200" y="1189800"/>
                    <a:ext cx="335160" cy="236520"/>
                    <a:chOff x="2068200" y="1189800"/>
                    <a:chExt cx="335160" cy="236520"/>
                  </a:xfrm>
                </p:grpSpPr>
                <p:sp>
                  <p:nvSpPr>
                    <p:cNvPr id="323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AutoShape 237"/>
                    <p:cNvSpPr/>
                    <p:nvPr/>
                  </p:nvSpPr>
                  <p:spPr>
                    <a:xfrm flipH="1" flipV="1" rot="18283800">
                      <a:off x="2230560" y="1166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AutoShape 238"/>
                    <p:cNvSpPr/>
                    <p:nvPr/>
                  </p:nvSpPr>
                  <p:spPr>
                    <a:xfrm flipH="1" flipV="1" rot="18816000">
                      <a:off x="2254680" y="11844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Group 244"/>
                  <p:cNvGrpSpPr/>
                  <p:nvPr/>
                </p:nvGrpSpPr>
                <p:grpSpPr>
                  <a:xfrm>
                    <a:off x="2155320" y="1190880"/>
                    <a:ext cx="265680" cy="312120"/>
                    <a:chOff x="2155320" y="1190880"/>
                    <a:chExt cx="265680" cy="312120"/>
                  </a:xfrm>
                </p:grpSpPr>
                <p:sp>
                  <p:nvSpPr>
                    <p:cNvPr id="328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42"/>
                    <p:cNvSpPr/>
                    <p:nvPr/>
                  </p:nvSpPr>
                  <p:spPr>
                    <a:xfrm flipH="1" flipV="1" rot="19636800">
                      <a:off x="2291040" y="12175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32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52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336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a50021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254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338" name="Group 255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339" name="Group 256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340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Group 261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45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AutoShape 113"/>
                  <p:cNvSpPr/>
                  <p:nvPr/>
                </p:nvSpPr>
                <p:spPr>
                  <a:xfrm flipH="1" flipV="1" rot="8370600">
                    <a:off x="1919880" y="46202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" name="Group 266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50" name="Group 267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51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Group 272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56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0" name="Group 277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361" name="Group 278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362" name="Group 279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363" name="Group 280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64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Group 285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369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3" name="Group 290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374" name="Group 291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75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296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380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4" name="Group 301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385" name="Group 302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386" name="Group 303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87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Group 308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392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6" name="Group 313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397" name="Group 314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98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319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03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07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2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24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6633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6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27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9966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Group 18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30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21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33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a50021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5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WordArt 4"/>
          <p:cNvSpPr txBox="1"/>
          <p:nvPr/>
        </p:nvSpPr>
        <p:spPr>
          <a:xfrm>
            <a:off x="3244680" y="733320"/>
            <a:ext cx="279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微软雅黑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44" name="WordArt 5"/>
          <p:cNvSpPr txBox="1"/>
          <p:nvPr/>
        </p:nvSpPr>
        <p:spPr>
          <a:xfrm>
            <a:off x="3722760" y="144792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2:36:15Z</dcterms:created>
  <dc:creator>北京锐得幻演广告有限公司</dc:creator>
  <dc:description/>
  <cp:keywords/>
  <dc:language>en-US</dc:language>
  <cp:lastModifiedBy>a</cp:lastModifiedBy>
  <dcterms:modified xsi:type="dcterms:W3CDTF">2015-07-25T01:55:23Z</dcterms:modified>
  <cp:revision>353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</Properties>
</file>