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DB0-258E-426C-AA0F-DBE07E32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3D1-9DBA-4F01-88F5-37F8BBAF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E07-F41A-4056-916F-B46AA718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B2D-8E78-477F-8C39-5C4EE4FA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7BD-74E6-4A99-9F35-DA0423F5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122-7741-4D8F-A9E0-2581198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449A-87DE-4638-BA18-907F1316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7729-2DDA-429A-8541-A395D05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A073-C866-4E04-9B40-9A250AF8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5CCC-15A3-4C20-BD60-19ED5C9A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16D5-32C0-443A-9A19-47079F3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D84-4E26-4D7B-B275-21E38653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AB0B-2D4C-44C2-8A2C-C98BD891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4178-CB47-4AF3-80A8-E69BEA32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54FB-3B4D-4620-8B2E-E75D8ED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3612-B2AD-427E-B143-9665D49B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77F3-CA88-475A-A1ED-0763907A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BA368-D661-4E32-90F5-AF6BD11C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25870-E653-4CBF-8B2B-515523D0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957F-7917-4397-AB68-7974441A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F12D-DC88-46BD-BFCA-0B2B8FE3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728B-5EA3-44A0-BA0B-C92FB339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70D-94F6-4A17-8690-BA3FE215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56AB-90D9-4DA9-8B82-1E6CA779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8A28-A41A-42B6-BFA2-E83AD22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C4D9-14A7-4247-8AFB-7DAEBC81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E514-DCAA-4849-868D-ADF87E9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B62C-B4C6-455D-BBC0-29B7D0C8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3A27-20C4-493D-9218-36EC1878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D2A4-0E4C-4431-A5CE-18CB257F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CBF9-0B93-48ED-872F-A4D34FBA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FDDD-D2A1-45D0-B67A-62DC1565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4B4BD-012E-4CDC-BB19-A9FED977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5FD-E2CC-4748-B656-44215441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BCD5-E182-469E-A104-CF6EF16E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174E-4D0F-44E5-B16E-A7EF9E8B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113AE-6428-4CA9-8873-3AB8D41A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C99F-87D2-403D-B43F-FB9A3EAD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2CBB7-5EBC-471F-A909-E43B6207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8AF7-E5A6-4B9B-BEDD-2ABAA70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264A-39DC-4F7D-B282-88C70CF5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67DD-53F9-44F3-ACF8-B1A165B4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5749-28A0-4D44-9DD9-81FC4C7B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9570-000D-4124-A07F-B197E3B0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4FC-6469-4895-A8DF-5CACDD1D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41AB-E7E2-47A4-BC25-4359B646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F711-8BF3-4C3D-A0CE-1B836D43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5BE0D-4540-4627-96E4-EEC29DEA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664D-D724-420C-9983-D6F8FE43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38975-9B0B-4613-97CC-EC15E37A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50A05-A1C9-49F7-AC36-7254ECF9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2EA92-30E5-46E4-88F8-E6F6BEE0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3B566-B5D6-4567-B5FD-2DDF06D8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2C2F3-91E8-4F61-94CA-A0DC0BCC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D0FC-CCC0-416A-B174-239F00A9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511-34AB-4540-A71D-FF600F53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5A1E-F04C-4FCF-BF04-53E3C0EC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AC2-F663-403A-96C8-C490D88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EA7-13DD-4BCA-8358-C615F769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5E4-72B6-4354-97A7-944D94D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9A64-762B-4B31-B8B4-5E4432C1B9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5068-93EF-4D22-B4F7-884B71D1BD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61B5-3A9E-428B-84A7-23CC25861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EC86-73FC-4C2F-A2FC-9EE3EB0CB1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998-60E2-4D52-A6C1-F005908F60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4437000"/>
            <a:ext cx="7921800" cy="65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356000" y="3503160"/>
            <a:ext cx="4175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9:15:32Z</dcterms:created>
  <dc:creator>ppt宝藏</dc:creator>
  <dc:description/>
  <dc:language>en-US</dc:language>
  <cp:lastModifiedBy>a</cp:lastModifiedBy>
  <cp:lastPrinted>1899-12-30T00:00:00Z</cp:lastPrinted>
  <dcterms:modified xsi:type="dcterms:W3CDTF">2015-07-25T06:12:33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