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7ED-EAEC-4CD0-8DA2-F40CB9CE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623-79C4-4159-8CF8-DF9FEDFD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3353D-1501-4DFD-AEE3-1DBB760A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D7CD4-63A8-4D2A-979A-66613E3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DC2DF-C6B9-430B-ADE8-D3D4A729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202A7-7A17-4E9F-957A-D5C87BAF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1F2E4-A0D7-4ADA-9214-09E363F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D7BB3-D69C-4BE7-B934-CB223D6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8F3D2-0960-4E85-A46B-3B84B0A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3B48B-9EDB-481C-A720-548AAAF5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80217-7B52-4944-BB85-9ADB98C1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77370-6D20-434A-BA83-DA003B35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96A-1555-4D8D-87F4-EBD6D931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3DFD6-FEC5-436A-8E07-765863E0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58188-5F3E-4386-8085-1EDC91C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A92B0-1104-452B-B0F2-082AAEF4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87E8A-5EE1-4D59-8BCF-101D0443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39B26-F920-4CFF-B64C-C79F629A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003E8-BB85-45F8-9A3B-C3B5BF31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84F84-E9A5-4B2B-8D2C-278D890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0BE7F-C565-4A8A-816F-1EC3E95B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FF7BD-E5DC-4225-836C-355B6CC4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FFC2B-285E-4BAC-845E-37471DCD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20B-587C-4294-92C0-609833A5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B64DF-1915-4421-8AC3-C8405792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D414E-8B0E-4287-B420-CB40FEA3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F0DB3-84A6-44AB-BD43-2C24AAF7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A2EFB-8D57-4AD4-ABE7-7575A769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82E93-8129-4FB1-9185-AADD7909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1A4E0-D654-4040-906D-282CB353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E5BDF-0CC5-4637-97C9-4ED86041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D0E3C-C8A0-4CB9-8601-2533EF7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8455D-8AD0-4A9E-9F66-37962B5B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D63E9-0D56-4960-9F91-988A957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8721-9B5C-4C18-A88F-10AB690D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DBCFE-D7EF-4D10-945A-05B29265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04E92-8D16-4CCF-8257-DB7A1647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E73FA-A759-426B-BC5A-3900EFC6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749AA-1781-4D61-BB58-26274694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46BD7-1631-416A-A8FB-4E39B00B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EE381-B4B1-403D-A5A6-E254749B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B9E1A-D4F6-4ECE-B018-E7F47DA4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A5D70-4A28-40DF-994B-9F8C9B97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A7563-1DC5-42E7-A13A-8B70C1DE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80135-A4B0-4BA4-8319-8343267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C562-8E47-4692-92BA-80FEC2E0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5DC4D-8919-44CB-9104-F7BA3901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B3381-10C7-41FB-A0EE-34110DF0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0C0A8-21C0-4D74-BF27-077DD73B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768E7-E129-4FFD-ADDE-D403C9F1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42942-043B-4ED2-8F94-D8568E8C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F06-976C-44F0-9D00-D250814A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3B2-F671-449E-91EF-4662AD80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F05C-FF71-4934-A24A-B7F05E23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E050-58BE-4A83-A35A-0FAC035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02F2-DD2D-45CD-9FFC-34BB6FBD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887-0556-4EBF-8D57-8E9F8140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E748-7C05-4858-B9A7-B8C15D1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79C2-88F4-471C-ADBB-72D1DA8B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F8F7-72D2-41EE-A4BE-6ABB823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1582-2A10-4FBC-B971-CFFC0E5B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BD56-DB22-4A32-9431-A495F0CF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15446-12FF-453C-97D0-ED730DDA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2C2B-8A68-4C57-9589-99B05366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B9FF-A3E1-49B0-8436-0EC7651B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5A8F-58B1-41AF-8720-52110878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3EDC-2A33-4EF1-89BC-18428FA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36B-2381-4F41-9372-B3D4A728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36FC9-D795-46C1-8E94-F4B96EB6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364C-729E-4BD0-A193-A053D45F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B5B2-402F-4E45-A689-E40591B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FB53-E7AE-42F3-BC39-4EC1198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0116-0AA6-441D-A0AE-5445C6B9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9AB2-45E4-41D9-8B41-54ED07AC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CFE0-C077-4F4E-9C5A-26951AF1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5F846-0871-4F64-A8FE-F1C6B1BD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C5F5-04ED-4E70-91FC-02EE2D51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D1425-4755-46D6-92F6-498054C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42E-8732-4923-9DD2-0750C67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E7CA9-92D7-49A6-9832-967BB69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5944-B531-4D19-8F59-2B0B18BD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32F0D-CF87-481E-A60F-9F3F0EA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C8B76-8009-4D8C-A49B-81E2A194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2024-D571-40C6-B7BB-ADD0380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67B3-AD7E-430B-90E6-02D7715F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428D-AD20-444E-97C0-28473192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BE82-6F10-4C66-8D9B-14CE9F94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2E21D-B929-4895-9213-D656C3CF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E884-1C42-42A8-AC8F-0AA34B1A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212-E680-4C23-9A24-EE8764FC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93A4-09F8-4206-BDB2-DEB63245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B69C9-9C3C-476D-B368-2C58CB44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8F206-051D-440D-A7D7-8F356F3C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8DC47-C5FE-4DF6-8161-1031781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CADA-2C32-4001-B735-9CC6D664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75670-2A03-4C15-ADDE-32BB921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74DB6-D95F-45DA-9C37-CC759730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872D3-DD70-4003-B7DD-2748A437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48D6E-EF17-4801-96A7-FF49B078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9F68B-1BCC-453F-AEDE-D0DE1F54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014-63A3-423A-B7E2-D0BFC30A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1F6D9-09F6-4FD2-B806-978D0B36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EFE5-9A3A-4F33-BA8C-6E86A5B7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85E9-DAD7-4DE5-AB8C-C5FF22C9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FC260-3242-4493-9BCC-1DBFC5D3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5DAB2-B7FE-4B1E-B33C-21C4941B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98A0-CAE7-41C4-BF9D-8A476A7B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48AF3-B3FE-4C37-999A-00FA96DB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3D2F7-E4D6-4D7D-A943-4D6D985E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B0C4D-802B-4DBF-B162-DC00E36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0752-995E-47E5-A2C7-A1E15C23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41F-050C-4D26-AD01-A8B0062A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8B857-53FD-4EB3-8C41-95175CFB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C9204-A00C-4F37-911D-91731499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06D2-2665-4620-9511-C5510494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D5A8-944F-4173-B0A1-48E2B14A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4A058-CF1B-4030-A1AB-BA416C69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CC46C-2EFC-43BE-9FBD-0515C021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A8DB3-A542-4572-A2C5-A97AE6C8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CB9D-767D-49B8-8171-8B9A7287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128A3-B474-4DF5-9D13-55BD2AC4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AC258-4EDC-454A-97B4-00BFD32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51A-2398-4BCF-96E0-5EC888D4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0C057-5C5E-4B2B-85DC-27BF89F6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056E2-B057-4332-96D7-36F192F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1D1BB-4657-446B-BE25-D365550D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A5460-B346-4713-95B4-B3E6E16A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6FC4-F1D2-4306-BC3C-4F35DA5B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2338C-E2B9-47F0-8F77-E7910175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5AA85-9DE5-4D3E-BE3B-1BCD186D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18D9-84BA-4CF0-888F-9F91E5D9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AB84A-5625-4267-BFAF-6D4CF973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5C91D-D687-4DDD-989F-CEAF48DC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F0D-AB5F-4CEA-8264-EFF950D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5D948-00A1-48A4-BA14-1EC654C9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33AAE-3216-4116-8D45-5C7E939A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8442F-9BA2-463D-B608-7D48254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8345F-BEBD-47B9-B910-C1401B83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40AF4-95D5-4108-B6C3-D6B6F135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E9692-AF2E-464A-901E-BF9D9941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DF97D-7E0A-40D2-93BD-C67C63F7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6080E-46A9-4BC2-B7A4-469AAF76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901C3-4629-4EC0-9992-D0117B20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94702-CECA-45D2-8F98-04B8E405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491F-ED02-4279-AF8D-5723793ACF35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E801-E88C-4BAF-B311-BC1FA20FA5A5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79B3-91FB-49BB-B43C-1B6F8FC1E0E2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752B-68B1-4E18-A88C-0CD6D4EF0888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03FF-0454-4A82-8BEA-38CB6A3206C6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732B-75DE-4E0C-B9EA-CB28CF1520AB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AF8B-5692-4E3F-AFB3-F8F0ABB1DB63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5F3A-A307-4FA6-9D85-1CB10403C6A5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C8FE-3BD6-44D2-989A-CC4CDE0616B3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2403-9401-4D7F-8FA3-7B31BD799C07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9DB-6079-4CEC-994B-05C6E469761D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9B70-8BAC-4416-BEEB-0FAD612B65DF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C2D1-03F9-46D7-BF26-46D30226BD2E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5D2-8D74-4A44-BC00-937028B26D9B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4BF0-8CAA-42DF-A5B0-719470E76F40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5780-923E-4B05-8298-78F963535CC1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8980-E0A6-430A-BF6D-4300EA950A74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BF00-F1A4-4160-B98D-4F4CF5BD9DEA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878-C222-436F-BE40-4649D31F1674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A0D-2CA1-4131-9008-E48ECF64AC38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F7C-505A-470B-9268-961FFCF683BD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4924-3EEE-4F20-A861-14C0DC30DB62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95C0-B61A-4F3B-9E40-B16EA6C1526E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8457-BBE0-4CD0-8357-3187779EE343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10" descr=""/>
          <p:cNvPicPr/>
          <p:nvPr/>
        </p:nvPicPr>
        <p:blipFill>
          <a:blip r:embed="rId2"/>
          <a:stretch/>
        </p:blipFill>
        <p:spPr>
          <a:xfrm>
            <a:off x="1579680" y="1407960"/>
            <a:ext cx="6308640" cy="513000"/>
          </a:xfrm>
          <a:prstGeom prst="rect">
            <a:avLst/>
          </a:prstGeom>
          <a:ln w="0">
            <a:noFill/>
          </a:ln>
        </p:spPr>
      </p:pic>
      <p:sp>
        <p:nvSpPr>
          <p:cNvPr id="4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5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0343-0743-4CFD-B342-1680F2CFDAFC}" type="slidenum">
              <a:rPr b="0" lang="zh-CN" sz="1200" spc="-1" strike="noStrike">
                <a:solidFill>
                  <a:srgbClr val="3957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7:50:00Z</dcterms:created>
  <dc:creator>ppt宝藏</dc:creator>
  <dc:description/>
  <dc:language>en-US</dc:language>
  <cp:lastModifiedBy>a</cp:lastModifiedBy>
  <cp:lastPrinted>1899-12-30T00:00:00Z</cp:lastPrinted>
  <dcterms:modified xsi:type="dcterms:W3CDTF">2015-07-25T03:15:02Z</dcterms:modified>
  <cp:revision>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_TemplateID">
    <vt:lpwstr>TC010362663</vt:lpwstr>
  </property>
</Properties>
</file>