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0C9-8443-4996-B372-511F0319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67A-1684-42EF-8A47-909FDAC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483-382C-4C2C-9EDF-5E7E624C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ACF-C48B-4EAB-8BD9-EA8A90B7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2EAA-6C60-40FC-A6F8-8D7954BB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D7F-ADA9-4015-901D-88BBD56B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84AD-B1FE-4110-9B4A-EFDCBE0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2778-F6C1-40E5-BD50-C1C0C80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5D31-F2A7-495D-A187-82D4EB96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833B-AC15-45B5-AA88-A124B649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32E5-9B22-4D96-AC20-FF03E21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060-A9B3-4B1D-9F11-832D9855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A1F-5170-481C-A2F0-77864C5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5F70-CD72-49D9-8489-7BA6F2D7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0387-625A-4980-B2A0-5FEC067F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332-1525-4DC9-A19B-893CDBE6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6760-E28B-4F04-9107-BF81FFD2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863-D13B-4CBD-9339-EE1761C0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CC8-2322-4E48-90D9-EC5FA74E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D51-67A3-4DA7-AC25-24977B90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214-B06A-43B8-9C97-F153201C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E84-B4E5-4C09-805F-0D62073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322-E0AA-471D-83D8-D14AB9F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BD8-8F9B-4539-BAC5-E361D4D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D3FA-BDC4-4CB7-A95C-B94D73D14AB7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FEEF-E732-4A60-AB47-62D10026C899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团队合作之象棋背景商务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920" y="5641920"/>
            <a:ext cx="69645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9:54:48Z</dcterms:created>
  <dc:creator>ppt宝藏</dc:creator>
  <dc:description/>
  <dc:language>en-US</dc:language>
  <cp:lastModifiedBy>a</cp:lastModifiedBy>
  <dcterms:modified xsi:type="dcterms:W3CDTF">2015-07-25T06:48:2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12052</vt:lpwstr>
  </property>
</Properties>
</file>