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hdphoto1.wdp" ContentType="image/vnd.ms-photo"/>
  <Override PartName="/ppt/media/image16.png" ContentType="image/png"/>
  <Override PartName="/ppt/media/image18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8C92DE4-143A-4405-8CD3-2403BB0A4806}" type="doc">
      <dgm:prSet loTypeId="urn:microsoft.com/office/officeart/2005/8/layout/cycle2" loCatId="cycle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6DDE519-B311-4B22-A716-A4B86C74F959}">
      <dgm:prSet phldrT="[文本]" custT="1"/>
      <dgm:spPr>
        <a:solidFill>
          <a:srgbClr val="70AD46"/>
        </a:solidFill>
      </dgm:spPr>
      <dgm:t>
        <a:bodyPr/>
        <a:lstStyle/>
        <a:p>
          <a:r>
            <a:rPr lang="zh-CN" altLang="en-US" sz="2000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立志完成</a:t>
          </a:r>
          <a:endParaRPr lang="zh-CN" altLang="en-US" sz="20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134DF75F-B54B-43AE-923D-E34C21E96436}" type="parTrans" cxnId="{041AB996-9BFD-4AA2-BA41-B017C94722E9}">
      <dgm:prSet/>
      <dgm:spPr/>
      <dgm:t>
        <a:bodyPr/>
        <a:lstStyle/>
        <a:p>
          <a:endParaRPr lang="zh-CN" altLang="en-US"/>
        </a:p>
      </dgm:t>
    </dgm:pt>
    <dgm:pt modelId="{D485BFC1-6F80-4F1C-A5C4-83F93122F153}" type="sibTrans" cxnId="{041AB996-9BFD-4AA2-BA41-B017C94722E9}">
      <dgm:prSet custT="1"/>
      <dgm:spPr>
        <a:solidFill>
          <a:srgbClr val="70AD46"/>
        </a:solidFill>
      </dgm:spPr>
      <dgm:t>
        <a:bodyPr/>
        <a:lstStyle/>
        <a:p>
          <a:endParaRPr lang="zh-CN" altLang="en-US" sz="120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172A5534-56F3-41A2-8499-0BADE0C5E3B6}">
      <dgm:prSet phldrT="[文本]" custT="1"/>
      <dgm:spPr>
        <a:solidFill>
          <a:srgbClr val="70AD46"/>
        </a:solidFill>
      </dgm:spPr>
      <dgm:t>
        <a:bodyPr/>
        <a:lstStyle/>
        <a:p>
          <a:r>
            <a:rPr lang="zh-CN" altLang="en-US" sz="2000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逃避行为</a:t>
          </a:r>
          <a:endParaRPr lang="zh-CN" altLang="en-US" sz="20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1B84536B-AC47-42F3-A5CC-5D0D7656E8A2}" type="parTrans" cxnId="{C1B7C882-138B-4700-AF12-2F607A6A2F18}">
      <dgm:prSet/>
      <dgm:spPr/>
      <dgm:t>
        <a:bodyPr/>
        <a:lstStyle/>
        <a:p>
          <a:endParaRPr lang="zh-CN" altLang="en-US"/>
        </a:p>
      </dgm:t>
    </dgm:pt>
    <dgm:pt modelId="{3A4137CC-9E40-4511-ADE2-96AFA2AFEABD}" type="sibTrans" cxnId="{C1B7C882-138B-4700-AF12-2F607A6A2F18}">
      <dgm:prSet custT="1"/>
      <dgm:spPr>
        <a:solidFill>
          <a:srgbClr val="70AD46"/>
        </a:solidFill>
      </dgm:spPr>
      <dgm:t>
        <a:bodyPr/>
        <a:lstStyle/>
        <a:p>
          <a:endParaRPr lang="zh-CN" altLang="en-US" sz="120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C5729725-155E-4131-9068-823E51F460D3}">
      <dgm:prSet phldrT="[文本]" custT="1"/>
      <dgm:spPr>
        <a:solidFill>
          <a:srgbClr val="70AD46"/>
        </a:solidFill>
      </dgm:spPr>
      <dgm:t>
        <a:bodyPr/>
        <a:lstStyle/>
        <a:p>
          <a:r>
            <a:rPr lang="zh-CN" altLang="en-US" sz="2000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自欺欺人</a:t>
          </a:r>
          <a:endParaRPr lang="zh-CN" altLang="en-US" sz="20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2DC14C2B-95CE-44F6-AB5C-D8AC834C7358}" type="parTrans" cxnId="{F4833E7B-B837-4314-A715-1D622C69439B}">
      <dgm:prSet/>
      <dgm:spPr/>
      <dgm:t>
        <a:bodyPr/>
        <a:lstStyle/>
        <a:p>
          <a:endParaRPr lang="zh-CN" altLang="en-US"/>
        </a:p>
      </dgm:t>
    </dgm:pt>
    <dgm:pt modelId="{F40222DA-5C0D-4D45-A133-4D018370D376}" type="sibTrans" cxnId="{F4833E7B-B837-4314-A715-1D622C69439B}">
      <dgm:prSet custT="1"/>
      <dgm:spPr>
        <a:solidFill>
          <a:srgbClr val="70AD46"/>
        </a:solidFill>
      </dgm:spPr>
      <dgm:t>
        <a:bodyPr/>
        <a:lstStyle/>
        <a:p>
          <a:endParaRPr lang="zh-CN" altLang="en-US" sz="120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E4512971-305B-425C-9135-549942EA08B8}">
      <dgm:prSet phldrT="[文本]" custT="1"/>
      <dgm:spPr>
        <a:solidFill>
          <a:srgbClr val="70AD46"/>
        </a:solidFill>
      </dgm:spPr>
      <dgm:t>
        <a:bodyPr/>
        <a:lstStyle/>
        <a:p>
          <a:r>
            <a:rPr lang="zh-CN" altLang="en-US" sz="2000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最终抉择</a:t>
          </a:r>
          <a:endParaRPr lang="zh-CN" altLang="en-US" sz="20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105879C9-C8F2-481B-AD6A-23011397F9B3}" type="parTrans" cxnId="{D1EF23A3-54AF-481D-997A-7027A99E8B5D}">
      <dgm:prSet/>
      <dgm:spPr/>
      <dgm:t>
        <a:bodyPr/>
        <a:lstStyle/>
        <a:p>
          <a:endParaRPr lang="zh-CN" altLang="en-US"/>
        </a:p>
      </dgm:t>
    </dgm:pt>
    <dgm:pt modelId="{A5AEA473-C261-40DA-9344-D794637337DC}" type="sibTrans" cxnId="{D1EF23A3-54AF-481D-997A-7027A99E8B5D}">
      <dgm:prSet custT="1"/>
      <dgm:spPr>
        <a:solidFill>
          <a:srgbClr val="70AD46"/>
        </a:solidFill>
      </dgm:spPr>
      <dgm:t>
        <a:bodyPr/>
        <a:lstStyle/>
        <a:p>
          <a:endParaRPr lang="zh-CN" altLang="en-US" sz="120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3927FF9C-191F-400C-ABEB-F8F19464365E}">
      <dgm:prSet phldrT="[文本]" custT="1"/>
      <dgm:spPr>
        <a:solidFill>
          <a:srgbClr val="70AD46"/>
        </a:solidFill>
      </dgm:spPr>
      <dgm:t>
        <a:bodyPr/>
        <a:lstStyle/>
        <a:p>
          <a:r>
            <a:rPr lang="zh-CN" altLang="en-US" sz="2000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满怀希冀</a:t>
          </a:r>
          <a:endParaRPr lang="zh-CN" altLang="en-US" sz="20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A4B78569-2DA1-445C-8FA8-4385BFD1C69E}" type="parTrans" cxnId="{752E82F7-9CD3-4B39-AD85-623DF73AE986}">
      <dgm:prSet/>
      <dgm:spPr/>
      <dgm:t>
        <a:bodyPr/>
        <a:lstStyle/>
        <a:p>
          <a:endParaRPr lang="zh-CN" altLang="en-US"/>
        </a:p>
      </dgm:t>
    </dgm:pt>
    <dgm:pt modelId="{FB1CAD54-98F7-41D6-883D-56161E44459F}" type="sibTrans" cxnId="{752E82F7-9CD3-4B39-AD85-623DF73AE986}">
      <dgm:prSet custT="1"/>
      <dgm:spPr>
        <a:solidFill>
          <a:srgbClr val="70AD46"/>
        </a:solidFill>
      </dgm:spPr>
      <dgm:t>
        <a:bodyPr/>
        <a:lstStyle/>
        <a:p>
          <a:endParaRPr lang="zh-CN" altLang="en-US" sz="120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8BDF3A7B-2137-4655-8920-261F77683AF9}">
      <dgm:prSet phldrT="[文本]" custT="1"/>
      <dgm:spPr>
        <a:solidFill>
          <a:srgbClr val="70AD46"/>
        </a:solidFill>
      </dgm:spPr>
      <dgm:t>
        <a:bodyPr/>
        <a:lstStyle/>
        <a:p>
          <a:r>
            <a:rPr lang="zh-CN" altLang="en-US" sz="2000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百米冲刺</a:t>
          </a:r>
          <a:endParaRPr lang="zh-CN" altLang="en-US" sz="20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1370E6D5-3250-43F3-B0A0-D4A5D694AA41}" type="parTrans" cxnId="{4C861214-BC50-4B70-9D1E-52823A86728F}">
      <dgm:prSet/>
      <dgm:spPr/>
      <dgm:t>
        <a:bodyPr/>
        <a:lstStyle/>
        <a:p>
          <a:endParaRPr lang="zh-CN" altLang="en-US"/>
        </a:p>
      </dgm:t>
    </dgm:pt>
    <dgm:pt modelId="{A9AD7FBD-7C2D-4711-AAC6-7A6A05019AAD}" type="sibTrans" cxnId="{4C861214-BC50-4B70-9D1E-52823A86728F}">
      <dgm:prSet custT="1"/>
      <dgm:spPr>
        <a:solidFill>
          <a:srgbClr val="70AD46"/>
        </a:solidFill>
      </dgm:spPr>
      <dgm:t>
        <a:bodyPr/>
        <a:lstStyle/>
        <a:p>
          <a:endParaRPr lang="zh-CN" altLang="en-US" sz="120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5F37C0EC-96A8-49CE-8A05-BD5DA6160D08}">
      <dgm:prSet phldrT="[文本]" custT="1"/>
      <dgm:spPr>
        <a:solidFill>
          <a:srgbClr val="70AD46"/>
        </a:solidFill>
      </dgm:spPr>
      <dgm:t>
        <a:bodyPr/>
        <a:lstStyle/>
        <a:p>
          <a:r>
            <a:rPr lang="zh-CN" altLang="en-US" sz="2000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错过开端</a:t>
          </a:r>
          <a:endParaRPr lang="zh-CN" altLang="en-US" sz="20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1CBBDC2B-7564-4F10-AFB3-7A947A01486E}" type="parTrans" cxnId="{53212AC9-196E-4B11-81FF-BAAC47351A00}">
      <dgm:prSet/>
      <dgm:spPr/>
      <dgm:t>
        <a:bodyPr/>
        <a:lstStyle/>
        <a:p>
          <a:endParaRPr lang="zh-CN" altLang="en-US"/>
        </a:p>
      </dgm:t>
    </dgm:pt>
    <dgm:pt modelId="{020DF826-79ED-427A-B1EB-80C7C8E2C319}" type="sibTrans" cxnId="{53212AC9-196E-4B11-81FF-BAAC47351A00}">
      <dgm:prSet custT="1"/>
      <dgm:spPr>
        <a:solidFill>
          <a:srgbClr val="70AD46"/>
        </a:solidFill>
      </dgm:spPr>
      <dgm:t>
        <a:bodyPr/>
        <a:lstStyle/>
        <a:p>
          <a:endParaRPr lang="zh-CN" altLang="en-US" sz="120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C4D69B1F-24B1-48FA-B6A3-7EF7405431F8}" type="pres">
      <dgm:prSet presAssocID="{68C92DE4-143A-4405-8CD3-2403BB0A4806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41EE46C-037B-460C-985A-77C4D2EDF3D1}" type="pres">
      <dgm:prSet presAssocID="{86DDE519-B311-4B22-A716-A4B86C74F959}" presName="node" presStyleLbl="node1" presStyleIdx="0" presStyleCnt="7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73F269C8-50E5-4465-ADFA-6CCA2617DC89}" type="pres">
      <dgm:prSet presAssocID="{D485BFC1-6F80-4F1C-A5C4-83F93122F153}" presName="sibTrans" presStyleLbl="sibTrans2D1" presStyleIdx="0" presStyleCnt="7"/>
      <dgm:spPr/>
      <dgm:t>
        <a:bodyPr/>
        <a:lstStyle/>
        <a:p>
          <a:endParaRPr lang="zh-CN" altLang="en-US"/>
        </a:p>
      </dgm:t>
    </dgm:pt>
    <dgm:pt modelId="{DD8DC501-2FFD-4BE9-8215-15791021E87E}" type="pres">
      <dgm:prSet presAssocID="{D485BFC1-6F80-4F1C-A5C4-83F93122F153}" presName="connectorText" presStyleLbl="sibTrans2D1" presStyleIdx="0" presStyleCnt="7"/>
      <dgm:spPr/>
      <dgm:t>
        <a:bodyPr/>
        <a:lstStyle/>
        <a:p>
          <a:endParaRPr lang="zh-CN" altLang="en-US"/>
        </a:p>
      </dgm:t>
    </dgm:pt>
    <dgm:pt modelId="{99DD8360-2AAC-4110-8365-1A79B760A3B9}" type="pres">
      <dgm:prSet presAssocID="{5F37C0EC-96A8-49CE-8A05-BD5DA6160D08}" presName="node" presStyleLbl="node1" presStyleIdx="1" presStyleCnt="7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D57DEB5-7398-488F-AA39-9240322BC6DB}" type="pres">
      <dgm:prSet presAssocID="{020DF826-79ED-427A-B1EB-80C7C8E2C319}" presName="sibTrans" presStyleLbl="sibTrans2D1" presStyleIdx="1" presStyleCnt="7"/>
      <dgm:spPr/>
      <dgm:t>
        <a:bodyPr/>
        <a:lstStyle/>
        <a:p>
          <a:endParaRPr lang="zh-CN" altLang="en-US"/>
        </a:p>
      </dgm:t>
    </dgm:pt>
    <dgm:pt modelId="{311329CE-F8A5-46E2-9724-31391EF33FF4}" type="pres">
      <dgm:prSet presAssocID="{020DF826-79ED-427A-B1EB-80C7C8E2C319}" presName="connectorText" presStyleLbl="sibTrans2D1" presStyleIdx="1" presStyleCnt="7"/>
      <dgm:spPr/>
      <dgm:t>
        <a:bodyPr/>
        <a:lstStyle/>
        <a:p>
          <a:endParaRPr lang="zh-CN" altLang="en-US"/>
        </a:p>
      </dgm:t>
    </dgm:pt>
    <dgm:pt modelId="{8EE75F49-C531-4295-A38C-8917E0743588}" type="pres">
      <dgm:prSet presAssocID="{172A5534-56F3-41A2-8499-0BADE0C5E3B6}" presName="node" presStyleLbl="node1" presStyleIdx="2" presStyleCnt="7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BE58515-7C55-44A9-AEF3-9BD2E574DAAF}" type="pres">
      <dgm:prSet presAssocID="{3A4137CC-9E40-4511-ADE2-96AFA2AFEABD}" presName="sibTrans" presStyleLbl="sibTrans2D1" presStyleIdx="2" presStyleCnt="7"/>
      <dgm:spPr/>
      <dgm:t>
        <a:bodyPr/>
        <a:lstStyle/>
        <a:p>
          <a:endParaRPr lang="zh-CN" altLang="en-US"/>
        </a:p>
      </dgm:t>
    </dgm:pt>
    <dgm:pt modelId="{8DAB86F2-29FF-4216-8EFF-A38E7C0E7A8D}" type="pres">
      <dgm:prSet presAssocID="{3A4137CC-9E40-4511-ADE2-96AFA2AFEABD}" presName="connectorText" presStyleLbl="sibTrans2D1" presStyleIdx="2" presStyleCnt="7"/>
      <dgm:spPr/>
      <dgm:t>
        <a:bodyPr/>
        <a:lstStyle/>
        <a:p>
          <a:endParaRPr lang="zh-CN" altLang="en-US"/>
        </a:p>
      </dgm:t>
    </dgm:pt>
    <dgm:pt modelId="{33942E62-D63D-4B3E-B707-CBA10DF20106}" type="pres">
      <dgm:prSet presAssocID="{C5729725-155E-4131-9068-823E51F460D3}" presName="node" presStyleLbl="node1" presStyleIdx="3" presStyleCnt="7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100B70E-ED04-42E9-98BA-B4ACE21FC364}" type="pres">
      <dgm:prSet presAssocID="{F40222DA-5C0D-4D45-A133-4D018370D376}" presName="sibTrans" presStyleLbl="sibTrans2D1" presStyleIdx="3" presStyleCnt="7"/>
      <dgm:spPr/>
      <dgm:t>
        <a:bodyPr/>
        <a:lstStyle/>
        <a:p>
          <a:endParaRPr lang="zh-CN" altLang="en-US"/>
        </a:p>
      </dgm:t>
    </dgm:pt>
    <dgm:pt modelId="{8E049B6A-6EC4-4416-878A-5E36C11349EC}" type="pres">
      <dgm:prSet presAssocID="{F40222DA-5C0D-4D45-A133-4D018370D376}" presName="connectorText" presStyleLbl="sibTrans2D1" presStyleIdx="3" presStyleCnt="7"/>
      <dgm:spPr/>
      <dgm:t>
        <a:bodyPr/>
        <a:lstStyle/>
        <a:p>
          <a:endParaRPr lang="zh-CN" altLang="en-US"/>
        </a:p>
      </dgm:t>
    </dgm:pt>
    <dgm:pt modelId="{1674D17B-42FD-4D76-8DBD-B2F0CFA099C6}" type="pres">
      <dgm:prSet presAssocID="{E4512971-305B-425C-9135-549942EA08B8}" presName="node" presStyleLbl="node1" presStyleIdx="4" presStyleCnt="7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1C0C416-3045-4801-B252-29032284C2C1}" type="pres">
      <dgm:prSet presAssocID="{A5AEA473-C261-40DA-9344-D794637337DC}" presName="sibTrans" presStyleLbl="sibTrans2D1" presStyleIdx="4" presStyleCnt="7"/>
      <dgm:spPr/>
      <dgm:t>
        <a:bodyPr/>
        <a:lstStyle/>
        <a:p>
          <a:endParaRPr lang="zh-CN" altLang="en-US"/>
        </a:p>
      </dgm:t>
    </dgm:pt>
    <dgm:pt modelId="{6EF2FE7C-1465-4CB2-8784-43190698D310}" type="pres">
      <dgm:prSet presAssocID="{A5AEA473-C261-40DA-9344-D794637337DC}" presName="connectorText" presStyleLbl="sibTrans2D1" presStyleIdx="4" presStyleCnt="7"/>
      <dgm:spPr/>
      <dgm:t>
        <a:bodyPr/>
        <a:lstStyle/>
        <a:p>
          <a:endParaRPr lang="zh-CN" altLang="en-US"/>
        </a:p>
      </dgm:t>
    </dgm:pt>
    <dgm:pt modelId="{E26DAE40-2064-4A8F-9DA8-876A6E1AA040}" type="pres">
      <dgm:prSet presAssocID="{8BDF3A7B-2137-4655-8920-261F77683AF9}" presName="node" presStyleLbl="node1" presStyleIdx="5" presStyleCnt="7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61B25D2-998B-4A78-B5C7-9938AA172BA3}" type="pres">
      <dgm:prSet presAssocID="{A9AD7FBD-7C2D-4711-AAC6-7A6A05019AAD}" presName="sibTrans" presStyleLbl="sibTrans2D1" presStyleIdx="5" presStyleCnt="7"/>
      <dgm:spPr/>
      <dgm:t>
        <a:bodyPr/>
        <a:lstStyle/>
        <a:p>
          <a:endParaRPr lang="zh-CN" altLang="en-US"/>
        </a:p>
      </dgm:t>
    </dgm:pt>
    <dgm:pt modelId="{D4CA3AEC-5CF2-46B4-96DE-AE6BA26CA559}" type="pres">
      <dgm:prSet presAssocID="{A9AD7FBD-7C2D-4711-AAC6-7A6A05019AAD}" presName="connectorText" presStyleLbl="sibTrans2D1" presStyleIdx="5" presStyleCnt="7"/>
      <dgm:spPr/>
      <dgm:t>
        <a:bodyPr/>
        <a:lstStyle/>
        <a:p>
          <a:endParaRPr lang="zh-CN" altLang="en-US"/>
        </a:p>
      </dgm:t>
    </dgm:pt>
    <dgm:pt modelId="{3F3CBC3E-3781-4EF6-8EEF-F9102BC7EDC3}" type="pres">
      <dgm:prSet presAssocID="{3927FF9C-191F-400C-ABEB-F8F19464365E}" presName="node" presStyleLbl="node1" presStyleIdx="6" presStyleCnt="7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58CDFCD-05C4-4E7F-B549-9FD10ABCFA81}" type="pres">
      <dgm:prSet presAssocID="{FB1CAD54-98F7-41D6-883D-56161E44459F}" presName="sibTrans" presStyleLbl="sibTrans2D1" presStyleIdx="6" presStyleCnt="7"/>
      <dgm:spPr/>
      <dgm:t>
        <a:bodyPr/>
        <a:lstStyle/>
        <a:p>
          <a:endParaRPr lang="zh-CN" altLang="en-US"/>
        </a:p>
      </dgm:t>
    </dgm:pt>
    <dgm:pt modelId="{1A3F6629-751A-4BAE-9FE9-C87C761DD825}" type="pres">
      <dgm:prSet presAssocID="{FB1CAD54-98F7-41D6-883D-56161E44459F}" presName="connectorText" presStyleLbl="sibTrans2D1" presStyleIdx="6" presStyleCnt="7"/>
      <dgm:spPr/>
      <dgm:t>
        <a:bodyPr/>
        <a:lstStyle/>
        <a:p>
          <a:endParaRPr lang="zh-CN" altLang="en-US"/>
        </a:p>
      </dgm:t>
    </dgm:pt>
  </dgm:ptLst>
  <dgm:cxnLst>
    <dgm:cxn modelId="{F22A65A8-5E61-45B8-A8BB-4E92B23F8293}" type="presOf" srcId="{68C92DE4-143A-4405-8CD3-2403BB0A4806}" destId="{C4D69B1F-24B1-48FA-B6A3-7EF7405431F8}" srcOrd="0" destOrd="0" presId="urn:microsoft.com/office/officeart/2005/8/layout/cycle2"/>
    <dgm:cxn modelId="{A8B0F927-9DE1-4076-B39F-9DA930608EF4}" type="presOf" srcId="{D485BFC1-6F80-4F1C-A5C4-83F93122F153}" destId="{73F269C8-50E5-4465-ADFA-6CCA2617DC89}" srcOrd="0" destOrd="0" presId="urn:microsoft.com/office/officeart/2005/8/layout/cycle2"/>
    <dgm:cxn modelId="{74FF5315-5BCA-4361-97E7-8F9D1C30DBC1}" type="presOf" srcId="{A5AEA473-C261-40DA-9344-D794637337DC}" destId="{11C0C416-3045-4801-B252-29032284C2C1}" srcOrd="0" destOrd="0" presId="urn:microsoft.com/office/officeart/2005/8/layout/cycle2"/>
    <dgm:cxn modelId="{CE1C4FC9-C7B2-4709-BA56-6E393669E179}" type="presOf" srcId="{A9AD7FBD-7C2D-4711-AAC6-7A6A05019AAD}" destId="{E61B25D2-998B-4A78-B5C7-9938AA172BA3}" srcOrd="0" destOrd="0" presId="urn:microsoft.com/office/officeart/2005/8/layout/cycle2"/>
    <dgm:cxn modelId="{F4833E7B-B837-4314-A715-1D622C69439B}" srcId="{68C92DE4-143A-4405-8CD3-2403BB0A4806}" destId="{C5729725-155E-4131-9068-823E51F460D3}" srcOrd="3" destOrd="0" parTransId="{2DC14C2B-95CE-44F6-AB5C-D8AC834C7358}" sibTransId="{F40222DA-5C0D-4D45-A133-4D018370D376}"/>
    <dgm:cxn modelId="{E96CF4F9-586A-459F-9282-5D1EBBA01AEE}" type="presOf" srcId="{020DF826-79ED-427A-B1EB-80C7C8E2C319}" destId="{311329CE-F8A5-46E2-9724-31391EF33FF4}" srcOrd="1" destOrd="0" presId="urn:microsoft.com/office/officeart/2005/8/layout/cycle2"/>
    <dgm:cxn modelId="{CECB418C-4AB5-4AB0-91D6-3491E4D4EA21}" type="presOf" srcId="{C5729725-155E-4131-9068-823E51F460D3}" destId="{33942E62-D63D-4B3E-B707-CBA10DF20106}" srcOrd="0" destOrd="0" presId="urn:microsoft.com/office/officeart/2005/8/layout/cycle2"/>
    <dgm:cxn modelId="{5D866DB7-8CB6-436D-B91D-E3BF12E76260}" type="presOf" srcId="{8BDF3A7B-2137-4655-8920-261F77683AF9}" destId="{E26DAE40-2064-4A8F-9DA8-876A6E1AA040}" srcOrd="0" destOrd="0" presId="urn:microsoft.com/office/officeart/2005/8/layout/cycle2"/>
    <dgm:cxn modelId="{E69F4541-16F0-42A4-848B-61A45FC87BCF}" type="presOf" srcId="{5F37C0EC-96A8-49CE-8A05-BD5DA6160D08}" destId="{99DD8360-2AAC-4110-8365-1A79B760A3B9}" srcOrd="0" destOrd="0" presId="urn:microsoft.com/office/officeart/2005/8/layout/cycle2"/>
    <dgm:cxn modelId="{D1EF23A3-54AF-481D-997A-7027A99E8B5D}" srcId="{68C92DE4-143A-4405-8CD3-2403BB0A4806}" destId="{E4512971-305B-425C-9135-549942EA08B8}" srcOrd="4" destOrd="0" parTransId="{105879C9-C8F2-481B-AD6A-23011397F9B3}" sibTransId="{A5AEA473-C261-40DA-9344-D794637337DC}"/>
    <dgm:cxn modelId="{CF5C1690-331C-4526-BC00-2190164D43BD}" type="presOf" srcId="{020DF826-79ED-427A-B1EB-80C7C8E2C319}" destId="{BD57DEB5-7398-488F-AA39-9240322BC6DB}" srcOrd="0" destOrd="0" presId="urn:microsoft.com/office/officeart/2005/8/layout/cycle2"/>
    <dgm:cxn modelId="{C1B7C882-138B-4700-AF12-2F607A6A2F18}" srcId="{68C92DE4-143A-4405-8CD3-2403BB0A4806}" destId="{172A5534-56F3-41A2-8499-0BADE0C5E3B6}" srcOrd="2" destOrd="0" parTransId="{1B84536B-AC47-42F3-A5CC-5D0D7656E8A2}" sibTransId="{3A4137CC-9E40-4511-ADE2-96AFA2AFEABD}"/>
    <dgm:cxn modelId="{8F7BD7E0-1087-423C-8999-9FAF3732A3CE}" type="presOf" srcId="{172A5534-56F3-41A2-8499-0BADE0C5E3B6}" destId="{8EE75F49-C531-4295-A38C-8917E0743588}" srcOrd="0" destOrd="0" presId="urn:microsoft.com/office/officeart/2005/8/layout/cycle2"/>
    <dgm:cxn modelId="{3A49544A-0C26-4793-BD60-88C3ED90D949}" type="presOf" srcId="{3927FF9C-191F-400C-ABEB-F8F19464365E}" destId="{3F3CBC3E-3781-4EF6-8EEF-F9102BC7EDC3}" srcOrd="0" destOrd="0" presId="urn:microsoft.com/office/officeart/2005/8/layout/cycle2"/>
    <dgm:cxn modelId="{D8861E96-1464-43CB-BCC4-543306070427}" type="presOf" srcId="{3A4137CC-9E40-4511-ADE2-96AFA2AFEABD}" destId="{8DAB86F2-29FF-4216-8EFF-A38E7C0E7A8D}" srcOrd="1" destOrd="0" presId="urn:microsoft.com/office/officeart/2005/8/layout/cycle2"/>
    <dgm:cxn modelId="{0033C046-6830-4A99-B338-43764A739152}" type="presOf" srcId="{3A4137CC-9E40-4511-ADE2-96AFA2AFEABD}" destId="{9BE58515-7C55-44A9-AEF3-9BD2E574DAAF}" srcOrd="0" destOrd="0" presId="urn:microsoft.com/office/officeart/2005/8/layout/cycle2"/>
    <dgm:cxn modelId="{53212AC9-196E-4B11-81FF-BAAC47351A00}" srcId="{68C92DE4-143A-4405-8CD3-2403BB0A4806}" destId="{5F37C0EC-96A8-49CE-8A05-BD5DA6160D08}" srcOrd="1" destOrd="0" parTransId="{1CBBDC2B-7564-4F10-AFB3-7A947A01486E}" sibTransId="{020DF826-79ED-427A-B1EB-80C7C8E2C319}"/>
    <dgm:cxn modelId="{E32AB2F6-3B8F-4262-95A4-3C07568E287A}" type="presOf" srcId="{A9AD7FBD-7C2D-4711-AAC6-7A6A05019AAD}" destId="{D4CA3AEC-5CF2-46B4-96DE-AE6BA26CA559}" srcOrd="1" destOrd="0" presId="urn:microsoft.com/office/officeart/2005/8/layout/cycle2"/>
    <dgm:cxn modelId="{FA2AB277-A362-49E7-A026-F445C1F17038}" type="presOf" srcId="{A5AEA473-C261-40DA-9344-D794637337DC}" destId="{6EF2FE7C-1465-4CB2-8784-43190698D310}" srcOrd="1" destOrd="0" presId="urn:microsoft.com/office/officeart/2005/8/layout/cycle2"/>
    <dgm:cxn modelId="{9643FF78-8949-4546-ACA8-0503DD43E6E0}" type="presOf" srcId="{F40222DA-5C0D-4D45-A133-4D018370D376}" destId="{8E049B6A-6EC4-4416-878A-5E36C11349EC}" srcOrd="1" destOrd="0" presId="urn:microsoft.com/office/officeart/2005/8/layout/cycle2"/>
    <dgm:cxn modelId="{041AB996-9BFD-4AA2-BA41-B017C94722E9}" srcId="{68C92DE4-143A-4405-8CD3-2403BB0A4806}" destId="{86DDE519-B311-4B22-A716-A4B86C74F959}" srcOrd="0" destOrd="0" parTransId="{134DF75F-B54B-43AE-923D-E34C21E96436}" sibTransId="{D485BFC1-6F80-4F1C-A5C4-83F93122F153}"/>
    <dgm:cxn modelId="{658D4E3E-A0CD-4F50-B578-64B1518560F2}" type="presOf" srcId="{E4512971-305B-425C-9135-549942EA08B8}" destId="{1674D17B-42FD-4D76-8DBD-B2F0CFA099C6}" srcOrd="0" destOrd="0" presId="urn:microsoft.com/office/officeart/2005/8/layout/cycle2"/>
    <dgm:cxn modelId="{9C54071C-C5B9-4D32-8C29-9767EB0A95E1}" type="presOf" srcId="{F40222DA-5C0D-4D45-A133-4D018370D376}" destId="{0100B70E-ED04-42E9-98BA-B4ACE21FC364}" srcOrd="0" destOrd="0" presId="urn:microsoft.com/office/officeart/2005/8/layout/cycle2"/>
    <dgm:cxn modelId="{752E82F7-9CD3-4B39-AD85-623DF73AE986}" srcId="{68C92DE4-143A-4405-8CD3-2403BB0A4806}" destId="{3927FF9C-191F-400C-ABEB-F8F19464365E}" srcOrd="6" destOrd="0" parTransId="{A4B78569-2DA1-445C-8FA8-4385BFD1C69E}" sibTransId="{FB1CAD54-98F7-41D6-883D-56161E44459F}"/>
    <dgm:cxn modelId="{B418ED51-CEBA-495B-B852-84A019CBED0A}" type="presOf" srcId="{86DDE519-B311-4B22-A716-A4B86C74F959}" destId="{041EE46C-037B-460C-985A-77C4D2EDF3D1}" srcOrd="0" destOrd="0" presId="urn:microsoft.com/office/officeart/2005/8/layout/cycle2"/>
    <dgm:cxn modelId="{A3BCDD44-1D27-49C6-8BDA-E8E808302F1A}" type="presOf" srcId="{D485BFC1-6F80-4F1C-A5C4-83F93122F153}" destId="{DD8DC501-2FFD-4BE9-8215-15791021E87E}" srcOrd="1" destOrd="0" presId="urn:microsoft.com/office/officeart/2005/8/layout/cycle2"/>
    <dgm:cxn modelId="{4C861214-BC50-4B70-9D1E-52823A86728F}" srcId="{68C92DE4-143A-4405-8CD3-2403BB0A4806}" destId="{8BDF3A7B-2137-4655-8920-261F77683AF9}" srcOrd="5" destOrd="0" parTransId="{1370E6D5-3250-43F3-B0A0-D4A5D694AA41}" sibTransId="{A9AD7FBD-7C2D-4711-AAC6-7A6A05019AAD}"/>
    <dgm:cxn modelId="{E5F7DBC9-1D18-47C1-8FB5-E0FBEF43D2F6}" type="presOf" srcId="{FB1CAD54-98F7-41D6-883D-56161E44459F}" destId="{E58CDFCD-05C4-4E7F-B549-9FD10ABCFA81}" srcOrd="0" destOrd="0" presId="urn:microsoft.com/office/officeart/2005/8/layout/cycle2"/>
    <dgm:cxn modelId="{632EDFDD-2875-4A57-A983-1841125B2535}" type="presOf" srcId="{FB1CAD54-98F7-41D6-883D-56161E44459F}" destId="{1A3F6629-751A-4BAE-9FE9-C87C761DD825}" srcOrd="1" destOrd="0" presId="urn:microsoft.com/office/officeart/2005/8/layout/cycle2"/>
    <dgm:cxn modelId="{63A5FC49-CB84-4BA5-BA2D-975A2DE0D266}" type="presParOf" srcId="{C4D69B1F-24B1-48FA-B6A3-7EF7405431F8}" destId="{041EE46C-037B-460C-985A-77C4D2EDF3D1}" srcOrd="0" destOrd="0" presId="urn:microsoft.com/office/officeart/2005/8/layout/cycle2"/>
    <dgm:cxn modelId="{96F632DF-F2E8-4666-8CD0-4380F1DC1F58}" type="presParOf" srcId="{C4D69B1F-24B1-48FA-B6A3-7EF7405431F8}" destId="{73F269C8-50E5-4465-ADFA-6CCA2617DC89}" srcOrd="1" destOrd="0" presId="urn:microsoft.com/office/officeart/2005/8/layout/cycle2"/>
    <dgm:cxn modelId="{3E225573-66C3-4755-8C5B-59CECF2C7504}" type="presParOf" srcId="{73F269C8-50E5-4465-ADFA-6CCA2617DC89}" destId="{DD8DC501-2FFD-4BE9-8215-15791021E87E}" srcOrd="0" destOrd="0" presId="urn:microsoft.com/office/officeart/2005/8/layout/cycle2"/>
    <dgm:cxn modelId="{09D0F534-C5B9-41F2-B28C-0E387E4B40E7}" type="presParOf" srcId="{C4D69B1F-24B1-48FA-B6A3-7EF7405431F8}" destId="{99DD8360-2AAC-4110-8365-1A79B760A3B9}" srcOrd="2" destOrd="0" presId="urn:microsoft.com/office/officeart/2005/8/layout/cycle2"/>
    <dgm:cxn modelId="{36096577-774D-454D-A936-9BC71EB75EBC}" type="presParOf" srcId="{C4D69B1F-24B1-48FA-B6A3-7EF7405431F8}" destId="{BD57DEB5-7398-488F-AA39-9240322BC6DB}" srcOrd="3" destOrd="0" presId="urn:microsoft.com/office/officeart/2005/8/layout/cycle2"/>
    <dgm:cxn modelId="{EF1D3521-6BD7-43E1-81FC-F68560B23704}" type="presParOf" srcId="{BD57DEB5-7398-488F-AA39-9240322BC6DB}" destId="{311329CE-F8A5-46E2-9724-31391EF33FF4}" srcOrd="0" destOrd="0" presId="urn:microsoft.com/office/officeart/2005/8/layout/cycle2"/>
    <dgm:cxn modelId="{6C34896B-4267-4B8D-BA1A-F263031A2C94}" type="presParOf" srcId="{C4D69B1F-24B1-48FA-B6A3-7EF7405431F8}" destId="{8EE75F49-C531-4295-A38C-8917E0743588}" srcOrd="4" destOrd="0" presId="urn:microsoft.com/office/officeart/2005/8/layout/cycle2"/>
    <dgm:cxn modelId="{E524C127-2345-45E4-84B8-F2186DC938A5}" type="presParOf" srcId="{C4D69B1F-24B1-48FA-B6A3-7EF7405431F8}" destId="{9BE58515-7C55-44A9-AEF3-9BD2E574DAAF}" srcOrd="5" destOrd="0" presId="urn:microsoft.com/office/officeart/2005/8/layout/cycle2"/>
    <dgm:cxn modelId="{34F97250-AA45-4989-93D3-322DB37F255A}" type="presParOf" srcId="{9BE58515-7C55-44A9-AEF3-9BD2E574DAAF}" destId="{8DAB86F2-29FF-4216-8EFF-A38E7C0E7A8D}" srcOrd="0" destOrd="0" presId="urn:microsoft.com/office/officeart/2005/8/layout/cycle2"/>
    <dgm:cxn modelId="{0B5C23F6-D50B-4409-A8C4-365BCE5105DE}" type="presParOf" srcId="{C4D69B1F-24B1-48FA-B6A3-7EF7405431F8}" destId="{33942E62-D63D-4B3E-B707-CBA10DF20106}" srcOrd="6" destOrd="0" presId="urn:microsoft.com/office/officeart/2005/8/layout/cycle2"/>
    <dgm:cxn modelId="{1DC62855-71E6-4689-BE1E-09254C86080E}" type="presParOf" srcId="{C4D69B1F-24B1-48FA-B6A3-7EF7405431F8}" destId="{0100B70E-ED04-42E9-98BA-B4ACE21FC364}" srcOrd="7" destOrd="0" presId="urn:microsoft.com/office/officeart/2005/8/layout/cycle2"/>
    <dgm:cxn modelId="{FA633AFD-21B5-40F8-A897-42BA10281CFA}" type="presParOf" srcId="{0100B70E-ED04-42E9-98BA-B4ACE21FC364}" destId="{8E049B6A-6EC4-4416-878A-5E36C11349EC}" srcOrd="0" destOrd="0" presId="urn:microsoft.com/office/officeart/2005/8/layout/cycle2"/>
    <dgm:cxn modelId="{817CCBF6-0BAC-4856-87AC-B4262C73F91B}" type="presParOf" srcId="{C4D69B1F-24B1-48FA-B6A3-7EF7405431F8}" destId="{1674D17B-42FD-4D76-8DBD-B2F0CFA099C6}" srcOrd="8" destOrd="0" presId="urn:microsoft.com/office/officeart/2005/8/layout/cycle2"/>
    <dgm:cxn modelId="{F6CE142D-F55B-442A-8EC7-2F989389D78D}" type="presParOf" srcId="{C4D69B1F-24B1-48FA-B6A3-7EF7405431F8}" destId="{11C0C416-3045-4801-B252-29032284C2C1}" srcOrd="9" destOrd="0" presId="urn:microsoft.com/office/officeart/2005/8/layout/cycle2"/>
    <dgm:cxn modelId="{6A030828-F2E4-4F4E-81EC-BDAA22844473}" type="presParOf" srcId="{11C0C416-3045-4801-B252-29032284C2C1}" destId="{6EF2FE7C-1465-4CB2-8784-43190698D310}" srcOrd="0" destOrd="0" presId="urn:microsoft.com/office/officeart/2005/8/layout/cycle2"/>
    <dgm:cxn modelId="{C0C99B31-F7C7-414C-AD25-96DEB35A7BAC}" type="presParOf" srcId="{C4D69B1F-24B1-48FA-B6A3-7EF7405431F8}" destId="{E26DAE40-2064-4A8F-9DA8-876A6E1AA040}" srcOrd="10" destOrd="0" presId="urn:microsoft.com/office/officeart/2005/8/layout/cycle2"/>
    <dgm:cxn modelId="{0520072A-CB5B-4F7C-811B-7CADB4041BD1}" type="presParOf" srcId="{C4D69B1F-24B1-48FA-B6A3-7EF7405431F8}" destId="{E61B25D2-998B-4A78-B5C7-9938AA172BA3}" srcOrd="11" destOrd="0" presId="urn:microsoft.com/office/officeart/2005/8/layout/cycle2"/>
    <dgm:cxn modelId="{4C82673D-9F2A-46CB-A4A5-03AB7FD3CD8B}" type="presParOf" srcId="{E61B25D2-998B-4A78-B5C7-9938AA172BA3}" destId="{D4CA3AEC-5CF2-46B4-96DE-AE6BA26CA559}" srcOrd="0" destOrd="0" presId="urn:microsoft.com/office/officeart/2005/8/layout/cycle2"/>
    <dgm:cxn modelId="{57DE99A2-BC74-4143-87EF-50FC289063EC}" type="presParOf" srcId="{C4D69B1F-24B1-48FA-B6A3-7EF7405431F8}" destId="{3F3CBC3E-3781-4EF6-8EEF-F9102BC7EDC3}" srcOrd="12" destOrd="0" presId="urn:microsoft.com/office/officeart/2005/8/layout/cycle2"/>
    <dgm:cxn modelId="{11C8E166-202D-455F-866A-1990A84C1839}" type="presParOf" srcId="{C4D69B1F-24B1-48FA-B6A3-7EF7405431F8}" destId="{E58CDFCD-05C4-4E7F-B549-9FD10ABCFA81}" srcOrd="13" destOrd="0" presId="urn:microsoft.com/office/officeart/2005/8/layout/cycle2"/>
    <dgm:cxn modelId="{1EC3D448-767D-4D3A-BADE-53D4927206DC}" type="presParOf" srcId="{E58CDFCD-05C4-4E7F-B549-9FD10ABCFA81}" destId="{1A3F6629-751A-4BAE-9FE9-C87C761DD825}" srcOrd="0" destOrd="0" presId="urn:microsoft.com/office/officeart/2005/8/layout/cycle2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ycle2">
  <dgm:title val=""/>
  <dgm:desc val=""/>
  <dgm:catLst>
    <dgm:cat type="cycle" pri="1000"/>
    <dgm:cat type="convert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choose name="Name2">
          <dgm:if name="Name3" axis="ch" ptType="node" func="cnt" op="gt" val="2">
            <dgm:alg type="cycle">
              <dgm:param type="stAng" val="0"/>
              <dgm:param type="spanAng" val="360"/>
            </dgm:alg>
          </dgm:if>
          <dgm:else name="Name4">
            <dgm:alg type="cycle">
              <dgm:param type="stAng" val="-90"/>
              <dgm:param type="spanAng" val="360"/>
            </dgm:alg>
          </dgm:else>
        </dgm:choose>
      </dgm:if>
      <dgm:else name="Name5">
        <dgm:choose name="Name6">
          <dgm:if name="Name7" axis="ch" ptType="node" func="cnt" op="gt" val="2">
            <dgm:alg type="cycle">
              <dgm:param type="stAng" val="0"/>
              <dgm:param type="spanAng" val="-360"/>
            </dgm:alg>
          </dgm:if>
          <dgm:else name="Name8">
            <dgm:alg type="cycle">
              <dgm:param type="stAng" val="90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ptType="sibTrans" refType="w" refFor="ch" refPtType="node" op="equ" fact="0.25"/>
      <dgm:constr type="sibSp" refType="w" refFor="ch" refPtType="node" fact="0.5"/>
      <dgm:constr type="primFontSz" for="ch" ptType="node" op="equ" val="65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ellipse" r:blip="">
          <dgm:adjLst/>
        </dgm:shape>
        <dgm:presOf axis="desOrSelf" ptType="node"/>
        <dgm:constrLst>
          <dgm:constr type="h" refType="w"/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  <dgm:choose name="Name9">
        <dgm:if name="Name10" axis="par ch" ptType="doc node" func="cnt" op="gt" val="1">
          <dgm:forEach name="sibTransForEach" axis="followSib" ptType="sibTrans" hideLastTrans="0" cnt="1">
            <dgm:layoutNode name="sibTrans">
              <dgm:choose name="Name11">
                <dgm:if name="Name12" axis="par ch" ptType="doc node" func="cnt" op="lt" val="3">
                  <dgm:alg type="conn">
                    <dgm:param type="begPts" val="radial"/>
                    <dgm:param type="endPts" val="radial"/>
                  </dgm:alg>
                </dgm:if>
                <dgm:else name="Name13">
                  <dgm:alg type="conn">
                    <dgm:param type="begPts" val="auto"/>
                    <dgm:param type="endPts" val="auto"/>
                  </dgm:alg>
                </dgm:else>
              </dgm:choose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1.35"/>
                <dgm:constr type="connDist"/>
                <dgm:constr type="w" for="ch" refType="connDist" fact="0.45"/>
                <dgm:constr type="h" for="ch" refType="h"/>
              </dgm:constrLst>
              <dgm:ruleLst/>
              <dgm:layoutNode name="connectorText">
                <dgm:alg type="tx">
                  <dgm:param type="autoTxRot" val="grav"/>
                </dgm:alg>
                <dgm:shape xmlns:r="http://schemas.openxmlformats.org/officeDocument/2006/relationships" type="conn" r:blip="" hideGeom="1">
                  <dgm:adjLst/>
                </dgm:shape>
                <dgm:presOf axis="self"/>
                <dgm:constrLst>
                  <dgm:constr type="lMarg"/>
                  <dgm:constr type="rMarg"/>
                  <dgm:constr type="tMarg"/>
                  <dgm:constr type="bMarg"/>
                </dgm:constrLst>
                <dgm:ruleLst>
                  <dgm:rule type="primFontSz" val="5" fact="NaN" max="NaN"/>
                </dgm:ruleLst>
              </dgm:layoutNode>
            </dgm:layoutNode>
          </dgm:forEach>
        </dgm:if>
        <dgm:else name="Name14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BE3DE9-8678-4BDA-B3C8-BACBD95E2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C6F485-AE57-4C65-91B2-05776989963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4BE9F6-9451-4FA7-9756-DAD60D59DCC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BAF-73F3-4CAA-B198-1552CABC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B35-9D67-4C3B-9079-D3A9A56A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E20-B55C-4797-B827-AE593055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FA4-B457-4FDA-A85C-712A5593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BD6F-DB74-4B70-9025-746B8D30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B155-052C-4627-AFC5-D71C9C45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06AD-7C2B-4B62-9578-E309A8A5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7DDC-F9F1-4882-BB6D-DBAF7F2D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A055-A43A-4422-B974-4E18DDF3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0EFA-2722-4CA5-B3E2-A6083F78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AE3E-85E0-4FC0-87F0-709AED57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9D2-F0FD-43DA-BF42-45D8B61B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C7E5-819D-440D-A07E-3904D62B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DF25-C157-4EC1-A27D-EA0290D1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C939-5779-41CB-A47B-CE53CE0E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CD9C-0EF7-4D6B-B74D-5D6F24F7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FCE3-6208-435B-9AA3-4C1703C5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6EB7-8BBD-42CD-B040-3B938A14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C81-530D-4206-97BB-24C49595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B8C-9251-4D4D-B89C-0E7006A9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A5C7-B6FE-4064-9FCD-379D4DAF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694-1B45-4217-84A1-37320F49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09F-24E5-4710-A537-1FF6D172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0FA-42BD-413F-9889-ADBBBDDA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3D6090-8EC7-4B6D-91F5-E8BABA213A53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0646EC-F552-401C-AFA2-A549659795D9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23" descr=""/>
          <p:cNvPicPr/>
          <p:nvPr/>
        </p:nvPicPr>
        <p:blipFill>
          <a:blip r:embed="rId1"/>
          <a:stretch/>
        </p:blipFill>
        <p:spPr>
          <a:xfrm>
            <a:off x="4815000" y="1723680"/>
            <a:ext cx="7697520" cy="5133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71360" y="1292400"/>
            <a:ext cx="8707320" cy="81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70ad46"/>
                </a:solidFill>
                <a:latin typeface="微软雅黑"/>
                <a:ea typeface="微软雅黑"/>
              </a:rPr>
              <a:t>拖延故事通用</a:t>
            </a:r>
            <a:r>
              <a:rPr b="1" lang="en-US" sz="4000" spc="-1" strike="noStrike">
                <a:solidFill>
                  <a:srgbClr val="70ad4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70ad46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1"/>
          <p:cNvSpPr/>
          <p:nvPr/>
        </p:nvSpPr>
        <p:spPr>
          <a:xfrm>
            <a:off x="1071360" y="1940040"/>
            <a:ext cx="64818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内容来自：</a:t>
            </a: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《拖延心理学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原作者</a:t>
            </a:r>
            <a:r>
              <a:rPr b="0" lang="en-US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:[</a:t>
            </a: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美</a:t>
            </a:r>
            <a:r>
              <a:rPr b="0" lang="en-US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]</a:t>
            </a: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简</a:t>
            </a:r>
            <a:r>
              <a:rPr b="0" lang="en-US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博克</a:t>
            </a:r>
            <a:r>
              <a:rPr b="0" lang="en-US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莱诺拉</a:t>
            </a:r>
            <a:r>
              <a:rPr b="0" lang="en-US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直接连接符 9"/>
          <p:cNvCxnSpPr/>
          <p:nvPr/>
        </p:nvCxnSpPr>
        <p:spPr>
          <a:xfrm flipV="1">
            <a:off x="2643480" y="500760"/>
            <a:ext cx="9548640" cy="31680"/>
          </a:xfrm>
          <a:prstGeom prst="straightConnector1">
            <a:avLst/>
          </a:prstGeom>
          <a:ln w="9525">
            <a:solidFill>
              <a:srgbClr val="70ad46"/>
            </a:solidFill>
          </a:ln>
        </p:spPr>
      </p:cxnSp>
      <p:cxnSp>
        <p:nvCxnSpPr>
          <p:cNvPr id="92" name="直接连接符 11"/>
          <p:cNvCxnSpPr/>
          <p:nvPr/>
        </p:nvCxnSpPr>
        <p:spPr>
          <a:xfrm>
            <a:off x="0" y="516600"/>
            <a:ext cx="914760" cy="15840"/>
          </a:xfrm>
          <a:prstGeom prst="straightConnector1">
            <a:avLst/>
          </a:prstGeom>
          <a:ln w="9525">
            <a:solidFill>
              <a:srgbClr val="70ad46"/>
            </a:solidFill>
          </a:ln>
        </p:spPr>
      </p:cxnSp>
      <p:sp>
        <p:nvSpPr>
          <p:cNvPr id="93" name="文本框 18"/>
          <p:cNvSpPr/>
          <p:nvPr/>
        </p:nvSpPr>
        <p:spPr>
          <a:xfrm>
            <a:off x="1322640" y="3013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书笔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9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86840" y="2157840"/>
            <a:ext cx="9398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-22392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恐惧疏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高处不胜寒，我不想做第一名，我会失去朋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70ad46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S.O.S</a:t>
            </a: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江湖救急，你帮我做一下好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-223920">
              <a:lnSpc>
                <a:spcPct val="120000"/>
              </a:lnSpc>
              <a:buClr>
                <a:srgbClr val="70ad46"/>
              </a:buClr>
              <a:buFont typeface="Arial"/>
              <a:buChar char="•"/>
              <a:tabLst>
                <a:tab algn="l" pos="0"/>
              </a:tabLst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恐惧亲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70ad46"/>
              </a:buClr>
              <a:buFont typeface="Arial"/>
              <a:buChar char="•"/>
              <a:tabLst>
                <a:tab algn="l" pos="0"/>
              </a:tabLst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讨厌别人得寸进尺，拖延可保护我的利益不被他人侵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70ad46"/>
              </a:buClr>
              <a:buFont typeface="Arial"/>
              <a:buChar char="•"/>
              <a:tabLst>
                <a:tab algn="l" pos="0"/>
              </a:tabLst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不想重蹈覆辙，天下的男人都不是好东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70ad46"/>
              </a:buClr>
              <a:buFont typeface="Arial"/>
              <a:buChar char="•"/>
              <a:tabLst>
                <a:tab algn="l" pos="0"/>
              </a:tabLst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宁愿不曾拥有你，也不愿意承受失去。</a:t>
            </a:r>
            <a:r>
              <a:rPr b="0" lang="en-US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3"/>
          <p:cNvSpPr/>
          <p:nvPr/>
        </p:nvSpPr>
        <p:spPr>
          <a:xfrm rot="1327200">
            <a:off x="7633080" y="93420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会这样想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4"/>
          <p:cNvSpPr/>
          <p:nvPr/>
        </p:nvSpPr>
        <p:spPr>
          <a:xfrm>
            <a:off x="1121760" y="1368360"/>
            <a:ext cx="2502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4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恐惧亲疏关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1"/>
          <p:cNvSpPr/>
          <p:nvPr/>
        </p:nvSpPr>
        <p:spPr>
          <a:xfrm>
            <a:off x="633240" y="212904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Wingdings 2"/>
                <a:ea typeface="微软雅黑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2"/>
          <p:cNvSpPr/>
          <p:nvPr/>
        </p:nvSpPr>
        <p:spPr>
          <a:xfrm>
            <a:off x="633240" y="409104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Wingdings 2"/>
                <a:ea typeface="微软雅黑"/>
              </a:rPr>
              <a:t>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0"/>
          <p:cNvSpPr/>
          <p:nvPr/>
        </p:nvSpPr>
        <p:spPr>
          <a:xfrm>
            <a:off x="607680" y="30276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5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18360" y="2424240"/>
            <a:ext cx="9644040" cy="38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12040" indent="-212040">
              <a:lnSpc>
                <a:spcPct val="14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控制倾向</a:t>
            </a:r>
            <a:r>
              <a:rPr b="0" lang="en-US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你应该听我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>
              <a:lnSpc>
                <a:spcPct val="14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怀疑倾向</a:t>
            </a:r>
            <a:r>
              <a:rPr b="0" lang="en-US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—你怎么可能成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>
              <a:lnSpc>
                <a:spcPct val="14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疏远倾向</a:t>
            </a:r>
            <a:r>
              <a:rPr b="0" lang="en-US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—走开，不要打扰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>
              <a:lnSpc>
                <a:spcPct val="14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施压倾向</a:t>
            </a:r>
            <a:r>
              <a:rPr b="0" lang="en-US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—只有第一名才有价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>
              <a:lnSpc>
                <a:spcPct val="14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依附倾向</a:t>
            </a:r>
            <a:r>
              <a:rPr b="0" lang="en-US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—你不能独立思考，不能离开我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3"/>
          <p:cNvSpPr/>
          <p:nvPr/>
        </p:nvSpPr>
        <p:spPr>
          <a:xfrm rot="1327200">
            <a:off x="7603920" y="102600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受哪种影响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8"/>
          <p:cNvSpPr/>
          <p:nvPr/>
        </p:nvSpPr>
        <p:spPr>
          <a:xfrm>
            <a:off x="734400" y="1463760"/>
            <a:ext cx="183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5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家庭影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607680" y="30276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"/>
          <p:cNvSpPr/>
          <p:nvPr/>
        </p:nvSpPr>
        <p:spPr>
          <a:xfrm>
            <a:off x="450720" y="385560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Wingdings 2"/>
                <a:ea typeface="微软雅黑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"/>
          <p:cNvSpPr/>
          <p:nvPr/>
        </p:nvSpPr>
        <p:spPr>
          <a:xfrm>
            <a:off x="450720" y="245160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Wingdings 2"/>
                <a:ea typeface="微软雅黑"/>
              </a:rPr>
              <a:t>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0"/>
          <p:cNvSpPr/>
          <p:nvPr/>
        </p:nvSpPr>
        <p:spPr>
          <a:xfrm>
            <a:off x="450720" y="312552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Wingdings 2"/>
                <a:ea typeface="微软雅黑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1"/>
          <p:cNvSpPr/>
          <p:nvPr/>
        </p:nvSpPr>
        <p:spPr>
          <a:xfrm>
            <a:off x="450720" y="459252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Wingdings 2"/>
                <a:ea typeface="微软雅黑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2"/>
          <p:cNvSpPr/>
          <p:nvPr/>
        </p:nvSpPr>
        <p:spPr>
          <a:xfrm>
            <a:off x="450720" y="532296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Wingdings 2"/>
                <a:ea typeface="微软雅黑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" descr=""/>
          <p:cNvPicPr/>
          <p:nvPr/>
        </p:nvPicPr>
        <p:blipFill>
          <a:blip r:embed="rId1"/>
          <a:stretch/>
        </p:blipFill>
        <p:spPr>
          <a:xfrm>
            <a:off x="8315640" y="2635560"/>
            <a:ext cx="587304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1" descr=""/>
          <p:cNvPicPr/>
          <p:nvPr/>
        </p:nvPicPr>
        <p:blipFill>
          <a:blip r:embed="rId1"/>
          <a:srcRect l="3407" t="-2172" r="2920" b="11022"/>
          <a:stretch/>
        </p:blipFill>
        <p:spPr>
          <a:xfrm>
            <a:off x="485280" y="3790440"/>
            <a:ext cx="4733280" cy="3067200"/>
          </a:xfrm>
          <a:prstGeom prst="rect">
            <a:avLst/>
          </a:prstGeom>
          <a:ln w="0">
            <a:noFill/>
          </a:ln>
        </p:spPr>
      </p:pic>
      <p:sp>
        <p:nvSpPr>
          <p:cNvPr id="168" name="矩形 10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03800" y="4633200"/>
            <a:ext cx="5892840" cy="5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用拖延来保护自己独立的个体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3"/>
          <p:cNvSpPr/>
          <p:nvPr/>
        </p:nvSpPr>
        <p:spPr>
          <a:xfrm rot="1327200">
            <a:off x="7380000" y="94932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赞同这想法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7"/>
          <p:cNvSpPr/>
          <p:nvPr/>
        </p:nvSpPr>
        <p:spPr>
          <a:xfrm>
            <a:off x="3590280" y="3074400"/>
            <a:ext cx="402156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1" lang="zh-CN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自我价值感＝ 能力＝表现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8"/>
          <p:cNvSpPr/>
          <p:nvPr/>
        </p:nvSpPr>
        <p:spPr>
          <a:xfrm>
            <a:off x="4627440" y="3925440"/>
            <a:ext cx="2558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（具有独立性，反对受控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9"/>
          <p:cNvSpPr/>
          <p:nvPr/>
        </p:nvSpPr>
        <p:spPr>
          <a:xfrm>
            <a:off x="8498160" y="3912480"/>
            <a:ext cx="241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（通过拖延，“我”说了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1"/>
          <p:cNvSpPr/>
          <p:nvPr/>
        </p:nvSpPr>
        <p:spPr>
          <a:xfrm>
            <a:off x="607680" y="30276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2"/>
          <p:cNvSpPr/>
          <p:nvPr/>
        </p:nvSpPr>
        <p:spPr>
          <a:xfrm>
            <a:off x="1127160" y="1941840"/>
            <a:ext cx="265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6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个体独立性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7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30360" y="2300040"/>
            <a:ext cx="1100376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70ad46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大脑的“神经可塑性”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70ad4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今天做的事情，无论好坏都会影响到大脑明天的结构和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70ad46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任务联接情绪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70ad4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抗拒的是任务引起情绪感受，而不是任务本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70ad46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潜移默化的影响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70ad4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一个大脑的状态会影响另外一个大脑的状态，所以近朱者赤，近墨者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3"/>
          <p:cNvSpPr/>
          <p:nvPr/>
        </p:nvSpPr>
        <p:spPr>
          <a:xfrm rot="1327200">
            <a:off x="7444440" y="97920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知道这些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8"/>
          <p:cNvSpPr/>
          <p:nvPr/>
        </p:nvSpPr>
        <p:spPr>
          <a:xfrm>
            <a:off x="607680" y="30276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9"/>
          <p:cNvSpPr/>
          <p:nvPr/>
        </p:nvSpPr>
        <p:spPr>
          <a:xfrm>
            <a:off x="973440" y="1307880"/>
            <a:ext cx="183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7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生理因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4" descr=""/>
          <p:cNvPicPr/>
          <p:nvPr/>
        </p:nvPicPr>
        <p:blipFill>
          <a:blip r:embed="rId1"/>
          <a:stretch/>
        </p:blipFill>
        <p:spPr>
          <a:xfrm>
            <a:off x="7920" y="3684240"/>
            <a:ext cx="3895920" cy="3069000"/>
          </a:xfrm>
          <a:prstGeom prst="rect">
            <a:avLst/>
          </a:prstGeom>
          <a:ln w="0">
            <a:noFill/>
          </a:ln>
        </p:spPr>
      </p:pic>
      <p:sp>
        <p:nvSpPr>
          <p:cNvPr id="182" name="矩形 7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791160" y="2554200"/>
            <a:ext cx="8329680" cy="31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86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客观时间与主观时间不同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228600">
              <a:lnSpc>
                <a:spcPct val="120000"/>
              </a:lnSpc>
              <a:spcBef>
                <a:spcPts val="499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以为要下课了，原来才上课二十分钟</a:t>
            </a:r>
            <a:r>
              <a:rPr b="1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时间迷失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228600">
              <a:lnSpc>
                <a:spcPct val="120000"/>
              </a:lnSpc>
              <a:spcBef>
                <a:spcPts val="499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觉得我可以掌控时间、掌控他人、掌控现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文本框 3"/>
          <p:cNvSpPr/>
          <p:nvPr/>
        </p:nvSpPr>
        <p:spPr>
          <a:xfrm rot="1327200">
            <a:off x="7444440" y="91872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这样想过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6"/>
          <p:cNvSpPr/>
          <p:nvPr/>
        </p:nvSpPr>
        <p:spPr>
          <a:xfrm>
            <a:off x="1011600" y="1307880"/>
            <a:ext cx="183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8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心理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"/>
          <p:cNvSpPr/>
          <p:nvPr/>
        </p:nvSpPr>
        <p:spPr>
          <a:xfrm>
            <a:off x="607680" y="30276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4"/>
          <p:cNvSpPr/>
          <p:nvPr/>
        </p:nvSpPr>
        <p:spPr>
          <a:xfrm>
            <a:off x="691560" y="477360"/>
            <a:ext cx="10764000" cy="590328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88" name="直接连接符 33"/>
          <p:cNvCxnSpPr>
            <a:stCxn id="187" idx="1"/>
          </p:cNvCxnSpPr>
          <p:nvPr/>
        </p:nvCxnSpPr>
        <p:spPr>
          <a:xfrm>
            <a:off x="691560" y="3429000"/>
            <a:ext cx="6994440" cy="61200"/>
          </a:xfrm>
          <a:prstGeom prst="straightConnector1">
            <a:avLst/>
          </a:prstGeom>
          <a:ln w="12700">
            <a:solidFill>
              <a:srgbClr val="ffffff"/>
            </a:solidFill>
          </a:ln>
        </p:spPr>
      </p:cxnSp>
      <p:sp>
        <p:nvSpPr>
          <p:cNvPr id="189" name="椭圆 6"/>
          <p:cNvSpPr/>
          <p:nvPr/>
        </p:nvSpPr>
        <p:spPr>
          <a:xfrm>
            <a:off x="9182520" y="5009400"/>
            <a:ext cx="4020840" cy="369684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文本框 12"/>
          <p:cNvSpPr/>
          <p:nvPr/>
        </p:nvSpPr>
        <p:spPr>
          <a:xfrm>
            <a:off x="1605600" y="1098720"/>
            <a:ext cx="51656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3800" spc="-1" strike="noStrike">
                <a:solidFill>
                  <a:srgbClr val="ffffff"/>
                </a:solidFill>
                <a:latin typeface="Broadway"/>
                <a:ea typeface="微软雅黑"/>
              </a:rPr>
              <a:t>03</a:t>
            </a:r>
            <a:r>
              <a:rPr b="1" lang="en-US" sz="6600" spc="-1" strike="noStrike">
                <a:solidFill>
                  <a:srgbClr val="ffffff"/>
                </a:solidFill>
                <a:latin typeface="Mistral"/>
                <a:ea typeface="微软雅黑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我想改变拖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直接连接符 15"/>
          <p:cNvCxnSpPr/>
          <p:nvPr/>
        </p:nvCxnSpPr>
        <p:spPr>
          <a:xfrm>
            <a:off x="691560" y="3269160"/>
            <a:ext cx="6994440" cy="45720"/>
          </a:xfrm>
          <a:prstGeom prst="straightConnector1">
            <a:avLst/>
          </a:prstGeom>
          <a:ln w="12700">
            <a:solidFill>
              <a:srgbClr val="ffffff"/>
            </a:solidFill>
          </a:ln>
        </p:spPr>
      </p:cxnSp>
      <p:sp>
        <p:nvSpPr>
          <p:cNvPr id="192" name="椭圆 10"/>
          <p:cNvSpPr/>
          <p:nvPr/>
        </p:nvSpPr>
        <p:spPr>
          <a:xfrm>
            <a:off x="9182520" y="5009400"/>
            <a:ext cx="4020840" cy="369684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3" name="图片 11" descr=""/>
          <p:cNvPicPr/>
          <p:nvPr/>
        </p:nvPicPr>
        <p:blipFill>
          <a:blip r:embed="rId1"/>
          <a:stretch/>
        </p:blipFill>
        <p:spPr>
          <a:xfrm>
            <a:off x="9182520" y="5009400"/>
            <a:ext cx="1426320" cy="122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4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矩形 8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文本框 9"/>
          <p:cNvSpPr/>
          <p:nvPr/>
        </p:nvSpPr>
        <p:spPr>
          <a:xfrm>
            <a:off x="688320" y="326880"/>
            <a:ext cx="411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我想改变拖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"/>
          <p:cNvSpPr/>
          <p:nvPr/>
        </p:nvSpPr>
        <p:spPr>
          <a:xfrm rot="1327200">
            <a:off x="7081200" y="96768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是独一无二的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占位符 2"/>
          <p:cNvSpPr/>
          <p:nvPr/>
        </p:nvSpPr>
        <p:spPr>
          <a:xfrm>
            <a:off x="674280" y="3478680"/>
            <a:ext cx="519264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现在的我越</a:t>
            </a:r>
            <a:r>
              <a:rPr b="1" lang="zh-CN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不完美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的</a:t>
            </a:r>
            <a:r>
              <a:rPr b="1" lang="zh-CN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进步空间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就越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7"/>
          <p:cNvSpPr/>
          <p:nvPr/>
        </p:nvSpPr>
        <p:spPr>
          <a:xfrm>
            <a:off x="1026000" y="1552320"/>
            <a:ext cx="183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1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接受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2" descr=""/>
          <p:cNvPicPr/>
          <p:nvPr/>
        </p:nvPicPr>
        <p:blipFill>
          <a:blip r:embed="rId1"/>
          <a:srcRect l="0" t="0" r="0" b="5241"/>
          <a:stretch/>
        </p:blipFill>
        <p:spPr>
          <a:xfrm>
            <a:off x="6286320" y="3060720"/>
            <a:ext cx="5905440" cy="379692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20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1" descr=""/>
          <p:cNvPicPr/>
          <p:nvPr/>
        </p:nvPicPr>
        <p:blipFill>
          <a:blip r:embed="rId1"/>
          <a:stretch/>
        </p:blipFill>
        <p:spPr>
          <a:xfrm>
            <a:off x="6444720" y="1378080"/>
            <a:ext cx="3550680" cy="535284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41480" y="2793600"/>
            <a:ext cx="5402880" cy="246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学会为自己</a:t>
            </a:r>
            <a:r>
              <a:rPr b="1" lang="zh-CN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辩护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不断给自己输入</a:t>
            </a:r>
            <a:r>
              <a:rPr b="1" lang="zh-CN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正能量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找回</a:t>
            </a:r>
            <a:r>
              <a:rPr b="1" lang="zh-CN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自信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3"/>
          <p:cNvSpPr/>
          <p:nvPr/>
        </p:nvSpPr>
        <p:spPr>
          <a:xfrm rot="1327200">
            <a:off x="8021160" y="89064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可以做到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8"/>
          <p:cNvSpPr/>
          <p:nvPr/>
        </p:nvSpPr>
        <p:spPr>
          <a:xfrm>
            <a:off x="1049400" y="1701360"/>
            <a:ext cx="183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2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自我对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6"/>
          <p:cNvSpPr/>
          <p:nvPr/>
        </p:nvSpPr>
        <p:spPr>
          <a:xfrm>
            <a:off x="688320" y="326880"/>
            <a:ext cx="411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我想改变拖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61360" y="2497680"/>
            <a:ext cx="9370080" cy="308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选定一个可操作的具体目标分解成为具体 步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莫等吉时，踏出第一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自由书写想法和感受，记录下自己的进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将你的机会最大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文本框 6"/>
          <p:cNvSpPr/>
          <p:nvPr/>
        </p:nvSpPr>
        <p:spPr>
          <a:xfrm rot="1327200">
            <a:off x="7622640" y="83304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来试试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1"/>
          <p:cNvSpPr/>
          <p:nvPr/>
        </p:nvSpPr>
        <p:spPr>
          <a:xfrm>
            <a:off x="1011600" y="1378080"/>
            <a:ext cx="183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3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技巧汇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7"/>
          <p:cNvSpPr/>
          <p:nvPr/>
        </p:nvSpPr>
        <p:spPr>
          <a:xfrm>
            <a:off x="688320" y="326880"/>
            <a:ext cx="411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我想改变拖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5" descr=""/>
          <p:cNvPicPr/>
          <p:nvPr/>
        </p:nvPicPr>
        <p:blipFill>
          <a:blip r:embed="rId1"/>
          <a:stretch/>
        </p:blipFill>
        <p:spPr>
          <a:xfrm>
            <a:off x="8323200" y="1755000"/>
            <a:ext cx="5131800" cy="51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50520" y="2764080"/>
            <a:ext cx="6755760" cy="30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保护自己的时间，拒绝浪费时间的事情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评估</a:t>
            </a:r>
            <a:r>
              <a:rPr b="0" lang="zh-CN" sz="3200" spc="-1" strike="noStrike">
                <a:solidFill>
                  <a:srgbClr val="70ad46"/>
                </a:solidFill>
                <a:latin typeface="微软雅黑"/>
                <a:ea typeface="微软雅黑"/>
              </a:rPr>
              <a:t>自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己在过程中的进步和不足，观察自己的感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定期奖赏自己的进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4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文本框 6"/>
          <p:cNvSpPr/>
          <p:nvPr/>
        </p:nvSpPr>
        <p:spPr>
          <a:xfrm rot="1327200">
            <a:off x="7830720" y="937440"/>
            <a:ext cx="53809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战胜拖延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马上有一切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7"/>
          <p:cNvSpPr/>
          <p:nvPr/>
        </p:nvSpPr>
        <p:spPr>
          <a:xfrm>
            <a:off x="1011600" y="1378080"/>
            <a:ext cx="183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3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技巧汇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8"/>
          <p:cNvSpPr/>
          <p:nvPr/>
        </p:nvSpPr>
        <p:spPr>
          <a:xfrm>
            <a:off x="688320" y="326880"/>
            <a:ext cx="411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我想改变拖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3" descr=""/>
          <p:cNvPicPr/>
          <p:nvPr/>
        </p:nvPicPr>
        <p:blipFill>
          <a:blip r:embed="rId1"/>
          <a:stretch/>
        </p:blipFill>
        <p:spPr>
          <a:xfrm>
            <a:off x="7988760" y="2949120"/>
            <a:ext cx="2970000" cy="43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4"/>
          <p:cNvSpPr/>
          <p:nvPr/>
        </p:nvSpPr>
        <p:spPr>
          <a:xfrm>
            <a:off x="691560" y="477360"/>
            <a:ext cx="10764000" cy="590328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6" name="直接连接符 33"/>
          <p:cNvCxnSpPr>
            <a:stCxn id="95" idx="1"/>
          </p:cNvCxnSpPr>
          <p:nvPr/>
        </p:nvCxnSpPr>
        <p:spPr>
          <a:xfrm flipV="1">
            <a:off x="691560" y="3398400"/>
            <a:ext cx="7355520" cy="30960"/>
          </a:xfrm>
          <a:prstGeom prst="straightConnector1">
            <a:avLst/>
          </a:prstGeom>
          <a:ln w="12700">
            <a:solidFill>
              <a:srgbClr val="ffffff"/>
            </a:solidFill>
          </a:ln>
        </p:spPr>
      </p:cxnSp>
      <p:sp>
        <p:nvSpPr>
          <p:cNvPr id="97" name="椭圆 6"/>
          <p:cNvSpPr/>
          <p:nvPr/>
        </p:nvSpPr>
        <p:spPr>
          <a:xfrm>
            <a:off x="9182520" y="5009400"/>
            <a:ext cx="4020840" cy="369684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文本框 12"/>
          <p:cNvSpPr/>
          <p:nvPr/>
        </p:nvSpPr>
        <p:spPr>
          <a:xfrm>
            <a:off x="1881360" y="1075320"/>
            <a:ext cx="51656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3800" spc="-1" strike="noStrike">
                <a:solidFill>
                  <a:srgbClr val="ffffff"/>
                </a:solidFill>
                <a:latin typeface="Broadway"/>
                <a:ea typeface="微软雅黑"/>
              </a:rPr>
              <a:t>01</a:t>
            </a:r>
            <a:r>
              <a:rPr b="1" lang="en-US" sz="6600" spc="-1" strike="noStrike">
                <a:solidFill>
                  <a:srgbClr val="ffffff"/>
                </a:solidFill>
                <a:latin typeface="Mistral"/>
                <a:ea typeface="微软雅黑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解读我的拖延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连接符 15"/>
          <p:cNvCxnSpPr/>
          <p:nvPr/>
        </p:nvCxnSpPr>
        <p:spPr>
          <a:xfrm>
            <a:off x="709560" y="3291120"/>
            <a:ext cx="7337520" cy="360"/>
          </a:xfrm>
          <a:prstGeom prst="straightConnector1">
            <a:avLst/>
          </a:prstGeom>
          <a:ln w="12700">
            <a:solidFill>
              <a:srgbClr val="ffffff"/>
            </a:solidFill>
          </a:ln>
        </p:spPr>
      </p:cxnSp>
      <p:pic>
        <p:nvPicPr>
          <p:cNvPr id="100" name="图片 2" descr=""/>
          <p:cNvPicPr/>
          <p:nvPr/>
        </p:nvPicPr>
        <p:blipFill>
          <a:blip r:embed="rId1"/>
          <a:stretch/>
        </p:blipFill>
        <p:spPr>
          <a:xfrm>
            <a:off x="9182520" y="5009400"/>
            <a:ext cx="1426320" cy="122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23280" y="2253240"/>
            <a:ext cx="1127916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6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学会利用零碎时间提升做事效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spcBef>
                <a:spcPts val="6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使用“非计划”日程表，明确可利用的时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spcBef>
                <a:spcPts val="6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要事为先，把首要的事情放在首要的位置上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spcBef>
                <a:spcPts val="6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找出自己的最佳时间，在最佳状态处理最合适任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1" descr=""/>
          <p:cNvPicPr/>
          <p:nvPr/>
        </p:nvPicPr>
        <p:blipFill>
          <a:blip r:embed="rId1"/>
          <a:stretch/>
        </p:blipFill>
        <p:spPr>
          <a:xfrm>
            <a:off x="-62280" y="2024640"/>
            <a:ext cx="6539400" cy="5270760"/>
          </a:xfrm>
          <a:prstGeom prst="rect">
            <a:avLst/>
          </a:prstGeom>
          <a:ln w="0">
            <a:noFill/>
          </a:ln>
        </p:spPr>
      </p:pic>
      <p:sp>
        <p:nvSpPr>
          <p:cNvPr id="222" name="矩形 6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文本框 3"/>
          <p:cNvSpPr/>
          <p:nvPr/>
        </p:nvSpPr>
        <p:spPr>
          <a:xfrm rot="1327200">
            <a:off x="7846200" y="98748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再见！拖延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5"/>
          <p:cNvSpPr/>
          <p:nvPr/>
        </p:nvSpPr>
        <p:spPr>
          <a:xfrm>
            <a:off x="1011600" y="1378080"/>
            <a:ext cx="183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4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锦囊妙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8"/>
          <p:cNvSpPr/>
          <p:nvPr/>
        </p:nvSpPr>
        <p:spPr>
          <a:xfrm>
            <a:off x="688320" y="326880"/>
            <a:ext cx="411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我想改变拖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6" descr=""/>
          <p:cNvPicPr/>
          <p:nvPr/>
        </p:nvPicPr>
        <p:blipFill>
          <a:blip r:embed="rId1"/>
          <a:stretch/>
        </p:blipFill>
        <p:spPr>
          <a:xfrm>
            <a:off x="7834320" y="2089080"/>
            <a:ext cx="3809520" cy="4562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04360" y="2002680"/>
            <a:ext cx="7435440" cy="42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是一个重度拖延症患者，可我却未曾重视这个问题。这本书让我意识到，其实拖延现象只是冰山一角，在平静的生活海面下有着庞大的冰山群，它很有可能在未来的某个关键时刻出现在前方，带来无法弥补的后果。在这份读书笔记里，你是否看到了自己的影子呢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4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文本框 5"/>
          <p:cNvSpPr/>
          <p:nvPr/>
        </p:nvSpPr>
        <p:spPr>
          <a:xfrm>
            <a:off x="504360" y="31860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一个拖延症患者的自白 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7"/>
          <p:cNvSpPr/>
          <p:nvPr/>
        </p:nvSpPr>
        <p:spPr>
          <a:xfrm>
            <a:off x="0" y="3218760"/>
            <a:ext cx="12191760" cy="252576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27160" y="1033920"/>
            <a:ext cx="6868080" cy="21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5400" spc="-1" strike="noStrike">
                <a:solidFill>
                  <a:srgbClr val="70ad46"/>
                </a:solidFill>
                <a:latin typeface="方正启体简体"/>
                <a:ea typeface="方正启体简体"/>
              </a:rPr>
              <a:t>珍爱生命</a:t>
            </a:r>
            <a:br>
              <a:rPr sz="5400"/>
            </a:br>
            <a:r>
              <a:rPr b="1" lang="en-US" sz="5400" spc="-1" strike="noStrike">
                <a:solidFill>
                  <a:srgbClr val="70ad46"/>
                </a:solidFill>
                <a:latin typeface="方正启体简体"/>
                <a:ea typeface="方正启体简体"/>
              </a:rPr>
              <a:t>              远离拖延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C:\Users\hundund\Desktop\1354699173038_4p3e4n.jpg"/>
          <p:cNvPicPr/>
          <p:nvPr/>
        </p:nvPicPr>
        <p:blipFill>
          <a:blip r:embed="rId1"/>
          <a:srcRect l="17258" t="0" r="17106" b="0"/>
          <a:stretch/>
        </p:blipFill>
        <p:spPr>
          <a:xfrm>
            <a:off x="1309680" y="1501920"/>
            <a:ext cx="3406320" cy="5190120"/>
          </a:xfrm>
          <a:prstGeom prst="rect">
            <a:avLst/>
          </a:prstGeom>
          <a:ln w="0">
            <a:noFill/>
          </a:ln>
        </p:spPr>
      </p:pic>
      <p:sp>
        <p:nvSpPr>
          <p:cNvPr id="233" name="文本框 8"/>
          <p:cNvSpPr/>
          <p:nvPr/>
        </p:nvSpPr>
        <p:spPr>
          <a:xfrm>
            <a:off x="6957000" y="3712320"/>
            <a:ext cx="2448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拖延心理学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7716600" y="2241720"/>
            <a:ext cx="3525840" cy="4344120"/>
          </a:xfrm>
          <a:prstGeom prst="rect">
            <a:avLst/>
          </a:prstGeom>
          <a:ln w="0">
            <a:noFill/>
          </a:ln>
        </p:spPr>
      </p:pic>
      <p:sp>
        <p:nvSpPr>
          <p:cNvPr id="102" name="矩形 10"/>
          <p:cNvSpPr/>
          <p:nvPr/>
        </p:nvSpPr>
        <p:spPr>
          <a:xfrm>
            <a:off x="-20880" y="-11520"/>
            <a:ext cx="1232208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93760" y="1977840"/>
            <a:ext cx="64843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70ad46"/>
                </a:solidFill>
                <a:latin typeface="Broadway"/>
                <a:ea typeface="华康俪金黑W8(P)"/>
              </a:rPr>
              <a:t>1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拖延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定义：“推迟到明天再做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9"/>
          <p:cNvSpPr/>
          <p:nvPr/>
        </p:nvSpPr>
        <p:spPr>
          <a:xfrm>
            <a:off x="607680" y="302760"/>
            <a:ext cx="5884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解读我的拖延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7"/>
          <p:cNvSpPr/>
          <p:nvPr/>
        </p:nvSpPr>
        <p:spPr>
          <a:xfrm rot="1327200">
            <a:off x="7444440" y="97920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也中枪了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占位符 2"/>
          <p:cNvSpPr/>
          <p:nvPr/>
        </p:nvSpPr>
        <p:spPr>
          <a:xfrm>
            <a:off x="293760" y="2880000"/>
            <a:ext cx="844056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70ad46"/>
                </a:solidFill>
                <a:latin typeface="Broadway"/>
                <a:ea typeface="华康俪金黑W8(P)"/>
              </a:rPr>
              <a:t>2.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拖延的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0024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常由于拖延而失去原本可把握住的机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0024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常为拖延而感到焦虑痛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0024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常难以自我约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3" descr=""/>
          <p:cNvPicPr/>
          <p:nvPr/>
        </p:nvPicPr>
        <p:blipFill>
          <a:blip r:embed="rId1"/>
          <a:stretch/>
        </p:blipFill>
        <p:spPr>
          <a:xfrm>
            <a:off x="5931360" y="2684160"/>
            <a:ext cx="6260400" cy="4173480"/>
          </a:xfrm>
          <a:prstGeom prst="rect">
            <a:avLst/>
          </a:prstGeom>
          <a:ln w="0">
            <a:noFill/>
          </a:ln>
        </p:spPr>
      </p:pic>
      <p:sp>
        <p:nvSpPr>
          <p:cNvPr id="108" name="矩形 36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5880" y="1296720"/>
            <a:ext cx="5173920" cy="109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000" spc="-1" strike="noStrike">
                <a:solidFill>
                  <a:srgbClr val="70ad46"/>
                </a:solidFill>
                <a:latin typeface="Broadway"/>
                <a:ea typeface="华康俪金黑W8(P)"/>
              </a:rPr>
              <a:t>3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拖延怪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37"/>
          <p:cNvSpPr/>
          <p:nvPr/>
        </p:nvSpPr>
        <p:spPr>
          <a:xfrm>
            <a:off x="607680" y="302760"/>
            <a:ext cx="5884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解读我的拖延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5"/>
          <p:cNvSpPr/>
          <p:nvPr/>
        </p:nvSpPr>
        <p:spPr>
          <a:xfrm rot="1327200">
            <a:off x="7070040" y="106956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也身处怪圈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633759936"/>
              </p:ext>
            </p:extLst>
          </p:nvPr>
        </p:nvGraphicFramePr>
        <p:xfrm>
          <a:off x="1421280" y="1843560"/>
          <a:ext cx="6259680" cy="4713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7" descr=""/>
          <p:cNvPicPr/>
          <p:nvPr/>
        </p:nvPicPr>
        <p:blipFill>
          <a:blip r:embed="rId1"/>
          <a:srcRect l="-747" t="5877" r="0" b="4450"/>
          <a:stretch/>
        </p:blipFill>
        <p:spPr>
          <a:xfrm>
            <a:off x="5608440" y="2575440"/>
            <a:ext cx="6583320" cy="4297320"/>
          </a:xfrm>
          <a:prstGeom prst="rect">
            <a:avLst/>
          </a:prstGeom>
          <a:ln w="0">
            <a:noFill/>
          </a:ln>
        </p:spPr>
      </p:pic>
      <p:sp>
        <p:nvSpPr>
          <p:cNvPr id="113" name="矩形 15"/>
          <p:cNvSpPr/>
          <p:nvPr/>
        </p:nvSpPr>
        <p:spPr>
          <a:xfrm>
            <a:off x="0" y="-1368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文本框 16"/>
          <p:cNvSpPr/>
          <p:nvPr/>
        </p:nvSpPr>
        <p:spPr>
          <a:xfrm>
            <a:off x="607680" y="302760"/>
            <a:ext cx="5884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解读我的拖延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2360" y="1906920"/>
            <a:ext cx="5556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70ad46"/>
                </a:solidFill>
                <a:latin typeface="Broadway"/>
                <a:ea typeface="微软雅黑"/>
              </a:rPr>
              <a:t>4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我认为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3010320"/>
            <a:ext cx="7899840" cy="22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024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一定有个最佳方案，我要找到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024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什么也不做要比冒失败的风险更为安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024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如果不能把事情做好，那么它就根本不值得去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4"/>
          <p:cNvSpPr/>
          <p:nvPr/>
        </p:nvSpPr>
        <p:spPr>
          <a:xfrm rot="1327200">
            <a:off x="7070040" y="95616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是否也这么想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4"/>
          <p:cNvSpPr/>
          <p:nvPr/>
        </p:nvSpPr>
        <p:spPr>
          <a:xfrm>
            <a:off x="691560" y="477360"/>
            <a:ext cx="10764000" cy="590328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20" name="直接连接符 33"/>
          <p:cNvCxnSpPr>
            <a:stCxn id="119" idx="1"/>
          </p:cNvCxnSpPr>
          <p:nvPr/>
        </p:nvCxnSpPr>
        <p:spPr>
          <a:xfrm flipV="1">
            <a:off x="691560" y="3413520"/>
            <a:ext cx="7395840" cy="15840"/>
          </a:xfrm>
          <a:prstGeom prst="straightConnector1">
            <a:avLst/>
          </a:prstGeom>
          <a:ln w="12700">
            <a:solidFill>
              <a:srgbClr val="ffffff"/>
            </a:solidFill>
          </a:ln>
        </p:spPr>
      </p:cxnSp>
      <p:sp>
        <p:nvSpPr>
          <p:cNvPr id="121" name="椭圆 6"/>
          <p:cNvSpPr/>
          <p:nvPr/>
        </p:nvSpPr>
        <p:spPr>
          <a:xfrm>
            <a:off x="9182520" y="5009400"/>
            <a:ext cx="4020840" cy="369684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文本框 12"/>
          <p:cNvSpPr/>
          <p:nvPr/>
        </p:nvSpPr>
        <p:spPr>
          <a:xfrm>
            <a:off x="1698480" y="1075320"/>
            <a:ext cx="55314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3800" spc="-1" strike="noStrike">
                <a:solidFill>
                  <a:srgbClr val="ffffff"/>
                </a:solidFill>
                <a:latin typeface="Broadway"/>
                <a:ea typeface="微软雅黑"/>
              </a:rPr>
              <a:t>02</a:t>
            </a:r>
            <a:r>
              <a:rPr b="1" lang="en-US" sz="6600" spc="-1" strike="noStrike">
                <a:solidFill>
                  <a:srgbClr val="ffffff"/>
                </a:solidFill>
                <a:latin typeface="Mistral"/>
                <a:ea typeface="微软雅黑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直接连接符 15"/>
          <p:cNvCxnSpPr/>
          <p:nvPr/>
        </p:nvCxnSpPr>
        <p:spPr>
          <a:xfrm>
            <a:off x="709560" y="3291120"/>
            <a:ext cx="7377840" cy="360"/>
          </a:xfrm>
          <a:prstGeom prst="straightConnector1">
            <a:avLst/>
          </a:prstGeom>
          <a:ln w="12700">
            <a:solidFill>
              <a:srgbClr val="ffffff"/>
            </a:solidFill>
          </a:ln>
        </p:spPr>
      </p:cxnSp>
      <p:pic>
        <p:nvPicPr>
          <p:cNvPr id="124" name="图片 2" descr=""/>
          <p:cNvPicPr/>
          <p:nvPr/>
        </p:nvPicPr>
        <p:blipFill>
          <a:blip r:embed="rId1"/>
          <a:stretch/>
        </p:blipFill>
        <p:spPr>
          <a:xfrm>
            <a:off x="9182520" y="5009400"/>
            <a:ext cx="1426320" cy="122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6" descr=""/>
          <p:cNvPicPr/>
          <p:nvPr/>
        </p:nvPicPr>
        <p:blipFill>
          <a:blip r:embed="rId1"/>
          <a:stretch/>
        </p:blipFill>
        <p:spPr>
          <a:xfrm>
            <a:off x="6705000" y="2423160"/>
            <a:ext cx="5494320" cy="456336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10"/>
          <p:cNvSpPr/>
          <p:nvPr/>
        </p:nvSpPr>
        <p:spPr>
          <a:xfrm>
            <a:off x="1602720" y="3114720"/>
            <a:ext cx="3902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1" lang="zh-CN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自我价值感＝能力＝表现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6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1720" y="4434840"/>
            <a:ext cx="8669520" cy="9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担心自己的不足被发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恐惧努力后会失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9" name="直接连接符 6"/>
          <p:cNvCxnSpPr>
            <a:endCxn id="130" idx="0"/>
          </p:cNvCxnSpPr>
          <p:nvPr/>
        </p:nvCxnSpPr>
        <p:spPr>
          <a:xfrm flipH="1">
            <a:off x="4567320" y="3078000"/>
            <a:ext cx="460080" cy="521640"/>
          </a:xfrm>
          <a:prstGeom prst="straightConnector1">
            <a:avLst/>
          </a:prstGeom>
          <a:ln w="76200">
            <a:solidFill>
              <a:srgbClr val="ffc000"/>
            </a:solidFill>
          </a:ln>
        </p:spPr>
      </p:cxnSp>
      <p:sp>
        <p:nvSpPr>
          <p:cNvPr id="131" name="文本框 7"/>
          <p:cNvSpPr/>
          <p:nvPr/>
        </p:nvSpPr>
        <p:spPr>
          <a:xfrm>
            <a:off x="5148720" y="2621880"/>
            <a:ext cx="394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"/>
          <p:cNvSpPr/>
          <p:nvPr/>
        </p:nvSpPr>
        <p:spPr>
          <a:xfrm>
            <a:off x="4369680" y="3599640"/>
            <a:ext cx="394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9"/>
          <p:cNvSpPr/>
          <p:nvPr/>
        </p:nvSpPr>
        <p:spPr>
          <a:xfrm>
            <a:off x="8887320" y="13255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4"/>
          <p:cNvSpPr/>
          <p:nvPr/>
        </p:nvSpPr>
        <p:spPr>
          <a:xfrm rot="1543200">
            <a:off x="8132040" y="821880"/>
            <a:ext cx="4362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怕失败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7"/>
          <p:cNvSpPr/>
          <p:nvPr/>
        </p:nvSpPr>
        <p:spPr>
          <a:xfrm>
            <a:off x="607680" y="30276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2"/>
          <p:cNvSpPr/>
          <p:nvPr/>
        </p:nvSpPr>
        <p:spPr>
          <a:xfrm>
            <a:off x="901080" y="1865880"/>
            <a:ext cx="195336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1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恐惧失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6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文本框 9"/>
          <p:cNvSpPr/>
          <p:nvPr/>
        </p:nvSpPr>
        <p:spPr>
          <a:xfrm>
            <a:off x="607680" y="30276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32600" y="3573000"/>
            <a:ext cx="5508000" cy="17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平庸招致轻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一切都靠自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无法忍受失去，所以我不竞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4"/>
          <p:cNvSpPr/>
          <p:nvPr/>
        </p:nvSpPr>
        <p:spPr>
          <a:xfrm>
            <a:off x="7106040" y="2477880"/>
            <a:ext cx="3564000" cy="11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70ad46"/>
                </a:solidFill>
                <a:latin typeface="Broadway"/>
              </a:rPr>
              <a:t>2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其实我是完美主义者</a:t>
            </a:r>
            <a:r>
              <a:rPr b="0" lang="zh-CN" sz="54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7"/>
          <p:cNvSpPr/>
          <p:nvPr/>
        </p:nvSpPr>
        <p:spPr>
          <a:xfrm rot="1365000">
            <a:off x="7660800" y="97776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也这么想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8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252000" y="2160360"/>
            <a:ext cx="5699160" cy="349344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8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37320" y="2357640"/>
            <a:ext cx="6072840" cy="384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4572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70ad46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成功是危险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70ad46"/>
                </a:solidFill>
                <a:latin typeface="微软雅黑"/>
                <a:ea typeface="微软雅黑"/>
              </a:rPr>
              <a:t>      —</a:t>
            </a:r>
            <a:r>
              <a:rPr b="0" lang="zh-CN" sz="3200" spc="-1" strike="noStrike">
                <a:solidFill>
                  <a:srgbClr val="70ad46"/>
                </a:solidFill>
                <a:latin typeface="微软雅黑"/>
                <a:ea typeface="微软雅黑"/>
              </a:rPr>
              <a:t>木秀于林，风必摧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4572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70ad46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70ad46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成功会失去对自己的控制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70ad46"/>
                </a:solidFill>
                <a:latin typeface="微软雅黑"/>
                <a:ea typeface="微软雅黑"/>
              </a:rPr>
              <a:t>      —</a:t>
            </a:r>
            <a:r>
              <a:rPr b="0" lang="zh-CN" sz="3200" spc="-1" strike="noStrike">
                <a:solidFill>
                  <a:srgbClr val="70ad46"/>
                </a:solidFill>
                <a:latin typeface="微软雅黑"/>
                <a:ea typeface="微软雅黑"/>
              </a:rPr>
              <a:t>李娜夺冠，媒体聚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3"/>
          <p:cNvSpPr/>
          <p:nvPr/>
        </p:nvSpPr>
        <p:spPr>
          <a:xfrm rot="1327200">
            <a:off x="7828560" y="97920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怕成功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"/>
          <p:cNvSpPr/>
          <p:nvPr/>
        </p:nvSpPr>
        <p:spPr>
          <a:xfrm>
            <a:off x="910440" y="1434240"/>
            <a:ext cx="195336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3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恐惧成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9"/>
          <p:cNvSpPr/>
          <p:nvPr/>
        </p:nvSpPr>
        <p:spPr>
          <a:xfrm>
            <a:off x="607680" y="30276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6" descr=""/>
          <p:cNvPicPr/>
          <p:nvPr/>
        </p:nvPicPr>
        <p:blipFill>
          <a:blip r:embed="rId1"/>
          <a:stretch/>
        </p:blipFill>
        <p:spPr>
          <a:xfrm>
            <a:off x="6282360" y="2357640"/>
            <a:ext cx="5807520" cy="394092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~present</Template>
  <TotalTime>2402</TotalTime>
  <Application>LibreOffice/7.4.7.2$Linux_X86_64 LibreOffice_project/40$Build-2</Application>
  <AppVersion>15.0000</AppVersion>
  <Words>963</Words>
  <Paragraphs>14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9T07:02:37Z</dcterms:created>
  <dc:creator>User</dc:creator>
  <dc:description/>
  <dc:language>en-US</dc:language>
  <cp:lastModifiedBy>王玉清</cp:lastModifiedBy>
  <dcterms:modified xsi:type="dcterms:W3CDTF">2016-02-23T02:59:19Z</dcterms:modified>
  <cp:revision>229</cp:revision>
  <dc:subject/>
  <dc:title>《拖延心理学-向与生俱来的行为顽疾宣战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宽屏</vt:lpwstr>
  </property>
  <property fmtid="{D5CDD505-2E9C-101B-9397-08002B2CF9AE}" pid="4" name="Slides">
    <vt:r8>22</vt:r8>
  </property>
</Properties>
</file>