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1079976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500" spc="-1" strike="noStrike">
                <a:solidFill>
                  <a:srgbClr val="ffed04"/>
                </a:solidFill>
                <a:latin typeface="comic"/>
              </a:rPr>
              <a:t>Click to move the slide</a:t>
            </a: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DD23-94AA-4162-AB64-6EB775B194A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10A2-1202-4334-9890-59F2449387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823F-4660-4924-875A-340F46F4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9909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6960" y="4261320"/>
            <a:ext cx="9909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75D-3539-4885-80AB-E3029C8E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69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047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76D-FBD0-45C9-82B2-8D8E0CB7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7480" y="134424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28000" y="134424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6960" y="426132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7480" y="426132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28000" y="426132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573-1FEA-45D3-A351-6235CFF5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9094-97D6-4CA7-9BA9-34033F12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6960" y="1344240"/>
            <a:ext cx="990936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C5B0-9249-4CB8-8242-435F5CEB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990936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3FCC-2E5C-4D42-B928-D23C61FB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369D-C302-4C29-BFA2-AF9AC927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F028-F4FA-479B-AB6E-D2A2A7B0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6960" y="314280"/>
            <a:ext cx="9909360" cy="29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5468-F8DA-494C-AB97-A978EBF3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69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D5A4-2469-43AC-ACDD-483F80E8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6960" y="1344240"/>
            <a:ext cx="990936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EB2-C360-4DC6-BF2E-EDB5AE6B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047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0E5E-A6FA-48A9-A1FE-956C7579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6960" y="4261320"/>
            <a:ext cx="9909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1BC2-5C6F-405A-99A4-BA44E7EC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9909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6960" y="4261320"/>
            <a:ext cx="9909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ECD6-D768-4580-BB3A-BACB1FC6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69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047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6F15-37A2-49F5-9A09-67E021DC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7480" y="134424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28000" y="134424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6960" y="426132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7480" y="426132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28000" y="426132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CF69-201D-4082-A13F-DE072A7D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D272F-E683-4CAA-A35A-8B374F90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26960" y="1344240"/>
            <a:ext cx="990936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386AB-C6AB-495A-95FC-1B55349C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990936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FEB2C-7D60-4520-8A53-71F63440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B4F1-32D0-4395-BF62-7D069A5C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C7A22-6FD1-4707-8D64-EDB427C3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990936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C37-1E1A-4FD0-9399-FBCDA7E0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26960" y="314280"/>
            <a:ext cx="9909360" cy="29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E05BC-66BA-4ACD-819B-DBBCC5CB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269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046B-909D-4D2F-B69F-5A351842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047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1E4A1-3663-4132-8644-0A6211B3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6960" y="4261320"/>
            <a:ext cx="9909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69525-17F3-4EF2-83F5-A73FCD67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9909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6960" y="4261320"/>
            <a:ext cx="9909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0991F-E819-4159-8519-F80A6844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269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047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53C82-1456-4336-8B96-CE9D4A3C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77480" y="134424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28000" y="134424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26960" y="426132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77480" y="426132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128000" y="426132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1D77A-B2D1-4AA9-9F24-121F083E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4A501-1288-4FE5-A4FA-30DD56D8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26960" y="1344240"/>
            <a:ext cx="990936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BBFE0-FFAE-48B6-88C3-D96E4D3E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990936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521BE-03A3-444C-863F-CA92B4D7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B24-256D-444E-9DBE-8DC6E302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25CC3-1B4D-41EF-AA5B-232437E7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1236C-341A-4586-834A-9A9883A4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26960" y="314280"/>
            <a:ext cx="9909360" cy="29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AADCE-4F0A-4426-9409-8FD51245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69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4DFB9-F3AE-4AE2-977B-5AE8B60F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047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29B50-1FA8-42D5-89AE-CCDB61F6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26960" y="4261320"/>
            <a:ext cx="9909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30D7B-BB47-40D1-9485-A7E724EF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9909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6960" y="4261320"/>
            <a:ext cx="9909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CF543-0DE8-4089-B0DE-391C406D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69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5047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66800-61A8-4D5F-A814-9FA6FEE2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77480" y="134424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128000" y="134424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6960" y="426132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77480" y="426132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128000" y="426132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8316F-55F9-4716-8621-9830BB9D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908D7-991C-49FC-8AA3-7DC85F59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8CD-9B0B-42BB-949B-BACEABFB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26960" y="1344240"/>
            <a:ext cx="990936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F0812-33BB-4DED-B84E-995E6C2D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990936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464BE-90B0-494D-80FF-777EAB85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BBEB8-5633-4D02-8B17-A0F23346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4968F-2D4B-4C56-A208-765F3461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26960" y="314280"/>
            <a:ext cx="9909360" cy="29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AB12F-AF71-4B5D-923D-5472BBE0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269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CC042-C7F1-4789-9EFB-2C84052B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5047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6CED2-177B-42F0-AD51-25D96E31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6960" y="4261320"/>
            <a:ext cx="9909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1A32D-EF59-487F-9386-A577FCC1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9909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6960" y="4261320"/>
            <a:ext cx="9909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07582-BC91-4A32-8D7C-630B8E40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269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5047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42EE7-0E1E-4A93-BD29-CF07F8F8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6960" y="314280"/>
            <a:ext cx="9909360" cy="29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D49-D4E4-4D8C-AD45-B9246F4B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777480" y="134424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128000" y="134424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6960" y="426132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777480" y="426132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7128000" y="426132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90B78-EB5D-4006-9BAE-809F2AA4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9141F-15D1-4B59-8CF0-FC158916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26960" y="1344240"/>
            <a:ext cx="990936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1F8E8-9E3D-4261-AF76-8259CF2A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990936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0D4FE-7E43-4A64-BD52-7F130931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A5896-AF8A-4A46-A016-E37646F5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70761-5F88-4F4B-BFD2-2A0110BF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26960" y="314280"/>
            <a:ext cx="9909360" cy="29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F27EF-7DF1-4817-8971-1CECC8BB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269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6F060-CB44-49AD-847A-49819B7D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5047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32679-59E7-49DF-BEC2-217691AE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26960" y="4261320"/>
            <a:ext cx="9909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2DA23-381A-414B-9FA4-DDFCE7DF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69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47D-93C8-4831-A910-B7E9FCC6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9909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6960" y="4261320"/>
            <a:ext cx="9909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82C1F-54D8-412B-9A03-24756085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269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5047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E7E20-ABF9-4A30-AED2-F47E97AC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77480" y="134424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128000" y="134424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6960" y="426132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77480" y="426132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7128000" y="4261320"/>
            <a:ext cx="31906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59535-B0C2-4E47-BB7E-724094CB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04760" y="426132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98A-51A0-42A4-BB2A-0EFA28CE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69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04760" y="1344240"/>
            <a:ext cx="4835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6960" y="4261320"/>
            <a:ext cx="9909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123-8273-4080-8819-6FA23579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0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1880"/>
            <a:ext cx="25210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88920" y="6671880"/>
            <a:ext cx="34210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38560" y="6671880"/>
            <a:ext cx="25210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37EB-539B-42CB-B95E-1662FD6D42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0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280" y="6671880"/>
            <a:ext cx="25210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88920" y="6671880"/>
            <a:ext cx="34210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738560" y="6671880"/>
            <a:ext cx="25210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92EA-E0B9-4551-B12B-5F7524700C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0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39280" y="6671880"/>
            <a:ext cx="25210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688920" y="6671880"/>
            <a:ext cx="34210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38560" y="6671880"/>
            <a:ext cx="25210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B665-3A86-456D-BB39-20BD1E5775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41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8" descr=""/>
          <p:cNvPicPr/>
          <p:nvPr/>
        </p:nvPicPr>
        <p:blipFill>
          <a:blip r:embed="rId2"/>
          <a:srcRect l="0" t="942" r="0" b="0"/>
          <a:stretch/>
        </p:blipFill>
        <p:spPr>
          <a:xfrm>
            <a:off x="0" y="-9360"/>
            <a:ext cx="10799640" cy="7226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26960" y="1344240"/>
            <a:ext cx="990936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90000"/>
              </a:lnSpc>
              <a:spcBef>
                <a:spcPts val="1599"/>
              </a:spcBef>
              <a:buClr>
                <a:srgbClr val="ffa366"/>
              </a:buClr>
              <a:buSzPct val="80000"/>
              <a:buFont typeface="Wingdings" charset="2"/>
              <a:buChar char="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316080" indent="-31608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Calibri"/>
              <a:buChar char=" 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2" marL="1011240" indent="-201600">
              <a:lnSpc>
                <a:spcPct val="90000"/>
              </a:lnSpc>
              <a:spcBef>
                <a:spcPts val="1599"/>
              </a:spcBef>
              <a:buClr>
                <a:srgbClr val="342005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3" marL="1415880" indent="-201600">
              <a:lnSpc>
                <a:spcPct val="90000"/>
              </a:lnSpc>
              <a:spcBef>
                <a:spcPts val="1599"/>
              </a:spcBef>
              <a:buClr>
                <a:srgbClr val="342005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4" marL="1820880" indent="-201600">
              <a:lnSpc>
                <a:spcPct val="90000"/>
              </a:lnSpc>
              <a:spcBef>
                <a:spcPts val="1599"/>
              </a:spcBef>
              <a:buClr>
                <a:srgbClr val="342005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5" marL="1820880" indent="-20160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6" marL="1820880" indent="-20160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742680" y="6671880"/>
            <a:ext cx="24289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432a0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32a0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576240" y="6671880"/>
            <a:ext cx="36464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7627680" y="6671880"/>
            <a:ext cx="24289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432a0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D88A-395B-4C1C-9886-7766C7CD5D3D}" type="slidenum">
              <a:rPr b="0" lang="zh-CN" sz="1000" spc="-1" strike="noStrike">
                <a:solidFill>
                  <a:srgbClr val="432a0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500" spc="-1" strike="noStrike">
                <a:solidFill>
                  <a:srgbClr val="ffed04"/>
                </a:solidFill>
                <a:latin typeface="comic"/>
              </a:rPr>
              <a:t>Click to edit the title text format</a:t>
            </a: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41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7" descr=""/>
          <p:cNvPicPr/>
          <p:nvPr/>
        </p:nvPicPr>
        <p:blipFill>
          <a:blip r:embed="rId2"/>
          <a:stretch/>
        </p:blipFill>
        <p:spPr>
          <a:xfrm>
            <a:off x="0" y="9360"/>
            <a:ext cx="10799640" cy="71805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426960" y="1344240"/>
            <a:ext cx="990936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90000"/>
              </a:lnSpc>
              <a:spcBef>
                <a:spcPts val="1599"/>
              </a:spcBef>
              <a:buClr>
                <a:srgbClr val="ffa366"/>
              </a:buClr>
              <a:buSzPct val="80000"/>
              <a:buFont typeface="Wingdings" charset="2"/>
              <a:buChar char="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316080" indent="-31608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Calibri"/>
              <a:buChar char=" 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2" marL="1011240" indent="-201600">
              <a:lnSpc>
                <a:spcPct val="90000"/>
              </a:lnSpc>
              <a:spcBef>
                <a:spcPts val="1599"/>
              </a:spcBef>
              <a:buClr>
                <a:srgbClr val="342005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3" marL="1415880" indent="-201600">
              <a:lnSpc>
                <a:spcPct val="90000"/>
              </a:lnSpc>
              <a:spcBef>
                <a:spcPts val="1599"/>
              </a:spcBef>
              <a:buClr>
                <a:srgbClr val="342005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4" marL="1820880" indent="-201600">
              <a:lnSpc>
                <a:spcPct val="90000"/>
              </a:lnSpc>
              <a:spcBef>
                <a:spcPts val="1599"/>
              </a:spcBef>
              <a:buClr>
                <a:srgbClr val="342005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5" marL="1820880" indent="-20160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6" marL="1820880" indent="-20160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500" spc="-1" strike="noStrike">
                <a:solidFill>
                  <a:srgbClr val="ffed04"/>
                </a:solidFill>
                <a:latin typeface="comic"/>
              </a:rPr>
              <a:t>Click to edit the title text format</a:t>
            </a: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742680" y="6671880"/>
            <a:ext cx="24289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432a0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32a0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576240" y="6671880"/>
            <a:ext cx="36464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7627680" y="6671880"/>
            <a:ext cx="24289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432a0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C5CD-C405-43F4-89B1-0CC4B7DEB217}" type="slidenum">
              <a:rPr b="0" lang="zh-CN" sz="1000" spc="-1" strike="noStrike">
                <a:solidFill>
                  <a:srgbClr val="432a0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41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8" descr=""/>
          <p:cNvPicPr/>
          <p:nvPr/>
        </p:nvPicPr>
        <p:blipFill>
          <a:blip r:embed="rId2"/>
          <a:srcRect l="0" t="942" r="0" b="0"/>
          <a:stretch/>
        </p:blipFill>
        <p:spPr>
          <a:xfrm>
            <a:off x="0" y="-9360"/>
            <a:ext cx="10799640" cy="72262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26960" y="1344240"/>
            <a:ext cx="990936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90000"/>
              </a:lnSpc>
              <a:spcBef>
                <a:spcPts val="1599"/>
              </a:spcBef>
              <a:buClr>
                <a:srgbClr val="ffa366"/>
              </a:buClr>
              <a:buSzPct val="80000"/>
              <a:buFont typeface="Wingdings" charset="2"/>
              <a:buChar char="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316080" indent="-31608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Calibri"/>
              <a:buChar char=" 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2" marL="1011240" indent="-201600">
              <a:lnSpc>
                <a:spcPct val="90000"/>
              </a:lnSpc>
              <a:spcBef>
                <a:spcPts val="1599"/>
              </a:spcBef>
              <a:buClr>
                <a:srgbClr val="342005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3" marL="1415880" indent="-201600">
              <a:lnSpc>
                <a:spcPct val="90000"/>
              </a:lnSpc>
              <a:spcBef>
                <a:spcPts val="1599"/>
              </a:spcBef>
              <a:buClr>
                <a:srgbClr val="342005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4" marL="1820880" indent="-201600">
              <a:lnSpc>
                <a:spcPct val="90000"/>
              </a:lnSpc>
              <a:spcBef>
                <a:spcPts val="1599"/>
              </a:spcBef>
              <a:buClr>
                <a:srgbClr val="342005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5" marL="1820880" indent="-20160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6" marL="1820880" indent="-20160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26960" y="314280"/>
            <a:ext cx="99093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500" spc="-1" strike="noStrike">
                <a:solidFill>
                  <a:srgbClr val="ffed04"/>
                </a:solidFill>
                <a:latin typeface="comic"/>
              </a:rPr>
              <a:t>Click to edit the title text format</a:t>
            </a:r>
            <a:endParaRPr b="0" lang="en-US" sz="3500" spc="-1" strike="noStrike">
              <a:solidFill>
                <a:srgbClr val="ffed04"/>
              </a:solidFill>
              <a:latin typeface="com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742680" y="6671880"/>
            <a:ext cx="24289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576240" y="6671880"/>
            <a:ext cx="36464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7627680" y="6671880"/>
            <a:ext cx="24289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432a0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FC5D-D327-49E7-830E-896C43FA0A73}" type="slidenum">
              <a:rPr b="0" lang="zh-CN" sz="1000" spc="-1" strike="noStrike">
                <a:solidFill>
                  <a:srgbClr val="432a0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1" descr=""/>
          <p:cNvPicPr/>
          <p:nvPr/>
        </p:nvPicPr>
        <p:blipFill>
          <a:blip r:embed="rId1"/>
          <a:stretch/>
        </p:blipFill>
        <p:spPr>
          <a:xfrm>
            <a:off x="0" y="9360"/>
            <a:ext cx="10799640" cy="71996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0" y="4203720"/>
            <a:ext cx="10799640" cy="1728720"/>
          </a:xfrm>
          <a:prstGeom prst="rect">
            <a:avLst/>
          </a:prstGeom>
          <a:solidFill>
            <a:srgbClr val="0070c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60440" y="4495680"/>
            <a:ext cx="866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舞动广场烟花通用</a:t>
            </a:r>
            <a:r>
              <a:rPr b="0" lang="en-US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KSO_Shape"/>
          <p:cNvSpPr/>
          <p:nvPr/>
        </p:nvSpPr>
        <p:spPr>
          <a:xfrm>
            <a:off x="738360" y="4387680"/>
            <a:ext cx="1244520" cy="1465560"/>
          </a:xfrm>
          <a:custGeom>
            <a:avLst/>
            <a:gdLst/>
            <a:ahLst/>
            <a:rect l="l" t="t" r="r" b="b"/>
            <a:pathLst>
              <a:path w="5699" h="6929">
                <a:moveTo>
                  <a:pt x="2" y="509"/>
                </a:moveTo>
                <a:lnTo>
                  <a:pt x="2" y="509"/>
                </a:lnTo>
                <a:lnTo>
                  <a:pt x="0" y="490"/>
                </a:lnTo>
                <a:lnTo>
                  <a:pt x="2" y="470"/>
                </a:lnTo>
                <a:lnTo>
                  <a:pt x="3" y="452"/>
                </a:lnTo>
                <a:lnTo>
                  <a:pt x="6" y="435"/>
                </a:lnTo>
                <a:lnTo>
                  <a:pt x="10" y="419"/>
                </a:lnTo>
                <a:lnTo>
                  <a:pt x="14" y="403"/>
                </a:lnTo>
                <a:lnTo>
                  <a:pt x="19" y="388"/>
                </a:lnTo>
                <a:lnTo>
                  <a:pt x="26" y="374"/>
                </a:lnTo>
                <a:lnTo>
                  <a:pt x="33" y="360"/>
                </a:lnTo>
                <a:lnTo>
                  <a:pt x="41" y="348"/>
                </a:lnTo>
                <a:lnTo>
                  <a:pt x="50" y="337"/>
                </a:lnTo>
                <a:lnTo>
                  <a:pt x="60" y="325"/>
                </a:lnTo>
                <a:lnTo>
                  <a:pt x="70" y="316"/>
                </a:lnTo>
                <a:lnTo>
                  <a:pt x="82" y="306"/>
                </a:lnTo>
                <a:lnTo>
                  <a:pt x="93" y="298"/>
                </a:lnTo>
                <a:lnTo>
                  <a:pt x="105" y="291"/>
                </a:lnTo>
                <a:lnTo>
                  <a:pt x="118" y="284"/>
                </a:lnTo>
                <a:lnTo>
                  <a:pt x="131" y="279"/>
                </a:lnTo>
                <a:lnTo>
                  <a:pt x="145" y="274"/>
                </a:lnTo>
                <a:lnTo>
                  <a:pt x="159" y="270"/>
                </a:lnTo>
                <a:lnTo>
                  <a:pt x="174" y="268"/>
                </a:lnTo>
                <a:lnTo>
                  <a:pt x="189" y="266"/>
                </a:lnTo>
                <a:lnTo>
                  <a:pt x="204" y="265"/>
                </a:lnTo>
                <a:lnTo>
                  <a:pt x="221" y="265"/>
                </a:lnTo>
                <a:lnTo>
                  <a:pt x="237" y="266"/>
                </a:lnTo>
                <a:lnTo>
                  <a:pt x="254" y="268"/>
                </a:lnTo>
                <a:lnTo>
                  <a:pt x="271" y="272"/>
                </a:lnTo>
                <a:lnTo>
                  <a:pt x="288" y="275"/>
                </a:lnTo>
                <a:lnTo>
                  <a:pt x="304" y="280"/>
                </a:lnTo>
                <a:lnTo>
                  <a:pt x="322" y="287"/>
                </a:lnTo>
                <a:lnTo>
                  <a:pt x="339" y="294"/>
                </a:lnTo>
                <a:lnTo>
                  <a:pt x="356" y="301"/>
                </a:lnTo>
                <a:lnTo>
                  <a:pt x="355" y="286"/>
                </a:lnTo>
                <a:lnTo>
                  <a:pt x="355" y="270"/>
                </a:lnTo>
                <a:lnTo>
                  <a:pt x="356" y="257"/>
                </a:lnTo>
                <a:lnTo>
                  <a:pt x="357" y="243"/>
                </a:lnTo>
                <a:lnTo>
                  <a:pt x="361" y="229"/>
                </a:lnTo>
                <a:lnTo>
                  <a:pt x="364" y="216"/>
                </a:lnTo>
                <a:lnTo>
                  <a:pt x="368" y="203"/>
                </a:lnTo>
                <a:lnTo>
                  <a:pt x="374" y="192"/>
                </a:lnTo>
                <a:lnTo>
                  <a:pt x="379" y="180"/>
                </a:lnTo>
                <a:lnTo>
                  <a:pt x="386" y="170"/>
                </a:lnTo>
                <a:lnTo>
                  <a:pt x="393" y="159"/>
                </a:lnTo>
                <a:lnTo>
                  <a:pt x="402" y="150"/>
                </a:lnTo>
                <a:lnTo>
                  <a:pt x="411" y="141"/>
                </a:lnTo>
                <a:lnTo>
                  <a:pt x="420" y="131"/>
                </a:lnTo>
                <a:lnTo>
                  <a:pt x="430" y="124"/>
                </a:lnTo>
                <a:lnTo>
                  <a:pt x="441" y="116"/>
                </a:lnTo>
                <a:lnTo>
                  <a:pt x="453" y="109"/>
                </a:lnTo>
                <a:lnTo>
                  <a:pt x="464" y="104"/>
                </a:lnTo>
                <a:lnTo>
                  <a:pt x="477" y="98"/>
                </a:lnTo>
                <a:lnTo>
                  <a:pt x="490" y="93"/>
                </a:lnTo>
                <a:lnTo>
                  <a:pt x="504" y="88"/>
                </a:lnTo>
                <a:lnTo>
                  <a:pt x="517" y="85"/>
                </a:lnTo>
                <a:lnTo>
                  <a:pt x="531" y="83"/>
                </a:lnTo>
                <a:lnTo>
                  <a:pt x="546" y="79"/>
                </a:lnTo>
                <a:lnTo>
                  <a:pt x="577" y="77"/>
                </a:lnTo>
                <a:lnTo>
                  <a:pt x="609" y="77"/>
                </a:lnTo>
                <a:lnTo>
                  <a:pt x="641" y="79"/>
                </a:lnTo>
                <a:lnTo>
                  <a:pt x="675" y="85"/>
                </a:lnTo>
                <a:lnTo>
                  <a:pt x="1710" y="1149"/>
                </a:lnTo>
                <a:lnTo>
                  <a:pt x="3113" y="1158"/>
                </a:lnTo>
                <a:lnTo>
                  <a:pt x="3168" y="1142"/>
                </a:lnTo>
                <a:lnTo>
                  <a:pt x="3224" y="1128"/>
                </a:lnTo>
                <a:lnTo>
                  <a:pt x="3277" y="1117"/>
                </a:lnTo>
                <a:lnTo>
                  <a:pt x="3328" y="1108"/>
                </a:lnTo>
                <a:lnTo>
                  <a:pt x="3379" y="1104"/>
                </a:lnTo>
                <a:lnTo>
                  <a:pt x="3428" y="1100"/>
                </a:lnTo>
                <a:lnTo>
                  <a:pt x="3452" y="1100"/>
                </a:lnTo>
                <a:lnTo>
                  <a:pt x="3475" y="1101"/>
                </a:lnTo>
                <a:lnTo>
                  <a:pt x="3499" y="1103"/>
                </a:lnTo>
                <a:lnTo>
                  <a:pt x="3522" y="1104"/>
                </a:lnTo>
                <a:lnTo>
                  <a:pt x="3544" y="1106"/>
                </a:lnTo>
                <a:lnTo>
                  <a:pt x="3567" y="1110"/>
                </a:lnTo>
                <a:lnTo>
                  <a:pt x="3588" y="1114"/>
                </a:lnTo>
                <a:lnTo>
                  <a:pt x="3610" y="1119"/>
                </a:lnTo>
                <a:lnTo>
                  <a:pt x="3631" y="1124"/>
                </a:lnTo>
                <a:lnTo>
                  <a:pt x="3652" y="1130"/>
                </a:lnTo>
                <a:lnTo>
                  <a:pt x="3672" y="1137"/>
                </a:lnTo>
                <a:lnTo>
                  <a:pt x="3692" y="1144"/>
                </a:lnTo>
                <a:lnTo>
                  <a:pt x="3713" y="1152"/>
                </a:lnTo>
                <a:lnTo>
                  <a:pt x="3732" y="1162"/>
                </a:lnTo>
                <a:lnTo>
                  <a:pt x="3751" y="1171"/>
                </a:lnTo>
                <a:lnTo>
                  <a:pt x="3770" y="1181"/>
                </a:lnTo>
                <a:lnTo>
                  <a:pt x="3788" y="1193"/>
                </a:lnTo>
                <a:lnTo>
                  <a:pt x="3807" y="1205"/>
                </a:lnTo>
                <a:lnTo>
                  <a:pt x="3825" y="1217"/>
                </a:lnTo>
                <a:lnTo>
                  <a:pt x="3843" y="1230"/>
                </a:lnTo>
                <a:lnTo>
                  <a:pt x="4475" y="2219"/>
                </a:lnTo>
                <a:lnTo>
                  <a:pt x="5412" y="2237"/>
                </a:lnTo>
                <a:lnTo>
                  <a:pt x="5441" y="2235"/>
                </a:lnTo>
                <a:lnTo>
                  <a:pt x="5469" y="2235"/>
                </a:lnTo>
                <a:lnTo>
                  <a:pt x="5496" y="2236"/>
                </a:lnTo>
                <a:lnTo>
                  <a:pt x="5520" y="2240"/>
                </a:lnTo>
                <a:lnTo>
                  <a:pt x="5542" y="2244"/>
                </a:lnTo>
                <a:lnTo>
                  <a:pt x="5564" y="2251"/>
                </a:lnTo>
                <a:lnTo>
                  <a:pt x="5583" y="2259"/>
                </a:lnTo>
                <a:lnTo>
                  <a:pt x="5601" y="2270"/>
                </a:lnTo>
                <a:lnTo>
                  <a:pt x="5617" y="2281"/>
                </a:lnTo>
                <a:lnTo>
                  <a:pt x="5632" y="2293"/>
                </a:lnTo>
                <a:lnTo>
                  <a:pt x="5646" y="2307"/>
                </a:lnTo>
                <a:lnTo>
                  <a:pt x="5658" y="2321"/>
                </a:lnTo>
                <a:lnTo>
                  <a:pt x="5668" y="2337"/>
                </a:lnTo>
                <a:lnTo>
                  <a:pt x="5678" y="2353"/>
                </a:lnTo>
                <a:lnTo>
                  <a:pt x="5685" y="2369"/>
                </a:lnTo>
                <a:lnTo>
                  <a:pt x="5690" y="2387"/>
                </a:lnTo>
                <a:lnTo>
                  <a:pt x="5694" y="2405"/>
                </a:lnTo>
                <a:lnTo>
                  <a:pt x="5697" y="2423"/>
                </a:lnTo>
                <a:lnTo>
                  <a:pt x="5699" y="2441"/>
                </a:lnTo>
                <a:lnTo>
                  <a:pt x="5697" y="2460"/>
                </a:lnTo>
                <a:lnTo>
                  <a:pt x="5696" y="2478"/>
                </a:lnTo>
                <a:lnTo>
                  <a:pt x="5693" y="2497"/>
                </a:lnTo>
                <a:lnTo>
                  <a:pt x="5687" y="2516"/>
                </a:lnTo>
                <a:lnTo>
                  <a:pt x="5681" y="2534"/>
                </a:lnTo>
                <a:lnTo>
                  <a:pt x="5673" y="2551"/>
                </a:lnTo>
                <a:lnTo>
                  <a:pt x="5664" y="2568"/>
                </a:lnTo>
                <a:lnTo>
                  <a:pt x="5652" y="2584"/>
                </a:lnTo>
                <a:lnTo>
                  <a:pt x="5641" y="2600"/>
                </a:lnTo>
                <a:lnTo>
                  <a:pt x="5625" y="2615"/>
                </a:lnTo>
                <a:lnTo>
                  <a:pt x="5610" y="2629"/>
                </a:lnTo>
                <a:lnTo>
                  <a:pt x="5593" y="2642"/>
                </a:lnTo>
                <a:lnTo>
                  <a:pt x="5574" y="2652"/>
                </a:lnTo>
                <a:lnTo>
                  <a:pt x="5360" y="2665"/>
                </a:lnTo>
                <a:lnTo>
                  <a:pt x="5381" y="2691"/>
                </a:lnTo>
                <a:lnTo>
                  <a:pt x="5390" y="2703"/>
                </a:lnTo>
                <a:lnTo>
                  <a:pt x="5398" y="2715"/>
                </a:lnTo>
                <a:lnTo>
                  <a:pt x="5405" y="2728"/>
                </a:lnTo>
                <a:lnTo>
                  <a:pt x="5411" y="2739"/>
                </a:lnTo>
                <a:lnTo>
                  <a:pt x="5417" y="2752"/>
                </a:lnTo>
                <a:lnTo>
                  <a:pt x="5420" y="2764"/>
                </a:lnTo>
                <a:lnTo>
                  <a:pt x="5424" y="2776"/>
                </a:lnTo>
                <a:lnTo>
                  <a:pt x="5427" y="2788"/>
                </a:lnTo>
                <a:lnTo>
                  <a:pt x="5428" y="2800"/>
                </a:lnTo>
                <a:lnTo>
                  <a:pt x="5430" y="2811"/>
                </a:lnTo>
                <a:lnTo>
                  <a:pt x="5430" y="2823"/>
                </a:lnTo>
                <a:lnTo>
                  <a:pt x="5428" y="2834"/>
                </a:lnTo>
                <a:lnTo>
                  <a:pt x="5426" y="2846"/>
                </a:lnTo>
                <a:lnTo>
                  <a:pt x="5424" y="2856"/>
                </a:lnTo>
                <a:lnTo>
                  <a:pt x="5420" y="2868"/>
                </a:lnTo>
                <a:lnTo>
                  <a:pt x="5417" y="2878"/>
                </a:lnTo>
                <a:lnTo>
                  <a:pt x="5411" y="2890"/>
                </a:lnTo>
                <a:lnTo>
                  <a:pt x="5405" y="2900"/>
                </a:lnTo>
                <a:lnTo>
                  <a:pt x="5391" y="2922"/>
                </a:lnTo>
                <a:lnTo>
                  <a:pt x="5375" y="2943"/>
                </a:lnTo>
                <a:lnTo>
                  <a:pt x="5355" y="2964"/>
                </a:lnTo>
                <a:lnTo>
                  <a:pt x="5332" y="2985"/>
                </a:lnTo>
                <a:lnTo>
                  <a:pt x="5307" y="3006"/>
                </a:lnTo>
                <a:lnTo>
                  <a:pt x="5279" y="3026"/>
                </a:lnTo>
                <a:lnTo>
                  <a:pt x="4395" y="3038"/>
                </a:lnTo>
                <a:lnTo>
                  <a:pt x="5295" y="4234"/>
                </a:lnTo>
                <a:lnTo>
                  <a:pt x="4145" y="4243"/>
                </a:lnTo>
                <a:lnTo>
                  <a:pt x="4148" y="5215"/>
                </a:lnTo>
                <a:lnTo>
                  <a:pt x="5022" y="6088"/>
                </a:lnTo>
                <a:lnTo>
                  <a:pt x="5040" y="6123"/>
                </a:lnTo>
                <a:lnTo>
                  <a:pt x="5055" y="6157"/>
                </a:lnTo>
                <a:lnTo>
                  <a:pt x="5068" y="6192"/>
                </a:lnTo>
                <a:lnTo>
                  <a:pt x="5078" y="6226"/>
                </a:lnTo>
                <a:lnTo>
                  <a:pt x="5085" y="6258"/>
                </a:lnTo>
                <a:lnTo>
                  <a:pt x="5090" y="6292"/>
                </a:lnTo>
                <a:lnTo>
                  <a:pt x="5092" y="6324"/>
                </a:lnTo>
                <a:lnTo>
                  <a:pt x="5091" y="6355"/>
                </a:lnTo>
                <a:lnTo>
                  <a:pt x="5089" y="6388"/>
                </a:lnTo>
                <a:lnTo>
                  <a:pt x="5083" y="6419"/>
                </a:lnTo>
                <a:lnTo>
                  <a:pt x="5076" y="6449"/>
                </a:lnTo>
                <a:lnTo>
                  <a:pt x="5066" y="6481"/>
                </a:lnTo>
                <a:lnTo>
                  <a:pt x="5053" y="6511"/>
                </a:lnTo>
                <a:lnTo>
                  <a:pt x="5039" y="6541"/>
                </a:lnTo>
                <a:lnTo>
                  <a:pt x="5022" y="6570"/>
                </a:lnTo>
                <a:lnTo>
                  <a:pt x="5003" y="6600"/>
                </a:lnTo>
                <a:lnTo>
                  <a:pt x="4179" y="5797"/>
                </a:lnTo>
                <a:lnTo>
                  <a:pt x="4178" y="6741"/>
                </a:lnTo>
                <a:lnTo>
                  <a:pt x="4173" y="6761"/>
                </a:lnTo>
                <a:lnTo>
                  <a:pt x="4165" y="6779"/>
                </a:lnTo>
                <a:lnTo>
                  <a:pt x="4157" y="6796"/>
                </a:lnTo>
                <a:lnTo>
                  <a:pt x="4145" y="6812"/>
                </a:lnTo>
                <a:lnTo>
                  <a:pt x="4134" y="6826"/>
                </a:lnTo>
                <a:lnTo>
                  <a:pt x="4120" y="6840"/>
                </a:lnTo>
                <a:lnTo>
                  <a:pt x="4106" y="6852"/>
                </a:lnTo>
                <a:lnTo>
                  <a:pt x="4090" y="6862"/>
                </a:lnTo>
                <a:lnTo>
                  <a:pt x="4073" y="6871"/>
                </a:lnTo>
                <a:lnTo>
                  <a:pt x="4056" y="6879"/>
                </a:lnTo>
                <a:lnTo>
                  <a:pt x="4038" y="6886"/>
                </a:lnTo>
                <a:lnTo>
                  <a:pt x="4019" y="6892"/>
                </a:lnTo>
                <a:lnTo>
                  <a:pt x="3999" y="6897"/>
                </a:lnTo>
                <a:lnTo>
                  <a:pt x="3980" y="6899"/>
                </a:lnTo>
                <a:lnTo>
                  <a:pt x="3960" y="6901"/>
                </a:lnTo>
                <a:lnTo>
                  <a:pt x="3940" y="6901"/>
                </a:lnTo>
                <a:lnTo>
                  <a:pt x="3920" y="6901"/>
                </a:lnTo>
                <a:lnTo>
                  <a:pt x="3901" y="6899"/>
                </a:lnTo>
                <a:lnTo>
                  <a:pt x="3881" y="6896"/>
                </a:lnTo>
                <a:lnTo>
                  <a:pt x="3863" y="6891"/>
                </a:lnTo>
                <a:lnTo>
                  <a:pt x="3844" y="6885"/>
                </a:lnTo>
                <a:lnTo>
                  <a:pt x="3825" y="6878"/>
                </a:lnTo>
                <a:lnTo>
                  <a:pt x="3809" y="6870"/>
                </a:lnTo>
                <a:lnTo>
                  <a:pt x="3793" y="6861"/>
                </a:lnTo>
                <a:lnTo>
                  <a:pt x="3777" y="6850"/>
                </a:lnTo>
                <a:lnTo>
                  <a:pt x="3763" y="6838"/>
                </a:lnTo>
                <a:lnTo>
                  <a:pt x="3750" y="6825"/>
                </a:lnTo>
                <a:lnTo>
                  <a:pt x="3740" y="6811"/>
                </a:lnTo>
                <a:lnTo>
                  <a:pt x="3729" y="6795"/>
                </a:lnTo>
                <a:lnTo>
                  <a:pt x="3721" y="6779"/>
                </a:lnTo>
                <a:lnTo>
                  <a:pt x="3714" y="6760"/>
                </a:lnTo>
                <a:lnTo>
                  <a:pt x="3710" y="6741"/>
                </a:lnTo>
                <a:lnTo>
                  <a:pt x="3696" y="4243"/>
                </a:lnTo>
                <a:lnTo>
                  <a:pt x="3252" y="4241"/>
                </a:lnTo>
                <a:lnTo>
                  <a:pt x="3257" y="6745"/>
                </a:lnTo>
                <a:lnTo>
                  <a:pt x="3247" y="6767"/>
                </a:lnTo>
                <a:lnTo>
                  <a:pt x="3235" y="6787"/>
                </a:lnTo>
                <a:lnTo>
                  <a:pt x="3224" y="6806"/>
                </a:lnTo>
                <a:lnTo>
                  <a:pt x="3210" y="6824"/>
                </a:lnTo>
                <a:lnTo>
                  <a:pt x="3195" y="6841"/>
                </a:lnTo>
                <a:lnTo>
                  <a:pt x="3180" y="6856"/>
                </a:lnTo>
                <a:lnTo>
                  <a:pt x="3164" y="6870"/>
                </a:lnTo>
                <a:lnTo>
                  <a:pt x="3146" y="6882"/>
                </a:lnTo>
                <a:lnTo>
                  <a:pt x="3129" y="6893"/>
                </a:lnTo>
                <a:lnTo>
                  <a:pt x="3110" y="6903"/>
                </a:lnTo>
                <a:lnTo>
                  <a:pt x="3092" y="6911"/>
                </a:lnTo>
                <a:lnTo>
                  <a:pt x="3073" y="6918"/>
                </a:lnTo>
                <a:lnTo>
                  <a:pt x="3055" y="6922"/>
                </a:lnTo>
                <a:lnTo>
                  <a:pt x="3035" y="6926"/>
                </a:lnTo>
                <a:lnTo>
                  <a:pt x="3015" y="6928"/>
                </a:lnTo>
                <a:lnTo>
                  <a:pt x="2997" y="6929"/>
                </a:lnTo>
                <a:lnTo>
                  <a:pt x="2977" y="6929"/>
                </a:lnTo>
                <a:lnTo>
                  <a:pt x="2958" y="6927"/>
                </a:lnTo>
                <a:lnTo>
                  <a:pt x="2940" y="6923"/>
                </a:lnTo>
                <a:lnTo>
                  <a:pt x="2923" y="6919"/>
                </a:lnTo>
                <a:lnTo>
                  <a:pt x="2905" y="6912"/>
                </a:lnTo>
                <a:lnTo>
                  <a:pt x="2888" y="6905"/>
                </a:lnTo>
                <a:lnTo>
                  <a:pt x="2872" y="6896"/>
                </a:lnTo>
                <a:lnTo>
                  <a:pt x="2856" y="6884"/>
                </a:lnTo>
                <a:lnTo>
                  <a:pt x="2843" y="6872"/>
                </a:lnTo>
                <a:lnTo>
                  <a:pt x="2829" y="6859"/>
                </a:lnTo>
                <a:lnTo>
                  <a:pt x="2817" y="6842"/>
                </a:lnTo>
                <a:lnTo>
                  <a:pt x="2805" y="6826"/>
                </a:lnTo>
                <a:lnTo>
                  <a:pt x="2796" y="6808"/>
                </a:lnTo>
                <a:lnTo>
                  <a:pt x="2787" y="6788"/>
                </a:lnTo>
                <a:lnTo>
                  <a:pt x="2780" y="6767"/>
                </a:lnTo>
                <a:lnTo>
                  <a:pt x="2775" y="6744"/>
                </a:lnTo>
                <a:lnTo>
                  <a:pt x="2720" y="4102"/>
                </a:lnTo>
                <a:lnTo>
                  <a:pt x="2702" y="4091"/>
                </a:lnTo>
                <a:lnTo>
                  <a:pt x="2685" y="4080"/>
                </a:lnTo>
                <a:lnTo>
                  <a:pt x="2669" y="4072"/>
                </a:lnTo>
                <a:lnTo>
                  <a:pt x="2651" y="4065"/>
                </a:lnTo>
                <a:lnTo>
                  <a:pt x="2635" y="4061"/>
                </a:lnTo>
                <a:lnTo>
                  <a:pt x="2618" y="4057"/>
                </a:lnTo>
                <a:lnTo>
                  <a:pt x="2601" y="4055"/>
                </a:lnTo>
                <a:lnTo>
                  <a:pt x="2585" y="4054"/>
                </a:lnTo>
                <a:lnTo>
                  <a:pt x="2569" y="4055"/>
                </a:lnTo>
                <a:lnTo>
                  <a:pt x="2553" y="4057"/>
                </a:lnTo>
                <a:lnTo>
                  <a:pt x="2537" y="4061"/>
                </a:lnTo>
                <a:lnTo>
                  <a:pt x="2521" y="4066"/>
                </a:lnTo>
                <a:lnTo>
                  <a:pt x="2505" y="4073"/>
                </a:lnTo>
                <a:lnTo>
                  <a:pt x="2489" y="4081"/>
                </a:lnTo>
                <a:lnTo>
                  <a:pt x="2474" y="4092"/>
                </a:lnTo>
                <a:lnTo>
                  <a:pt x="2458" y="4103"/>
                </a:lnTo>
                <a:lnTo>
                  <a:pt x="2450" y="5169"/>
                </a:lnTo>
                <a:lnTo>
                  <a:pt x="1357" y="6613"/>
                </a:lnTo>
                <a:lnTo>
                  <a:pt x="1342" y="6594"/>
                </a:lnTo>
                <a:lnTo>
                  <a:pt x="1328" y="6576"/>
                </a:lnTo>
                <a:lnTo>
                  <a:pt x="1315" y="6557"/>
                </a:lnTo>
                <a:lnTo>
                  <a:pt x="1302" y="6539"/>
                </a:lnTo>
                <a:lnTo>
                  <a:pt x="1292" y="6519"/>
                </a:lnTo>
                <a:lnTo>
                  <a:pt x="1280" y="6499"/>
                </a:lnTo>
                <a:lnTo>
                  <a:pt x="1271" y="6478"/>
                </a:lnTo>
                <a:lnTo>
                  <a:pt x="1262" y="6459"/>
                </a:lnTo>
                <a:lnTo>
                  <a:pt x="1255" y="6438"/>
                </a:lnTo>
                <a:lnTo>
                  <a:pt x="1248" y="6416"/>
                </a:lnTo>
                <a:lnTo>
                  <a:pt x="1242" y="6394"/>
                </a:lnTo>
                <a:lnTo>
                  <a:pt x="1237" y="6372"/>
                </a:lnTo>
                <a:lnTo>
                  <a:pt x="1233" y="6349"/>
                </a:lnTo>
                <a:lnTo>
                  <a:pt x="1230" y="6325"/>
                </a:lnTo>
                <a:lnTo>
                  <a:pt x="1229" y="6301"/>
                </a:lnTo>
                <a:lnTo>
                  <a:pt x="1228" y="6277"/>
                </a:lnTo>
                <a:lnTo>
                  <a:pt x="1229" y="6251"/>
                </a:lnTo>
                <a:lnTo>
                  <a:pt x="1230" y="6226"/>
                </a:lnTo>
                <a:lnTo>
                  <a:pt x="1234" y="6200"/>
                </a:lnTo>
                <a:lnTo>
                  <a:pt x="1238" y="6174"/>
                </a:lnTo>
                <a:lnTo>
                  <a:pt x="1244" y="6146"/>
                </a:lnTo>
                <a:lnTo>
                  <a:pt x="1250" y="6118"/>
                </a:lnTo>
                <a:lnTo>
                  <a:pt x="1258" y="6089"/>
                </a:lnTo>
                <a:lnTo>
                  <a:pt x="1268" y="6060"/>
                </a:lnTo>
                <a:lnTo>
                  <a:pt x="1279" y="6030"/>
                </a:lnTo>
                <a:lnTo>
                  <a:pt x="1291" y="6000"/>
                </a:lnTo>
                <a:lnTo>
                  <a:pt x="1304" y="5968"/>
                </a:lnTo>
                <a:lnTo>
                  <a:pt x="1319" y="5936"/>
                </a:lnTo>
                <a:lnTo>
                  <a:pt x="1336" y="5903"/>
                </a:lnTo>
                <a:lnTo>
                  <a:pt x="1354" y="5870"/>
                </a:lnTo>
                <a:lnTo>
                  <a:pt x="1373" y="5835"/>
                </a:lnTo>
                <a:lnTo>
                  <a:pt x="1394" y="5800"/>
                </a:lnTo>
                <a:lnTo>
                  <a:pt x="1955" y="5093"/>
                </a:lnTo>
                <a:lnTo>
                  <a:pt x="1959" y="1797"/>
                </a:lnTo>
                <a:lnTo>
                  <a:pt x="1958" y="1782"/>
                </a:lnTo>
                <a:lnTo>
                  <a:pt x="1957" y="1767"/>
                </a:lnTo>
                <a:lnTo>
                  <a:pt x="1954" y="1752"/>
                </a:lnTo>
                <a:lnTo>
                  <a:pt x="1950" y="1737"/>
                </a:lnTo>
                <a:lnTo>
                  <a:pt x="1947" y="1723"/>
                </a:lnTo>
                <a:lnTo>
                  <a:pt x="1941" y="1710"/>
                </a:lnTo>
                <a:lnTo>
                  <a:pt x="1934" y="1696"/>
                </a:lnTo>
                <a:lnTo>
                  <a:pt x="1927" y="1683"/>
                </a:lnTo>
                <a:lnTo>
                  <a:pt x="1918" y="1672"/>
                </a:lnTo>
                <a:lnTo>
                  <a:pt x="1908" y="1660"/>
                </a:lnTo>
                <a:lnTo>
                  <a:pt x="1897" y="1649"/>
                </a:lnTo>
                <a:lnTo>
                  <a:pt x="1885" y="1638"/>
                </a:lnTo>
                <a:lnTo>
                  <a:pt x="1871" y="1629"/>
                </a:lnTo>
                <a:lnTo>
                  <a:pt x="1856" y="1620"/>
                </a:lnTo>
                <a:lnTo>
                  <a:pt x="1839" y="1611"/>
                </a:lnTo>
                <a:lnTo>
                  <a:pt x="1821" y="1603"/>
                </a:lnTo>
                <a:lnTo>
                  <a:pt x="986" y="1603"/>
                </a:lnTo>
                <a:lnTo>
                  <a:pt x="2" y="509"/>
                </a:lnTo>
                <a:close/>
                <a:moveTo>
                  <a:pt x="3728" y="64"/>
                </a:moveTo>
                <a:lnTo>
                  <a:pt x="3728" y="64"/>
                </a:lnTo>
                <a:lnTo>
                  <a:pt x="3704" y="64"/>
                </a:lnTo>
                <a:lnTo>
                  <a:pt x="3681" y="66"/>
                </a:lnTo>
                <a:lnTo>
                  <a:pt x="3657" y="69"/>
                </a:lnTo>
                <a:lnTo>
                  <a:pt x="3634" y="73"/>
                </a:lnTo>
                <a:lnTo>
                  <a:pt x="3612" y="78"/>
                </a:lnTo>
                <a:lnTo>
                  <a:pt x="3590" y="85"/>
                </a:lnTo>
                <a:lnTo>
                  <a:pt x="3568" y="92"/>
                </a:lnTo>
                <a:lnTo>
                  <a:pt x="3547" y="100"/>
                </a:lnTo>
                <a:lnTo>
                  <a:pt x="3526" y="109"/>
                </a:lnTo>
                <a:lnTo>
                  <a:pt x="3507" y="120"/>
                </a:lnTo>
                <a:lnTo>
                  <a:pt x="3487" y="131"/>
                </a:lnTo>
                <a:lnTo>
                  <a:pt x="3468" y="143"/>
                </a:lnTo>
                <a:lnTo>
                  <a:pt x="3450" y="157"/>
                </a:lnTo>
                <a:lnTo>
                  <a:pt x="3433" y="171"/>
                </a:lnTo>
                <a:lnTo>
                  <a:pt x="3415" y="185"/>
                </a:lnTo>
                <a:lnTo>
                  <a:pt x="3399" y="201"/>
                </a:lnTo>
                <a:lnTo>
                  <a:pt x="3384" y="217"/>
                </a:lnTo>
                <a:lnTo>
                  <a:pt x="3369" y="233"/>
                </a:lnTo>
                <a:lnTo>
                  <a:pt x="3355" y="251"/>
                </a:lnTo>
                <a:lnTo>
                  <a:pt x="3342" y="269"/>
                </a:lnTo>
                <a:lnTo>
                  <a:pt x="3331" y="288"/>
                </a:lnTo>
                <a:lnTo>
                  <a:pt x="3319" y="308"/>
                </a:lnTo>
                <a:lnTo>
                  <a:pt x="3308" y="327"/>
                </a:lnTo>
                <a:lnTo>
                  <a:pt x="3299" y="348"/>
                </a:lnTo>
                <a:lnTo>
                  <a:pt x="3291" y="369"/>
                </a:lnTo>
                <a:lnTo>
                  <a:pt x="3284" y="391"/>
                </a:lnTo>
                <a:lnTo>
                  <a:pt x="3277" y="413"/>
                </a:lnTo>
                <a:lnTo>
                  <a:pt x="3273" y="435"/>
                </a:lnTo>
                <a:lnTo>
                  <a:pt x="3268" y="458"/>
                </a:lnTo>
                <a:lnTo>
                  <a:pt x="3264" y="481"/>
                </a:lnTo>
                <a:lnTo>
                  <a:pt x="3263" y="506"/>
                </a:lnTo>
                <a:lnTo>
                  <a:pt x="3262" y="529"/>
                </a:lnTo>
                <a:lnTo>
                  <a:pt x="3263" y="553"/>
                </a:lnTo>
                <a:lnTo>
                  <a:pt x="3264" y="576"/>
                </a:lnTo>
                <a:lnTo>
                  <a:pt x="3268" y="600"/>
                </a:lnTo>
                <a:lnTo>
                  <a:pt x="3273" y="623"/>
                </a:lnTo>
                <a:lnTo>
                  <a:pt x="3277" y="645"/>
                </a:lnTo>
                <a:lnTo>
                  <a:pt x="3284" y="667"/>
                </a:lnTo>
                <a:lnTo>
                  <a:pt x="3291" y="689"/>
                </a:lnTo>
                <a:lnTo>
                  <a:pt x="3299" y="710"/>
                </a:lnTo>
                <a:lnTo>
                  <a:pt x="3308" y="731"/>
                </a:lnTo>
                <a:lnTo>
                  <a:pt x="3319" y="750"/>
                </a:lnTo>
                <a:lnTo>
                  <a:pt x="3331" y="770"/>
                </a:lnTo>
                <a:lnTo>
                  <a:pt x="3342" y="789"/>
                </a:lnTo>
                <a:lnTo>
                  <a:pt x="3355" y="807"/>
                </a:lnTo>
                <a:lnTo>
                  <a:pt x="3369" y="824"/>
                </a:lnTo>
                <a:lnTo>
                  <a:pt x="3384" y="842"/>
                </a:lnTo>
                <a:lnTo>
                  <a:pt x="3399" y="858"/>
                </a:lnTo>
                <a:lnTo>
                  <a:pt x="3415" y="873"/>
                </a:lnTo>
                <a:lnTo>
                  <a:pt x="3433" y="888"/>
                </a:lnTo>
                <a:lnTo>
                  <a:pt x="3450" y="902"/>
                </a:lnTo>
                <a:lnTo>
                  <a:pt x="3468" y="915"/>
                </a:lnTo>
                <a:lnTo>
                  <a:pt x="3487" y="926"/>
                </a:lnTo>
                <a:lnTo>
                  <a:pt x="3507" y="938"/>
                </a:lnTo>
                <a:lnTo>
                  <a:pt x="3526" y="948"/>
                </a:lnTo>
                <a:lnTo>
                  <a:pt x="3547" y="958"/>
                </a:lnTo>
                <a:lnTo>
                  <a:pt x="3568" y="966"/>
                </a:lnTo>
                <a:lnTo>
                  <a:pt x="3590" y="974"/>
                </a:lnTo>
                <a:lnTo>
                  <a:pt x="3612" y="980"/>
                </a:lnTo>
                <a:lnTo>
                  <a:pt x="3634" y="986"/>
                </a:lnTo>
                <a:lnTo>
                  <a:pt x="3657" y="989"/>
                </a:lnTo>
                <a:lnTo>
                  <a:pt x="3681" y="993"/>
                </a:lnTo>
                <a:lnTo>
                  <a:pt x="3704" y="994"/>
                </a:lnTo>
                <a:lnTo>
                  <a:pt x="3728" y="995"/>
                </a:lnTo>
                <a:lnTo>
                  <a:pt x="3751" y="994"/>
                </a:lnTo>
                <a:lnTo>
                  <a:pt x="3776" y="993"/>
                </a:lnTo>
                <a:lnTo>
                  <a:pt x="3799" y="989"/>
                </a:lnTo>
                <a:lnTo>
                  <a:pt x="3822" y="986"/>
                </a:lnTo>
                <a:lnTo>
                  <a:pt x="3844" y="980"/>
                </a:lnTo>
                <a:lnTo>
                  <a:pt x="3866" y="974"/>
                </a:lnTo>
                <a:lnTo>
                  <a:pt x="3888" y="966"/>
                </a:lnTo>
                <a:lnTo>
                  <a:pt x="3909" y="958"/>
                </a:lnTo>
                <a:lnTo>
                  <a:pt x="3930" y="948"/>
                </a:lnTo>
                <a:lnTo>
                  <a:pt x="3949" y="938"/>
                </a:lnTo>
                <a:lnTo>
                  <a:pt x="3969" y="926"/>
                </a:lnTo>
                <a:lnTo>
                  <a:pt x="3988" y="915"/>
                </a:lnTo>
                <a:lnTo>
                  <a:pt x="4006" y="902"/>
                </a:lnTo>
                <a:lnTo>
                  <a:pt x="4024" y="888"/>
                </a:lnTo>
                <a:lnTo>
                  <a:pt x="4041" y="873"/>
                </a:lnTo>
                <a:lnTo>
                  <a:pt x="4057" y="858"/>
                </a:lnTo>
                <a:lnTo>
                  <a:pt x="4072" y="842"/>
                </a:lnTo>
                <a:lnTo>
                  <a:pt x="4086" y="824"/>
                </a:lnTo>
                <a:lnTo>
                  <a:pt x="4100" y="807"/>
                </a:lnTo>
                <a:lnTo>
                  <a:pt x="4114" y="789"/>
                </a:lnTo>
                <a:lnTo>
                  <a:pt x="4126" y="770"/>
                </a:lnTo>
                <a:lnTo>
                  <a:pt x="4137" y="750"/>
                </a:lnTo>
                <a:lnTo>
                  <a:pt x="4148" y="731"/>
                </a:lnTo>
                <a:lnTo>
                  <a:pt x="4157" y="710"/>
                </a:lnTo>
                <a:lnTo>
                  <a:pt x="4165" y="689"/>
                </a:lnTo>
                <a:lnTo>
                  <a:pt x="4172" y="667"/>
                </a:lnTo>
                <a:lnTo>
                  <a:pt x="4179" y="645"/>
                </a:lnTo>
                <a:lnTo>
                  <a:pt x="4184" y="623"/>
                </a:lnTo>
                <a:lnTo>
                  <a:pt x="4188" y="600"/>
                </a:lnTo>
                <a:lnTo>
                  <a:pt x="4191" y="576"/>
                </a:lnTo>
                <a:lnTo>
                  <a:pt x="4193" y="553"/>
                </a:lnTo>
                <a:lnTo>
                  <a:pt x="4193" y="529"/>
                </a:lnTo>
                <a:lnTo>
                  <a:pt x="4193" y="506"/>
                </a:lnTo>
                <a:lnTo>
                  <a:pt x="4191" y="481"/>
                </a:lnTo>
                <a:lnTo>
                  <a:pt x="4188" y="458"/>
                </a:lnTo>
                <a:lnTo>
                  <a:pt x="4184" y="435"/>
                </a:lnTo>
                <a:lnTo>
                  <a:pt x="4179" y="413"/>
                </a:lnTo>
                <a:lnTo>
                  <a:pt x="4172" y="391"/>
                </a:lnTo>
                <a:lnTo>
                  <a:pt x="4165" y="369"/>
                </a:lnTo>
                <a:lnTo>
                  <a:pt x="4157" y="348"/>
                </a:lnTo>
                <a:lnTo>
                  <a:pt x="4148" y="327"/>
                </a:lnTo>
                <a:lnTo>
                  <a:pt x="4137" y="308"/>
                </a:lnTo>
                <a:lnTo>
                  <a:pt x="4126" y="288"/>
                </a:lnTo>
                <a:lnTo>
                  <a:pt x="4114" y="269"/>
                </a:lnTo>
                <a:lnTo>
                  <a:pt x="4100" y="251"/>
                </a:lnTo>
                <a:lnTo>
                  <a:pt x="4086" y="233"/>
                </a:lnTo>
                <a:lnTo>
                  <a:pt x="4072" y="217"/>
                </a:lnTo>
                <a:lnTo>
                  <a:pt x="4057" y="201"/>
                </a:lnTo>
                <a:lnTo>
                  <a:pt x="4041" y="185"/>
                </a:lnTo>
                <a:lnTo>
                  <a:pt x="4024" y="171"/>
                </a:lnTo>
                <a:lnTo>
                  <a:pt x="4006" y="157"/>
                </a:lnTo>
                <a:lnTo>
                  <a:pt x="3988" y="143"/>
                </a:lnTo>
                <a:lnTo>
                  <a:pt x="3969" y="131"/>
                </a:lnTo>
                <a:lnTo>
                  <a:pt x="3949" y="120"/>
                </a:lnTo>
                <a:lnTo>
                  <a:pt x="3930" y="109"/>
                </a:lnTo>
                <a:lnTo>
                  <a:pt x="3909" y="100"/>
                </a:lnTo>
                <a:lnTo>
                  <a:pt x="3888" y="92"/>
                </a:lnTo>
                <a:lnTo>
                  <a:pt x="3866" y="85"/>
                </a:lnTo>
                <a:lnTo>
                  <a:pt x="3844" y="78"/>
                </a:lnTo>
                <a:lnTo>
                  <a:pt x="3822" y="73"/>
                </a:lnTo>
                <a:lnTo>
                  <a:pt x="3799" y="69"/>
                </a:lnTo>
                <a:lnTo>
                  <a:pt x="3776" y="66"/>
                </a:lnTo>
                <a:lnTo>
                  <a:pt x="3751" y="64"/>
                </a:lnTo>
                <a:lnTo>
                  <a:pt x="3728" y="64"/>
                </a:lnTo>
                <a:close/>
                <a:moveTo>
                  <a:pt x="2550" y="0"/>
                </a:moveTo>
                <a:lnTo>
                  <a:pt x="2550" y="0"/>
                </a:lnTo>
                <a:lnTo>
                  <a:pt x="2526" y="0"/>
                </a:lnTo>
                <a:lnTo>
                  <a:pt x="2503" y="3"/>
                </a:lnTo>
                <a:lnTo>
                  <a:pt x="2480" y="5"/>
                </a:lnTo>
                <a:lnTo>
                  <a:pt x="2457" y="10"/>
                </a:lnTo>
                <a:lnTo>
                  <a:pt x="2435" y="14"/>
                </a:lnTo>
                <a:lnTo>
                  <a:pt x="2413" y="21"/>
                </a:lnTo>
                <a:lnTo>
                  <a:pt x="2390" y="28"/>
                </a:lnTo>
                <a:lnTo>
                  <a:pt x="2370" y="36"/>
                </a:lnTo>
                <a:lnTo>
                  <a:pt x="2349" y="47"/>
                </a:lnTo>
                <a:lnTo>
                  <a:pt x="2329" y="56"/>
                </a:lnTo>
                <a:lnTo>
                  <a:pt x="2309" y="68"/>
                </a:lnTo>
                <a:lnTo>
                  <a:pt x="2291" y="80"/>
                </a:lnTo>
                <a:lnTo>
                  <a:pt x="2272" y="93"/>
                </a:lnTo>
                <a:lnTo>
                  <a:pt x="2255" y="107"/>
                </a:lnTo>
                <a:lnTo>
                  <a:pt x="2237" y="121"/>
                </a:lnTo>
                <a:lnTo>
                  <a:pt x="2221" y="137"/>
                </a:lnTo>
                <a:lnTo>
                  <a:pt x="2206" y="153"/>
                </a:lnTo>
                <a:lnTo>
                  <a:pt x="2191" y="170"/>
                </a:lnTo>
                <a:lnTo>
                  <a:pt x="2177" y="187"/>
                </a:lnTo>
                <a:lnTo>
                  <a:pt x="2164" y="206"/>
                </a:lnTo>
                <a:lnTo>
                  <a:pt x="2153" y="224"/>
                </a:lnTo>
                <a:lnTo>
                  <a:pt x="2141" y="244"/>
                </a:lnTo>
                <a:lnTo>
                  <a:pt x="2131" y="265"/>
                </a:lnTo>
                <a:lnTo>
                  <a:pt x="2122" y="284"/>
                </a:lnTo>
                <a:lnTo>
                  <a:pt x="2113" y="306"/>
                </a:lnTo>
                <a:lnTo>
                  <a:pt x="2107" y="327"/>
                </a:lnTo>
                <a:lnTo>
                  <a:pt x="2100" y="349"/>
                </a:lnTo>
                <a:lnTo>
                  <a:pt x="2095" y="372"/>
                </a:lnTo>
                <a:lnTo>
                  <a:pt x="2090" y="394"/>
                </a:lnTo>
                <a:lnTo>
                  <a:pt x="2088" y="418"/>
                </a:lnTo>
                <a:lnTo>
                  <a:pt x="2086" y="442"/>
                </a:lnTo>
                <a:lnTo>
                  <a:pt x="2086" y="465"/>
                </a:lnTo>
                <a:lnTo>
                  <a:pt x="2086" y="490"/>
                </a:lnTo>
                <a:lnTo>
                  <a:pt x="2088" y="513"/>
                </a:lnTo>
                <a:lnTo>
                  <a:pt x="2090" y="536"/>
                </a:lnTo>
                <a:lnTo>
                  <a:pt x="2095" y="559"/>
                </a:lnTo>
                <a:lnTo>
                  <a:pt x="2100" y="582"/>
                </a:lnTo>
                <a:lnTo>
                  <a:pt x="2107" y="604"/>
                </a:lnTo>
                <a:lnTo>
                  <a:pt x="2113" y="625"/>
                </a:lnTo>
                <a:lnTo>
                  <a:pt x="2122" y="646"/>
                </a:lnTo>
                <a:lnTo>
                  <a:pt x="2131" y="667"/>
                </a:lnTo>
                <a:lnTo>
                  <a:pt x="2141" y="688"/>
                </a:lnTo>
                <a:lnTo>
                  <a:pt x="2153" y="706"/>
                </a:lnTo>
                <a:lnTo>
                  <a:pt x="2164" y="726"/>
                </a:lnTo>
                <a:lnTo>
                  <a:pt x="2177" y="743"/>
                </a:lnTo>
                <a:lnTo>
                  <a:pt x="2191" y="762"/>
                </a:lnTo>
                <a:lnTo>
                  <a:pt x="2206" y="778"/>
                </a:lnTo>
                <a:lnTo>
                  <a:pt x="2221" y="794"/>
                </a:lnTo>
                <a:lnTo>
                  <a:pt x="2237" y="809"/>
                </a:lnTo>
                <a:lnTo>
                  <a:pt x="2255" y="824"/>
                </a:lnTo>
                <a:lnTo>
                  <a:pt x="2272" y="838"/>
                </a:lnTo>
                <a:lnTo>
                  <a:pt x="2291" y="851"/>
                </a:lnTo>
                <a:lnTo>
                  <a:pt x="2309" y="864"/>
                </a:lnTo>
                <a:lnTo>
                  <a:pt x="2329" y="874"/>
                </a:lnTo>
                <a:lnTo>
                  <a:pt x="2349" y="885"/>
                </a:lnTo>
                <a:lnTo>
                  <a:pt x="2370" y="894"/>
                </a:lnTo>
                <a:lnTo>
                  <a:pt x="2390" y="902"/>
                </a:lnTo>
                <a:lnTo>
                  <a:pt x="2413" y="910"/>
                </a:lnTo>
                <a:lnTo>
                  <a:pt x="2435" y="916"/>
                </a:lnTo>
                <a:lnTo>
                  <a:pt x="2457" y="922"/>
                </a:lnTo>
                <a:lnTo>
                  <a:pt x="2480" y="925"/>
                </a:lnTo>
                <a:lnTo>
                  <a:pt x="2503" y="929"/>
                </a:lnTo>
                <a:lnTo>
                  <a:pt x="2526" y="930"/>
                </a:lnTo>
                <a:lnTo>
                  <a:pt x="2550" y="931"/>
                </a:lnTo>
                <a:lnTo>
                  <a:pt x="2575" y="930"/>
                </a:lnTo>
                <a:lnTo>
                  <a:pt x="2598" y="929"/>
                </a:lnTo>
                <a:lnTo>
                  <a:pt x="2621" y="925"/>
                </a:lnTo>
                <a:lnTo>
                  <a:pt x="2644" y="922"/>
                </a:lnTo>
                <a:lnTo>
                  <a:pt x="2666" y="916"/>
                </a:lnTo>
                <a:lnTo>
                  <a:pt x="2688" y="910"/>
                </a:lnTo>
                <a:lnTo>
                  <a:pt x="2710" y="902"/>
                </a:lnTo>
                <a:lnTo>
                  <a:pt x="2731" y="894"/>
                </a:lnTo>
                <a:lnTo>
                  <a:pt x="2752" y="885"/>
                </a:lnTo>
                <a:lnTo>
                  <a:pt x="2772" y="874"/>
                </a:lnTo>
                <a:lnTo>
                  <a:pt x="2792" y="864"/>
                </a:lnTo>
                <a:lnTo>
                  <a:pt x="2810" y="851"/>
                </a:lnTo>
                <a:lnTo>
                  <a:pt x="2829" y="838"/>
                </a:lnTo>
                <a:lnTo>
                  <a:pt x="2846" y="824"/>
                </a:lnTo>
                <a:lnTo>
                  <a:pt x="2863" y="809"/>
                </a:lnTo>
                <a:lnTo>
                  <a:pt x="2880" y="794"/>
                </a:lnTo>
                <a:lnTo>
                  <a:pt x="2895" y="778"/>
                </a:lnTo>
                <a:lnTo>
                  <a:pt x="2910" y="762"/>
                </a:lnTo>
                <a:lnTo>
                  <a:pt x="2924" y="743"/>
                </a:lnTo>
                <a:lnTo>
                  <a:pt x="2936" y="726"/>
                </a:lnTo>
                <a:lnTo>
                  <a:pt x="2948" y="706"/>
                </a:lnTo>
                <a:lnTo>
                  <a:pt x="2960" y="688"/>
                </a:lnTo>
                <a:lnTo>
                  <a:pt x="2970" y="667"/>
                </a:lnTo>
                <a:lnTo>
                  <a:pt x="2979" y="646"/>
                </a:lnTo>
                <a:lnTo>
                  <a:pt x="2987" y="625"/>
                </a:lnTo>
                <a:lnTo>
                  <a:pt x="2994" y="604"/>
                </a:lnTo>
                <a:lnTo>
                  <a:pt x="3001" y="582"/>
                </a:lnTo>
                <a:lnTo>
                  <a:pt x="3006" y="559"/>
                </a:lnTo>
                <a:lnTo>
                  <a:pt x="3011" y="536"/>
                </a:lnTo>
                <a:lnTo>
                  <a:pt x="3013" y="513"/>
                </a:lnTo>
                <a:lnTo>
                  <a:pt x="3015" y="490"/>
                </a:lnTo>
                <a:lnTo>
                  <a:pt x="3016" y="465"/>
                </a:lnTo>
                <a:lnTo>
                  <a:pt x="3015" y="442"/>
                </a:lnTo>
                <a:lnTo>
                  <a:pt x="3013" y="418"/>
                </a:lnTo>
                <a:lnTo>
                  <a:pt x="3011" y="394"/>
                </a:lnTo>
                <a:lnTo>
                  <a:pt x="3006" y="372"/>
                </a:lnTo>
                <a:lnTo>
                  <a:pt x="3001" y="349"/>
                </a:lnTo>
                <a:lnTo>
                  <a:pt x="2994" y="327"/>
                </a:lnTo>
                <a:lnTo>
                  <a:pt x="2987" y="306"/>
                </a:lnTo>
                <a:lnTo>
                  <a:pt x="2979" y="284"/>
                </a:lnTo>
                <a:lnTo>
                  <a:pt x="2970" y="265"/>
                </a:lnTo>
                <a:lnTo>
                  <a:pt x="2960" y="244"/>
                </a:lnTo>
                <a:lnTo>
                  <a:pt x="2948" y="224"/>
                </a:lnTo>
                <a:lnTo>
                  <a:pt x="2936" y="206"/>
                </a:lnTo>
                <a:lnTo>
                  <a:pt x="2924" y="187"/>
                </a:lnTo>
                <a:lnTo>
                  <a:pt x="2910" y="170"/>
                </a:lnTo>
                <a:lnTo>
                  <a:pt x="2895" y="153"/>
                </a:lnTo>
                <a:lnTo>
                  <a:pt x="2880" y="137"/>
                </a:lnTo>
                <a:lnTo>
                  <a:pt x="2863" y="121"/>
                </a:lnTo>
                <a:lnTo>
                  <a:pt x="2846" y="107"/>
                </a:lnTo>
                <a:lnTo>
                  <a:pt x="2829" y="93"/>
                </a:lnTo>
                <a:lnTo>
                  <a:pt x="2810" y="80"/>
                </a:lnTo>
                <a:lnTo>
                  <a:pt x="2792" y="68"/>
                </a:lnTo>
                <a:lnTo>
                  <a:pt x="2772" y="56"/>
                </a:lnTo>
                <a:lnTo>
                  <a:pt x="2752" y="47"/>
                </a:lnTo>
                <a:lnTo>
                  <a:pt x="2731" y="36"/>
                </a:lnTo>
                <a:lnTo>
                  <a:pt x="2710" y="28"/>
                </a:lnTo>
                <a:lnTo>
                  <a:pt x="2688" y="21"/>
                </a:lnTo>
                <a:lnTo>
                  <a:pt x="2666" y="14"/>
                </a:lnTo>
                <a:lnTo>
                  <a:pt x="2644" y="10"/>
                </a:lnTo>
                <a:lnTo>
                  <a:pt x="2621" y="5"/>
                </a:lnTo>
                <a:lnTo>
                  <a:pt x="2598" y="3"/>
                </a:lnTo>
                <a:lnTo>
                  <a:pt x="2575" y="0"/>
                </a:lnTo>
                <a:lnTo>
                  <a:pt x="2550" y="0"/>
                </a:lnTo>
                <a:close/>
                <a:moveTo>
                  <a:pt x="413" y="369"/>
                </a:moveTo>
                <a:lnTo>
                  <a:pt x="1155" y="1149"/>
                </a:lnTo>
                <a:lnTo>
                  <a:pt x="1588" y="1157"/>
                </a:lnTo>
                <a:lnTo>
                  <a:pt x="1593" y="1150"/>
                </a:lnTo>
                <a:lnTo>
                  <a:pt x="1598" y="1144"/>
                </a:lnTo>
                <a:lnTo>
                  <a:pt x="1600" y="1137"/>
                </a:lnTo>
                <a:lnTo>
                  <a:pt x="1602" y="1130"/>
                </a:lnTo>
                <a:lnTo>
                  <a:pt x="1601" y="1124"/>
                </a:lnTo>
                <a:lnTo>
                  <a:pt x="1600" y="1115"/>
                </a:lnTo>
                <a:lnTo>
                  <a:pt x="1595" y="1107"/>
                </a:lnTo>
                <a:lnTo>
                  <a:pt x="1588" y="1098"/>
                </a:lnTo>
                <a:lnTo>
                  <a:pt x="680" y="152"/>
                </a:lnTo>
                <a:lnTo>
                  <a:pt x="665" y="145"/>
                </a:lnTo>
                <a:lnTo>
                  <a:pt x="651" y="139"/>
                </a:lnTo>
                <a:lnTo>
                  <a:pt x="636" y="135"/>
                </a:lnTo>
                <a:lnTo>
                  <a:pt x="621" y="131"/>
                </a:lnTo>
                <a:lnTo>
                  <a:pt x="606" y="130"/>
                </a:lnTo>
                <a:lnTo>
                  <a:pt x="592" y="129"/>
                </a:lnTo>
                <a:lnTo>
                  <a:pt x="578" y="130"/>
                </a:lnTo>
                <a:lnTo>
                  <a:pt x="564" y="133"/>
                </a:lnTo>
                <a:lnTo>
                  <a:pt x="550" y="135"/>
                </a:lnTo>
                <a:lnTo>
                  <a:pt x="536" y="138"/>
                </a:lnTo>
                <a:lnTo>
                  <a:pt x="523" y="144"/>
                </a:lnTo>
                <a:lnTo>
                  <a:pt x="510" y="150"/>
                </a:lnTo>
                <a:lnTo>
                  <a:pt x="499" y="156"/>
                </a:lnTo>
                <a:lnTo>
                  <a:pt x="487" y="164"/>
                </a:lnTo>
                <a:lnTo>
                  <a:pt x="476" y="172"/>
                </a:lnTo>
                <a:lnTo>
                  <a:pt x="465" y="180"/>
                </a:lnTo>
                <a:lnTo>
                  <a:pt x="456" y="189"/>
                </a:lnTo>
                <a:lnTo>
                  <a:pt x="447" y="200"/>
                </a:lnTo>
                <a:lnTo>
                  <a:pt x="439" y="210"/>
                </a:lnTo>
                <a:lnTo>
                  <a:pt x="430" y="222"/>
                </a:lnTo>
                <a:lnTo>
                  <a:pt x="424" y="233"/>
                </a:lnTo>
                <a:lnTo>
                  <a:pt x="418" y="245"/>
                </a:lnTo>
                <a:lnTo>
                  <a:pt x="412" y="257"/>
                </a:lnTo>
                <a:lnTo>
                  <a:pt x="408" y="269"/>
                </a:lnTo>
                <a:lnTo>
                  <a:pt x="405" y="282"/>
                </a:lnTo>
                <a:lnTo>
                  <a:pt x="403" y="294"/>
                </a:lnTo>
                <a:lnTo>
                  <a:pt x="402" y="306"/>
                </a:lnTo>
                <a:lnTo>
                  <a:pt x="402" y="319"/>
                </a:lnTo>
                <a:lnTo>
                  <a:pt x="403" y="332"/>
                </a:lnTo>
                <a:lnTo>
                  <a:pt x="405" y="345"/>
                </a:lnTo>
                <a:lnTo>
                  <a:pt x="408" y="357"/>
                </a:lnTo>
                <a:lnTo>
                  <a:pt x="413" y="369"/>
                </a:lnTo>
                <a:close/>
                <a:moveTo>
                  <a:pt x="3216" y="1178"/>
                </a:moveTo>
                <a:lnTo>
                  <a:pt x="4079" y="2627"/>
                </a:lnTo>
                <a:lnTo>
                  <a:pt x="5555" y="2618"/>
                </a:lnTo>
                <a:lnTo>
                  <a:pt x="5574" y="2597"/>
                </a:lnTo>
                <a:lnTo>
                  <a:pt x="5593" y="2577"/>
                </a:lnTo>
                <a:lnTo>
                  <a:pt x="5609" y="2557"/>
                </a:lnTo>
                <a:lnTo>
                  <a:pt x="5622" y="2538"/>
                </a:lnTo>
                <a:lnTo>
                  <a:pt x="5632" y="2517"/>
                </a:lnTo>
                <a:lnTo>
                  <a:pt x="5642" y="2497"/>
                </a:lnTo>
                <a:lnTo>
                  <a:pt x="5646" y="2477"/>
                </a:lnTo>
                <a:lnTo>
                  <a:pt x="5649" y="2467"/>
                </a:lnTo>
                <a:lnTo>
                  <a:pt x="5649" y="2456"/>
                </a:lnTo>
                <a:lnTo>
                  <a:pt x="5650" y="2447"/>
                </a:lnTo>
                <a:lnTo>
                  <a:pt x="5649" y="2437"/>
                </a:lnTo>
                <a:lnTo>
                  <a:pt x="5648" y="2426"/>
                </a:lnTo>
                <a:lnTo>
                  <a:pt x="5645" y="2416"/>
                </a:lnTo>
                <a:lnTo>
                  <a:pt x="5643" y="2407"/>
                </a:lnTo>
                <a:lnTo>
                  <a:pt x="5638" y="2396"/>
                </a:lnTo>
                <a:lnTo>
                  <a:pt x="5634" y="2386"/>
                </a:lnTo>
                <a:lnTo>
                  <a:pt x="5629" y="2375"/>
                </a:lnTo>
                <a:lnTo>
                  <a:pt x="5623" y="2365"/>
                </a:lnTo>
                <a:lnTo>
                  <a:pt x="5615" y="2356"/>
                </a:lnTo>
                <a:lnTo>
                  <a:pt x="5599" y="2335"/>
                </a:lnTo>
                <a:lnTo>
                  <a:pt x="5578" y="2314"/>
                </a:lnTo>
                <a:lnTo>
                  <a:pt x="5555" y="2293"/>
                </a:lnTo>
                <a:lnTo>
                  <a:pt x="4470" y="2284"/>
                </a:lnTo>
                <a:lnTo>
                  <a:pt x="3786" y="1242"/>
                </a:lnTo>
                <a:lnTo>
                  <a:pt x="3756" y="1223"/>
                </a:lnTo>
                <a:lnTo>
                  <a:pt x="3726" y="1208"/>
                </a:lnTo>
                <a:lnTo>
                  <a:pt x="3694" y="1193"/>
                </a:lnTo>
                <a:lnTo>
                  <a:pt x="3662" y="1180"/>
                </a:lnTo>
                <a:lnTo>
                  <a:pt x="3630" y="1170"/>
                </a:lnTo>
                <a:lnTo>
                  <a:pt x="3596" y="1161"/>
                </a:lnTo>
                <a:lnTo>
                  <a:pt x="3561" y="1154"/>
                </a:lnTo>
                <a:lnTo>
                  <a:pt x="3526" y="1148"/>
                </a:lnTo>
                <a:lnTo>
                  <a:pt x="3490" y="1144"/>
                </a:lnTo>
                <a:lnTo>
                  <a:pt x="3455" y="1143"/>
                </a:lnTo>
                <a:lnTo>
                  <a:pt x="3416" y="1143"/>
                </a:lnTo>
                <a:lnTo>
                  <a:pt x="3378" y="1147"/>
                </a:lnTo>
                <a:lnTo>
                  <a:pt x="3340" y="1151"/>
                </a:lnTo>
                <a:lnTo>
                  <a:pt x="3299" y="1158"/>
                </a:lnTo>
                <a:lnTo>
                  <a:pt x="3259" y="1166"/>
                </a:lnTo>
                <a:lnTo>
                  <a:pt x="3216" y="1178"/>
                </a:lnTo>
                <a:close/>
                <a:moveTo>
                  <a:pt x="3230" y="2047"/>
                </a:moveTo>
                <a:lnTo>
                  <a:pt x="3230" y="4172"/>
                </a:lnTo>
                <a:lnTo>
                  <a:pt x="5160" y="4165"/>
                </a:lnTo>
                <a:lnTo>
                  <a:pt x="4337" y="3032"/>
                </a:lnTo>
                <a:lnTo>
                  <a:pt x="3846" y="3029"/>
                </a:lnTo>
                <a:lnTo>
                  <a:pt x="3230" y="204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MH_Other_1"/>
          <p:cNvSpPr/>
          <p:nvPr/>
        </p:nvSpPr>
        <p:spPr>
          <a:xfrm flipV="1">
            <a:off x="1881360" y="3509280"/>
            <a:ext cx="333360" cy="297000"/>
          </a:xfrm>
          <a:prstGeom prst="ellipse">
            <a:avLst/>
          </a:prstGeom>
          <a:solidFill>
            <a:srgbClr val="a6a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MH_Other_2"/>
          <p:cNvSpPr/>
          <p:nvPr/>
        </p:nvSpPr>
        <p:spPr>
          <a:xfrm flipV="1">
            <a:off x="2143080" y="3367080"/>
            <a:ext cx="203400" cy="179280"/>
          </a:xfrm>
          <a:prstGeom prst="ellipse">
            <a:avLst/>
          </a:prstGeom>
          <a:solidFill>
            <a:srgbClr val="a6a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MH_Other_3"/>
          <p:cNvSpPr/>
          <p:nvPr/>
        </p:nvSpPr>
        <p:spPr>
          <a:xfrm flipV="1">
            <a:off x="1881360" y="5001480"/>
            <a:ext cx="333360" cy="297000"/>
          </a:xfrm>
          <a:prstGeom prst="ellipse">
            <a:avLst/>
          </a:prstGeom>
          <a:solidFill>
            <a:srgbClr val="8585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MH_Other_4"/>
          <p:cNvSpPr/>
          <p:nvPr/>
        </p:nvSpPr>
        <p:spPr>
          <a:xfrm flipV="1">
            <a:off x="2143080" y="4857840"/>
            <a:ext cx="203400" cy="179280"/>
          </a:xfrm>
          <a:prstGeom prst="ellipse">
            <a:avLst/>
          </a:prstGeom>
          <a:solidFill>
            <a:srgbClr val="8585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MH_Other_5"/>
          <p:cNvSpPr/>
          <p:nvPr/>
        </p:nvSpPr>
        <p:spPr>
          <a:xfrm flipV="1">
            <a:off x="1881360" y="2017800"/>
            <a:ext cx="333360" cy="296640"/>
          </a:xfrm>
          <a:prstGeom prst="ellipse">
            <a:avLst/>
          </a:prstGeom>
          <a:solidFill>
            <a:srgbClr val="4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MH_Other_6"/>
          <p:cNvSpPr/>
          <p:nvPr/>
        </p:nvSpPr>
        <p:spPr>
          <a:xfrm flipV="1">
            <a:off x="2143080" y="1872360"/>
            <a:ext cx="203400" cy="179640"/>
          </a:xfrm>
          <a:prstGeom prst="ellipse">
            <a:avLst/>
          </a:prstGeom>
          <a:solidFill>
            <a:srgbClr val="4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MH_SubTitle_1"/>
          <p:cNvSpPr/>
          <p:nvPr/>
        </p:nvSpPr>
        <p:spPr>
          <a:xfrm>
            <a:off x="2664000" y="1943280"/>
            <a:ext cx="7967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说辞对象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期成交老客户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期来电来访意向客户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参加大众评审团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50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个名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MH_Other_7"/>
          <p:cNvSpPr/>
          <p:nvPr/>
        </p:nvSpPr>
        <p:spPr>
          <a:xfrm>
            <a:off x="1008000" y="1990800"/>
            <a:ext cx="1104840" cy="9824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  <a:ea typeface="黑体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MH_Other_8"/>
          <p:cNvSpPr/>
          <p:nvPr/>
        </p:nvSpPr>
        <p:spPr>
          <a:xfrm>
            <a:off x="1008000" y="3494160"/>
            <a:ext cx="1104840" cy="9824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  <a:ea typeface="黑体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MH_SubTitle_2"/>
          <p:cNvSpPr/>
          <p:nvPr/>
        </p:nvSpPr>
        <p:spPr>
          <a:xfrm>
            <a:off x="2664000" y="3095640"/>
            <a:ext cx="79088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MH_Other_9"/>
          <p:cNvSpPr/>
          <p:nvPr/>
        </p:nvSpPr>
        <p:spPr>
          <a:xfrm>
            <a:off x="1008000" y="4995720"/>
            <a:ext cx="1104840" cy="10526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黑体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MH_SubTitle_3"/>
          <p:cNvSpPr/>
          <p:nvPr/>
        </p:nvSpPr>
        <p:spPr>
          <a:xfrm>
            <a:off x="2627280" y="5151600"/>
            <a:ext cx="779796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场舞队伍邀约及亲友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次活动不限舞种，以团队报名，每个团队不超过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、不低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。以集体舞为主体的表演形式。每只参赛队伍均要求有固定亲友团参加，亲友团可增加积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MH_PageTitle"/>
          <p:cNvGrpSpPr/>
          <p:nvPr/>
        </p:nvGrpSpPr>
        <p:grpSpPr>
          <a:xfrm>
            <a:off x="504720" y="503280"/>
            <a:ext cx="10294560" cy="966240"/>
            <a:chOff x="504720" y="503280"/>
            <a:chExt cx="10294560" cy="966240"/>
          </a:xfrm>
        </p:grpSpPr>
        <p:pic>
          <p:nvPicPr>
            <p:cNvPr id="336" name="MH_PageTitle" descr=""/>
            <p:cNvPicPr/>
            <p:nvPr/>
          </p:nvPicPr>
          <p:blipFill>
            <a:blip r:embed="rId1"/>
            <a:stretch/>
          </p:blipFill>
          <p:spPr>
            <a:xfrm>
              <a:off x="504720" y="503280"/>
              <a:ext cx="10294560" cy="96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16"/>
            <p:cNvSpPr/>
            <p:nvPr/>
          </p:nvSpPr>
          <p:spPr>
            <a:xfrm>
              <a:off x="993960" y="636480"/>
              <a:ext cx="3076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1480"/>
                  <a:tab algn="l" pos="1542960"/>
                  <a:tab algn="l" pos="2314440"/>
                  <a:tab algn="l" pos="3086280"/>
                  <a:tab algn="l" pos="3857760"/>
                  <a:tab algn="l" pos="4629240"/>
                  <a:tab algn="l" pos="5400720"/>
                  <a:tab algn="l" pos="6172200"/>
                  <a:tab algn="l" pos="6943680"/>
                  <a:tab algn="l" pos="7715160"/>
                  <a:tab algn="l" pos="8486640"/>
                  <a:tab algn="l" pos="9258480"/>
                  <a:tab algn="l" pos="10029960"/>
                  <a:tab algn="l" pos="1080144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邀约说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7"/>
          <p:cNvSpPr/>
          <p:nvPr/>
        </p:nvSpPr>
        <p:spPr>
          <a:xfrm>
            <a:off x="2532240" y="3340080"/>
            <a:ext cx="789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加大众评审团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名额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区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生 士，您好！我是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工作人员。我们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场中心本周日晚将开展“金色人生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舞动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届广场舞大赛活动，我们设有大众评审团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名额。现在隆重邀请您参与其中，并赠送礼品一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3741840" y="2808360"/>
            <a:ext cx="33861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宣传推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MH_Other_1"/>
          <p:cNvSpPr/>
          <p:nvPr/>
        </p:nvSpPr>
        <p:spPr>
          <a:xfrm>
            <a:off x="4932720" y="1257480"/>
            <a:ext cx="94896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b0f0"/>
                </a:solidFill>
                <a:latin typeface="Arial"/>
                <a:ea typeface="微软雅黑"/>
              </a:rPr>
              <a:t>5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MH_Other_1"/>
          <p:cNvSpPr/>
          <p:nvPr/>
        </p:nvSpPr>
        <p:spPr>
          <a:xfrm>
            <a:off x="3743280" y="1008000"/>
            <a:ext cx="1384200" cy="1501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360" rIns="306360" tIns="352080" bIns="35208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798560"/>
                <a:tab algn="l" pos="3597120"/>
                <a:tab algn="l" pos="5396040"/>
                <a:tab algn="l" pos="7194600"/>
                <a:tab algn="l" pos="8993160"/>
                <a:tab algn="l" pos="1079172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网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MH_Other_2"/>
          <p:cNvSpPr/>
          <p:nvPr/>
        </p:nvSpPr>
        <p:spPr>
          <a:xfrm>
            <a:off x="5996160" y="2232000"/>
            <a:ext cx="1384200" cy="1501920"/>
          </a:xfrm>
          <a:prstGeom prst="pi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360" rIns="306360" tIns="352080" bIns="35208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798560"/>
                <a:tab algn="l" pos="3597120"/>
                <a:tab algn="l" pos="5396040"/>
                <a:tab algn="l" pos="7194600"/>
                <a:tab algn="l" pos="8993160"/>
                <a:tab algn="l" pos="1079172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短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MH_Other_3"/>
          <p:cNvSpPr/>
          <p:nvPr/>
        </p:nvSpPr>
        <p:spPr>
          <a:xfrm>
            <a:off x="3816360" y="3527280"/>
            <a:ext cx="1382760" cy="15019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360" rIns="306360" tIns="352080" bIns="35208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798560"/>
                <a:tab algn="l" pos="3597120"/>
                <a:tab algn="l" pos="5396040"/>
                <a:tab algn="l" pos="7194600"/>
                <a:tab algn="l" pos="8993160"/>
                <a:tab algn="l" pos="1079172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微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MH_Other_7"/>
          <p:cNvSpPr/>
          <p:nvPr/>
        </p:nvSpPr>
        <p:spPr>
          <a:xfrm>
            <a:off x="5256360" y="1008000"/>
            <a:ext cx="1384200" cy="15019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360" rIns="306360" tIns="352080" bIns="35208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798560"/>
                <a:tab algn="l" pos="3597120"/>
                <a:tab algn="l" pos="5396040"/>
                <a:tab algn="l" pos="7194600"/>
                <a:tab algn="l" pos="8993160"/>
                <a:tab algn="l" pos="1079172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报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MH_Other_8"/>
          <p:cNvSpPr/>
          <p:nvPr/>
        </p:nvSpPr>
        <p:spPr>
          <a:xfrm>
            <a:off x="5310360" y="3537000"/>
            <a:ext cx="1385640" cy="150336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360" rIns="306360" tIns="352080" bIns="35208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798560"/>
                <a:tab algn="l" pos="3597120"/>
                <a:tab algn="l" pos="5396040"/>
                <a:tab algn="l" pos="7194600"/>
                <a:tab algn="l" pos="8993160"/>
                <a:tab algn="l" pos="1079172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派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MH_Other_9"/>
          <p:cNvSpPr/>
          <p:nvPr/>
        </p:nvSpPr>
        <p:spPr>
          <a:xfrm>
            <a:off x="3024360" y="2303640"/>
            <a:ext cx="1382400" cy="1503360"/>
          </a:xfrm>
          <a:prstGeom prst="pi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360" rIns="306360" tIns="352080" bIns="35208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798560"/>
                <a:tab algn="l" pos="3597120"/>
                <a:tab algn="l" pos="5396040"/>
                <a:tab algn="l" pos="7194600"/>
                <a:tab algn="l" pos="8993160"/>
                <a:tab algn="l" pos="1079172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软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MH_SubTitle_1"/>
          <p:cNvSpPr/>
          <p:nvPr/>
        </p:nvSpPr>
        <p:spPr>
          <a:xfrm>
            <a:off x="988920" y="1511280"/>
            <a:ext cx="2727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MH_SubTitle_2"/>
          <p:cNvSpPr/>
          <p:nvPr/>
        </p:nvSpPr>
        <p:spPr>
          <a:xfrm>
            <a:off x="393840" y="2664000"/>
            <a:ext cx="266544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热软文发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MH_SubTitle_3"/>
          <p:cNvSpPr/>
          <p:nvPr/>
        </p:nvSpPr>
        <p:spPr>
          <a:xfrm>
            <a:off x="1079640" y="3959280"/>
            <a:ext cx="2727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微信公共平台发布活动预热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SubTitle_4"/>
          <p:cNvSpPr/>
          <p:nvPr/>
        </p:nvSpPr>
        <p:spPr>
          <a:xfrm>
            <a:off x="6848640" y="1224000"/>
            <a:ext cx="294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晚报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晚报报广上增加活动信息的宣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MH_SubTitle_5"/>
          <p:cNvSpPr/>
          <p:nvPr/>
        </p:nvSpPr>
        <p:spPr>
          <a:xfrm>
            <a:off x="7504200" y="2590920"/>
            <a:ext cx="2727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短信推送，邀约老业主参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MH_SubTitle_6"/>
          <p:cNvSpPr/>
          <p:nvPr/>
        </p:nvSpPr>
        <p:spPr>
          <a:xfrm>
            <a:off x="6834240" y="3816360"/>
            <a:ext cx="34621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区人流量集中的商场、街道等地派单，释放活动讯息，来访有礼，增加活动宣传同时增加来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MH_Title_1"/>
          <p:cNvSpPr/>
          <p:nvPr/>
        </p:nvSpPr>
        <p:spPr>
          <a:xfrm>
            <a:off x="4535640" y="2232000"/>
            <a:ext cx="1382400" cy="1501920"/>
          </a:xfrm>
          <a:prstGeom prst="pie">
            <a:avLst/>
          </a:prstGeom>
          <a:solidFill>
            <a:srgbClr val="1a93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渠道组合式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MH_SubTitle_1"/>
          <p:cNvSpPr/>
          <p:nvPr/>
        </p:nvSpPr>
        <p:spPr>
          <a:xfrm>
            <a:off x="792000" y="5688000"/>
            <a:ext cx="9215640" cy="677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活动通过审批后，各项宣传推广工作铺开，持续释放活动信息，吸引到访客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3741840" y="2808360"/>
            <a:ext cx="33861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活动费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MH_Other_1"/>
          <p:cNvSpPr/>
          <p:nvPr/>
        </p:nvSpPr>
        <p:spPr>
          <a:xfrm>
            <a:off x="4960440" y="1257480"/>
            <a:ext cx="94896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ffff00"/>
                </a:solidFill>
                <a:latin typeface="Arial"/>
                <a:ea typeface="微软雅黑"/>
              </a:rPr>
              <a:t>6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0" y="574560"/>
          <a:ext cx="10799640" cy="6183360"/>
        </p:xfrm>
        <a:graphic>
          <a:graphicData uri="http://schemas.openxmlformats.org/drawingml/2006/table">
            <a:tbl>
              <a:tblPr/>
              <a:tblGrid>
                <a:gridCol w="1604880"/>
                <a:gridCol w="2733840"/>
                <a:gridCol w="1325520"/>
                <a:gridCol w="1157400"/>
                <a:gridCol w="3978000"/>
              </a:tblGrid>
              <a:tr h="436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负责单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物品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数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价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备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31640">
                <a:tc rowSpan="11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活动事项及费用由活动公司打包执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舞台背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XX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5x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米喷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持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XX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活动主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3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音响及背景灯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XX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活动灯光背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奖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全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XXX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一等奖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XXX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元，二等奖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XX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三等奖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XX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颁奖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K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板、证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XX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获奖证书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K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评委打分道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XX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活动道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7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众评审团打分道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5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XX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活动道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冷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若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XX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供来访客户品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7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塑料凳及长条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6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个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XX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租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7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众评审团礼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5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XX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前期礼品剩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7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活动区间隔离一米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XX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活动区间分割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87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总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XXXX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3741840" y="2808360"/>
            <a:ext cx="33861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效果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MH_Other_1"/>
          <p:cNvSpPr/>
          <p:nvPr/>
        </p:nvSpPr>
        <p:spPr>
          <a:xfrm>
            <a:off x="4960440" y="1257480"/>
            <a:ext cx="94896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674109"/>
                </a:solidFill>
                <a:latin typeface="Arial"/>
                <a:ea typeface="微软雅黑"/>
              </a:rPr>
              <a:t>7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826920" y="6624720"/>
            <a:ext cx="582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MH_SubTitle_1"/>
          <p:cNvSpPr/>
          <p:nvPr/>
        </p:nvSpPr>
        <p:spPr>
          <a:xfrm>
            <a:off x="3852720" y="1366920"/>
            <a:ext cx="5324760" cy="101916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8320" rIns="202320" tIns="51480" bIns="5148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活动当天嫁接资源来访约</a:t>
            </a:r>
            <a:r>
              <a:rPr b="0" lang="en-US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150</a:t>
            </a:r>
            <a:r>
              <a:rPr b="0" lang="zh-CN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组，共计</a:t>
            </a:r>
            <a:r>
              <a:rPr b="0" lang="en-US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MH_SubTitle_2"/>
          <p:cNvSpPr/>
          <p:nvPr/>
        </p:nvSpPr>
        <p:spPr>
          <a:xfrm flipH="1">
            <a:off x="1510560" y="2448000"/>
            <a:ext cx="5329080" cy="1008000"/>
          </a:xfrm>
          <a:custGeom>
            <a:avLst/>
            <a:gdLst>
              <a:gd name="textAreaLeft" fmla="*/ -360 w 5329080"/>
              <a:gd name="textAreaRight" fmla="*/ 5329080 w 5329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3320" rIns="141696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MH_Other_1"/>
          <p:cNvSpPr/>
          <p:nvPr/>
        </p:nvSpPr>
        <p:spPr>
          <a:xfrm flipH="1">
            <a:off x="4160880" y="1604880"/>
            <a:ext cx="10476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MH_Other_2"/>
          <p:cNvSpPr/>
          <p:nvPr/>
        </p:nvSpPr>
        <p:spPr>
          <a:xfrm flipH="1">
            <a:off x="5471280" y="2590920"/>
            <a:ext cx="10479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MH_SubTitle_3"/>
          <p:cNvSpPr/>
          <p:nvPr/>
        </p:nvSpPr>
        <p:spPr>
          <a:xfrm>
            <a:off x="3852720" y="3475080"/>
            <a:ext cx="5324760" cy="1017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8320" rIns="202320" tIns="51480" bIns="5148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小区业主大众评审团</a:t>
            </a:r>
            <a:r>
              <a:rPr b="0" lang="en-US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人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MH_SubTitle_4"/>
          <p:cNvSpPr/>
          <p:nvPr/>
        </p:nvSpPr>
        <p:spPr>
          <a:xfrm flipH="1">
            <a:off x="1481040" y="4524480"/>
            <a:ext cx="5324400" cy="1017360"/>
          </a:xfrm>
          <a:custGeom>
            <a:avLst/>
            <a:gdLst>
              <a:gd name="textAreaLeft" fmla="*/ 360 w 5324400"/>
              <a:gd name="textAreaRight" fmla="*/ 5325120 w 5324400"/>
              <a:gd name="textAreaTop" fmla="*/ 0 h 1017360"/>
              <a:gd name="textAreaBottom" fmla="*/ 1017720 h 1017360"/>
            </a:gdLst>
            <a:ahLst/>
            <a:rect l="textAreaLeft" t="textAreaTop" r="textAreaRight" b="textAreaBottom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3320" rIns="1416960" tIns="51120" bIns="511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MH_Other_3"/>
          <p:cNvSpPr/>
          <p:nvPr/>
        </p:nvSpPr>
        <p:spPr>
          <a:xfrm flipH="1">
            <a:off x="4160880" y="3711600"/>
            <a:ext cx="1047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MH_Other_4"/>
          <p:cNvSpPr/>
          <p:nvPr/>
        </p:nvSpPr>
        <p:spPr>
          <a:xfrm flipH="1">
            <a:off x="5500800" y="4759200"/>
            <a:ext cx="10476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1871640" y="2448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软文、微信、单页等渠道释放活动信息，吸引客户到访</a:t>
            </a:r>
            <a:r>
              <a:rPr b="0" lang="en-US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人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1727280" y="482436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自然到访参与客户</a:t>
            </a:r>
            <a:r>
              <a:rPr b="0" lang="en-US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人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3"/>
          <p:cNvSpPr/>
          <p:nvPr/>
        </p:nvSpPr>
        <p:spPr>
          <a:xfrm>
            <a:off x="3741840" y="2808360"/>
            <a:ext cx="38908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后期资源跟进合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MH_Other_1"/>
          <p:cNvSpPr/>
          <p:nvPr/>
        </p:nvSpPr>
        <p:spPr>
          <a:xfrm>
            <a:off x="4964040" y="1257480"/>
            <a:ext cx="94896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70c0"/>
                </a:solidFill>
                <a:latin typeface="Arial"/>
                <a:ea typeface="微软雅黑"/>
              </a:rPr>
              <a:t>8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标题 1"/>
          <p:cNvSpPr/>
          <p:nvPr/>
        </p:nvSpPr>
        <p:spPr>
          <a:xfrm>
            <a:off x="3357720" y="1181160"/>
            <a:ext cx="697536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对到场的广场舞资源及亲友团当天意向客户跟踪洽谈，并保持后期电话联系，利用兼职销售经纪人政策邀起推介客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场舞队伍排练场地公园摆放展架、派单，让广场舞阿姨帮忙推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排每个销售拓客对应一个广场舞队伍，联系阿姨居住社区、其他参与社团，进行渗透，开展上门拜访、贴海报宣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MH_Other_1"/>
          <p:cNvSpPr/>
          <p:nvPr/>
        </p:nvSpPr>
        <p:spPr>
          <a:xfrm rot="21439200">
            <a:off x="1608120" y="4179600"/>
            <a:ext cx="1214280" cy="1093680"/>
          </a:xfrm>
          <a:prstGeom prst="roundRect">
            <a:avLst>
              <a:gd name="adj" fmla="val 18565"/>
            </a:avLst>
          </a:prstGeom>
          <a:solidFill>
            <a:srgbClr val="0070c0"/>
          </a:solidFill>
          <a:ln w="12600">
            <a:solidFill>
              <a:srgbClr val="b83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MH_Other_3"/>
          <p:cNvSpPr/>
          <p:nvPr/>
        </p:nvSpPr>
        <p:spPr>
          <a:xfrm rot="21439200">
            <a:off x="2117880" y="2941560"/>
            <a:ext cx="1215720" cy="1094040"/>
          </a:xfrm>
          <a:prstGeom prst="roundRect">
            <a:avLst>
              <a:gd name="adj" fmla="val 18565"/>
            </a:avLst>
          </a:prstGeom>
          <a:solidFill>
            <a:srgbClr val="0070c0"/>
          </a:solidFill>
          <a:ln w="12600">
            <a:solidFill>
              <a:srgbClr val="ba76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MH_Other_5"/>
          <p:cNvSpPr/>
          <p:nvPr/>
        </p:nvSpPr>
        <p:spPr>
          <a:xfrm rot="21116400">
            <a:off x="1803240" y="1663200"/>
            <a:ext cx="1212840" cy="1092240"/>
          </a:xfrm>
          <a:prstGeom prst="roundRect">
            <a:avLst>
              <a:gd name="adj" fmla="val 18565"/>
            </a:avLst>
          </a:prstGeom>
          <a:solidFill>
            <a:srgbClr val="0070c0"/>
          </a:solidFill>
          <a:ln w="12600">
            <a:solidFill>
              <a:srgbClr val="bf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MH_Other_7"/>
          <p:cNvSpPr/>
          <p:nvPr/>
        </p:nvSpPr>
        <p:spPr>
          <a:xfrm>
            <a:off x="411120" y="2209680"/>
            <a:ext cx="1542960" cy="3171960"/>
          </a:xfrm>
          <a:custGeom>
            <a:avLst/>
            <a:gdLst/>
            <a:ahLst/>
            <a:rect l="l" t="t" r="r" b="b"/>
            <a:pathLst>
              <a:path w="1306152" h="2686846">
                <a:moveTo>
                  <a:pt x="293746" y="0"/>
                </a:moveTo>
                <a:cubicBezTo>
                  <a:pt x="454878" y="0"/>
                  <a:pt x="585501" y="130623"/>
                  <a:pt x="585501" y="291755"/>
                </a:cubicBezTo>
                <a:cubicBezTo>
                  <a:pt x="585501" y="311897"/>
                  <a:pt x="583460" y="331561"/>
                  <a:pt x="579574" y="350554"/>
                </a:cubicBezTo>
                <a:lnTo>
                  <a:pt x="577096" y="358536"/>
                </a:lnTo>
                <a:lnTo>
                  <a:pt x="935187" y="95888"/>
                </a:lnTo>
                <a:cubicBezTo>
                  <a:pt x="950578" y="84599"/>
                  <a:pt x="972206" y="87925"/>
                  <a:pt x="983494" y="103315"/>
                </a:cubicBezTo>
                <a:lnTo>
                  <a:pt x="1065250" y="214780"/>
                </a:lnTo>
                <a:cubicBezTo>
                  <a:pt x="1076539" y="230171"/>
                  <a:pt x="1073213" y="251799"/>
                  <a:pt x="1057823" y="263088"/>
                </a:cubicBezTo>
                <a:lnTo>
                  <a:pt x="613339" y="589102"/>
                </a:lnTo>
                <a:lnTo>
                  <a:pt x="1182197" y="245417"/>
                </a:lnTo>
                <a:cubicBezTo>
                  <a:pt x="1198539" y="235544"/>
                  <a:pt x="1219790" y="240788"/>
                  <a:pt x="1229663" y="257130"/>
                </a:cubicBezTo>
                <a:lnTo>
                  <a:pt x="1301166" y="375480"/>
                </a:lnTo>
                <a:cubicBezTo>
                  <a:pt x="1311039" y="391821"/>
                  <a:pt x="1305795" y="413072"/>
                  <a:pt x="1289454" y="422945"/>
                </a:cubicBezTo>
                <a:lnTo>
                  <a:pt x="520445" y="887555"/>
                </a:lnTo>
                <a:lnTo>
                  <a:pt x="520445" y="1530594"/>
                </a:lnTo>
                <a:lnTo>
                  <a:pt x="517079" y="1547268"/>
                </a:lnTo>
                <a:lnTo>
                  <a:pt x="524388" y="1558620"/>
                </a:lnTo>
                <a:lnTo>
                  <a:pt x="598416" y="1747885"/>
                </a:lnTo>
                <a:lnTo>
                  <a:pt x="602444" y="1749554"/>
                </a:lnTo>
                <a:cubicBezTo>
                  <a:pt x="609487" y="1756597"/>
                  <a:pt x="613843" y="1766326"/>
                  <a:pt x="613843" y="1777073"/>
                </a:cubicBezTo>
                <a:lnTo>
                  <a:pt x="613843" y="2639033"/>
                </a:lnTo>
                <a:cubicBezTo>
                  <a:pt x="613843" y="2660527"/>
                  <a:pt x="596418" y="2677952"/>
                  <a:pt x="574924" y="2677952"/>
                </a:cubicBezTo>
                <a:lnTo>
                  <a:pt x="419251" y="2677952"/>
                </a:lnTo>
                <a:cubicBezTo>
                  <a:pt x="397757" y="2677952"/>
                  <a:pt x="380332" y="2660527"/>
                  <a:pt x="380332" y="2639033"/>
                </a:cubicBezTo>
                <a:lnTo>
                  <a:pt x="380332" y="1815414"/>
                </a:lnTo>
                <a:lnTo>
                  <a:pt x="312333" y="1641561"/>
                </a:lnTo>
                <a:lnTo>
                  <a:pt x="308084" y="1617337"/>
                </a:lnTo>
                <a:lnTo>
                  <a:pt x="233545" y="1617337"/>
                </a:lnTo>
                <a:lnTo>
                  <a:pt x="233545" y="2648895"/>
                </a:lnTo>
                <a:cubicBezTo>
                  <a:pt x="233545" y="2669855"/>
                  <a:pt x="216554" y="2686846"/>
                  <a:pt x="195594" y="2686846"/>
                </a:cubicBezTo>
                <a:lnTo>
                  <a:pt x="43797" y="2686846"/>
                </a:lnTo>
                <a:cubicBezTo>
                  <a:pt x="22837" y="2686846"/>
                  <a:pt x="5846" y="2669855"/>
                  <a:pt x="5846" y="2648895"/>
                </a:cubicBezTo>
                <a:lnTo>
                  <a:pt x="5846" y="1581840"/>
                </a:lnTo>
                <a:lnTo>
                  <a:pt x="10701" y="1570120"/>
                </a:lnTo>
                <a:lnTo>
                  <a:pt x="6817" y="1564359"/>
                </a:lnTo>
                <a:cubicBezTo>
                  <a:pt x="2427" y="1553981"/>
                  <a:pt x="0" y="1542571"/>
                  <a:pt x="0" y="1530594"/>
                </a:cubicBezTo>
                <a:lnTo>
                  <a:pt x="0" y="695715"/>
                </a:lnTo>
                <a:cubicBezTo>
                  <a:pt x="0" y="647808"/>
                  <a:pt x="38836" y="608972"/>
                  <a:pt x="86743" y="608972"/>
                </a:cubicBezTo>
                <a:lnTo>
                  <a:pt x="235655" y="608972"/>
                </a:lnTo>
                <a:lnTo>
                  <a:pt x="275415" y="579809"/>
                </a:lnTo>
                <a:lnTo>
                  <a:pt x="180182" y="560583"/>
                </a:lnTo>
                <a:cubicBezTo>
                  <a:pt x="75466" y="516292"/>
                  <a:pt x="1991" y="412604"/>
                  <a:pt x="1991" y="291755"/>
                </a:cubicBezTo>
                <a:cubicBezTo>
                  <a:pt x="1991" y="130623"/>
                  <a:pt x="132614" y="0"/>
                  <a:pt x="293746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826920" y="6624720"/>
            <a:ext cx="582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任意多边形 5"/>
          <p:cNvSpPr/>
          <p:nvPr/>
        </p:nvSpPr>
        <p:spPr>
          <a:xfrm flipV="1" rot="3131400">
            <a:off x="3789720" y="1029960"/>
            <a:ext cx="3476520" cy="4373280"/>
          </a:xfrm>
          <a:custGeom>
            <a:avLst/>
            <a:gdLst/>
            <a:ahLst/>
            <a:rect l="l" t="t" r="r" b="b"/>
            <a:pathLst>
              <a:path w="3925991" h="4937492">
                <a:moveTo>
                  <a:pt x="1588293" y="2290541"/>
                </a:moveTo>
                <a:lnTo>
                  <a:pt x="2063727" y="1821287"/>
                </a:lnTo>
                <a:lnTo>
                  <a:pt x="2189212" y="2081910"/>
                </a:lnTo>
                <a:lnTo>
                  <a:pt x="1588293" y="2290541"/>
                </a:lnTo>
                <a:close/>
                <a:moveTo>
                  <a:pt x="1526366" y="2351663"/>
                </a:moveTo>
                <a:lnTo>
                  <a:pt x="1573848" y="2304798"/>
                </a:lnTo>
                <a:lnTo>
                  <a:pt x="2654669" y="2121927"/>
                </a:lnTo>
                <a:lnTo>
                  <a:pt x="2607219" y="1936784"/>
                </a:lnTo>
                <a:lnTo>
                  <a:pt x="2413412" y="2004071"/>
                </a:lnTo>
                <a:lnTo>
                  <a:pt x="2124688" y="1761118"/>
                </a:lnTo>
                <a:lnTo>
                  <a:pt x="2347705" y="1540999"/>
                </a:lnTo>
                <a:lnTo>
                  <a:pt x="2119430" y="1361689"/>
                </a:lnTo>
                <a:lnTo>
                  <a:pt x="1556336" y="2301636"/>
                </a:lnTo>
                <a:lnTo>
                  <a:pt x="1521924" y="2313583"/>
                </a:lnTo>
                <a:lnTo>
                  <a:pt x="1552253" y="2308452"/>
                </a:lnTo>
                <a:lnTo>
                  <a:pt x="1526366" y="2351663"/>
                </a:lnTo>
                <a:close/>
                <a:moveTo>
                  <a:pt x="0" y="534139"/>
                </a:moveTo>
                <a:lnTo>
                  <a:pt x="748392" y="1253112"/>
                </a:lnTo>
                <a:lnTo>
                  <a:pt x="430781" y="691321"/>
                </a:lnTo>
                <a:lnTo>
                  <a:pt x="1327878" y="298905"/>
                </a:lnTo>
                <a:lnTo>
                  <a:pt x="1138066" y="0"/>
                </a:lnTo>
                <a:lnTo>
                  <a:pt x="403558" y="643170"/>
                </a:lnTo>
                <a:lnTo>
                  <a:pt x="237644" y="349702"/>
                </a:lnTo>
                <a:lnTo>
                  <a:pt x="0" y="534139"/>
                </a:lnTo>
                <a:close/>
                <a:moveTo>
                  <a:pt x="3259808" y="4769533"/>
                </a:moveTo>
                <a:lnTo>
                  <a:pt x="3326451" y="4769533"/>
                </a:lnTo>
                <a:lnTo>
                  <a:pt x="3259808" y="4546311"/>
                </a:lnTo>
                <a:lnTo>
                  <a:pt x="3259808" y="4769533"/>
                </a:lnTo>
                <a:close/>
                <a:moveTo>
                  <a:pt x="715016" y="1545812"/>
                </a:moveTo>
                <a:lnTo>
                  <a:pt x="1224662" y="1228640"/>
                </a:lnTo>
                <a:lnTo>
                  <a:pt x="1553185" y="1505082"/>
                </a:lnTo>
                <a:lnTo>
                  <a:pt x="985860" y="1875541"/>
                </a:lnTo>
                <a:lnTo>
                  <a:pt x="1114162" y="2040856"/>
                </a:lnTo>
                <a:lnTo>
                  <a:pt x="1629252" y="1569091"/>
                </a:lnTo>
                <a:lnTo>
                  <a:pt x="1629945" y="1569674"/>
                </a:lnTo>
                <a:lnTo>
                  <a:pt x="1629538" y="1568829"/>
                </a:lnTo>
                <a:lnTo>
                  <a:pt x="2061669" y="1173046"/>
                </a:lnTo>
                <a:lnTo>
                  <a:pt x="1587923" y="1482398"/>
                </a:lnTo>
                <a:lnTo>
                  <a:pt x="1410160" y="1113198"/>
                </a:lnTo>
                <a:lnTo>
                  <a:pt x="1808084" y="865554"/>
                </a:lnTo>
                <a:lnTo>
                  <a:pt x="1645264" y="655764"/>
                </a:lnTo>
                <a:lnTo>
                  <a:pt x="715016" y="1545812"/>
                </a:lnTo>
                <a:close/>
                <a:moveTo>
                  <a:pt x="2756171" y="4212531"/>
                </a:moveTo>
                <a:lnTo>
                  <a:pt x="3140506" y="3905777"/>
                </a:lnTo>
                <a:lnTo>
                  <a:pt x="3176620" y="4432247"/>
                </a:lnTo>
                <a:lnTo>
                  <a:pt x="3380443" y="3809456"/>
                </a:lnTo>
                <a:lnTo>
                  <a:pt x="3925991" y="3818061"/>
                </a:lnTo>
                <a:lnTo>
                  <a:pt x="3879334" y="3556633"/>
                </a:lnTo>
                <a:lnTo>
                  <a:pt x="3339029" y="3765576"/>
                </a:lnTo>
                <a:lnTo>
                  <a:pt x="3319251" y="3763113"/>
                </a:lnTo>
                <a:lnTo>
                  <a:pt x="3766016" y="3406530"/>
                </a:lnTo>
                <a:lnTo>
                  <a:pt x="3517889" y="3168879"/>
                </a:lnTo>
                <a:lnTo>
                  <a:pt x="2756171" y="4212531"/>
                </a:lnTo>
                <a:close/>
                <a:moveTo>
                  <a:pt x="1894465" y="3132813"/>
                </a:moveTo>
                <a:lnTo>
                  <a:pt x="1926278" y="3130130"/>
                </a:lnTo>
                <a:lnTo>
                  <a:pt x="1911336" y="3147018"/>
                </a:lnTo>
                <a:lnTo>
                  <a:pt x="1935017" y="3129393"/>
                </a:lnTo>
                <a:lnTo>
                  <a:pt x="2934976" y="3045067"/>
                </a:lnTo>
                <a:lnTo>
                  <a:pt x="2323478" y="3627121"/>
                </a:lnTo>
                <a:lnTo>
                  <a:pt x="3302960" y="3014035"/>
                </a:lnTo>
                <a:lnTo>
                  <a:pt x="3327171" y="3011993"/>
                </a:lnTo>
                <a:lnTo>
                  <a:pt x="3325066" y="3000198"/>
                </a:lnTo>
                <a:lnTo>
                  <a:pt x="3414494" y="2944223"/>
                </a:lnTo>
                <a:lnTo>
                  <a:pt x="3285386" y="2777869"/>
                </a:lnTo>
                <a:lnTo>
                  <a:pt x="3280513" y="2750563"/>
                </a:lnTo>
                <a:lnTo>
                  <a:pt x="3267071" y="2754270"/>
                </a:lnTo>
                <a:lnTo>
                  <a:pt x="3255775" y="2739715"/>
                </a:lnTo>
                <a:lnTo>
                  <a:pt x="3229637" y="2764594"/>
                </a:lnTo>
                <a:lnTo>
                  <a:pt x="1951589" y="3117059"/>
                </a:lnTo>
                <a:lnTo>
                  <a:pt x="2944142" y="2378348"/>
                </a:lnTo>
                <a:lnTo>
                  <a:pt x="2764465" y="2182801"/>
                </a:lnTo>
                <a:lnTo>
                  <a:pt x="1933406" y="3122074"/>
                </a:lnTo>
                <a:lnTo>
                  <a:pt x="1894465" y="3132813"/>
                </a:lnTo>
                <a:close/>
                <a:moveTo>
                  <a:pt x="3194103" y="4937492"/>
                </a:moveTo>
                <a:lnTo>
                  <a:pt x="3257914" y="4924012"/>
                </a:lnTo>
                <a:lnTo>
                  <a:pt x="3212759" y="4710275"/>
                </a:lnTo>
                <a:lnTo>
                  <a:pt x="3194103" y="4937492"/>
                </a:lnTo>
                <a:close/>
                <a:moveTo>
                  <a:pt x="3024632" y="4815933"/>
                </a:moveTo>
                <a:lnTo>
                  <a:pt x="3137795" y="4844962"/>
                </a:lnTo>
                <a:lnTo>
                  <a:pt x="3178445" y="4451404"/>
                </a:lnTo>
                <a:lnTo>
                  <a:pt x="3024632" y="48159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4103640"/>
            <a:ext cx="10799640" cy="1728720"/>
          </a:xfrm>
          <a:prstGeom prst="rect">
            <a:avLst/>
          </a:prstGeom>
          <a:solidFill>
            <a:srgbClr val="0070c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440000" y="4460760"/>
            <a:ext cx="866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金色人生</a:t>
            </a:r>
            <a:r>
              <a:rPr b="0" lang="en-US" sz="6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·</a:t>
            </a:r>
            <a:r>
              <a:rPr b="0" lang="zh-CN" sz="6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舞动</a:t>
            </a:r>
            <a:r>
              <a:rPr b="0" lang="en-US" sz="6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X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KSO_Shape"/>
          <p:cNvSpPr/>
          <p:nvPr/>
        </p:nvSpPr>
        <p:spPr>
          <a:xfrm>
            <a:off x="9372600" y="4103640"/>
            <a:ext cx="399960" cy="522360"/>
          </a:xfrm>
          <a:custGeom>
            <a:avLst/>
            <a:gdLst/>
            <a:ahLst/>
            <a:rect l="l" t="t" r="r" b="b"/>
            <a:pathLst>
              <a:path w="6015" h="7358">
                <a:moveTo>
                  <a:pt x="2777" y="2897"/>
                </a:moveTo>
                <a:lnTo>
                  <a:pt x="2777" y="2897"/>
                </a:lnTo>
                <a:lnTo>
                  <a:pt x="2785" y="2895"/>
                </a:lnTo>
                <a:lnTo>
                  <a:pt x="2792" y="2895"/>
                </a:lnTo>
                <a:lnTo>
                  <a:pt x="2800" y="2895"/>
                </a:lnTo>
                <a:lnTo>
                  <a:pt x="2808" y="2897"/>
                </a:lnTo>
                <a:lnTo>
                  <a:pt x="2811" y="2802"/>
                </a:lnTo>
                <a:lnTo>
                  <a:pt x="2818" y="2692"/>
                </a:lnTo>
                <a:lnTo>
                  <a:pt x="2827" y="2565"/>
                </a:lnTo>
                <a:lnTo>
                  <a:pt x="2834" y="2497"/>
                </a:lnTo>
                <a:lnTo>
                  <a:pt x="2840" y="2425"/>
                </a:lnTo>
                <a:lnTo>
                  <a:pt x="2848" y="2351"/>
                </a:lnTo>
                <a:lnTo>
                  <a:pt x="2858" y="2274"/>
                </a:lnTo>
                <a:lnTo>
                  <a:pt x="2868" y="2195"/>
                </a:lnTo>
                <a:lnTo>
                  <a:pt x="2881" y="2112"/>
                </a:lnTo>
                <a:lnTo>
                  <a:pt x="2893" y="2028"/>
                </a:lnTo>
                <a:lnTo>
                  <a:pt x="2908" y="1942"/>
                </a:lnTo>
                <a:lnTo>
                  <a:pt x="2925" y="1854"/>
                </a:lnTo>
                <a:lnTo>
                  <a:pt x="2941" y="1764"/>
                </a:lnTo>
                <a:lnTo>
                  <a:pt x="2962" y="1672"/>
                </a:lnTo>
                <a:lnTo>
                  <a:pt x="2982" y="1580"/>
                </a:lnTo>
                <a:lnTo>
                  <a:pt x="3006" y="1486"/>
                </a:lnTo>
                <a:lnTo>
                  <a:pt x="3030" y="1392"/>
                </a:lnTo>
                <a:lnTo>
                  <a:pt x="3057" y="1296"/>
                </a:lnTo>
                <a:lnTo>
                  <a:pt x="3085" y="1201"/>
                </a:lnTo>
                <a:lnTo>
                  <a:pt x="3117" y="1105"/>
                </a:lnTo>
                <a:lnTo>
                  <a:pt x="3150" y="1008"/>
                </a:lnTo>
                <a:lnTo>
                  <a:pt x="3184" y="913"/>
                </a:lnTo>
                <a:lnTo>
                  <a:pt x="3223" y="817"/>
                </a:lnTo>
                <a:lnTo>
                  <a:pt x="3262" y="722"/>
                </a:lnTo>
                <a:lnTo>
                  <a:pt x="3305" y="627"/>
                </a:lnTo>
                <a:lnTo>
                  <a:pt x="3327" y="580"/>
                </a:lnTo>
                <a:lnTo>
                  <a:pt x="3350" y="533"/>
                </a:lnTo>
                <a:lnTo>
                  <a:pt x="3373" y="487"/>
                </a:lnTo>
                <a:lnTo>
                  <a:pt x="3397" y="440"/>
                </a:lnTo>
                <a:lnTo>
                  <a:pt x="3422" y="394"/>
                </a:lnTo>
                <a:lnTo>
                  <a:pt x="3448" y="348"/>
                </a:lnTo>
                <a:lnTo>
                  <a:pt x="3473" y="303"/>
                </a:lnTo>
                <a:lnTo>
                  <a:pt x="3500" y="258"/>
                </a:lnTo>
                <a:lnTo>
                  <a:pt x="3490" y="252"/>
                </a:lnTo>
                <a:lnTo>
                  <a:pt x="3481" y="244"/>
                </a:lnTo>
                <a:lnTo>
                  <a:pt x="3472" y="236"/>
                </a:lnTo>
                <a:lnTo>
                  <a:pt x="3464" y="226"/>
                </a:lnTo>
                <a:lnTo>
                  <a:pt x="3458" y="216"/>
                </a:lnTo>
                <a:lnTo>
                  <a:pt x="3452" y="205"/>
                </a:lnTo>
                <a:lnTo>
                  <a:pt x="3446" y="194"/>
                </a:lnTo>
                <a:lnTo>
                  <a:pt x="3442" y="182"/>
                </a:lnTo>
                <a:lnTo>
                  <a:pt x="3439" y="167"/>
                </a:lnTo>
                <a:lnTo>
                  <a:pt x="3436" y="154"/>
                </a:lnTo>
                <a:lnTo>
                  <a:pt x="3435" y="140"/>
                </a:lnTo>
                <a:lnTo>
                  <a:pt x="3436" y="126"/>
                </a:lnTo>
                <a:lnTo>
                  <a:pt x="3439" y="112"/>
                </a:lnTo>
                <a:lnTo>
                  <a:pt x="3442" y="100"/>
                </a:lnTo>
                <a:lnTo>
                  <a:pt x="3446" y="86"/>
                </a:lnTo>
                <a:lnTo>
                  <a:pt x="3452" y="75"/>
                </a:lnTo>
                <a:lnTo>
                  <a:pt x="3459" y="63"/>
                </a:lnTo>
                <a:lnTo>
                  <a:pt x="3467" y="53"/>
                </a:lnTo>
                <a:lnTo>
                  <a:pt x="3476" y="42"/>
                </a:lnTo>
                <a:lnTo>
                  <a:pt x="3486" y="32"/>
                </a:lnTo>
                <a:lnTo>
                  <a:pt x="3497" y="24"/>
                </a:lnTo>
                <a:lnTo>
                  <a:pt x="3508" y="18"/>
                </a:lnTo>
                <a:lnTo>
                  <a:pt x="3522" y="11"/>
                </a:lnTo>
                <a:lnTo>
                  <a:pt x="3535" y="6"/>
                </a:lnTo>
                <a:lnTo>
                  <a:pt x="3549" y="3"/>
                </a:lnTo>
                <a:lnTo>
                  <a:pt x="3562" y="1"/>
                </a:lnTo>
                <a:lnTo>
                  <a:pt x="3577" y="0"/>
                </a:lnTo>
                <a:lnTo>
                  <a:pt x="3590" y="1"/>
                </a:lnTo>
                <a:lnTo>
                  <a:pt x="3604" y="3"/>
                </a:lnTo>
                <a:lnTo>
                  <a:pt x="3617" y="6"/>
                </a:lnTo>
                <a:lnTo>
                  <a:pt x="3630" y="11"/>
                </a:lnTo>
                <a:lnTo>
                  <a:pt x="3642" y="17"/>
                </a:lnTo>
                <a:lnTo>
                  <a:pt x="3653" y="23"/>
                </a:lnTo>
                <a:lnTo>
                  <a:pt x="3665" y="31"/>
                </a:lnTo>
                <a:lnTo>
                  <a:pt x="3675" y="40"/>
                </a:lnTo>
                <a:lnTo>
                  <a:pt x="3684" y="50"/>
                </a:lnTo>
                <a:lnTo>
                  <a:pt x="3692" y="62"/>
                </a:lnTo>
                <a:lnTo>
                  <a:pt x="3699" y="73"/>
                </a:lnTo>
                <a:lnTo>
                  <a:pt x="3705" y="85"/>
                </a:lnTo>
                <a:lnTo>
                  <a:pt x="3711" y="100"/>
                </a:lnTo>
                <a:lnTo>
                  <a:pt x="3714" y="113"/>
                </a:lnTo>
                <a:lnTo>
                  <a:pt x="3716" y="127"/>
                </a:lnTo>
                <a:lnTo>
                  <a:pt x="3716" y="141"/>
                </a:lnTo>
                <a:lnTo>
                  <a:pt x="3716" y="155"/>
                </a:lnTo>
                <a:lnTo>
                  <a:pt x="3714" y="168"/>
                </a:lnTo>
                <a:lnTo>
                  <a:pt x="3711" y="181"/>
                </a:lnTo>
                <a:lnTo>
                  <a:pt x="3706" y="194"/>
                </a:lnTo>
                <a:lnTo>
                  <a:pt x="3701" y="207"/>
                </a:lnTo>
                <a:lnTo>
                  <a:pt x="3694" y="218"/>
                </a:lnTo>
                <a:lnTo>
                  <a:pt x="3685" y="229"/>
                </a:lnTo>
                <a:lnTo>
                  <a:pt x="3676" y="239"/>
                </a:lnTo>
                <a:lnTo>
                  <a:pt x="3667" y="248"/>
                </a:lnTo>
                <a:lnTo>
                  <a:pt x="3656" y="256"/>
                </a:lnTo>
                <a:lnTo>
                  <a:pt x="3643" y="264"/>
                </a:lnTo>
                <a:lnTo>
                  <a:pt x="3631" y="270"/>
                </a:lnTo>
                <a:lnTo>
                  <a:pt x="3617" y="275"/>
                </a:lnTo>
                <a:lnTo>
                  <a:pt x="3604" y="279"/>
                </a:lnTo>
                <a:lnTo>
                  <a:pt x="3590" y="280"/>
                </a:lnTo>
                <a:lnTo>
                  <a:pt x="3576" y="281"/>
                </a:lnTo>
                <a:lnTo>
                  <a:pt x="3562" y="280"/>
                </a:lnTo>
                <a:lnTo>
                  <a:pt x="3549" y="279"/>
                </a:lnTo>
                <a:lnTo>
                  <a:pt x="3536" y="275"/>
                </a:lnTo>
                <a:lnTo>
                  <a:pt x="3523" y="271"/>
                </a:lnTo>
                <a:lnTo>
                  <a:pt x="3512" y="265"/>
                </a:lnTo>
                <a:lnTo>
                  <a:pt x="3477" y="336"/>
                </a:lnTo>
                <a:lnTo>
                  <a:pt x="3437" y="421"/>
                </a:lnTo>
                <a:lnTo>
                  <a:pt x="3395" y="521"/>
                </a:lnTo>
                <a:lnTo>
                  <a:pt x="3371" y="578"/>
                </a:lnTo>
                <a:lnTo>
                  <a:pt x="3347" y="636"/>
                </a:lnTo>
                <a:lnTo>
                  <a:pt x="3324" y="699"/>
                </a:lnTo>
                <a:lnTo>
                  <a:pt x="3299" y="764"/>
                </a:lnTo>
                <a:lnTo>
                  <a:pt x="3273" y="834"/>
                </a:lnTo>
                <a:lnTo>
                  <a:pt x="3248" y="906"/>
                </a:lnTo>
                <a:lnTo>
                  <a:pt x="3223" y="981"/>
                </a:lnTo>
                <a:lnTo>
                  <a:pt x="3198" y="1060"/>
                </a:lnTo>
                <a:lnTo>
                  <a:pt x="3172" y="1142"/>
                </a:lnTo>
                <a:lnTo>
                  <a:pt x="3147" y="1226"/>
                </a:lnTo>
                <a:lnTo>
                  <a:pt x="3123" y="1314"/>
                </a:lnTo>
                <a:lnTo>
                  <a:pt x="3099" y="1405"/>
                </a:lnTo>
                <a:lnTo>
                  <a:pt x="3075" y="1499"/>
                </a:lnTo>
                <a:lnTo>
                  <a:pt x="3053" y="1595"/>
                </a:lnTo>
                <a:lnTo>
                  <a:pt x="3031" y="1694"/>
                </a:lnTo>
                <a:lnTo>
                  <a:pt x="3010" y="1797"/>
                </a:lnTo>
                <a:lnTo>
                  <a:pt x="2991" y="1900"/>
                </a:lnTo>
                <a:lnTo>
                  <a:pt x="2972" y="2008"/>
                </a:lnTo>
                <a:lnTo>
                  <a:pt x="2955" y="2117"/>
                </a:lnTo>
                <a:lnTo>
                  <a:pt x="2939" y="2229"/>
                </a:lnTo>
                <a:lnTo>
                  <a:pt x="2926" y="2344"/>
                </a:lnTo>
                <a:lnTo>
                  <a:pt x="2913" y="2460"/>
                </a:lnTo>
                <a:lnTo>
                  <a:pt x="2902" y="2579"/>
                </a:lnTo>
                <a:lnTo>
                  <a:pt x="2894" y="2701"/>
                </a:lnTo>
                <a:lnTo>
                  <a:pt x="2887" y="2824"/>
                </a:lnTo>
                <a:lnTo>
                  <a:pt x="2883" y="2950"/>
                </a:lnTo>
                <a:lnTo>
                  <a:pt x="2895" y="2964"/>
                </a:lnTo>
                <a:lnTo>
                  <a:pt x="2908" y="2978"/>
                </a:lnTo>
                <a:lnTo>
                  <a:pt x="2934" y="3012"/>
                </a:lnTo>
                <a:lnTo>
                  <a:pt x="2961" y="3050"/>
                </a:lnTo>
                <a:lnTo>
                  <a:pt x="2988" y="3093"/>
                </a:lnTo>
                <a:lnTo>
                  <a:pt x="3016" y="3141"/>
                </a:lnTo>
                <a:lnTo>
                  <a:pt x="3045" y="3193"/>
                </a:lnTo>
                <a:lnTo>
                  <a:pt x="3074" y="3249"/>
                </a:lnTo>
                <a:lnTo>
                  <a:pt x="3103" y="3310"/>
                </a:lnTo>
                <a:lnTo>
                  <a:pt x="3162" y="3198"/>
                </a:lnTo>
                <a:lnTo>
                  <a:pt x="3234" y="3066"/>
                </a:lnTo>
                <a:lnTo>
                  <a:pt x="3273" y="2994"/>
                </a:lnTo>
                <a:lnTo>
                  <a:pt x="3316" y="2919"/>
                </a:lnTo>
                <a:lnTo>
                  <a:pt x="3361" y="2841"/>
                </a:lnTo>
                <a:lnTo>
                  <a:pt x="3408" y="2761"/>
                </a:lnTo>
                <a:lnTo>
                  <a:pt x="3458" y="2680"/>
                </a:lnTo>
                <a:lnTo>
                  <a:pt x="3509" y="2597"/>
                </a:lnTo>
                <a:lnTo>
                  <a:pt x="3562" y="2513"/>
                </a:lnTo>
                <a:lnTo>
                  <a:pt x="3617" y="2430"/>
                </a:lnTo>
                <a:lnTo>
                  <a:pt x="3675" y="2345"/>
                </a:lnTo>
                <a:lnTo>
                  <a:pt x="3733" y="2262"/>
                </a:lnTo>
                <a:lnTo>
                  <a:pt x="3794" y="2180"/>
                </a:lnTo>
                <a:lnTo>
                  <a:pt x="3855" y="2099"/>
                </a:lnTo>
                <a:lnTo>
                  <a:pt x="3916" y="2021"/>
                </a:lnTo>
                <a:lnTo>
                  <a:pt x="3981" y="1945"/>
                </a:lnTo>
                <a:lnTo>
                  <a:pt x="4012" y="1908"/>
                </a:lnTo>
                <a:lnTo>
                  <a:pt x="4045" y="1872"/>
                </a:lnTo>
                <a:lnTo>
                  <a:pt x="4077" y="1837"/>
                </a:lnTo>
                <a:lnTo>
                  <a:pt x="4110" y="1803"/>
                </a:lnTo>
                <a:lnTo>
                  <a:pt x="4143" y="1770"/>
                </a:lnTo>
                <a:lnTo>
                  <a:pt x="4175" y="1738"/>
                </a:lnTo>
                <a:lnTo>
                  <a:pt x="4208" y="1707"/>
                </a:lnTo>
                <a:lnTo>
                  <a:pt x="4241" y="1677"/>
                </a:lnTo>
                <a:lnTo>
                  <a:pt x="4274" y="1648"/>
                </a:lnTo>
                <a:lnTo>
                  <a:pt x="4307" y="1621"/>
                </a:lnTo>
                <a:lnTo>
                  <a:pt x="4340" y="1595"/>
                </a:lnTo>
                <a:lnTo>
                  <a:pt x="4374" y="1571"/>
                </a:lnTo>
                <a:lnTo>
                  <a:pt x="4407" y="1548"/>
                </a:lnTo>
                <a:lnTo>
                  <a:pt x="4441" y="1527"/>
                </a:lnTo>
                <a:lnTo>
                  <a:pt x="4473" y="1506"/>
                </a:lnTo>
                <a:lnTo>
                  <a:pt x="4507" y="1488"/>
                </a:lnTo>
                <a:lnTo>
                  <a:pt x="4539" y="1473"/>
                </a:lnTo>
                <a:lnTo>
                  <a:pt x="4573" y="1458"/>
                </a:lnTo>
                <a:lnTo>
                  <a:pt x="4606" y="1445"/>
                </a:lnTo>
                <a:lnTo>
                  <a:pt x="4638" y="1434"/>
                </a:lnTo>
                <a:lnTo>
                  <a:pt x="4671" y="1425"/>
                </a:lnTo>
                <a:lnTo>
                  <a:pt x="4704" y="1419"/>
                </a:lnTo>
                <a:lnTo>
                  <a:pt x="4736" y="1414"/>
                </a:lnTo>
                <a:lnTo>
                  <a:pt x="4769" y="1412"/>
                </a:lnTo>
                <a:lnTo>
                  <a:pt x="4800" y="1411"/>
                </a:lnTo>
                <a:lnTo>
                  <a:pt x="4833" y="1413"/>
                </a:lnTo>
                <a:lnTo>
                  <a:pt x="4865" y="1418"/>
                </a:lnTo>
                <a:lnTo>
                  <a:pt x="4896" y="1424"/>
                </a:lnTo>
                <a:lnTo>
                  <a:pt x="4911" y="1429"/>
                </a:lnTo>
                <a:lnTo>
                  <a:pt x="4926" y="1433"/>
                </a:lnTo>
                <a:lnTo>
                  <a:pt x="4942" y="1440"/>
                </a:lnTo>
                <a:lnTo>
                  <a:pt x="4958" y="1447"/>
                </a:lnTo>
                <a:lnTo>
                  <a:pt x="4974" y="1454"/>
                </a:lnTo>
                <a:lnTo>
                  <a:pt x="4989" y="1463"/>
                </a:lnTo>
                <a:lnTo>
                  <a:pt x="5021" y="1482"/>
                </a:lnTo>
                <a:lnTo>
                  <a:pt x="5053" y="1504"/>
                </a:lnTo>
                <a:lnTo>
                  <a:pt x="5086" y="1530"/>
                </a:lnTo>
                <a:lnTo>
                  <a:pt x="5119" y="1559"/>
                </a:lnTo>
                <a:lnTo>
                  <a:pt x="5152" y="1591"/>
                </a:lnTo>
                <a:lnTo>
                  <a:pt x="5185" y="1624"/>
                </a:lnTo>
                <a:lnTo>
                  <a:pt x="5219" y="1662"/>
                </a:lnTo>
                <a:lnTo>
                  <a:pt x="5251" y="1701"/>
                </a:lnTo>
                <a:lnTo>
                  <a:pt x="5285" y="1743"/>
                </a:lnTo>
                <a:lnTo>
                  <a:pt x="5318" y="1786"/>
                </a:lnTo>
                <a:lnTo>
                  <a:pt x="5350" y="1834"/>
                </a:lnTo>
                <a:lnTo>
                  <a:pt x="5383" y="1882"/>
                </a:lnTo>
                <a:lnTo>
                  <a:pt x="5414" y="1933"/>
                </a:lnTo>
                <a:lnTo>
                  <a:pt x="5447" y="1984"/>
                </a:lnTo>
                <a:lnTo>
                  <a:pt x="5477" y="2039"/>
                </a:lnTo>
                <a:lnTo>
                  <a:pt x="5509" y="2095"/>
                </a:lnTo>
                <a:lnTo>
                  <a:pt x="5538" y="2153"/>
                </a:lnTo>
                <a:lnTo>
                  <a:pt x="5567" y="2211"/>
                </a:lnTo>
                <a:lnTo>
                  <a:pt x="5597" y="2272"/>
                </a:lnTo>
                <a:lnTo>
                  <a:pt x="5624" y="2334"/>
                </a:lnTo>
                <a:lnTo>
                  <a:pt x="5651" y="2397"/>
                </a:lnTo>
                <a:lnTo>
                  <a:pt x="5676" y="2461"/>
                </a:lnTo>
                <a:lnTo>
                  <a:pt x="5701" y="2526"/>
                </a:lnTo>
                <a:lnTo>
                  <a:pt x="5725" y="2593"/>
                </a:lnTo>
                <a:lnTo>
                  <a:pt x="5748" y="2660"/>
                </a:lnTo>
                <a:lnTo>
                  <a:pt x="5770" y="2728"/>
                </a:lnTo>
                <a:lnTo>
                  <a:pt x="5789" y="2796"/>
                </a:lnTo>
                <a:lnTo>
                  <a:pt x="5808" y="2865"/>
                </a:lnTo>
                <a:lnTo>
                  <a:pt x="5825" y="2933"/>
                </a:lnTo>
                <a:lnTo>
                  <a:pt x="5842" y="3003"/>
                </a:lnTo>
                <a:lnTo>
                  <a:pt x="5855" y="3073"/>
                </a:lnTo>
                <a:lnTo>
                  <a:pt x="5868" y="3142"/>
                </a:lnTo>
                <a:lnTo>
                  <a:pt x="5879" y="3212"/>
                </a:lnTo>
                <a:lnTo>
                  <a:pt x="5888" y="3282"/>
                </a:lnTo>
                <a:lnTo>
                  <a:pt x="5896" y="3350"/>
                </a:lnTo>
                <a:lnTo>
                  <a:pt x="5901" y="3420"/>
                </a:lnTo>
                <a:lnTo>
                  <a:pt x="5905" y="3489"/>
                </a:lnTo>
                <a:lnTo>
                  <a:pt x="5906" y="3556"/>
                </a:lnTo>
                <a:lnTo>
                  <a:pt x="5906" y="3625"/>
                </a:lnTo>
                <a:lnTo>
                  <a:pt x="5904" y="3691"/>
                </a:lnTo>
                <a:lnTo>
                  <a:pt x="5898" y="3758"/>
                </a:lnTo>
                <a:lnTo>
                  <a:pt x="5891" y="3822"/>
                </a:lnTo>
                <a:lnTo>
                  <a:pt x="5881" y="3886"/>
                </a:lnTo>
                <a:lnTo>
                  <a:pt x="5870" y="3949"/>
                </a:lnTo>
                <a:lnTo>
                  <a:pt x="5862" y="3980"/>
                </a:lnTo>
                <a:lnTo>
                  <a:pt x="5855" y="4011"/>
                </a:lnTo>
                <a:lnTo>
                  <a:pt x="5846" y="4041"/>
                </a:lnTo>
                <a:lnTo>
                  <a:pt x="5838" y="4071"/>
                </a:lnTo>
                <a:lnTo>
                  <a:pt x="5828" y="4100"/>
                </a:lnTo>
                <a:lnTo>
                  <a:pt x="5818" y="4130"/>
                </a:lnTo>
                <a:lnTo>
                  <a:pt x="5807" y="4159"/>
                </a:lnTo>
                <a:lnTo>
                  <a:pt x="5796" y="4187"/>
                </a:lnTo>
                <a:lnTo>
                  <a:pt x="5783" y="4215"/>
                </a:lnTo>
                <a:lnTo>
                  <a:pt x="5771" y="4243"/>
                </a:lnTo>
                <a:lnTo>
                  <a:pt x="5757" y="4270"/>
                </a:lnTo>
                <a:lnTo>
                  <a:pt x="5743" y="4297"/>
                </a:lnTo>
                <a:lnTo>
                  <a:pt x="5728" y="4323"/>
                </a:lnTo>
                <a:lnTo>
                  <a:pt x="5712" y="4349"/>
                </a:lnTo>
                <a:lnTo>
                  <a:pt x="5696" y="4374"/>
                </a:lnTo>
                <a:lnTo>
                  <a:pt x="5679" y="4398"/>
                </a:lnTo>
                <a:lnTo>
                  <a:pt x="5661" y="4423"/>
                </a:lnTo>
                <a:lnTo>
                  <a:pt x="5642" y="4447"/>
                </a:lnTo>
                <a:lnTo>
                  <a:pt x="5622" y="4470"/>
                </a:lnTo>
                <a:lnTo>
                  <a:pt x="5602" y="4493"/>
                </a:lnTo>
                <a:lnTo>
                  <a:pt x="5581" y="4515"/>
                </a:lnTo>
                <a:lnTo>
                  <a:pt x="5558" y="4537"/>
                </a:lnTo>
                <a:lnTo>
                  <a:pt x="5536" y="4558"/>
                </a:lnTo>
                <a:lnTo>
                  <a:pt x="5512" y="4578"/>
                </a:lnTo>
                <a:lnTo>
                  <a:pt x="5489" y="4597"/>
                </a:lnTo>
                <a:lnTo>
                  <a:pt x="5463" y="4617"/>
                </a:lnTo>
                <a:lnTo>
                  <a:pt x="5437" y="4636"/>
                </a:lnTo>
                <a:lnTo>
                  <a:pt x="5410" y="4654"/>
                </a:lnTo>
                <a:lnTo>
                  <a:pt x="5383" y="4671"/>
                </a:lnTo>
                <a:lnTo>
                  <a:pt x="5354" y="4687"/>
                </a:lnTo>
                <a:lnTo>
                  <a:pt x="5324" y="4703"/>
                </a:lnTo>
                <a:lnTo>
                  <a:pt x="5294" y="4718"/>
                </a:lnTo>
                <a:lnTo>
                  <a:pt x="5263" y="4732"/>
                </a:lnTo>
                <a:lnTo>
                  <a:pt x="5231" y="4746"/>
                </a:lnTo>
                <a:lnTo>
                  <a:pt x="5287" y="4781"/>
                </a:lnTo>
                <a:lnTo>
                  <a:pt x="5344" y="4817"/>
                </a:lnTo>
                <a:lnTo>
                  <a:pt x="5398" y="4853"/>
                </a:lnTo>
                <a:lnTo>
                  <a:pt x="5452" y="4890"/>
                </a:lnTo>
                <a:lnTo>
                  <a:pt x="5502" y="4927"/>
                </a:lnTo>
                <a:lnTo>
                  <a:pt x="5552" y="4965"/>
                </a:lnTo>
                <a:lnTo>
                  <a:pt x="5600" y="5003"/>
                </a:lnTo>
                <a:lnTo>
                  <a:pt x="5646" y="5042"/>
                </a:lnTo>
                <a:lnTo>
                  <a:pt x="5690" y="5081"/>
                </a:lnTo>
                <a:lnTo>
                  <a:pt x="5732" y="5121"/>
                </a:lnTo>
                <a:lnTo>
                  <a:pt x="5771" y="5161"/>
                </a:lnTo>
                <a:lnTo>
                  <a:pt x="5807" y="5202"/>
                </a:lnTo>
                <a:lnTo>
                  <a:pt x="5842" y="5243"/>
                </a:lnTo>
                <a:lnTo>
                  <a:pt x="5873" y="5284"/>
                </a:lnTo>
                <a:lnTo>
                  <a:pt x="5902" y="5327"/>
                </a:lnTo>
                <a:lnTo>
                  <a:pt x="5915" y="5347"/>
                </a:lnTo>
                <a:lnTo>
                  <a:pt x="5927" y="5369"/>
                </a:lnTo>
                <a:lnTo>
                  <a:pt x="5940" y="5390"/>
                </a:lnTo>
                <a:lnTo>
                  <a:pt x="5951" y="5412"/>
                </a:lnTo>
                <a:lnTo>
                  <a:pt x="5961" y="5433"/>
                </a:lnTo>
                <a:lnTo>
                  <a:pt x="5970" y="5455"/>
                </a:lnTo>
                <a:lnTo>
                  <a:pt x="5979" y="5477"/>
                </a:lnTo>
                <a:lnTo>
                  <a:pt x="5986" y="5498"/>
                </a:lnTo>
                <a:lnTo>
                  <a:pt x="5992" y="5521"/>
                </a:lnTo>
                <a:lnTo>
                  <a:pt x="5999" y="5542"/>
                </a:lnTo>
                <a:lnTo>
                  <a:pt x="6004" y="5564"/>
                </a:lnTo>
                <a:lnTo>
                  <a:pt x="6008" y="5587"/>
                </a:lnTo>
                <a:lnTo>
                  <a:pt x="6012" y="5608"/>
                </a:lnTo>
                <a:lnTo>
                  <a:pt x="6014" y="5631"/>
                </a:lnTo>
                <a:lnTo>
                  <a:pt x="6015" y="5653"/>
                </a:lnTo>
                <a:lnTo>
                  <a:pt x="6015" y="5676"/>
                </a:lnTo>
                <a:lnTo>
                  <a:pt x="6015" y="5698"/>
                </a:lnTo>
                <a:lnTo>
                  <a:pt x="6013" y="5721"/>
                </a:lnTo>
                <a:lnTo>
                  <a:pt x="6010" y="5743"/>
                </a:lnTo>
                <a:lnTo>
                  <a:pt x="6006" y="5767"/>
                </a:lnTo>
                <a:lnTo>
                  <a:pt x="6001" y="5789"/>
                </a:lnTo>
                <a:lnTo>
                  <a:pt x="5996" y="5812"/>
                </a:lnTo>
                <a:lnTo>
                  <a:pt x="5989" y="5835"/>
                </a:lnTo>
                <a:lnTo>
                  <a:pt x="5981" y="5858"/>
                </a:lnTo>
                <a:lnTo>
                  <a:pt x="5972" y="5882"/>
                </a:lnTo>
                <a:lnTo>
                  <a:pt x="5962" y="5904"/>
                </a:lnTo>
                <a:lnTo>
                  <a:pt x="5951" y="5928"/>
                </a:lnTo>
                <a:lnTo>
                  <a:pt x="5938" y="5951"/>
                </a:lnTo>
                <a:lnTo>
                  <a:pt x="5924" y="5974"/>
                </a:lnTo>
                <a:lnTo>
                  <a:pt x="5909" y="5997"/>
                </a:lnTo>
                <a:lnTo>
                  <a:pt x="5893" y="6021"/>
                </a:lnTo>
                <a:lnTo>
                  <a:pt x="5877" y="6045"/>
                </a:lnTo>
                <a:lnTo>
                  <a:pt x="5858" y="6068"/>
                </a:lnTo>
                <a:lnTo>
                  <a:pt x="5837" y="6091"/>
                </a:lnTo>
                <a:lnTo>
                  <a:pt x="5802" y="6130"/>
                </a:lnTo>
                <a:lnTo>
                  <a:pt x="5768" y="6166"/>
                </a:lnTo>
                <a:lnTo>
                  <a:pt x="5732" y="6200"/>
                </a:lnTo>
                <a:lnTo>
                  <a:pt x="5696" y="6230"/>
                </a:lnTo>
                <a:lnTo>
                  <a:pt x="5660" y="6257"/>
                </a:lnTo>
                <a:lnTo>
                  <a:pt x="5622" y="6283"/>
                </a:lnTo>
                <a:lnTo>
                  <a:pt x="5586" y="6305"/>
                </a:lnTo>
                <a:lnTo>
                  <a:pt x="5549" y="6325"/>
                </a:lnTo>
                <a:lnTo>
                  <a:pt x="5512" y="6343"/>
                </a:lnTo>
                <a:lnTo>
                  <a:pt x="5474" y="6357"/>
                </a:lnTo>
                <a:lnTo>
                  <a:pt x="5437" y="6371"/>
                </a:lnTo>
                <a:lnTo>
                  <a:pt x="5399" y="6381"/>
                </a:lnTo>
                <a:lnTo>
                  <a:pt x="5360" y="6389"/>
                </a:lnTo>
                <a:lnTo>
                  <a:pt x="5322" y="6394"/>
                </a:lnTo>
                <a:lnTo>
                  <a:pt x="5284" y="6399"/>
                </a:lnTo>
                <a:lnTo>
                  <a:pt x="5246" y="6400"/>
                </a:lnTo>
                <a:lnTo>
                  <a:pt x="5208" y="6400"/>
                </a:lnTo>
                <a:lnTo>
                  <a:pt x="5169" y="6398"/>
                </a:lnTo>
                <a:lnTo>
                  <a:pt x="5130" y="6393"/>
                </a:lnTo>
                <a:lnTo>
                  <a:pt x="5092" y="6388"/>
                </a:lnTo>
                <a:lnTo>
                  <a:pt x="5052" y="6380"/>
                </a:lnTo>
                <a:lnTo>
                  <a:pt x="5014" y="6370"/>
                </a:lnTo>
                <a:lnTo>
                  <a:pt x="4975" y="6358"/>
                </a:lnTo>
                <a:lnTo>
                  <a:pt x="4936" y="6346"/>
                </a:lnTo>
                <a:lnTo>
                  <a:pt x="4897" y="6330"/>
                </a:lnTo>
                <a:lnTo>
                  <a:pt x="4859" y="6314"/>
                </a:lnTo>
                <a:lnTo>
                  <a:pt x="4820" y="6296"/>
                </a:lnTo>
                <a:lnTo>
                  <a:pt x="4781" y="6277"/>
                </a:lnTo>
                <a:lnTo>
                  <a:pt x="4743" y="6257"/>
                </a:lnTo>
                <a:lnTo>
                  <a:pt x="4705" y="6236"/>
                </a:lnTo>
                <a:lnTo>
                  <a:pt x="4667" y="6212"/>
                </a:lnTo>
                <a:lnTo>
                  <a:pt x="4628" y="6188"/>
                </a:lnTo>
                <a:lnTo>
                  <a:pt x="4590" y="6163"/>
                </a:lnTo>
                <a:lnTo>
                  <a:pt x="4552" y="6136"/>
                </a:lnTo>
                <a:lnTo>
                  <a:pt x="4515" y="6109"/>
                </a:lnTo>
                <a:lnTo>
                  <a:pt x="4478" y="6079"/>
                </a:lnTo>
                <a:lnTo>
                  <a:pt x="4441" y="6050"/>
                </a:lnTo>
                <a:lnTo>
                  <a:pt x="4403" y="6020"/>
                </a:lnTo>
                <a:lnTo>
                  <a:pt x="4366" y="5988"/>
                </a:lnTo>
                <a:lnTo>
                  <a:pt x="4330" y="5956"/>
                </a:lnTo>
                <a:lnTo>
                  <a:pt x="4293" y="5923"/>
                </a:lnTo>
                <a:lnTo>
                  <a:pt x="4257" y="5891"/>
                </a:lnTo>
                <a:lnTo>
                  <a:pt x="4186" y="5821"/>
                </a:lnTo>
                <a:lnTo>
                  <a:pt x="4118" y="5750"/>
                </a:lnTo>
                <a:lnTo>
                  <a:pt x="4049" y="5678"/>
                </a:lnTo>
                <a:lnTo>
                  <a:pt x="3983" y="5605"/>
                </a:lnTo>
                <a:lnTo>
                  <a:pt x="3919" y="5531"/>
                </a:lnTo>
                <a:lnTo>
                  <a:pt x="3856" y="5455"/>
                </a:lnTo>
                <a:lnTo>
                  <a:pt x="3795" y="5381"/>
                </a:lnTo>
                <a:lnTo>
                  <a:pt x="3737" y="5307"/>
                </a:lnTo>
                <a:lnTo>
                  <a:pt x="3680" y="5235"/>
                </a:lnTo>
                <a:lnTo>
                  <a:pt x="3626" y="5163"/>
                </a:lnTo>
                <a:lnTo>
                  <a:pt x="3575" y="5094"/>
                </a:lnTo>
                <a:lnTo>
                  <a:pt x="3572" y="5132"/>
                </a:lnTo>
                <a:lnTo>
                  <a:pt x="3569" y="5166"/>
                </a:lnTo>
                <a:lnTo>
                  <a:pt x="3563" y="5196"/>
                </a:lnTo>
                <a:lnTo>
                  <a:pt x="3560" y="5209"/>
                </a:lnTo>
                <a:lnTo>
                  <a:pt x="3555" y="5222"/>
                </a:lnTo>
                <a:lnTo>
                  <a:pt x="3552" y="5233"/>
                </a:lnTo>
                <a:lnTo>
                  <a:pt x="3546" y="5243"/>
                </a:lnTo>
                <a:lnTo>
                  <a:pt x="3542" y="5252"/>
                </a:lnTo>
                <a:lnTo>
                  <a:pt x="3536" y="5260"/>
                </a:lnTo>
                <a:lnTo>
                  <a:pt x="3531" y="5266"/>
                </a:lnTo>
                <a:lnTo>
                  <a:pt x="3524" y="5272"/>
                </a:lnTo>
                <a:lnTo>
                  <a:pt x="3517" y="5277"/>
                </a:lnTo>
                <a:lnTo>
                  <a:pt x="3509" y="5279"/>
                </a:lnTo>
                <a:lnTo>
                  <a:pt x="3502" y="5281"/>
                </a:lnTo>
                <a:lnTo>
                  <a:pt x="3493" y="5281"/>
                </a:lnTo>
                <a:lnTo>
                  <a:pt x="3484" y="5280"/>
                </a:lnTo>
                <a:lnTo>
                  <a:pt x="3475" y="5278"/>
                </a:lnTo>
                <a:lnTo>
                  <a:pt x="3464" y="5273"/>
                </a:lnTo>
                <a:lnTo>
                  <a:pt x="3454" y="5268"/>
                </a:lnTo>
                <a:lnTo>
                  <a:pt x="3444" y="5261"/>
                </a:lnTo>
                <a:lnTo>
                  <a:pt x="3433" y="5253"/>
                </a:lnTo>
                <a:lnTo>
                  <a:pt x="3423" y="5244"/>
                </a:lnTo>
                <a:lnTo>
                  <a:pt x="3412" y="5233"/>
                </a:lnTo>
                <a:lnTo>
                  <a:pt x="3388" y="5208"/>
                </a:lnTo>
                <a:lnTo>
                  <a:pt x="3364" y="5179"/>
                </a:lnTo>
                <a:lnTo>
                  <a:pt x="3338" y="5144"/>
                </a:lnTo>
                <a:lnTo>
                  <a:pt x="3336" y="5229"/>
                </a:lnTo>
                <a:lnTo>
                  <a:pt x="3332" y="5318"/>
                </a:lnTo>
                <a:lnTo>
                  <a:pt x="3327" y="5410"/>
                </a:lnTo>
                <a:lnTo>
                  <a:pt x="3322" y="5506"/>
                </a:lnTo>
                <a:lnTo>
                  <a:pt x="3314" y="5603"/>
                </a:lnTo>
                <a:lnTo>
                  <a:pt x="3305" y="5702"/>
                </a:lnTo>
                <a:lnTo>
                  <a:pt x="3293" y="5802"/>
                </a:lnTo>
                <a:lnTo>
                  <a:pt x="3281" y="5903"/>
                </a:lnTo>
                <a:lnTo>
                  <a:pt x="3266" y="6004"/>
                </a:lnTo>
                <a:lnTo>
                  <a:pt x="3250" y="6105"/>
                </a:lnTo>
                <a:lnTo>
                  <a:pt x="3230" y="6205"/>
                </a:lnTo>
                <a:lnTo>
                  <a:pt x="3220" y="6255"/>
                </a:lnTo>
                <a:lnTo>
                  <a:pt x="3209" y="6304"/>
                </a:lnTo>
                <a:lnTo>
                  <a:pt x="3197" y="6354"/>
                </a:lnTo>
                <a:lnTo>
                  <a:pt x="3184" y="6402"/>
                </a:lnTo>
                <a:lnTo>
                  <a:pt x="3172" y="6449"/>
                </a:lnTo>
                <a:lnTo>
                  <a:pt x="3157" y="6498"/>
                </a:lnTo>
                <a:lnTo>
                  <a:pt x="3143" y="6544"/>
                </a:lnTo>
                <a:lnTo>
                  <a:pt x="3128" y="6590"/>
                </a:lnTo>
                <a:lnTo>
                  <a:pt x="3111" y="6635"/>
                </a:lnTo>
                <a:lnTo>
                  <a:pt x="3094" y="6680"/>
                </a:lnTo>
                <a:lnTo>
                  <a:pt x="3078" y="6724"/>
                </a:lnTo>
                <a:lnTo>
                  <a:pt x="3058" y="6766"/>
                </a:lnTo>
                <a:lnTo>
                  <a:pt x="3039" y="6808"/>
                </a:lnTo>
                <a:lnTo>
                  <a:pt x="3019" y="6849"/>
                </a:lnTo>
                <a:lnTo>
                  <a:pt x="2998" y="6888"/>
                </a:lnTo>
                <a:lnTo>
                  <a:pt x="2976" y="6926"/>
                </a:lnTo>
                <a:lnTo>
                  <a:pt x="2953" y="6963"/>
                </a:lnTo>
                <a:lnTo>
                  <a:pt x="2929" y="6999"/>
                </a:lnTo>
                <a:lnTo>
                  <a:pt x="2904" y="7034"/>
                </a:lnTo>
                <a:lnTo>
                  <a:pt x="2878" y="7068"/>
                </a:lnTo>
                <a:lnTo>
                  <a:pt x="2851" y="7099"/>
                </a:lnTo>
                <a:lnTo>
                  <a:pt x="2823" y="7129"/>
                </a:lnTo>
                <a:lnTo>
                  <a:pt x="2795" y="7158"/>
                </a:lnTo>
                <a:lnTo>
                  <a:pt x="2765" y="7185"/>
                </a:lnTo>
                <a:lnTo>
                  <a:pt x="2733" y="7209"/>
                </a:lnTo>
                <a:lnTo>
                  <a:pt x="2702" y="7233"/>
                </a:lnTo>
                <a:lnTo>
                  <a:pt x="2668" y="7254"/>
                </a:lnTo>
                <a:lnTo>
                  <a:pt x="2634" y="7275"/>
                </a:lnTo>
                <a:lnTo>
                  <a:pt x="2598" y="7293"/>
                </a:lnTo>
                <a:lnTo>
                  <a:pt x="2562" y="7308"/>
                </a:lnTo>
                <a:lnTo>
                  <a:pt x="2524" y="7322"/>
                </a:lnTo>
                <a:lnTo>
                  <a:pt x="2485" y="7333"/>
                </a:lnTo>
                <a:lnTo>
                  <a:pt x="2444" y="7342"/>
                </a:lnTo>
                <a:lnTo>
                  <a:pt x="2403" y="7350"/>
                </a:lnTo>
                <a:lnTo>
                  <a:pt x="2360" y="7355"/>
                </a:lnTo>
                <a:lnTo>
                  <a:pt x="2316" y="7357"/>
                </a:lnTo>
                <a:lnTo>
                  <a:pt x="2270" y="7358"/>
                </a:lnTo>
                <a:lnTo>
                  <a:pt x="2224" y="7356"/>
                </a:lnTo>
                <a:lnTo>
                  <a:pt x="2176" y="7350"/>
                </a:lnTo>
                <a:lnTo>
                  <a:pt x="2126" y="7343"/>
                </a:lnTo>
                <a:lnTo>
                  <a:pt x="2076" y="7333"/>
                </a:lnTo>
                <a:lnTo>
                  <a:pt x="2023" y="7320"/>
                </a:lnTo>
                <a:lnTo>
                  <a:pt x="1992" y="7311"/>
                </a:lnTo>
                <a:lnTo>
                  <a:pt x="1963" y="7302"/>
                </a:lnTo>
                <a:lnTo>
                  <a:pt x="1935" y="7292"/>
                </a:lnTo>
                <a:lnTo>
                  <a:pt x="1908" y="7281"/>
                </a:lnTo>
                <a:lnTo>
                  <a:pt x="1882" y="7269"/>
                </a:lnTo>
                <a:lnTo>
                  <a:pt x="1856" y="7258"/>
                </a:lnTo>
                <a:lnTo>
                  <a:pt x="1833" y="7244"/>
                </a:lnTo>
                <a:lnTo>
                  <a:pt x="1810" y="7232"/>
                </a:lnTo>
                <a:lnTo>
                  <a:pt x="1788" y="7217"/>
                </a:lnTo>
                <a:lnTo>
                  <a:pt x="1767" y="7203"/>
                </a:lnTo>
                <a:lnTo>
                  <a:pt x="1747" y="7188"/>
                </a:lnTo>
                <a:lnTo>
                  <a:pt x="1729" y="7171"/>
                </a:lnTo>
                <a:lnTo>
                  <a:pt x="1711" y="7155"/>
                </a:lnTo>
                <a:lnTo>
                  <a:pt x="1694" y="7139"/>
                </a:lnTo>
                <a:lnTo>
                  <a:pt x="1679" y="7121"/>
                </a:lnTo>
                <a:lnTo>
                  <a:pt x="1663" y="7103"/>
                </a:lnTo>
                <a:lnTo>
                  <a:pt x="1649" y="7085"/>
                </a:lnTo>
                <a:lnTo>
                  <a:pt x="1636" y="7066"/>
                </a:lnTo>
                <a:lnTo>
                  <a:pt x="1623" y="7045"/>
                </a:lnTo>
                <a:lnTo>
                  <a:pt x="1612" y="7025"/>
                </a:lnTo>
                <a:lnTo>
                  <a:pt x="1602" y="7005"/>
                </a:lnTo>
                <a:lnTo>
                  <a:pt x="1592" y="6983"/>
                </a:lnTo>
                <a:lnTo>
                  <a:pt x="1584" y="6962"/>
                </a:lnTo>
                <a:lnTo>
                  <a:pt x="1576" y="6940"/>
                </a:lnTo>
                <a:lnTo>
                  <a:pt x="1568" y="6917"/>
                </a:lnTo>
                <a:lnTo>
                  <a:pt x="1563" y="6895"/>
                </a:lnTo>
                <a:lnTo>
                  <a:pt x="1557" y="6871"/>
                </a:lnTo>
                <a:lnTo>
                  <a:pt x="1553" y="6847"/>
                </a:lnTo>
                <a:lnTo>
                  <a:pt x="1548" y="6823"/>
                </a:lnTo>
                <a:lnTo>
                  <a:pt x="1546" y="6798"/>
                </a:lnTo>
                <a:lnTo>
                  <a:pt x="1544" y="6773"/>
                </a:lnTo>
                <a:lnTo>
                  <a:pt x="1541" y="6747"/>
                </a:lnTo>
                <a:lnTo>
                  <a:pt x="1540" y="6721"/>
                </a:lnTo>
                <a:lnTo>
                  <a:pt x="1540" y="6696"/>
                </a:lnTo>
                <a:lnTo>
                  <a:pt x="1541" y="6670"/>
                </a:lnTo>
                <a:lnTo>
                  <a:pt x="1542" y="6643"/>
                </a:lnTo>
                <a:lnTo>
                  <a:pt x="1546" y="6589"/>
                </a:lnTo>
                <a:lnTo>
                  <a:pt x="1554" y="6533"/>
                </a:lnTo>
                <a:lnTo>
                  <a:pt x="1563" y="6476"/>
                </a:lnTo>
                <a:lnTo>
                  <a:pt x="1574" y="6418"/>
                </a:lnTo>
                <a:lnTo>
                  <a:pt x="1589" y="6359"/>
                </a:lnTo>
                <a:lnTo>
                  <a:pt x="1604" y="6300"/>
                </a:lnTo>
                <a:lnTo>
                  <a:pt x="1622" y="6239"/>
                </a:lnTo>
                <a:lnTo>
                  <a:pt x="1643" y="6178"/>
                </a:lnTo>
                <a:lnTo>
                  <a:pt x="1665" y="6118"/>
                </a:lnTo>
                <a:lnTo>
                  <a:pt x="1689" y="6055"/>
                </a:lnTo>
                <a:lnTo>
                  <a:pt x="1715" y="5993"/>
                </a:lnTo>
                <a:lnTo>
                  <a:pt x="1742" y="5930"/>
                </a:lnTo>
                <a:lnTo>
                  <a:pt x="1770" y="5867"/>
                </a:lnTo>
                <a:lnTo>
                  <a:pt x="1799" y="5804"/>
                </a:lnTo>
                <a:lnTo>
                  <a:pt x="1764" y="5813"/>
                </a:lnTo>
                <a:lnTo>
                  <a:pt x="1728" y="5821"/>
                </a:lnTo>
                <a:lnTo>
                  <a:pt x="1694" y="5828"/>
                </a:lnTo>
                <a:lnTo>
                  <a:pt x="1659" y="5833"/>
                </a:lnTo>
                <a:lnTo>
                  <a:pt x="1626" y="5838"/>
                </a:lnTo>
                <a:lnTo>
                  <a:pt x="1592" y="5841"/>
                </a:lnTo>
                <a:lnTo>
                  <a:pt x="1558" y="5843"/>
                </a:lnTo>
                <a:lnTo>
                  <a:pt x="1526" y="5844"/>
                </a:lnTo>
                <a:lnTo>
                  <a:pt x="1493" y="5844"/>
                </a:lnTo>
                <a:lnTo>
                  <a:pt x="1460" y="5843"/>
                </a:lnTo>
                <a:lnTo>
                  <a:pt x="1429" y="5841"/>
                </a:lnTo>
                <a:lnTo>
                  <a:pt x="1397" y="5838"/>
                </a:lnTo>
                <a:lnTo>
                  <a:pt x="1366" y="5834"/>
                </a:lnTo>
                <a:lnTo>
                  <a:pt x="1336" y="5829"/>
                </a:lnTo>
                <a:lnTo>
                  <a:pt x="1304" y="5823"/>
                </a:lnTo>
                <a:lnTo>
                  <a:pt x="1274" y="5816"/>
                </a:lnTo>
                <a:lnTo>
                  <a:pt x="1244" y="5808"/>
                </a:lnTo>
                <a:lnTo>
                  <a:pt x="1215" y="5799"/>
                </a:lnTo>
                <a:lnTo>
                  <a:pt x="1186" y="5790"/>
                </a:lnTo>
                <a:lnTo>
                  <a:pt x="1157" y="5779"/>
                </a:lnTo>
                <a:lnTo>
                  <a:pt x="1129" y="5768"/>
                </a:lnTo>
                <a:lnTo>
                  <a:pt x="1101" y="5756"/>
                </a:lnTo>
                <a:lnTo>
                  <a:pt x="1072" y="5743"/>
                </a:lnTo>
                <a:lnTo>
                  <a:pt x="1045" y="5729"/>
                </a:lnTo>
                <a:lnTo>
                  <a:pt x="1018" y="5714"/>
                </a:lnTo>
                <a:lnTo>
                  <a:pt x="991" y="5698"/>
                </a:lnTo>
                <a:lnTo>
                  <a:pt x="964" y="5683"/>
                </a:lnTo>
                <a:lnTo>
                  <a:pt x="939" y="5666"/>
                </a:lnTo>
                <a:lnTo>
                  <a:pt x="913" y="5648"/>
                </a:lnTo>
                <a:lnTo>
                  <a:pt x="888" y="5630"/>
                </a:lnTo>
                <a:lnTo>
                  <a:pt x="863" y="5611"/>
                </a:lnTo>
                <a:lnTo>
                  <a:pt x="838" y="5590"/>
                </a:lnTo>
                <a:lnTo>
                  <a:pt x="814" y="5570"/>
                </a:lnTo>
                <a:lnTo>
                  <a:pt x="790" y="5549"/>
                </a:lnTo>
                <a:lnTo>
                  <a:pt x="767" y="5526"/>
                </a:lnTo>
                <a:lnTo>
                  <a:pt x="743" y="5504"/>
                </a:lnTo>
                <a:lnTo>
                  <a:pt x="698" y="5458"/>
                </a:lnTo>
                <a:lnTo>
                  <a:pt x="654" y="5408"/>
                </a:lnTo>
                <a:lnTo>
                  <a:pt x="611" y="5358"/>
                </a:lnTo>
                <a:lnTo>
                  <a:pt x="570" y="5304"/>
                </a:lnTo>
                <a:lnTo>
                  <a:pt x="530" y="5248"/>
                </a:lnTo>
                <a:lnTo>
                  <a:pt x="492" y="5191"/>
                </a:lnTo>
                <a:lnTo>
                  <a:pt x="455" y="5133"/>
                </a:lnTo>
                <a:lnTo>
                  <a:pt x="419" y="5072"/>
                </a:lnTo>
                <a:lnTo>
                  <a:pt x="385" y="5010"/>
                </a:lnTo>
                <a:lnTo>
                  <a:pt x="353" y="4947"/>
                </a:lnTo>
                <a:lnTo>
                  <a:pt x="321" y="4883"/>
                </a:lnTo>
                <a:lnTo>
                  <a:pt x="291" y="4818"/>
                </a:lnTo>
                <a:lnTo>
                  <a:pt x="263" y="4751"/>
                </a:lnTo>
                <a:lnTo>
                  <a:pt x="236" y="4685"/>
                </a:lnTo>
                <a:lnTo>
                  <a:pt x="211" y="4618"/>
                </a:lnTo>
                <a:lnTo>
                  <a:pt x="186" y="4549"/>
                </a:lnTo>
                <a:lnTo>
                  <a:pt x="164" y="4481"/>
                </a:lnTo>
                <a:lnTo>
                  <a:pt x="142" y="4412"/>
                </a:lnTo>
                <a:lnTo>
                  <a:pt x="123" y="4342"/>
                </a:lnTo>
                <a:lnTo>
                  <a:pt x="104" y="4274"/>
                </a:lnTo>
                <a:lnTo>
                  <a:pt x="88" y="4204"/>
                </a:lnTo>
                <a:lnTo>
                  <a:pt x="73" y="4135"/>
                </a:lnTo>
                <a:lnTo>
                  <a:pt x="59" y="4067"/>
                </a:lnTo>
                <a:lnTo>
                  <a:pt x="46" y="3999"/>
                </a:lnTo>
                <a:lnTo>
                  <a:pt x="36" y="3932"/>
                </a:lnTo>
                <a:lnTo>
                  <a:pt x="25" y="3865"/>
                </a:lnTo>
                <a:lnTo>
                  <a:pt x="18" y="3800"/>
                </a:lnTo>
                <a:lnTo>
                  <a:pt x="11" y="3735"/>
                </a:lnTo>
                <a:lnTo>
                  <a:pt x="6" y="3671"/>
                </a:lnTo>
                <a:lnTo>
                  <a:pt x="2" y="3609"/>
                </a:lnTo>
                <a:lnTo>
                  <a:pt x="0" y="3548"/>
                </a:lnTo>
                <a:lnTo>
                  <a:pt x="0" y="3489"/>
                </a:lnTo>
                <a:lnTo>
                  <a:pt x="1" y="3430"/>
                </a:lnTo>
                <a:lnTo>
                  <a:pt x="3" y="3374"/>
                </a:lnTo>
                <a:lnTo>
                  <a:pt x="6" y="3320"/>
                </a:lnTo>
                <a:lnTo>
                  <a:pt x="11" y="3267"/>
                </a:lnTo>
                <a:lnTo>
                  <a:pt x="18" y="3218"/>
                </a:lnTo>
                <a:lnTo>
                  <a:pt x="27" y="3169"/>
                </a:lnTo>
                <a:lnTo>
                  <a:pt x="36" y="3124"/>
                </a:lnTo>
                <a:lnTo>
                  <a:pt x="47" y="3081"/>
                </a:lnTo>
                <a:lnTo>
                  <a:pt x="60" y="3040"/>
                </a:lnTo>
                <a:lnTo>
                  <a:pt x="74" y="3003"/>
                </a:lnTo>
                <a:lnTo>
                  <a:pt x="90" y="2968"/>
                </a:lnTo>
                <a:lnTo>
                  <a:pt x="99" y="2952"/>
                </a:lnTo>
                <a:lnTo>
                  <a:pt x="108" y="2937"/>
                </a:lnTo>
                <a:lnTo>
                  <a:pt x="117" y="2922"/>
                </a:lnTo>
                <a:lnTo>
                  <a:pt x="125" y="2909"/>
                </a:lnTo>
                <a:lnTo>
                  <a:pt x="136" y="2895"/>
                </a:lnTo>
                <a:lnTo>
                  <a:pt x="146" y="2883"/>
                </a:lnTo>
                <a:lnTo>
                  <a:pt x="169" y="2859"/>
                </a:lnTo>
                <a:lnTo>
                  <a:pt x="194" y="2837"/>
                </a:lnTo>
                <a:lnTo>
                  <a:pt x="220" y="2816"/>
                </a:lnTo>
                <a:lnTo>
                  <a:pt x="248" y="2798"/>
                </a:lnTo>
                <a:lnTo>
                  <a:pt x="277" y="2782"/>
                </a:lnTo>
                <a:lnTo>
                  <a:pt x="309" y="2767"/>
                </a:lnTo>
                <a:lnTo>
                  <a:pt x="341" y="2755"/>
                </a:lnTo>
                <a:lnTo>
                  <a:pt x="375" y="2743"/>
                </a:lnTo>
                <a:lnTo>
                  <a:pt x="410" y="2734"/>
                </a:lnTo>
                <a:lnTo>
                  <a:pt x="446" y="2726"/>
                </a:lnTo>
                <a:lnTo>
                  <a:pt x="484" y="2721"/>
                </a:lnTo>
                <a:lnTo>
                  <a:pt x="522" y="2716"/>
                </a:lnTo>
                <a:lnTo>
                  <a:pt x="562" y="2713"/>
                </a:lnTo>
                <a:lnTo>
                  <a:pt x="602" y="2711"/>
                </a:lnTo>
                <a:lnTo>
                  <a:pt x="644" y="2711"/>
                </a:lnTo>
                <a:lnTo>
                  <a:pt x="687" y="2712"/>
                </a:lnTo>
                <a:lnTo>
                  <a:pt x="731" y="2714"/>
                </a:lnTo>
                <a:lnTo>
                  <a:pt x="774" y="2719"/>
                </a:lnTo>
                <a:lnTo>
                  <a:pt x="819" y="2723"/>
                </a:lnTo>
                <a:lnTo>
                  <a:pt x="865" y="2730"/>
                </a:lnTo>
                <a:lnTo>
                  <a:pt x="912" y="2737"/>
                </a:lnTo>
                <a:lnTo>
                  <a:pt x="959" y="2744"/>
                </a:lnTo>
                <a:lnTo>
                  <a:pt x="1006" y="2755"/>
                </a:lnTo>
                <a:lnTo>
                  <a:pt x="1054" y="2765"/>
                </a:lnTo>
                <a:lnTo>
                  <a:pt x="1103" y="2776"/>
                </a:lnTo>
                <a:lnTo>
                  <a:pt x="1151" y="2788"/>
                </a:lnTo>
                <a:lnTo>
                  <a:pt x="1201" y="2801"/>
                </a:lnTo>
                <a:lnTo>
                  <a:pt x="1249" y="2815"/>
                </a:lnTo>
                <a:lnTo>
                  <a:pt x="1349" y="2846"/>
                </a:lnTo>
                <a:lnTo>
                  <a:pt x="1448" y="2878"/>
                </a:lnTo>
                <a:lnTo>
                  <a:pt x="1548" y="2913"/>
                </a:lnTo>
                <a:lnTo>
                  <a:pt x="1647" y="2950"/>
                </a:lnTo>
                <a:lnTo>
                  <a:pt x="1746" y="2988"/>
                </a:lnTo>
                <a:lnTo>
                  <a:pt x="1843" y="3029"/>
                </a:lnTo>
                <a:lnTo>
                  <a:pt x="1938" y="3069"/>
                </a:lnTo>
                <a:lnTo>
                  <a:pt x="2032" y="3110"/>
                </a:lnTo>
                <a:lnTo>
                  <a:pt x="2122" y="3151"/>
                </a:lnTo>
                <a:lnTo>
                  <a:pt x="2209" y="3193"/>
                </a:lnTo>
                <a:lnTo>
                  <a:pt x="2294" y="3234"/>
                </a:lnTo>
                <a:lnTo>
                  <a:pt x="2374" y="3273"/>
                </a:lnTo>
                <a:lnTo>
                  <a:pt x="2449" y="3311"/>
                </a:lnTo>
                <a:lnTo>
                  <a:pt x="2521" y="3348"/>
                </a:lnTo>
                <a:lnTo>
                  <a:pt x="2647" y="3415"/>
                </a:lnTo>
                <a:lnTo>
                  <a:pt x="2748" y="3471"/>
                </a:lnTo>
                <a:lnTo>
                  <a:pt x="2738" y="3401"/>
                </a:lnTo>
                <a:lnTo>
                  <a:pt x="2729" y="3336"/>
                </a:lnTo>
                <a:lnTo>
                  <a:pt x="2721" y="3274"/>
                </a:lnTo>
                <a:lnTo>
                  <a:pt x="2717" y="3216"/>
                </a:lnTo>
                <a:lnTo>
                  <a:pt x="2713" y="3162"/>
                </a:lnTo>
                <a:lnTo>
                  <a:pt x="2712" y="3112"/>
                </a:lnTo>
                <a:lnTo>
                  <a:pt x="2713" y="3066"/>
                </a:lnTo>
                <a:lnTo>
                  <a:pt x="2717" y="3026"/>
                </a:lnTo>
                <a:lnTo>
                  <a:pt x="2642" y="2923"/>
                </a:lnTo>
                <a:lnTo>
                  <a:pt x="2567" y="2823"/>
                </a:lnTo>
                <a:lnTo>
                  <a:pt x="2492" y="2726"/>
                </a:lnTo>
                <a:lnTo>
                  <a:pt x="2416" y="2633"/>
                </a:lnTo>
                <a:lnTo>
                  <a:pt x="2340" y="2542"/>
                </a:lnTo>
                <a:lnTo>
                  <a:pt x="2263" y="2454"/>
                </a:lnTo>
                <a:lnTo>
                  <a:pt x="2187" y="2369"/>
                </a:lnTo>
                <a:lnTo>
                  <a:pt x="2110" y="2287"/>
                </a:lnTo>
                <a:lnTo>
                  <a:pt x="2035" y="2208"/>
                </a:lnTo>
                <a:lnTo>
                  <a:pt x="1960" y="2132"/>
                </a:lnTo>
                <a:lnTo>
                  <a:pt x="1884" y="2059"/>
                </a:lnTo>
                <a:lnTo>
                  <a:pt x="1810" y="1988"/>
                </a:lnTo>
                <a:lnTo>
                  <a:pt x="1737" y="1920"/>
                </a:lnTo>
                <a:lnTo>
                  <a:pt x="1665" y="1855"/>
                </a:lnTo>
                <a:lnTo>
                  <a:pt x="1593" y="1793"/>
                </a:lnTo>
                <a:lnTo>
                  <a:pt x="1523" y="1734"/>
                </a:lnTo>
                <a:lnTo>
                  <a:pt x="1455" y="1676"/>
                </a:lnTo>
                <a:lnTo>
                  <a:pt x="1387" y="1622"/>
                </a:lnTo>
                <a:lnTo>
                  <a:pt x="1321" y="1571"/>
                </a:lnTo>
                <a:lnTo>
                  <a:pt x="1257" y="1522"/>
                </a:lnTo>
                <a:lnTo>
                  <a:pt x="1195" y="1476"/>
                </a:lnTo>
                <a:lnTo>
                  <a:pt x="1135" y="1432"/>
                </a:lnTo>
                <a:lnTo>
                  <a:pt x="1077" y="1392"/>
                </a:lnTo>
                <a:lnTo>
                  <a:pt x="1022" y="1354"/>
                </a:lnTo>
                <a:lnTo>
                  <a:pt x="969" y="1318"/>
                </a:lnTo>
                <a:lnTo>
                  <a:pt x="918" y="1284"/>
                </a:lnTo>
                <a:lnTo>
                  <a:pt x="825" y="1225"/>
                </a:lnTo>
                <a:lnTo>
                  <a:pt x="744" y="1176"/>
                </a:lnTo>
                <a:lnTo>
                  <a:pt x="675" y="1135"/>
                </a:lnTo>
                <a:lnTo>
                  <a:pt x="669" y="1147"/>
                </a:lnTo>
                <a:lnTo>
                  <a:pt x="661" y="1158"/>
                </a:lnTo>
                <a:lnTo>
                  <a:pt x="652" y="1168"/>
                </a:lnTo>
                <a:lnTo>
                  <a:pt x="642" y="1177"/>
                </a:lnTo>
                <a:lnTo>
                  <a:pt x="630" y="1185"/>
                </a:lnTo>
                <a:lnTo>
                  <a:pt x="619" y="1193"/>
                </a:lnTo>
                <a:lnTo>
                  <a:pt x="607" y="1198"/>
                </a:lnTo>
                <a:lnTo>
                  <a:pt x="593" y="1203"/>
                </a:lnTo>
                <a:lnTo>
                  <a:pt x="579" y="1207"/>
                </a:lnTo>
                <a:lnTo>
                  <a:pt x="565" y="1208"/>
                </a:lnTo>
                <a:lnTo>
                  <a:pt x="552" y="1210"/>
                </a:lnTo>
                <a:lnTo>
                  <a:pt x="537" y="1208"/>
                </a:lnTo>
                <a:lnTo>
                  <a:pt x="524" y="1207"/>
                </a:lnTo>
                <a:lnTo>
                  <a:pt x="511" y="1204"/>
                </a:lnTo>
                <a:lnTo>
                  <a:pt x="498" y="1199"/>
                </a:lnTo>
                <a:lnTo>
                  <a:pt x="486" y="1193"/>
                </a:lnTo>
                <a:lnTo>
                  <a:pt x="474" y="1186"/>
                </a:lnTo>
                <a:lnTo>
                  <a:pt x="464" y="1178"/>
                </a:lnTo>
                <a:lnTo>
                  <a:pt x="454" y="1169"/>
                </a:lnTo>
                <a:lnTo>
                  <a:pt x="444" y="1159"/>
                </a:lnTo>
                <a:lnTo>
                  <a:pt x="436" y="1149"/>
                </a:lnTo>
                <a:lnTo>
                  <a:pt x="428" y="1137"/>
                </a:lnTo>
                <a:lnTo>
                  <a:pt x="422" y="1124"/>
                </a:lnTo>
                <a:lnTo>
                  <a:pt x="418" y="1111"/>
                </a:lnTo>
                <a:lnTo>
                  <a:pt x="413" y="1096"/>
                </a:lnTo>
                <a:lnTo>
                  <a:pt x="412" y="1083"/>
                </a:lnTo>
                <a:lnTo>
                  <a:pt x="411" y="1069"/>
                </a:lnTo>
                <a:lnTo>
                  <a:pt x="412" y="1054"/>
                </a:lnTo>
                <a:lnTo>
                  <a:pt x="415" y="1041"/>
                </a:lnTo>
                <a:lnTo>
                  <a:pt x="418" y="1029"/>
                </a:lnTo>
                <a:lnTo>
                  <a:pt x="422" y="1015"/>
                </a:lnTo>
                <a:lnTo>
                  <a:pt x="428" y="1004"/>
                </a:lnTo>
                <a:lnTo>
                  <a:pt x="435" y="991"/>
                </a:lnTo>
                <a:lnTo>
                  <a:pt x="443" y="981"/>
                </a:lnTo>
                <a:lnTo>
                  <a:pt x="452" y="971"/>
                </a:lnTo>
                <a:lnTo>
                  <a:pt x="462" y="961"/>
                </a:lnTo>
                <a:lnTo>
                  <a:pt x="473" y="953"/>
                </a:lnTo>
                <a:lnTo>
                  <a:pt x="484" y="946"/>
                </a:lnTo>
                <a:lnTo>
                  <a:pt x="497" y="940"/>
                </a:lnTo>
                <a:lnTo>
                  <a:pt x="510" y="935"/>
                </a:lnTo>
                <a:lnTo>
                  <a:pt x="525" y="932"/>
                </a:lnTo>
                <a:lnTo>
                  <a:pt x="538" y="930"/>
                </a:lnTo>
                <a:lnTo>
                  <a:pt x="552" y="928"/>
                </a:lnTo>
                <a:lnTo>
                  <a:pt x="566" y="930"/>
                </a:lnTo>
                <a:lnTo>
                  <a:pt x="580" y="932"/>
                </a:lnTo>
                <a:lnTo>
                  <a:pt x="592" y="935"/>
                </a:lnTo>
                <a:lnTo>
                  <a:pt x="606" y="940"/>
                </a:lnTo>
                <a:lnTo>
                  <a:pt x="617" y="945"/>
                </a:lnTo>
                <a:lnTo>
                  <a:pt x="629" y="952"/>
                </a:lnTo>
                <a:lnTo>
                  <a:pt x="639" y="960"/>
                </a:lnTo>
                <a:lnTo>
                  <a:pt x="650" y="969"/>
                </a:lnTo>
                <a:lnTo>
                  <a:pt x="660" y="979"/>
                </a:lnTo>
                <a:lnTo>
                  <a:pt x="668" y="990"/>
                </a:lnTo>
                <a:lnTo>
                  <a:pt x="675" y="1002"/>
                </a:lnTo>
                <a:lnTo>
                  <a:pt x="681" y="1014"/>
                </a:lnTo>
                <a:lnTo>
                  <a:pt x="686" y="1027"/>
                </a:lnTo>
                <a:lnTo>
                  <a:pt x="689" y="1041"/>
                </a:lnTo>
                <a:lnTo>
                  <a:pt x="691" y="1053"/>
                </a:lnTo>
                <a:lnTo>
                  <a:pt x="692" y="1066"/>
                </a:lnTo>
                <a:lnTo>
                  <a:pt x="692" y="1078"/>
                </a:lnTo>
                <a:lnTo>
                  <a:pt x="691" y="1090"/>
                </a:lnTo>
                <a:lnTo>
                  <a:pt x="688" y="1102"/>
                </a:lnTo>
                <a:lnTo>
                  <a:pt x="686" y="1114"/>
                </a:lnTo>
                <a:lnTo>
                  <a:pt x="681" y="1125"/>
                </a:lnTo>
                <a:lnTo>
                  <a:pt x="728" y="1147"/>
                </a:lnTo>
                <a:lnTo>
                  <a:pt x="776" y="1170"/>
                </a:lnTo>
                <a:lnTo>
                  <a:pt x="823" y="1194"/>
                </a:lnTo>
                <a:lnTo>
                  <a:pt x="870" y="1217"/>
                </a:lnTo>
                <a:lnTo>
                  <a:pt x="916" y="1243"/>
                </a:lnTo>
                <a:lnTo>
                  <a:pt x="962" y="1268"/>
                </a:lnTo>
                <a:lnTo>
                  <a:pt x="1007" y="1295"/>
                </a:lnTo>
                <a:lnTo>
                  <a:pt x="1052" y="1321"/>
                </a:lnTo>
                <a:lnTo>
                  <a:pt x="1142" y="1376"/>
                </a:lnTo>
                <a:lnTo>
                  <a:pt x="1229" y="1433"/>
                </a:lnTo>
                <a:lnTo>
                  <a:pt x="1314" y="1492"/>
                </a:lnTo>
                <a:lnTo>
                  <a:pt x="1399" y="1553"/>
                </a:lnTo>
                <a:lnTo>
                  <a:pt x="1479" y="1614"/>
                </a:lnTo>
                <a:lnTo>
                  <a:pt x="1560" y="1677"/>
                </a:lnTo>
                <a:lnTo>
                  <a:pt x="1638" y="1740"/>
                </a:lnTo>
                <a:lnTo>
                  <a:pt x="1715" y="1804"/>
                </a:lnTo>
                <a:lnTo>
                  <a:pt x="1788" y="1870"/>
                </a:lnTo>
                <a:lnTo>
                  <a:pt x="1860" y="1935"/>
                </a:lnTo>
                <a:lnTo>
                  <a:pt x="1929" y="2000"/>
                </a:lnTo>
                <a:lnTo>
                  <a:pt x="1997" y="2065"/>
                </a:lnTo>
                <a:lnTo>
                  <a:pt x="2063" y="2130"/>
                </a:lnTo>
                <a:lnTo>
                  <a:pt x="2126" y="2195"/>
                </a:lnTo>
                <a:lnTo>
                  <a:pt x="2187" y="2259"/>
                </a:lnTo>
                <a:lnTo>
                  <a:pt x="2245" y="2322"/>
                </a:lnTo>
                <a:lnTo>
                  <a:pt x="2300" y="2383"/>
                </a:lnTo>
                <a:lnTo>
                  <a:pt x="2354" y="2443"/>
                </a:lnTo>
                <a:lnTo>
                  <a:pt x="2405" y="2503"/>
                </a:lnTo>
                <a:lnTo>
                  <a:pt x="2453" y="2559"/>
                </a:lnTo>
                <a:lnTo>
                  <a:pt x="2499" y="2614"/>
                </a:lnTo>
                <a:lnTo>
                  <a:pt x="2542" y="2668"/>
                </a:lnTo>
                <a:lnTo>
                  <a:pt x="2621" y="2766"/>
                </a:lnTo>
                <a:lnTo>
                  <a:pt x="2687" y="2853"/>
                </a:lnTo>
                <a:lnTo>
                  <a:pt x="2742" y="2929"/>
                </a:lnTo>
                <a:lnTo>
                  <a:pt x="2750" y="2918"/>
                </a:lnTo>
                <a:lnTo>
                  <a:pt x="2758" y="2909"/>
                </a:lnTo>
                <a:lnTo>
                  <a:pt x="2768" y="2902"/>
                </a:lnTo>
                <a:lnTo>
                  <a:pt x="2777" y="289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KSO_Shape"/>
          <p:cNvSpPr/>
          <p:nvPr/>
        </p:nvSpPr>
        <p:spPr>
          <a:xfrm>
            <a:off x="503280" y="4363920"/>
            <a:ext cx="1246320" cy="1465560"/>
          </a:xfrm>
          <a:custGeom>
            <a:avLst/>
            <a:gdLst/>
            <a:ahLst/>
            <a:rect l="l" t="t" r="r" b="b"/>
            <a:pathLst>
              <a:path w="5699" h="6929">
                <a:moveTo>
                  <a:pt x="2" y="509"/>
                </a:moveTo>
                <a:lnTo>
                  <a:pt x="2" y="509"/>
                </a:lnTo>
                <a:lnTo>
                  <a:pt x="0" y="490"/>
                </a:lnTo>
                <a:lnTo>
                  <a:pt x="2" y="470"/>
                </a:lnTo>
                <a:lnTo>
                  <a:pt x="3" y="452"/>
                </a:lnTo>
                <a:lnTo>
                  <a:pt x="6" y="435"/>
                </a:lnTo>
                <a:lnTo>
                  <a:pt x="10" y="419"/>
                </a:lnTo>
                <a:lnTo>
                  <a:pt x="14" y="403"/>
                </a:lnTo>
                <a:lnTo>
                  <a:pt x="19" y="388"/>
                </a:lnTo>
                <a:lnTo>
                  <a:pt x="26" y="374"/>
                </a:lnTo>
                <a:lnTo>
                  <a:pt x="33" y="360"/>
                </a:lnTo>
                <a:lnTo>
                  <a:pt x="41" y="348"/>
                </a:lnTo>
                <a:lnTo>
                  <a:pt x="50" y="337"/>
                </a:lnTo>
                <a:lnTo>
                  <a:pt x="60" y="325"/>
                </a:lnTo>
                <a:lnTo>
                  <a:pt x="70" y="316"/>
                </a:lnTo>
                <a:lnTo>
                  <a:pt x="82" y="306"/>
                </a:lnTo>
                <a:lnTo>
                  <a:pt x="93" y="298"/>
                </a:lnTo>
                <a:lnTo>
                  <a:pt x="105" y="291"/>
                </a:lnTo>
                <a:lnTo>
                  <a:pt x="118" y="284"/>
                </a:lnTo>
                <a:lnTo>
                  <a:pt x="131" y="279"/>
                </a:lnTo>
                <a:lnTo>
                  <a:pt x="145" y="274"/>
                </a:lnTo>
                <a:lnTo>
                  <a:pt x="159" y="270"/>
                </a:lnTo>
                <a:lnTo>
                  <a:pt x="174" y="268"/>
                </a:lnTo>
                <a:lnTo>
                  <a:pt x="189" y="266"/>
                </a:lnTo>
                <a:lnTo>
                  <a:pt x="204" y="265"/>
                </a:lnTo>
                <a:lnTo>
                  <a:pt x="221" y="265"/>
                </a:lnTo>
                <a:lnTo>
                  <a:pt x="237" y="266"/>
                </a:lnTo>
                <a:lnTo>
                  <a:pt x="254" y="268"/>
                </a:lnTo>
                <a:lnTo>
                  <a:pt x="271" y="272"/>
                </a:lnTo>
                <a:lnTo>
                  <a:pt x="288" y="275"/>
                </a:lnTo>
                <a:lnTo>
                  <a:pt x="304" y="280"/>
                </a:lnTo>
                <a:lnTo>
                  <a:pt x="322" y="287"/>
                </a:lnTo>
                <a:lnTo>
                  <a:pt x="339" y="294"/>
                </a:lnTo>
                <a:lnTo>
                  <a:pt x="356" y="301"/>
                </a:lnTo>
                <a:lnTo>
                  <a:pt x="355" y="286"/>
                </a:lnTo>
                <a:lnTo>
                  <a:pt x="355" y="270"/>
                </a:lnTo>
                <a:lnTo>
                  <a:pt x="356" y="257"/>
                </a:lnTo>
                <a:lnTo>
                  <a:pt x="357" y="243"/>
                </a:lnTo>
                <a:lnTo>
                  <a:pt x="361" y="229"/>
                </a:lnTo>
                <a:lnTo>
                  <a:pt x="364" y="216"/>
                </a:lnTo>
                <a:lnTo>
                  <a:pt x="368" y="203"/>
                </a:lnTo>
                <a:lnTo>
                  <a:pt x="374" y="192"/>
                </a:lnTo>
                <a:lnTo>
                  <a:pt x="379" y="180"/>
                </a:lnTo>
                <a:lnTo>
                  <a:pt x="386" y="170"/>
                </a:lnTo>
                <a:lnTo>
                  <a:pt x="393" y="159"/>
                </a:lnTo>
                <a:lnTo>
                  <a:pt x="402" y="150"/>
                </a:lnTo>
                <a:lnTo>
                  <a:pt x="411" y="141"/>
                </a:lnTo>
                <a:lnTo>
                  <a:pt x="420" y="131"/>
                </a:lnTo>
                <a:lnTo>
                  <a:pt x="430" y="124"/>
                </a:lnTo>
                <a:lnTo>
                  <a:pt x="441" y="116"/>
                </a:lnTo>
                <a:lnTo>
                  <a:pt x="453" y="109"/>
                </a:lnTo>
                <a:lnTo>
                  <a:pt x="464" y="104"/>
                </a:lnTo>
                <a:lnTo>
                  <a:pt x="477" y="98"/>
                </a:lnTo>
                <a:lnTo>
                  <a:pt x="490" y="93"/>
                </a:lnTo>
                <a:lnTo>
                  <a:pt x="504" y="88"/>
                </a:lnTo>
                <a:lnTo>
                  <a:pt x="517" y="85"/>
                </a:lnTo>
                <a:lnTo>
                  <a:pt x="531" y="83"/>
                </a:lnTo>
                <a:lnTo>
                  <a:pt x="546" y="79"/>
                </a:lnTo>
                <a:lnTo>
                  <a:pt x="577" y="77"/>
                </a:lnTo>
                <a:lnTo>
                  <a:pt x="609" y="77"/>
                </a:lnTo>
                <a:lnTo>
                  <a:pt x="641" y="79"/>
                </a:lnTo>
                <a:lnTo>
                  <a:pt x="675" y="85"/>
                </a:lnTo>
                <a:lnTo>
                  <a:pt x="1710" y="1149"/>
                </a:lnTo>
                <a:lnTo>
                  <a:pt x="3113" y="1158"/>
                </a:lnTo>
                <a:lnTo>
                  <a:pt x="3168" y="1142"/>
                </a:lnTo>
                <a:lnTo>
                  <a:pt x="3224" y="1128"/>
                </a:lnTo>
                <a:lnTo>
                  <a:pt x="3277" y="1117"/>
                </a:lnTo>
                <a:lnTo>
                  <a:pt x="3328" y="1108"/>
                </a:lnTo>
                <a:lnTo>
                  <a:pt x="3379" y="1104"/>
                </a:lnTo>
                <a:lnTo>
                  <a:pt x="3428" y="1100"/>
                </a:lnTo>
                <a:lnTo>
                  <a:pt x="3452" y="1100"/>
                </a:lnTo>
                <a:lnTo>
                  <a:pt x="3475" y="1101"/>
                </a:lnTo>
                <a:lnTo>
                  <a:pt x="3499" y="1103"/>
                </a:lnTo>
                <a:lnTo>
                  <a:pt x="3522" y="1104"/>
                </a:lnTo>
                <a:lnTo>
                  <a:pt x="3544" y="1106"/>
                </a:lnTo>
                <a:lnTo>
                  <a:pt x="3567" y="1110"/>
                </a:lnTo>
                <a:lnTo>
                  <a:pt x="3588" y="1114"/>
                </a:lnTo>
                <a:lnTo>
                  <a:pt x="3610" y="1119"/>
                </a:lnTo>
                <a:lnTo>
                  <a:pt x="3631" y="1124"/>
                </a:lnTo>
                <a:lnTo>
                  <a:pt x="3652" y="1130"/>
                </a:lnTo>
                <a:lnTo>
                  <a:pt x="3672" y="1137"/>
                </a:lnTo>
                <a:lnTo>
                  <a:pt x="3692" y="1144"/>
                </a:lnTo>
                <a:lnTo>
                  <a:pt x="3713" y="1152"/>
                </a:lnTo>
                <a:lnTo>
                  <a:pt x="3732" y="1162"/>
                </a:lnTo>
                <a:lnTo>
                  <a:pt x="3751" y="1171"/>
                </a:lnTo>
                <a:lnTo>
                  <a:pt x="3770" y="1181"/>
                </a:lnTo>
                <a:lnTo>
                  <a:pt x="3788" y="1193"/>
                </a:lnTo>
                <a:lnTo>
                  <a:pt x="3807" y="1205"/>
                </a:lnTo>
                <a:lnTo>
                  <a:pt x="3825" y="1217"/>
                </a:lnTo>
                <a:lnTo>
                  <a:pt x="3843" y="1230"/>
                </a:lnTo>
                <a:lnTo>
                  <a:pt x="4475" y="2219"/>
                </a:lnTo>
                <a:lnTo>
                  <a:pt x="5412" y="2237"/>
                </a:lnTo>
                <a:lnTo>
                  <a:pt x="5441" y="2235"/>
                </a:lnTo>
                <a:lnTo>
                  <a:pt x="5469" y="2235"/>
                </a:lnTo>
                <a:lnTo>
                  <a:pt x="5496" y="2236"/>
                </a:lnTo>
                <a:lnTo>
                  <a:pt x="5520" y="2240"/>
                </a:lnTo>
                <a:lnTo>
                  <a:pt x="5542" y="2244"/>
                </a:lnTo>
                <a:lnTo>
                  <a:pt x="5564" y="2251"/>
                </a:lnTo>
                <a:lnTo>
                  <a:pt x="5583" y="2259"/>
                </a:lnTo>
                <a:lnTo>
                  <a:pt x="5601" y="2270"/>
                </a:lnTo>
                <a:lnTo>
                  <a:pt x="5617" y="2281"/>
                </a:lnTo>
                <a:lnTo>
                  <a:pt x="5632" y="2293"/>
                </a:lnTo>
                <a:lnTo>
                  <a:pt x="5646" y="2307"/>
                </a:lnTo>
                <a:lnTo>
                  <a:pt x="5658" y="2321"/>
                </a:lnTo>
                <a:lnTo>
                  <a:pt x="5668" y="2337"/>
                </a:lnTo>
                <a:lnTo>
                  <a:pt x="5678" y="2353"/>
                </a:lnTo>
                <a:lnTo>
                  <a:pt x="5685" y="2369"/>
                </a:lnTo>
                <a:lnTo>
                  <a:pt x="5690" y="2387"/>
                </a:lnTo>
                <a:lnTo>
                  <a:pt x="5694" y="2405"/>
                </a:lnTo>
                <a:lnTo>
                  <a:pt x="5697" y="2423"/>
                </a:lnTo>
                <a:lnTo>
                  <a:pt x="5699" y="2441"/>
                </a:lnTo>
                <a:lnTo>
                  <a:pt x="5697" y="2460"/>
                </a:lnTo>
                <a:lnTo>
                  <a:pt x="5696" y="2478"/>
                </a:lnTo>
                <a:lnTo>
                  <a:pt x="5693" y="2497"/>
                </a:lnTo>
                <a:lnTo>
                  <a:pt x="5687" y="2516"/>
                </a:lnTo>
                <a:lnTo>
                  <a:pt x="5681" y="2534"/>
                </a:lnTo>
                <a:lnTo>
                  <a:pt x="5673" y="2551"/>
                </a:lnTo>
                <a:lnTo>
                  <a:pt x="5664" y="2568"/>
                </a:lnTo>
                <a:lnTo>
                  <a:pt x="5652" y="2584"/>
                </a:lnTo>
                <a:lnTo>
                  <a:pt x="5641" y="2600"/>
                </a:lnTo>
                <a:lnTo>
                  <a:pt x="5625" y="2615"/>
                </a:lnTo>
                <a:lnTo>
                  <a:pt x="5610" y="2629"/>
                </a:lnTo>
                <a:lnTo>
                  <a:pt x="5593" y="2642"/>
                </a:lnTo>
                <a:lnTo>
                  <a:pt x="5574" y="2652"/>
                </a:lnTo>
                <a:lnTo>
                  <a:pt x="5360" y="2665"/>
                </a:lnTo>
                <a:lnTo>
                  <a:pt x="5381" y="2691"/>
                </a:lnTo>
                <a:lnTo>
                  <a:pt x="5390" y="2703"/>
                </a:lnTo>
                <a:lnTo>
                  <a:pt x="5398" y="2715"/>
                </a:lnTo>
                <a:lnTo>
                  <a:pt x="5405" y="2728"/>
                </a:lnTo>
                <a:lnTo>
                  <a:pt x="5411" y="2739"/>
                </a:lnTo>
                <a:lnTo>
                  <a:pt x="5417" y="2752"/>
                </a:lnTo>
                <a:lnTo>
                  <a:pt x="5420" y="2764"/>
                </a:lnTo>
                <a:lnTo>
                  <a:pt x="5424" y="2776"/>
                </a:lnTo>
                <a:lnTo>
                  <a:pt x="5427" y="2788"/>
                </a:lnTo>
                <a:lnTo>
                  <a:pt x="5428" y="2800"/>
                </a:lnTo>
                <a:lnTo>
                  <a:pt x="5430" y="2811"/>
                </a:lnTo>
                <a:lnTo>
                  <a:pt x="5430" y="2823"/>
                </a:lnTo>
                <a:lnTo>
                  <a:pt x="5428" y="2834"/>
                </a:lnTo>
                <a:lnTo>
                  <a:pt x="5426" y="2846"/>
                </a:lnTo>
                <a:lnTo>
                  <a:pt x="5424" y="2856"/>
                </a:lnTo>
                <a:lnTo>
                  <a:pt x="5420" y="2868"/>
                </a:lnTo>
                <a:lnTo>
                  <a:pt x="5417" y="2878"/>
                </a:lnTo>
                <a:lnTo>
                  <a:pt x="5411" y="2890"/>
                </a:lnTo>
                <a:lnTo>
                  <a:pt x="5405" y="2900"/>
                </a:lnTo>
                <a:lnTo>
                  <a:pt x="5391" y="2922"/>
                </a:lnTo>
                <a:lnTo>
                  <a:pt x="5375" y="2943"/>
                </a:lnTo>
                <a:lnTo>
                  <a:pt x="5355" y="2964"/>
                </a:lnTo>
                <a:lnTo>
                  <a:pt x="5332" y="2985"/>
                </a:lnTo>
                <a:lnTo>
                  <a:pt x="5307" y="3006"/>
                </a:lnTo>
                <a:lnTo>
                  <a:pt x="5279" y="3026"/>
                </a:lnTo>
                <a:lnTo>
                  <a:pt x="4395" y="3038"/>
                </a:lnTo>
                <a:lnTo>
                  <a:pt x="5295" y="4234"/>
                </a:lnTo>
                <a:lnTo>
                  <a:pt x="4145" y="4243"/>
                </a:lnTo>
                <a:lnTo>
                  <a:pt x="4148" y="5215"/>
                </a:lnTo>
                <a:lnTo>
                  <a:pt x="5022" y="6088"/>
                </a:lnTo>
                <a:lnTo>
                  <a:pt x="5040" y="6123"/>
                </a:lnTo>
                <a:lnTo>
                  <a:pt x="5055" y="6157"/>
                </a:lnTo>
                <a:lnTo>
                  <a:pt x="5068" y="6192"/>
                </a:lnTo>
                <a:lnTo>
                  <a:pt x="5078" y="6226"/>
                </a:lnTo>
                <a:lnTo>
                  <a:pt x="5085" y="6258"/>
                </a:lnTo>
                <a:lnTo>
                  <a:pt x="5090" y="6292"/>
                </a:lnTo>
                <a:lnTo>
                  <a:pt x="5092" y="6324"/>
                </a:lnTo>
                <a:lnTo>
                  <a:pt x="5091" y="6355"/>
                </a:lnTo>
                <a:lnTo>
                  <a:pt x="5089" y="6388"/>
                </a:lnTo>
                <a:lnTo>
                  <a:pt x="5083" y="6419"/>
                </a:lnTo>
                <a:lnTo>
                  <a:pt x="5076" y="6449"/>
                </a:lnTo>
                <a:lnTo>
                  <a:pt x="5066" y="6481"/>
                </a:lnTo>
                <a:lnTo>
                  <a:pt x="5053" y="6511"/>
                </a:lnTo>
                <a:lnTo>
                  <a:pt x="5039" y="6541"/>
                </a:lnTo>
                <a:lnTo>
                  <a:pt x="5022" y="6570"/>
                </a:lnTo>
                <a:lnTo>
                  <a:pt x="5003" y="6600"/>
                </a:lnTo>
                <a:lnTo>
                  <a:pt x="4179" y="5797"/>
                </a:lnTo>
                <a:lnTo>
                  <a:pt x="4178" y="6741"/>
                </a:lnTo>
                <a:lnTo>
                  <a:pt x="4173" y="6761"/>
                </a:lnTo>
                <a:lnTo>
                  <a:pt x="4165" y="6779"/>
                </a:lnTo>
                <a:lnTo>
                  <a:pt x="4157" y="6796"/>
                </a:lnTo>
                <a:lnTo>
                  <a:pt x="4145" y="6812"/>
                </a:lnTo>
                <a:lnTo>
                  <a:pt x="4134" y="6826"/>
                </a:lnTo>
                <a:lnTo>
                  <a:pt x="4120" y="6840"/>
                </a:lnTo>
                <a:lnTo>
                  <a:pt x="4106" y="6852"/>
                </a:lnTo>
                <a:lnTo>
                  <a:pt x="4090" y="6862"/>
                </a:lnTo>
                <a:lnTo>
                  <a:pt x="4073" y="6871"/>
                </a:lnTo>
                <a:lnTo>
                  <a:pt x="4056" y="6879"/>
                </a:lnTo>
                <a:lnTo>
                  <a:pt x="4038" y="6886"/>
                </a:lnTo>
                <a:lnTo>
                  <a:pt x="4019" y="6892"/>
                </a:lnTo>
                <a:lnTo>
                  <a:pt x="3999" y="6897"/>
                </a:lnTo>
                <a:lnTo>
                  <a:pt x="3980" y="6899"/>
                </a:lnTo>
                <a:lnTo>
                  <a:pt x="3960" y="6901"/>
                </a:lnTo>
                <a:lnTo>
                  <a:pt x="3940" y="6901"/>
                </a:lnTo>
                <a:lnTo>
                  <a:pt x="3920" y="6901"/>
                </a:lnTo>
                <a:lnTo>
                  <a:pt x="3901" y="6899"/>
                </a:lnTo>
                <a:lnTo>
                  <a:pt x="3881" y="6896"/>
                </a:lnTo>
                <a:lnTo>
                  <a:pt x="3863" y="6891"/>
                </a:lnTo>
                <a:lnTo>
                  <a:pt x="3844" y="6885"/>
                </a:lnTo>
                <a:lnTo>
                  <a:pt x="3825" y="6878"/>
                </a:lnTo>
                <a:lnTo>
                  <a:pt x="3809" y="6870"/>
                </a:lnTo>
                <a:lnTo>
                  <a:pt x="3793" y="6861"/>
                </a:lnTo>
                <a:lnTo>
                  <a:pt x="3777" y="6850"/>
                </a:lnTo>
                <a:lnTo>
                  <a:pt x="3763" y="6838"/>
                </a:lnTo>
                <a:lnTo>
                  <a:pt x="3750" y="6825"/>
                </a:lnTo>
                <a:lnTo>
                  <a:pt x="3740" y="6811"/>
                </a:lnTo>
                <a:lnTo>
                  <a:pt x="3729" y="6795"/>
                </a:lnTo>
                <a:lnTo>
                  <a:pt x="3721" y="6779"/>
                </a:lnTo>
                <a:lnTo>
                  <a:pt x="3714" y="6760"/>
                </a:lnTo>
                <a:lnTo>
                  <a:pt x="3710" y="6741"/>
                </a:lnTo>
                <a:lnTo>
                  <a:pt x="3696" y="4243"/>
                </a:lnTo>
                <a:lnTo>
                  <a:pt x="3252" y="4241"/>
                </a:lnTo>
                <a:lnTo>
                  <a:pt x="3257" y="6745"/>
                </a:lnTo>
                <a:lnTo>
                  <a:pt x="3247" y="6767"/>
                </a:lnTo>
                <a:lnTo>
                  <a:pt x="3235" y="6787"/>
                </a:lnTo>
                <a:lnTo>
                  <a:pt x="3224" y="6806"/>
                </a:lnTo>
                <a:lnTo>
                  <a:pt x="3210" y="6824"/>
                </a:lnTo>
                <a:lnTo>
                  <a:pt x="3195" y="6841"/>
                </a:lnTo>
                <a:lnTo>
                  <a:pt x="3180" y="6856"/>
                </a:lnTo>
                <a:lnTo>
                  <a:pt x="3164" y="6870"/>
                </a:lnTo>
                <a:lnTo>
                  <a:pt x="3146" y="6882"/>
                </a:lnTo>
                <a:lnTo>
                  <a:pt x="3129" y="6893"/>
                </a:lnTo>
                <a:lnTo>
                  <a:pt x="3110" y="6903"/>
                </a:lnTo>
                <a:lnTo>
                  <a:pt x="3092" y="6911"/>
                </a:lnTo>
                <a:lnTo>
                  <a:pt x="3073" y="6918"/>
                </a:lnTo>
                <a:lnTo>
                  <a:pt x="3055" y="6922"/>
                </a:lnTo>
                <a:lnTo>
                  <a:pt x="3035" y="6926"/>
                </a:lnTo>
                <a:lnTo>
                  <a:pt x="3015" y="6928"/>
                </a:lnTo>
                <a:lnTo>
                  <a:pt x="2997" y="6929"/>
                </a:lnTo>
                <a:lnTo>
                  <a:pt x="2977" y="6929"/>
                </a:lnTo>
                <a:lnTo>
                  <a:pt x="2958" y="6927"/>
                </a:lnTo>
                <a:lnTo>
                  <a:pt x="2940" y="6923"/>
                </a:lnTo>
                <a:lnTo>
                  <a:pt x="2923" y="6919"/>
                </a:lnTo>
                <a:lnTo>
                  <a:pt x="2905" y="6912"/>
                </a:lnTo>
                <a:lnTo>
                  <a:pt x="2888" y="6905"/>
                </a:lnTo>
                <a:lnTo>
                  <a:pt x="2872" y="6896"/>
                </a:lnTo>
                <a:lnTo>
                  <a:pt x="2856" y="6884"/>
                </a:lnTo>
                <a:lnTo>
                  <a:pt x="2843" y="6872"/>
                </a:lnTo>
                <a:lnTo>
                  <a:pt x="2829" y="6859"/>
                </a:lnTo>
                <a:lnTo>
                  <a:pt x="2817" y="6842"/>
                </a:lnTo>
                <a:lnTo>
                  <a:pt x="2805" y="6826"/>
                </a:lnTo>
                <a:lnTo>
                  <a:pt x="2796" y="6808"/>
                </a:lnTo>
                <a:lnTo>
                  <a:pt x="2787" y="6788"/>
                </a:lnTo>
                <a:lnTo>
                  <a:pt x="2780" y="6767"/>
                </a:lnTo>
                <a:lnTo>
                  <a:pt x="2775" y="6744"/>
                </a:lnTo>
                <a:lnTo>
                  <a:pt x="2720" y="4102"/>
                </a:lnTo>
                <a:lnTo>
                  <a:pt x="2702" y="4091"/>
                </a:lnTo>
                <a:lnTo>
                  <a:pt x="2685" y="4080"/>
                </a:lnTo>
                <a:lnTo>
                  <a:pt x="2669" y="4072"/>
                </a:lnTo>
                <a:lnTo>
                  <a:pt x="2651" y="4065"/>
                </a:lnTo>
                <a:lnTo>
                  <a:pt x="2635" y="4061"/>
                </a:lnTo>
                <a:lnTo>
                  <a:pt x="2618" y="4057"/>
                </a:lnTo>
                <a:lnTo>
                  <a:pt x="2601" y="4055"/>
                </a:lnTo>
                <a:lnTo>
                  <a:pt x="2585" y="4054"/>
                </a:lnTo>
                <a:lnTo>
                  <a:pt x="2569" y="4055"/>
                </a:lnTo>
                <a:lnTo>
                  <a:pt x="2553" y="4057"/>
                </a:lnTo>
                <a:lnTo>
                  <a:pt x="2537" y="4061"/>
                </a:lnTo>
                <a:lnTo>
                  <a:pt x="2521" y="4066"/>
                </a:lnTo>
                <a:lnTo>
                  <a:pt x="2505" y="4073"/>
                </a:lnTo>
                <a:lnTo>
                  <a:pt x="2489" y="4081"/>
                </a:lnTo>
                <a:lnTo>
                  <a:pt x="2474" y="4092"/>
                </a:lnTo>
                <a:lnTo>
                  <a:pt x="2458" y="4103"/>
                </a:lnTo>
                <a:lnTo>
                  <a:pt x="2450" y="5169"/>
                </a:lnTo>
                <a:lnTo>
                  <a:pt x="1357" y="6613"/>
                </a:lnTo>
                <a:lnTo>
                  <a:pt x="1342" y="6594"/>
                </a:lnTo>
                <a:lnTo>
                  <a:pt x="1328" y="6576"/>
                </a:lnTo>
                <a:lnTo>
                  <a:pt x="1315" y="6557"/>
                </a:lnTo>
                <a:lnTo>
                  <a:pt x="1302" y="6539"/>
                </a:lnTo>
                <a:lnTo>
                  <a:pt x="1292" y="6519"/>
                </a:lnTo>
                <a:lnTo>
                  <a:pt x="1280" y="6499"/>
                </a:lnTo>
                <a:lnTo>
                  <a:pt x="1271" y="6478"/>
                </a:lnTo>
                <a:lnTo>
                  <a:pt x="1262" y="6459"/>
                </a:lnTo>
                <a:lnTo>
                  <a:pt x="1255" y="6438"/>
                </a:lnTo>
                <a:lnTo>
                  <a:pt x="1248" y="6416"/>
                </a:lnTo>
                <a:lnTo>
                  <a:pt x="1242" y="6394"/>
                </a:lnTo>
                <a:lnTo>
                  <a:pt x="1237" y="6372"/>
                </a:lnTo>
                <a:lnTo>
                  <a:pt x="1233" y="6349"/>
                </a:lnTo>
                <a:lnTo>
                  <a:pt x="1230" y="6325"/>
                </a:lnTo>
                <a:lnTo>
                  <a:pt x="1229" y="6301"/>
                </a:lnTo>
                <a:lnTo>
                  <a:pt x="1228" y="6277"/>
                </a:lnTo>
                <a:lnTo>
                  <a:pt x="1229" y="6251"/>
                </a:lnTo>
                <a:lnTo>
                  <a:pt x="1230" y="6226"/>
                </a:lnTo>
                <a:lnTo>
                  <a:pt x="1234" y="6200"/>
                </a:lnTo>
                <a:lnTo>
                  <a:pt x="1238" y="6174"/>
                </a:lnTo>
                <a:lnTo>
                  <a:pt x="1244" y="6146"/>
                </a:lnTo>
                <a:lnTo>
                  <a:pt x="1250" y="6118"/>
                </a:lnTo>
                <a:lnTo>
                  <a:pt x="1258" y="6089"/>
                </a:lnTo>
                <a:lnTo>
                  <a:pt x="1268" y="6060"/>
                </a:lnTo>
                <a:lnTo>
                  <a:pt x="1279" y="6030"/>
                </a:lnTo>
                <a:lnTo>
                  <a:pt x="1291" y="6000"/>
                </a:lnTo>
                <a:lnTo>
                  <a:pt x="1304" y="5968"/>
                </a:lnTo>
                <a:lnTo>
                  <a:pt x="1319" y="5936"/>
                </a:lnTo>
                <a:lnTo>
                  <a:pt x="1336" y="5903"/>
                </a:lnTo>
                <a:lnTo>
                  <a:pt x="1354" y="5870"/>
                </a:lnTo>
                <a:lnTo>
                  <a:pt x="1373" y="5835"/>
                </a:lnTo>
                <a:lnTo>
                  <a:pt x="1394" y="5800"/>
                </a:lnTo>
                <a:lnTo>
                  <a:pt x="1955" y="5093"/>
                </a:lnTo>
                <a:lnTo>
                  <a:pt x="1959" y="1797"/>
                </a:lnTo>
                <a:lnTo>
                  <a:pt x="1958" y="1782"/>
                </a:lnTo>
                <a:lnTo>
                  <a:pt x="1957" y="1767"/>
                </a:lnTo>
                <a:lnTo>
                  <a:pt x="1954" y="1752"/>
                </a:lnTo>
                <a:lnTo>
                  <a:pt x="1950" y="1737"/>
                </a:lnTo>
                <a:lnTo>
                  <a:pt x="1947" y="1723"/>
                </a:lnTo>
                <a:lnTo>
                  <a:pt x="1941" y="1710"/>
                </a:lnTo>
                <a:lnTo>
                  <a:pt x="1934" y="1696"/>
                </a:lnTo>
                <a:lnTo>
                  <a:pt x="1927" y="1683"/>
                </a:lnTo>
                <a:lnTo>
                  <a:pt x="1918" y="1672"/>
                </a:lnTo>
                <a:lnTo>
                  <a:pt x="1908" y="1660"/>
                </a:lnTo>
                <a:lnTo>
                  <a:pt x="1897" y="1649"/>
                </a:lnTo>
                <a:lnTo>
                  <a:pt x="1885" y="1638"/>
                </a:lnTo>
                <a:lnTo>
                  <a:pt x="1871" y="1629"/>
                </a:lnTo>
                <a:lnTo>
                  <a:pt x="1856" y="1620"/>
                </a:lnTo>
                <a:lnTo>
                  <a:pt x="1839" y="1611"/>
                </a:lnTo>
                <a:lnTo>
                  <a:pt x="1821" y="1603"/>
                </a:lnTo>
                <a:lnTo>
                  <a:pt x="986" y="1603"/>
                </a:lnTo>
                <a:lnTo>
                  <a:pt x="2" y="509"/>
                </a:lnTo>
                <a:close/>
                <a:moveTo>
                  <a:pt x="3728" y="64"/>
                </a:moveTo>
                <a:lnTo>
                  <a:pt x="3728" y="64"/>
                </a:lnTo>
                <a:lnTo>
                  <a:pt x="3704" y="64"/>
                </a:lnTo>
                <a:lnTo>
                  <a:pt x="3681" y="66"/>
                </a:lnTo>
                <a:lnTo>
                  <a:pt x="3657" y="69"/>
                </a:lnTo>
                <a:lnTo>
                  <a:pt x="3634" y="73"/>
                </a:lnTo>
                <a:lnTo>
                  <a:pt x="3612" y="78"/>
                </a:lnTo>
                <a:lnTo>
                  <a:pt x="3590" y="85"/>
                </a:lnTo>
                <a:lnTo>
                  <a:pt x="3568" y="92"/>
                </a:lnTo>
                <a:lnTo>
                  <a:pt x="3547" y="100"/>
                </a:lnTo>
                <a:lnTo>
                  <a:pt x="3526" y="109"/>
                </a:lnTo>
                <a:lnTo>
                  <a:pt x="3507" y="120"/>
                </a:lnTo>
                <a:lnTo>
                  <a:pt x="3487" y="131"/>
                </a:lnTo>
                <a:lnTo>
                  <a:pt x="3468" y="143"/>
                </a:lnTo>
                <a:lnTo>
                  <a:pt x="3450" y="157"/>
                </a:lnTo>
                <a:lnTo>
                  <a:pt x="3433" y="171"/>
                </a:lnTo>
                <a:lnTo>
                  <a:pt x="3415" y="185"/>
                </a:lnTo>
                <a:lnTo>
                  <a:pt x="3399" y="201"/>
                </a:lnTo>
                <a:lnTo>
                  <a:pt x="3384" y="217"/>
                </a:lnTo>
                <a:lnTo>
                  <a:pt x="3369" y="233"/>
                </a:lnTo>
                <a:lnTo>
                  <a:pt x="3355" y="251"/>
                </a:lnTo>
                <a:lnTo>
                  <a:pt x="3342" y="269"/>
                </a:lnTo>
                <a:lnTo>
                  <a:pt x="3331" y="288"/>
                </a:lnTo>
                <a:lnTo>
                  <a:pt x="3319" y="308"/>
                </a:lnTo>
                <a:lnTo>
                  <a:pt x="3308" y="327"/>
                </a:lnTo>
                <a:lnTo>
                  <a:pt x="3299" y="348"/>
                </a:lnTo>
                <a:lnTo>
                  <a:pt x="3291" y="369"/>
                </a:lnTo>
                <a:lnTo>
                  <a:pt x="3284" y="391"/>
                </a:lnTo>
                <a:lnTo>
                  <a:pt x="3277" y="413"/>
                </a:lnTo>
                <a:lnTo>
                  <a:pt x="3273" y="435"/>
                </a:lnTo>
                <a:lnTo>
                  <a:pt x="3268" y="458"/>
                </a:lnTo>
                <a:lnTo>
                  <a:pt x="3264" y="481"/>
                </a:lnTo>
                <a:lnTo>
                  <a:pt x="3263" y="506"/>
                </a:lnTo>
                <a:lnTo>
                  <a:pt x="3262" y="529"/>
                </a:lnTo>
                <a:lnTo>
                  <a:pt x="3263" y="553"/>
                </a:lnTo>
                <a:lnTo>
                  <a:pt x="3264" y="576"/>
                </a:lnTo>
                <a:lnTo>
                  <a:pt x="3268" y="600"/>
                </a:lnTo>
                <a:lnTo>
                  <a:pt x="3273" y="623"/>
                </a:lnTo>
                <a:lnTo>
                  <a:pt x="3277" y="645"/>
                </a:lnTo>
                <a:lnTo>
                  <a:pt x="3284" y="667"/>
                </a:lnTo>
                <a:lnTo>
                  <a:pt x="3291" y="689"/>
                </a:lnTo>
                <a:lnTo>
                  <a:pt x="3299" y="710"/>
                </a:lnTo>
                <a:lnTo>
                  <a:pt x="3308" y="731"/>
                </a:lnTo>
                <a:lnTo>
                  <a:pt x="3319" y="750"/>
                </a:lnTo>
                <a:lnTo>
                  <a:pt x="3331" y="770"/>
                </a:lnTo>
                <a:lnTo>
                  <a:pt x="3342" y="789"/>
                </a:lnTo>
                <a:lnTo>
                  <a:pt x="3355" y="807"/>
                </a:lnTo>
                <a:lnTo>
                  <a:pt x="3369" y="824"/>
                </a:lnTo>
                <a:lnTo>
                  <a:pt x="3384" y="842"/>
                </a:lnTo>
                <a:lnTo>
                  <a:pt x="3399" y="858"/>
                </a:lnTo>
                <a:lnTo>
                  <a:pt x="3415" y="873"/>
                </a:lnTo>
                <a:lnTo>
                  <a:pt x="3433" y="888"/>
                </a:lnTo>
                <a:lnTo>
                  <a:pt x="3450" y="902"/>
                </a:lnTo>
                <a:lnTo>
                  <a:pt x="3468" y="915"/>
                </a:lnTo>
                <a:lnTo>
                  <a:pt x="3487" y="926"/>
                </a:lnTo>
                <a:lnTo>
                  <a:pt x="3507" y="938"/>
                </a:lnTo>
                <a:lnTo>
                  <a:pt x="3526" y="948"/>
                </a:lnTo>
                <a:lnTo>
                  <a:pt x="3547" y="958"/>
                </a:lnTo>
                <a:lnTo>
                  <a:pt x="3568" y="966"/>
                </a:lnTo>
                <a:lnTo>
                  <a:pt x="3590" y="974"/>
                </a:lnTo>
                <a:lnTo>
                  <a:pt x="3612" y="980"/>
                </a:lnTo>
                <a:lnTo>
                  <a:pt x="3634" y="986"/>
                </a:lnTo>
                <a:lnTo>
                  <a:pt x="3657" y="989"/>
                </a:lnTo>
                <a:lnTo>
                  <a:pt x="3681" y="993"/>
                </a:lnTo>
                <a:lnTo>
                  <a:pt x="3704" y="994"/>
                </a:lnTo>
                <a:lnTo>
                  <a:pt x="3728" y="995"/>
                </a:lnTo>
                <a:lnTo>
                  <a:pt x="3751" y="994"/>
                </a:lnTo>
                <a:lnTo>
                  <a:pt x="3776" y="993"/>
                </a:lnTo>
                <a:lnTo>
                  <a:pt x="3799" y="989"/>
                </a:lnTo>
                <a:lnTo>
                  <a:pt x="3822" y="986"/>
                </a:lnTo>
                <a:lnTo>
                  <a:pt x="3844" y="980"/>
                </a:lnTo>
                <a:lnTo>
                  <a:pt x="3866" y="974"/>
                </a:lnTo>
                <a:lnTo>
                  <a:pt x="3888" y="966"/>
                </a:lnTo>
                <a:lnTo>
                  <a:pt x="3909" y="958"/>
                </a:lnTo>
                <a:lnTo>
                  <a:pt x="3930" y="948"/>
                </a:lnTo>
                <a:lnTo>
                  <a:pt x="3949" y="938"/>
                </a:lnTo>
                <a:lnTo>
                  <a:pt x="3969" y="926"/>
                </a:lnTo>
                <a:lnTo>
                  <a:pt x="3988" y="915"/>
                </a:lnTo>
                <a:lnTo>
                  <a:pt x="4006" y="902"/>
                </a:lnTo>
                <a:lnTo>
                  <a:pt x="4024" y="888"/>
                </a:lnTo>
                <a:lnTo>
                  <a:pt x="4041" y="873"/>
                </a:lnTo>
                <a:lnTo>
                  <a:pt x="4057" y="858"/>
                </a:lnTo>
                <a:lnTo>
                  <a:pt x="4072" y="842"/>
                </a:lnTo>
                <a:lnTo>
                  <a:pt x="4086" y="824"/>
                </a:lnTo>
                <a:lnTo>
                  <a:pt x="4100" y="807"/>
                </a:lnTo>
                <a:lnTo>
                  <a:pt x="4114" y="789"/>
                </a:lnTo>
                <a:lnTo>
                  <a:pt x="4126" y="770"/>
                </a:lnTo>
                <a:lnTo>
                  <a:pt x="4137" y="750"/>
                </a:lnTo>
                <a:lnTo>
                  <a:pt x="4148" y="731"/>
                </a:lnTo>
                <a:lnTo>
                  <a:pt x="4157" y="710"/>
                </a:lnTo>
                <a:lnTo>
                  <a:pt x="4165" y="689"/>
                </a:lnTo>
                <a:lnTo>
                  <a:pt x="4172" y="667"/>
                </a:lnTo>
                <a:lnTo>
                  <a:pt x="4179" y="645"/>
                </a:lnTo>
                <a:lnTo>
                  <a:pt x="4184" y="623"/>
                </a:lnTo>
                <a:lnTo>
                  <a:pt x="4188" y="600"/>
                </a:lnTo>
                <a:lnTo>
                  <a:pt x="4191" y="576"/>
                </a:lnTo>
                <a:lnTo>
                  <a:pt x="4193" y="553"/>
                </a:lnTo>
                <a:lnTo>
                  <a:pt x="4193" y="529"/>
                </a:lnTo>
                <a:lnTo>
                  <a:pt x="4193" y="506"/>
                </a:lnTo>
                <a:lnTo>
                  <a:pt x="4191" y="481"/>
                </a:lnTo>
                <a:lnTo>
                  <a:pt x="4188" y="458"/>
                </a:lnTo>
                <a:lnTo>
                  <a:pt x="4184" y="435"/>
                </a:lnTo>
                <a:lnTo>
                  <a:pt x="4179" y="413"/>
                </a:lnTo>
                <a:lnTo>
                  <a:pt x="4172" y="391"/>
                </a:lnTo>
                <a:lnTo>
                  <a:pt x="4165" y="369"/>
                </a:lnTo>
                <a:lnTo>
                  <a:pt x="4157" y="348"/>
                </a:lnTo>
                <a:lnTo>
                  <a:pt x="4148" y="327"/>
                </a:lnTo>
                <a:lnTo>
                  <a:pt x="4137" y="308"/>
                </a:lnTo>
                <a:lnTo>
                  <a:pt x="4126" y="288"/>
                </a:lnTo>
                <a:lnTo>
                  <a:pt x="4114" y="269"/>
                </a:lnTo>
                <a:lnTo>
                  <a:pt x="4100" y="251"/>
                </a:lnTo>
                <a:lnTo>
                  <a:pt x="4086" y="233"/>
                </a:lnTo>
                <a:lnTo>
                  <a:pt x="4072" y="217"/>
                </a:lnTo>
                <a:lnTo>
                  <a:pt x="4057" y="201"/>
                </a:lnTo>
                <a:lnTo>
                  <a:pt x="4041" y="185"/>
                </a:lnTo>
                <a:lnTo>
                  <a:pt x="4024" y="171"/>
                </a:lnTo>
                <a:lnTo>
                  <a:pt x="4006" y="157"/>
                </a:lnTo>
                <a:lnTo>
                  <a:pt x="3988" y="143"/>
                </a:lnTo>
                <a:lnTo>
                  <a:pt x="3969" y="131"/>
                </a:lnTo>
                <a:lnTo>
                  <a:pt x="3949" y="120"/>
                </a:lnTo>
                <a:lnTo>
                  <a:pt x="3930" y="109"/>
                </a:lnTo>
                <a:lnTo>
                  <a:pt x="3909" y="100"/>
                </a:lnTo>
                <a:lnTo>
                  <a:pt x="3888" y="92"/>
                </a:lnTo>
                <a:lnTo>
                  <a:pt x="3866" y="85"/>
                </a:lnTo>
                <a:lnTo>
                  <a:pt x="3844" y="78"/>
                </a:lnTo>
                <a:lnTo>
                  <a:pt x="3822" y="73"/>
                </a:lnTo>
                <a:lnTo>
                  <a:pt x="3799" y="69"/>
                </a:lnTo>
                <a:lnTo>
                  <a:pt x="3776" y="66"/>
                </a:lnTo>
                <a:lnTo>
                  <a:pt x="3751" y="64"/>
                </a:lnTo>
                <a:lnTo>
                  <a:pt x="3728" y="64"/>
                </a:lnTo>
                <a:close/>
                <a:moveTo>
                  <a:pt x="2550" y="0"/>
                </a:moveTo>
                <a:lnTo>
                  <a:pt x="2550" y="0"/>
                </a:lnTo>
                <a:lnTo>
                  <a:pt x="2526" y="0"/>
                </a:lnTo>
                <a:lnTo>
                  <a:pt x="2503" y="3"/>
                </a:lnTo>
                <a:lnTo>
                  <a:pt x="2480" y="5"/>
                </a:lnTo>
                <a:lnTo>
                  <a:pt x="2457" y="10"/>
                </a:lnTo>
                <a:lnTo>
                  <a:pt x="2435" y="14"/>
                </a:lnTo>
                <a:lnTo>
                  <a:pt x="2413" y="21"/>
                </a:lnTo>
                <a:lnTo>
                  <a:pt x="2390" y="28"/>
                </a:lnTo>
                <a:lnTo>
                  <a:pt x="2370" y="36"/>
                </a:lnTo>
                <a:lnTo>
                  <a:pt x="2349" y="47"/>
                </a:lnTo>
                <a:lnTo>
                  <a:pt x="2329" y="56"/>
                </a:lnTo>
                <a:lnTo>
                  <a:pt x="2309" y="68"/>
                </a:lnTo>
                <a:lnTo>
                  <a:pt x="2291" y="80"/>
                </a:lnTo>
                <a:lnTo>
                  <a:pt x="2272" y="93"/>
                </a:lnTo>
                <a:lnTo>
                  <a:pt x="2255" y="107"/>
                </a:lnTo>
                <a:lnTo>
                  <a:pt x="2237" y="121"/>
                </a:lnTo>
                <a:lnTo>
                  <a:pt x="2221" y="137"/>
                </a:lnTo>
                <a:lnTo>
                  <a:pt x="2206" y="153"/>
                </a:lnTo>
                <a:lnTo>
                  <a:pt x="2191" y="170"/>
                </a:lnTo>
                <a:lnTo>
                  <a:pt x="2177" y="187"/>
                </a:lnTo>
                <a:lnTo>
                  <a:pt x="2164" y="206"/>
                </a:lnTo>
                <a:lnTo>
                  <a:pt x="2153" y="224"/>
                </a:lnTo>
                <a:lnTo>
                  <a:pt x="2141" y="244"/>
                </a:lnTo>
                <a:lnTo>
                  <a:pt x="2131" y="265"/>
                </a:lnTo>
                <a:lnTo>
                  <a:pt x="2122" y="284"/>
                </a:lnTo>
                <a:lnTo>
                  <a:pt x="2113" y="306"/>
                </a:lnTo>
                <a:lnTo>
                  <a:pt x="2107" y="327"/>
                </a:lnTo>
                <a:lnTo>
                  <a:pt x="2100" y="349"/>
                </a:lnTo>
                <a:lnTo>
                  <a:pt x="2095" y="372"/>
                </a:lnTo>
                <a:lnTo>
                  <a:pt x="2090" y="394"/>
                </a:lnTo>
                <a:lnTo>
                  <a:pt x="2088" y="418"/>
                </a:lnTo>
                <a:lnTo>
                  <a:pt x="2086" y="442"/>
                </a:lnTo>
                <a:lnTo>
                  <a:pt x="2086" y="465"/>
                </a:lnTo>
                <a:lnTo>
                  <a:pt x="2086" y="490"/>
                </a:lnTo>
                <a:lnTo>
                  <a:pt x="2088" y="513"/>
                </a:lnTo>
                <a:lnTo>
                  <a:pt x="2090" y="536"/>
                </a:lnTo>
                <a:lnTo>
                  <a:pt x="2095" y="559"/>
                </a:lnTo>
                <a:lnTo>
                  <a:pt x="2100" y="582"/>
                </a:lnTo>
                <a:lnTo>
                  <a:pt x="2107" y="604"/>
                </a:lnTo>
                <a:lnTo>
                  <a:pt x="2113" y="625"/>
                </a:lnTo>
                <a:lnTo>
                  <a:pt x="2122" y="646"/>
                </a:lnTo>
                <a:lnTo>
                  <a:pt x="2131" y="667"/>
                </a:lnTo>
                <a:lnTo>
                  <a:pt x="2141" y="688"/>
                </a:lnTo>
                <a:lnTo>
                  <a:pt x="2153" y="706"/>
                </a:lnTo>
                <a:lnTo>
                  <a:pt x="2164" y="726"/>
                </a:lnTo>
                <a:lnTo>
                  <a:pt x="2177" y="743"/>
                </a:lnTo>
                <a:lnTo>
                  <a:pt x="2191" y="762"/>
                </a:lnTo>
                <a:lnTo>
                  <a:pt x="2206" y="778"/>
                </a:lnTo>
                <a:lnTo>
                  <a:pt x="2221" y="794"/>
                </a:lnTo>
                <a:lnTo>
                  <a:pt x="2237" y="809"/>
                </a:lnTo>
                <a:lnTo>
                  <a:pt x="2255" y="824"/>
                </a:lnTo>
                <a:lnTo>
                  <a:pt x="2272" y="838"/>
                </a:lnTo>
                <a:lnTo>
                  <a:pt x="2291" y="851"/>
                </a:lnTo>
                <a:lnTo>
                  <a:pt x="2309" y="864"/>
                </a:lnTo>
                <a:lnTo>
                  <a:pt x="2329" y="874"/>
                </a:lnTo>
                <a:lnTo>
                  <a:pt x="2349" y="885"/>
                </a:lnTo>
                <a:lnTo>
                  <a:pt x="2370" y="894"/>
                </a:lnTo>
                <a:lnTo>
                  <a:pt x="2390" y="902"/>
                </a:lnTo>
                <a:lnTo>
                  <a:pt x="2413" y="910"/>
                </a:lnTo>
                <a:lnTo>
                  <a:pt x="2435" y="916"/>
                </a:lnTo>
                <a:lnTo>
                  <a:pt x="2457" y="922"/>
                </a:lnTo>
                <a:lnTo>
                  <a:pt x="2480" y="925"/>
                </a:lnTo>
                <a:lnTo>
                  <a:pt x="2503" y="929"/>
                </a:lnTo>
                <a:lnTo>
                  <a:pt x="2526" y="930"/>
                </a:lnTo>
                <a:lnTo>
                  <a:pt x="2550" y="931"/>
                </a:lnTo>
                <a:lnTo>
                  <a:pt x="2575" y="930"/>
                </a:lnTo>
                <a:lnTo>
                  <a:pt x="2598" y="929"/>
                </a:lnTo>
                <a:lnTo>
                  <a:pt x="2621" y="925"/>
                </a:lnTo>
                <a:lnTo>
                  <a:pt x="2644" y="922"/>
                </a:lnTo>
                <a:lnTo>
                  <a:pt x="2666" y="916"/>
                </a:lnTo>
                <a:lnTo>
                  <a:pt x="2688" y="910"/>
                </a:lnTo>
                <a:lnTo>
                  <a:pt x="2710" y="902"/>
                </a:lnTo>
                <a:lnTo>
                  <a:pt x="2731" y="894"/>
                </a:lnTo>
                <a:lnTo>
                  <a:pt x="2752" y="885"/>
                </a:lnTo>
                <a:lnTo>
                  <a:pt x="2772" y="874"/>
                </a:lnTo>
                <a:lnTo>
                  <a:pt x="2792" y="864"/>
                </a:lnTo>
                <a:lnTo>
                  <a:pt x="2810" y="851"/>
                </a:lnTo>
                <a:lnTo>
                  <a:pt x="2829" y="838"/>
                </a:lnTo>
                <a:lnTo>
                  <a:pt x="2846" y="824"/>
                </a:lnTo>
                <a:lnTo>
                  <a:pt x="2863" y="809"/>
                </a:lnTo>
                <a:lnTo>
                  <a:pt x="2880" y="794"/>
                </a:lnTo>
                <a:lnTo>
                  <a:pt x="2895" y="778"/>
                </a:lnTo>
                <a:lnTo>
                  <a:pt x="2910" y="762"/>
                </a:lnTo>
                <a:lnTo>
                  <a:pt x="2924" y="743"/>
                </a:lnTo>
                <a:lnTo>
                  <a:pt x="2936" y="726"/>
                </a:lnTo>
                <a:lnTo>
                  <a:pt x="2948" y="706"/>
                </a:lnTo>
                <a:lnTo>
                  <a:pt x="2960" y="688"/>
                </a:lnTo>
                <a:lnTo>
                  <a:pt x="2970" y="667"/>
                </a:lnTo>
                <a:lnTo>
                  <a:pt x="2979" y="646"/>
                </a:lnTo>
                <a:lnTo>
                  <a:pt x="2987" y="625"/>
                </a:lnTo>
                <a:lnTo>
                  <a:pt x="2994" y="604"/>
                </a:lnTo>
                <a:lnTo>
                  <a:pt x="3001" y="582"/>
                </a:lnTo>
                <a:lnTo>
                  <a:pt x="3006" y="559"/>
                </a:lnTo>
                <a:lnTo>
                  <a:pt x="3011" y="536"/>
                </a:lnTo>
                <a:lnTo>
                  <a:pt x="3013" y="513"/>
                </a:lnTo>
                <a:lnTo>
                  <a:pt x="3015" y="490"/>
                </a:lnTo>
                <a:lnTo>
                  <a:pt x="3016" y="465"/>
                </a:lnTo>
                <a:lnTo>
                  <a:pt x="3015" y="442"/>
                </a:lnTo>
                <a:lnTo>
                  <a:pt x="3013" y="418"/>
                </a:lnTo>
                <a:lnTo>
                  <a:pt x="3011" y="394"/>
                </a:lnTo>
                <a:lnTo>
                  <a:pt x="3006" y="372"/>
                </a:lnTo>
                <a:lnTo>
                  <a:pt x="3001" y="349"/>
                </a:lnTo>
                <a:lnTo>
                  <a:pt x="2994" y="327"/>
                </a:lnTo>
                <a:lnTo>
                  <a:pt x="2987" y="306"/>
                </a:lnTo>
                <a:lnTo>
                  <a:pt x="2979" y="284"/>
                </a:lnTo>
                <a:lnTo>
                  <a:pt x="2970" y="265"/>
                </a:lnTo>
                <a:lnTo>
                  <a:pt x="2960" y="244"/>
                </a:lnTo>
                <a:lnTo>
                  <a:pt x="2948" y="224"/>
                </a:lnTo>
                <a:lnTo>
                  <a:pt x="2936" y="206"/>
                </a:lnTo>
                <a:lnTo>
                  <a:pt x="2924" y="187"/>
                </a:lnTo>
                <a:lnTo>
                  <a:pt x="2910" y="170"/>
                </a:lnTo>
                <a:lnTo>
                  <a:pt x="2895" y="153"/>
                </a:lnTo>
                <a:lnTo>
                  <a:pt x="2880" y="137"/>
                </a:lnTo>
                <a:lnTo>
                  <a:pt x="2863" y="121"/>
                </a:lnTo>
                <a:lnTo>
                  <a:pt x="2846" y="107"/>
                </a:lnTo>
                <a:lnTo>
                  <a:pt x="2829" y="93"/>
                </a:lnTo>
                <a:lnTo>
                  <a:pt x="2810" y="80"/>
                </a:lnTo>
                <a:lnTo>
                  <a:pt x="2792" y="68"/>
                </a:lnTo>
                <a:lnTo>
                  <a:pt x="2772" y="56"/>
                </a:lnTo>
                <a:lnTo>
                  <a:pt x="2752" y="47"/>
                </a:lnTo>
                <a:lnTo>
                  <a:pt x="2731" y="36"/>
                </a:lnTo>
                <a:lnTo>
                  <a:pt x="2710" y="28"/>
                </a:lnTo>
                <a:lnTo>
                  <a:pt x="2688" y="21"/>
                </a:lnTo>
                <a:lnTo>
                  <a:pt x="2666" y="14"/>
                </a:lnTo>
                <a:lnTo>
                  <a:pt x="2644" y="10"/>
                </a:lnTo>
                <a:lnTo>
                  <a:pt x="2621" y="5"/>
                </a:lnTo>
                <a:lnTo>
                  <a:pt x="2598" y="3"/>
                </a:lnTo>
                <a:lnTo>
                  <a:pt x="2575" y="0"/>
                </a:lnTo>
                <a:lnTo>
                  <a:pt x="2550" y="0"/>
                </a:lnTo>
                <a:close/>
                <a:moveTo>
                  <a:pt x="413" y="369"/>
                </a:moveTo>
                <a:lnTo>
                  <a:pt x="1155" y="1149"/>
                </a:lnTo>
                <a:lnTo>
                  <a:pt x="1588" y="1157"/>
                </a:lnTo>
                <a:lnTo>
                  <a:pt x="1593" y="1150"/>
                </a:lnTo>
                <a:lnTo>
                  <a:pt x="1598" y="1144"/>
                </a:lnTo>
                <a:lnTo>
                  <a:pt x="1600" y="1137"/>
                </a:lnTo>
                <a:lnTo>
                  <a:pt x="1602" y="1130"/>
                </a:lnTo>
                <a:lnTo>
                  <a:pt x="1601" y="1124"/>
                </a:lnTo>
                <a:lnTo>
                  <a:pt x="1600" y="1115"/>
                </a:lnTo>
                <a:lnTo>
                  <a:pt x="1595" y="1107"/>
                </a:lnTo>
                <a:lnTo>
                  <a:pt x="1588" y="1098"/>
                </a:lnTo>
                <a:lnTo>
                  <a:pt x="680" y="152"/>
                </a:lnTo>
                <a:lnTo>
                  <a:pt x="665" y="145"/>
                </a:lnTo>
                <a:lnTo>
                  <a:pt x="651" y="139"/>
                </a:lnTo>
                <a:lnTo>
                  <a:pt x="636" y="135"/>
                </a:lnTo>
                <a:lnTo>
                  <a:pt x="621" y="131"/>
                </a:lnTo>
                <a:lnTo>
                  <a:pt x="606" y="130"/>
                </a:lnTo>
                <a:lnTo>
                  <a:pt x="592" y="129"/>
                </a:lnTo>
                <a:lnTo>
                  <a:pt x="578" y="130"/>
                </a:lnTo>
                <a:lnTo>
                  <a:pt x="564" y="133"/>
                </a:lnTo>
                <a:lnTo>
                  <a:pt x="550" y="135"/>
                </a:lnTo>
                <a:lnTo>
                  <a:pt x="536" y="138"/>
                </a:lnTo>
                <a:lnTo>
                  <a:pt x="523" y="144"/>
                </a:lnTo>
                <a:lnTo>
                  <a:pt x="510" y="150"/>
                </a:lnTo>
                <a:lnTo>
                  <a:pt x="499" y="156"/>
                </a:lnTo>
                <a:lnTo>
                  <a:pt x="487" y="164"/>
                </a:lnTo>
                <a:lnTo>
                  <a:pt x="476" y="172"/>
                </a:lnTo>
                <a:lnTo>
                  <a:pt x="465" y="180"/>
                </a:lnTo>
                <a:lnTo>
                  <a:pt x="456" y="189"/>
                </a:lnTo>
                <a:lnTo>
                  <a:pt x="447" y="200"/>
                </a:lnTo>
                <a:lnTo>
                  <a:pt x="439" y="210"/>
                </a:lnTo>
                <a:lnTo>
                  <a:pt x="430" y="222"/>
                </a:lnTo>
                <a:lnTo>
                  <a:pt x="424" y="233"/>
                </a:lnTo>
                <a:lnTo>
                  <a:pt x="418" y="245"/>
                </a:lnTo>
                <a:lnTo>
                  <a:pt x="412" y="257"/>
                </a:lnTo>
                <a:lnTo>
                  <a:pt x="408" y="269"/>
                </a:lnTo>
                <a:lnTo>
                  <a:pt x="405" y="282"/>
                </a:lnTo>
                <a:lnTo>
                  <a:pt x="403" y="294"/>
                </a:lnTo>
                <a:lnTo>
                  <a:pt x="402" y="306"/>
                </a:lnTo>
                <a:lnTo>
                  <a:pt x="402" y="319"/>
                </a:lnTo>
                <a:lnTo>
                  <a:pt x="403" y="332"/>
                </a:lnTo>
                <a:lnTo>
                  <a:pt x="405" y="345"/>
                </a:lnTo>
                <a:lnTo>
                  <a:pt x="408" y="357"/>
                </a:lnTo>
                <a:lnTo>
                  <a:pt x="413" y="369"/>
                </a:lnTo>
                <a:close/>
                <a:moveTo>
                  <a:pt x="3216" y="1178"/>
                </a:moveTo>
                <a:lnTo>
                  <a:pt x="4079" y="2627"/>
                </a:lnTo>
                <a:lnTo>
                  <a:pt x="5555" y="2618"/>
                </a:lnTo>
                <a:lnTo>
                  <a:pt x="5574" y="2597"/>
                </a:lnTo>
                <a:lnTo>
                  <a:pt x="5593" y="2577"/>
                </a:lnTo>
                <a:lnTo>
                  <a:pt x="5609" y="2557"/>
                </a:lnTo>
                <a:lnTo>
                  <a:pt x="5622" y="2538"/>
                </a:lnTo>
                <a:lnTo>
                  <a:pt x="5632" y="2517"/>
                </a:lnTo>
                <a:lnTo>
                  <a:pt x="5642" y="2497"/>
                </a:lnTo>
                <a:lnTo>
                  <a:pt x="5646" y="2477"/>
                </a:lnTo>
                <a:lnTo>
                  <a:pt x="5649" y="2467"/>
                </a:lnTo>
                <a:lnTo>
                  <a:pt x="5649" y="2456"/>
                </a:lnTo>
                <a:lnTo>
                  <a:pt x="5650" y="2447"/>
                </a:lnTo>
                <a:lnTo>
                  <a:pt x="5649" y="2437"/>
                </a:lnTo>
                <a:lnTo>
                  <a:pt x="5648" y="2426"/>
                </a:lnTo>
                <a:lnTo>
                  <a:pt x="5645" y="2416"/>
                </a:lnTo>
                <a:lnTo>
                  <a:pt x="5643" y="2407"/>
                </a:lnTo>
                <a:lnTo>
                  <a:pt x="5638" y="2396"/>
                </a:lnTo>
                <a:lnTo>
                  <a:pt x="5634" y="2386"/>
                </a:lnTo>
                <a:lnTo>
                  <a:pt x="5629" y="2375"/>
                </a:lnTo>
                <a:lnTo>
                  <a:pt x="5623" y="2365"/>
                </a:lnTo>
                <a:lnTo>
                  <a:pt x="5615" y="2356"/>
                </a:lnTo>
                <a:lnTo>
                  <a:pt x="5599" y="2335"/>
                </a:lnTo>
                <a:lnTo>
                  <a:pt x="5578" y="2314"/>
                </a:lnTo>
                <a:lnTo>
                  <a:pt x="5555" y="2293"/>
                </a:lnTo>
                <a:lnTo>
                  <a:pt x="4470" y="2284"/>
                </a:lnTo>
                <a:lnTo>
                  <a:pt x="3786" y="1242"/>
                </a:lnTo>
                <a:lnTo>
                  <a:pt x="3756" y="1223"/>
                </a:lnTo>
                <a:lnTo>
                  <a:pt x="3726" y="1208"/>
                </a:lnTo>
                <a:lnTo>
                  <a:pt x="3694" y="1193"/>
                </a:lnTo>
                <a:lnTo>
                  <a:pt x="3662" y="1180"/>
                </a:lnTo>
                <a:lnTo>
                  <a:pt x="3630" y="1170"/>
                </a:lnTo>
                <a:lnTo>
                  <a:pt x="3596" y="1161"/>
                </a:lnTo>
                <a:lnTo>
                  <a:pt x="3561" y="1154"/>
                </a:lnTo>
                <a:lnTo>
                  <a:pt x="3526" y="1148"/>
                </a:lnTo>
                <a:lnTo>
                  <a:pt x="3490" y="1144"/>
                </a:lnTo>
                <a:lnTo>
                  <a:pt x="3455" y="1143"/>
                </a:lnTo>
                <a:lnTo>
                  <a:pt x="3416" y="1143"/>
                </a:lnTo>
                <a:lnTo>
                  <a:pt x="3378" y="1147"/>
                </a:lnTo>
                <a:lnTo>
                  <a:pt x="3340" y="1151"/>
                </a:lnTo>
                <a:lnTo>
                  <a:pt x="3299" y="1158"/>
                </a:lnTo>
                <a:lnTo>
                  <a:pt x="3259" y="1166"/>
                </a:lnTo>
                <a:lnTo>
                  <a:pt x="3216" y="1178"/>
                </a:lnTo>
                <a:close/>
                <a:moveTo>
                  <a:pt x="3230" y="2047"/>
                </a:moveTo>
                <a:lnTo>
                  <a:pt x="3230" y="4172"/>
                </a:lnTo>
                <a:lnTo>
                  <a:pt x="5160" y="4165"/>
                </a:lnTo>
                <a:lnTo>
                  <a:pt x="4337" y="3032"/>
                </a:lnTo>
                <a:lnTo>
                  <a:pt x="3846" y="3029"/>
                </a:lnTo>
                <a:lnTo>
                  <a:pt x="3230" y="20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图片 1" descr=""/>
          <p:cNvPicPr/>
          <p:nvPr/>
        </p:nvPicPr>
        <p:blipFill>
          <a:blip r:embed="rId1"/>
          <a:stretch/>
        </p:blipFill>
        <p:spPr>
          <a:xfrm>
            <a:off x="3887640" y="846000"/>
            <a:ext cx="30481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"/>
          <p:cNvSpPr/>
          <p:nvPr/>
        </p:nvSpPr>
        <p:spPr>
          <a:xfrm>
            <a:off x="3741840" y="2808360"/>
            <a:ext cx="33861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活动主题及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MH_Other_1"/>
          <p:cNvSpPr/>
          <p:nvPr/>
        </p:nvSpPr>
        <p:spPr>
          <a:xfrm>
            <a:off x="4932720" y="1257480"/>
            <a:ext cx="94896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fec306"/>
                </a:solidFill>
                <a:latin typeface="Arial"/>
                <a:ea typeface="微软雅黑"/>
              </a:rPr>
              <a:t>1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MH_Other_1"/>
          <p:cNvSpPr/>
          <p:nvPr/>
        </p:nvSpPr>
        <p:spPr>
          <a:xfrm>
            <a:off x="651240" y="216000"/>
            <a:ext cx="84204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ec306"/>
                </a:solidFill>
                <a:latin typeface="Arial"/>
                <a:ea typeface="微软雅黑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MH_Other_2"/>
          <p:cNvSpPr/>
          <p:nvPr/>
        </p:nvSpPr>
        <p:spPr>
          <a:xfrm flipV="1">
            <a:off x="1397160" y="452520"/>
            <a:ext cx="404640" cy="963360"/>
          </a:xfrm>
          <a:prstGeom prst="line">
            <a:avLst/>
          </a:prstGeom>
          <a:ln w="9360">
            <a:solidFill>
              <a:srgbClr val="fec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MH_Other_3"/>
          <p:cNvSpPr/>
          <p:nvPr/>
        </p:nvSpPr>
        <p:spPr>
          <a:xfrm>
            <a:off x="1765440" y="365040"/>
            <a:ext cx="114120" cy="101520"/>
          </a:xfrm>
          <a:prstGeom prst="ellipse">
            <a:avLst/>
          </a:prstGeom>
          <a:solidFill>
            <a:srgbClr val="fec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MH_Other_4"/>
          <p:cNvSpPr/>
          <p:nvPr/>
        </p:nvSpPr>
        <p:spPr>
          <a:xfrm>
            <a:off x="1324080" y="1428840"/>
            <a:ext cx="114120" cy="101520"/>
          </a:xfrm>
          <a:prstGeom prst="ellipse">
            <a:avLst/>
          </a:prstGeom>
          <a:solidFill>
            <a:srgbClr val="fec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MH_SubTitle_1"/>
          <p:cNvSpPr/>
          <p:nvPr/>
        </p:nvSpPr>
        <p:spPr>
          <a:xfrm>
            <a:off x="2022480" y="482760"/>
            <a:ext cx="6188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Arial"/>
                <a:ea typeface="微软雅黑"/>
              </a:rPr>
              <a:t>主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MH_Text_1"/>
          <p:cNvSpPr/>
          <p:nvPr/>
        </p:nvSpPr>
        <p:spPr>
          <a:xfrm>
            <a:off x="2033640" y="985680"/>
            <a:ext cx="76150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市 “</a:t>
            </a:r>
            <a:r>
              <a:rPr b="0" lang="en-US" sz="28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杯”广场舞大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MH_Other_5"/>
          <p:cNvSpPr/>
          <p:nvPr/>
        </p:nvSpPr>
        <p:spPr>
          <a:xfrm>
            <a:off x="8567280" y="1943280"/>
            <a:ext cx="84204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2ebaf3"/>
                </a:solidFill>
                <a:latin typeface="Arial"/>
                <a:ea typeface="微软雅黑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MH_Other_6"/>
          <p:cNvSpPr/>
          <p:nvPr/>
        </p:nvSpPr>
        <p:spPr>
          <a:xfrm flipV="1">
            <a:off x="8136000" y="2158560"/>
            <a:ext cx="404640" cy="963720"/>
          </a:xfrm>
          <a:prstGeom prst="line">
            <a:avLst/>
          </a:prstGeom>
          <a:ln w="9360">
            <a:solidFill>
              <a:srgbClr val="2eba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MH_Other_7"/>
          <p:cNvSpPr/>
          <p:nvPr/>
        </p:nvSpPr>
        <p:spPr>
          <a:xfrm>
            <a:off x="8496360" y="2087640"/>
            <a:ext cx="114120" cy="101520"/>
          </a:xfrm>
          <a:prstGeom prst="ellipse">
            <a:avLst/>
          </a:prstGeom>
          <a:solidFill>
            <a:srgbClr val="2eba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MH_Other_8"/>
          <p:cNvSpPr/>
          <p:nvPr/>
        </p:nvSpPr>
        <p:spPr>
          <a:xfrm>
            <a:off x="8064360" y="3095640"/>
            <a:ext cx="114480" cy="101520"/>
          </a:xfrm>
          <a:prstGeom prst="ellipse">
            <a:avLst/>
          </a:prstGeom>
          <a:solidFill>
            <a:srgbClr val="2eba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MH_SubTitle_2"/>
          <p:cNvSpPr/>
          <p:nvPr/>
        </p:nvSpPr>
        <p:spPr>
          <a:xfrm>
            <a:off x="2952720" y="2381400"/>
            <a:ext cx="31669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baf3"/>
                </a:solidFill>
                <a:latin typeface="Arial"/>
                <a:ea typeface="微软雅黑"/>
              </a:rPr>
              <a:t>时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MH_Text_2"/>
          <p:cNvSpPr/>
          <p:nvPr/>
        </p:nvSpPr>
        <p:spPr>
          <a:xfrm>
            <a:off x="4751280" y="2381400"/>
            <a:ext cx="27352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日 </a:t>
            </a:r>
            <a:r>
              <a:rPr b="0" lang="en-US" sz="28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14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MH_Other_9"/>
          <p:cNvSpPr/>
          <p:nvPr/>
        </p:nvSpPr>
        <p:spPr>
          <a:xfrm>
            <a:off x="651240" y="3112920"/>
            <a:ext cx="84204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85cd2c"/>
                </a:solidFill>
                <a:latin typeface="Arial"/>
                <a:ea typeface="微软雅黑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MH_Other_10"/>
          <p:cNvSpPr/>
          <p:nvPr/>
        </p:nvSpPr>
        <p:spPr>
          <a:xfrm flipV="1">
            <a:off x="1397160" y="3349440"/>
            <a:ext cx="404640" cy="965160"/>
          </a:xfrm>
          <a:prstGeom prst="line">
            <a:avLst/>
          </a:prstGeom>
          <a:ln w="9360">
            <a:solidFill>
              <a:srgbClr val="85c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MH_Other_11"/>
          <p:cNvSpPr/>
          <p:nvPr/>
        </p:nvSpPr>
        <p:spPr>
          <a:xfrm>
            <a:off x="1765440" y="3263760"/>
            <a:ext cx="114120" cy="101880"/>
          </a:xfrm>
          <a:prstGeom prst="ellipse">
            <a:avLst/>
          </a:prstGeom>
          <a:solidFill>
            <a:srgbClr val="85c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MH_Other_12"/>
          <p:cNvSpPr/>
          <p:nvPr/>
        </p:nvSpPr>
        <p:spPr>
          <a:xfrm>
            <a:off x="1324080" y="4325760"/>
            <a:ext cx="114120" cy="101880"/>
          </a:xfrm>
          <a:prstGeom prst="ellipse">
            <a:avLst/>
          </a:prstGeom>
          <a:solidFill>
            <a:srgbClr val="85c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MH_SubTitle_3"/>
          <p:cNvSpPr/>
          <p:nvPr/>
        </p:nvSpPr>
        <p:spPr>
          <a:xfrm>
            <a:off x="2519280" y="3816360"/>
            <a:ext cx="61880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5cd2c"/>
                </a:solidFill>
                <a:latin typeface="Arial"/>
                <a:ea typeface="微软雅黑"/>
              </a:rPr>
              <a:t>地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MH_Text_3"/>
          <p:cNvSpPr/>
          <p:nvPr/>
        </p:nvSpPr>
        <p:spPr>
          <a:xfrm>
            <a:off x="3949560" y="3789360"/>
            <a:ext cx="6174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广场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MH_SubTitle_3"/>
          <p:cNvSpPr/>
          <p:nvPr/>
        </p:nvSpPr>
        <p:spPr>
          <a:xfrm>
            <a:off x="2022480" y="4813200"/>
            <a:ext cx="61880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Arial"/>
                <a:ea typeface="微软雅黑"/>
              </a:rPr>
              <a:t>活动形式：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MH_Text_3"/>
          <p:cNvSpPr/>
          <p:nvPr/>
        </p:nvSpPr>
        <p:spPr>
          <a:xfrm>
            <a:off x="358920" y="5327640"/>
            <a:ext cx="792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嫁接</a:t>
            </a:r>
            <a:r>
              <a:rPr b="0" lang="en-US" sz="18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支广场舞队伍资源，邀约其亲友团参与，达到周末大量到访客户聚集，旺场旺销场面，并积累意向客户，促进成交；线上宣传吸引全市广场舞爱好者的关注，进而关注项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MH_Other_9"/>
          <p:cNvSpPr/>
          <p:nvPr/>
        </p:nvSpPr>
        <p:spPr>
          <a:xfrm>
            <a:off x="8424720" y="5111640"/>
            <a:ext cx="84204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7c80"/>
                </a:solidFill>
                <a:latin typeface="Arial"/>
                <a:ea typeface="微软雅黑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MH_Other_10"/>
          <p:cNvSpPr/>
          <p:nvPr/>
        </p:nvSpPr>
        <p:spPr>
          <a:xfrm flipV="1">
            <a:off x="7991640" y="5256000"/>
            <a:ext cx="404640" cy="96516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MH_Other_11"/>
          <p:cNvSpPr/>
          <p:nvPr/>
        </p:nvSpPr>
        <p:spPr>
          <a:xfrm>
            <a:off x="7991640" y="6119640"/>
            <a:ext cx="114120" cy="10188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MH_Other_12"/>
          <p:cNvSpPr/>
          <p:nvPr/>
        </p:nvSpPr>
        <p:spPr>
          <a:xfrm>
            <a:off x="8352000" y="5183280"/>
            <a:ext cx="114120" cy="10152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3"/>
          <p:cNvSpPr/>
          <p:nvPr/>
        </p:nvSpPr>
        <p:spPr>
          <a:xfrm>
            <a:off x="3741840" y="2808360"/>
            <a:ext cx="33861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邀约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MH_Other_1"/>
          <p:cNvSpPr/>
          <p:nvPr/>
        </p:nvSpPr>
        <p:spPr>
          <a:xfrm>
            <a:off x="4964040" y="1257480"/>
            <a:ext cx="94896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MH_Text_2"/>
          <p:cNvSpPr/>
          <p:nvPr/>
        </p:nvSpPr>
        <p:spPr>
          <a:xfrm>
            <a:off x="3373560" y="3429000"/>
            <a:ext cx="5843520" cy="6192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232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小区业主、</a:t>
            </a:r>
            <a:r>
              <a:rPr b="1" lang="en-US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团体（</a:t>
            </a:r>
            <a:r>
              <a:rPr b="1" lang="en-US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组左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MH_Other_1"/>
          <p:cNvSpPr/>
          <p:nvPr/>
        </p:nvSpPr>
        <p:spPr>
          <a:xfrm>
            <a:off x="2562120" y="3166920"/>
            <a:ext cx="1114560" cy="1170000"/>
          </a:xfrm>
          <a:custGeom>
            <a:avLst/>
            <a:gdLst/>
            <a:ahLst/>
            <a:rect l="l" t="t" r="r" b="b"/>
            <a:pathLst>
              <a:path w="1072105" h="1155700">
                <a:moveTo>
                  <a:pt x="577850" y="0"/>
                </a:moveTo>
                <a:cubicBezTo>
                  <a:pt x="777311" y="0"/>
                  <a:pt x="953169" y="101060"/>
                  <a:pt x="1057012" y="254769"/>
                </a:cubicBezTo>
                <a:lnTo>
                  <a:pt x="1072105" y="282575"/>
                </a:lnTo>
                <a:lnTo>
                  <a:pt x="855186" y="282575"/>
                </a:lnTo>
                <a:lnTo>
                  <a:pt x="804912" y="241095"/>
                </a:lnTo>
                <a:cubicBezTo>
                  <a:pt x="740096" y="197306"/>
                  <a:pt x="661959" y="171737"/>
                  <a:pt x="577850" y="171737"/>
                </a:cubicBezTo>
                <a:cubicBezTo>
                  <a:pt x="353560" y="171737"/>
                  <a:pt x="171737" y="353560"/>
                  <a:pt x="171737" y="577850"/>
                </a:cubicBezTo>
                <a:cubicBezTo>
                  <a:pt x="171737" y="802140"/>
                  <a:pt x="353560" y="983963"/>
                  <a:pt x="577850" y="983963"/>
                </a:cubicBezTo>
                <a:cubicBezTo>
                  <a:pt x="661959" y="983963"/>
                  <a:pt x="740096" y="958394"/>
                  <a:pt x="804912" y="914605"/>
                </a:cubicBezTo>
                <a:lnTo>
                  <a:pt x="855186" y="873125"/>
                </a:lnTo>
                <a:lnTo>
                  <a:pt x="1072105" y="873125"/>
                </a:lnTo>
                <a:lnTo>
                  <a:pt x="1057012" y="900932"/>
                </a:lnTo>
                <a:cubicBezTo>
                  <a:pt x="953169" y="1054641"/>
                  <a:pt x="777311" y="1155700"/>
                  <a:pt x="577850" y="1155700"/>
                </a:cubicBezTo>
                <a:cubicBezTo>
                  <a:pt x="258712" y="1155700"/>
                  <a:pt x="0" y="896988"/>
                  <a:pt x="0" y="577850"/>
                </a:cubicBezTo>
                <a:cubicBezTo>
                  <a:pt x="0" y="258712"/>
                  <a:pt x="258712" y="0"/>
                  <a:pt x="57785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72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MH_SubTitle_2"/>
          <p:cNvSpPr/>
          <p:nvPr/>
        </p:nvSpPr>
        <p:spPr>
          <a:xfrm>
            <a:off x="2687760" y="3325680"/>
            <a:ext cx="86364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微软雅黑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MH_Text_1"/>
          <p:cNvSpPr/>
          <p:nvPr/>
        </p:nvSpPr>
        <p:spPr>
          <a:xfrm>
            <a:off x="2303640" y="1800360"/>
            <a:ext cx="5832360" cy="62064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232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邀约</a:t>
            </a:r>
            <a:r>
              <a:rPr b="1" lang="en-US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市广场舞队伍</a:t>
            </a:r>
            <a:r>
              <a:rPr b="1" lang="en-US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支及亲友团（约</a:t>
            </a:r>
            <a:r>
              <a:rPr b="1" lang="en-US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250</a:t>
            </a:r>
            <a:r>
              <a:rPr b="1" lang="zh-CN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MH_Other_2"/>
          <p:cNvSpPr/>
          <p:nvPr/>
        </p:nvSpPr>
        <p:spPr>
          <a:xfrm>
            <a:off x="1511280" y="1582560"/>
            <a:ext cx="1050840" cy="1143000"/>
          </a:xfrm>
          <a:custGeom>
            <a:avLst/>
            <a:gdLst/>
            <a:ahLst/>
            <a:rect l="l" t="t" r="r" b="b"/>
            <a:pathLst>
              <a:path w="1072105" h="1155700">
                <a:moveTo>
                  <a:pt x="577850" y="0"/>
                </a:moveTo>
                <a:cubicBezTo>
                  <a:pt x="777311" y="0"/>
                  <a:pt x="953169" y="101060"/>
                  <a:pt x="1057012" y="254769"/>
                </a:cubicBezTo>
                <a:lnTo>
                  <a:pt x="1072105" y="282575"/>
                </a:lnTo>
                <a:lnTo>
                  <a:pt x="855186" y="282575"/>
                </a:lnTo>
                <a:lnTo>
                  <a:pt x="804912" y="241095"/>
                </a:lnTo>
                <a:cubicBezTo>
                  <a:pt x="740096" y="197306"/>
                  <a:pt x="661959" y="171737"/>
                  <a:pt x="577850" y="171737"/>
                </a:cubicBezTo>
                <a:cubicBezTo>
                  <a:pt x="353560" y="171737"/>
                  <a:pt x="171737" y="353560"/>
                  <a:pt x="171737" y="577850"/>
                </a:cubicBezTo>
                <a:cubicBezTo>
                  <a:pt x="171737" y="802140"/>
                  <a:pt x="353560" y="983963"/>
                  <a:pt x="577850" y="983963"/>
                </a:cubicBezTo>
                <a:cubicBezTo>
                  <a:pt x="661959" y="983963"/>
                  <a:pt x="740096" y="958394"/>
                  <a:pt x="804912" y="914605"/>
                </a:cubicBezTo>
                <a:lnTo>
                  <a:pt x="855186" y="873125"/>
                </a:lnTo>
                <a:lnTo>
                  <a:pt x="1072105" y="873125"/>
                </a:lnTo>
                <a:lnTo>
                  <a:pt x="1057012" y="900932"/>
                </a:lnTo>
                <a:cubicBezTo>
                  <a:pt x="953169" y="1054641"/>
                  <a:pt x="777311" y="1155700"/>
                  <a:pt x="577850" y="1155700"/>
                </a:cubicBezTo>
                <a:cubicBezTo>
                  <a:pt x="258712" y="1155700"/>
                  <a:pt x="0" y="896988"/>
                  <a:pt x="0" y="577850"/>
                </a:cubicBezTo>
                <a:cubicBezTo>
                  <a:pt x="0" y="258712"/>
                  <a:pt x="258712" y="0"/>
                  <a:pt x="57785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72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MH_SubTitle_1"/>
          <p:cNvSpPr/>
          <p:nvPr/>
        </p:nvSpPr>
        <p:spPr>
          <a:xfrm>
            <a:off x="1697040" y="1746360"/>
            <a:ext cx="8650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微软雅黑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MH_Text_3"/>
          <p:cNvSpPr/>
          <p:nvPr/>
        </p:nvSpPr>
        <p:spPr>
          <a:xfrm>
            <a:off x="4608360" y="4824360"/>
            <a:ext cx="5616720" cy="62064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232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网网友等潜在意向客户群体</a:t>
            </a:r>
            <a:r>
              <a:rPr b="1" lang="en-US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(20</a:t>
            </a:r>
            <a:r>
              <a:rPr b="1" lang="zh-CN" sz="20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MH_Other_3"/>
          <p:cNvSpPr/>
          <p:nvPr/>
        </p:nvSpPr>
        <p:spPr>
          <a:xfrm>
            <a:off x="3816360" y="4535640"/>
            <a:ext cx="1049400" cy="1214280"/>
          </a:xfrm>
          <a:custGeom>
            <a:avLst/>
            <a:gdLst/>
            <a:ahLst/>
            <a:rect l="l" t="t" r="r" b="b"/>
            <a:pathLst>
              <a:path w="1072105" h="1155700">
                <a:moveTo>
                  <a:pt x="577850" y="0"/>
                </a:moveTo>
                <a:cubicBezTo>
                  <a:pt x="777311" y="0"/>
                  <a:pt x="953169" y="101060"/>
                  <a:pt x="1057012" y="254769"/>
                </a:cubicBezTo>
                <a:lnTo>
                  <a:pt x="1072105" y="282575"/>
                </a:lnTo>
                <a:lnTo>
                  <a:pt x="855186" y="282575"/>
                </a:lnTo>
                <a:lnTo>
                  <a:pt x="804912" y="241095"/>
                </a:lnTo>
                <a:cubicBezTo>
                  <a:pt x="740096" y="197306"/>
                  <a:pt x="661959" y="171737"/>
                  <a:pt x="577850" y="171737"/>
                </a:cubicBezTo>
                <a:cubicBezTo>
                  <a:pt x="353560" y="171737"/>
                  <a:pt x="171737" y="353560"/>
                  <a:pt x="171737" y="577850"/>
                </a:cubicBezTo>
                <a:cubicBezTo>
                  <a:pt x="171737" y="802140"/>
                  <a:pt x="353560" y="983963"/>
                  <a:pt x="577850" y="983963"/>
                </a:cubicBezTo>
                <a:cubicBezTo>
                  <a:pt x="661959" y="983963"/>
                  <a:pt x="740096" y="958394"/>
                  <a:pt x="804912" y="914605"/>
                </a:cubicBezTo>
                <a:lnTo>
                  <a:pt x="855186" y="873125"/>
                </a:lnTo>
                <a:lnTo>
                  <a:pt x="1072105" y="873125"/>
                </a:lnTo>
                <a:lnTo>
                  <a:pt x="1057012" y="900932"/>
                </a:lnTo>
                <a:cubicBezTo>
                  <a:pt x="953169" y="1054641"/>
                  <a:pt x="777311" y="1155700"/>
                  <a:pt x="577850" y="1155700"/>
                </a:cubicBezTo>
                <a:cubicBezTo>
                  <a:pt x="258712" y="1155700"/>
                  <a:pt x="0" y="896988"/>
                  <a:pt x="0" y="577850"/>
                </a:cubicBezTo>
                <a:cubicBezTo>
                  <a:pt x="0" y="258712"/>
                  <a:pt x="258712" y="0"/>
                  <a:pt x="57785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72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H_SubTitle_3"/>
          <p:cNvSpPr/>
          <p:nvPr/>
        </p:nvSpPr>
        <p:spPr>
          <a:xfrm>
            <a:off x="4037040" y="4754520"/>
            <a:ext cx="819000" cy="7603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微软雅黑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MH_PageTitle" descr=""/>
          <p:cNvPicPr/>
          <p:nvPr/>
        </p:nvPicPr>
        <p:blipFill>
          <a:blip r:embed="rId1"/>
          <a:stretch/>
        </p:blipFill>
        <p:spPr>
          <a:xfrm>
            <a:off x="871560" y="285840"/>
            <a:ext cx="9929880" cy="1457280"/>
          </a:xfrm>
          <a:prstGeom prst="rect">
            <a:avLst/>
          </a:prstGeom>
          <a:ln w="0">
            <a:noFill/>
          </a:ln>
        </p:spPr>
      </p:pic>
      <p:sp>
        <p:nvSpPr>
          <p:cNvPr id="304" name="MH_SubTitle_1"/>
          <p:cNvSpPr/>
          <p:nvPr/>
        </p:nvSpPr>
        <p:spPr>
          <a:xfrm>
            <a:off x="719280" y="6078600"/>
            <a:ext cx="9215280" cy="895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方面嫁接全市广场舞爱好者资源，另一方面通过精彩的活动邀约老业主参与，维系与老业主之间的感情，同时邀约媒体参与，扩大活动知名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3"/>
          <p:cNvSpPr/>
          <p:nvPr/>
        </p:nvSpPr>
        <p:spPr>
          <a:xfrm>
            <a:off x="3741840" y="2808360"/>
            <a:ext cx="33861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活动流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MH_Other_1"/>
          <p:cNvSpPr/>
          <p:nvPr/>
        </p:nvSpPr>
        <p:spPr>
          <a:xfrm>
            <a:off x="4960440" y="1257480"/>
            <a:ext cx="94896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ff00"/>
                </a:solidFill>
                <a:latin typeface="Arial"/>
                <a:ea typeface="微软雅黑"/>
              </a:rPr>
              <a:t>3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826920" y="6624720"/>
            <a:ext cx="582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MH_SubTitle_3"/>
          <p:cNvSpPr/>
          <p:nvPr/>
        </p:nvSpPr>
        <p:spPr>
          <a:xfrm>
            <a:off x="574560" y="34308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活动流程：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503280" y="2994120"/>
            <a:ext cx="1029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:30 -19:00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有参赛代表队熟悉场地、签到、扫微信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0-19:10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持人致开场白介绍参赛队伍及本次广场舞活动规则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-19:20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导致辞，广场舞大赛正式启动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:20-20:40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赛（参赛队表演、评委点评并打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:40-20:50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赛结束，主持人串词，并宣布获奖名单、颁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:50-21:00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赛队伍合影留念（分为参赛队伍单独合影及集体合影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 ：评委由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晚报日报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等媒体人员担任，分数去掉一个最高分，一个最低分后，取平均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MH_Text_1"/>
          <p:cNvSpPr/>
          <p:nvPr/>
        </p:nvSpPr>
        <p:spPr>
          <a:xfrm>
            <a:off x="1673280" y="892080"/>
            <a:ext cx="3151080" cy="72396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4050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大众评审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MH_Text_3"/>
          <p:cNvSpPr/>
          <p:nvPr/>
        </p:nvSpPr>
        <p:spPr>
          <a:xfrm>
            <a:off x="5730840" y="892080"/>
            <a:ext cx="2814840" cy="7225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4050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亲友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1625760" y="23353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邀约客户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3"/>
          <p:cNvSpPr/>
          <p:nvPr/>
        </p:nvSpPr>
        <p:spPr>
          <a:xfrm>
            <a:off x="5483160" y="2287440"/>
            <a:ext cx="355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场舞辐射周边亲友团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"/>
          <p:cNvSpPr/>
          <p:nvPr/>
        </p:nvSpPr>
        <p:spPr>
          <a:xfrm rot="10800000">
            <a:off x="2709720" y="1642680"/>
            <a:ext cx="625680" cy="716040"/>
          </a:xfrm>
          <a:prstGeom prst="upArrow">
            <a:avLst>
              <a:gd name="adj1" fmla="val 67389"/>
              <a:gd name="adj2" fmla="val 36918"/>
            </a:avLst>
          </a:prstGeom>
          <a:gradFill rotWithShape="0">
            <a:gsLst>
              <a:gs pos="0">
                <a:srgbClr val="000066"/>
              </a:gs>
              <a:gs pos="100000">
                <a:srgbClr val="00002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"/>
          <p:cNvSpPr/>
          <p:nvPr/>
        </p:nvSpPr>
        <p:spPr>
          <a:xfrm rot="10800000">
            <a:off x="6945120" y="1642680"/>
            <a:ext cx="623880" cy="716040"/>
          </a:xfrm>
          <a:prstGeom prst="upArrow">
            <a:avLst>
              <a:gd name="adj1" fmla="val 67389"/>
              <a:gd name="adj2" fmla="val 37025"/>
            </a:avLst>
          </a:prstGeom>
          <a:gradFill rotWithShape="0">
            <a:gsLst>
              <a:gs pos="0">
                <a:srgbClr val="000066"/>
              </a:gs>
              <a:gs pos="100000">
                <a:srgbClr val="00002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MH_Text_1"/>
          <p:cNvSpPr/>
          <p:nvPr/>
        </p:nvSpPr>
        <p:spPr>
          <a:xfrm>
            <a:off x="669960" y="5688000"/>
            <a:ext cx="3168720" cy="72396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4050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众评审团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MH_Text_1"/>
          <p:cNvSpPr/>
          <p:nvPr/>
        </p:nvSpPr>
        <p:spPr>
          <a:xfrm>
            <a:off x="4299120" y="5688000"/>
            <a:ext cx="2527200" cy="72396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4050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评委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MH_Text_1"/>
          <p:cNvSpPr/>
          <p:nvPr/>
        </p:nvSpPr>
        <p:spPr>
          <a:xfrm>
            <a:off x="7424640" y="5688000"/>
            <a:ext cx="2824200" cy="72396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4050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亲友团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"/>
          <p:cNvSpPr/>
          <p:nvPr/>
        </p:nvSpPr>
        <p:spPr>
          <a:xfrm>
            <a:off x="3578400" y="5581800"/>
            <a:ext cx="86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5"/>
          <p:cNvSpPr/>
          <p:nvPr/>
        </p:nvSpPr>
        <p:spPr>
          <a:xfrm>
            <a:off x="6707160" y="5587920"/>
            <a:ext cx="86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3"/>
          <p:cNvSpPr/>
          <p:nvPr/>
        </p:nvSpPr>
        <p:spPr>
          <a:xfrm>
            <a:off x="3741840" y="2808360"/>
            <a:ext cx="33861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活动邀约说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MH_Other_1"/>
          <p:cNvSpPr/>
          <p:nvPr/>
        </p:nvSpPr>
        <p:spPr>
          <a:xfrm>
            <a:off x="4960440" y="1257480"/>
            <a:ext cx="94896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aacc03"/>
                </a:solidFill>
                <a:latin typeface="Arial"/>
                <a:ea typeface="微软雅黑"/>
              </a:rPr>
              <a:t>4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07:06:24Z</dcterms:created>
  <dc:creator>wendy</dc:creator>
  <dc:description/>
  <cp:keywords/>
  <dc:language>en-US</dc:language>
  <cp:lastModifiedBy>王玉清</cp:lastModifiedBy>
  <dcterms:modified xsi:type="dcterms:W3CDTF">2016-03-05T12:33:46Z</dcterms:modified>
  <cp:revision>1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