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6FF-AFBD-4847-8A97-22DB663A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840-AE30-41AE-9340-A93F262D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87B21-351E-4FCE-88AC-6C156111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E642-657E-45F5-8D70-BBAA5BB7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40F27-F633-41BA-9763-91689911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E95B2-DCDC-4C56-9FBE-B8180305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FAB8F-F965-4702-846F-E2ADAE5F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ED1AE-157B-44FF-81C2-05310755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6F304-761E-430E-BC6B-534C6E12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59784-1028-41F8-BFFF-4C2DD417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B8201-F1CF-44CA-9216-DCA1FE35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A38A4-2AEB-4D40-BB6B-D205CCBC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1AF-933B-48F0-B0E6-5BFFE50D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5B00D-044D-4DEF-A489-0BB612F3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B3A5C-9DDC-4973-8BE0-592D7B7C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C1F17-2C06-41C5-8DBC-391F8A0B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6CA85-7126-4627-A27E-32B0B30E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93A48-E4FC-4F38-8614-323354A3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9B888-343E-4662-B2B1-B91BC89B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B5591-FAB8-4E50-8603-FAF8D99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05243-6F73-4634-9783-1B21D196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29869-CD9B-4589-A4A3-7763AB8B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CB271-9851-4209-A459-D9F63762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C1C-1CD1-4937-940D-CC7CD1F5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D11FC-D3D4-494D-9E5B-C8E30843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930C9-0C63-4FB2-B585-4BB5E546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D8001-D858-4C1E-ADB5-157D064E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B2053-39B0-49E0-8B82-55B22DA6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6F68B-6331-4C2D-A793-69F8366D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17530-E008-4B72-B4C8-FAC49FF1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9A0C0-A98C-4305-BC1F-ADBA6958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4858E-1F2C-4407-BB78-C71A69E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57681-47D7-4213-8BC2-C1AADFCF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E1839-65C7-4538-92BC-72A0EC05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0586-5FD4-496C-BCF8-1FDB74F1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3CC8E-6D04-44DE-8F80-BB44E528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6822D-93B2-4B70-A200-BD5ECEE7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571BD-8500-4543-9C60-645C033D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1F279-0942-497D-960D-21674E05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9781E-3B9E-49F6-B2E8-AE4D63C7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FE324-578B-4A35-92B5-2008C061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0E54C-904A-4CE7-BA8D-590D7B4A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1C030-2C59-4D81-9137-CCC02C2F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2017B-1D44-434A-9790-FE8CF6F1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E281D-A8AF-4570-A1D9-DADEE96A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DE8F-6AEC-4CF4-94F3-D761ABB4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55D1C-D438-43C1-B161-6FAEB6F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45D56-420E-4A27-B2BB-FDD8A083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2337B-A12B-4670-9595-E6EB604D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190EE-D890-4877-B4A2-9524EEB9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23D23-1B15-420D-B3B6-594A6021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51ACA-7423-4A00-BFDE-D040937D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97FE3-6408-4D8F-A2B3-AEEEF8F1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FA0D4-3305-4486-9830-4102EEDC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17A89-45AF-4404-B44F-336ECBCB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0E1A9-4431-4C68-8964-A864034A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F3E4-7FCA-47EF-B0AD-703FD828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1FE2B-B777-4B75-A40A-6BD71523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9B27B-E344-4D6C-8A61-02A64139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01EF5-C383-4A73-82BA-BA83127B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C31DA-A476-4A7E-92C9-3A6DD491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BFF48-D518-45A8-B571-8D839EE5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BB7AF-CC77-405A-AC28-65AA2060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B4DD1-FCA8-4406-9C1B-A7F322FB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B0CAF-A9CB-4599-9B46-49A2A1A6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E30E0-63FB-4EE4-94D2-2575E58F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686E2-9F67-4442-855B-72E73A1C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9B65-5F1C-466F-A77A-E17EAC53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95658-F373-49FB-8119-BAD931C2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CACF2-30A2-4D59-A87B-3BD5F456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4B890-608F-47D1-876B-5442B4F7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95646-C95A-4F55-9553-4EF810FF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3CED4-E22C-45FF-8E3A-24F2AB9F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38A73-5507-40D7-90BA-EC335726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B9E22-FC5A-4A86-96B8-C1B7BB85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47CFF-9FF2-4468-BD24-00F2E60E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A61AD-32F1-471B-88B1-2B0AF833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0AB8F-E712-4F1D-9EF5-03081EDF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FAF0-DD82-413C-8274-EAE19E29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11A31-F90F-44BA-BB49-D783F093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7D0EC-0DF3-4BFF-868E-55FA6EB2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9E65B-169C-4540-AD12-7C0EB1DE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4D8AA-B807-4C64-B342-8918A95A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BA0145-DAAE-4DFF-8D5E-62D28F72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B5CFF-198D-444D-A276-47DDADA7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809FD-8602-4BF2-B1FA-0534BFF6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D9C18-92F5-4192-B30F-107F64A2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BE891-DBB4-407D-B090-F4C8729A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B33D8-E570-4AC8-A40E-DF2B2514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CA21-B421-4EDF-881B-2CB9CCCF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B030D-D78D-4ED5-B527-FD58CB1B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5AC2F-94BD-489D-8378-1064AA0F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C7C85-3955-44F5-BAA3-025AAD25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A4015-9A2B-4965-961B-BDFC61ED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F723C-7814-4CB4-9850-094638D2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27FFC-E22D-4F4C-BF0A-D7ECA408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EE2B4-856C-44A1-96A0-5AADBCF6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F6377-2261-4392-89DE-ABCD6104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14741-5DEA-4D78-9018-02473ECC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5E26A-6E7C-4F36-A219-C9BB52E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4E9C-16F1-469C-B8DA-EEE2B0DD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A0455-ECCC-4C1B-9D2D-D6C274B4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FD7BA-4962-4E4C-A018-481C6093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09308-BD52-411A-AA5F-81FA34B2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E39-CAE9-48F8-9E62-0CBB1A75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88EE-2B39-452E-9856-9F5E272D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E9CC-E5C9-4256-8D5B-A1DE4079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1FF8-2EC9-42F4-81CA-75539A86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4F7E-8827-4621-A012-8AF55E0B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1849-D8A5-42C5-B109-9539FC62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1ADA6-B3B6-43EA-B33A-086A6EC4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632D-EA9B-486A-AF71-8955B61B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A503-8285-4B5D-92E6-E6CA85B0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3620-71B9-4070-B5CB-983BF16A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5382-81BE-419E-ABF7-8F833604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86F-3EBB-4C72-BFEE-ECA1F8C6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9CA5C-1564-45A9-9B9C-45F40E89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6402-0879-4C41-A149-4A67EE63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F1FA-7574-4F97-813E-6B7EFBDB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9166-8A92-4029-9792-4998D97D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0E25-C0FC-4958-85C5-C53FF73B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103D-5B06-411A-872B-3FDBC549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EEB63-FB0D-413C-A84F-BBC6C42A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7D59-35DD-4374-AB0F-710FB154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857CD-A98E-4900-ADD2-CA554158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D3DF-E05F-46D6-8735-9DEEE17E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AEA-3DA9-4AA3-BB54-F1836235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5BB46-75E6-4CF3-800D-8A74CCB5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387BE-5424-4598-99E0-47D05750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5E756-EC40-4033-880C-88075FEA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947C4-BB60-4EE1-8092-DFAF06EF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4ECCB-C196-4559-892F-EC5C251B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617A-AE51-4C13-B104-2DB698BE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FDF1E-03E5-48D2-B0D3-6674BDAF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CF259-4738-4B2D-8212-BD91AF5F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27D33-8F30-4CD0-A9F8-A5B7448F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97D8A-9AEB-4D29-B004-113E60B1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F82-9C1E-471E-B0E6-97349B7E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835AB-614D-4A1C-B491-8139D927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B123A-1961-4BA1-9A99-004E1C05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B27F9-2199-45B7-8E24-864A30D6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C75CD-5FA9-4E82-8D1E-870A1D0F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BC41-2B71-44C0-A232-160ED8D5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49879-7207-43C8-B9C1-4932FC33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9C144-3E57-4EDC-B7E0-B080278A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9EDB2-5A41-40BE-A071-09C6EAA8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6F8D8-C2B1-4507-A7C3-FE9744C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2F945-50EC-41C6-95A0-EEE3144A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875-BA11-47B4-8AFB-B5540E7F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D7F51-7E32-4602-90DE-BE62B98B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989F2-EF7B-4981-AD7B-33E6012D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E6FCA-277D-445E-B8BE-84320CA8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71FBC-37C8-4A0F-95AB-AFD71317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7BFCC-2EFD-4C0A-9AA6-831A08F5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44939-EE38-4E09-ABCC-5A78E33B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29556-2BEB-473B-9CA5-07540F91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FE153-6305-4940-B224-B96B0B3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8C8B7-F8C3-4203-89B0-DA83D570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E3306-8DCF-4595-B192-DD1E35E8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CAD-00A9-4227-8197-C9896BAD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08325-1702-4993-8109-779E5E01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F952E-BA4F-41F3-A85B-E95AC3BF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DDF2B-6CE6-425B-9F2B-FAF5E7ED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14327-FFFE-430B-ADFB-72B4D214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A6799-16B2-41C8-BB14-2C80F506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BBD81-726A-4280-BC3B-885D06A3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F4953-C9F6-4153-B888-0F728649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53D8E-A989-41AA-A3B1-9E314479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026E4-BAE2-4EB2-8417-FE598A59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85842-49FB-427C-9D47-D5053F65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D3D-38E3-4E26-91AB-5C80808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A8EA3-DD24-41E1-ACBA-DFCC0FA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B9BFA-8B85-4BE4-8A0E-50F90F85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B290B-839B-4917-B7DB-74A9EC66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CCD45-3603-4B39-A970-39DF0195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FCB30-9EEF-4BD5-A2D2-5C647713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DE18A-A2B9-4417-9B83-6D26848A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03472-B2CF-4925-8C86-121EDD6A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62A7-8F3B-471A-914E-641BB338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E8917-E22D-47EA-8C03-9FF4F5CB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04B44-BA04-4A36-9143-1A25C1F8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F43-19BE-4F46-B24D-F006EEF7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1681D-78AB-41E2-B9BB-4BE99E79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62523-AC11-42B2-971B-FAC62708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B4B37-09FD-4CD1-807C-A852490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9514B-DA0A-4E50-9BCA-9F19877F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BA37-EE28-4D22-A774-1766C5CF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66C4-F5DD-402A-95DA-91D02A93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F6CAA-DA12-441E-90E4-F4C0204C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CC35C-D163-4292-A7E0-DCC5BCA8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80A8E-AEFC-4750-8660-BCF13FC9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F0DF6-D75C-4527-9580-114C42CF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36" descr="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37" descr="3"/>
          <p:cNvPicPr/>
          <p:nvPr/>
        </p:nvPicPr>
        <p:blipFill>
          <a:blip r:embed="rId4"/>
          <a:stretch/>
        </p:blipFill>
        <p:spPr>
          <a:xfrm>
            <a:off x="1403280" y="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23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" name="Group 241"/>
          <p:cNvGrpSpPr/>
          <p:nvPr/>
        </p:nvGrpSpPr>
        <p:grpSpPr>
          <a:xfrm>
            <a:off x="0" y="620640"/>
            <a:ext cx="9144000" cy="6368760"/>
            <a:chOff x="0" y="620640"/>
            <a:chExt cx="9144000" cy="6368760"/>
          </a:xfrm>
        </p:grpSpPr>
        <p:pic>
          <p:nvPicPr>
            <p:cNvPr id="5" name="Picture 239" descr="5"/>
            <p:cNvPicPr/>
            <p:nvPr/>
          </p:nvPicPr>
          <p:blipFill>
            <a:blip r:embed="rId5"/>
            <a:stretch/>
          </p:blipFill>
          <p:spPr>
            <a:xfrm>
              <a:off x="0" y="620640"/>
              <a:ext cx="9144000" cy="623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0" descr="5"/>
            <p:cNvPicPr/>
            <p:nvPr/>
          </p:nvPicPr>
          <p:blipFill>
            <a:blip r:embed="rId6"/>
            <a:stretch/>
          </p:blipFill>
          <p:spPr>
            <a:xfrm>
              <a:off x="0" y="757080"/>
              <a:ext cx="9144000" cy="623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" name="Group 230"/>
          <p:cNvGrpSpPr/>
          <p:nvPr/>
        </p:nvGrpSpPr>
        <p:grpSpPr>
          <a:xfrm>
            <a:off x="179280" y="6453360"/>
            <a:ext cx="2521080" cy="288720"/>
            <a:chOff x="179280" y="6453360"/>
            <a:chExt cx="2521080" cy="288720"/>
          </a:xfrm>
        </p:grpSpPr>
        <p:sp>
          <p:nvSpPr>
            <p:cNvPr id="8" name="WordArt 231"/>
            <p:cNvSpPr txBox="1"/>
            <p:nvPr/>
          </p:nvSpPr>
          <p:spPr>
            <a:xfrm>
              <a:off x="17928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808080">
                      <a:alpha val="9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808080">
                    <a:alpha val="9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9" name="WordArt 232"/>
            <p:cNvSpPr txBox="1"/>
            <p:nvPr/>
          </p:nvSpPr>
          <p:spPr>
            <a:xfrm>
              <a:off x="125892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9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9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132000" y="6265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6C25-5049-4F34-A2D4-242A4F49B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a20051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AE73-133C-46A7-9C72-8AEACB2310D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4A6D-1AD1-4A0A-BA01-7D54C0C0FA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D12E-D3E9-4608-ADB5-243BA045D3D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2A41-60D1-41FD-8B6C-6E033412F3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715D-6285-4DB5-BC89-746727D25FC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C71D-894B-4504-A9D1-8AB9E33E50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1C90-1BE8-46BF-9055-456F7A87AF8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EB8C-F357-4F62-B053-80978A9EDA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6D09-57EB-472A-B82C-58EDBCCD557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DD9E-33B6-44E3-BC16-D628AB7528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25EA-879F-4E43-99FC-E26BF1E0E13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0671-E6F2-4BEF-8BAE-858D577EB7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BF69-DD42-4491-9945-55EE7D46787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654C-E9A2-4EC1-8393-481CCEF77B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78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9" descr="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0" descr="3"/>
          <p:cNvPicPr/>
          <p:nvPr/>
        </p:nvPicPr>
        <p:blipFill>
          <a:blip r:embed="rId4"/>
          <a:stretch/>
        </p:blipFill>
        <p:spPr>
          <a:xfrm>
            <a:off x="1403280" y="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8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a20051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grpSp>
        <p:nvGrpSpPr>
          <p:cNvPr id="56" name="Group 291"/>
          <p:cNvGrpSpPr/>
          <p:nvPr/>
        </p:nvGrpSpPr>
        <p:grpSpPr>
          <a:xfrm>
            <a:off x="0" y="620640"/>
            <a:ext cx="9144000" cy="6381720"/>
            <a:chOff x="0" y="620640"/>
            <a:chExt cx="9144000" cy="6381720"/>
          </a:xfrm>
        </p:grpSpPr>
        <p:pic>
          <p:nvPicPr>
            <p:cNvPr id="57" name="Picture 288" descr="7"/>
            <p:cNvPicPr/>
            <p:nvPr/>
          </p:nvPicPr>
          <p:blipFill>
            <a:blip r:embed="rId5"/>
            <a:stretch/>
          </p:blipFill>
          <p:spPr>
            <a:xfrm>
              <a:off x="0" y="620640"/>
              <a:ext cx="9144000" cy="62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90" descr="7"/>
            <p:cNvPicPr/>
            <p:nvPr/>
          </p:nvPicPr>
          <p:blipFill>
            <a:blip r:embed="rId6"/>
            <a:stretch/>
          </p:blipFill>
          <p:spPr>
            <a:xfrm>
              <a:off x="0" y="765000"/>
              <a:ext cx="9144000" cy="623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836-CB4B-4E91-8A00-A3910278F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285"/>
          <p:cNvGrpSpPr/>
          <p:nvPr/>
        </p:nvGrpSpPr>
        <p:grpSpPr>
          <a:xfrm>
            <a:off x="179280" y="6453360"/>
            <a:ext cx="2521080" cy="288720"/>
            <a:chOff x="179280" y="6453360"/>
            <a:chExt cx="2521080" cy="288720"/>
          </a:xfrm>
        </p:grpSpPr>
        <p:sp>
          <p:nvSpPr>
            <p:cNvPr id="64" name="WordArt 286"/>
            <p:cNvSpPr txBox="1"/>
            <p:nvPr/>
          </p:nvSpPr>
          <p:spPr>
            <a:xfrm>
              <a:off x="17928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>
                      <a:alpha val="9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ffffff">
                    <a:alpha val="9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65" name="WordArt 287"/>
            <p:cNvSpPr txBox="1"/>
            <p:nvPr/>
          </p:nvSpPr>
          <p:spPr>
            <a:xfrm>
              <a:off x="125892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9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9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30" descr="3"/>
          <p:cNvPicPr/>
          <p:nvPr/>
        </p:nvPicPr>
        <p:blipFill>
          <a:blip r:embed="rId2"/>
          <a:stretch/>
        </p:blipFill>
        <p:spPr>
          <a:xfrm>
            <a:off x="1403280" y="0"/>
            <a:ext cx="7632720" cy="687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9" descr="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3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5" name="Picture 128" descr="6"/>
          <p:cNvPicPr/>
          <p:nvPr/>
        </p:nvPicPr>
        <p:blipFill>
          <a:blip r:embed="rId4">
            <a:lum bright="6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2" descr="9"/>
          <p:cNvPicPr/>
          <p:nvPr/>
        </p:nvPicPr>
        <p:blipFill>
          <a:blip r:embed="rId5"/>
          <a:stretch/>
        </p:blipFill>
        <p:spPr>
          <a:xfrm>
            <a:off x="0" y="0"/>
            <a:ext cx="9144000" cy="1808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E19A-2060-41B4-8BF4-B49E04F81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a20051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3"/>
          <p:cNvPicPr/>
          <p:nvPr/>
        </p:nvPicPr>
        <p:blipFill>
          <a:blip r:embed="rId4"/>
          <a:stretch/>
        </p:blipFill>
        <p:spPr>
          <a:xfrm>
            <a:off x="1403280" y="0"/>
            <a:ext cx="7632720" cy="6873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8"/>
          <p:cNvPicPr/>
          <p:nvPr/>
        </p:nvPicPr>
        <p:blipFill>
          <a:blip r:embed="rId5"/>
          <a:stretch/>
        </p:blipFill>
        <p:spPr>
          <a:xfrm>
            <a:off x="1217520" y="-15840"/>
            <a:ext cx="7926480" cy="6873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B6FE-6014-4DAD-8D5B-9D08AB937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1835280" y="1052280"/>
            <a:ext cx="6851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title"/>
          </p:nvPr>
        </p:nvSpPr>
        <p:spPr>
          <a:xfrm>
            <a:off x="1835280" y="-360"/>
            <a:ext cx="6851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a20051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a20051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F112-2E2E-478F-915F-97E3BFD5683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DB09-C582-462B-931D-CE78F90614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6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68" descr="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69" descr="3"/>
          <p:cNvPicPr/>
          <p:nvPr/>
        </p:nvPicPr>
        <p:blipFill>
          <a:blip r:embed="rId4"/>
          <a:stretch/>
        </p:blipFill>
        <p:spPr>
          <a:xfrm>
            <a:off x="1403280" y="0"/>
            <a:ext cx="7632720" cy="6873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70" descr="bg1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71" descr="4"/>
          <p:cNvPicPr/>
          <p:nvPr/>
        </p:nvPicPr>
        <p:blipFill>
          <a:blip r:embed="rId6"/>
          <a:stretch/>
        </p:blipFill>
        <p:spPr>
          <a:xfrm>
            <a:off x="0" y="2349360"/>
            <a:ext cx="9144000" cy="2386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72" descr="4"/>
          <p:cNvPicPr/>
          <p:nvPr/>
        </p:nvPicPr>
        <p:blipFill>
          <a:blip r:embed="rId7"/>
          <a:stretch/>
        </p:blipFill>
        <p:spPr>
          <a:xfrm>
            <a:off x="0" y="2195640"/>
            <a:ext cx="9144000" cy="238572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473"/>
          <p:cNvGrpSpPr/>
          <p:nvPr/>
        </p:nvGrpSpPr>
        <p:grpSpPr>
          <a:xfrm>
            <a:off x="3851280" y="6237360"/>
            <a:ext cx="1441440" cy="444600"/>
            <a:chOff x="3851280" y="6237360"/>
            <a:chExt cx="1441440" cy="444600"/>
          </a:xfrm>
        </p:grpSpPr>
        <p:sp>
          <p:nvSpPr>
            <p:cNvPr id="241" name="WordArt 474"/>
            <p:cNvSpPr txBox="1"/>
            <p:nvPr/>
          </p:nvSpPr>
          <p:spPr>
            <a:xfrm>
              <a:off x="4019400" y="6237360"/>
              <a:ext cx="1152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/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242" name="WordArt 475"/>
            <p:cNvSpPr txBox="1"/>
            <p:nvPr/>
          </p:nvSpPr>
          <p:spPr>
            <a:xfrm>
              <a:off x="3851280" y="660888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a20051"/>
                </a:solidFill>
                <a:latin typeface="Times New Roman"/>
              </a:rPr>
              <a:t>Click to edit the title text format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D645-A246-4195-8FA2-0AC8648F1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AA5A-E89C-4695-9EB4-15975DBA3FB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9BB8-38E2-4395-A3C5-7CF6826731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F446-51F7-4BD4-B25B-E42C1F6E0C0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96B7-CED8-481B-B5EF-FEE23042AF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FCBA-CA3F-459B-8654-22225683078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6BA0-1B3E-4746-B32F-26F27F6A5A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253512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a006d"/>
                </a:solidFill>
                <a:latin typeface="Arial"/>
                <a:ea typeface="Arial Unicode MS"/>
              </a:rPr>
              <a:t>唯美花藤动态</a:t>
            </a:r>
            <a:r>
              <a:rPr b="1" lang="en-US" sz="4000" spc="-1" strike="noStrike">
                <a:solidFill>
                  <a:srgbClr val="da006d"/>
                </a:solidFill>
                <a:latin typeface="Arial"/>
                <a:ea typeface="Arial Unicode MS"/>
              </a:rPr>
              <a:t>PPT</a:t>
            </a:r>
            <a:r>
              <a:rPr b="1" lang="zh-CN" sz="4000" spc="-1" strike="noStrike">
                <a:solidFill>
                  <a:srgbClr val="da006d"/>
                </a:solidFill>
                <a:latin typeface="Arial"/>
                <a:ea typeface="Arial Unicode MS"/>
              </a:rPr>
              <a:t>模板在线下载</a:t>
            </a:r>
            <a:endParaRPr b="1" i="1" lang="en-US" sz="4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6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Group 348"/>
          <p:cNvGrpSpPr/>
          <p:nvPr/>
        </p:nvGrpSpPr>
        <p:grpSpPr>
          <a:xfrm>
            <a:off x="468360" y="1484280"/>
            <a:ext cx="8170920" cy="4538160"/>
            <a:chOff x="468360" y="1484280"/>
            <a:chExt cx="8170920" cy="4538160"/>
          </a:xfrm>
        </p:grpSpPr>
        <p:grpSp>
          <p:nvGrpSpPr>
            <p:cNvPr id="1016" name="Group 349"/>
            <p:cNvGrpSpPr/>
            <p:nvPr/>
          </p:nvGrpSpPr>
          <p:grpSpPr>
            <a:xfrm>
              <a:off x="1354320" y="2073240"/>
              <a:ext cx="6456240" cy="1180800"/>
              <a:chOff x="1354320" y="2073240"/>
              <a:chExt cx="6456240" cy="1180800"/>
            </a:xfrm>
          </p:grpSpPr>
          <p:sp>
            <p:nvSpPr>
              <p:cNvPr id="1017" name="Rectangle 350"/>
              <p:cNvSpPr/>
              <p:nvPr/>
            </p:nvSpPr>
            <p:spPr>
              <a:xfrm rot="5400000">
                <a:off x="4283640" y="2345760"/>
                <a:ext cx="599040" cy="54000"/>
              </a:xfrm>
              <a:prstGeom prst="rect">
                <a:avLst/>
              </a:prstGeom>
              <a:gradFill rotWithShape="0">
                <a:gsLst>
                  <a:gs pos="0">
                    <a:srgbClr val="8c8c8c"/>
                  </a:gs>
                  <a:gs pos="50000">
                    <a:srgbClr val="dddddd"/>
                  </a:gs>
                  <a:gs pos="100000">
                    <a:srgbClr val="8c8c8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8" name="Rectangle 351"/>
              <p:cNvSpPr/>
              <p:nvPr/>
            </p:nvSpPr>
            <p:spPr>
              <a:xfrm flipV="1">
                <a:off x="1368720" y="2634120"/>
                <a:ext cx="6441840" cy="54000"/>
              </a:xfrm>
              <a:prstGeom prst="rect">
                <a:avLst/>
              </a:prstGeom>
              <a:gradFill rotWithShape="0">
                <a:gsLst>
                  <a:gs pos="0">
                    <a:srgbClr val="8c8c8c"/>
                  </a:gs>
                  <a:gs pos="50000">
                    <a:srgbClr val="dddddd"/>
                  </a:gs>
                  <a:gs pos="100000">
                    <a:srgbClr val="8c8c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9" name="Rectangle 352"/>
              <p:cNvSpPr/>
              <p:nvPr/>
            </p:nvSpPr>
            <p:spPr>
              <a:xfrm rot="5400000">
                <a:off x="1081800" y="2927520"/>
                <a:ext cx="599040" cy="54000"/>
              </a:xfrm>
              <a:prstGeom prst="rect">
                <a:avLst/>
              </a:prstGeom>
              <a:gradFill rotWithShape="0">
                <a:gsLst>
                  <a:gs pos="0">
                    <a:srgbClr val="8c8c8c"/>
                  </a:gs>
                  <a:gs pos="50000">
                    <a:srgbClr val="dddddd"/>
                  </a:gs>
                  <a:gs pos="100000">
                    <a:srgbClr val="8c8c8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0" name="Rectangle 353"/>
              <p:cNvSpPr/>
              <p:nvPr/>
            </p:nvSpPr>
            <p:spPr>
              <a:xfrm rot="5400000">
                <a:off x="3270960" y="2927520"/>
                <a:ext cx="599040" cy="54000"/>
              </a:xfrm>
              <a:prstGeom prst="rect">
                <a:avLst/>
              </a:prstGeom>
              <a:gradFill rotWithShape="0">
                <a:gsLst>
                  <a:gs pos="0">
                    <a:srgbClr val="8c8c8c"/>
                  </a:gs>
                  <a:gs pos="50000">
                    <a:srgbClr val="dddddd"/>
                  </a:gs>
                  <a:gs pos="100000">
                    <a:srgbClr val="8c8c8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1" name="Rectangle 354"/>
              <p:cNvSpPr/>
              <p:nvPr/>
            </p:nvSpPr>
            <p:spPr>
              <a:xfrm rot="5400000">
                <a:off x="5364720" y="2927520"/>
                <a:ext cx="599040" cy="54000"/>
              </a:xfrm>
              <a:prstGeom prst="rect">
                <a:avLst/>
              </a:prstGeom>
              <a:gradFill rotWithShape="0">
                <a:gsLst>
                  <a:gs pos="0">
                    <a:srgbClr val="8c8c8c"/>
                  </a:gs>
                  <a:gs pos="50000">
                    <a:srgbClr val="dddddd"/>
                  </a:gs>
                  <a:gs pos="100000">
                    <a:srgbClr val="8c8c8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2" name="Rectangle 355"/>
              <p:cNvSpPr/>
              <p:nvPr/>
            </p:nvSpPr>
            <p:spPr>
              <a:xfrm rot="5400000">
                <a:off x="7481160" y="2927520"/>
                <a:ext cx="599040" cy="54000"/>
              </a:xfrm>
              <a:prstGeom prst="rect">
                <a:avLst/>
              </a:prstGeom>
              <a:gradFill rotWithShape="0">
                <a:gsLst>
                  <a:gs pos="0">
                    <a:srgbClr val="8c8c8c"/>
                  </a:gs>
                  <a:gs pos="50000">
                    <a:srgbClr val="dddddd"/>
                  </a:gs>
                  <a:gs pos="100000">
                    <a:srgbClr val="8c8c8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23" name="Group 356"/>
            <p:cNvGrpSpPr/>
            <p:nvPr/>
          </p:nvGrpSpPr>
          <p:grpSpPr>
            <a:xfrm>
              <a:off x="3159000" y="1484280"/>
              <a:ext cx="2808360" cy="720720"/>
              <a:chOff x="3159000" y="1484280"/>
              <a:chExt cx="2808360" cy="720720"/>
            </a:xfrm>
          </p:grpSpPr>
          <p:sp>
            <p:nvSpPr>
              <p:cNvPr id="1024" name="AutoShape 357"/>
              <p:cNvSpPr/>
              <p:nvPr/>
            </p:nvSpPr>
            <p:spPr>
              <a:xfrm>
                <a:off x="3159000" y="1484280"/>
                <a:ext cx="280836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ff3399"/>
              </a:solidFill>
              <a:ln w="0">
                <a:noFill/>
              </a:ln>
              <a:effectLst>
                <a:outerShdw dist="40186" dir="4303641" blurRad="0" rotWithShape="0">
                  <a:srgbClr val="969696">
                    <a:alpha val="6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5" name="AutoShape 358"/>
              <p:cNvSpPr/>
              <p:nvPr/>
            </p:nvSpPr>
            <p:spPr>
              <a:xfrm>
                <a:off x="4027320" y="1528560"/>
                <a:ext cx="1892520" cy="632160"/>
              </a:xfrm>
              <a:prstGeom prst="roundRect">
                <a:avLst>
                  <a:gd name="adj" fmla="val 11778"/>
                </a:avLst>
              </a:prstGeom>
              <a:gradFill rotWithShape="0">
                <a:gsLst>
                  <a:gs pos="0">
                    <a:srgbClr val="ff6699">
                      <a:alpha val="0"/>
                    </a:srgbClr>
                  </a:gs>
                  <a:gs pos="100000">
                    <a:srgbClr val="ffcc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6" name="AutoShape 359"/>
              <p:cNvSpPr/>
              <p:nvPr/>
            </p:nvSpPr>
            <p:spPr>
              <a:xfrm>
                <a:off x="3220920" y="1528560"/>
                <a:ext cx="2663640" cy="173160"/>
              </a:xfrm>
              <a:prstGeom prst="roundRect">
                <a:avLst>
                  <a:gd name="adj" fmla="val 3486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027" name="Text Box 360"/>
            <p:cNvSpPr/>
            <p:nvPr/>
          </p:nvSpPr>
          <p:spPr>
            <a:xfrm>
              <a:off x="3419640" y="1608120"/>
              <a:ext cx="2305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028" name="Group 361"/>
            <p:cNvGrpSpPr/>
            <p:nvPr/>
          </p:nvGrpSpPr>
          <p:grpSpPr>
            <a:xfrm>
              <a:off x="468360" y="3155760"/>
              <a:ext cx="1886040" cy="2866680"/>
              <a:chOff x="468360" y="3155760"/>
              <a:chExt cx="1886040" cy="2866680"/>
            </a:xfrm>
          </p:grpSpPr>
          <p:grpSp>
            <p:nvGrpSpPr>
              <p:cNvPr id="1029" name="Group 362"/>
              <p:cNvGrpSpPr/>
              <p:nvPr/>
            </p:nvGrpSpPr>
            <p:grpSpPr>
              <a:xfrm>
                <a:off x="488880" y="3562200"/>
                <a:ext cx="1857600" cy="2460240"/>
                <a:chOff x="488880" y="3562200"/>
                <a:chExt cx="1857600" cy="2460240"/>
              </a:xfrm>
            </p:grpSpPr>
            <p:sp>
              <p:nvSpPr>
                <p:cNvPr id="1030" name="AutoShape 363"/>
                <p:cNvSpPr/>
                <p:nvPr/>
              </p:nvSpPr>
              <p:spPr>
                <a:xfrm>
                  <a:off x="488880" y="3562200"/>
                  <a:ext cx="1857600" cy="2408760"/>
                </a:xfrm>
                <a:custGeom>
                  <a:avLst/>
                  <a:gdLst>
                    <a:gd name="textAreaLeft" fmla="*/ 53280 w 1857600"/>
                    <a:gd name="textAreaRight" fmla="*/ 1804320 w 1857600"/>
                    <a:gd name="textAreaTop" fmla="*/ 53280 h 2408760"/>
                    <a:gd name="textAreaBottom" fmla="*/ 2355480 h 2408760"/>
                  </a:gdLst>
                  <a:ahLst/>
                  <a:rect l="textAreaLeft" t="textAreaTop" r="textAreaRight" b="textAreaBottom"/>
                  <a:pathLst>
                    <a:path w="21600" h="28008">
                      <a:moveTo>
                        <a:pt x="2123" y="0"/>
                      </a:moveTo>
                      <a:arcTo wR="2123" hR="2123" stAng="16200000" swAng="-5400000"/>
                      <a:lnTo>
                        <a:pt x="0" y="25885"/>
                      </a:lnTo>
                      <a:arcTo wR="2123" hR="2123" stAng="10800000" swAng="-5400000"/>
                      <a:lnTo>
                        <a:pt x="19477" y="28008"/>
                      </a:lnTo>
                      <a:arcTo wR="2123" hR="2123" stAng="5400000" swAng="-5400000"/>
                      <a:lnTo>
                        <a:pt x="21600" y="2123"/>
                      </a:lnTo>
                      <a:arcTo wR="2123" hR="2123" stAng="0" swAng="-5400000"/>
                      <a:close/>
                    </a:path>
                  </a:pathLst>
                </a:cu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31" name="AutoShape 364"/>
                <p:cNvSpPr/>
                <p:nvPr/>
              </p:nvSpPr>
              <p:spPr>
                <a:xfrm>
                  <a:off x="488880" y="3613680"/>
                  <a:ext cx="1857600" cy="2408760"/>
                </a:xfrm>
                <a:custGeom>
                  <a:avLst/>
                  <a:gdLst>
                    <a:gd name="textAreaLeft" fmla="*/ 53280 w 1857600"/>
                    <a:gd name="textAreaRight" fmla="*/ 1804320 w 1857600"/>
                    <a:gd name="textAreaTop" fmla="*/ 53280 h 2408760"/>
                    <a:gd name="textAreaBottom" fmla="*/ 2355480 h 2408760"/>
                  </a:gdLst>
                  <a:ahLst/>
                  <a:rect l="textAreaLeft" t="textAreaTop" r="textAreaRight" b="textAreaBottom"/>
                  <a:pathLst>
                    <a:path w="21600" h="28008">
                      <a:moveTo>
                        <a:pt x="2123" y="0"/>
                      </a:moveTo>
                      <a:arcTo wR="2123" hR="2123" stAng="16200000" swAng="-5400000"/>
                      <a:lnTo>
                        <a:pt x="0" y="25885"/>
                      </a:lnTo>
                      <a:arcTo wR="2123" hR="2123" stAng="10800000" swAng="-5400000"/>
                      <a:lnTo>
                        <a:pt x="19477" y="28008"/>
                      </a:lnTo>
                      <a:arcTo wR="2123" hR="2123" stAng="5400000" swAng="-5400000"/>
                      <a:lnTo>
                        <a:pt x="21600" y="2123"/>
                      </a:lnTo>
                      <a:arcTo wR="2123" hR="212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9999"/>
                  </a:solidFill>
                  <a:miter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32" name="Text Box 365"/>
              <p:cNvSpPr/>
              <p:nvPr/>
            </p:nvSpPr>
            <p:spPr>
              <a:xfrm>
                <a:off x="566640" y="4322520"/>
                <a:ext cx="1704960" cy="10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CONTENTS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1033" name="Group 366"/>
              <p:cNvGrpSpPr/>
              <p:nvPr/>
            </p:nvGrpSpPr>
            <p:grpSpPr>
              <a:xfrm>
                <a:off x="468360" y="3155760"/>
                <a:ext cx="1886040" cy="790200"/>
                <a:chOff x="468360" y="3155760"/>
                <a:chExt cx="1886040" cy="790200"/>
              </a:xfrm>
            </p:grpSpPr>
            <p:sp>
              <p:nvSpPr>
                <p:cNvPr id="1034" name="AutoShape 367"/>
                <p:cNvSpPr/>
                <p:nvPr/>
              </p:nvSpPr>
              <p:spPr>
                <a:xfrm>
                  <a:off x="468360" y="3155760"/>
                  <a:ext cx="1886040" cy="790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99"/>
                </a:solidFill>
                <a:ln w="0">
                  <a:noFill/>
                </a:ln>
                <a:effectLst>
                  <a:outerShdw dist="40186" dir="4303641" blurRad="0" rotWithShape="0">
                    <a:srgbClr val="969696">
                      <a:alpha val="6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35" name="AutoShape 368"/>
                <p:cNvSpPr/>
                <p:nvPr/>
              </p:nvSpPr>
              <p:spPr>
                <a:xfrm>
                  <a:off x="1051200" y="3204000"/>
                  <a:ext cx="1270800" cy="693360"/>
                </a:xfrm>
                <a:prstGeom prst="roundRect">
                  <a:avLst>
                    <a:gd name="adj" fmla="val 11778"/>
                  </a:avLst>
                </a:prstGeom>
                <a:gradFill rotWithShape="0">
                  <a:gsLst>
                    <a:gs pos="0">
                      <a:srgbClr val="ccecff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36" name="AutoShape 369"/>
                <p:cNvSpPr/>
                <p:nvPr/>
              </p:nvSpPr>
              <p:spPr>
                <a:xfrm>
                  <a:off x="509760" y="3204000"/>
                  <a:ext cx="1788840" cy="18972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37" name="Text Box 370"/>
              <p:cNvSpPr/>
              <p:nvPr/>
            </p:nvSpPr>
            <p:spPr>
              <a:xfrm>
                <a:off x="620640" y="3346200"/>
                <a:ext cx="1536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38" name="Group 371"/>
            <p:cNvGrpSpPr/>
            <p:nvPr/>
          </p:nvGrpSpPr>
          <p:grpSpPr>
            <a:xfrm>
              <a:off x="2552760" y="3155760"/>
              <a:ext cx="1886040" cy="2866680"/>
              <a:chOff x="2552760" y="3155760"/>
              <a:chExt cx="1886040" cy="2866680"/>
            </a:xfrm>
          </p:grpSpPr>
          <p:grpSp>
            <p:nvGrpSpPr>
              <p:cNvPr id="1039" name="Group 372"/>
              <p:cNvGrpSpPr/>
              <p:nvPr/>
            </p:nvGrpSpPr>
            <p:grpSpPr>
              <a:xfrm>
                <a:off x="2573280" y="3562200"/>
                <a:ext cx="1857600" cy="2460240"/>
                <a:chOff x="2573280" y="3562200"/>
                <a:chExt cx="1857600" cy="2460240"/>
              </a:xfrm>
            </p:grpSpPr>
            <p:sp>
              <p:nvSpPr>
                <p:cNvPr id="1040" name="AutoShape 373"/>
                <p:cNvSpPr/>
                <p:nvPr/>
              </p:nvSpPr>
              <p:spPr>
                <a:xfrm>
                  <a:off x="2573280" y="3562200"/>
                  <a:ext cx="1857600" cy="2408760"/>
                </a:xfrm>
                <a:custGeom>
                  <a:avLst/>
                  <a:gdLst>
                    <a:gd name="textAreaLeft" fmla="*/ 53280 w 1857600"/>
                    <a:gd name="textAreaRight" fmla="*/ 1804320 w 1857600"/>
                    <a:gd name="textAreaTop" fmla="*/ 53280 h 2408760"/>
                    <a:gd name="textAreaBottom" fmla="*/ 2355480 h 2408760"/>
                  </a:gdLst>
                  <a:ahLst/>
                  <a:rect l="textAreaLeft" t="textAreaTop" r="textAreaRight" b="textAreaBottom"/>
                  <a:pathLst>
                    <a:path w="21600" h="28008">
                      <a:moveTo>
                        <a:pt x="2123" y="0"/>
                      </a:moveTo>
                      <a:arcTo wR="2123" hR="2123" stAng="16200000" swAng="-5400000"/>
                      <a:lnTo>
                        <a:pt x="0" y="25885"/>
                      </a:lnTo>
                      <a:arcTo wR="2123" hR="2123" stAng="10800000" swAng="-5400000"/>
                      <a:lnTo>
                        <a:pt x="19477" y="28008"/>
                      </a:lnTo>
                      <a:arcTo wR="2123" hR="2123" stAng="5400000" swAng="-5400000"/>
                      <a:lnTo>
                        <a:pt x="21600" y="2123"/>
                      </a:lnTo>
                      <a:arcTo wR="2123" hR="2123" stAng="0" swAng="-5400000"/>
                      <a:close/>
                    </a:path>
                  </a:pathLst>
                </a:cu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41" name="AutoShape 374"/>
                <p:cNvSpPr/>
                <p:nvPr/>
              </p:nvSpPr>
              <p:spPr>
                <a:xfrm>
                  <a:off x="2573280" y="3613680"/>
                  <a:ext cx="1857600" cy="2408760"/>
                </a:xfrm>
                <a:custGeom>
                  <a:avLst/>
                  <a:gdLst>
                    <a:gd name="textAreaLeft" fmla="*/ 53280 w 1857600"/>
                    <a:gd name="textAreaRight" fmla="*/ 1804320 w 1857600"/>
                    <a:gd name="textAreaTop" fmla="*/ 53280 h 2408760"/>
                    <a:gd name="textAreaBottom" fmla="*/ 2355480 h 2408760"/>
                  </a:gdLst>
                  <a:ahLst/>
                  <a:rect l="textAreaLeft" t="textAreaTop" r="textAreaRight" b="textAreaBottom"/>
                  <a:pathLst>
                    <a:path w="21600" h="28008">
                      <a:moveTo>
                        <a:pt x="2123" y="0"/>
                      </a:moveTo>
                      <a:arcTo wR="2123" hR="2123" stAng="16200000" swAng="-5400000"/>
                      <a:lnTo>
                        <a:pt x="0" y="25885"/>
                      </a:lnTo>
                      <a:arcTo wR="2123" hR="2123" stAng="10800000" swAng="-5400000"/>
                      <a:lnTo>
                        <a:pt x="19477" y="28008"/>
                      </a:lnTo>
                      <a:arcTo wR="2123" hR="2123" stAng="5400000" swAng="-5400000"/>
                      <a:lnTo>
                        <a:pt x="21600" y="2123"/>
                      </a:lnTo>
                      <a:arcTo wR="2123" hR="212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9999"/>
                  </a:solidFill>
                  <a:miter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42" name="Text Box 375"/>
              <p:cNvSpPr/>
              <p:nvPr/>
            </p:nvSpPr>
            <p:spPr>
              <a:xfrm>
                <a:off x="2651040" y="4322520"/>
                <a:ext cx="1704960" cy="10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CONTENTS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1043" name="Group 376"/>
              <p:cNvGrpSpPr/>
              <p:nvPr/>
            </p:nvGrpSpPr>
            <p:grpSpPr>
              <a:xfrm>
                <a:off x="2552760" y="3155760"/>
                <a:ext cx="1886040" cy="790200"/>
                <a:chOff x="2552760" y="3155760"/>
                <a:chExt cx="1886040" cy="790200"/>
              </a:xfrm>
            </p:grpSpPr>
            <p:sp>
              <p:nvSpPr>
                <p:cNvPr id="1044" name="AutoShape 377"/>
                <p:cNvSpPr/>
                <p:nvPr/>
              </p:nvSpPr>
              <p:spPr>
                <a:xfrm>
                  <a:off x="2552760" y="3155760"/>
                  <a:ext cx="1886040" cy="790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99"/>
                </a:solidFill>
                <a:ln w="0">
                  <a:noFill/>
                </a:ln>
                <a:effectLst>
                  <a:outerShdw dist="40186" dir="4303641" blurRad="0" rotWithShape="0">
                    <a:srgbClr val="969696">
                      <a:alpha val="6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45" name="AutoShape 378"/>
                <p:cNvSpPr/>
                <p:nvPr/>
              </p:nvSpPr>
              <p:spPr>
                <a:xfrm>
                  <a:off x="3135600" y="3204000"/>
                  <a:ext cx="1270800" cy="693360"/>
                </a:xfrm>
                <a:prstGeom prst="roundRect">
                  <a:avLst>
                    <a:gd name="adj" fmla="val 11778"/>
                  </a:avLst>
                </a:prstGeom>
                <a:gradFill rotWithShape="0">
                  <a:gsLst>
                    <a:gs pos="0">
                      <a:srgbClr val="ccecff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46" name="AutoShape 379"/>
                <p:cNvSpPr/>
                <p:nvPr/>
              </p:nvSpPr>
              <p:spPr>
                <a:xfrm>
                  <a:off x="2594160" y="3204000"/>
                  <a:ext cx="1788840" cy="18972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47" name="Text Box 380"/>
              <p:cNvSpPr/>
              <p:nvPr/>
            </p:nvSpPr>
            <p:spPr>
              <a:xfrm>
                <a:off x="2705040" y="3346200"/>
                <a:ext cx="1536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48" name="Group 381"/>
            <p:cNvGrpSpPr/>
            <p:nvPr/>
          </p:nvGrpSpPr>
          <p:grpSpPr>
            <a:xfrm>
              <a:off x="4668840" y="3155760"/>
              <a:ext cx="1886040" cy="2866680"/>
              <a:chOff x="4668840" y="3155760"/>
              <a:chExt cx="1886040" cy="2866680"/>
            </a:xfrm>
          </p:grpSpPr>
          <p:grpSp>
            <p:nvGrpSpPr>
              <p:cNvPr id="1049" name="Group 382"/>
              <p:cNvGrpSpPr/>
              <p:nvPr/>
            </p:nvGrpSpPr>
            <p:grpSpPr>
              <a:xfrm>
                <a:off x="4689360" y="3562200"/>
                <a:ext cx="1857600" cy="2460240"/>
                <a:chOff x="4689360" y="3562200"/>
                <a:chExt cx="1857600" cy="2460240"/>
              </a:xfrm>
            </p:grpSpPr>
            <p:sp>
              <p:nvSpPr>
                <p:cNvPr id="1050" name="AutoShape 383"/>
                <p:cNvSpPr/>
                <p:nvPr/>
              </p:nvSpPr>
              <p:spPr>
                <a:xfrm>
                  <a:off x="4689360" y="3562200"/>
                  <a:ext cx="1857600" cy="2408760"/>
                </a:xfrm>
                <a:custGeom>
                  <a:avLst/>
                  <a:gdLst>
                    <a:gd name="textAreaLeft" fmla="*/ 53280 w 1857600"/>
                    <a:gd name="textAreaRight" fmla="*/ 1804320 w 1857600"/>
                    <a:gd name="textAreaTop" fmla="*/ 53280 h 2408760"/>
                    <a:gd name="textAreaBottom" fmla="*/ 2355480 h 2408760"/>
                  </a:gdLst>
                  <a:ahLst/>
                  <a:rect l="textAreaLeft" t="textAreaTop" r="textAreaRight" b="textAreaBottom"/>
                  <a:pathLst>
                    <a:path w="21600" h="28008">
                      <a:moveTo>
                        <a:pt x="2123" y="0"/>
                      </a:moveTo>
                      <a:arcTo wR="2123" hR="2123" stAng="16200000" swAng="-5400000"/>
                      <a:lnTo>
                        <a:pt x="0" y="25885"/>
                      </a:lnTo>
                      <a:arcTo wR="2123" hR="2123" stAng="10800000" swAng="-5400000"/>
                      <a:lnTo>
                        <a:pt x="19477" y="28008"/>
                      </a:lnTo>
                      <a:arcTo wR="2123" hR="2123" stAng="5400000" swAng="-5400000"/>
                      <a:lnTo>
                        <a:pt x="21600" y="2123"/>
                      </a:lnTo>
                      <a:arcTo wR="2123" hR="2123" stAng="0" swAng="-5400000"/>
                      <a:close/>
                    </a:path>
                  </a:pathLst>
                </a:cu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51" name="AutoShape 384"/>
                <p:cNvSpPr/>
                <p:nvPr/>
              </p:nvSpPr>
              <p:spPr>
                <a:xfrm>
                  <a:off x="4689360" y="3613680"/>
                  <a:ext cx="1857600" cy="2408760"/>
                </a:xfrm>
                <a:custGeom>
                  <a:avLst/>
                  <a:gdLst>
                    <a:gd name="textAreaLeft" fmla="*/ 53280 w 1857600"/>
                    <a:gd name="textAreaRight" fmla="*/ 1804320 w 1857600"/>
                    <a:gd name="textAreaTop" fmla="*/ 53280 h 2408760"/>
                    <a:gd name="textAreaBottom" fmla="*/ 2355480 h 2408760"/>
                  </a:gdLst>
                  <a:ahLst/>
                  <a:rect l="textAreaLeft" t="textAreaTop" r="textAreaRight" b="textAreaBottom"/>
                  <a:pathLst>
                    <a:path w="21600" h="28008">
                      <a:moveTo>
                        <a:pt x="2123" y="0"/>
                      </a:moveTo>
                      <a:arcTo wR="2123" hR="2123" stAng="16200000" swAng="-5400000"/>
                      <a:lnTo>
                        <a:pt x="0" y="25885"/>
                      </a:lnTo>
                      <a:arcTo wR="2123" hR="2123" stAng="10800000" swAng="-5400000"/>
                      <a:lnTo>
                        <a:pt x="19477" y="28008"/>
                      </a:lnTo>
                      <a:arcTo wR="2123" hR="2123" stAng="5400000" swAng="-5400000"/>
                      <a:lnTo>
                        <a:pt x="21600" y="2123"/>
                      </a:lnTo>
                      <a:arcTo wR="2123" hR="212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9999"/>
                  </a:solidFill>
                  <a:miter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52" name="Text Box 385"/>
              <p:cNvSpPr/>
              <p:nvPr/>
            </p:nvSpPr>
            <p:spPr>
              <a:xfrm>
                <a:off x="4767120" y="4322520"/>
                <a:ext cx="1704960" cy="10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CONTENTS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1053" name="Group 386"/>
              <p:cNvGrpSpPr/>
              <p:nvPr/>
            </p:nvGrpSpPr>
            <p:grpSpPr>
              <a:xfrm>
                <a:off x="4668840" y="3155760"/>
                <a:ext cx="1886040" cy="790200"/>
                <a:chOff x="4668840" y="3155760"/>
                <a:chExt cx="1886040" cy="790200"/>
              </a:xfrm>
            </p:grpSpPr>
            <p:sp>
              <p:nvSpPr>
                <p:cNvPr id="1054" name="AutoShape 387"/>
                <p:cNvSpPr/>
                <p:nvPr/>
              </p:nvSpPr>
              <p:spPr>
                <a:xfrm>
                  <a:off x="4668840" y="3155760"/>
                  <a:ext cx="1886040" cy="790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99"/>
                </a:solidFill>
                <a:ln w="0">
                  <a:noFill/>
                </a:ln>
                <a:effectLst>
                  <a:outerShdw dist="40186" dir="4303641" blurRad="0" rotWithShape="0">
                    <a:srgbClr val="969696">
                      <a:alpha val="6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55" name="AutoShape 388"/>
                <p:cNvSpPr/>
                <p:nvPr/>
              </p:nvSpPr>
              <p:spPr>
                <a:xfrm>
                  <a:off x="5251680" y="3204000"/>
                  <a:ext cx="1270800" cy="693360"/>
                </a:xfrm>
                <a:prstGeom prst="roundRect">
                  <a:avLst>
                    <a:gd name="adj" fmla="val 11778"/>
                  </a:avLst>
                </a:prstGeom>
                <a:gradFill rotWithShape="0">
                  <a:gsLst>
                    <a:gs pos="0">
                      <a:srgbClr val="ccecff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56" name="AutoShape 389"/>
                <p:cNvSpPr/>
                <p:nvPr/>
              </p:nvSpPr>
              <p:spPr>
                <a:xfrm>
                  <a:off x="4710240" y="3204000"/>
                  <a:ext cx="1788840" cy="18972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57" name="Text Box 390"/>
              <p:cNvSpPr/>
              <p:nvPr/>
            </p:nvSpPr>
            <p:spPr>
              <a:xfrm>
                <a:off x="4821120" y="3346200"/>
                <a:ext cx="1536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58" name="Group 391"/>
            <p:cNvGrpSpPr/>
            <p:nvPr/>
          </p:nvGrpSpPr>
          <p:grpSpPr>
            <a:xfrm>
              <a:off x="6753240" y="3155760"/>
              <a:ext cx="1886040" cy="2866680"/>
              <a:chOff x="6753240" y="3155760"/>
              <a:chExt cx="1886040" cy="2866680"/>
            </a:xfrm>
          </p:grpSpPr>
          <p:grpSp>
            <p:nvGrpSpPr>
              <p:cNvPr id="1059" name="Group 392"/>
              <p:cNvGrpSpPr/>
              <p:nvPr/>
            </p:nvGrpSpPr>
            <p:grpSpPr>
              <a:xfrm>
                <a:off x="6773760" y="3562200"/>
                <a:ext cx="1857600" cy="2460240"/>
                <a:chOff x="6773760" y="3562200"/>
                <a:chExt cx="1857600" cy="2460240"/>
              </a:xfrm>
            </p:grpSpPr>
            <p:sp>
              <p:nvSpPr>
                <p:cNvPr id="1060" name="AutoShape 393"/>
                <p:cNvSpPr/>
                <p:nvPr/>
              </p:nvSpPr>
              <p:spPr>
                <a:xfrm>
                  <a:off x="6773760" y="3562200"/>
                  <a:ext cx="1857600" cy="2408760"/>
                </a:xfrm>
                <a:custGeom>
                  <a:avLst/>
                  <a:gdLst>
                    <a:gd name="textAreaLeft" fmla="*/ 53280 w 1857600"/>
                    <a:gd name="textAreaRight" fmla="*/ 1804320 w 1857600"/>
                    <a:gd name="textAreaTop" fmla="*/ 53280 h 2408760"/>
                    <a:gd name="textAreaBottom" fmla="*/ 2355480 h 2408760"/>
                  </a:gdLst>
                  <a:ahLst/>
                  <a:rect l="textAreaLeft" t="textAreaTop" r="textAreaRight" b="textAreaBottom"/>
                  <a:pathLst>
                    <a:path w="21600" h="28008">
                      <a:moveTo>
                        <a:pt x="2123" y="0"/>
                      </a:moveTo>
                      <a:arcTo wR="2123" hR="2123" stAng="16200000" swAng="-5400000"/>
                      <a:lnTo>
                        <a:pt x="0" y="25885"/>
                      </a:lnTo>
                      <a:arcTo wR="2123" hR="2123" stAng="10800000" swAng="-5400000"/>
                      <a:lnTo>
                        <a:pt x="19477" y="28008"/>
                      </a:lnTo>
                      <a:arcTo wR="2123" hR="2123" stAng="5400000" swAng="-5400000"/>
                      <a:lnTo>
                        <a:pt x="21600" y="2123"/>
                      </a:lnTo>
                      <a:arcTo wR="2123" hR="2123" stAng="0" swAng="-5400000"/>
                      <a:close/>
                    </a:path>
                  </a:pathLst>
                </a:custGeom>
                <a:solidFill>
                  <a:srgbClr val="808080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61" name="AutoShape 394"/>
                <p:cNvSpPr/>
                <p:nvPr/>
              </p:nvSpPr>
              <p:spPr>
                <a:xfrm>
                  <a:off x="6773760" y="3613680"/>
                  <a:ext cx="1857600" cy="2408760"/>
                </a:xfrm>
                <a:custGeom>
                  <a:avLst/>
                  <a:gdLst>
                    <a:gd name="textAreaLeft" fmla="*/ 53280 w 1857600"/>
                    <a:gd name="textAreaRight" fmla="*/ 1804320 w 1857600"/>
                    <a:gd name="textAreaTop" fmla="*/ 53280 h 2408760"/>
                    <a:gd name="textAreaBottom" fmla="*/ 2355480 h 2408760"/>
                  </a:gdLst>
                  <a:ahLst/>
                  <a:rect l="textAreaLeft" t="textAreaTop" r="textAreaRight" b="textAreaBottom"/>
                  <a:pathLst>
                    <a:path w="21600" h="28008">
                      <a:moveTo>
                        <a:pt x="2123" y="0"/>
                      </a:moveTo>
                      <a:arcTo wR="2123" hR="2123" stAng="16200000" swAng="-5400000"/>
                      <a:lnTo>
                        <a:pt x="0" y="25885"/>
                      </a:lnTo>
                      <a:arcTo wR="2123" hR="2123" stAng="10800000" swAng="-5400000"/>
                      <a:lnTo>
                        <a:pt x="19477" y="28008"/>
                      </a:lnTo>
                      <a:arcTo wR="2123" hR="2123" stAng="5400000" swAng="-5400000"/>
                      <a:lnTo>
                        <a:pt x="21600" y="2123"/>
                      </a:lnTo>
                      <a:arcTo wR="2123" hR="212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ff9999"/>
                  </a:solidFill>
                  <a:miter/>
                </a:ln>
                <a:effectLst>
                  <a:outerShdw dist="76320" dir="54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62" name="Text Box 395"/>
              <p:cNvSpPr/>
              <p:nvPr/>
            </p:nvSpPr>
            <p:spPr>
              <a:xfrm>
                <a:off x="6851520" y="4322520"/>
                <a:ext cx="1704960" cy="10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CONTENTS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. Click to add Content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1063" name="Group 396"/>
              <p:cNvGrpSpPr/>
              <p:nvPr/>
            </p:nvGrpSpPr>
            <p:grpSpPr>
              <a:xfrm>
                <a:off x="6753240" y="3155760"/>
                <a:ext cx="1886040" cy="790200"/>
                <a:chOff x="6753240" y="3155760"/>
                <a:chExt cx="1886040" cy="790200"/>
              </a:xfrm>
            </p:grpSpPr>
            <p:sp>
              <p:nvSpPr>
                <p:cNvPr id="1064" name="AutoShape 397"/>
                <p:cNvSpPr/>
                <p:nvPr/>
              </p:nvSpPr>
              <p:spPr>
                <a:xfrm>
                  <a:off x="6753240" y="3155760"/>
                  <a:ext cx="1886040" cy="790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99"/>
                </a:solidFill>
                <a:ln w="0">
                  <a:noFill/>
                </a:ln>
                <a:effectLst>
                  <a:outerShdw dist="40186" dir="4303641" blurRad="0" rotWithShape="0">
                    <a:srgbClr val="969696">
                      <a:alpha val="6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65" name="AutoShape 398"/>
                <p:cNvSpPr/>
                <p:nvPr/>
              </p:nvSpPr>
              <p:spPr>
                <a:xfrm>
                  <a:off x="7336080" y="3204000"/>
                  <a:ext cx="1270800" cy="693360"/>
                </a:xfrm>
                <a:prstGeom prst="roundRect">
                  <a:avLst>
                    <a:gd name="adj" fmla="val 11778"/>
                  </a:avLst>
                </a:prstGeom>
                <a:gradFill rotWithShape="0">
                  <a:gsLst>
                    <a:gs pos="0">
                      <a:srgbClr val="ccecff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66" name="AutoShape 399"/>
                <p:cNvSpPr/>
                <p:nvPr/>
              </p:nvSpPr>
              <p:spPr>
                <a:xfrm>
                  <a:off x="6794640" y="3204000"/>
                  <a:ext cx="1788840" cy="189720"/>
                </a:xfrm>
                <a:prstGeom prst="roundRect">
                  <a:avLst>
                    <a:gd name="adj" fmla="val 3486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67" name="Text Box 400"/>
              <p:cNvSpPr/>
              <p:nvPr/>
            </p:nvSpPr>
            <p:spPr>
              <a:xfrm>
                <a:off x="6905520" y="3346200"/>
                <a:ext cx="1536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Black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Group 148"/>
          <p:cNvGrpSpPr/>
          <p:nvPr/>
        </p:nvGrpSpPr>
        <p:grpSpPr>
          <a:xfrm>
            <a:off x="395280" y="1413000"/>
            <a:ext cx="8280360" cy="4608360"/>
            <a:chOff x="395280" y="1413000"/>
            <a:chExt cx="8280360" cy="4608360"/>
          </a:xfrm>
        </p:grpSpPr>
        <p:sp>
          <p:nvSpPr>
            <p:cNvPr id="1070" name="AutoShape 149"/>
            <p:cNvSpPr/>
            <p:nvPr/>
          </p:nvSpPr>
          <p:spPr>
            <a:xfrm>
              <a:off x="395280" y="2205000"/>
              <a:ext cx="4105440" cy="3816360"/>
            </a:xfrm>
            <a:prstGeom prst="roundRect">
              <a:avLst>
                <a:gd name="adj" fmla="val 3412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b2b2b2"/>
                </a:gs>
                <a:gs pos="100000">
                  <a:srgbClr val="ddddd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1" name="PubPieSlice"/>
            <p:cNvSpPr/>
            <p:nvPr/>
          </p:nvSpPr>
          <p:spPr>
            <a:xfrm>
              <a:off x="1042920" y="2853000"/>
              <a:ext cx="2808360" cy="2736720"/>
            </a:xfrm>
            <a:custGeom>
              <a:avLst/>
              <a:gdLst>
                <a:gd name="textAreaLeft" fmla="*/ 411120 w 2808360"/>
                <a:gd name="textAreaRight" fmla="*/ 2397240 w 2808360"/>
                <a:gd name="textAreaTop" fmla="*/ 399960 h 2736720"/>
                <a:gd name="textAreaBottom" fmla="*/ 233676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71" y="5533"/>
                  </a:moveTo>
                  <a:cubicBezTo>
                    <a:pt x="472" y="7142"/>
                    <a:pt x="0" y="8956"/>
                    <a:pt x="0" y="10799"/>
                  </a:cubicBezTo>
                  <a:cubicBezTo>
                    <a:pt x="-1" y="10824"/>
                    <a:pt x="0" y="10849"/>
                    <a:pt x="0" y="10874"/>
                  </a:cubicBezTo>
                  <a:lnTo>
                    <a:pt x="10800" y="10800"/>
                  </a:lnTo>
                  <a:lnTo>
                    <a:pt x="1371" y="5533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ccffff"/>
                </a:gs>
              </a:gsLst>
              <a:lin ang="189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2" name="PubPieSlice"/>
            <p:cNvSpPr/>
            <p:nvPr/>
          </p:nvSpPr>
          <p:spPr>
            <a:xfrm>
              <a:off x="1042920" y="2853000"/>
              <a:ext cx="2808360" cy="2736720"/>
            </a:xfrm>
            <a:custGeom>
              <a:avLst/>
              <a:gdLst>
                <a:gd name="textAreaLeft" fmla="*/ 411120 w 2808360"/>
                <a:gd name="textAreaRight" fmla="*/ 2397240 w 2808360"/>
                <a:gd name="textAreaTop" fmla="*/ 399960 h 2736720"/>
                <a:gd name="textAreaBottom" fmla="*/ 233676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57" y="2699"/>
                  </a:moveTo>
                  <a:cubicBezTo>
                    <a:pt x="2730" y="3516"/>
                    <a:pt x="1950" y="4486"/>
                    <a:pt x="1352" y="5567"/>
                  </a:cubicBezTo>
                  <a:lnTo>
                    <a:pt x="10800" y="10800"/>
                  </a:lnTo>
                  <a:lnTo>
                    <a:pt x="3657" y="2699"/>
                  </a:lnTo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100000">
                  <a:srgbClr val="ff3399"/>
                </a:gs>
              </a:gsLst>
              <a:lin ang="189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3" name="PubPieSlice"/>
            <p:cNvSpPr/>
            <p:nvPr/>
          </p:nvSpPr>
          <p:spPr>
            <a:xfrm>
              <a:off x="1042920" y="2851200"/>
              <a:ext cx="2808360" cy="2737080"/>
            </a:xfrm>
            <a:custGeom>
              <a:avLst/>
              <a:gdLst>
                <a:gd name="textAreaLeft" fmla="*/ 411120 w 2808360"/>
                <a:gd name="textAreaRight" fmla="*/ 2397240 w 2808360"/>
                <a:gd name="textAreaTop" fmla="*/ 399960 h 2737080"/>
                <a:gd name="textAreaBottom" fmla="*/ 2337120 h 273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761" y="783"/>
                  </a:moveTo>
                  <a:cubicBezTo>
                    <a:pt x="5592" y="1254"/>
                    <a:pt x="4515" y="1926"/>
                    <a:pt x="3578" y="2769"/>
                  </a:cubicBezTo>
                  <a:lnTo>
                    <a:pt x="10800" y="10800"/>
                  </a:lnTo>
                  <a:lnTo>
                    <a:pt x="6761" y="783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99"/>
                </a:gs>
              </a:gsLst>
              <a:lin ang="189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4" name="AutoShape 153"/>
            <p:cNvSpPr/>
            <p:nvPr/>
          </p:nvSpPr>
          <p:spPr>
            <a:xfrm>
              <a:off x="395280" y="1413000"/>
              <a:ext cx="82803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3399"/>
                </a:gs>
                <a:gs pos="100000">
                  <a:srgbClr val="ffcccc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5" name="AutoShape 154"/>
            <p:cNvSpPr/>
            <p:nvPr/>
          </p:nvSpPr>
          <p:spPr>
            <a:xfrm>
              <a:off x="466560" y="1474920"/>
              <a:ext cx="8137800" cy="431640"/>
            </a:xfrm>
            <a:prstGeom prst="roundRect">
              <a:avLst>
                <a:gd name="adj" fmla="val 2713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6" name="AutoShape 155"/>
            <p:cNvSpPr/>
            <p:nvPr/>
          </p:nvSpPr>
          <p:spPr>
            <a:xfrm>
              <a:off x="4572000" y="2205000"/>
              <a:ext cx="4103640" cy="3816360"/>
            </a:xfrm>
            <a:prstGeom prst="roundRect">
              <a:avLst>
                <a:gd name="adj" fmla="val 3037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b2b2b2"/>
                </a:gs>
                <a:gs pos="100000">
                  <a:srgbClr val="ddddd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7" name="PubPieSlice"/>
            <p:cNvSpPr/>
            <p:nvPr/>
          </p:nvSpPr>
          <p:spPr>
            <a:xfrm>
              <a:off x="1042920" y="2853000"/>
              <a:ext cx="2808360" cy="2736720"/>
            </a:xfrm>
            <a:custGeom>
              <a:avLst/>
              <a:gdLst>
                <a:gd name="textAreaLeft" fmla="*/ 411120 w 2808360"/>
                <a:gd name="textAreaRight" fmla="*/ 2397240 w 2808360"/>
                <a:gd name="textAreaTop" fmla="*/ 399960 h 2736720"/>
                <a:gd name="textAreaBottom" fmla="*/ 233676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99" y="10900"/>
                  </a:moveTo>
                  <a:cubicBezTo>
                    <a:pt x="21599" y="10866"/>
                    <a:pt x="21600" y="1083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9445" y="-1"/>
                    <a:pt x="8103" y="254"/>
                    <a:pt x="6843" y="750"/>
                  </a:cubicBezTo>
                  <a:lnTo>
                    <a:pt x="10800" y="10800"/>
                  </a:lnTo>
                  <a:lnTo>
                    <a:pt x="21599" y="109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lin ang="27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8" name="Text Box 157"/>
            <p:cNvSpPr/>
            <p:nvPr/>
          </p:nvSpPr>
          <p:spPr>
            <a:xfrm>
              <a:off x="3367080" y="1557360"/>
              <a:ext cx="25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9" name="AutoShape 158"/>
            <p:cNvSpPr/>
            <p:nvPr/>
          </p:nvSpPr>
          <p:spPr>
            <a:xfrm>
              <a:off x="468360" y="2266920"/>
              <a:ext cx="3959280" cy="432000"/>
            </a:xfrm>
            <a:prstGeom prst="roundRect">
              <a:avLst>
                <a:gd name="adj" fmla="val 2713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0" name="PubPieSlice"/>
            <p:cNvSpPr/>
            <p:nvPr/>
          </p:nvSpPr>
          <p:spPr>
            <a:xfrm>
              <a:off x="1042920" y="2851200"/>
              <a:ext cx="2808360" cy="2737080"/>
            </a:xfrm>
            <a:custGeom>
              <a:avLst/>
              <a:gdLst>
                <a:gd name="textAreaLeft" fmla="*/ 411120 w 2808360"/>
                <a:gd name="textAreaRight" fmla="*/ 2397240 w 2808360"/>
                <a:gd name="textAreaTop" fmla="*/ 399960 h 2737080"/>
                <a:gd name="textAreaBottom" fmla="*/ 2337120 h 273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758"/>
                  </a:moveTo>
                  <a:cubicBezTo>
                    <a:pt x="0" y="10772"/>
                    <a:pt x="0" y="10786"/>
                    <a:pt x="0" y="10799"/>
                  </a:cubicBezTo>
                  <a:cubicBezTo>
                    <a:pt x="-1" y="15528"/>
                    <a:pt x="3075" y="19706"/>
                    <a:pt x="7590" y="21111"/>
                  </a:cubicBezTo>
                  <a:lnTo>
                    <a:pt x="10800" y="10800"/>
                  </a:lnTo>
                  <a:lnTo>
                    <a:pt x="0" y="10758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ffcccc"/>
                </a:gs>
              </a:gsLst>
              <a:lin ang="27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1" name="PubPieSlice"/>
            <p:cNvSpPr/>
            <p:nvPr/>
          </p:nvSpPr>
          <p:spPr>
            <a:xfrm>
              <a:off x="1042920" y="2851200"/>
              <a:ext cx="2808360" cy="2737080"/>
            </a:xfrm>
            <a:custGeom>
              <a:avLst/>
              <a:gdLst>
                <a:gd name="textAreaLeft" fmla="*/ 411120 w 2808360"/>
                <a:gd name="textAreaRight" fmla="*/ 2397240 w 2808360"/>
                <a:gd name="textAreaTop" fmla="*/ 399960 h 2737080"/>
                <a:gd name="textAreaBottom" fmla="*/ 2337120 h 273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7" y="21135"/>
                  </a:moveTo>
                  <a:cubicBezTo>
                    <a:pt x="8683" y="21443"/>
                    <a:pt x="9738" y="21600"/>
                    <a:pt x="10800" y="21600"/>
                  </a:cubicBezTo>
                  <a:cubicBezTo>
                    <a:pt x="16764" y="21599"/>
                    <a:pt x="21600" y="16764"/>
                    <a:pt x="21600" y="10800"/>
                  </a:cubicBezTo>
                  <a:lnTo>
                    <a:pt x="10800" y="10800"/>
                  </a:lnTo>
                  <a:lnTo>
                    <a:pt x="7667" y="21135"/>
                  </a:lnTo>
                  <a:close/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9999"/>
                </a:gs>
              </a:gsLst>
              <a:lin ang="189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2" name="Text Box 161"/>
            <p:cNvSpPr/>
            <p:nvPr/>
          </p:nvSpPr>
          <p:spPr>
            <a:xfrm>
              <a:off x="2628720" y="35020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3" name="Text Box 162"/>
            <p:cNvSpPr/>
            <p:nvPr/>
          </p:nvSpPr>
          <p:spPr>
            <a:xfrm>
              <a:off x="2628720" y="47530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4" name="Text Box 163"/>
            <p:cNvSpPr/>
            <p:nvPr/>
          </p:nvSpPr>
          <p:spPr>
            <a:xfrm>
              <a:off x="1477800" y="45640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5" name="Text Box 164"/>
            <p:cNvSpPr/>
            <p:nvPr/>
          </p:nvSpPr>
          <p:spPr>
            <a:xfrm>
              <a:off x="1188720" y="384516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6" name="Text Box 165"/>
            <p:cNvSpPr/>
            <p:nvPr/>
          </p:nvSpPr>
          <p:spPr>
            <a:xfrm>
              <a:off x="1271520" y="34084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7" name="Text Box 166"/>
            <p:cNvSpPr/>
            <p:nvPr/>
          </p:nvSpPr>
          <p:spPr>
            <a:xfrm>
              <a:off x="1558800" y="3141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8" name="Oval 167"/>
            <p:cNvSpPr/>
            <p:nvPr/>
          </p:nvSpPr>
          <p:spPr>
            <a:xfrm>
              <a:off x="900000" y="2710080"/>
              <a:ext cx="3095640" cy="3024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9" name="AutoShape 168"/>
            <p:cNvSpPr/>
            <p:nvPr/>
          </p:nvSpPr>
          <p:spPr>
            <a:xfrm>
              <a:off x="4897440" y="2565360"/>
              <a:ext cx="3419640" cy="3068640"/>
            </a:xfrm>
            <a:prstGeom prst="roundRect">
              <a:avLst>
                <a:gd name="adj" fmla="val 770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cc"/>
                </a:gs>
                <a:gs pos="100000">
                  <a:srgbClr val="ffffff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0" name="AutoShape 169"/>
            <p:cNvSpPr/>
            <p:nvPr/>
          </p:nvSpPr>
          <p:spPr>
            <a:xfrm>
              <a:off x="4968720" y="2637000"/>
              <a:ext cx="3275280" cy="431640"/>
            </a:xfrm>
            <a:prstGeom prst="roundRect">
              <a:avLst>
                <a:gd name="adj" fmla="val 3713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79"/>
          <p:cNvGrpSpPr/>
          <p:nvPr/>
        </p:nvGrpSpPr>
        <p:grpSpPr>
          <a:xfrm>
            <a:off x="971640" y="1317600"/>
            <a:ext cx="7145280" cy="4653000"/>
            <a:chOff x="971640" y="1317600"/>
            <a:chExt cx="7145280" cy="4653000"/>
          </a:xfrm>
        </p:grpSpPr>
        <p:grpSp>
          <p:nvGrpSpPr>
            <p:cNvPr id="1093" name="Group 80"/>
            <p:cNvGrpSpPr/>
            <p:nvPr/>
          </p:nvGrpSpPr>
          <p:grpSpPr>
            <a:xfrm>
              <a:off x="6900840" y="2852640"/>
              <a:ext cx="95040" cy="1468440"/>
              <a:chOff x="6900840" y="2852640"/>
              <a:chExt cx="95040" cy="1468440"/>
            </a:xfrm>
          </p:grpSpPr>
          <p:sp>
            <p:nvSpPr>
              <p:cNvPr id="1094" name="Rectangle 81"/>
              <p:cNvSpPr/>
              <p:nvPr/>
            </p:nvSpPr>
            <p:spPr>
              <a:xfrm rot="5400000">
                <a:off x="6242400" y="3567600"/>
                <a:ext cx="1468440" cy="38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5" name="Rectangle 82"/>
              <p:cNvSpPr/>
              <p:nvPr/>
            </p:nvSpPr>
            <p:spPr>
              <a:xfrm rot="5400000">
                <a:off x="6194880" y="3558240"/>
                <a:ext cx="1468440" cy="5688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96" name="Group 83"/>
            <p:cNvGrpSpPr/>
            <p:nvPr/>
          </p:nvGrpSpPr>
          <p:grpSpPr>
            <a:xfrm>
              <a:off x="5101200" y="2852640"/>
              <a:ext cx="94680" cy="1468440"/>
              <a:chOff x="5101200" y="2852640"/>
              <a:chExt cx="94680" cy="1468440"/>
            </a:xfrm>
          </p:grpSpPr>
          <p:sp>
            <p:nvSpPr>
              <p:cNvPr id="1097" name="Rectangle 84"/>
              <p:cNvSpPr/>
              <p:nvPr/>
            </p:nvSpPr>
            <p:spPr>
              <a:xfrm rot="5400000">
                <a:off x="4442400" y="3567600"/>
                <a:ext cx="1468440" cy="38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8" name="Rectangle 85"/>
              <p:cNvSpPr/>
              <p:nvPr/>
            </p:nvSpPr>
            <p:spPr>
              <a:xfrm rot="5400000">
                <a:off x="4395240" y="3558600"/>
                <a:ext cx="1468440" cy="5652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99" name="Group 86"/>
            <p:cNvGrpSpPr/>
            <p:nvPr/>
          </p:nvGrpSpPr>
          <p:grpSpPr>
            <a:xfrm>
              <a:off x="1505160" y="2494080"/>
              <a:ext cx="95040" cy="1469880"/>
              <a:chOff x="1505160" y="2494080"/>
              <a:chExt cx="95040" cy="1469880"/>
            </a:xfrm>
          </p:grpSpPr>
          <p:sp>
            <p:nvSpPr>
              <p:cNvPr id="1100" name="Rectangle 87"/>
              <p:cNvSpPr/>
              <p:nvPr/>
            </p:nvSpPr>
            <p:spPr>
              <a:xfrm rot="5400000">
                <a:off x="846720" y="3210480"/>
                <a:ext cx="1469880" cy="367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01" name="Rectangle 88"/>
              <p:cNvSpPr/>
              <p:nvPr/>
            </p:nvSpPr>
            <p:spPr>
              <a:xfrm rot="5400000">
                <a:off x="798480" y="3200400"/>
                <a:ext cx="1469880" cy="5688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02" name="Rectangle 89"/>
            <p:cNvSpPr/>
            <p:nvPr/>
          </p:nvSpPr>
          <p:spPr>
            <a:xfrm rot="3831600">
              <a:off x="4862160" y="1888920"/>
              <a:ext cx="984600" cy="9842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cccc"/>
                </a:gs>
              </a:gsLst>
              <a:lin ang="18900000"/>
            </a:gra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3" name="Rectangle 90"/>
            <p:cNvSpPr/>
            <p:nvPr/>
          </p:nvSpPr>
          <p:spPr>
            <a:xfrm rot="3831600">
              <a:off x="6666840" y="2200680"/>
              <a:ext cx="982800" cy="98424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dddddd"/>
                </a:gs>
              </a:gsLst>
              <a:lin ang="18900000"/>
            </a:gra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4" name="AutoShape 91"/>
            <p:cNvSpPr/>
            <p:nvPr/>
          </p:nvSpPr>
          <p:spPr>
            <a:xfrm>
              <a:off x="971640" y="2873520"/>
              <a:ext cx="1736640" cy="3097080"/>
            </a:xfrm>
            <a:custGeom>
              <a:avLst/>
              <a:gdLst>
                <a:gd name="textAreaLeft" fmla="*/ 52560 w 1736640"/>
                <a:gd name="textAreaRight" fmla="*/ 1684080 w 1736640"/>
                <a:gd name="textAreaTop" fmla="*/ 52560 h 3097080"/>
                <a:gd name="textAreaBottom" fmla="*/ 3044520 h 3097080"/>
              </a:gdLst>
              <a:ahLst/>
              <a:rect l="textAreaLeft" t="textAreaTop" r="textAreaRight" b="textAreaBottom"/>
              <a:pathLst>
                <a:path w="21600" h="38517">
                  <a:moveTo>
                    <a:pt x="2233" y="0"/>
                  </a:moveTo>
                  <a:arcTo wR="2233" hR="2233" stAng="16200000" swAng="-5400000"/>
                  <a:lnTo>
                    <a:pt x="0" y="36284"/>
                  </a:lnTo>
                  <a:arcTo wR="2233" hR="2233" stAng="10800000" swAng="-5400000"/>
                  <a:lnTo>
                    <a:pt x="19367" y="38517"/>
                  </a:lnTo>
                  <a:arcTo wR="2233" hR="2233" stAng="5400000" swAng="-5400000"/>
                  <a:lnTo>
                    <a:pt x="21600" y="2233"/>
                  </a:lnTo>
                  <a:arcTo wR="2233" hR="2233" stAng="0" swAng="-5400000"/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80008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5" name="AutoShape 92"/>
            <p:cNvSpPr/>
            <p:nvPr/>
          </p:nvSpPr>
          <p:spPr>
            <a:xfrm>
              <a:off x="4578480" y="3378240"/>
              <a:ext cx="1735200" cy="2592360"/>
            </a:xfrm>
            <a:custGeom>
              <a:avLst/>
              <a:gdLst>
                <a:gd name="textAreaLeft" fmla="*/ 52200 w 1735200"/>
                <a:gd name="textAreaRight" fmla="*/ 1683000 w 1735200"/>
                <a:gd name="textAreaTop" fmla="*/ 52200 h 2592360"/>
                <a:gd name="textAreaBottom" fmla="*/ 2540160 h 2592360"/>
              </a:gdLst>
              <a:ahLst/>
              <a:rect l="textAreaLeft" t="textAreaTop" r="textAreaRight" b="textAreaBottom"/>
              <a:pathLst>
                <a:path w="21600" h="32268">
                  <a:moveTo>
                    <a:pt x="2233" y="0"/>
                  </a:moveTo>
                  <a:arcTo wR="2233" hR="2233" stAng="16200000" swAng="-5400000"/>
                  <a:lnTo>
                    <a:pt x="0" y="30035"/>
                  </a:lnTo>
                  <a:arcTo wR="2233" hR="2233" stAng="10800000" swAng="-5400000"/>
                  <a:lnTo>
                    <a:pt x="19367" y="32268"/>
                  </a:lnTo>
                  <a:arcTo wR="2233" hR="2233" stAng="5400000" swAng="-5400000"/>
                  <a:lnTo>
                    <a:pt x="21600" y="2233"/>
                  </a:lnTo>
                  <a:arcTo wR="2233" hR="2233" stAng="0" swAng="-5400000"/>
                  <a:close/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9999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6" name="AutoShape 93"/>
            <p:cNvSpPr/>
            <p:nvPr/>
          </p:nvSpPr>
          <p:spPr>
            <a:xfrm>
              <a:off x="6380280" y="3629160"/>
              <a:ext cx="1736640" cy="2341440"/>
            </a:xfrm>
            <a:custGeom>
              <a:avLst/>
              <a:gdLst>
                <a:gd name="textAreaLeft" fmla="*/ 52560 w 1736640"/>
                <a:gd name="textAreaRight" fmla="*/ 1684080 w 1736640"/>
                <a:gd name="textAreaTop" fmla="*/ 52560 h 2341440"/>
                <a:gd name="textAreaBottom" fmla="*/ 2288880 h 2341440"/>
              </a:gdLst>
              <a:ahLst/>
              <a:rect l="textAreaLeft" t="textAreaTop" r="textAreaRight" b="textAreaBottom"/>
              <a:pathLst>
                <a:path w="21600" h="29121">
                  <a:moveTo>
                    <a:pt x="2233" y="0"/>
                  </a:moveTo>
                  <a:arcTo wR="2233" hR="2233" stAng="16200000" swAng="-5400000"/>
                  <a:lnTo>
                    <a:pt x="0" y="26888"/>
                  </a:lnTo>
                  <a:arcTo wR="2233" hR="2233" stAng="10800000" swAng="-5400000"/>
                  <a:lnTo>
                    <a:pt x="19367" y="29121"/>
                  </a:lnTo>
                  <a:arcTo wR="2233" hR="2233" stAng="5400000" swAng="-5400000"/>
                  <a:lnTo>
                    <a:pt x="21600" y="2233"/>
                  </a:lnTo>
                  <a:arcTo wR="2233" hR="2233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cccc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7" name="Text Box 94"/>
            <p:cNvSpPr/>
            <p:nvPr/>
          </p:nvSpPr>
          <p:spPr>
            <a:xfrm>
              <a:off x="4956480" y="227484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8" name="Text Box 95"/>
            <p:cNvSpPr/>
            <p:nvPr/>
          </p:nvSpPr>
          <p:spPr>
            <a:xfrm>
              <a:off x="6816960" y="252576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109" name="Picture 96" descr="Untitled-32"/>
            <p:cNvPicPr/>
            <p:nvPr/>
          </p:nvPicPr>
          <p:blipFill>
            <a:blip r:embed="rId1"/>
            <a:stretch/>
          </p:blipFill>
          <p:spPr>
            <a:xfrm>
              <a:off x="4756320" y="1920960"/>
              <a:ext cx="484200" cy="660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110" name="Picture 97" descr="Untitled-32"/>
            <p:cNvPicPr/>
            <p:nvPr/>
          </p:nvPicPr>
          <p:blipFill>
            <a:blip r:embed="rId2"/>
            <a:stretch/>
          </p:blipFill>
          <p:spPr>
            <a:xfrm>
              <a:off x="6543720" y="2205000"/>
              <a:ext cx="484200" cy="660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1" name="Group 98"/>
            <p:cNvGrpSpPr/>
            <p:nvPr/>
          </p:nvGrpSpPr>
          <p:grpSpPr>
            <a:xfrm>
              <a:off x="3304080" y="2933640"/>
              <a:ext cx="94680" cy="1468440"/>
              <a:chOff x="3304080" y="2933640"/>
              <a:chExt cx="94680" cy="1468440"/>
            </a:xfrm>
          </p:grpSpPr>
          <p:sp>
            <p:nvSpPr>
              <p:cNvPr id="1112" name="Rectangle 99"/>
              <p:cNvSpPr/>
              <p:nvPr/>
            </p:nvSpPr>
            <p:spPr>
              <a:xfrm rot="5400000">
                <a:off x="2645280" y="3648600"/>
                <a:ext cx="1468440" cy="38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13" name="Rectangle 100"/>
              <p:cNvSpPr/>
              <p:nvPr/>
            </p:nvSpPr>
            <p:spPr>
              <a:xfrm rot="5400000">
                <a:off x="2598120" y="3639600"/>
                <a:ext cx="1468440" cy="5652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14" name="Group 101"/>
            <p:cNvGrpSpPr/>
            <p:nvPr/>
          </p:nvGrpSpPr>
          <p:grpSpPr>
            <a:xfrm>
              <a:off x="1088280" y="1317600"/>
              <a:ext cx="1317960" cy="1317600"/>
              <a:chOff x="1088280" y="1317600"/>
              <a:chExt cx="1317960" cy="1317600"/>
            </a:xfrm>
          </p:grpSpPr>
          <p:sp>
            <p:nvSpPr>
              <p:cNvPr id="1115" name="Rectangle 102"/>
              <p:cNvSpPr/>
              <p:nvPr/>
            </p:nvSpPr>
            <p:spPr>
              <a:xfrm rot="3831600">
                <a:off x="1254960" y="1483560"/>
                <a:ext cx="984240" cy="98496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100000">
                    <a:srgbClr val="ff3399"/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16" name="Text Box 103"/>
              <p:cNvSpPr/>
              <p:nvPr/>
            </p:nvSpPr>
            <p:spPr>
              <a:xfrm>
                <a:off x="1349280" y="1804320"/>
                <a:ext cx="74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Gulim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117" name="Picture 104" descr="Untitled-32"/>
              <p:cNvPicPr/>
              <p:nvPr/>
            </p:nvPicPr>
            <p:blipFill>
              <a:blip r:embed="rId3"/>
              <a:stretch/>
            </p:blipFill>
            <p:spPr>
              <a:xfrm>
                <a:off x="1158840" y="1515960"/>
                <a:ext cx="484920" cy="659880"/>
              </a:xfrm>
              <a:prstGeom prst="rect">
                <a:avLst/>
              </a:prstGeom>
              <a:ln w="0">
                <a:noFill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</p:pic>
        </p:grpSp>
        <p:sp>
          <p:nvSpPr>
            <p:cNvPr id="1118" name="Rectangle 105"/>
            <p:cNvSpPr/>
            <p:nvPr/>
          </p:nvSpPr>
          <p:spPr>
            <a:xfrm rot="3831600">
              <a:off x="3059280" y="1830240"/>
              <a:ext cx="984240" cy="98424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ff9999"/>
                </a:gs>
              </a:gsLst>
              <a:lin ang="18900000"/>
            </a:gra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9" name="Text Box 106"/>
            <p:cNvSpPr/>
            <p:nvPr/>
          </p:nvSpPr>
          <p:spPr>
            <a:xfrm>
              <a:off x="3210120" y="208440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120" name="Picture 107" descr="Untitled-32"/>
            <p:cNvPicPr/>
            <p:nvPr/>
          </p:nvPicPr>
          <p:blipFill>
            <a:blip r:embed="rId4"/>
            <a:stretch/>
          </p:blipFill>
          <p:spPr>
            <a:xfrm>
              <a:off x="2946600" y="1862280"/>
              <a:ext cx="484200" cy="660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121" name="AutoShape 108"/>
            <p:cNvSpPr/>
            <p:nvPr/>
          </p:nvSpPr>
          <p:spPr>
            <a:xfrm>
              <a:off x="2774880" y="3165480"/>
              <a:ext cx="1735200" cy="2805120"/>
            </a:xfrm>
            <a:custGeom>
              <a:avLst/>
              <a:gdLst>
                <a:gd name="textAreaLeft" fmla="*/ 52200 w 1735200"/>
                <a:gd name="textAreaRight" fmla="*/ 1683000 w 1735200"/>
                <a:gd name="textAreaTop" fmla="*/ 52200 h 2805120"/>
                <a:gd name="textAreaBottom" fmla="*/ 2752920 h 2805120"/>
              </a:gdLst>
              <a:ahLst/>
              <a:rect l="textAreaLeft" t="textAreaTop" r="textAreaRight" b="textAreaBottom"/>
              <a:pathLst>
                <a:path w="21600" h="34916">
                  <a:moveTo>
                    <a:pt x="2233" y="0"/>
                  </a:moveTo>
                  <a:arcTo wR="2233" hR="2233" stAng="16200000" swAng="-5400000"/>
                  <a:lnTo>
                    <a:pt x="0" y="32683"/>
                  </a:lnTo>
                  <a:arcTo wR="2233" hR="2233" stAng="10800000" swAng="-5400000"/>
                  <a:lnTo>
                    <a:pt x="19367" y="34916"/>
                  </a:lnTo>
                  <a:arcTo wR="2233" hR="2233" stAng="5400000" swAng="-5400000"/>
                  <a:lnTo>
                    <a:pt x="21600" y="2233"/>
                  </a:lnTo>
                  <a:arcTo wR="2233" hR="2233" stAng="0" swAng="-5400000"/>
                  <a:close/>
                </a:path>
              </a:pathLst>
            </a:custGeom>
            <a:gradFill rotWithShape="0">
              <a:gsLst>
                <a:gs pos="0">
                  <a:srgbClr val="ff9999"/>
                </a:gs>
                <a:gs pos="100000">
                  <a:srgbClr val="ff3399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ulim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Group 137"/>
          <p:cNvGrpSpPr/>
          <p:nvPr/>
        </p:nvGrpSpPr>
        <p:grpSpPr>
          <a:xfrm>
            <a:off x="1042920" y="1125360"/>
            <a:ext cx="7129440" cy="5232240"/>
            <a:chOff x="1042920" y="1125360"/>
            <a:chExt cx="7129440" cy="5232240"/>
          </a:xfrm>
        </p:grpSpPr>
        <p:sp>
          <p:nvSpPr>
            <p:cNvPr id="1124" name="AutoShape 138"/>
            <p:cNvSpPr/>
            <p:nvPr/>
          </p:nvSpPr>
          <p:spPr>
            <a:xfrm>
              <a:off x="2851200" y="2813040"/>
              <a:ext cx="3462120" cy="1930320"/>
            </a:xfrm>
            <a:custGeom>
              <a:avLst/>
              <a:gdLst>
                <a:gd name="textAreaLeft" fmla="*/ 506160 w 3462120"/>
                <a:gd name="textAreaRight" fmla="*/ 2955960 w 3462120"/>
                <a:gd name="textAreaTop" fmla="*/ 282600 h 1930320"/>
                <a:gd name="textAreaBottom" fmla="*/ 1647720 h 19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67" y="10800"/>
                  </a:moveTo>
                  <a:cubicBezTo>
                    <a:pt x="4467" y="14298"/>
                    <a:pt x="7302" y="17133"/>
                    <a:pt x="10800" y="17133"/>
                  </a:cubicBezTo>
                  <a:cubicBezTo>
                    <a:pt x="14298" y="17133"/>
                    <a:pt x="17133" y="14298"/>
                    <a:pt x="17133" y="10800"/>
                  </a:cubicBezTo>
                  <a:cubicBezTo>
                    <a:pt x="17133" y="7302"/>
                    <a:pt x="14298" y="4467"/>
                    <a:pt x="10800" y="4467"/>
                  </a:cubicBezTo>
                  <a:cubicBezTo>
                    <a:pt x="7302" y="4467"/>
                    <a:pt x="4467" y="7302"/>
                    <a:pt x="446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0"/>
            </a:gradFill>
            <a:ln w="25560">
              <a:solidFill>
                <a:srgbClr val="ffffff"/>
              </a:solidFill>
              <a:bevel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5" name="Text Box 139"/>
            <p:cNvSpPr/>
            <p:nvPr/>
          </p:nvSpPr>
          <p:spPr>
            <a:xfrm>
              <a:off x="3631680" y="3662280"/>
              <a:ext cx="194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6" name="Line 140"/>
            <p:cNvSpPr/>
            <p:nvPr/>
          </p:nvSpPr>
          <p:spPr>
            <a:xfrm flipV="1">
              <a:off x="5075280" y="2014200"/>
              <a:ext cx="360360" cy="71928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7" name="Line 141"/>
            <p:cNvSpPr/>
            <p:nvPr/>
          </p:nvSpPr>
          <p:spPr>
            <a:xfrm flipV="1">
              <a:off x="6011640" y="2660400"/>
              <a:ext cx="648000" cy="50328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8" name="Line 142"/>
            <p:cNvSpPr/>
            <p:nvPr/>
          </p:nvSpPr>
          <p:spPr>
            <a:xfrm>
              <a:off x="6372000" y="3813120"/>
              <a:ext cx="79236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9" name="Line 143"/>
            <p:cNvSpPr/>
            <p:nvPr/>
          </p:nvSpPr>
          <p:spPr>
            <a:xfrm>
              <a:off x="6011640" y="4460760"/>
              <a:ext cx="720720" cy="50472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0" name="Line 144"/>
            <p:cNvSpPr/>
            <p:nvPr/>
          </p:nvSpPr>
          <p:spPr>
            <a:xfrm>
              <a:off x="5292720" y="4749480"/>
              <a:ext cx="358560" cy="71928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1" name="Line 145"/>
            <p:cNvSpPr/>
            <p:nvPr/>
          </p:nvSpPr>
          <p:spPr>
            <a:xfrm flipH="1">
              <a:off x="3634920" y="4749480"/>
              <a:ext cx="360360" cy="71928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2" name="Line 146"/>
            <p:cNvSpPr/>
            <p:nvPr/>
          </p:nvSpPr>
          <p:spPr>
            <a:xfrm flipH="1">
              <a:off x="2626920" y="4460760"/>
              <a:ext cx="576360" cy="5763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3" name="Line 147"/>
            <p:cNvSpPr/>
            <p:nvPr/>
          </p:nvSpPr>
          <p:spPr>
            <a:xfrm flipH="1">
              <a:off x="2050920" y="3813120"/>
              <a:ext cx="72072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4" name="Line 148"/>
            <p:cNvSpPr/>
            <p:nvPr/>
          </p:nvSpPr>
          <p:spPr>
            <a:xfrm flipH="1" flipV="1">
              <a:off x="2339640" y="2733120"/>
              <a:ext cx="718920" cy="43164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5" name="Line 149"/>
            <p:cNvSpPr/>
            <p:nvPr/>
          </p:nvSpPr>
          <p:spPr>
            <a:xfrm flipH="1" flipV="1">
              <a:off x="3348000" y="2084040"/>
              <a:ext cx="503280" cy="72072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36" name="Group 150"/>
            <p:cNvGrpSpPr/>
            <p:nvPr/>
          </p:nvGrpSpPr>
          <p:grpSpPr>
            <a:xfrm>
              <a:off x="7294320" y="3381120"/>
              <a:ext cx="878040" cy="866880"/>
              <a:chOff x="7294320" y="3381120"/>
              <a:chExt cx="878040" cy="866880"/>
            </a:xfrm>
          </p:grpSpPr>
          <p:sp>
            <p:nvSpPr>
              <p:cNvPr id="1137" name="Oval 151"/>
              <p:cNvSpPr/>
              <p:nvPr/>
            </p:nvSpPr>
            <p:spPr>
              <a:xfrm>
                <a:off x="7294320" y="3381120"/>
                <a:ext cx="878040" cy="86688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100000">
                    <a:srgbClr val="ff3399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38" name="Oval 152"/>
              <p:cNvSpPr/>
              <p:nvPr/>
            </p:nvSpPr>
            <p:spPr>
              <a:xfrm>
                <a:off x="7418520" y="3412800"/>
                <a:ext cx="622080" cy="441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39" name="Group 153"/>
            <p:cNvGrpSpPr/>
            <p:nvPr/>
          </p:nvGrpSpPr>
          <p:grpSpPr>
            <a:xfrm>
              <a:off x="2700360" y="1149120"/>
              <a:ext cx="877680" cy="866880"/>
              <a:chOff x="2700360" y="1149120"/>
              <a:chExt cx="877680" cy="866880"/>
            </a:xfrm>
          </p:grpSpPr>
          <p:sp>
            <p:nvSpPr>
              <p:cNvPr id="1140" name="Oval 154"/>
              <p:cNvSpPr/>
              <p:nvPr/>
            </p:nvSpPr>
            <p:spPr>
              <a:xfrm>
                <a:off x="2700360" y="1149120"/>
                <a:ext cx="877680" cy="866880"/>
              </a:xfrm>
              <a:prstGeom prst="ellipse">
                <a:avLst/>
              </a:prstGeom>
              <a:gradFill rotWithShape="0">
                <a:gsLst>
                  <a:gs pos="0">
                    <a:srgbClr val="ff3399"/>
                  </a:gs>
                  <a:gs pos="100000">
                    <a:srgbClr val="ff9999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41" name="Oval 155"/>
              <p:cNvSpPr/>
              <p:nvPr/>
            </p:nvSpPr>
            <p:spPr>
              <a:xfrm>
                <a:off x="2824560" y="1180800"/>
                <a:ext cx="622080" cy="441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42" name="Text Box 156"/>
            <p:cNvSpPr/>
            <p:nvPr/>
          </p:nvSpPr>
          <p:spPr>
            <a:xfrm>
              <a:off x="7381800" y="36925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3" name="Text Box 157"/>
            <p:cNvSpPr/>
            <p:nvPr/>
          </p:nvSpPr>
          <p:spPr>
            <a:xfrm>
              <a:off x="2773080" y="146016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44" name="Group 158"/>
            <p:cNvGrpSpPr/>
            <p:nvPr/>
          </p:nvGrpSpPr>
          <p:grpSpPr>
            <a:xfrm>
              <a:off x="5148360" y="1125360"/>
              <a:ext cx="866520" cy="816120"/>
              <a:chOff x="5148360" y="1125360"/>
              <a:chExt cx="866520" cy="816120"/>
            </a:xfrm>
          </p:grpSpPr>
          <p:sp>
            <p:nvSpPr>
              <p:cNvPr id="1145" name="Oval 159"/>
              <p:cNvSpPr/>
              <p:nvPr/>
            </p:nvSpPr>
            <p:spPr>
              <a:xfrm>
                <a:off x="5148360" y="1125360"/>
                <a:ext cx="866520" cy="81612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100000">
                    <a:srgbClr val="ff3399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46" name="Oval 160"/>
              <p:cNvSpPr/>
              <p:nvPr/>
            </p:nvSpPr>
            <p:spPr>
              <a:xfrm>
                <a:off x="5270760" y="1154880"/>
                <a:ext cx="614520" cy="41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47" name="Group 161"/>
            <p:cNvGrpSpPr/>
            <p:nvPr/>
          </p:nvGrpSpPr>
          <p:grpSpPr>
            <a:xfrm>
              <a:off x="1544400" y="2012760"/>
              <a:ext cx="866880" cy="816120"/>
              <a:chOff x="1544400" y="2012760"/>
              <a:chExt cx="866880" cy="816120"/>
            </a:xfrm>
          </p:grpSpPr>
          <p:sp>
            <p:nvSpPr>
              <p:cNvPr id="1148" name="Oval 162"/>
              <p:cNvSpPr/>
              <p:nvPr/>
            </p:nvSpPr>
            <p:spPr>
              <a:xfrm>
                <a:off x="1544400" y="2012760"/>
                <a:ext cx="866880" cy="81612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100000">
                    <a:srgbClr val="ff3399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49" name="Oval 163"/>
              <p:cNvSpPr/>
              <p:nvPr/>
            </p:nvSpPr>
            <p:spPr>
              <a:xfrm>
                <a:off x="1666800" y="2042280"/>
                <a:ext cx="614880" cy="41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50" name="Group 164"/>
            <p:cNvGrpSpPr/>
            <p:nvPr/>
          </p:nvGrpSpPr>
          <p:grpSpPr>
            <a:xfrm>
              <a:off x="2987640" y="5541840"/>
              <a:ext cx="866880" cy="815760"/>
              <a:chOff x="2987640" y="5541840"/>
              <a:chExt cx="866880" cy="815760"/>
            </a:xfrm>
          </p:grpSpPr>
          <p:sp>
            <p:nvSpPr>
              <p:cNvPr id="1151" name="Oval 165"/>
              <p:cNvSpPr/>
              <p:nvPr/>
            </p:nvSpPr>
            <p:spPr>
              <a:xfrm>
                <a:off x="2987640" y="5541840"/>
                <a:ext cx="866880" cy="81576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100000">
                    <a:srgbClr val="ff3399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52" name="Oval 166"/>
              <p:cNvSpPr/>
              <p:nvPr/>
            </p:nvSpPr>
            <p:spPr>
              <a:xfrm>
                <a:off x="3110040" y="5571360"/>
                <a:ext cx="614880" cy="41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53" name="Text Box 167"/>
            <p:cNvSpPr/>
            <p:nvPr/>
          </p:nvSpPr>
          <p:spPr>
            <a:xfrm>
              <a:off x="1620720" y="230184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4" name="Text Box 168"/>
            <p:cNvSpPr/>
            <p:nvPr/>
          </p:nvSpPr>
          <p:spPr>
            <a:xfrm>
              <a:off x="3060360" y="58528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5" name="Text Box 169"/>
            <p:cNvSpPr/>
            <p:nvPr/>
          </p:nvSpPr>
          <p:spPr>
            <a:xfrm>
              <a:off x="5221080" y="13888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56" name="Group 170"/>
            <p:cNvGrpSpPr/>
            <p:nvPr/>
          </p:nvGrpSpPr>
          <p:grpSpPr>
            <a:xfrm>
              <a:off x="6588000" y="1941480"/>
              <a:ext cx="873360" cy="861840"/>
              <a:chOff x="6588000" y="1941480"/>
              <a:chExt cx="873360" cy="861840"/>
            </a:xfrm>
          </p:grpSpPr>
          <p:sp>
            <p:nvSpPr>
              <p:cNvPr id="1157" name="Oval 171"/>
              <p:cNvSpPr/>
              <p:nvPr/>
            </p:nvSpPr>
            <p:spPr>
              <a:xfrm>
                <a:off x="6588000" y="1941480"/>
                <a:ext cx="873360" cy="861840"/>
              </a:xfrm>
              <a:prstGeom prst="ellipse">
                <a:avLst/>
              </a:prstGeom>
              <a:gradFill rotWithShape="0">
                <a:gsLst>
                  <a:gs pos="0">
                    <a:srgbClr val="ffefef"/>
                  </a:gs>
                  <a:gs pos="100000">
                    <a:srgbClr val="ffcccc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58" name="Oval 172"/>
              <p:cNvSpPr/>
              <p:nvPr/>
            </p:nvSpPr>
            <p:spPr>
              <a:xfrm>
                <a:off x="6711840" y="1972800"/>
                <a:ext cx="619200" cy="439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59" name="Group 173"/>
            <p:cNvGrpSpPr/>
            <p:nvPr/>
          </p:nvGrpSpPr>
          <p:grpSpPr>
            <a:xfrm>
              <a:off x="6732360" y="4821120"/>
              <a:ext cx="873360" cy="861840"/>
              <a:chOff x="6732360" y="4821120"/>
              <a:chExt cx="873360" cy="861840"/>
            </a:xfrm>
          </p:grpSpPr>
          <p:sp>
            <p:nvSpPr>
              <p:cNvPr id="1160" name="Oval 174"/>
              <p:cNvSpPr/>
              <p:nvPr/>
            </p:nvSpPr>
            <p:spPr>
              <a:xfrm>
                <a:off x="6732360" y="4821120"/>
                <a:ext cx="873360" cy="861840"/>
              </a:xfrm>
              <a:prstGeom prst="ellipse">
                <a:avLst/>
              </a:prstGeom>
              <a:gradFill rotWithShape="0">
                <a:gsLst>
                  <a:gs pos="0">
                    <a:srgbClr val="ffefef"/>
                  </a:gs>
                  <a:gs pos="100000">
                    <a:srgbClr val="ffcccc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61" name="Oval 175"/>
              <p:cNvSpPr/>
              <p:nvPr/>
            </p:nvSpPr>
            <p:spPr>
              <a:xfrm>
                <a:off x="6856200" y="4852440"/>
                <a:ext cx="619200" cy="439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62" name="Group 176"/>
            <p:cNvGrpSpPr/>
            <p:nvPr/>
          </p:nvGrpSpPr>
          <p:grpSpPr>
            <a:xfrm>
              <a:off x="1042920" y="3381120"/>
              <a:ext cx="873000" cy="862200"/>
              <a:chOff x="1042920" y="3381120"/>
              <a:chExt cx="873000" cy="862200"/>
            </a:xfrm>
          </p:grpSpPr>
          <p:sp>
            <p:nvSpPr>
              <p:cNvPr id="1163" name="Oval 177"/>
              <p:cNvSpPr/>
              <p:nvPr/>
            </p:nvSpPr>
            <p:spPr>
              <a:xfrm>
                <a:off x="1042920" y="3381120"/>
                <a:ext cx="873000" cy="862200"/>
              </a:xfrm>
              <a:prstGeom prst="ellipse">
                <a:avLst/>
              </a:prstGeom>
              <a:gradFill rotWithShape="0">
                <a:gsLst>
                  <a:gs pos="0">
                    <a:srgbClr val="ffefef"/>
                  </a:gs>
                  <a:gs pos="100000">
                    <a:srgbClr val="ffcccc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64" name="Oval 178"/>
              <p:cNvSpPr/>
              <p:nvPr/>
            </p:nvSpPr>
            <p:spPr>
              <a:xfrm>
                <a:off x="1166760" y="3412440"/>
                <a:ext cx="618840" cy="439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65" name="Text Box 179"/>
            <p:cNvSpPr/>
            <p:nvPr/>
          </p:nvSpPr>
          <p:spPr>
            <a:xfrm>
              <a:off x="6805440" y="513216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6" name="Text Box 180"/>
            <p:cNvSpPr/>
            <p:nvPr/>
          </p:nvSpPr>
          <p:spPr>
            <a:xfrm>
              <a:off x="6661080" y="222876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7" name="Text Box 181"/>
            <p:cNvSpPr/>
            <p:nvPr/>
          </p:nvSpPr>
          <p:spPr>
            <a:xfrm>
              <a:off x="1117440" y="36684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68" name="Group 182"/>
            <p:cNvGrpSpPr/>
            <p:nvPr/>
          </p:nvGrpSpPr>
          <p:grpSpPr>
            <a:xfrm>
              <a:off x="5437080" y="5506920"/>
              <a:ext cx="863640" cy="826920"/>
              <a:chOff x="5437080" y="5506920"/>
              <a:chExt cx="863640" cy="826920"/>
            </a:xfrm>
          </p:grpSpPr>
          <p:sp>
            <p:nvSpPr>
              <p:cNvPr id="1169" name="Oval 183"/>
              <p:cNvSpPr/>
              <p:nvPr/>
            </p:nvSpPr>
            <p:spPr>
              <a:xfrm>
                <a:off x="5437080" y="5506920"/>
                <a:ext cx="863640" cy="826920"/>
              </a:xfrm>
              <a:prstGeom prst="ellipse">
                <a:avLst/>
              </a:prstGeom>
              <a:gradFill rotWithShape="0">
                <a:gsLst>
                  <a:gs pos="0">
                    <a:srgbClr val="ff3399"/>
                  </a:gs>
                  <a:gs pos="100000">
                    <a:srgbClr val="ff9999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70" name="Oval 184"/>
              <p:cNvSpPr/>
              <p:nvPr/>
            </p:nvSpPr>
            <p:spPr>
              <a:xfrm>
                <a:off x="5559480" y="5536440"/>
                <a:ext cx="611640" cy="42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71" name="Group 185"/>
            <p:cNvGrpSpPr/>
            <p:nvPr/>
          </p:nvGrpSpPr>
          <p:grpSpPr>
            <a:xfrm>
              <a:off x="1834920" y="4965480"/>
              <a:ext cx="863640" cy="827280"/>
              <a:chOff x="1834920" y="4965480"/>
              <a:chExt cx="863640" cy="827280"/>
            </a:xfrm>
          </p:grpSpPr>
          <p:sp>
            <p:nvSpPr>
              <p:cNvPr id="1172" name="Oval 186"/>
              <p:cNvSpPr/>
              <p:nvPr/>
            </p:nvSpPr>
            <p:spPr>
              <a:xfrm>
                <a:off x="1834920" y="4965480"/>
                <a:ext cx="863640" cy="827280"/>
              </a:xfrm>
              <a:prstGeom prst="ellipse">
                <a:avLst/>
              </a:prstGeom>
              <a:gradFill rotWithShape="0">
                <a:gsLst>
                  <a:gs pos="0">
                    <a:srgbClr val="ff3399"/>
                  </a:gs>
                  <a:gs pos="100000">
                    <a:srgbClr val="ff9999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73" name="Oval 187"/>
              <p:cNvSpPr/>
              <p:nvPr/>
            </p:nvSpPr>
            <p:spPr>
              <a:xfrm>
                <a:off x="1957320" y="4995000"/>
                <a:ext cx="611640" cy="42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74" name="Text Box 188"/>
            <p:cNvSpPr/>
            <p:nvPr/>
          </p:nvSpPr>
          <p:spPr>
            <a:xfrm>
              <a:off x="5510160" y="58291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5" name="Text Box 189"/>
            <p:cNvSpPr/>
            <p:nvPr/>
          </p:nvSpPr>
          <p:spPr>
            <a:xfrm>
              <a:off x="1909440" y="52765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Group 473"/>
          <p:cNvGrpSpPr/>
          <p:nvPr/>
        </p:nvGrpSpPr>
        <p:grpSpPr>
          <a:xfrm>
            <a:off x="530280" y="1197000"/>
            <a:ext cx="8083080" cy="4757760"/>
            <a:chOff x="530280" y="1197000"/>
            <a:chExt cx="8083080" cy="4757760"/>
          </a:xfrm>
        </p:grpSpPr>
        <p:sp>
          <p:nvSpPr>
            <p:cNvPr id="1178" name="Rectangle 474"/>
            <p:cNvSpPr/>
            <p:nvPr/>
          </p:nvSpPr>
          <p:spPr>
            <a:xfrm>
              <a:off x="3419640" y="1197000"/>
              <a:ext cx="2232000" cy="1008000"/>
            </a:xfrm>
            <a:prstGeom prst="rect">
              <a:avLst/>
            </a:prstGeom>
            <a:gradFill rotWithShape="0">
              <a:gsLst>
                <a:gs pos="0">
                  <a:srgbClr val="ffeedd"/>
                </a:gs>
                <a:gs pos="50000">
                  <a:srgbClr val="ffcc99"/>
                </a:gs>
                <a:gs pos="100000">
                  <a:srgbClr val="ffeed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9" name="Rectangle 475"/>
            <p:cNvSpPr/>
            <p:nvPr/>
          </p:nvSpPr>
          <p:spPr>
            <a:xfrm>
              <a:off x="3492720" y="4942080"/>
              <a:ext cx="2232000" cy="1008000"/>
            </a:xfrm>
            <a:prstGeom prst="rect">
              <a:avLst/>
            </a:prstGeom>
            <a:gradFill rotWithShape="0">
              <a:gsLst>
                <a:gs pos="0">
                  <a:srgbClr val="ffeedd"/>
                </a:gs>
                <a:gs pos="50000">
                  <a:srgbClr val="ffcc99"/>
                </a:gs>
                <a:gs pos="100000">
                  <a:srgbClr val="ffeed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0" name="Rectangle 476"/>
            <p:cNvSpPr/>
            <p:nvPr/>
          </p:nvSpPr>
          <p:spPr>
            <a:xfrm>
              <a:off x="539640" y="4942080"/>
              <a:ext cx="2232360" cy="1008000"/>
            </a:xfrm>
            <a:prstGeom prst="rect">
              <a:avLst/>
            </a:prstGeom>
            <a:gradFill rotWithShape="0">
              <a:gsLst>
                <a:gs pos="0">
                  <a:srgbClr val="ffeedd"/>
                </a:gs>
                <a:gs pos="50000">
                  <a:srgbClr val="ffcc99"/>
                </a:gs>
                <a:gs pos="100000">
                  <a:srgbClr val="ffeed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1" name="Rectangle 477"/>
            <p:cNvSpPr/>
            <p:nvPr/>
          </p:nvSpPr>
          <p:spPr>
            <a:xfrm>
              <a:off x="4932360" y="3070080"/>
              <a:ext cx="2232000" cy="1008360"/>
            </a:xfrm>
            <a:prstGeom prst="rect">
              <a:avLst/>
            </a:prstGeom>
            <a:gradFill rotWithShape="0">
              <a:gsLst>
                <a:gs pos="0">
                  <a:srgbClr val="ffeedd"/>
                </a:gs>
                <a:gs pos="50000">
                  <a:srgbClr val="ffcc99"/>
                </a:gs>
                <a:gs pos="100000">
                  <a:srgbClr val="ffeedd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2" name="Rectangle 478"/>
            <p:cNvSpPr/>
            <p:nvPr/>
          </p:nvSpPr>
          <p:spPr>
            <a:xfrm>
              <a:off x="1979640" y="3070080"/>
              <a:ext cx="2232000" cy="1008360"/>
            </a:xfrm>
            <a:prstGeom prst="rect">
              <a:avLst/>
            </a:prstGeom>
            <a:gradFill rotWithShape="0">
              <a:gsLst>
                <a:gs pos="0">
                  <a:srgbClr val="ffedfe"/>
                </a:gs>
                <a:gs pos="50000">
                  <a:srgbClr val="fecefc"/>
                </a:gs>
                <a:gs pos="100000">
                  <a:srgbClr val="ffedfe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3" name="Rectangle 479"/>
            <p:cNvSpPr/>
            <p:nvPr/>
          </p:nvSpPr>
          <p:spPr>
            <a:xfrm>
              <a:off x="6372360" y="4942080"/>
              <a:ext cx="2232000" cy="1008000"/>
            </a:xfrm>
            <a:prstGeom prst="rect">
              <a:avLst/>
            </a:prstGeom>
            <a:gradFill rotWithShape="0">
              <a:gsLst>
                <a:gs pos="0">
                  <a:srgbClr val="e0f0ff"/>
                </a:gs>
                <a:gs pos="50000">
                  <a:srgbClr val="99ccff"/>
                </a:gs>
                <a:gs pos="100000">
                  <a:srgbClr val="e0f0ff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4" name="Line 480"/>
            <p:cNvSpPr/>
            <p:nvPr/>
          </p:nvSpPr>
          <p:spPr>
            <a:xfrm>
              <a:off x="4533840" y="2205000"/>
              <a:ext cx="0" cy="43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5" name="Line 481"/>
            <p:cNvSpPr/>
            <p:nvPr/>
          </p:nvSpPr>
          <p:spPr>
            <a:xfrm flipH="1">
              <a:off x="3132000" y="2638440"/>
              <a:ext cx="287964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6" name="Line 482"/>
            <p:cNvSpPr/>
            <p:nvPr/>
          </p:nvSpPr>
          <p:spPr>
            <a:xfrm>
              <a:off x="3132360" y="2638440"/>
              <a:ext cx="0" cy="43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7" name="Line 483"/>
            <p:cNvSpPr/>
            <p:nvPr/>
          </p:nvSpPr>
          <p:spPr>
            <a:xfrm>
              <a:off x="6012000" y="2638440"/>
              <a:ext cx="0" cy="43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8" name="Line 484"/>
            <p:cNvSpPr/>
            <p:nvPr/>
          </p:nvSpPr>
          <p:spPr>
            <a:xfrm>
              <a:off x="3132360" y="4078440"/>
              <a:ext cx="0" cy="43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9" name="Line 485"/>
            <p:cNvSpPr/>
            <p:nvPr/>
          </p:nvSpPr>
          <p:spPr>
            <a:xfrm flipH="1">
              <a:off x="1619280" y="4510080"/>
              <a:ext cx="5905440" cy="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0" name="Line 486"/>
            <p:cNvSpPr/>
            <p:nvPr/>
          </p:nvSpPr>
          <p:spPr>
            <a:xfrm>
              <a:off x="6012000" y="4078440"/>
              <a:ext cx="0" cy="43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1" name="Line 487"/>
            <p:cNvSpPr/>
            <p:nvPr/>
          </p:nvSpPr>
          <p:spPr>
            <a:xfrm>
              <a:off x="1619280" y="4510080"/>
              <a:ext cx="0" cy="43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2" name="Line 488"/>
            <p:cNvSpPr/>
            <p:nvPr/>
          </p:nvSpPr>
          <p:spPr>
            <a:xfrm>
              <a:off x="4572000" y="4510080"/>
              <a:ext cx="0" cy="43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3" name="Line 489"/>
            <p:cNvSpPr/>
            <p:nvPr/>
          </p:nvSpPr>
          <p:spPr>
            <a:xfrm>
              <a:off x="7524720" y="4510080"/>
              <a:ext cx="0" cy="43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194" name="Group 490"/>
            <p:cNvGrpSpPr/>
            <p:nvPr/>
          </p:nvGrpSpPr>
          <p:grpSpPr>
            <a:xfrm>
              <a:off x="530280" y="4942080"/>
              <a:ext cx="2241360" cy="1012680"/>
              <a:chOff x="530280" y="4942080"/>
              <a:chExt cx="2241360" cy="1012680"/>
            </a:xfrm>
          </p:grpSpPr>
          <p:sp>
            <p:nvSpPr>
              <p:cNvPr id="1195" name="Freeform 491"/>
              <p:cNvSpPr/>
              <p:nvPr/>
            </p:nvSpPr>
            <p:spPr>
              <a:xfrm>
                <a:off x="531720" y="4942080"/>
                <a:ext cx="12708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96" name="Freeform 492"/>
              <p:cNvSpPr/>
              <p:nvPr/>
            </p:nvSpPr>
            <p:spPr>
              <a:xfrm>
                <a:off x="530280" y="5815080"/>
                <a:ext cx="223992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97" name="Freeform 493"/>
              <p:cNvSpPr/>
              <p:nvPr/>
            </p:nvSpPr>
            <p:spPr>
              <a:xfrm rot="10800000">
                <a:off x="531360" y="4942080"/>
                <a:ext cx="224028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98" name="Freeform 494"/>
              <p:cNvSpPr/>
              <p:nvPr/>
            </p:nvSpPr>
            <p:spPr>
              <a:xfrm flipH="1">
                <a:off x="2636280" y="4942080"/>
                <a:ext cx="12852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99" name="Rectangle 495"/>
              <p:cNvSpPr/>
              <p:nvPr/>
            </p:nvSpPr>
            <p:spPr>
              <a:xfrm>
                <a:off x="658800" y="5069160"/>
                <a:ext cx="1978200" cy="7556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0" name="Text Box 496"/>
              <p:cNvSpPr/>
              <p:nvPr/>
            </p:nvSpPr>
            <p:spPr>
              <a:xfrm>
                <a:off x="901440" y="530244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1" name="Rectangle 497"/>
              <p:cNvSpPr/>
              <p:nvPr/>
            </p:nvSpPr>
            <p:spPr>
              <a:xfrm>
                <a:off x="755640" y="5158080"/>
                <a:ext cx="1800360" cy="288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02" name="Group 498"/>
            <p:cNvGrpSpPr/>
            <p:nvPr/>
          </p:nvGrpSpPr>
          <p:grpSpPr>
            <a:xfrm>
              <a:off x="3483000" y="4942080"/>
              <a:ext cx="2241360" cy="1012680"/>
              <a:chOff x="3483000" y="4942080"/>
              <a:chExt cx="2241360" cy="1012680"/>
            </a:xfrm>
          </p:grpSpPr>
          <p:sp>
            <p:nvSpPr>
              <p:cNvPr id="1203" name="Freeform 499"/>
              <p:cNvSpPr/>
              <p:nvPr/>
            </p:nvSpPr>
            <p:spPr>
              <a:xfrm>
                <a:off x="3484440" y="4942080"/>
                <a:ext cx="12708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4" name="Freeform 500"/>
              <p:cNvSpPr/>
              <p:nvPr/>
            </p:nvSpPr>
            <p:spPr>
              <a:xfrm>
                <a:off x="3483000" y="5815080"/>
                <a:ext cx="223992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5" name="Freeform 501"/>
              <p:cNvSpPr/>
              <p:nvPr/>
            </p:nvSpPr>
            <p:spPr>
              <a:xfrm rot="10800000">
                <a:off x="3484080" y="4942080"/>
                <a:ext cx="224028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6" name="Freeform 502"/>
              <p:cNvSpPr/>
              <p:nvPr/>
            </p:nvSpPr>
            <p:spPr>
              <a:xfrm flipH="1">
                <a:off x="5589000" y="4942080"/>
                <a:ext cx="12852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7" name="Rectangle 503"/>
              <p:cNvSpPr/>
              <p:nvPr/>
            </p:nvSpPr>
            <p:spPr>
              <a:xfrm>
                <a:off x="3611520" y="5069160"/>
                <a:ext cx="1978200" cy="7556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8" name="Text Box 504"/>
              <p:cNvSpPr/>
              <p:nvPr/>
            </p:nvSpPr>
            <p:spPr>
              <a:xfrm>
                <a:off x="3854160" y="530244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9" name="Rectangle 505"/>
              <p:cNvSpPr/>
              <p:nvPr/>
            </p:nvSpPr>
            <p:spPr>
              <a:xfrm>
                <a:off x="3708360" y="5158080"/>
                <a:ext cx="1800360" cy="288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10" name="Group 506"/>
            <p:cNvGrpSpPr/>
            <p:nvPr/>
          </p:nvGrpSpPr>
          <p:grpSpPr>
            <a:xfrm>
              <a:off x="6372360" y="4942080"/>
              <a:ext cx="2241000" cy="1012680"/>
              <a:chOff x="6372360" y="4942080"/>
              <a:chExt cx="2241000" cy="1012680"/>
            </a:xfrm>
          </p:grpSpPr>
          <p:sp>
            <p:nvSpPr>
              <p:cNvPr id="1211" name="Freeform 507"/>
              <p:cNvSpPr/>
              <p:nvPr/>
            </p:nvSpPr>
            <p:spPr>
              <a:xfrm>
                <a:off x="6373440" y="4942080"/>
                <a:ext cx="12672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99ccff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2" name="Freeform 508"/>
              <p:cNvSpPr/>
              <p:nvPr/>
            </p:nvSpPr>
            <p:spPr>
              <a:xfrm>
                <a:off x="6372360" y="5815080"/>
                <a:ext cx="223956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99ccff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3" name="Freeform 509"/>
              <p:cNvSpPr/>
              <p:nvPr/>
            </p:nvSpPr>
            <p:spPr>
              <a:xfrm rot="10800000">
                <a:off x="6373440" y="4942080"/>
                <a:ext cx="223992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99ccff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4" name="Freeform 510"/>
              <p:cNvSpPr/>
              <p:nvPr/>
            </p:nvSpPr>
            <p:spPr>
              <a:xfrm flipH="1">
                <a:off x="8478720" y="4942080"/>
                <a:ext cx="12816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99ccff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5" name="Rectangle 511"/>
              <p:cNvSpPr/>
              <p:nvPr/>
            </p:nvSpPr>
            <p:spPr>
              <a:xfrm>
                <a:off x="6500520" y="5069160"/>
                <a:ext cx="1977840" cy="755640"/>
              </a:xfrm>
              <a:prstGeom prst="rect">
                <a:avLst/>
              </a:prstGeom>
              <a:solidFill>
                <a:srgbClr val="99ccff">
                  <a:alpha val="3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6" name="Text Box 512"/>
              <p:cNvSpPr/>
              <p:nvPr/>
            </p:nvSpPr>
            <p:spPr>
              <a:xfrm>
                <a:off x="6743160" y="530244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7" name="Rectangle 513"/>
              <p:cNvSpPr/>
              <p:nvPr/>
            </p:nvSpPr>
            <p:spPr>
              <a:xfrm>
                <a:off x="6597360" y="5158080"/>
                <a:ext cx="1800000" cy="288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18" name="Group 514"/>
            <p:cNvGrpSpPr/>
            <p:nvPr/>
          </p:nvGrpSpPr>
          <p:grpSpPr>
            <a:xfrm>
              <a:off x="1979640" y="3070080"/>
              <a:ext cx="2241360" cy="1012680"/>
              <a:chOff x="1979640" y="3070080"/>
              <a:chExt cx="2241360" cy="1012680"/>
            </a:xfrm>
          </p:grpSpPr>
          <p:sp>
            <p:nvSpPr>
              <p:cNvPr id="1219" name="Freeform 515"/>
              <p:cNvSpPr/>
              <p:nvPr/>
            </p:nvSpPr>
            <p:spPr>
              <a:xfrm>
                <a:off x="1981080" y="3070080"/>
                <a:ext cx="12708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ecefc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0" name="Freeform 516"/>
              <p:cNvSpPr/>
              <p:nvPr/>
            </p:nvSpPr>
            <p:spPr>
              <a:xfrm>
                <a:off x="1979640" y="3943080"/>
                <a:ext cx="223992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ecefc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1" name="Freeform 517"/>
              <p:cNvSpPr/>
              <p:nvPr/>
            </p:nvSpPr>
            <p:spPr>
              <a:xfrm rot="10800000">
                <a:off x="1980720" y="3070080"/>
                <a:ext cx="224028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ecefc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2" name="Freeform 518"/>
              <p:cNvSpPr/>
              <p:nvPr/>
            </p:nvSpPr>
            <p:spPr>
              <a:xfrm flipH="1">
                <a:off x="4085640" y="3070080"/>
                <a:ext cx="12852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ecefc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3" name="Rectangle 519"/>
              <p:cNvSpPr/>
              <p:nvPr/>
            </p:nvSpPr>
            <p:spPr>
              <a:xfrm>
                <a:off x="2108160" y="3197160"/>
                <a:ext cx="1978200" cy="755640"/>
              </a:xfrm>
              <a:prstGeom prst="rect">
                <a:avLst/>
              </a:prstGeom>
              <a:solidFill>
                <a:srgbClr val="fecefc">
                  <a:alpha val="3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4" name="Text Box 520"/>
              <p:cNvSpPr/>
              <p:nvPr/>
            </p:nvSpPr>
            <p:spPr>
              <a:xfrm>
                <a:off x="2350800" y="343044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5" name="Rectangle 521"/>
              <p:cNvSpPr/>
              <p:nvPr/>
            </p:nvSpPr>
            <p:spPr>
              <a:xfrm>
                <a:off x="2205000" y="3286080"/>
                <a:ext cx="1800360" cy="288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26" name="Group 522"/>
            <p:cNvGrpSpPr/>
            <p:nvPr/>
          </p:nvGrpSpPr>
          <p:grpSpPr>
            <a:xfrm>
              <a:off x="4923000" y="3070080"/>
              <a:ext cx="2241000" cy="1012680"/>
              <a:chOff x="4923000" y="3070080"/>
              <a:chExt cx="2241000" cy="1012680"/>
            </a:xfrm>
          </p:grpSpPr>
          <p:sp>
            <p:nvSpPr>
              <p:cNvPr id="1227" name="Freeform 523"/>
              <p:cNvSpPr/>
              <p:nvPr/>
            </p:nvSpPr>
            <p:spPr>
              <a:xfrm>
                <a:off x="4924080" y="3070080"/>
                <a:ext cx="12672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8" name="Freeform 524"/>
              <p:cNvSpPr/>
              <p:nvPr/>
            </p:nvSpPr>
            <p:spPr>
              <a:xfrm>
                <a:off x="4923000" y="3943080"/>
                <a:ext cx="223956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9" name="Freeform 525"/>
              <p:cNvSpPr/>
              <p:nvPr/>
            </p:nvSpPr>
            <p:spPr>
              <a:xfrm rot="10800000">
                <a:off x="4924080" y="3070080"/>
                <a:ext cx="223992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0" name="Freeform 526"/>
              <p:cNvSpPr/>
              <p:nvPr/>
            </p:nvSpPr>
            <p:spPr>
              <a:xfrm flipH="1">
                <a:off x="7029360" y="3070080"/>
                <a:ext cx="12816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1" name="Rectangle 527"/>
              <p:cNvSpPr/>
              <p:nvPr/>
            </p:nvSpPr>
            <p:spPr>
              <a:xfrm>
                <a:off x="5051160" y="3197160"/>
                <a:ext cx="1977840" cy="7556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2" name="Text Box 528"/>
              <p:cNvSpPr/>
              <p:nvPr/>
            </p:nvSpPr>
            <p:spPr>
              <a:xfrm>
                <a:off x="5293800" y="343044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3" name="Rectangle 529"/>
              <p:cNvSpPr/>
              <p:nvPr/>
            </p:nvSpPr>
            <p:spPr>
              <a:xfrm>
                <a:off x="5148000" y="3286080"/>
                <a:ext cx="1800000" cy="288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34" name="Group 530"/>
            <p:cNvGrpSpPr/>
            <p:nvPr/>
          </p:nvGrpSpPr>
          <p:grpSpPr>
            <a:xfrm>
              <a:off x="3409920" y="1197000"/>
              <a:ext cx="2241360" cy="1012680"/>
              <a:chOff x="3409920" y="1197000"/>
              <a:chExt cx="2241360" cy="1012680"/>
            </a:xfrm>
          </p:grpSpPr>
          <p:sp>
            <p:nvSpPr>
              <p:cNvPr id="1235" name="Freeform 531"/>
              <p:cNvSpPr/>
              <p:nvPr/>
            </p:nvSpPr>
            <p:spPr>
              <a:xfrm>
                <a:off x="3411360" y="1197000"/>
                <a:ext cx="12708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6" name="Freeform 532"/>
              <p:cNvSpPr/>
              <p:nvPr/>
            </p:nvSpPr>
            <p:spPr>
              <a:xfrm>
                <a:off x="3409920" y="2070000"/>
                <a:ext cx="223992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7" name="Freeform 533"/>
              <p:cNvSpPr/>
              <p:nvPr/>
            </p:nvSpPr>
            <p:spPr>
              <a:xfrm rot="10800000">
                <a:off x="3411000" y="1196640"/>
                <a:ext cx="2240280" cy="139680"/>
              </a:xfrm>
              <a:custGeom>
                <a:avLst/>
                <a:gdLst/>
                <a:ahLst/>
                <a:rect l="l" t="t" r="r" b="b"/>
                <a:pathLst>
                  <a:path w="1593" h="100">
                    <a:moveTo>
                      <a:pt x="0" y="99"/>
                    </a:moveTo>
                    <a:lnTo>
                      <a:pt x="89" y="4"/>
                    </a:lnTo>
                    <a:lnTo>
                      <a:pt x="1485" y="0"/>
                    </a:lnTo>
                    <a:lnTo>
                      <a:pt x="1593" y="10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8" name="Freeform 534"/>
              <p:cNvSpPr/>
              <p:nvPr/>
            </p:nvSpPr>
            <p:spPr>
              <a:xfrm flipH="1">
                <a:off x="5515920" y="1197000"/>
                <a:ext cx="128520" cy="1009800"/>
              </a:xfrm>
              <a:custGeom>
                <a:avLst/>
                <a:gdLst/>
                <a:ahLst/>
                <a:rect l="l" t="t" r="r" b="b"/>
                <a:pathLst>
                  <a:path w="91" h="726">
                    <a:moveTo>
                      <a:pt x="0" y="726"/>
                    </a:moveTo>
                    <a:lnTo>
                      <a:pt x="91" y="635"/>
                    </a:lnTo>
                    <a:lnTo>
                      <a:pt x="91" y="91"/>
                    </a:lnTo>
                    <a:lnTo>
                      <a:pt x="0" y="0"/>
                    </a:lnTo>
                    <a:lnTo>
                      <a:pt x="0" y="72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25560">
                <a:solidFill>
                  <a:srgbClr val="ffffff"/>
                </a:solidFill>
                <a:bevel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9" name="Rectangle 535"/>
              <p:cNvSpPr/>
              <p:nvPr/>
            </p:nvSpPr>
            <p:spPr>
              <a:xfrm>
                <a:off x="3538440" y="1324080"/>
                <a:ext cx="1978200" cy="7556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0" name="Text Box 536"/>
              <p:cNvSpPr/>
              <p:nvPr/>
            </p:nvSpPr>
            <p:spPr>
              <a:xfrm>
                <a:off x="3781080" y="1557360"/>
                <a:ext cx="1463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1" name="Rectangle 537"/>
              <p:cNvSpPr/>
              <p:nvPr/>
            </p:nvSpPr>
            <p:spPr>
              <a:xfrm>
                <a:off x="3635280" y="1413000"/>
                <a:ext cx="1800360" cy="288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Group 178"/>
          <p:cNvGrpSpPr/>
          <p:nvPr/>
        </p:nvGrpSpPr>
        <p:grpSpPr>
          <a:xfrm>
            <a:off x="1619280" y="1341360"/>
            <a:ext cx="5929200" cy="4886280"/>
            <a:chOff x="1619280" y="1341360"/>
            <a:chExt cx="5929200" cy="4886280"/>
          </a:xfrm>
        </p:grpSpPr>
        <p:sp>
          <p:nvSpPr>
            <p:cNvPr id="1244" name="AutoShape 179"/>
            <p:cNvSpPr/>
            <p:nvPr/>
          </p:nvSpPr>
          <p:spPr>
            <a:xfrm>
              <a:off x="2206800" y="1341360"/>
              <a:ext cx="4887720" cy="4886280"/>
            </a:xfrm>
            <a:custGeom>
              <a:avLst/>
              <a:gdLst>
                <a:gd name="textAreaLeft" fmla="*/ 715680 w 4887720"/>
                <a:gd name="textAreaRight" fmla="*/ 4172040 w 4887720"/>
                <a:gd name="textAreaTop" fmla="*/ 715680 h 4886280"/>
                <a:gd name="textAreaBottom" fmla="*/ 4170600 h 48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5" name="AutoShape 180"/>
            <p:cNvSpPr/>
            <p:nvPr/>
          </p:nvSpPr>
          <p:spPr>
            <a:xfrm>
              <a:off x="3791160" y="1795320"/>
              <a:ext cx="171108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efef"/>
                </a:gs>
                <a:gs pos="100000">
                  <a:srgbClr val="ff999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6" name="Line 181"/>
            <p:cNvSpPr/>
            <p:nvPr/>
          </p:nvSpPr>
          <p:spPr>
            <a:xfrm flipH="1">
              <a:off x="4629240" y="2511720"/>
              <a:ext cx="1440" cy="253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7" name="Line 182"/>
            <p:cNvSpPr/>
            <p:nvPr/>
          </p:nvSpPr>
          <p:spPr>
            <a:xfrm flipH="1">
              <a:off x="5201640" y="2942280"/>
              <a:ext cx="223920" cy="11736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8" name="Line 183"/>
            <p:cNvSpPr/>
            <p:nvPr/>
          </p:nvSpPr>
          <p:spPr>
            <a:xfrm flipH="1" flipV="1">
              <a:off x="5464080" y="3458880"/>
              <a:ext cx="235440" cy="9180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9" name="Line 184"/>
            <p:cNvSpPr/>
            <p:nvPr/>
          </p:nvSpPr>
          <p:spPr>
            <a:xfrm>
              <a:off x="3501360" y="3900240"/>
              <a:ext cx="252000" cy="212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0" name="Line 185"/>
            <p:cNvSpPr/>
            <p:nvPr/>
          </p:nvSpPr>
          <p:spPr>
            <a:xfrm flipV="1">
              <a:off x="3815280" y="4326840"/>
              <a:ext cx="218160" cy="12816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1" name="Line 186"/>
            <p:cNvSpPr/>
            <p:nvPr/>
          </p:nvSpPr>
          <p:spPr>
            <a:xfrm flipV="1">
              <a:off x="4577760" y="4866120"/>
              <a:ext cx="18720" cy="25236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2" name="AutoShape 187"/>
            <p:cNvSpPr/>
            <p:nvPr/>
          </p:nvSpPr>
          <p:spPr>
            <a:xfrm>
              <a:off x="3722760" y="5290920"/>
              <a:ext cx="1724040" cy="48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339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3" name="AutoShape 188"/>
            <p:cNvSpPr/>
            <p:nvPr/>
          </p:nvSpPr>
          <p:spPr>
            <a:xfrm>
              <a:off x="1979640" y="4408560"/>
              <a:ext cx="172404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339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4" name="AutoShape 189"/>
            <p:cNvSpPr/>
            <p:nvPr/>
          </p:nvSpPr>
          <p:spPr>
            <a:xfrm>
              <a:off x="1619280" y="3612960"/>
              <a:ext cx="172404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339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5" name="AutoShape 190"/>
            <p:cNvSpPr/>
            <p:nvPr/>
          </p:nvSpPr>
          <p:spPr>
            <a:xfrm>
              <a:off x="5559480" y="2476440"/>
              <a:ext cx="171288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efef"/>
                </a:gs>
                <a:gs pos="100000">
                  <a:srgbClr val="ff999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6" name="AutoShape 191"/>
            <p:cNvSpPr/>
            <p:nvPr/>
          </p:nvSpPr>
          <p:spPr>
            <a:xfrm>
              <a:off x="5835600" y="3473280"/>
              <a:ext cx="171288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efef"/>
                </a:gs>
                <a:gs pos="100000">
                  <a:srgbClr val="ff999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uli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257" name="Picture 192" descr="earth"/>
            <p:cNvPicPr/>
            <p:nvPr/>
          </p:nvPicPr>
          <p:blipFill>
            <a:blip r:embed="rId1"/>
            <a:stretch/>
          </p:blipFill>
          <p:spPr>
            <a:xfrm>
              <a:off x="3811680" y="2916000"/>
              <a:ext cx="1623960" cy="19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9" name="Group 87"/>
          <p:cNvGrpSpPr/>
          <p:nvPr/>
        </p:nvGrpSpPr>
        <p:grpSpPr>
          <a:xfrm>
            <a:off x="900000" y="2073240"/>
            <a:ext cx="7414920" cy="3516120"/>
            <a:chOff x="900000" y="2073240"/>
            <a:chExt cx="7414920" cy="3516120"/>
          </a:xfrm>
        </p:grpSpPr>
        <p:pic>
          <p:nvPicPr>
            <p:cNvPr id="1260" name="Picture 66" descr="one_5"/>
            <p:cNvPicPr/>
            <p:nvPr/>
          </p:nvPicPr>
          <p:blipFill>
            <a:blip r:embed="rId1"/>
            <a:stretch/>
          </p:blipFill>
          <p:spPr>
            <a:xfrm>
              <a:off x="6013080" y="3479760"/>
              <a:ext cx="2301840" cy="5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Picture 67" descr="one_6"/>
            <p:cNvPicPr/>
            <p:nvPr/>
          </p:nvPicPr>
          <p:blipFill>
            <a:blip r:embed="rId2"/>
            <a:stretch/>
          </p:blipFill>
          <p:spPr>
            <a:xfrm>
              <a:off x="5513040" y="4992120"/>
              <a:ext cx="2291400" cy="59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Picture 68" descr="one_4"/>
            <p:cNvPicPr/>
            <p:nvPr/>
          </p:nvPicPr>
          <p:blipFill>
            <a:blip r:embed="rId3"/>
            <a:stretch/>
          </p:blipFill>
          <p:spPr>
            <a:xfrm>
              <a:off x="5566680" y="2073240"/>
              <a:ext cx="2302560" cy="58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3" name="Group 69"/>
            <p:cNvGrpSpPr/>
            <p:nvPr/>
          </p:nvGrpSpPr>
          <p:grpSpPr>
            <a:xfrm>
              <a:off x="3263040" y="2666520"/>
              <a:ext cx="2668320" cy="2318040"/>
              <a:chOff x="3263040" y="2666520"/>
              <a:chExt cx="2668320" cy="2318040"/>
            </a:xfrm>
          </p:grpSpPr>
          <p:pic>
            <p:nvPicPr>
              <p:cNvPr id="1264" name="Picture 70" descr="pp1"/>
              <p:cNvPicPr/>
              <p:nvPr/>
            </p:nvPicPr>
            <p:blipFill>
              <a:blip r:embed="rId4"/>
              <a:stretch/>
            </p:blipFill>
            <p:spPr>
              <a:xfrm>
                <a:off x="3669480" y="2839680"/>
                <a:ext cx="1879560" cy="187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5" name="AutoShape 71"/>
              <p:cNvSpPr/>
              <p:nvPr/>
            </p:nvSpPr>
            <p:spPr>
              <a:xfrm rot="18778200">
                <a:off x="3645000" y="2712600"/>
                <a:ext cx="317160" cy="443880"/>
              </a:xfrm>
              <a:prstGeom prst="upArrow">
                <a:avLst>
                  <a:gd name="adj1" fmla="val 80000"/>
                  <a:gd name="adj2" fmla="val 52483"/>
                </a:avLst>
              </a:prstGeom>
              <a:gradFill rotWithShape="0">
                <a:gsLst>
                  <a:gs pos="0">
                    <a:srgbClr val="cccc00"/>
                  </a:gs>
                  <a:gs pos="100000">
                    <a:srgbClr val="f0f0b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6" name="AutoShape 72"/>
              <p:cNvSpPr/>
              <p:nvPr/>
            </p:nvSpPr>
            <p:spPr>
              <a:xfrm rot="2744400">
                <a:off x="5231520" y="2712960"/>
                <a:ext cx="317160" cy="443880"/>
              </a:xfrm>
              <a:prstGeom prst="upArrow">
                <a:avLst>
                  <a:gd name="adj1" fmla="val 80000"/>
                  <a:gd name="adj2" fmla="val 52483"/>
                </a:avLst>
              </a:prstGeom>
              <a:gradFill rotWithShape="0">
                <a:gsLst>
                  <a:gs pos="0">
                    <a:srgbClr val="ebeb9b"/>
                  </a:gs>
                  <a:gs pos="100000">
                    <a:srgbClr val="cc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7" name="AutoShape 73"/>
              <p:cNvSpPr/>
              <p:nvPr/>
            </p:nvSpPr>
            <p:spPr>
              <a:xfrm rot="16247400">
                <a:off x="3328200" y="3601080"/>
                <a:ext cx="317520" cy="443880"/>
              </a:xfrm>
              <a:prstGeom prst="upArrow">
                <a:avLst>
                  <a:gd name="adj1" fmla="val 80000"/>
                  <a:gd name="adj2" fmla="val 52423"/>
                </a:avLst>
              </a:prstGeom>
              <a:gradFill rotWithShape="0">
                <a:gsLst>
                  <a:gs pos="0">
                    <a:srgbClr val="cccc00"/>
                  </a:gs>
                  <a:gs pos="100000">
                    <a:srgbClr val="f1f1b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8" name="AutoShape 74"/>
              <p:cNvSpPr/>
              <p:nvPr/>
            </p:nvSpPr>
            <p:spPr>
              <a:xfrm rot="12940800">
                <a:off x="3709080" y="4489560"/>
                <a:ext cx="316800" cy="444240"/>
              </a:xfrm>
              <a:prstGeom prst="upArrow">
                <a:avLst>
                  <a:gd name="adj1" fmla="val 80000"/>
                  <a:gd name="adj2" fmla="val 52585"/>
                </a:avLst>
              </a:prstGeom>
              <a:gradFill rotWithShape="0">
                <a:gsLst>
                  <a:gs pos="0">
                    <a:srgbClr val="cccc00"/>
                  </a:gs>
                  <a:gs pos="100000">
                    <a:srgbClr val="f0f0b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9" name="AutoShape 75"/>
              <p:cNvSpPr/>
              <p:nvPr/>
            </p:nvSpPr>
            <p:spPr>
              <a:xfrm rot="8539800">
                <a:off x="5168160" y="4489200"/>
                <a:ext cx="316800" cy="444240"/>
              </a:xfrm>
              <a:prstGeom prst="upArrow">
                <a:avLst>
                  <a:gd name="adj1" fmla="val 80000"/>
                  <a:gd name="adj2" fmla="val 52585"/>
                </a:avLst>
              </a:prstGeom>
              <a:gradFill rotWithShape="0">
                <a:gsLst>
                  <a:gs pos="0">
                    <a:srgbClr val="eeeeaa"/>
                  </a:gs>
                  <a:gs pos="100000">
                    <a:srgbClr val="cccc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0" name="AutoShape 76"/>
              <p:cNvSpPr/>
              <p:nvPr/>
            </p:nvSpPr>
            <p:spPr>
              <a:xfrm rot="5448000">
                <a:off x="5548320" y="3538080"/>
                <a:ext cx="317160" cy="443880"/>
              </a:xfrm>
              <a:prstGeom prst="upArrow">
                <a:avLst>
                  <a:gd name="adj1" fmla="val 80000"/>
                  <a:gd name="adj2" fmla="val 52483"/>
                </a:avLst>
              </a:prstGeom>
              <a:gradFill rotWithShape="0">
                <a:gsLst>
                  <a:gs pos="0">
                    <a:srgbClr val="ebeb9b"/>
                  </a:gs>
                  <a:gs pos="100000">
                    <a:srgbClr val="cc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71" name="Text Box 77"/>
            <p:cNvSpPr/>
            <p:nvPr/>
          </p:nvSpPr>
          <p:spPr>
            <a:xfrm>
              <a:off x="5630040" y="2136240"/>
              <a:ext cx="21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Gulim"/>
                </a:rPr>
                <a:t>Test Here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2" name="Text Box 78"/>
            <p:cNvSpPr/>
            <p:nvPr/>
          </p:nvSpPr>
          <p:spPr>
            <a:xfrm>
              <a:off x="4215600" y="3557160"/>
              <a:ext cx="84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Gulim"/>
                </a:rPr>
                <a:t>Text</a:t>
              </a:r>
              <a:endParaRPr b="0" lang="en-US" sz="2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273" name="Picture 79" descr="one_4"/>
            <p:cNvPicPr/>
            <p:nvPr/>
          </p:nvPicPr>
          <p:blipFill>
            <a:blip r:embed="rId5"/>
            <a:stretch/>
          </p:blipFill>
          <p:spPr>
            <a:xfrm>
              <a:off x="1411560" y="2073240"/>
              <a:ext cx="23025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Text Box 80"/>
            <p:cNvSpPr/>
            <p:nvPr/>
          </p:nvSpPr>
          <p:spPr>
            <a:xfrm>
              <a:off x="1474920" y="2136240"/>
              <a:ext cx="21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Gulim"/>
                </a:rPr>
                <a:t>Test Here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275" name="Picture 81" descr="one_5"/>
            <p:cNvPicPr/>
            <p:nvPr/>
          </p:nvPicPr>
          <p:blipFill>
            <a:blip r:embed="rId6"/>
            <a:stretch/>
          </p:blipFill>
          <p:spPr>
            <a:xfrm>
              <a:off x="900000" y="3479760"/>
              <a:ext cx="2301480" cy="5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Picture 82" descr="one_6"/>
            <p:cNvPicPr/>
            <p:nvPr/>
          </p:nvPicPr>
          <p:blipFill>
            <a:blip r:embed="rId7"/>
            <a:stretch/>
          </p:blipFill>
          <p:spPr>
            <a:xfrm>
              <a:off x="1411560" y="4949640"/>
              <a:ext cx="2291400" cy="5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Text Box 83"/>
            <p:cNvSpPr/>
            <p:nvPr/>
          </p:nvSpPr>
          <p:spPr>
            <a:xfrm>
              <a:off x="961920" y="3543120"/>
              <a:ext cx="21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Gulim"/>
                </a:rPr>
                <a:t>Test Here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8" name="Text Box 84"/>
            <p:cNvSpPr/>
            <p:nvPr/>
          </p:nvSpPr>
          <p:spPr>
            <a:xfrm>
              <a:off x="6076800" y="3543120"/>
              <a:ext cx="21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Gulim"/>
                </a:rPr>
                <a:t>Test Here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9" name="Text Box 85"/>
            <p:cNvSpPr/>
            <p:nvPr/>
          </p:nvSpPr>
          <p:spPr>
            <a:xfrm>
              <a:off x="5565240" y="5078160"/>
              <a:ext cx="21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Gulim"/>
                </a:rPr>
                <a:t>Test Here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0" name="Text Box 86"/>
            <p:cNvSpPr/>
            <p:nvPr/>
          </p:nvSpPr>
          <p:spPr>
            <a:xfrm>
              <a:off x="1473480" y="5013360"/>
              <a:ext cx="21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Gulim"/>
                </a:rPr>
                <a:t>Test Here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Group 321"/>
          <p:cNvGrpSpPr/>
          <p:nvPr/>
        </p:nvGrpSpPr>
        <p:grpSpPr>
          <a:xfrm>
            <a:off x="973080" y="1773360"/>
            <a:ext cx="7197480" cy="4298040"/>
            <a:chOff x="973080" y="1773360"/>
            <a:chExt cx="7197480" cy="4298040"/>
          </a:xfrm>
        </p:grpSpPr>
        <p:sp>
          <p:nvSpPr>
            <p:cNvPr id="1283" name="Line 322"/>
            <p:cNvSpPr/>
            <p:nvPr/>
          </p:nvSpPr>
          <p:spPr>
            <a:xfrm>
              <a:off x="1908000" y="1773360"/>
              <a:ext cx="0" cy="3529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4" name="Line 323"/>
            <p:cNvSpPr/>
            <p:nvPr/>
          </p:nvSpPr>
          <p:spPr>
            <a:xfrm>
              <a:off x="2916000" y="1773360"/>
              <a:ext cx="0" cy="3529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5" name="Line 324"/>
            <p:cNvSpPr/>
            <p:nvPr/>
          </p:nvSpPr>
          <p:spPr>
            <a:xfrm>
              <a:off x="3924000" y="1773360"/>
              <a:ext cx="0" cy="3529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6" name="Line 325"/>
            <p:cNvSpPr/>
            <p:nvPr/>
          </p:nvSpPr>
          <p:spPr>
            <a:xfrm>
              <a:off x="5074920" y="1773360"/>
              <a:ext cx="0" cy="3529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7" name="Line 326"/>
            <p:cNvSpPr/>
            <p:nvPr/>
          </p:nvSpPr>
          <p:spPr>
            <a:xfrm>
              <a:off x="6082920" y="1773360"/>
              <a:ext cx="0" cy="3529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88" name="Group 327"/>
            <p:cNvGrpSpPr/>
            <p:nvPr/>
          </p:nvGrpSpPr>
          <p:grpSpPr>
            <a:xfrm>
              <a:off x="1475640" y="2278080"/>
              <a:ext cx="6624360" cy="3024360"/>
              <a:chOff x="1475640" y="2278080"/>
              <a:chExt cx="6624360" cy="3024360"/>
            </a:xfrm>
          </p:grpSpPr>
          <p:sp>
            <p:nvSpPr>
              <p:cNvPr id="1289" name="Line 328"/>
              <p:cNvSpPr/>
              <p:nvPr/>
            </p:nvSpPr>
            <p:spPr>
              <a:xfrm flipH="1">
                <a:off x="1475640" y="5302440"/>
                <a:ext cx="6624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0" name="Line 329"/>
              <p:cNvSpPr/>
              <p:nvPr/>
            </p:nvSpPr>
            <p:spPr>
              <a:xfrm flipH="1">
                <a:off x="1475640" y="4797360"/>
                <a:ext cx="6624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1" name="Line 330"/>
              <p:cNvSpPr/>
              <p:nvPr/>
            </p:nvSpPr>
            <p:spPr>
              <a:xfrm flipH="1">
                <a:off x="1475640" y="4294080"/>
                <a:ext cx="6624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2" name="Line 331"/>
              <p:cNvSpPr/>
              <p:nvPr/>
            </p:nvSpPr>
            <p:spPr>
              <a:xfrm flipH="1">
                <a:off x="1475640" y="3789360"/>
                <a:ext cx="6624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3" name="Line 332"/>
              <p:cNvSpPr/>
              <p:nvPr/>
            </p:nvSpPr>
            <p:spPr>
              <a:xfrm flipH="1">
                <a:off x="1475640" y="3286080"/>
                <a:ext cx="6624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4" name="Line 333"/>
              <p:cNvSpPr/>
              <p:nvPr/>
            </p:nvSpPr>
            <p:spPr>
              <a:xfrm flipH="1">
                <a:off x="1475640" y="2781360"/>
                <a:ext cx="6624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5" name="Line 334"/>
              <p:cNvSpPr/>
              <p:nvPr/>
            </p:nvSpPr>
            <p:spPr>
              <a:xfrm flipH="1">
                <a:off x="1475640" y="2278080"/>
                <a:ext cx="66243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96" name="Line 335"/>
            <p:cNvSpPr/>
            <p:nvPr/>
          </p:nvSpPr>
          <p:spPr>
            <a:xfrm flipH="1" flipV="1">
              <a:off x="1475640" y="1773360"/>
              <a:ext cx="662436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7" name="Text Box 336"/>
            <p:cNvSpPr/>
            <p:nvPr/>
          </p:nvSpPr>
          <p:spPr>
            <a:xfrm>
              <a:off x="973080" y="46530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8" name="Text Box 337"/>
            <p:cNvSpPr/>
            <p:nvPr/>
          </p:nvSpPr>
          <p:spPr>
            <a:xfrm>
              <a:off x="973080" y="414972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9" name="Text Box 338"/>
            <p:cNvSpPr/>
            <p:nvPr/>
          </p:nvSpPr>
          <p:spPr>
            <a:xfrm>
              <a:off x="973080" y="36450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0" name="Text Box 339"/>
            <p:cNvSpPr/>
            <p:nvPr/>
          </p:nvSpPr>
          <p:spPr>
            <a:xfrm>
              <a:off x="973080" y="314172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1" name="Text Box 340"/>
            <p:cNvSpPr/>
            <p:nvPr/>
          </p:nvSpPr>
          <p:spPr>
            <a:xfrm>
              <a:off x="973080" y="263700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2" name="Text Box 341"/>
            <p:cNvSpPr/>
            <p:nvPr/>
          </p:nvSpPr>
          <p:spPr>
            <a:xfrm>
              <a:off x="973080" y="2133720"/>
              <a:ext cx="40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3" name="Text Box 342"/>
            <p:cNvSpPr/>
            <p:nvPr/>
          </p:nvSpPr>
          <p:spPr>
            <a:xfrm>
              <a:off x="1028160" y="5158080"/>
              <a:ext cx="2934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4" name="Text Box 343"/>
            <p:cNvSpPr/>
            <p:nvPr/>
          </p:nvSpPr>
          <p:spPr>
            <a:xfrm>
              <a:off x="7538760" y="5734080"/>
              <a:ext cx="6318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5" name="Line 344"/>
            <p:cNvSpPr/>
            <p:nvPr/>
          </p:nvSpPr>
          <p:spPr>
            <a:xfrm>
              <a:off x="6082920" y="5302440"/>
              <a:ext cx="429840" cy="431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6" name="Line 345"/>
            <p:cNvSpPr/>
            <p:nvPr/>
          </p:nvSpPr>
          <p:spPr>
            <a:xfrm>
              <a:off x="5074920" y="5302440"/>
              <a:ext cx="429840" cy="431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7" name="Line 346"/>
            <p:cNvSpPr/>
            <p:nvPr/>
          </p:nvSpPr>
          <p:spPr>
            <a:xfrm>
              <a:off x="3924000" y="5302440"/>
              <a:ext cx="429840" cy="431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8" name="Line 347"/>
            <p:cNvSpPr/>
            <p:nvPr/>
          </p:nvSpPr>
          <p:spPr>
            <a:xfrm>
              <a:off x="2916000" y="5302440"/>
              <a:ext cx="429840" cy="431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9" name="Line 348"/>
            <p:cNvSpPr/>
            <p:nvPr/>
          </p:nvSpPr>
          <p:spPr>
            <a:xfrm>
              <a:off x="1909440" y="5302440"/>
              <a:ext cx="429840" cy="431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0" name="Line 349"/>
            <p:cNvSpPr/>
            <p:nvPr/>
          </p:nvSpPr>
          <p:spPr>
            <a:xfrm>
              <a:off x="7092720" y="1773360"/>
              <a:ext cx="0" cy="3529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1" name="Line 350"/>
            <p:cNvSpPr/>
            <p:nvPr/>
          </p:nvSpPr>
          <p:spPr>
            <a:xfrm>
              <a:off x="8100720" y="1773360"/>
              <a:ext cx="0" cy="3529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2" name="Line 351"/>
            <p:cNvSpPr/>
            <p:nvPr/>
          </p:nvSpPr>
          <p:spPr>
            <a:xfrm>
              <a:off x="7092720" y="5302440"/>
              <a:ext cx="429840" cy="431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3" name="Text Box 352"/>
            <p:cNvSpPr/>
            <p:nvPr/>
          </p:nvSpPr>
          <p:spPr>
            <a:xfrm>
              <a:off x="6530400" y="5734080"/>
              <a:ext cx="6318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4" name="Text Box 353"/>
            <p:cNvSpPr/>
            <p:nvPr/>
          </p:nvSpPr>
          <p:spPr>
            <a:xfrm>
              <a:off x="5509800" y="5734080"/>
              <a:ext cx="6318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5" name="Text Box 354"/>
            <p:cNvSpPr/>
            <p:nvPr/>
          </p:nvSpPr>
          <p:spPr>
            <a:xfrm>
              <a:off x="4357080" y="5734080"/>
              <a:ext cx="6318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6" name="Text Box 355"/>
            <p:cNvSpPr/>
            <p:nvPr/>
          </p:nvSpPr>
          <p:spPr>
            <a:xfrm>
              <a:off x="3349080" y="5734080"/>
              <a:ext cx="6318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7" name="Text Box 356"/>
            <p:cNvSpPr/>
            <p:nvPr/>
          </p:nvSpPr>
          <p:spPr>
            <a:xfrm>
              <a:off x="2341080" y="5734080"/>
              <a:ext cx="6318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8" name="Line 357"/>
            <p:cNvSpPr/>
            <p:nvPr/>
          </p:nvSpPr>
          <p:spPr>
            <a:xfrm flipV="1">
              <a:off x="1908000" y="2757600"/>
              <a:ext cx="1007640" cy="1008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9" name="Line 358"/>
            <p:cNvSpPr/>
            <p:nvPr/>
          </p:nvSpPr>
          <p:spPr>
            <a:xfrm flipH="1" flipV="1">
              <a:off x="2915640" y="2757600"/>
              <a:ext cx="1007640" cy="504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0" name="Line 359"/>
            <p:cNvSpPr/>
            <p:nvPr/>
          </p:nvSpPr>
          <p:spPr>
            <a:xfrm flipH="1" flipV="1">
              <a:off x="3850920" y="3261960"/>
              <a:ext cx="1225440" cy="1079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1" name="Line 360"/>
            <p:cNvSpPr/>
            <p:nvPr/>
          </p:nvSpPr>
          <p:spPr>
            <a:xfrm flipH="1">
              <a:off x="5076360" y="3333960"/>
              <a:ext cx="1007640" cy="1008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2" name="Line 361"/>
            <p:cNvSpPr/>
            <p:nvPr/>
          </p:nvSpPr>
          <p:spPr>
            <a:xfrm flipH="1">
              <a:off x="6084360" y="2254320"/>
              <a:ext cx="1007640" cy="1079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323" name="Group 362"/>
            <p:cNvGrpSpPr/>
            <p:nvPr/>
          </p:nvGrpSpPr>
          <p:grpSpPr>
            <a:xfrm>
              <a:off x="1593720" y="3476880"/>
              <a:ext cx="629640" cy="630000"/>
              <a:chOff x="1593720" y="3476880"/>
              <a:chExt cx="629640" cy="630000"/>
            </a:xfrm>
          </p:grpSpPr>
          <p:grpSp>
            <p:nvGrpSpPr>
              <p:cNvPr id="1324" name="Group 363"/>
              <p:cNvGrpSpPr/>
              <p:nvPr/>
            </p:nvGrpSpPr>
            <p:grpSpPr>
              <a:xfrm>
                <a:off x="1593720" y="3476880"/>
                <a:ext cx="629640" cy="630000"/>
                <a:chOff x="1593720" y="3476880"/>
                <a:chExt cx="629640" cy="630000"/>
              </a:xfrm>
            </p:grpSpPr>
            <p:sp>
              <p:nvSpPr>
                <p:cNvPr id="1325" name="Oval 364"/>
                <p:cNvSpPr/>
                <p:nvPr/>
              </p:nvSpPr>
              <p:spPr>
                <a:xfrm>
                  <a:off x="1593720" y="3476880"/>
                  <a:ext cx="629640" cy="63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fef"/>
                    </a:gs>
                    <a:gs pos="50000">
                      <a:srgbClr val="ffcccc"/>
                    </a:gs>
                    <a:gs pos="100000">
                      <a:srgbClr val="ffefef"/>
                    </a:gs>
                  </a:gsLst>
                  <a:lin ang="0"/>
                </a:gradFill>
                <a:ln w="255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26" name="Oval 365"/>
                <p:cNvSpPr/>
                <p:nvPr/>
              </p:nvSpPr>
              <p:spPr>
                <a:xfrm>
                  <a:off x="1677600" y="3490560"/>
                  <a:ext cx="461160" cy="40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327" name="Text Box 366"/>
              <p:cNvSpPr/>
              <p:nvPr/>
            </p:nvSpPr>
            <p:spPr>
              <a:xfrm>
                <a:off x="1638720" y="3676320"/>
                <a:ext cx="5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28" name="Group 367"/>
            <p:cNvGrpSpPr/>
            <p:nvPr/>
          </p:nvGrpSpPr>
          <p:grpSpPr>
            <a:xfrm>
              <a:off x="2593800" y="2468520"/>
              <a:ext cx="629640" cy="630360"/>
              <a:chOff x="2593800" y="2468520"/>
              <a:chExt cx="629640" cy="630360"/>
            </a:xfrm>
          </p:grpSpPr>
          <p:grpSp>
            <p:nvGrpSpPr>
              <p:cNvPr id="1329" name="Group 368"/>
              <p:cNvGrpSpPr/>
              <p:nvPr/>
            </p:nvGrpSpPr>
            <p:grpSpPr>
              <a:xfrm>
                <a:off x="2593800" y="2468520"/>
                <a:ext cx="629640" cy="630360"/>
                <a:chOff x="2593800" y="2468520"/>
                <a:chExt cx="629640" cy="630360"/>
              </a:xfrm>
            </p:grpSpPr>
            <p:sp>
              <p:nvSpPr>
                <p:cNvPr id="1330" name="Oval 369"/>
                <p:cNvSpPr/>
                <p:nvPr/>
              </p:nvSpPr>
              <p:spPr>
                <a:xfrm>
                  <a:off x="2593800" y="2468520"/>
                  <a:ext cx="62964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fef"/>
                    </a:gs>
                    <a:gs pos="50000">
                      <a:srgbClr val="ff9999"/>
                    </a:gs>
                    <a:gs pos="100000">
                      <a:srgbClr val="ffefef"/>
                    </a:gs>
                  </a:gsLst>
                  <a:lin ang="0"/>
                </a:gradFill>
                <a:ln w="255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31" name="Oval 370"/>
                <p:cNvSpPr/>
                <p:nvPr/>
              </p:nvSpPr>
              <p:spPr>
                <a:xfrm>
                  <a:off x="2677680" y="2482200"/>
                  <a:ext cx="461160" cy="40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332" name="Text Box 371"/>
              <p:cNvSpPr/>
              <p:nvPr/>
            </p:nvSpPr>
            <p:spPr>
              <a:xfrm>
                <a:off x="2638800" y="2668320"/>
                <a:ext cx="5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33" name="Group 372"/>
            <p:cNvGrpSpPr/>
            <p:nvPr/>
          </p:nvGrpSpPr>
          <p:grpSpPr>
            <a:xfrm>
              <a:off x="4762080" y="3969000"/>
              <a:ext cx="630000" cy="630000"/>
              <a:chOff x="4762080" y="3969000"/>
              <a:chExt cx="630000" cy="630000"/>
            </a:xfrm>
          </p:grpSpPr>
          <p:grpSp>
            <p:nvGrpSpPr>
              <p:cNvPr id="1334" name="Group 373"/>
              <p:cNvGrpSpPr/>
              <p:nvPr/>
            </p:nvGrpSpPr>
            <p:grpSpPr>
              <a:xfrm>
                <a:off x="4762080" y="3969000"/>
                <a:ext cx="630000" cy="630000"/>
                <a:chOff x="4762080" y="3969000"/>
                <a:chExt cx="630000" cy="630000"/>
              </a:xfrm>
            </p:grpSpPr>
            <p:sp>
              <p:nvSpPr>
                <p:cNvPr id="1335" name="Oval 374"/>
                <p:cNvSpPr/>
                <p:nvPr/>
              </p:nvSpPr>
              <p:spPr>
                <a:xfrm>
                  <a:off x="4762080" y="3969000"/>
                  <a:ext cx="630000" cy="63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cc"/>
                    </a:gs>
                    <a:gs pos="50000">
                      <a:srgbClr val="ff3399"/>
                    </a:gs>
                    <a:gs pos="100000">
                      <a:srgbClr val="ffcccc"/>
                    </a:gs>
                  </a:gsLst>
                  <a:lin ang="0"/>
                </a:gradFill>
                <a:ln w="255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36" name="Oval 375"/>
                <p:cNvSpPr/>
                <p:nvPr/>
              </p:nvSpPr>
              <p:spPr>
                <a:xfrm>
                  <a:off x="4846320" y="3982680"/>
                  <a:ext cx="461160" cy="40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337" name="Text Box 376"/>
              <p:cNvSpPr/>
              <p:nvPr/>
            </p:nvSpPr>
            <p:spPr>
              <a:xfrm>
                <a:off x="4807080" y="4168440"/>
                <a:ext cx="5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38" name="Group 377"/>
            <p:cNvGrpSpPr/>
            <p:nvPr/>
          </p:nvGrpSpPr>
          <p:grpSpPr>
            <a:xfrm>
              <a:off x="6778440" y="1955880"/>
              <a:ext cx="629640" cy="630360"/>
              <a:chOff x="6778440" y="1955880"/>
              <a:chExt cx="629640" cy="630360"/>
            </a:xfrm>
          </p:grpSpPr>
          <p:grpSp>
            <p:nvGrpSpPr>
              <p:cNvPr id="1339" name="Group 378"/>
              <p:cNvGrpSpPr/>
              <p:nvPr/>
            </p:nvGrpSpPr>
            <p:grpSpPr>
              <a:xfrm>
                <a:off x="6778440" y="1955880"/>
                <a:ext cx="629640" cy="630360"/>
                <a:chOff x="6778440" y="1955880"/>
                <a:chExt cx="629640" cy="630360"/>
              </a:xfrm>
            </p:grpSpPr>
            <p:sp>
              <p:nvSpPr>
                <p:cNvPr id="1340" name="Oval 379"/>
                <p:cNvSpPr/>
                <p:nvPr/>
              </p:nvSpPr>
              <p:spPr>
                <a:xfrm>
                  <a:off x="6778440" y="1955880"/>
                  <a:ext cx="62964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efef"/>
                    </a:gs>
                    <a:gs pos="100000">
                      <a:srgbClr val="ffffff"/>
                    </a:gs>
                  </a:gsLst>
                  <a:lin ang="0"/>
                </a:gradFill>
                <a:ln w="255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41" name="Oval 380"/>
                <p:cNvSpPr/>
                <p:nvPr/>
              </p:nvSpPr>
              <p:spPr>
                <a:xfrm>
                  <a:off x="6862320" y="1969560"/>
                  <a:ext cx="461160" cy="405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342" name="Text Box 381"/>
              <p:cNvSpPr/>
              <p:nvPr/>
            </p:nvSpPr>
            <p:spPr>
              <a:xfrm>
                <a:off x="6823440" y="2155680"/>
                <a:ext cx="5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43" name="Group 382"/>
            <p:cNvGrpSpPr/>
            <p:nvPr/>
          </p:nvGrpSpPr>
          <p:grpSpPr>
            <a:xfrm>
              <a:off x="5770440" y="2957760"/>
              <a:ext cx="629640" cy="630000"/>
              <a:chOff x="5770440" y="2957760"/>
              <a:chExt cx="629640" cy="630000"/>
            </a:xfrm>
          </p:grpSpPr>
          <p:grpSp>
            <p:nvGrpSpPr>
              <p:cNvPr id="1344" name="Group 383"/>
              <p:cNvGrpSpPr/>
              <p:nvPr/>
            </p:nvGrpSpPr>
            <p:grpSpPr>
              <a:xfrm>
                <a:off x="5770440" y="2957760"/>
                <a:ext cx="629640" cy="630000"/>
                <a:chOff x="5770440" y="2957760"/>
                <a:chExt cx="629640" cy="630000"/>
              </a:xfrm>
            </p:grpSpPr>
            <p:sp>
              <p:nvSpPr>
                <p:cNvPr id="1345" name="Oval 384"/>
                <p:cNvSpPr/>
                <p:nvPr/>
              </p:nvSpPr>
              <p:spPr>
                <a:xfrm>
                  <a:off x="5770440" y="2957760"/>
                  <a:ext cx="629640" cy="630000"/>
                </a:xfrm>
                <a:prstGeom prst="ellipse">
                  <a:avLst/>
                </a:prstGeom>
                <a:solidFill>
                  <a:srgbClr val="80008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46" name="Oval 385"/>
                <p:cNvSpPr/>
                <p:nvPr/>
              </p:nvSpPr>
              <p:spPr>
                <a:xfrm>
                  <a:off x="5854320" y="2971440"/>
                  <a:ext cx="461160" cy="40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347" name="Text Box 386"/>
              <p:cNvSpPr/>
              <p:nvPr/>
            </p:nvSpPr>
            <p:spPr>
              <a:xfrm>
                <a:off x="5815440" y="3157200"/>
                <a:ext cx="5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48" name="Group 387"/>
            <p:cNvGrpSpPr/>
            <p:nvPr/>
          </p:nvGrpSpPr>
          <p:grpSpPr>
            <a:xfrm>
              <a:off x="3614400" y="2965680"/>
              <a:ext cx="630000" cy="630000"/>
              <a:chOff x="3614400" y="2965680"/>
              <a:chExt cx="630000" cy="630000"/>
            </a:xfrm>
          </p:grpSpPr>
          <p:grpSp>
            <p:nvGrpSpPr>
              <p:cNvPr id="1349" name="Group 388"/>
              <p:cNvGrpSpPr/>
              <p:nvPr/>
            </p:nvGrpSpPr>
            <p:grpSpPr>
              <a:xfrm>
                <a:off x="3614400" y="2965680"/>
                <a:ext cx="630000" cy="630000"/>
                <a:chOff x="3614400" y="2965680"/>
                <a:chExt cx="630000" cy="630000"/>
              </a:xfrm>
            </p:grpSpPr>
            <p:sp>
              <p:nvSpPr>
                <p:cNvPr id="1350" name="Oval 389"/>
                <p:cNvSpPr/>
                <p:nvPr/>
              </p:nvSpPr>
              <p:spPr>
                <a:xfrm>
                  <a:off x="3614400" y="2965680"/>
                  <a:ext cx="630000" cy="63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c0c0c0"/>
                    </a:gs>
                    <a:gs pos="100000">
                      <a:srgbClr val="dddddd"/>
                    </a:gs>
                  </a:gsLst>
                  <a:lin ang="0"/>
                </a:gradFill>
                <a:ln w="25560">
                  <a:solidFill>
                    <a:srgbClr val="ffffff"/>
                  </a:solidFill>
                  <a:miter/>
                </a:ln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351" name="Oval 390"/>
                <p:cNvSpPr/>
                <p:nvPr/>
              </p:nvSpPr>
              <p:spPr>
                <a:xfrm>
                  <a:off x="3698640" y="2979360"/>
                  <a:ext cx="461160" cy="40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352" name="Text Box 391"/>
              <p:cNvSpPr/>
              <p:nvPr/>
            </p:nvSpPr>
            <p:spPr>
              <a:xfrm>
                <a:off x="3659400" y="3165120"/>
                <a:ext cx="5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4" name="Group 119"/>
          <p:cNvGrpSpPr/>
          <p:nvPr/>
        </p:nvGrpSpPr>
        <p:grpSpPr>
          <a:xfrm>
            <a:off x="1692360" y="1413000"/>
            <a:ext cx="5641920" cy="4849200"/>
            <a:chOff x="1692360" y="1413000"/>
            <a:chExt cx="5641920" cy="4849200"/>
          </a:xfrm>
        </p:grpSpPr>
        <p:sp>
          <p:nvSpPr>
            <p:cNvPr id="1355" name="Oval 120"/>
            <p:cNvSpPr/>
            <p:nvPr/>
          </p:nvSpPr>
          <p:spPr>
            <a:xfrm>
              <a:off x="3602160" y="3166920"/>
              <a:ext cx="1906560" cy="1906200"/>
            </a:xfrm>
            <a:prstGeom prst="ellipse">
              <a:avLst/>
            </a:prstGeom>
            <a:noFill/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6" name="Oval 121"/>
            <p:cNvSpPr/>
            <p:nvPr/>
          </p:nvSpPr>
          <p:spPr>
            <a:xfrm>
              <a:off x="2413080" y="2041200"/>
              <a:ext cx="4221000" cy="4221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357" name="Picture 122" descr="1"/>
            <p:cNvPicPr/>
            <p:nvPr/>
          </p:nvPicPr>
          <p:blipFill>
            <a:blip r:embed="rId1"/>
            <a:stretch/>
          </p:blipFill>
          <p:spPr>
            <a:xfrm>
              <a:off x="3781440" y="1413000"/>
              <a:ext cx="1465200" cy="14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Picture 123" descr="2"/>
            <p:cNvPicPr/>
            <p:nvPr/>
          </p:nvPicPr>
          <p:blipFill>
            <a:blip r:embed="rId2"/>
            <a:stretch/>
          </p:blipFill>
          <p:spPr>
            <a:xfrm>
              <a:off x="1692360" y="4390920"/>
              <a:ext cx="1465200" cy="14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Picture 124" descr="3"/>
            <p:cNvPicPr/>
            <p:nvPr/>
          </p:nvPicPr>
          <p:blipFill>
            <a:blip r:embed="rId3"/>
            <a:stretch/>
          </p:blipFill>
          <p:spPr>
            <a:xfrm>
              <a:off x="5869080" y="4317840"/>
              <a:ext cx="1465200" cy="14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Picture 125" descr="one3"/>
            <p:cNvPicPr/>
            <p:nvPr/>
          </p:nvPicPr>
          <p:blipFill>
            <a:blip r:embed="rId4"/>
            <a:stretch/>
          </p:blipFill>
          <p:spPr>
            <a:xfrm>
              <a:off x="3060720" y="3238200"/>
              <a:ext cx="102888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Picture 126" descr="one1"/>
            <p:cNvPicPr/>
            <p:nvPr/>
          </p:nvPicPr>
          <p:blipFill>
            <a:blip r:embed="rId5"/>
            <a:stretch/>
          </p:blipFill>
          <p:spPr>
            <a:xfrm flipH="1">
              <a:off x="3997440" y="4462200"/>
              <a:ext cx="1071360" cy="10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Picture 127" descr="one2"/>
            <p:cNvPicPr/>
            <p:nvPr/>
          </p:nvPicPr>
          <p:blipFill>
            <a:blip r:embed="rId6"/>
            <a:stretch/>
          </p:blipFill>
          <p:spPr>
            <a:xfrm>
              <a:off x="4965840" y="3238200"/>
              <a:ext cx="1047600" cy="103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3" name="Text Box 128"/>
            <p:cNvSpPr/>
            <p:nvPr/>
          </p:nvSpPr>
          <p:spPr>
            <a:xfrm>
              <a:off x="3853080" y="191592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4" name="Text Box 129"/>
            <p:cNvSpPr/>
            <p:nvPr/>
          </p:nvSpPr>
          <p:spPr>
            <a:xfrm>
              <a:off x="1765440" y="494172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5" name="Text Box 130"/>
            <p:cNvSpPr/>
            <p:nvPr/>
          </p:nvSpPr>
          <p:spPr>
            <a:xfrm>
              <a:off x="6013440" y="48686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6" name="Text Box 131"/>
            <p:cNvSpPr/>
            <p:nvPr/>
          </p:nvSpPr>
          <p:spPr>
            <a:xfrm>
              <a:off x="4861080" y="35366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7" name="Text Box 132"/>
            <p:cNvSpPr/>
            <p:nvPr/>
          </p:nvSpPr>
          <p:spPr>
            <a:xfrm>
              <a:off x="2989440" y="35366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8" name="Text Box 133"/>
            <p:cNvSpPr/>
            <p:nvPr/>
          </p:nvSpPr>
          <p:spPr>
            <a:xfrm>
              <a:off x="3924360" y="47973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3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1" name="Group 232"/>
          <p:cNvGrpSpPr/>
          <p:nvPr/>
        </p:nvGrpSpPr>
        <p:grpSpPr>
          <a:xfrm>
            <a:off x="324000" y="1773360"/>
            <a:ext cx="8462880" cy="3887640"/>
            <a:chOff x="324000" y="1773360"/>
            <a:chExt cx="8462880" cy="3887640"/>
          </a:xfrm>
        </p:grpSpPr>
        <p:sp>
          <p:nvSpPr>
            <p:cNvPr id="1372" name="Freeform 233"/>
            <p:cNvSpPr/>
            <p:nvPr/>
          </p:nvSpPr>
          <p:spPr>
            <a:xfrm>
              <a:off x="327240" y="2406600"/>
              <a:ext cx="2442960" cy="86040"/>
            </a:xfrm>
            <a:custGeom>
              <a:avLst/>
              <a:gdLst>
                <a:gd name="textAreaLeft" fmla="*/ 0 w 2442960"/>
                <a:gd name="textAreaRight" fmla="*/ 2443320 w 244296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613" h="49">
                  <a:moveTo>
                    <a:pt x="1568" y="0"/>
                  </a:moveTo>
                  <a:lnTo>
                    <a:pt x="0" y="49"/>
                  </a:lnTo>
                  <a:lnTo>
                    <a:pt x="0" y="1"/>
                  </a:lnTo>
                  <a:lnTo>
                    <a:pt x="1613" y="0"/>
                  </a:lnTo>
                  <a:lnTo>
                    <a:pt x="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3" name="Rectangle 234"/>
            <p:cNvSpPr/>
            <p:nvPr/>
          </p:nvSpPr>
          <p:spPr>
            <a:xfrm>
              <a:off x="324000" y="1773360"/>
              <a:ext cx="2448000" cy="638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4" name="Freeform 235"/>
            <p:cNvSpPr/>
            <p:nvPr/>
          </p:nvSpPr>
          <p:spPr>
            <a:xfrm>
              <a:off x="327240" y="3414960"/>
              <a:ext cx="2442960" cy="85680"/>
            </a:xfrm>
            <a:custGeom>
              <a:avLst/>
              <a:gdLst>
                <a:gd name="textAreaLeft" fmla="*/ 0 w 2442960"/>
                <a:gd name="textAreaRight" fmla="*/ 2443320 w 2442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13" h="49">
                  <a:moveTo>
                    <a:pt x="1568" y="0"/>
                  </a:moveTo>
                  <a:lnTo>
                    <a:pt x="0" y="49"/>
                  </a:lnTo>
                  <a:lnTo>
                    <a:pt x="0" y="1"/>
                  </a:lnTo>
                  <a:lnTo>
                    <a:pt x="1613" y="0"/>
                  </a:lnTo>
                  <a:lnTo>
                    <a:pt x="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5" name="Rectangle 236"/>
            <p:cNvSpPr/>
            <p:nvPr/>
          </p:nvSpPr>
          <p:spPr>
            <a:xfrm>
              <a:off x="324000" y="2781360"/>
              <a:ext cx="2448000" cy="638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6" name="Freeform 237"/>
            <p:cNvSpPr/>
            <p:nvPr/>
          </p:nvSpPr>
          <p:spPr>
            <a:xfrm>
              <a:off x="327240" y="4496040"/>
              <a:ext cx="2442960" cy="85680"/>
            </a:xfrm>
            <a:custGeom>
              <a:avLst/>
              <a:gdLst>
                <a:gd name="textAreaLeft" fmla="*/ 0 w 2442960"/>
                <a:gd name="textAreaRight" fmla="*/ 2443320 w 2442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13" h="49">
                  <a:moveTo>
                    <a:pt x="1568" y="0"/>
                  </a:moveTo>
                  <a:lnTo>
                    <a:pt x="0" y="49"/>
                  </a:lnTo>
                  <a:lnTo>
                    <a:pt x="0" y="1"/>
                  </a:lnTo>
                  <a:lnTo>
                    <a:pt x="1613" y="0"/>
                  </a:lnTo>
                  <a:lnTo>
                    <a:pt x="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7" name="Rectangle 238"/>
            <p:cNvSpPr/>
            <p:nvPr/>
          </p:nvSpPr>
          <p:spPr>
            <a:xfrm>
              <a:off x="324000" y="3862440"/>
              <a:ext cx="2448000" cy="638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8" name="Freeform 239"/>
            <p:cNvSpPr/>
            <p:nvPr/>
          </p:nvSpPr>
          <p:spPr>
            <a:xfrm>
              <a:off x="327240" y="5575320"/>
              <a:ext cx="2442960" cy="85680"/>
            </a:xfrm>
            <a:custGeom>
              <a:avLst/>
              <a:gdLst>
                <a:gd name="textAreaLeft" fmla="*/ 0 w 2442960"/>
                <a:gd name="textAreaRight" fmla="*/ 2443320 w 2442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13" h="49">
                  <a:moveTo>
                    <a:pt x="1568" y="0"/>
                  </a:moveTo>
                  <a:lnTo>
                    <a:pt x="0" y="49"/>
                  </a:lnTo>
                  <a:lnTo>
                    <a:pt x="0" y="1"/>
                  </a:lnTo>
                  <a:lnTo>
                    <a:pt x="1613" y="0"/>
                  </a:lnTo>
                  <a:lnTo>
                    <a:pt x="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9" name="Rectangle 240"/>
            <p:cNvSpPr/>
            <p:nvPr/>
          </p:nvSpPr>
          <p:spPr>
            <a:xfrm>
              <a:off x="324000" y="4942080"/>
              <a:ext cx="2448000" cy="638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0" name="Rectangle 241"/>
            <p:cNvSpPr/>
            <p:nvPr/>
          </p:nvSpPr>
          <p:spPr>
            <a:xfrm>
              <a:off x="366840" y="1803600"/>
              <a:ext cx="2362320" cy="31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1" name="Text Box 242"/>
            <p:cNvSpPr/>
            <p:nvPr/>
          </p:nvSpPr>
          <p:spPr>
            <a:xfrm>
              <a:off x="927720" y="19116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2" name="Rectangle 243"/>
            <p:cNvSpPr/>
            <p:nvPr/>
          </p:nvSpPr>
          <p:spPr>
            <a:xfrm>
              <a:off x="366840" y="2828880"/>
              <a:ext cx="2362320" cy="31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3" name="Rectangle 244"/>
            <p:cNvSpPr/>
            <p:nvPr/>
          </p:nvSpPr>
          <p:spPr>
            <a:xfrm>
              <a:off x="366840" y="3903840"/>
              <a:ext cx="2362320" cy="31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4" name="Rectangle 245"/>
            <p:cNvSpPr/>
            <p:nvPr/>
          </p:nvSpPr>
          <p:spPr>
            <a:xfrm>
              <a:off x="365400" y="4988160"/>
              <a:ext cx="2361960" cy="31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5" name="Text Box 246"/>
            <p:cNvSpPr/>
            <p:nvPr/>
          </p:nvSpPr>
          <p:spPr>
            <a:xfrm>
              <a:off x="927720" y="29512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6" name="Text Box 247"/>
            <p:cNvSpPr/>
            <p:nvPr/>
          </p:nvSpPr>
          <p:spPr>
            <a:xfrm>
              <a:off x="927720" y="40276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7" name="Text Box 248"/>
            <p:cNvSpPr/>
            <p:nvPr/>
          </p:nvSpPr>
          <p:spPr>
            <a:xfrm>
              <a:off x="927720" y="508644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8" name="Line 249"/>
            <p:cNvSpPr/>
            <p:nvPr/>
          </p:nvSpPr>
          <p:spPr>
            <a:xfrm>
              <a:off x="2772000" y="2062440"/>
              <a:ext cx="288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9" name="Line 250"/>
            <p:cNvSpPr/>
            <p:nvPr/>
          </p:nvSpPr>
          <p:spPr>
            <a:xfrm>
              <a:off x="2772000" y="3070440"/>
              <a:ext cx="288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0" name="Line 251"/>
            <p:cNvSpPr/>
            <p:nvPr/>
          </p:nvSpPr>
          <p:spPr>
            <a:xfrm>
              <a:off x="2772000" y="4162680"/>
              <a:ext cx="288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1" name="Line 252"/>
            <p:cNvSpPr/>
            <p:nvPr/>
          </p:nvSpPr>
          <p:spPr>
            <a:xfrm>
              <a:off x="2772000" y="5251680"/>
              <a:ext cx="288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2" name="Line 253"/>
            <p:cNvSpPr/>
            <p:nvPr/>
          </p:nvSpPr>
          <p:spPr>
            <a:xfrm>
              <a:off x="3060720" y="2049480"/>
              <a:ext cx="0" cy="3179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3" name="Text Box 254"/>
            <p:cNvSpPr/>
            <p:nvPr/>
          </p:nvSpPr>
          <p:spPr>
            <a:xfrm>
              <a:off x="3928320" y="363852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4" name="Line 255"/>
            <p:cNvSpPr/>
            <p:nvPr/>
          </p:nvSpPr>
          <p:spPr>
            <a:xfrm>
              <a:off x="6015240" y="2049480"/>
              <a:ext cx="0" cy="3179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5" name="Freeform 256"/>
            <p:cNvSpPr/>
            <p:nvPr/>
          </p:nvSpPr>
          <p:spPr>
            <a:xfrm>
              <a:off x="6342120" y="2406600"/>
              <a:ext cx="2443320" cy="8604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613" h="49">
                  <a:moveTo>
                    <a:pt x="1568" y="0"/>
                  </a:moveTo>
                  <a:lnTo>
                    <a:pt x="0" y="49"/>
                  </a:lnTo>
                  <a:lnTo>
                    <a:pt x="0" y="1"/>
                  </a:lnTo>
                  <a:lnTo>
                    <a:pt x="1613" y="0"/>
                  </a:lnTo>
                  <a:lnTo>
                    <a:pt x="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6" name="Rectangle 257"/>
            <p:cNvSpPr/>
            <p:nvPr/>
          </p:nvSpPr>
          <p:spPr>
            <a:xfrm>
              <a:off x="6338880" y="1773360"/>
              <a:ext cx="2448000" cy="638280"/>
            </a:xfrm>
            <a:prstGeom prst="rect">
              <a:avLst/>
            </a:prstGeom>
            <a:gradFill rotWithShape="0">
              <a:gsLst>
                <a:gs pos="0">
                  <a:srgbClr val="ffefef"/>
                </a:gs>
                <a:gs pos="100000">
                  <a:srgbClr val="ff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7" name="Freeform 258"/>
            <p:cNvSpPr/>
            <p:nvPr/>
          </p:nvSpPr>
          <p:spPr>
            <a:xfrm>
              <a:off x="6342120" y="3414960"/>
              <a:ext cx="2443320" cy="8568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13" h="49">
                  <a:moveTo>
                    <a:pt x="1568" y="0"/>
                  </a:moveTo>
                  <a:lnTo>
                    <a:pt x="0" y="49"/>
                  </a:lnTo>
                  <a:lnTo>
                    <a:pt x="0" y="1"/>
                  </a:lnTo>
                  <a:lnTo>
                    <a:pt x="1613" y="0"/>
                  </a:lnTo>
                  <a:lnTo>
                    <a:pt x="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8" name="Rectangle 259"/>
            <p:cNvSpPr/>
            <p:nvPr/>
          </p:nvSpPr>
          <p:spPr>
            <a:xfrm>
              <a:off x="6338880" y="2781360"/>
              <a:ext cx="2448000" cy="638280"/>
            </a:xfrm>
            <a:prstGeom prst="rect">
              <a:avLst/>
            </a:prstGeom>
            <a:gradFill rotWithShape="0">
              <a:gsLst>
                <a:gs pos="0">
                  <a:srgbClr val="ffefef"/>
                </a:gs>
                <a:gs pos="100000">
                  <a:srgbClr val="ff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9" name="Freeform 260"/>
            <p:cNvSpPr/>
            <p:nvPr/>
          </p:nvSpPr>
          <p:spPr>
            <a:xfrm>
              <a:off x="6342120" y="4496040"/>
              <a:ext cx="2443320" cy="8568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13" h="49">
                  <a:moveTo>
                    <a:pt x="1568" y="0"/>
                  </a:moveTo>
                  <a:lnTo>
                    <a:pt x="0" y="49"/>
                  </a:lnTo>
                  <a:lnTo>
                    <a:pt x="0" y="1"/>
                  </a:lnTo>
                  <a:lnTo>
                    <a:pt x="1613" y="0"/>
                  </a:lnTo>
                  <a:lnTo>
                    <a:pt x="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0" name="Rectangle 261"/>
            <p:cNvSpPr/>
            <p:nvPr/>
          </p:nvSpPr>
          <p:spPr>
            <a:xfrm>
              <a:off x="6338880" y="3862440"/>
              <a:ext cx="2448000" cy="638280"/>
            </a:xfrm>
            <a:prstGeom prst="rect">
              <a:avLst/>
            </a:prstGeom>
            <a:gradFill rotWithShape="0">
              <a:gsLst>
                <a:gs pos="0">
                  <a:srgbClr val="ffefef"/>
                </a:gs>
                <a:gs pos="100000">
                  <a:srgbClr val="ff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1" name="Freeform 262"/>
            <p:cNvSpPr/>
            <p:nvPr/>
          </p:nvSpPr>
          <p:spPr>
            <a:xfrm>
              <a:off x="6342120" y="5575320"/>
              <a:ext cx="2443320" cy="8568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13" h="49">
                  <a:moveTo>
                    <a:pt x="1568" y="0"/>
                  </a:moveTo>
                  <a:lnTo>
                    <a:pt x="0" y="49"/>
                  </a:lnTo>
                  <a:lnTo>
                    <a:pt x="0" y="1"/>
                  </a:lnTo>
                  <a:lnTo>
                    <a:pt x="1613" y="0"/>
                  </a:lnTo>
                  <a:lnTo>
                    <a:pt x="1568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2" name="Rectangle 263"/>
            <p:cNvSpPr/>
            <p:nvPr/>
          </p:nvSpPr>
          <p:spPr>
            <a:xfrm>
              <a:off x="6338880" y="4942080"/>
              <a:ext cx="2448000" cy="638280"/>
            </a:xfrm>
            <a:prstGeom prst="rect">
              <a:avLst/>
            </a:prstGeom>
            <a:gradFill rotWithShape="0">
              <a:gsLst>
                <a:gs pos="0">
                  <a:srgbClr val="ffefef"/>
                </a:gs>
                <a:gs pos="100000">
                  <a:srgbClr val="ff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3" name="Rectangle 264"/>
            <p:cNvSpPr/>
            <p:nvPr/>
          </p:nvSpPr>
          <p:spPr>
            <a:xfrm>
              <a:off x="6382080" y="1803600"/>
              <a:ext cx="2361960" cy="31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4" name="Text Box 265"/>
            <p:cNvSpPr/>
            <p:nvPr/>
          </p:nvSpPr>
          <p:spPr>
            <a:xfrm>
              <a:off x="6942960" y="191160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5" name="Rectangle 266"/>
            <p:cNvSpPr/>
            <p:nvPr/>
          </p:nvSpPr>
          <p:spPr>
            <a:xfrm>
              <a:off x="6382080" y="2828880"/>
              <a:ext cx="2361960" cy="31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6" name="Rectangle 267"/>
            <p:cNvSpPr/>
            <p:nvPr/>
          </p:nvSpPr>
          <p:spPr>
            <a:xfrm>
              <a:off x="6382080" y="3903840"/>
              <a:ext cx="2361960" cy="31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7" name="Rectangle 268"/>
            <p:cNvSpPr/>
            <p:nvPr/>
          </p:nvSpPr>
          <p:spPr>
            <a:xfrm>
              <a:off x="6380280" y="4988160"/>
              <a:ext cx="2362320" cy="31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8" name="Text Box 269"/>
            <p:cNvSpPr/>
            <p:nvPr/>
          </p:nvSpPr>
          <p:spPr>
            <a:xfrm>
              <a:off x="6942960" y="29512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9" name="Text Box 270"/>
            <p:cNvSpPr/>
            <p:nvPr/>
          </p:nvSpPr>
          <p:spPr>
            <a:xfrm>
              <a:off x="6942960" y="402768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0" name="Text Box 271"/>
            <p:cNvSpPr/>
            <p:nvPr/>
          </p:nvSpPr>
          <p:spPr>
            <a:xfrm>
              <a:off x="6942960" y="508644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1" name="Rectangle 272"/>
            <p:cNvSpPr/>
            <p:nvPr/>
          </p:nvSpPr>
          <p:spPr>
            <a:xfrm>
              <a:off x="3781440" y="3284640"/>
              <a:ext cx="1513080" cy="289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ddddd"/>
                </a:gs>
                <a:gs pos="100000">
                  <a:srgbClr val="ffffff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2" name="Rectangle 273"/>
            <p:cNvSpPr/>
            <p:nvPr/>
          </p:nvSpPr>
          <p:spPr>
            <a:xfrm>
              <a:off x="3834000" y="3316320"/>
              <a:ext cx="1406520" cy="13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3" name="Line 274"/>
            <p:cNvSpPr/>
            <p:nvPr/>
          </p:nvSpPr>
          <p:spPr>
            <a:xfrm>
              <a:off x="6013440" y="2060640"/>
              <a:ext cx="289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4" name="Line 275"/>
            <p:cNvSpPr/>
            <p:nvPr/>
          </p:nvSpPr>
          <p:spPr>
            <a:xfrm>
              <a:off x="6013440" y="3068640"/>
              <a:ext cx="289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5" name="Line 276"/>
            <p:cNvSpPr/>
            <p:nvPr/>
          </p:nvSpPr>
          <p:spPr>
            <a:xfrm>
              <a:off x="6013440" y="4160880"/>
              <a:ext cx="289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6" name="Line 277"/>
            <p:cNvSpPr/>
            <p:nvPr/>
          </p:nvSpPr>
          <p:spPr>
            <a:xfrm>
              <a:off x="6013440" y="5249880"/>
              <a:ext cx="289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7" name="Rectangle 278"/>
            <p:cNvSpPr/>
            <p:nvPr/>
          </p:nvSpPr>
          <p:spPr>
            <a:xfrm>
              <a:off x="3781440" y="4044960"/>
              <a:ext cx="1513080" cy="289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ddddd"/>
                </a:gs>
                <a:gs pos="100000">
                  <a:srgbClr val="ffffff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8" name="Rectangle 279"/>
            <p:cNvSpPr/>
            <p:nvPr/>
          </p:nvSpPr>
          <p:spPr>
            <a:xfrm>
              <a:off x="3834000" y="4077000"/>
              <a:ext cx="1406520" cy="13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9" name="AutoShape 280"/>
            <p:cNvSpPr/>
            <p:nvPr/>
          </p:nvSpPr>
          <p:spPr>
            <a:xfrm>
              <a:off x="3206880" y="3573720"/>
              <a:ext cx="503280" cy="430200"/>
            </a:xfrm>
            <a:prstGeom prst="leftArrow">
              <a:avLst>
                <a:gd name="adj1" fmla="val 50157"/>
                <a:gd name="adj2" fmla="val 55753"/>
              </a:avLst>
            </a:prstGeom>
            <a:solidFill>
              <a:srgbClr val="800080"/>
            </a:soli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0" name="Freeform 281"/>
            <p:cNvSpPr/>
            <p:nvPr/>
          </p:nvSpPr>
          <p:spPr>
            <a:xfrm>
              <a:off x="3249720" y="3651480"/>
              <a:ext cx="436680" cy="142920"/>
            </a:xfrm>
            <a:custGeom>
              <a:avLst/>
              <a:gdLst/>
              <a:ahLst/>
              <a:rect l="l" t="t" r="r" b="b"/>
              <a:pathLst>
                <a:path w="275" h="90">
                  <a:moveTo>
                    <a:pt x="275" y="90"/>
                  </a:moveTo>
                  <a:lnTo>
                    <a:pt x="0" y="89"/>
                  </a:lnTo>
                  <a:lnTo>
                    <a:pt x="101" y="0"/>
                  </a:lnTo>
                  <a:lnTo>
                    <a:pt x="101" y="45"/>
                  </a:lnTo>
                  <a:lnTo>
                    <a:pt x="275" y="42"/>
                  </a:lnTo>
                  <a:lnTo>
                    <a:pt x="275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1" name="AutoShape 282"/>
            <p:cNvSpPr/>
            <p:nvPr/>
          </p:nvSpPr>
          <p:spPr>
            <a:xfrm flipH="1">
              <a:off x="5330160" y="3573720"/>
              <a:ext cx="505080" cy="430200"/>
            </a:xfrm>
            <a:prstGeom prst="leftArrow">
              <a:avLst>
                <a:gd name="adj1" fmla="val 50157"/>
                <a:gd name="adj2" fmla="val 55952"/>
              </a:avLst>
            </a:prstGeom>
            <a:solidFill>
              <a:srgbClr val="800080"/>
            </a:soli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2" name="Freeform 283"/>
            <p:cNvSpPr/>
            <p:nvPr/>
          </p:nvSpPr>
          <p:spPr>
            <a:xfrm>
              <a:off x="5367600" y="3632400"/>
              <a:ext cx="426960" cy="176040"/>
            </a:xfrm>
            <a:custGeom>
              <a:avLst/>
              <a:gdLst/>
              <a:ahLst/>
              <a:rect l="l" t="t" r="r" b="b"/>
              <a:pathLst>
                <a:path w="269" h="111">
                  <a:moveTo>
                    <a:pt x="0" y="111"/>
                  </a:moveTo>
                  <a:lnTo>
                    <a:pt x="269" y="98"/>
                  </a:lnTo>
                  <a:lnTo>
                    <a:pt x="159" y="0"/>
                  </a:lnTo>
                  <a:lnTo>
                    <a:pt x="165" y="54"/>
                  </a:lnTo>
                  <a:lnTo>
                    <a:pt x="3" y="54"/>
                  </a:lnTo>
                  <a:lnTo>
                    <a:pt x="0" y="1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Group 261"/>
          <p:cNvGrpSpPr/>
          <p:nvPr/>
        </p:nvGrpSpPr>
        <p:grpSpPr>
          <a:xfrm>
            <a:off x="278280" y="1363680"/>
            <a:ext cx="8624160" cy="5016600"/>
            <a:chOff x="278280" y="1363680"/>
            <a:chExt cx="8624160" cy="5016600"/>
          </a:xfrm>
        </p:grpSpPr>
        <p:grpSp>
          <p:nvGrpSpPr>
            <p:cNvPr id="1425" name="Group 262"/>
            <p:cNvGrpSpPr/>
            <p:nvPr/>
          </p:nvGrpSpPr>
          <p:grpSpPr>
            <a:xfrm>
              <a:off x="7314840" y="1453680"/>
              <a:ext cx="1587600" cy="1740600"/>
              <a:chOff x="7314840" y="1453680"/>
              <a:chExt cx="1587600" cy="1740600"/>
            </a:xfrm>
          </p:grpSpPr>
          <p:sp>
            <p:nvSpPr>
              <p:cNvPr id="1426" name="Freeform 263"/>
              <p:cNvSpPr/>
              <p:nvPr/>
            </p:nvSpPr>
            <p:spPr>
              <a:xfrm rot="2767800">
                <a:off x="7712640" y="2712240"/>
                <a:ext cx="319680" cy="257040"/>
              </a:xfrm>
              <a:custGeom>
                <a:avLst/>
                <a:gdLst>
                  <a:gd name="textAreaLeft" fmla="*/ 0 w 319680"/>
                  <a:gd name="textAreaRight" fmla="*/ 320040 w 3196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52" h="484">
                    <a:moveTo>
                      <a:pt x="206" y="466"/>
                    </a:moveTo>
                    <a:lnTo>
                      <a:pt x="206" y="466"/>
                    </a:lnTo>
                    <a:lnTo>
                      <a:pt x="196" y="470"/>
                    </a:lnTo>
                    <a:lnTo>
                      <a:pt x="172" y="476"/>
                    </a:lnTo>
                    <a:lnTo>
                      <a:pt x="156" y="480"/>
                    </a:lnTo>
                    <a:lnTo>
                      <a:pt x="138" y="484"/>
                    </a:lnTo>
                    <a:lnTo>
                      <a:pt x="118" y="484"/>
                    </a:lnTo>
                    <a:lnTo>
                      <a:pt x="98" y="484"/>
                    </a:lnTo>
                    <a:lnTo>
                      <a:pt x="78" y="480"/>
                    </a:lnTo>
                    <a:lnTo>
                      <a:pt x="60" y="472"/>
                    </a:lnTo>
                    <a:lnTo>
                      <a:pt x="42" y="462"/>
                    </a:lnTo>
                    <a:lnTo>
                      <a:pt x="34" y="454"/>
                    </a:lnTo>
                    <a:lnTo>
                      <a:pt x="28" y="446"/>
                    </a:lnTo>
                    <a:lnTo>
                      <a:pt x="20" y="436"/>
                    </a:lnTo>
                    <a:lnTo>
                      <a:pt x="14" y="426"/>
                    </a:lnTo>
                    <a:lnTo>
                      <a:pt x="10" y="412"/>
                    </a:lnTo>
                    <a:lnTo>
                      <a:pt x="6" y="398"/>
                    </a:lnTo>
                    <a:lnTo>
                      <a:pt x="2" y="382"/>
                    </a:lnTo>
                    <a:lnTo>
                      <a:pt x="0" y="366"/>
                    </a:lnTo>
                    <a:lnTo>
                      <a:pt x="0" y="346"/>
                    </a:lnTo>
                    <a:lnTo>
                      <a:pt x="0" y="326"/>
                    </a:lnTo>
                    <a:lnTo>
                      <a:pt x="74" y="298"/>
                    </a:lnTo>
                    <a:lnTo>
                      <a:pt x="150" y="268"/>
                    </a:lnTo>
                    <a:lnTo>
                      <a:pt x="244" y="226"/>
                    </a:lnTo>
                    <a:lnTo>
                      <a:pt x="292" y="202"/>
                    </a:lnTo>
                    <a:lnTo>
                      <a:pt x="342" y="178"/>
                    </a:lnTo>
                    <a:lnTo>
                      <a:pt x="390" y="150"/>
                    </a:lnTo>
                    <a:lnTo>
                      <a:pt x="438" y="122"/>
                    </a:lnTo>
                    <a:lnTo>
                      <a:pt x="480" y="94"/>
                    </a:lnTo>
                    <a:lnTo>
                      <a:pt x="520" y="62"/>
                    </a:lnTo>
                    <a:lnTo>
                      <a:pt x="554" y="32"/>
                    </a:lnTo>
                    <a:lnTo>
                      <a:pt x="568" y="16"/>
                    </a:lnTo>
                    <a:lnTo>
                      <a:pt x="582" y="0"/>
                    </a:lnTo>
                    <a:lnTo>
                      <a:pt x="588" y="8"/>
                    </a:lnTo>
                    <a:lnTo>
                      <a:pt x="604" y="26"/>
                    </a:lnTo>
                    <a:lnTo>
                      <a:pt x="614" y="40"/>
                    </a:lnTo>
                    <a:lnTo>
                      <a:pt x="624" y="56"/>
                    </a:lnTo>
                    <a:lnTo>
                      <a:pt x="634" y="74"/>
                    </a:lnTo>
                    <a:lnTo>
                      <a:pt x="642" y="94"/>
                    </a:lnTo>
                    <a:lnTo>
                      <a:pt x="648" y="116"/>
                    </a:lnTo>
                    <a:lnTo>
                      <a:pt x="652" y="140"/>
                    </a:lnTo>
                    <a:lnTo>
                      <a:pt x="652" y="166"/>
                    </a:lnTo>
                    <a:lnTo>
                      <a:pt x="648" y="192"/>
                    </a:lnTo>
                    <a:lnTo>
                      <a:pt x="644" y="206"/>
                    </a:lnTo>
                    <a:lnTo>
                      <a:pt x="638" y="220"/>
                    </a:lnTo>
                    <a:lnTo>
                      <a:pt x="632" y="234"/>
                    </a:lnTo>
                    <a:lnTo>
                      <a:pt x="622" y="248"/>
                    </a:lnTo>
                    <a:lnTo>
                      <a:pt x="612" y="262"/>
                    </a:lnTo>
                    <a:lnTo>
                      <a:pt x="602" y="278"/>
                    </a:lnTo>
                    <a:lnTo>
                      <a:pt x="588" y="292"/>
                    </a:lnTo>
                    <a:lnTo>
                      <a:pt x="572" y="306"/>
                    </a:lnTo>
                    <a:lnTo>
                      <a:pt x="524" y="332"/>
                    </a:lnTo>
                    <a:lnTo>
                      <a:pt x="416" y="386"/>
                    </a:lnTo>
                    <a:lnTo>
                      <a:pt x="352" y="414"/>
                    </a:lnTo>
                    <a:lnTo>
                      <a:pt x="292" y="440"/>
                    </a:lnTo>
                    <a:lnTo>
                      <a:pt x="242" y="458"/>
                    </a:lnTo>
                    <a:lnTo>
                      <a:pt x="220" y="464"/>
                    </a:lnTo>
                    <a:lnTo>
                      <a:pt x="206" y="466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27" name="Freeform 264"/>
              <p:cNvSpPr/>
              <p:nvPr/>
            </p:nvSpPr>
            <p:spPr>
              <a:xfrm rot="2767800">
                <a:off x="7625160" y="1606680"/>
                <a:ext cx="966600" cy="1272960"/>
              </a:xfrm>
              <a:custGeom>
                <a:avLst/>
                <a:gdLst>
                  <a:gd name="textAreaLeft" fmla="*/ 0 w 966600"/>
                  <a:gd name="textAreaRight" fmla="*/ 966960 w 966600"/>
                  <a:gd name="textAreaTop" fmla="*/ 0 h 1272960"/>
                  <a:gd name="textAreaBottom" fmla="*/ 1273320 h 1272960"/>
                </a:gdLst>
                <a:ahLst/>
                <a:rect l="textAreaLeft" t="textAreaTop" r="textAreaRight" b="textAreaBottom"/>
                <a:pathLst>
                  <a:path w="1970" h="2394">
                    <a:moveTo>
                      <a:pt x="1778" y="2052"/>
                    </a:moveTo>
                    <a:lnTo>
                      <a:pt x="1778" y="2052"/>
                    </a:lnTo>
                    <a:lnTo>
                      <a:pt x="1770" y="2058"/>
                    </a:lnTo>
                    <a:lnTo>
                      <a:pt x="1750" y="2080"/>
                    </a:lnTo>
                    <a:lnTo>
                      <a:pt x="1710" y="2114"/>
                    </a:lnTo>
                    <a:lnTo>
                      <a:pt x="1684" y="2134"/>
                    </a:lnTo>
                    <a:lnTo>
                      <a:pt x="1654" y="2158"/>
                    </a:lnTo>
                    <a:lnTo>
                      <a:pt x="1618" y="2182"/>
                    </a:lnTo>
                    <a:lnTo>
                      <a:pt x="1576" y="2208"/>
                    </a:lnTo>
                    <a:lnTo>
                      <a:pt x="1530" y="2234"/>
                    </a:lnTo>
                    <a:lnTo>
                      <a:pt x="1478" y="2262"/>
                    </a:lnTo>
                    <a:lnTo>
                      <a:pt x="1418" y="2292"/>
                    </a:lnTo>
                    <a:lnTo>
                      <a:pt x="1354" y="2320"/>
                    </a:lnTo>
                    <a:lnTo>
                      <a:pt x="1282" y="2350"/>
                    </a:lnTo>
                    <a:lnTo>
                      <a:pt x="1204" y="2380"/>
                    </a:lnTo>
                    <a:lnTo>
                      <a:pt x="1186" y="2384"/>
                    </a:lnTo>
                    <a:lnTo>
                      <a:pt x="1164" y="2388"/>
                    </a:lnTo>
                    <a:lnTo>
                      <a:pt x="1134" y="2392"/>
                    </a:lnTo>
                    <a:lnTo>
                      <a:pt x="1098" y="2394"/>
                    </a:lnTo>
                    <a:lnTo>
                      <a:pt x="1058" y="2394"/>
                    </a:lnTo>
                    <a:lnTo>
                      <a:pt x="1012" y="2390"/>
                    </a:lnTo>
                    <a:lnTo>
                      <a:pt x="964" y="2382"/>
                    </a:lnTo>
                    <a:lnTo>
                      <a:pt x="940" y="2376"/>
                    </a:lnTo>
                    <a:lnTo>
                      <a:pt x="914" y="2368"/>
                    </a:lnTo>
                    <a:lnTo>
                      <a:pt x="888" y="2360"/>
                    </a:lnTo>
                    <a:lnTo>
                      <a:pt x="862" y="2348"/>
                    </a:lnTo>
                    <a:lnTo>
                      <a:pt x="836" y="2336"/>
                    </a:lnTo>
                    <a:lnTo>
                      <a:pt x="810" y="2322"/>
                    </a:lnTo>
                    <a:lnTo>
                      <a:pt x="786" y="2304"/>
                    </a:lnTo>
                    <a:lnTo>
                      <a:pt x="760" y="2284"/>
                    </a:lnTo>
                    <a:lnTo>
                      <a:pt x="734" y="2264"/>
                    </a:lnTo>
                    <a:lnTo>
                      <a:pt x="710" y="2238"/>
                    </a:lnTo>
                    <a:lnTo>
                      <a:pt x="686" y="2212"/>
                    </a:lnTo>
                    <a:lnTo>
                      <a:pt x="664" y="2182"/>
                    </a:lnTo>
                    <a:lnTo>
                      <a:pt x="642" y="2150"/>
                    </a:lnTo>
                    <a:lnTo>
                      <a:pt x="620" y="2114"/>
                    </a:lnTo>
                    <a:lnTo>
                      <a:pt x="600" y="2074"/>
                    </a:lnTo>
                    <a:lnTo>
                      <a:pt x="582" y="2032"/>
                    </a:lnTo>
                    <a:lnTo>
                      <a:pt x="564" y="2024"/>
                    </a:lnTo>
                    <a:lnTo>
                      <a:pt x="518" y="2004"/>
                    </a:lnTo>
                    <a:lnTo>
                      <a:pt x="488" y="1988"/>
                    </a:lnTo>
                    <a:lnTo>
                      <a:pt x="454" y="1970"/>
                    </a:lnTo>
                    <a:lnTo>
                      <a:pt x="418" y="1948"/>
                    </a:lnTo>
                    <a:lnTo>
                      <a:pt x="382" y="1922"/>
                    </a:lnTo>
                    <a:lnTo>
                      <a:pt x="348" y="1894"/>
                    </a:lnTo>
                    <a:lnTo>
                      <a:pt x="316" y="1864"/>
                    </a:lnTo>
                    <a:lnTo>
                      <a:pt x="302" y="1848"/>
                    </a:lnTo>
                    <a:lnTo>
                      <a:pt x="288" y="1830"/>
                    </a:lnTo>
                    <a:lnTo>
                      <a:pt x="276" y="1812"/>
                    </a:lnTo>
                    <a:lnTo>
                      <a:pt x="266" y="1794"/>
                    </a:lnTo>
                    <a:lnTo>
                      <a:pt x="256" y="1776"/>
                    </a:lnTo>
                    <a:lnTo>
                      <a:pt x="250" y="1756"/>
                    </a:lnTo>
                    <a:lnTo>
                      <a:pt x="244" y="1736"/>
                    </a:lnTo>
                    <a:lnTo>
                      <a:pt x="242" y="1714"/>
                    </a:lnTo>
                    <a:lnTo>
                      <a:pt x="240" y="1694"/>
                    </a:lnTo>
                    <a:lnTo>
                      <a:pt x="242" y="1672"/>
                    </a:lnTo>
                    <a:lnTo>
                      <a:pt x="246" y="1648"/>
                    </a:lnTo>
                    <a:lnTo>
                      <a:pt x="254" y="1626"/>
                    </a:lnTo>
                    <a:lnTo>
                      <a:pt x="256" y="1618"/>
                    </a:lnTo>
                    <a:lnTo>
                      <a:pt x="266" y="1596"/>
                    </a:lnTo>
                    <a:lnTo>
                      <a:pt x="274" y="1582"/>
                    </a:lnTo>
                    <a:lnTo>
                      <a:pt x="286" y="1566"/>
                    </a:lnTo>
                    <a:lnTo>
                      <a:pt x="298" y="1550"/>
                    </a:lnTo>
                    <a:lnTo>
                      <a:pt x="314" y="1534"/>
                    </a:lnTo>
                    <a:lnTo>
                      <a:pt x="334" y="1518"/>
                    </a:lnTo>
                    <a:lnTo>
                      <a:pt x="356" y="1504"/>
                    </a:lnTo>
                    <a:lnTo>
                      <a:pt x="382" y="1492"/>
                    </a:lnTo>
                    <a:lnTo>
                      <a:pt x="412" y="1480"/>
                    </a:lnTo>
                    <a:lnTo>
                      <a:pt x="446" y="1474"/>
                    </a:lnTo>
                    <a:lnTo>
                      <a:pt x="482" y="1470"/>
                    </a:lnTo>
                    <a:lnTo>
                      <a:pt x="524" y="1470"/>
                    </a:lnTo>
                    <a:lnTo>
                      <a:pt x="572" y="1476"/>
                    </a:lnTo>
                    <a:lnTo>
                      <a:pt x="548" y="1446"/>
                    </a:lnTo>
                    <a:lnTo>
                      <a:pt x="484" y="1366"/>
                    </a:lnTo>
                    <a:lnTo>
                      <a:pt x="394" y="1248"/>
                    </a:lnTo>
                    <a:lnTo>
                      <a:pt x="342" y="1178"/>
                    </a:lnTo>
                    <a:lnTo>
                      <a:pt x="290" y="1106"/>
                    </a:lnTo>
                    <a:lnTo>
                      <a:pt x="236" y="1030"/>
                    </a:lnTo>
                    <a:lnTo>
                      <a:pt x="186" y="952"/>
                    </a:lnTo>
                    <a:lnTo>
                      <a:pt x="138" y="876"/>
                    </a:lnTo>
                    <a:lnTo>
                      <a:pt x="94" y="802"/>
                    </a:lnTo>
                    <a:lnTo>
                      <a:pt x="58" y="732"/>
                    </a:lnTo>
                    <a:lnTo>
                      <a:pt x="42" y="700"/>
                    </a:lnTo>
                    <a:lnTo>
                      <a:pt x="28" y="668"/>
                    </a:lnTo>
                    <a:lnTo>
                      <a:pt x="18" y="638"/>
                    </a:lnTo>
                    <a:lnTo>
                      <a:pt x="10" y="610"/>
                    </a:lnTo>
                    <a:lnTo>
                      <a:pt x="4" y="586"/>
                    </a:lnTo>
                    <a:lnTo>
                      <a:pt x="2" y="562"/>
                    </a:lnTo>
                    <a:lnTo>
                      <a:pt x="0" y="556"/>
                    </a:lnTo>
                    <a:lnTo>
                      <a:pt x="2" y="536"/>
                    </a:lnTo>
                    <a:lnTo>
                      <a:pt x="8" y="508"/>
                    </a:lnTo>
                    <a:lnTo>
                      <a:pt x="12" y="492"/>
                    </a:lnTo>
                    <a:lnTo>
                      <a:pt x="18" y="474"/>
                    </a:lnTo>
                    <a:lnTo>
                      <a:pt x="26" y="456"/>
                    </a:lnTo>
                    <a:lnTo>
                      <a:pt x="38" y="438"/>
                    </a:lnTo>
                    <a:lnTo>
                      <a:pt x="52" y="420"/>
                    </a:lnTo>
                    <a:lnTo>
                      <a:pt x="68" y="402"/>
                    </a:lnTo>
                    <a:lnTo>
                      <a:pt x="88" y="384"/>
                    </a:lnTo>
                    <a:lnTo>
                      <a:pt x="112" y="370"/>
                    </a:lnTo>
                    <a:lnTo>
                      <a:pt x="140" y="356"/>
                    </a:lnTo>
                    <a:lnTo>
                      <a:pt x="172" y="344"/>
                    </a:lnTo>
                    <a:lnTo>
                      <a:pt x="180" y="342"/>
                    </a:lnTo>
                    <a:lnTo>
                      <a:pt x="200" y="340"/>
                    </a:lnTo>
                    <a:lnTo>
                      <a:pt x="214" y="340"/>
                    </a:lnTo>
                    <a:lnTo>
                      <a:pt x="230" y="342"/>
                    </a:lnTo>
                    <a:lnTo>
                      <a:pt x="248" y="346"/>
                    </a:lnTo>
                    <a:lnTo>
                      <a:pt x="270" y="352"/>
                    </a:lnTo>
                    <a:lnTo>
                      <a:pt x="292" y="364"/>
                    </a:lnTo>
                    <a:lnTo>
                      <a:pt x="318" y="378"/>
                    </a:lnTo>
                    <a:lnTo>
                      <a:pt x="344" y="398"/>
                    </a:lnTo>
                    <a:lnTo>
                      <a:pt x="372" y="422"/>
                    </a:lnTo>
                    <a:lnTo>
                      <a:pt x="402" y="454"/>
                    </a:lnTo>
                    <a:lnTo>
                      <a:pt x="432" y="490"/>
                    </a:lnTo>
                    <a:lnTo>
                      <a:pt x="462" y="536"/>
                    </a:lnTo>
                    <a:lnTo>
                      <a:pt x="494" y="588"/>
                    </a:lnTo>
                    <a:lnTo>
                      <a:pt x="862" y="1218"/>
                    </a:lnTo>
                    <a:lnTo>
                      <a:pt x="546" y="322"/>
                    </a:lnTo>
                    <a:lnTo>
                      <a:pt x="542" y="312"/>
                    </a:lnTo>
                    <a:lnTo>
                      <a:pt x="536" y="290"/>
                    </a:lnTo>
                    <a:lnTo>
                      <a:pt x="534" y="274"/>
                    </a:lnTo>
                    <a:lnTo>
                      <a:pt x="532" y="256"/>
                    </a:lnTo>
                    <a:lnTo>
                      <a:pt x="532" y="236"/>
                    </a:lnTo>
                    <a:lnTo>
                      <a:pt x="532" y="214"/>
                    </a:lnTo>
                    <a:lnTo>
                      <a:pt x="536" y="190"/>
                    </a:lnTo>
                    <a:lnTo>
                      <a:pt x="542" y="166"/>
                    </a:lnTo>
                    <a:lnTo>
                      <a:pt x="552" y="142"/>
                    </a:lnTo>
                    <a:lnTo>
                      <a:pt x="564" y="120"/>
                    </a:lnTo>
                    <a:lnTo>
                      <a:pt x="582" y="96"/>
                    </a:lnTo>
                    <a:lnTo>
                      <a:pt x="604" y="74"/>
                    </a:lnTo>
                    <a:lnTo>
                      <a:pt x="632" y="54"/>
                    </a:lnTo>
                    <a:lnTo>
                      <a:pt x="648" y="44"/>
                    </a:lnTo>
                    <a:lnTo>
                      <a:pt x="666" y="34"/>
                    </a:lnTo>
                    <a:lnTo>
                      <a:pt x="676" y="30"/>
                    </a:lnTo>
                    <a:lnTo>
                      <a:pt x="702" y="24"/>
                    </a:lnTo>
                    <a:lnTo>
                      <a:pt x="720" y="20"/>
                    </a:lnTo>
                    <a:lnTo>
                      <a:pt x="742" y="18"/>
                    </a:lnTo>
                    <a:lnTo>
                      <a:pt x="764" y="16"/>
                    </a:lnTo>
                    <a:lnTo>
                      <a:pt x="788" y="18"/>
                    </a:lnTo>
                    <a:lnTo>
                      <a:pt x="814" y="20"/>
                    </a:lnTo>
                    <a:lnTo>
                      <a:pt x="840" y="28"/>
                    </a:lnTo>
                    <a:lnTo>
                      <a:pt x="866" y="38"/>
                    </a:lnTo>
                    <a:lnTo>
                      <a:pt x="890" y="54"/>
                    </a:lnTo>
                    <a:lnTo>
                      <a:pt x="902" y="62"/>
                    </a:lnTo>
                    <a:lnTo>
                      <a:pt x="914" y="74"/>
                    </a:lnTo>
                    <a:lnTo>
                      <a:pt x="926" y="86"/>
                    </a:lnTo>
                    <a:lnTo>
                      <a:pt x="936" y="98"/>
                    </a:lnTo>
                    <a:lnTo>
                      <a:pt x="946" y="114"/>
                    </a:lnTo>
                    <a:lnTo>
                      <a:pt x="956" y="130"/>
                    </a:lnTo>
                    <a:lnTo>
                      <a:pt x="964" y="148"/>
                    </a:lnTo>
                    <a:lnTo>
                      <a:pt x="972" y="168"/>
                    </a:lnTo>
                    <a:lnTo>
                      <a:pt x="1226" y="1068"/>
                    </a:lnTo>
                    <a:lnTo>
                      <a:pt x="1220" y="1028"/>
                    </a:lnTo>
                    <a:lnTo>
                      <a:pt x="1204" y="926"/>
                    </a:lnTo>
                    <a:lnTo>
                      <a:pt x="1184" y="778"/>
                    </a:lnTo>
                    <a:lnTo>
                      <a:pt x="1176" y="692"/>
                    </a:lnTo>
                    <a:lnTo>
                      <a:pt x="1166" y="604"/>
                    </a:lnTo>
                    <a:lnTo>
                      <a:pt x="1160" y="514"/>
                    </a:lnTo>
                    <a:lnTo>
                      <a:pt x="1156" y="426"/>
                    </a:lnTo>
                    <a:lnTo>
                      <a:pt x="1154" y="340"/>
                    </a:lnTo>
                    <a:lnTo>
                      <a:pt x="1158" y="260"/>
                    </a:lnTo>
                    <a:lnTo>
                      <a:pt x="1160" y="224"/>
                    </a:lnTo>
                    <a:lnTo>
                      <a:pt x="1166" y="188"/>
                    </a:lnTo>
                    <a:lnTo>
                      <a:pt x="1170" y="158"/>
                    </a:lnTo>
                    <a:lnTo>
                      <a:pt x="1178" y="128"/>
                    </a:lnTo>
                    <a:lnTo>
                      <a:pt x="1186" y="104"/>
                    </a:lnTo>
                    <a:lnTo>
                      <a:pt x="1196" y="82"/>
                    </a:lnTo>
                    <a:lnTo>
                      <a:pt x="1208" y="64"/>
                    </a:lnTo>
                    <a:lnTo>
                      <a:pt x="1222" y="50"/>
                    </a:lnTo>
                    <a:lnTo>
                      <a:pt x="1236" y="38"/>
                    </a:lnTo>
                    <a:lnTo>
                      <a:pt x="1252" y="26"/>
                    </a:lnTo>
                    <a:lnTo>
                      <a:pt x="1274" y="14"/>
                    </a:lnTo>
                    <a:lnTo>
                      <a:pt x="1288" y="8"/>
                    </a:lnTo>
                    <a:lnTo>
                      <a:pt x="1302" y="4"/>
                    </a:lnTo>
                    <a:lnTo>
                      <a:pt x="1320" y="0"/>
                    </a:lnTo>
                    <a:lnTo>
                      <a:pt x="1336" y="0"/>
                    </a:lnTo>
                    <a:lnTo>
                      <a:pt x="1354" y="0"/>
                    </a:lnTo>
                    <a:lnTo>
                      <a:pt x="1374" y="2"/>
                    </a:lnTo>
                    <a:lnTo>
                      <a:pt x="1396" y="6"/>
                    </a:lnTo>
                    <a:lnTo>
                      <a:pt x="1418" y="14"/>
                    </a:lnTo>
                    <a:lnTo>
                      <a:pt x="1424" y="16"/>
                    </a:lnTo>
                    <a:lnTo>
                      <a:pt x="1438" y="22"/>
                    </a:lnTo>
                    <a:lnTo>
                      <a:pt x="1458" y="36"/>
                    </a:lnTo>
                    <a:lnTo>
                      <a:pt x="1470" y="46"/>
                    </a:lnTo>
                    <a:lnTo>
                      <a:pt x="1482" y="56"/>
                    </a:lnTo>
                    <a:lnTo>
                      <a:pt x="1494" y="72"/>
                    </a:lnTo>
                    <a:lnTo>
                      <a:pt x="1506" y="88"/>
                    </a:lnTo>
                    <a:lnTo>
                      <a:pt x="1516" y="108"/>
                    </a:lnTo>
                    <a:lnTo>
                      <a:pt x="1528" y="130"/>
                    </a:lnTo>
                    <a:lnTo>
                      <a:pt x="1536" y="156"/>
                    </a:lnTo>
                    <a:lnTo>
                      <a:pt x="1542" y="184"/>
                    </a:lnTo>
                    <a:lnTo>
                      <a:pt x="1548" y="218"/>
                    </a:lnTo>
                    <a:lnTo>
                      <a:pt x="1550" y="254"/>
                    </a:lnTo>
                    <a:lnTo>
                      <a:pt x="1602" y="1016"/>
                    </a:lnTo>
                    <a:lnTo>
                      <a:pt x="1608" y="1062"/>
                    </a:lnTo>
                    <a:lnTo>
                      <a:pt x="1622" y="1070"/>
                    </a:lnTo>
                    <a:lnTo>
                      <a:pt x="1662" y="1092"/>
                    </a:lnTo>
                    <a:lnTo>
                      <a:pt x="1688" y="1108"/>
                    </a:lnTo>
                    <a:lnTo>
                      <a:pt x="1718" y="1130"/>
                    </a:lnTo>
                    <a:lnTo>
                      <a:pt x="1750" y="1154"/>
                    </a:lnTo>
                    <a:lnTo>
                      <a:pt x="1784" y="1184"/>
                    </a:lnTo>
                    <a:lnTo>
                      <a:pt x="1818" y="1218"/>
                    </a:lnTo>
                    <a:lnTo>
                      <a:pt x="1850" y="1258"/>
                    </a:lnTo>
                    <a:lnTo>
                      <a:pt x="1866" y="1278"/>
                    </a:lnTo>
                    <a:lnTo>
                      <a:pt x="1880" y="1300"/>
                    </a:lnTo>
                    <a:lnTo>
                      <a:pt x="1894" y="1324"/>
                    </a:lnTo>
                    <a:lnTo>
                      <a:pt x="1908" y="1350"/>
                    </a:lnTo>
                    <a:lnTo>
                      <a:pt x="1920" y="1376"/>
                    </a:lnTo>
                    <a:lnTo>
                      <a:pt x="1932" y="1402"/>
                    </a:lnTo>
                    <a:lnTo>
                      <a:pt x="1942" y="1430"/>
                    </a:lnTo>
                    <a:lnTo>
                      <a:pt x="1950" y="1460"/>
                    </a:lnTo>
                    <a:lnTo>
                      <a:pt x="1958" y="1492"/>
                    </a:lnTo>
                    <a:lnTo>
                      <a:pt x="1964" y="1524"/>
                    </a:lnTo>
                    <a:lnTo>
                      <a:pt x="1968" y="1558"/>
                    </a:lnTo>
                    <a:lnTo>
                      <a:pt x="1970" y="1592"/>
                    </a:lnTo>
                    <a:lnTo>
                      <a:pt x="1970" y="1608"/>
                    </a:lnTo>
                    <a:lnTo>
                      <a:pt x="1966" y="1646"/>
                    </a:lnTo>
                    <a:lnTo>
                      <a:pt x="1958" y="1702"/>
                    </a:lnTo>
                    <a:lnTo>
                      <a:pt x="1952" y="1736"/>
                    </a:lnTo>
                    <a:lnTo>
                      <a:pt x="1942" y="1772"/>
                    </a:lnTo>
                    <a:lnTo>
                      <a:pt x="1932" y="1810"/>
                    </a:lnTo>
                    <a:lnTo>
                      <a:pt x="1920" y="1848"/>
                    </a:lnTo>
                    <a:lnTo>
                      <a:pt x="1904" y="1886"/>
                    </a:lnTo>
                    <a:lnTo>
                      <a:pt x="1886" y="1922"/>
                    </a:lnTo>
                    <a:lnTo>
                      <a:pt x="1864" y="1960"/>
                    </a:lnTo>
                    <a:lnTo>
                      <a:pt x="1838" y="1992"/>
                    </a:lnTo>
                    <a:lnTo>
                      <a:pt x="1824" y="2008"/>
                    </a:lnTo>
                    <a:lnTo>
                      <a:pt x="1810" y="2024"/>
                    </a:lnTo>
                    <a:lnTo>
                      <a:pt x="1794" y="2038"/>
                    </a:lnTo>
                    <a:lnTo>
                      <a:pt x="1778" y="2052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28" name="Freeform 265"/>
              <p:cNvSpPr/>
              <p:nvPr/>
            </p:nvSpPr>
            <p:spPr>
              <a:xfrm rot="2767800">
                <a:off x="7859880" y="2211480"/>
                <a:ext cx="426600" cy="427320"/>
              </a:xfrm>
              <a:custGeom>
                <a:avLst/>
                <a:gdLst>
                  <a:gd name="textAreaLeft" fmla="*/ 0 w 426600"/>
                  <a:gd name="textAreaRight" fmla="*/ 426960 w 426600"/>
                  <a:gd name="textAreaTop" fmla="*/ 0 h 427320"/>
                  <a:gd name="textAreaBottom" fmla="*/ 427680 h 427320"/>
                </a:gdLst>
                <a:ahLst/>
                <a:rect l="textAreaLeft" t="textAreaTop" r="textAreaRight" b="textAreaBottom"/>
                <a:pathLst>
                  <a:path w="870" h="804">
                    <a:moveTo>
                      <a:pt x="870" y="0"/>
                    </a:moveTo>
                    <a:lnTo>
                      <a:pt x="870" y="0"/>
                    </a:lnTo>
                    <a:lnTo>
                      <a:pt x="858" y="2"/>
                    </a:lnTo>
                    <a:lnTo>
                      <a:pt x="824" y="10"/>
                    </a:lnTo>
                    <a:lnTo>
                      <a:pt x="772" y="26"/>
                    </a:lnTo>
                    <a:lnTo>
                      <a:pt x="742" y="36"/>
                    </a:lnTo>
                    <a:lnTo>
                      <a:pt x="708" y="50"/>
                    </a:lnTo>
                    <a:lnTo>
                      <a:pt x="672" y="64"/>
                    </a:lnTo>
                    <a:lnTo>
                      <a:pt x="634" y="82"/>
                    </a:lnTo>
                    <a:lnTo>
                      <a:pt x="596" y="104"/>
                    </a:lnTo>
                    <a:lnTo>
                      <a:pt x="558" y="128"/>
                    </a:lnTo>
                    <a:lnTo>
                      <a:pt x="518" y="156"/>
                    </a:lnTo>
                    <a:lnTo>
                      <a:pt x="480" y="188"/>
                    </a:lnTo>
                    <a:lnTo>
                      <a:pt x="442" y="222"/>
                    </a:lnTo>
                    <a:lnTo>
                      <a:pt x="406" y="260"/>
                    </a:lnTo>
                    <a:lnTo>
                      <a:pt x="384" y="280"/>
                    </a:lnTo>
                    <a:lnTo>
                      <a:pt x="320" y="326"/>
                    </a:lnTo>
                    <a:lnTo>
                      <a:pt x="278" y="354"/>
                    </a:lnTo>
                    <a:lnTo>
                      <a:pt x="228" y="386"/>
                    </a:lnTo>
                    <a:lnTo>
                      <a:pt x="174" y="418"/>
                    </a:lnTo>
                    <a:lnTo>
                      <a:pt x="114" y="448"/>
                    </a:lnTo>
                    <a:lnTo>
                      <a:pt x="106" y="452"/>
                    </a:lnTo>
                    <a:lnTo>
                      <a:pt x="86" y="460"/>
                    </a:lnTo>
                    <a:lnTo>
                      <a:pt x="74" y="468"/>
                    </a:lnTo>
                    <a:lnTo>
                      <a:pt x="60" y="476"/>
                    </a:lnTo>
                    <a:lnTo>
                      <a:pt x="46" y="486"/>
                    </a:lnTo>
                    <a:lnTo>
                      <a:pt x="32" y="498"/>
                    </a:lnTo>
                    <a:lnTo>
                      <a:pt x="20" y="512"/>
                    </a:lnTo>
                    <a:lnTo>
                      <a:pt x="10" y="530"/>
                    </a:lnTo>
                    <a:lnTo>
                      <a:pt x="4" y="548"/>
                    </a:lnTo>
                    <a:lnTo>
                      <a:pt x="0" y="568"/>
                    </a:lnTo>
                    <a:lnTo>
                      <a:pt x="2" y="592"/>
                    </a:lnTo>
                    <a:lnTo>
                      <a:pt x="4" y="604"/>
                    </a:lnTo>
                    <a:lnTo>
                      <a:pt x="8" y="616"/>
                    </a:lnTo>
                    <a:lnTo>
                      <a:pt x="14" y="630"/>
                    </a:lnTo>
                    <a:lnTo>
                      <a:pt x="20" y="644"/>
                    </a:lnTo>
                    <a:lnTo>
                      <a:pt x="38" y="674"/>
                    </a:lnTo>
                    <a:lnTo>
                      <a:pt x="44" y="680"/>
                    </a:lnTo>
                    <a:lnTo>
                      <a:pt x="56" y="698"/>
                    </a:lnTo>
                    <a:lnTo>
                      <a:pt x="80" y="720"/>
                    </a:lnTo>
                    <a:lnTo>
                      <a:pt x="96" y="734"/>
                    </a:lnTo>
                    <a:lnTo>
                      <a:pt x="114" y="746"/>
                    </a:lnTo>
                    <a:lnTo>
                      <a:pt x="134" y="758"/>
                    </a:lnTo>
                    <a:lnTo>
                      <a:pt x="158" y="770"/>
                    </a:lnTo>
                    <a:lnTo>
                      <a:pt x="182" y="782"/>
                    </a:lnTo>
                    <a:lnTo>
                      <a:pt x="212" y="792"/>
                    </a:lnTo>
                    <a:lnTo>
                      <a:pt x="242" y="798"/>
                    </a:lnTo>
                    <a:lnTo>
                      <a:pt x="276" y="804"/>
                    </a:lnTo>
                    <a:lnTo>
                      <a:pt x="314" y="804"/>
                    </a:lnTo>
                    <a:lnTo>
                      <a:pt x="354" y="804"/>
                    </a:lnTo>
                    <a:lnTo>
                      <a:pt x="366" y="800"/>
                    </a:lnTo>
                    <a:lnTo>
                      <a:pt x="398" y="788"/>
                    </a:lnTo>
                    <a:lnTo>
                      <a:pt x="446" y="766"/>
                    </a:lnTo>
                    <a:lnTo>
                      <a:pt x="474" y="752"/>
                    </a:lnTo>
                    <a:lnTo>
                      <a:pt x="504" y="734"/>
                    </a:lnTo>
                    <a:lnTo>
                      <a:pt x="536" y="714"/>
                    </a:lnTo>
                    <a:lnTo>
                      <a:pt x="568" y="688"/>
                    </a:lnTo>
                    <a:lnTo>
                      <a:pt x="602" y="662"/>
                    </a:lnTo>
                    <a:lnTo>
                      <a:pt x="634" y="630"/>
                    </a:lnTo>
                    <a:lnTo>
                      <a:pt x="666" y="594"/>
                    </a:lnTo>
                    <a:lnTo>
                      <a:pt x="698" y="554"/>
                    </a:lnTo>
                    <a:lnTo>
                      <a:pt x="726" y="510"/>
                    </a:lnTo>
                    <a:lnTo>
                      <a:pt x="738" y="486"/>
                    </a:lnTo>
                    <a:lnTo>
                      <a:pt x="752" y="46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29" name="Freeform 266"/>
              <p:cNvSpPr/>
              <p:nvPr/>
            </p:nvSpPr>
            <p:spPr>
              <a:xfrm rot="2767800">
                <a:off x="7941240" y="2548080"/>
                <a:ext cx="18360" cy="1623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38" h="306">
                    <a:moveTo>
                      <a:pt x="38" y="306"/>
                    </a:moveTo>
                    <a:lnTo>
                      <a:pt x="38" y="306"/>
                    </a:lnTo>
                    <a:lnTo>
                      <a:pt x="26" y="274"/>
                    </a:lnTo>
                    <a:lnTo>
                      <a:pt x="16" y="240"/>
                    </a:lnTo>
                    <a:lnTo>
                      <a:pt x="6" y="198"/>
                    </a:lnTo>
                    <a:lnTo>
                      <a:pt x="2" y="174"/>
                    </a:lnTo>
                    <a:lnTo>
                      <a:pt x="0" y="150"/>
                    </a:lnTo>
                    <a:lnTo>
                      <a:pt x="0" y="124"/>
                    </a:lnTo>
                    <a:lnTo>
                      <a:pt x="2" y="98"/>
                    </a:lnTo>
                    <a:lnTo>
                      <a:pt x="6" y="72"/>
                    </a:lnTo>
                    <a:lnTo>
                      <a:pt x="14" y="48"/>
                    </a:lnTo>
                    <a:lnTo>
                      <a:pt x="24" y="22"/>
                    </a:lnTo>
                    <a:lnTo>
                      <a:pt x="36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0" name="Freeform 267"/>
              <p:cNvSpPr/>
              <p:nvPr/>
            </p:nvSpPr>
            <p:spPr>
              <a:xfrm rot="2767800">
                <a:off x="7657920" y="2388600"/>
                <a:ext cx="166680" cy="9756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40" h="184">
                    <a:moveTo>
                      <a:pt x="0" y="176"/>
                    </a:moveTo>
                    <a:lnTo>
                      <a:pt x="0" y="176"/>
                    </a:lnTo>
                    <a:lnTo>
                      <a:pt x="20" y="180"/>
                    </a:lnTo>
                    <a:lnTo>
                      <a:pt x="44" y="182"/>
                    </a:lnTo>
                    <a:lnTo>
                      <a:pt x="74" y="184"/>
                    </a:lnTo>
                    <a:lnTo>
                      <a:pt x="108" y="182"/>
                    </a:lnTo>
                    <a:lnTo>
                      <a:pt x="144" y="180"/>
                    </a:lnTo>
                    <a:lnTo>
                      <a:pt x="182" y="172"/>
                    </a:lnTo>
                    <a:lnTo>
                      <a:pt x="200" y="166"/>
                    </a:lnTo>
                    <a:lnTo>
                      <a:pt x="220" y="160"/>
                    </a:lnTo>
                    <a:lnTo>
                      <a:pt x="240" y="148"/>
                    </a:lnTo>
                    <a:lnTo>
                      <a:pt x="260" y="134"/>
                    </a:lnTo>
                    <a:lnTo>
                      <a:pt x="278" y="116"/>
                    </a:lnTo>
                    <a:lnTo>
                      <a:pt x="294" y="96"/>
                    </a:lnTo>
                    <a:lnTo>
                      <a:pt x="308" y="74"/>
                    </a:lnTo>
                    <a:lnTo>
                      <a:pt x="320" y="50"/>
                    </a:lnTo>
                    <a:lnTo>
                      <a:pt x="332" y="26"/>
                    </a:lnTo>
                    <a:lnTo>
                      <a:pt x="34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1" name="Freeform 268"/>
              <p:cNvSpPr/>
              <p:nvPr/>
            </p:nvSpPr>
            <p:spPr>
              <a:xfrm rot="2767800">
                <a:off x="7817760" y="2223360"/>
                <a:ext cx="97920" cy="774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00" h="146">
                    <a:moveTo>
                      <a:pt x="200" y="146"/>
                    </a:moveTo>
                    <a:lnTo>
                      <a:pt x="200" y="146"/>
                    </a:lnTo>
                    <a:lnTo>
                      <a:pt x="186" y="130"/>
                    </a:lnTo>
                    <a:lnTo>
                      <a:pt x="170" y="114"/>
                    </a:lnTo>
                    <a:lnTo>
                      <a:pt x="146" y="92"/>
                    </a:lnTo>
                    <a:lnTo>
                      <a:pt x="118" y="70"/>
                    </a:lnTo>
                    <a:lnTo>
                      <a:pt x="82" y="44"/>
                    </a:lnTo>
                    <a:lnTo>
                      <a:pt x="44" y="22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2" name="Freeform 269"/>
              <p:cNvSpPr/>
              <p:nvPr/>
            </p:nvSpPr>
            <p:spPr>
              <a:xfrm rot="2767800">
                <a:off x="8145360" y="2274120"/>
                <a:ext cx="133200" cy="5292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72" h="100">
                    <a:moveTo>
                      <a:pt x="272" y="0"/>
                    </a:moveTo>
                    <a:lnTo>
                      <a:pt x="272" y="0"/>
                    </a:lnTo>
                    <a:lnTo>
                      <a:pt x="260" y="0"/>
                    </a:lnTo>
                    <a:lnTo>
                      <a:pt x="244" y="2"/>
                    </a:lnTo>
                    <a:lnTo>
                      <a:pt x="218" y="8"/>
                    </a:lnTo>
                    <a:lnTo>
                      <a:pt x="182" y="18"/>
                    </a:lnTo>
                    <a:lnTo>
                      <a:pt x="136" y="36"/>
                    </a:lnTo>
                    <a:lnTo>
                      <a:pt x="76" y="64"/>
                    </a:lnTo>
                    <a:lnTo>
                      <a:pt x="0" y="10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3" name="Freeform 270"/>
              <p:cNvSpPr/>
              <p:nvPr/>
            </p:nvSpPr>
            <p:spPr>
              <a:xfrm rot="2767800">
                <a:off x="7930080" y="2212920"/>
                <a:ext cx="132480" cy="5400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70" h="102">
                    <a:moveTo>
                      <a:pt x="270" y="0"/>
                    </a:moveTo>
                    <a:lnTo>
                      <a:pt x="270" y="0"/>
                    </a:lnTo>
                    <a:lnTo>
                      <a:pt x="258" y="0"/>
                    </a:lnTo>
                    <a:lnTo>
                      <a:pt x="242" y="2"/>
                    </a:lnTo>
                    <a:lnTo>
                      <a:pt x="216" y="8"/>
                    </a:lnTo>
                    <a:lnTo>
                      <a:pt x="182" y="20"/>
                    </a:lnTo>
                    <a:lnTo>
                      <a:pt x="134" y="38"/>
                    </a:lnTo>
                    <a:lnTo>
                      <a:pt x="74" y="64"/>
                    </a:lnTo>
                    <a:lnTo>
                      <a:pt x="0" y="102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4" name="Line 271"/>
              <p:cNvSpPr/>
              <p:nvPr/>
            </p:nvSpPr>
            <p:spPr>
              <a:xfrm flipH="1">
                <a:off x="8229600" y="2259000"/>
                <a:ext cx="2448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5" name="Line 272"/>
              <p:cNvSpPr/>
              <p:nvPr/>
            </p:nvSpPr>
            <p:spPr>
              <a:xfrm flipH="1">
                <a:off x="8038080" y="2198160"/>
                <a:ext cx="24840" cy="48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6" name="Freeform 273"/>
              <p:cNvSpPr/>
              <p:nvPr/>
            </p:nvSpPr>
            <p:spPr>
              <a:xfrm rot="2767800">
                <a:off x="7661880" y="2867760"/>
                <a:ext cx="283320" cy="264600"/>
              </a:xfrm>
              <a:custGeom>
                <a:avLst/>
                <a:gdLst>
                  <a:gd name="textAreaLeft" fmla="*/ 0 w 283320"/>
                  <a:gd name="textAreaRight" fmla="*/ 283680 w 28332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578" h="498">
                    <a:moveTo>
                      <a:pt x="0" y="190"/>
                    </a:moveTo>
                    <a:lnTo>
                      <a:pt x="0" y="190"/>
                    </a:lnTo>
                    <a:lnTo>
                      <a:pt x="54" y="168"/>
                    </a:lnTo>
                    <a:lnTo>
                      <a:pt x="178" y="116"/>
                    </a:lnTo>
                    <a:lnTo>
                      <a:pt x="322" y="52"/>
                    </a:lnTo>
                    <a:lnTo>
                      <a:pt x="382" y="22"/>
                    </a:lnTo>
                    <a:lnTo>
                      <a:pt x="426" y="0"/>
                    </a:lnTo>
                    <a:lnTo>
                      <a:pt x="578" y="304"/>
                    </a:lnTo>
                    <a:lnTo>
                      <a:pt x="380" y="380"/>
                    </a:lnTo>
                    <a:lnTo>
                      <a:pt x="218" y="444"/>
                    </a:lnTo>
                    <a:lnTo>
                      <a:pt x="90" y="498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37" name="Group 274"/>
            <p:cNvGrpSpPr/>
            <p:nvPr/>
          </p:nvGrpSpPr>
          <p:grpSpPr>
            <a:xfrm>
              <a:off x="278280" y="1479960"/>
              <a:ext cx="1072080" cy="1722600"/>
              <a:chOff x="278280" y="1479960"/>
              <a:chExt cx="1072080" cy="1722600"/>
            </a:xfrm>
          </p:grpSpPr>
          <p:sp>
            <p:nvSpPr>
              <p:cNvPr id="1438" name="Freeform 275"/>
              <p:cNvSpPr/>
              <p:nvPr/>
            </p:nvSpPr>
            <p:spPr>
              <a:xfrm rot="21413400">
                <a:off x="893160" y="2740320"/>
                <a:ext cx="370800" cy="269640"/>
              </a:xfrm>
              <a:custGeom>
                <a:avLst/>
                <a:gdLst>
                  <a:gd name="textAreaLeft" fmla="*/ 0 w 370800"/>
                  <a:gd name="textAreaRight" fmla="*/ 371160 w 3708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758" h="560">
                    <a:moveTo>
                      <a:pt x="196" y="558"/>
                    </a:moveTo>
                    <a:lnTo>
                      <a:pt x="196" y="558"/>
                    </a:lnTo>
                    <a:lnTo>
                      <a:pt x="186" y="558"/>
                    </a:lnTo>
                    <a:lnTo>
                      <a:pt x="160" y="560"/>
                    </a:lnTo>
                    <a:lnTo>
                      <a:pt x="124" y="560"/>
                    </a:lnTo>
                    <a:lnTo>
                      <a:pt x="106" y="558"/>
                    </a:lnTo>
                    <a:lnTo>
                      <a:pt x="86" y="554"/>
                    </a:lnTo>
                    <a:lnTo>
                      <a:pt x="66" y="548"/>
                    </a:lnTo>
                    <a:lnTo>
                      <a:pt x="48" y="540"/>
                    </a:lnTo>
                    <a:lnTo>
                      <a:pt x="32" y="530"/>
                    </a:lnTo>
                    <a:lnTo>
                      <a:pt x="18" y="516"/>
                    </a:lnTo>
                    <a:lnTo>
                      <a:pt x="12" y="508"/>
                    </a:lnTo>
                    <a:lnTo>
                      <a:pt x="8" y="500"/>
                    </a:lnTo>
                    <a:lnTo>
                      <a:pt x="4" y="490"/>
                    </a:lnTo>
                    <a:lnTo>
                      <a:pt x="2" y="480"/>
                    </a:lnTo>
                    <a:lnTo>
                      <a:pt x="0" y="468"/>
                    </a:lnTo>
                    <a:lnTo>
                      <a:pt x="0" y="456"/>
                    </a:lnTo>
                    <a:lnTo>
                      <a:pt x="2" y="442"/>
                    </a:lnTo>
                    <a:lnTo>
                      <a:pt x="6" y="426"/>
                    </a:lnTo>
                    <a:lnTo>
                      <a:pt x="94" y="376"/>
                    </a:lnTo>
                    <a:lnTo>
                      <a:pt x="186" y="322"/>
                    </a:lnTo>
                    <a:lnTo>
                      <a:pt x="294" y="256"/>
                    </a:lnTo>
                    <a:lnTo>
                      <a:pt x="406" y="184"/>
                    </a:lnTo>
                    <a:lnTo>
                      <a:pt x="458" y="148"/>
                    </a:lnTo>
                    <a:lnTo>
                      <a:pt x="508" y="114"/>
                    </a:lnTo>
                    <a:lnTo>
                      <a:pt x="552" y="82"/>
                    </a:lnTo>
                    <a:lnTo>
                      <a:pt x="590" y="52"/>
                    </a:lnTo>
                    <a:lnTo>
                      <a:pt x="620" y="24"/>
                    </a:lnTo>
                    <a:lnTo>
                      <a:pt x="632" y="12"/>
                    </a:lnTo>
                    <a:lnTo>
                      <a:pt x="640" y="0"/>
                    </a:lnTo>
                    <a:lnTo>
                      <a:pt x="650" y="8"/>
                    </a:lnTo>
                    <a:lnTo>
                      <a:pt x="676" y="30"/>
                    </a:lnTo>
                    <a:lnTo>
                      <a:pt x="692" y="44"/>
                    </a:lnTo>
                    <a:lnTo>
                      <a:pt x="708" y="62"/>
                    </a:lnTo>
                    <a:lnTo>
                      <a:pt x="722" y="82"/>
                    </a:lnTo>
                    <a:lnTo>
                      <a:pt x="736" y="102"/>
                    </a:lnTo>
                    <a:lnTo>
                      <a:pt x="748" y="126"/>
                    </a:lnTo>
                    <a:lnTo>
                      <a:pt x="754" y="150"/>
                    </a:lnTo>
                    <a:lnTo>
                      <a:pt x="756" y="162"/>
                    </a:lnTo>
                    <a:lnTo>
                      <a:pt x="758" y="174"/>
                    </a:lnTo>
                    <a:lnTo>
                      <a:pt x="756" y="188"/>
                    </a:lnTo>
                    <a:lnTo>
                      <a:pt x="754" y="200"/>
                    </a:lnTo>
                    <a:lnTo>
                      <a:pt x="750" y="212"/>
                    </a:lnTo>
                    <a:lnTo>
                      <a:pt x="744" y="226"/>
                    </a:lnTo>
                    <a:lnTo>
                      <a:pt x="736" y="238"/>
                    </a:lnTo>
                    <a:lnTo>
                      <a:pt x="726" y="252"/>
                    </a:lnTo>
                    <a:lnTo>
                      <a:pt x="712" y="264"/>
                    </a:lnTo>
                    <a:lnTo>
                      <a:pt x="698" y="278"/>
                    </a:lnTo>
                    <a:lnTo>
                      <a:pt x="680" y="290"/>
                    </a:lnTo>
                    <a:lnTo>
                      <a:pt x="660" y="302"/>
                    </a:lnTo>
                  </a:path>
                </a:pathLst>
              </a:custGeom>
              <a:solidFill>
                <a:srgbClr val="ffffff">
                  <a:alpha val="20000"/>
                </a:srgbClr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9" name="Freeform 276"/>
              <p:cNvSpPr/>
              <p:nvPr/>
            </p:nvSpPr>
            <p:spPr>
              <a:xfrm rot="21413400">
                <a:off x="317520" y="1504080"/>
                <a:ext cx="942840" cy="1479600"/>
              </a:xfrm>
              <a:custGeom>
                <a:avLst/>
                <a:gdLst>
                  <a:gd name="textAreaLeft" fmla="*/ 0 w 942840"/>
                  <a:gd name="textAreaRight" fmla="*/ 943200 w 942840"/>
                  <a:gd name="textAreaTop" fmla="*/ 0 h 1479600"/>
                  <a:gd name="textAreaBottom" fmla="*/ 1479960 h 1479600"/>
                </a:gdLst>
                <a:ahLst/>
                <a:rect l="textAreaLeft" t="textAreaTop" r="textAreaRight" b="textAreaBottom"/>
                <a:pathLst>
                  <a:path w="1928" h="3080">
                    <a:moveTo>
                      <a:pt x="1112" y="3028"/>
                    </a:moveTo>
                    <a:lnTo>
                      <a:pt x="1112" y="3028"/>
                    </a:lnTo>
                    <a:lnTo>
                      <a:pt x="1200" y="2976"/>
                    </a:lnTo>
                    <a:lnTo>
                      <a:pt x="1294" y="2922"/>
                    </a:lnTo>
                    <a:lnTo>
                      <a:pt x="1402" y="2856"/>
                    </a:lnTo>
                    <a:lnTo>
                      <a:pt x="1514" y="2784"/>
                    </a:lnTo>
                    <a:lnTo>
                      <a:pt x="1568" y="2748"/>
                    </a:lnTo>
                    <a:lnTo>
                      <a:pt x="1616" y="2714"/>
                    </a:lnTo>
                    <a:lnTo>
                      <a:pt x="1662" y="2682"/>
                    </a:lnTo>
                    <a:lnTo>
                      <a:pt x="1698" y="2652"/>
                    </a:lnTo>
                    <a:lnTo>
                      <a:pt x="1728" y="2624"/>
                    </a:lnTo>
                    <a:lnTo>
                      <a:pt x="1738" y="2614"/>
                    </a:lnTo>
                    <a:lnTo>
                      <a:pt x="1746" y="2602"/>
                    </a:lnTo>
                    <a:lnTo>
                      <a:pt x="1766" y="2584"/>
                    </a:lnTo>
                    <a:lnTo>
                      <a:pt x="1786" y="2560"/>
                    </a:lnTo>
                    <a:lnTo>
                      <a:pt x="1812" y="2528"/>
                    </a:lnTo>
                    <a:lnTo>
                      <a:pt x="1838" y="2488"/>
                    </a:lnTo>
                    <a:lnTo>
                      <a:pt x="1852" y="2466"/>
                    </a:lnTo>
                    <a:lnTo>
                      <a:pt x="1866" y="2440"/>
                    </a:lnTo>
                    <a:lnTo>
                      <a:pt x="1878" y="2414"/>
                    </a:lnTo>
                    <a:lnTo>
                      <a:pt x="1890" y="2386"/>
                    </a:lnTo>
                    <a:lnTo>
                      <a:pt x="1902" y="2354"/>
                    </a:lnTo>
                    <a:lnTo>
                      <a:pt x="1910" y="2322"/>
                    </a:lnTo>
                    <a:lnTo>
                      <a:pt x="1918" y="2288"/>
                    </a:lnTo>
                    <a:lnTo>
                      <a:pt x="1924" y="2254"/>
                    </a:lnTo>
                    <a:lnTo>
                      <a:pt x="1928" y="2216"/>
                    </a:lnTo>
                    <a:lnTo>
                      <a:pt x="1928" y="2178"/>
                    </a:lnTo>
                    <a:lnTo>
                      <a:pt x="1926" y="2138"/>
                    </a:lnTo>
                    <a:lnTo>
                      <a:pt x="1922" y="2098"/>
                    </a:lnTo>
                    <a:lnTo>
                      <a:pt x="1914" y="2056"/>
                    </a:lnTo>
                    <a:lnTo>
                      <a:pt x="1902" y="2012"/>
                    </a:lnTo>
                    <a:lnTo>
                      <a:pt x="1886" y="1966"/>
                    </a:lnTo>
                    <a:lnTo>
                      <a:pt x="1866" y="1920"/>
                    </a:lnTo>
                    <a:lnTo>
                      <a:pt x="1842" y="1872"/>
                    </a:lnTo>
                    <a:lnTo>
                      <a:pt x="1812" y="1824"/>
                    </a:lnTo>
                    <a:lnTo>
                      <a:pt x="1778" y="1774"/>
                    </a:lnTo>
                    <a:lnTo>
                      <a:pt x="1738" y="1724"/>
                    </a:lnTo>
                    <a:lnTo>
                      <a:pt x="1692" y="1672"/>
                    </a:lnTo>
                    <a:lnTo>
                      <a:pt x="1642" y="1620"/>
                    </a:lnTo>
                    <a:lnTo>
                      <a:pt x="1624" y="1606"/>
                    </a:lnTo>
                    <a:lnTo>
                      <a:pt x="1602" y="1592"/>
                    </a:lnTo>
                    <a:lnTo>
                      <a:pt x="1572" y="1576"/>
                    </a:lnTo>
                    <a:lnTo>
                      <a:pt x="1532" y="1556"/>
                    </a:lnTo>
                    <a:lnTo>
                      <a:pt x="1482" y="1538"/>
                    </a:lnTo>
                    <a:lnTo>
                      <a:pt x="1454" y="1530"/>
                    </a:lnTo>
                    <a:lnTo>
                      <a:pt x="1424" y="1522"/>
                    </a:lnTo>
                    <a:lnTo>
                      <a:pt x="1392" y="1514"/>
                    </a:lnTo>
                    <a:lnTo>
                      <a:pt x="1356" y="1508"/>
                    </a:lnTo>
                    <a:lnTo>
                      <a:pt x="996" y="276"/>
                    </a:lnTo>
                    <a:lnTo>
                      <a:pt x="992" y="264"/>
                    </a:lnTo>
                    <a:lnTo>
                      <a:pt x="980" y="232"/>
                    </a:lnTo>
                    <a:lnTo>
                      <a:pt x="972" y="210"/>
                    </a:lnTo>
                    <a:lnTo>
                      <a:pt x="960" y="186"/>
                    </a:lnTo>
                    <a:lnTo>
                      <a:pt x="944" y="160"/>
                    </a:lnTo>
                    <a:lnTo>
                      <a:pt x="926" y="132"/>
                    </a:lnTo>
                    <a:lnTo>
                      <a:pt x="906" y="106"/>
                    </a:lnTo>
                    <a:lnTo>
                      <a:pt x="882" y="82"/>
                    </a:lnTo>
                    <a:lnTo>
                      <a:pt x="854" y="58"/>
                    </a:lnTo>
                    <a:lnTo>
                      <a:pt x="838" y="48"/>
                    </a:lnTo>
                    <a:lnTo>
                      <a:pt x="822" y="38"/>
                    </a:lnTo>
                    <a:lnTo>
                      <a:pt x="804" y="28"/>
                    </a:lnTo>
                    <a:lnTo>
                      <a:pt x="786" y="20"/>
                    </a:lnTo>
                    <a:lnTo>
                      <a:pt x="768" y="14"/>
                    </a:lnTo>
                    <a:lnTo>
                      <a:pt x="748" y="8"/>
                    </a:lnTo>
                    <a:lnTo>
                      <a:pt x="726" y="4"/>
                    </a:lnTo>
                    <a:lnTo>
                      <a:pt x="704" y="2"/>
                    </a:lnTo>
                    <a:lnTo>
                      <a:pt x="680" y="0"/>
                    </a:lnTo>
                    <a:lnTo>
                      <a:pt x="656" y="2"/>
                    </a:lnTo>
                    <a:lnTo>
                      <a:pt x="642" y="4"/>
                    </a:lnTo>
                    <a:lnTo>
                      <a:pt x="626" y="10"/>
                    </a:lnTo>
                    <a:lnTo>
                      <a:pt x="606" y="18"/>
                    </a:lnTo>
                    <a:lnTo>
                      <a:pt x="584" y="30"/>
                    </a:lnTo>
                    <a:lnTo>
                      <a:pt x="558" y="44"/>
                    </a:lnTo>
                    <a:lnTo>
                      <a:pt x="532" y="64"/>
                    </a:lnTo>
                    <a:lnTo>
                      <a:pt x="504" y="86"/>
                    </a:lnTo>
                    <a:lnTo>
                      <a:pt x="492" y="100"/>
                    </a:lnTo>
                    <a:lnTo>
                      <a:pt x="478" y="116"/>
                    </a:lnTo>
                    <a:lnTo>
                      <a:pt x="466" y="132"/>
                    </a:lnTo>
                    <a:lnTo>
                      <a:pt x="456" y="150"/>
                    </a:lnTo>
                    <a:lnTo>
                      <a:pt x="444" y="170"/>
                    </a:lnTo>
                    <a:lnTo>
                      <a:pt x="436" y="190"/>
                    </a:lnTo>
                    <a:lnTo>
                      <a:pt x="426" y="214"/>
                    </a:lnTo>
                    <a:lnTo>
                      <a:pt x="420" y="238"/>
                    </a:lnTo>
                    <a:lnTo>
                      <a:pt x="414" y="264"/>
                    </a:lnTo>
                    <a:lnTo>
                      <a:pt x="408" y="292"/>
                    </a:lnTo>
                    <a:lnTo>
                      <a:pt x="406" y="322"/>
                    </a:lnTo>
                    <a:lnTo>
                      <a:pt x="404" y="352"/>
                    </a:lnTo>
                    <a:lnTo>
                      <a:pt x="406" y="386"/>
                    </a:lnTo>
                    <a:lnTo>
                      <a:pt x="408" y="422"/>
                    </a:lnTo>
                    <a:lnTo>
                      <a:pt x="412" y="460"/>
                    </a:lnTo>
                    <a:lnTo>
                      <a:pt x="420" y="500"/>
                    </a:lnTo>
                    <a:lnTo>
                      <a:pt x="454" y="608"/>
                    </a:lnTo>
                    <a:lnTo>
                      <a:pt x="492" y="724"/>
                    </a:lnTo>
                    <a:lnTo>
                      <a:pt x="542" y="866"/>
                    </a:lnTo>
                    <a:lnTo>
                      <a:pt x="600" y="1022"/>
                    </a:lnTo>
                    <a:lnTo>
                      <a:pt x="630" y="1100"/>
                    </a:lnTo>
                    <a:lnTo>
                      <a:pt x="662" y="1178"/>
                    </a:lnTo>
                    <a:lnTo>
                      <a:pt x="694" y="1254"/>
                    </a:lnTo>
                    <a:lnTo>
                      <a:pt x="726" y="1324"/>
                    </a:lnTo>
                    <a:lnTo>
                      <a:pt x="758" y="1388"/>
                    </a:lnTo>
                    <a:lnTo>
                      <a:pt x="790" y="1446"/>
                    </a:lnTo>
                    <a:lnTo>
                      <a:pt x="754" y="1468"/>
                    </a:lnTo>
                    <a:lnTo>
                      <a:pt x="718" y="1492"/>
                    </a:lnTo>
                    <a:lnTo>
                      <a:pt x="676" y="1524"/>
                    </a:lnTo>
                    <a:lnTo>
                      <a:pt x="654" y="1542"/>
                    </a:lnTo>
                    <a:lnTo>
                      <a:pt x="634" y="1562"/>
                    </a:lnTo>
                    <a:lnTo>
                      <a:pt x="614" y="1582"/>
                    </a:lnTo>
                    <a:lnTo>
                      <a:pt x="596" y="1604"/>
                    </a:lnTo>
                    <a:lnTo>
                      <a:pt x="582" y="1626"/>
                    </a:lnTo>
                    <a:lnTo>
                      <a:pt x="570" y="1648"/>
                    </a:lnTo>
                    <a:lnTo>
                      <a:pt x="564" y="1670"/>
                    </a:lnTo>
                    <a:lnTo>
                      <a:pt x="562" y="1682"/>
                    </a:lnTo>
                    <a:lnTo>
                      <a:pt x="560" y="1694"/>
                    </a:lnTo>
                    <a:lnTo>
                      <a:pt x="548" y="1694"/>
                    </a:lnTo>
                    <a:lnTo>
                      <a:pt x="510" y="1698"/>
                    </a:lnTo>
                    <a:lnTo>
                      <a:pt x="486" y="1702"/>
                    </a:lnTo>
                    <a:lnTo>
                      <a:pt x="460" y="1708"/>
                    </a:lnTo>
                    <a:lnTo>
                      <a:pt x="430" y="1718"/>
                    </a:lnTo>
                    <a:lnTo>
                      <a:pt x="398" y="1730"/>
                    </a:lnTo>
                    <a:lnTo>
                      <a:pt x="368" y="1744"/>
                    </a:lnTo>
                    <a:lnTo>
                      <a:pt x="336" y="1764"/>
                    </a:lnTo>
                    <a:lnTo>
                      <a:pt x="322" y="1776"/>
                    </a:lnTo>
                    <a:lnTo>
                      <a:pt x="308" y="1788"/>
                    </a:lnTo>
                    <a:lnTo>
                      <a:pt x="294" y="1802"/>
                    </a:lnTo>
                    <a:lnTo>
                      <a:pt x="280" y="1818"/>
                    </a:lnTo>
                    <a:lnTo>
                      <a:pt x="268" y="1834"/>
                    </a:lnTo>
                    <a:lnTo>
                      <a:pt x="256" y="1852"/>
                    </a:lnTo>
                    <a:lnTo>
                      <a:pt x="246" y="1872"/>
                    </a:lnTo>
                    <a:lnTo>
                      <a:pt x="236" y="1894"/>
                    </a:lnTo>
                    <a:lnTo>
                      <a:pt x="228" y="1916"/>
                    </a:lnTo>
                    <a:lnTo>
                      <a:pt x="220" y="1940"/>
                    </a:lnTo>
                    <a:lnTo>
                      <a:pt x="214" y="1966"/>
                    </a:lnTo>
                    <a:lnTo>
                      <a:pt x="210" y="1994"/>
                    </a:lnTo>
                    <a:lnTo>
                      <a:pt x="198" y="1996"/>
                    </a:lnTo>
                    <a:lnTo>
                      <a:pt x="170" y="2006"/>
                    </a:lnTo>
                    <a:lnTo>
                      <a:pt x="150" y="2014"/>
                    </a:lnTo>
                    <a:lnTo>
                      <a:pt x="130" y="2026"/>
                    </a:lnTo>
                    <a:lnTo>
                      <a:pt x="108" y="2040"/>
                    </a:lnTo>
                    <a:lnTo>
                      <a:pt x="86" y="2060"/>
                    </a:lnTo>
                    <a:lnTo>
                      <a:pt x="64" y="2082"/>
                    </a:lnTo>
                    <a:lnTo>
                      <a:pt x="44" y="2110"/>
                    </a:lnTo>
                    <a:lnTo>
                      <a:pt x="36" y="2126"/>
                    </a:lnTo>
                    <a:lnTo>
                      <a:pt x="28" y="2144"/>
                    </a:lnTo>
                    <a:lnTo>
                      <a:pt x="20" y="2162"/>
                    </a:lnTo>
                    <a:lnTo>
                      <a:pt x="14" y="2182"/>
                    </a:lnTo>
                    <a:lnTo>
                      <a:pt x="8" y="2202"/>
                    </a:lnTo>
                    <a:lnTo>
                      <a:pt x="4" y="2226"/>
                    </a:lnTo>
                    <a:lnTo>
                      <a:pt x="2" y="2250"/>
                    </a:lnTo>
                    <a:lnTo>
                      <a:pt x="0" y="2276"/>
                    </a:lnTo>
                    <a:lnTo>
                      <a:pt x="0" y="2304"/>
                    </a:lnTo>
                    <a:lnTo>
                      <a:pt x="2" y="2332"/>
                    </a:lnTo>
                    <a:lnTo>
                      <a:pt x="4" y="2364"/>
                    </a:lnTo>
                    <a:lnTo>
                      <a:pt x="10" y="2396"/>
                    </a:lnTo>
                    <a:lnTo>
                      <a:pt x="14" y="2416"/>
                    </a:lnTo>
                    <a:lnTo>
                      <a:pt x="26" y="2466"/>
                    </a:lnTo>
                    <a:lnTo>
                      <a:pt x="38" y="2498"/>
                    </a:lnTo>
                    <a:lnTo>
                      <a:pt x="50" y="2534"/>
                    </a:lnTo>
                    <a:lnTo>
                      <a:pt x="68" y="2574"/>
                    </a:lnTo>
                    <a:lnTo>
                      <a:pt x="88" y="2612"/>
                    </a:lnTo>
                    <a:lnTo>
                      <a:pt x="112" y="2652"/>
                    </a:lnTo>
                    <a:lnTo>
                      <a:pt x="126" y="2670"/>
                    </a:lnTo>
                    <a:lnTo>
                      <a:pt x="142" y="2688"/>
                    </a:lnTo>
                    <a:lnTo>
                      <a:pt x="156" y="2706"/>
                    </a:lnTo>
                    <a:lnTo>
                      <a:pt x="174" y="2722"/>
                    </a:lnTo>
                    <a:lnTo>
                      <a:pt x="192" y="2736"/>
                    </a:lnTo>
                    <a:lnTo>
                      <a:pt x="212" y="2750"/>
                    </a:lnTo>
                    <a:lnTo>
                      <a:pt x="232" y="2762"/>
                    </a:lnTo>
                    <a:lnTo>
                      <a:pt x="254" y="2772"/>
                    </a:lnTo>
                    <a:lnTo>
                      <a:pt x="278" y="2782"/>
                    </a:lnTo>
                    <a:lnTo>
                      <a:pt x="304" y="2788"/>
                    </a:lnTo>
                    <a:lnTo>
                      <a:pt x="330" y="2792"/>
                    </a:lnTo>
                    <a:lnTo>
                      <a:pt x="356" y="2794"/>
                    </a:lnTo>
                    <a:lnTo>
                      <a:pt x="386" y="2794"/>
                    </a:lnTo>
                    <a:lnTo>
                      <a:pt x="416" y="2790"/>
                    </a:lnTo>
                    <a:lnTo>
                      <a:pt x="422" y="2808"/>
                    </a:lnTo>
                    <a:lnTo>
                      <a:pt x="432" y="2828"/>
                    </a:lnTo>
                    <a:lnTo>
                      <a:pt x="444" y="2854"/>
                    </a:lnTo>
                    <a:lnTo>
                      <a:pt x="462" y="2884"/>
                    </a:lnTo>
                    <a:lnTo>
                      <a:pt x="484" y="2916"/>
                    </a:lnTo>
                    <a:lnTo>
                      <a:pt x="514" y="2948"/>
                    </a:lnTo>
                    <a:lnTo>
                      <a:pt x="530" y="2966"/>
                    </a:lnTo>
                    <a:lnTo>
                      <a:pt x="548" y="2982"/>
                    </a:lnTo>
                    <a:lnTo>
                      <a:pt x="568" y="2996"/>
                    </a:lnTo>
                    <a:lnTo>
                      <a:pt x="590" y="3012"/>
                    </a:lnTo>
                    <a:lnTo>
                      <a:pt x="614" y="3026"/>
                    </a:lnTo>
                    <a:lnTo>
                      <a:pt x="638" y="3038"/>
                    </a:lnTo>
                    <a:lnTo>
                      <a:pt x="666" y="3050"/>
                    </a:lnTo>
                    <a:lnTo>
                      <a:pt x="694" y="3060"/>
                    </a:lnTo>
                    <a:lnTo>
                      <a:pt x="726" y="3068"/>
                    </a:lnTo>
                    <a:lnTo>
                      <a:pt x="760" y="3074"/>
                    </a:lnTo>
                    <a:lnTo>
                      <a:pt x="794" y="3078"/>
                    </a:lnTo>
                    <a:lnTo>
                      <a:pt x="832" y="3080"/>
                    </a:lnTo>
                    <a:lnTo>
                      <a:pt x="872" y="3080"/>
                    </a:lnTo>
                    <a:lnTo>
                      <a:pt x="914" y="3078"/>
                    </a:lnTo>
                    <a:lnTo>
                      <a:pt x="958" y="3072"/>
                    </a:lnTo>
                    <a:lnTo>
                      <a:pt x="1006" y="3062"/>
                    </a:lnTo>
                    <a:lnTo>
                      <a:pt x="1056" y="3050"/>
                    </a:lnTo>
                    <a:lnTo>
                      <a:pt x="1108" y="3036"/>
                    </a:lnTo>
                  </a:path>
                </a:pathLst>
              </a:custGeom>
              <a:solidFill>
                <a:srgbClr val="ffffff">
                  <a:alpha val="20000"/>
                </a:srgbClr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0" name="Freeform 277"/>
              <p:cNvSpPr/>
              <p:nvPr/>
            </p:nvSpPr>
            <p:spPr>
              <a:xfrm rot="21413400">
                <a:off x="598680" y="2230920"/>
                <a:ext cx="411840" cy="40212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842" h="836">
                    <a:moveTo>
                      <a:pt x="790" y="0"/>
                    </a:moveTo>
                    <a:lnTo>
                      <a:pt x="790" y="0"/>
                    </a:lnTo>
                    <a:lnTo>
                      <a:pt x="694" y="64"/>
                    </a:lnTo>
                    <a:lnTo>
                      <a:pt x="474" y="208"/>
                    </a:lnTo>
                    <a:lnTo>
                      <a:pt x="352" y="288"/>
                    </a:lnTo>
                    <a:lnTo>
                      <a:pt x="238" y="360"/>
                    </a:lnTo>
                    <a:lnTo>
                      <a:pt x="146" y="414"/>
                    </a:lnTo>
                    <a:lnTo>
                      <a:pt x="112" y="434"/>
                    </a:lnTo>
                    <a:lnTo>
                      <a:pt x="88" y="446"/>
                    </a:lnTo>
                    <a:lnTo>
                      <a:pt x="80" y="450"/>
                    </a:lnTo>
                    <a:lnTo>
                      <a:pt x="58" y="466"/>
                    </a:lnTo>
                    <a:lnTo>
                      <a:pt x="44" y="478"/>
                    </a:lnTo>
                    <a:lnTo>
                      <a:pt x="32" y="492"/>
                    </a:lnTo>
                    <a:lnTo>
                      <a:pt x="20" y="508"/>
                    </a:lnTo>
                    <a:lnTo>
                      <a:pt x="10" y="528"/>
                    </a:lnTo>
                    <a:lnTo>
                      <a:pt x="2" y="550"/>
                    </a:lnTo>
                    <a:lnTo>
                      <a:pt x="0" y="564"/>
                    </a:lnTo>
                    <a:lnTo>
                      <a:pt x="0" y="576"/>
                    </a:lnTo>
                    <a:lnTo>
                      <a:pt x="0" y="590"/>
                    </a:lnTo>
                    <a:lnTo>
                      <a:pt x="2" y="604"/>
                    </a:lnTo>
                    <a:lnTo>
                      <a:pt x="4" y="618"/>
                    </a:lnTo>
                    <a:lnTo>
                      <a:pt x="10" y="634"/>
                    </a:lnTo>
                    <a:lnTo>
                      <a:pt x="16" y="652"/>
                    </a:lnTo>
                    <a:lnTo>
                      <a:pt x="26" y="668"/>
                    </a:lnTo>
                    <a:lnTo>
                      <a:pt x="36" y="686"/>
                    </a:lnTo>
                    <a:lnTo>
                      <a:pt x="48" y="704"/>
                    </a:lnTo>
                    <a:lnTo>
                      <a:pt x="64" y="724"/>
                    </a:lnTo>
                    <a:lnTo>
                      <a:pt x="82" y="744"/>
                    </a:lnTo>
                    <a:lnTo>
                      <a:pt x="102" y="764"/>
                    </a:lnTo>
                    <a:lnTo>
                      <a:pt x="124" y="786"/>
                    </a:lnTo>
                    <a:lnTo>
                      <a:pt x="134" y="792"/>
                    </a:lnTo>
                    <a:lnTo>
                      <a:pt x="146" y="800"/>
                    </a:lnTo>
                    <a:lnTo>
                      <a:pt x="164" y="808"/>
                    </a:lnTo>
                    <a:lnTo>
                      <a:pt x="184" y="816"/>
                    </a:lnTo>
                    <a:lnTo>
                      <a:pt x="210" y="824"/>
                    </a:lnTo>
                    <a:lnTo>
                      <a:pt x="240" y="830"/>
                    </a:lnTo>
                    <a:lnTo>
                      <a:pt x="272" y="834"/>
                    </a:lnTo>
                    <a:lnTo>
                      <a:pt x="310" y="836"/>
                    </a:lnTo>
                    <a:lnTo>
                      <a:pt x="350" y="834"/>
                    </a:lnTo>
                    <a:lnTo>
                      <a:pt x="394" y="826"/>
                    </a:lnTo>
                    <a:lnTo>
                      <a:pt x="418" y="820"/>
                    </a:lnTo>
                    <a:lnTo>
                      <a:pt x="442" y="812"/>
                    </a:lnTo>
                    <a:lnTo>
                      <a:pt x="468" y="804"/>
                    </a:lnTo>
                    <a:lnTo>
                      <a:pt x="494" y="792"/>
                    </a:lnTo>
                    <a:lnTo>
                      <a:pt x="520" y="780"/>
                    </a:lnTo>
                    <a:lnTo>
                      <a:pt x="546" y="766"/>
                    </a:lnTo>
                    <a:lnTo>
                      <a:pt x="574" y="748"/>
                    </a:lnTo>
                    <a:lnTo>
                      <a:pt x="602" y="730"/>
                    </a:lnTo>
                    <a:lnTo>
                      <a:pt x="632" y="708"/>
                    </a:lnTo>
                    <a:lnTo>
                      <a:pt x="662" y="684"/>
                    </a:lnTo>
                    <a:lnTo>
                      <a:pt x="688" y="654"/>
                    </a:lnTo>
                    <a:lnTo>
                      <a:pt x="748" y="582"/>
                    </a:lnTo>
                    <a:lnTo>
                      <a:pt x="780" y="540"/>
                    </a:lnTo>
                    <a:lnTo>
                      <a:pt x="810" y="500"/>
                    </a:lnTo>
                    <a:lnTo>
                      <a:pt x="832" y="464"/>
                    </a:lnTo>
                    <a:lnTo>
                      <a:pt x="838" y="448"/>
                    </a:lnTo>
                    <a:lnTo>
                      <a:pt x="842" y="43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1" name="Freeform 278"/>
              <p:cNvSpPr/>
              <p:nvPr/>
            </p:nvSpPr>
            <p:spPr>
              <a:xfrm rot="21413400">
                <a:off x="705240" y="2200320"/>
                <a:ext cx="90000" cy="15084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84" h="314">
                    <a:moveTo>
                      <a:pt x="0" y="0"/>
                    </a:moveTo>
                    <a:lnTo>
                      <a:pt x="0" y="0"/>
                    </a:lnTo>
                    <a:lnTo>
                      <a:pt x="30" y="46"/>
                    </a:lnTo>
                    <a:lnTo>
                      <a:pt x="92" y="148"/>
                    </a:lnTo>
                    <a:lnTo>
                      <a:pt x="126" y="204"/>
                    </a:lnTo>
                    <a:lnTo>
                      <a:pt x="156" y="256"/>
                    </a:lnTo>
                    <a:lnTo>
                      <a:pt x="176" y="294"/>
                    </a:lnTo>
                    <a:lnTo>
                      <a:pt x="182" y="308"/>
                    </a:lnTo>
                    <a:lnTo>
                      <a:pt x="184" y="314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2" name="Freeform 279"/>
              <p:cNvSpPr/>
              <p:nvPr/>
            </p:nvSpPr>
            <p:spPr>
              <a:xfrm rot="21413400">
                <a:off x="592560" y="2316240"/>
                <a:ext cx="11520" cy="1620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24" h="340">
                    <a:moveTo>
                      <a:pt x="20" y="0"/>
                    </a:moveTo>
                    <a:lnTo>
                      <a:pt x="20" y="0"/>
                    </a:lnTo>
                    <a:lnTo>
                      <a:pt x="10" y="70"/>
                    </a:lnTo>
                    <a:lnTo>
                      <a:pt x="4" y="134"/>
                    </a:lnTo>
                    <a:lnTo>
                      <a:pt x="2" y="168"/>
                    </a:lnTo>
                    <a:lnTo>
                      <a:pt x="0" y="200"/>
                    </a:lnTo>
                    <a:lnTo>
                      <a:pt x="0" y="246"/>
                    </a:lnTo>
                    <a:lnTo>
                      <a:pt x="6" y="284"/>
                    </a:lnTo>
                    <a:lnTo>
                      <a:pt x="8" y="302"/>
                    </a:lnTo>
                    <a:lnTo>
                      <a:pt x="14" y="316"/>
                    </a:lnTo>
                    <a:lnTo>
                      <a:pt x="18" y="330"/>
                    </a:lnTo>
                    <a:lnTo>
                      <a:pt x="24" y="34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3" name="Freeform 280"/>
              <p:cNvSpPr/>
              <p:nvPr/>
            </p:nvSpPr>
            <p:spPr>
              <a:xfrm rot="21413400">
                <a:off x="708480" y="2586240"/>
                <a:ext cx="194040" cy="1101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400" h="228">
                    <a:moveTo>
                      <a:pt x="0" y="86"/>
                    </a:moveTo>
                    <a:lnTo>
                      <a:pt x="0" y="86"/>
                    </a:lnTo>
                    <a:lnTo>
                      <a:pt x="4" y="92"/>
                    </a:lnTo>
                    <a:lnTo>
                      <a:pt x="16" y="112"/>
                    </a:lnTo>
                    <a:lnTo>
                      <a:pt x="34" y="140"/>
                    </a:lnTo>
                    <a:lnTo>
                      <a:pt x="46" y="154"/>
                    </a:lnTo>
                    <a:lnTo>
                      <a:pt x="60" y="168"/>
                    </a:lnTo>
                    <a:lnTo>
                      <a:pt x="76" y="184"/>
                    </a:lnTo>
                    <a:lnTo>
                      <a:pt x="94" y="196"/>
                    </a:lnTo>
                    <a:lnTo>
                      <a:pt x="112" y="208"/>
                    </a:lnTo>
                    <a:lnTo>
                      <a:pt x="132" y="218"/>
                    </a:lnTo>
                    <a:lnTo>
                      <a:pt x="154" y="224"/>
                    </a:lnTo>
                    <a:lnTo>
                      <a:pt x="178" y="228"/>
                    </a:lnTo>
                    <a:lnTo>
                      <a:pt x="202" y="228"/>
                    </a:lnTo>
                    <a:lnTo>
                      <a:pt x="230" y="224"/>
                    </a:lnTo>
                    <a:lnTo>
                      <a:pt x="236" y="220"/>
                    </a:lnTo>
                    <a:lnTo>
                      <a:pt x="254" y="210"/>
                    </a:lnTo>
                    <a:lnTo>
                      <a:pt x="278" y="194"/>
                    </a:lnTo>
                    <a:lnTo>
                      <a:pt x="308" y="172"/>
                    </a:lnTo>
                    <a:lnTo>
                      <a:pt x="324" y="158"/>
                    </a:lnTo>
                    <a:lnTo>
                      <a:pt x="338" y="142"/>
                    </a:lnTo>
                    <a:lnTo>
                      <a:pt x="352" y="124"/>
                    </a:lnTo>
                    <a:lnTo>
                      <a:pt x="366" y="102"/>
                    </a:lnTo>
                    <a:lnTo>
                      <a:pt x="378" y="80"/>
                    </a:lnTo>
                    <a:lnTo>
                      <a:pt x="388" y="56"/>
                    </a:lnTo>
                    <a:lnTo>
                      <a:pt x="396" y="30"/>
                    </a:lnTo>
                    <a:lnTo>
                      <a:pt x="40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4" name="Freeform 281"/>
              <p:cNvSpPr/>
              <p:nvPr/>
            </p:nvSpPr>
            <p:spPr>
              <a:xfrm rot="21413400">
                <a:off x="439920" y="2468160"/>
                <a:ext cx="338040" cy="30816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692" h="642">
                    <a:moveTo>
                      <a:pt x="0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2" y="60"/>
                    </a:lnTo>
                    <a:lnTo>
                      <a:pt x="6" y="90"/>
                    </a:lnTo>
                    <a:lnTo>
                      <a:pt x="12" y="126"/>
                    </a:lnTo>
                    <a:lnTo>
                      <a:pt x="20" y="166"/>
                    </a:lnTo>
                    <a:lnTo>
                      <a:pt x="30" y="208"/>
                    </a:lnTo>
                    <a:lnTo>
                      <a:pt x="44" y="254"/>
                    </a:lnTo>
                    <a:lnTo>
                      <a:pt x="62" y="302"/>
                    </a:lnTo>
                    <a:lnTo>
                      <a:pt x="84" y="350"/>
                    </a:lnTo>
                    <a:lnTo>
                      <a:pt x="112" y="400"/>
                    </a:lnTo>
                    <a:lnTo>
                      <a:pt x="128" y="424"/>
                    </a:lnTo>
                    <a:lnTo>
                      <a:pt x="144" y="448"/>
                    </a:lnTo>
                    <a:lnTo>
                      <a:pt x="162" y="472"/>
                    </a:lnTo>
                    <a:lnTo>
                      <a:pt x="182" y="494"/>
                    </a:lnTo>
                    <a:lnTo>
                      <a:pt x="204" y="518"/>
                    </a:lnTo>
                    <a:lnTo>
                      <a:pt x="228" y="540"/>
                    </a:lnTo>
                    <a:lnTo>
                      <a:pt x="252" y="562"/>
                    </a:lnTo>
                    <a:lnTo>
                      <a:pt x="278" y="582"/>
                    </a:lnTo>
                    <a:lnTo>
                      <a:pt x="288" y="590"/>
                    </a:lnTo>
                    <a:lnTo>
                      <a:pt x="312" y="608"/>
                    </a:lnTo>
                    <a:lnTo>
                      <a:pt x="330" y="616"/>
                    </a:lnTo>
                    <a:lnTo>
                      <a:pt x="352" y="626"/>
                    </a:lnTo>
                    <a:lnTo>
                      <a:pt x="376" y="634"/>
                    </a:lnTo>
                    <a:lnTo>
                      <a:pt x="404" y="640"/>
                    </a:lnTo>
                    <a:lnTo>
                      <a:pt x="434" y="642"/>
                    </a:lnTo>
                    <a:lnTo>
                      <a:pt x="466" y="640"/>
                    </a:lnTo>
                    <a:lnTo>
                      <a:pt x="482" y="638"/>
                    </a:lnTo>
                    <a:lnTo>
                      <a:pt x="500" y="634"/>
                    </a:lnTo>
                    <a:lnTo>
                      <a:pt x="518" y="628"/>
                    </a:lnTo>
                    <a:lnTo>
                      <a:pt x="536" y="620"/>
                    </a:lnTo>
                    <a:lnTo>
                      <a:pt x="554" y="610"/>
                    </a:lnTo>
                    <a:lnTo>
                      <a:pt x="572" y="600"/>
                    </a:lnTo>
                    <a:lnTo>
                      <a:pt x="592" y="586"/>
                    </a:lnTo>
                    <a:lnTo>
                      <a:pt x="612" y="572"/>
                    </a:lnTo>
                    <a:lnTo>
                      <a:pt x="632" y="554"/>
                    </a:lnTo>
                    <a:lnTo>
                      <a:pt x="652" y="534"/>
                    </a:lnTo>
                    <a:lnTo>
                      <a:pt x="672" y="512"/>
                    </a:lnTo>
                    <a:lnTo>
                      <a:pt x="692" y="488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5" name="Freeform 282"/>
              <p:cNvSpPr/>
              <p:nvPr/>
            </p:nvSpPr>
            <p:spPr>
              <a:xfrm rot="21413400">
                <a:off x="542160" y="2768760"/>
                <a:ext cx="69120" cy="910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144" h="190">
                    <a:moveTo>
                      <a:pt x="0" y="190"/>
                    </a:moveTo>
                    <a:lnTo>
                      <a:pt x="0" y="190"/>
                    </a:lnTo>
                    <a:lnTo>
                      <a:pt x="22" y="178"/>
                    </a:lnTo>
                    <a:lnTo>
                      <a:pt x="46" y="162"/>
                    </a:lnTo>
                    <a:lnTo>
                      <a:pt x="72" y="142"/>
                    </a:lnTo>
                    <a:lnTo>
                      <a:pt x="84" y="130"/>
                    </a:lnTo>
                    <a:lnTo>
                      <a:pt x="98" y="114"/>
                    </a:lnTo>
                    <a:lnTo>
                      <a:pt x="110" y="100"/>
                    </a:lnTo>
                    <a:lnTo>
                      <a:pt x="122" y="82"/>
                    </a:lnTo>
                    <a:lnTo>
                      <a:pt x="130" y="64"/>
                    </a:lnTo>
                    <a:lnTo>
                      <a:pt x="138" y="44"/>
                    </a:lnTo>
                    <a:lnTo>
                      <a:pt x="142" y="22"/>
                    </a:lnTo>
                    <a:lnTo>
                      <a:pt x="144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6" name="Freeform 283"/>
              <p:cNvSpPr/>
              <p:nvPr/>
            </p:nvSpPr>
            <p:spPr>
              <a:xfrm rot="21413400">
                <a:off x="997200" y="2880360"/>
                <a:ext cx="344520" cy="3128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312840"/>
                  <a:gd name="textAreaBottom" fmla="*/ 312840 h 312840"/>
                </a:gdLst>
                <a:ahLst/>
                <a:rect l="textAreaLeft" t="textAreaTop" r="textAreaRight" b="textAreaBottom"/>
                <a:pathLst>
                  <a:path w="706" h="650">
                    <a:moveTo>
                      <a:pt x="262" y="650"/>
                    </a:moveTo>
                    <a:lnTo>
                      <a:pt x="0" y="256"/>
                    </a:lnTo>
                    <a:lnTo>
                      <a:pt x="54" y="216"/>
                    </a:lnTo>
                    <a:lnTo>
                      <a:pt x="114" y="174"/>
                    </a:lnTo>
                    <a:lnTo>
                      <a:pt x="186" y="128"/>
                    </a:lnTo>
                    <a:lnTo>
                      <a:pt x="262" y="82"/>
                    </a:lnTo>
                    <a:lnTo>
                      <a:pt x="302" y="60"/>
                    </a:lnTo>
                    <a:lnTo>
                      <a:pt x="340" y="40"/>
                    </a:lnTo>
                    <a:lnTo>
                      <a:pt x="376" y="24"/>
                    </a:lnTo>
                    <a:lnTo>
                      <a:pt x="408" y="12"/>
                    </a:lnTo>
                    <a:lnTo>
                      <a:pt x="438" y="4"/>
                    </a:lnTo>
                    <a:lnTo>
                      <a:pt x="452" y="2"/>
                    </a:lnTo>
                    <a:lnTo>
                      <a:pt x="464" y="0"/>
                    </a:lnTo>
                    <a:lnTo>
                      <a:pt x="706" y="368"/>
                    </a:lnTo>
                    <a:lnTo>
                      <a:pt x="650" y="402"/>
                    </a:lnTo>
                    <a:lnTo>
                      <a:pt x="516" y="482"/>
                    </a:lnTo>
                    <a:lnTo>
                      <a:pt x="440" y="528"/>
                    </a:lnTo>
                    <a:lnTo>
                      <a:pt x="366" y="574"/>
                    </a:lnTo>
                    <a:lnTo>
                      <a:pt x="304" y="616"/>
                    </a:lnTo>
                    <a:lnTo>
                      <a:pt x="280" y="634"/>
                    </a:lnTo>
                    <a:lnTo>
                      <a:pt x="262" y="65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47" name="Group 284"/>
            <p:cNvGrpSpPr/>
            <p:nvPr/>
          </p:nvGrpSpPr>
          <p:grpSpPr>
            <a:xfrm>
              <a:off x="540000" y="2924280"/>
              <a:ext cx="2438640" cy="2377800"/>
              <a:chOff x="540000" y="2924280"/>
              <a:chExt cx="2438640" cy="2377800"/>
            </a:xfrm>
          </p:grpSpPr>
          <p:sp>
            <p:nvSpPr>
              <p:cNvPr id="1448" name="Oval 285"/>
              <p:cNvSpPr/>
              <p:nvPr/>
            </p:nvSpPr>
            <p:spPr>
              <a:xfrm>
                <a:off x="540000" y="2924280"/>
                <a:ext cx="2438640" cy="2377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50000">
                    <a:srgbClr val="ff3399"/>
                  </a:gs>
                  <a:gs pos="100000">
                    <a:srgbClr val="ffcccc"/>
                  </a:gs>
                </a:gsLst>
                <a:lin ang="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9" name="Oval 286"/>
              <p:cNvSpPr/>
              <p:nvPr/>
            </p:nvSpPr>
            <p:spPr>
              <a:xfrm>
                <a:off x="983520" y="2989440"/>
                <a:ext cx="1586520" cy="112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50" name="Group 287"/>
            <p:cNvGrpSpPr/>
            <p:nvPr/>
          </p:nvGrpSpPr>
          <p:grpSpPr>
            <a:xfrm>
              <a:off x="3745080" y="1363680"/>
              <a:ext cx="1453320" cy="1946160"/>
              <a:chOff x="3745080" y="1363680"/>
              <a:chExt cx="1453320" cy="1946160"/>
            </a:xfrm>
          </p:grpSpPr>
          <p:sp>
            <p:nvSpPr>
              <p:cNvPr id="1451" name="Freeform 288"/>
              <p:cNvSpPr/>
              <p:nvPr/>
            </p:nvSpPr>
            <p:spPr>
              <a:xfrm rot="1205400">
                <a:off x="4230360" y="2804040"/>
                <a:ext cx="417600" cy="2768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276840"/>
                  <a:gd name="textAreaBottom" fmla="*/ 277200 h 276840"/>
                </a:gdLst>
                <a:ahLst/>
                <a:rect l="textAreaLeft" t="textAreaTop" r="textAreaRight" b="textAreaBottom"/>
                <a:pathLst>
                  <a:path w="786" h="528">
                    <a:moveTo>
                      <a:pt x="640" y="310"/>
                    </a:moveTo>
                    <a:lnTo>
                      <a:pt x="640" y="310"/>
                    </a:lnTo>
                    <a:lnTo>
                      <a:pt x="654" y="304"/>
                    </a:lnTo>
                    <a:lnTo>
                      <a:pt x="684" y="286"/>
                    </a:lnTo>
                    <a:lnTo>
                      <a:pt x="702" y="272"/>
                    </a:lnTo>
                    <a:lnTo>
                      <a:pt x="722" y="256"/>
                    </a:lnTo>
                    <a:lnTo>
                      <a:pt x="740" y="238"/>
                    </a:lnTo>
                    <a:lnTo>
                      <a:pt x="758" y="218"/>
                    </a:lnTo>
                    <a:lnTo>
                      <a:pt x="772" y="194"/>
                    </a:lnTo>
                    <a:lnTo>
                      <a:pt x="778" y="182"/>
                    </a:lnTo>
                    <a:lnTo>
                      <a:pt x="782" y="170"/>
                    </a:lnTo>
                    <a:lnTo>
                      <a:pt x="784" y="158"/>
                    </a:lnTo>
                    <a:lnTo>
                      <a:pt x="786" y="146"/>
                    </a:lnTo>
                    <a:lnTo>
                      <a:pt x="786" y="132"/>
                    </a:lnTo>
                    <a:lnTo>
                      <a:pt x="782" y="118"/>
                    </a:lnTo>
                    <a:lnTo>
                      <a:pt x="778" y="104"/>
                    </a:lnTo>
                    <a:lnTo>
                      <a:pt x="772" y="90"/>
                    </a:lnTo>
                    <a:lnTo>
                      <a:pt x="762" y="76"/>
                    </a:lnTo>
                    <a:lnTo>
                      <a:pt x="750" y="60"/>
                    </a:lnTo>
                    <a:lnTo>
                      <a:pt x="736" y="46"/>
                    </a:lnTo>
                    <a:lnTo>
                      <a:pt x="720" y="30"/>
                    </a:lnTo>
                    <a:lnTo>
                      <a:pt x="700" y="16"/>
                    </a:lnTo>
                    <a:lnTo>
                      <a:pt x="676" y="0"/>
                    </a:lnTo>
                    <a:lnTo>
                      <a:pt x="618" y="40"/>
                    </a:lnTo>
                    <a:lnTo>
                      <a:pt x="554" y="82"/>
                    </a:lnTo>
                    <a:lnTo>
                      <a:pt x="468" y="134"/>
                    </a:lnTo>
                    <a:lnTo>
                      <a:pt x="366" y="192"/>
                    </a:lnTo>
                    <a:lnTo>
                      <a:pt x="310" y="220"/>
                    </a:lnTo>
                    <a:lnTo>
                      <a:pt x="252" y="250"/>
                    </a:lnTo>
                    <a:lnTo>
                      <a:pt x="190" y="278"/>
                    </a:lnTo>
                    <a:lnTo>
                      <a:pt x="128" y="304"/>
                    </a:lnTo>
                    <a:lnTo>
                      <a:pt x="64" y="328"/>
                    </a:lnTo>
                    <a:lnTo>
                      <a:pt x="0" y="350"/>
                    </a:lnTo>
                    <a:lnTo>
                      <a:pt x="0" y="360"/>
                    </a:lnTo>
                    <a:lnTo>
                      <a:pt x="0" y="384"/>
                    </a:lnTo>
                    <a:lnTo>
                      <a:pt x="2" y="400"/>
                    </a:lnTo>
                    <a:lnTo>
                      <a:pt x="6" y="418"/>
                    </a:lnTo>
                    <a:lnTo>
                      <a:pt x="12" y="436"/>
                    </a:lnTo>
                    <a:lnTo>
                      <a:pt x="20" y="454"/>
                    </a:lnTo>
                    <a:lnTo>
                      <a:pt x="30" y="472"/>
                    </a:lnTo>
                    <a:lnTo>
                      <a:pt x="44" y="490"/>
                    </a:lnTo>
                    <a:lnTo>
                      <a:pt x="62" y="504"/>
                    </a:lnTo>
                    <a:lnTo>
                      <a:pt x="82" y="516"/>
                    </a:lnTo>
                    <a:lnTo>
                      <a:pt x="94" y="520"/>
                    </a:lnTo>
                    <a:lnTo>
                      <a:pt x="106" y="524"/>
                    </a:lnTo>
                    <a:lnTo>
                      <a:pt x="120" y="526"/>
                    </a:lnTo>
                    <a:lnTo>
                      <a:pt x="136" y="528"/>
                    </a:lnTo>
                    <a:lnTo>
                      <a:pt x="152" y="528"/>
                    </a:lnTo>
                    <a:lnTo>
                      <a:pt x="170" y="528"/>
                    </a:lnTo>
                    <a:lnTo>
                      <a:pt x="190" y="524"/>
                    </a:lnTo>
                    <a:lnTo>
                      <a:pt x="210" y="520"/>
                    </a:lnTo>
                    <a:lnTo>
                      <a:pt x="276" y="490"/>
                    </a:lnTo>
                    <a:lnTo>
                      <a:pt x="422" y="424"/>
                    </a:lnTo>
                    <a:lnTo>
                      <a:pt x="500" y="386"/>
                    </a:lnTo>
                    <a:lnTo>
                      <a:pt x="570" y="352"/>
                    </a:lnTo>
                    <a:lnTo>
                      <a:pt x="620" y="326"/>
                    </a:lnTo>
                    <a:lnTo>
                      <a:pt x="634" y="316"/>
                    </a:lnTo>
                    <a:lnTo>
                      <a:pt x="640" y="31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52" name="Freeform 289"/>
              <p:cNvSpPr/>
              <p:nvPr/>
            </p:nvSpPr>
            <p:spPr>
              <a:xfrm rot="1205400">
                <a:off x="4281840" y="2978280"/>
                <a:ext cx="330480" cy="28332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622" h="540">
                    <a:moveTo>
                      <a:pt x="0" y="214"/>
                    </a:moveTo>
                    <a:lnTo>
                      <a:pt x="0" y="214"/>
                    </a:lnTo>
                    <a:lnTo>
                      <a:pt x="58" y="190"/>
                    </a:lnTo>
                    <a:lnTo>
                      <a:pt x="190" y="130"/>
                    </a:lnTo>
                    <a:lnTo>
                      <a:pt x="266" y="94"/>
                    </a:lnTo>
                    <a:lnTo>
                      <a:pt x="340" y="58"/>
                    </a:lnTo>
                    <a:lnTo>
                      <a:pt x="404" y="26"/>
                    </a:lnTo>
                    <a:lnTo>
                      <a:pt x="450" y="0"/>
                    </a:lnTo>
                    <a:lnTo>
                      <a:pt x="622" y="320"/>
                    </a:lnTo>
                    <a:lnTo>
                      <a:pt x="412" y="408"/>
                    </a:lnTo>
                    <a:lnTo>
                      <a:pt x="240" y="480"/>
                    </a:lnTo>
                    <a:lnTo>
                      <a:pt x="106" y="540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53" name="Freeform 290"/>
              <p:cNvSpPr/>
              <p:nvPr/>
            </p:nvSpPr>
            <p:spPr>
              <a:xfrm rot="1205400">
                <a:off x="3967560" y="1491840"/>
                <a:ext cx="1008000" cy="1474200"/>
              </a:xfrm>
              <a:custGeom>
                <a:avLst/>
                <a:gdLst>
                  <a:gd name="textAreaLeft" fmla="*/ 0 w 1008000"/>
                  <a:gd name="textAreaRight" fmla="*/ 1008360 w 1008000"/>
                  <a:gd name="textAreaTop" fmla="*/ 0 h 1474200"/>
                  <a:gd name="textAreaBottom" fmla="*/ 1474560 h 1474200"/>
                </a:gdLst>
                <a:ahLst/>
                <a:rect l="textAreaLeft" t="textAreaTop" r="textAreaRight" b="textAreaBottom"/>
                <a:pathLst>
                  <a:path w="1896" h="2810">
                    <a:moveTo>
                      <a:pt x="960" y="2790"/>
                    </a:moveTo>
                    <a:lnTo>
                      <a:pt x="960" y="2790"/>
                    </a:lnTo>
                    <a:lnTo>
                      <a:pt x="1016" y="2772"/>
                    </a:lnTo>
                    <a:lnTo>
                      <a:pt x="1080" y="2746"/>
                    </a:lnTo>
                    <a:lnTo>
                      <a:pt x="1166" y="2710"/>
                    </a:lnTo>
                    <a:lnTo>
                      <a:pt x="1214" y="2688"/>
                    </a:lnTo>
                    <a:lnTo>
                      <a:pt x="1266" y="2662"/>
                    </a:lnTo>
                    <a:lnTo>
                      <a:pt x="1322" y="2634"/>
                    </a:lnTo>
                    <a:lnTo>
                      <a:pt x="1380" y="2602"/>
                    </a:lnTo>
                    <a:lnTo>
                      <a:pt x="1440" y="2568"/>
                    </a:lnTo>
                    <a:lnTo>
                      <a:pt x="1502" y="2530"/>
                    </a:lnTo>
                    <a:lnTo>
                      <a:pt x="1564" y="2488"/>
                    </a:lnTo>
                    <a:lnTo>
                      <a:pt x="1628" y="2442"/>
                    </a:lnTo>
                    <a:lnTo>
                      <a:pt x="1642" y="2432"/>
                    </a:lnTo>
                    <a:lnTo>
                      <a:pt x="1674" y="2400"/>
                    </a:lnTo>
                    <a:lnTo>
                      <a:pt x="1696" y="2376"/>
                    </a:lnTo>
                    <a:lnTo>
                      <a:pt x="1720" y="2348"/>
                    </a:lnTo>
                    <a:lnTo>
                      <a:pt x="1746" y="2316"/>
                    </a:lnTo>
                    <a:lnTo>
                      <a:pt x="1772" y="2280"/>
                    </a:lnTo>
                    <a:lnTo>
                      <a:pt x="1798" y="2240"/>
                    </a:lnTo>
                    <a:lnTo>
                      <a:pt x="1822" y="2196"/>
                    </a:lnTo>
                    <a:lnTo>
                      <a:pt x="1844" y="2148"/>
                    </a:lnTo>
                    <a:lnTo>
                      <a:pt x="1864" y="2098"/>
                    </a:lnTo>
                    <a:lnTo>
                      <a:pt x="1872" y="2072"/>
                    </a:lnTo>
                    <a:lnTo>
                      <a:pt x="1880" y="2044"/>
                    </a:lnTo>
                    <a:lnTo>
                      <a:pt x="1886" y="2016"/>
                    </a:lnTo>
                    <a:lnTo>
                      <a:pt x="1890" y="1988"/>
                    </a:lnTo>
                    <a:lnTo>
                      <a:pt x="1894" y="1958"/>
                    </a:lnTo>
                    <a:lnTo>
                      <a:pt x="1896" y="1930"/>
                    </a:lnTo>
                    <a:lnTo>
                      <a:pt x="1896" y="1900"/>
                    </a:lnTo>
                    <a:lnTo>
                      <a:pt x="1894" y="1868"/>
                    </a:lnTo>
                    <a:lnTo>
                      <a:pt x="1892" y="1850"/>
                    </a:lnTo>
                    <a:lnTo>
                      <a:pt x="1886" y="1826"/>
                    </a:lnTo>
                    <a:lnTo>
                      <a:pt x="1880" y="1798"/>
                    </a:lnTo>
                    <a:lnTo>
                      <a:pt x="1870" y="1762"/>
                    </a:lnTo>
                    <a:lnTo>
                      <a:pt x="1856" y="1724"/>
                    </a:lnTo>
                    <a:lnTo>
                      <a:pt x="1838" y="1680"/>
                    </a:lnTo>
                    <a:lnTo>
                      <a:pt x="1818" y="1636"/>
                    </a:lnTo>
                    <a:lnTo>
                      <a:pt x="1790" y="1592"/>
                    </a:lnTo>
                    <a:lnTo>
                      <a:pt x="1774" y="1570"/>
                    </a:lnTo>
                    <a:lnTo>
                      <a:pt x="1758" y="1548"/>
                    </a:lnTo>
                    <a:lnTo>
                      <a:pt x="1740" y="1526"/>
                    </a:lnTo>
                    <a:lnTo>
                      <a:pt x="1720" y="1504"/>
                    </a:lnTo>
                    <a:lnTo>
                      <a:pt x="1700" y="1484"/>
                    </a:lnTo>
                    <a:lnTo>
                      <a:pt x="1676" y="1464"/>
                    </a:lnTo>
                    <a:lnTo>
                      <a:pt x="1652" y="1446"/>
                    </a:lnTo>
                    <a:lnTo>
                      <a:pt x="1626" y="1430"/>
                    </a:lnTo>
                    <a:lnTo>
                      <a:pt x="1598" y="1414"/>
                    </a:lnTo>
                    <a:lnTo>
                      <a:pt x="1568" y="1398"/>
                    </a:lnTo>
                    <a:lnTo>
                      <a:pt x="1536" y="1386"/>
                    </a:lnTo>
                    <a:lnTo>
                      <a:pt x="1502" y="1376"/>
                    </a:lnTo>
                    <a:lnTo>
                      <a:pt x="1466" y="1366"/>
                    </a:lnTo>
                    <a:lnTo>
                      <a:pt x="1428" y="1360"/>
                    </a:lnTo>
                    <a:lnTo>
                      <a:pt x="1382" y="228"/>
                    </a:lnTo>
                    <a:lnTo>
                      <a:pt x="1382" y="218"/>
                    </a:lnTo>
                    <a:lnTo>
                      <a:pt x="1380" y="194"/>
                    </a:lnTo>
                    <a:lnTo>
                      <a:pt x="1376" y="178"/>
                    </a:lnTo>
                    <a:lnTo>
                      <a:pt x="1370" y="158"/>
                    </a:lnTo>
                    <a:lnTo>
                      <a:pt x="1362" y="140"/>
                    </a:lnTo>
                    <a:lnTo>
                      <a:pt x="1352" y="118"/>
                    </a:lnTo>
                    <a:lnTo>
                      <a:pt x="1336" y="98"/>
                    </a:lnTo>
                    <a:lnTo>
                      <a:pt x="1318" y="78"/>
                    </a:lnTo>
                    <a:lnTo>
                      <a:pt x="1296" y="58"/>
                    </a:lnTo>
                    <a:lnTo>
                      <a:pt x="1268" y="42"/>
                    </a:lnTo>
                    <a:lnTo>
                      <a:pt x="1234" y="26"/>
                    </a:lnTo>
                    <a:lnTo>
                      <a:pt x="1216" y="20"/>
                    </a:lnTo>
                    <a:lnTo>
                      <a:pt x="1196" y="14"/>
                    </a:lnTo>
                    <a:lnTo>
                      <a:pt x="1174" y="8"/>
                    </a:lnTo>
                    <a:lnTo>
                      <a:pt x="1152" y="4"/>
                    </a:lnTo>
                    <a:lnTo>
                      <a:pt x="1126" y="2"/>
                    </a:lnTo>
                    <a:lnTo>
                      <a:pt x="1100" y="0"/>
                    </a:lnTo>
                    <a:lnTo>
                      <a:pt x="1090" y="0"/>
                    </a:lnTo>
                    <a:lnTo>
                      <a:pt x="1064" y="6"/>
                    </a:lnTo>
                    <a:lnTo>
                      <a:pt x="1046" y="10"/>
                    </a:lnTo>
                    <a:lnTo>
                      <a:pt x="1026" y="16"/>
                    </a:lnTo>
                    <a:lnTo>
                      <a:pt x="1004" y="26"/>
                    </a:lnTo>
                    <a:lnTo>
                      <a:pt x="982" y="36"/>
                    </a:lnTo>
                    <a:lnTo>
                      <a:pt x="958" y="52"/>
                    </a:lnTo>
                    <a:lnTo>
                      <a:pt x="936" y="68"/>
                    </a:lnTo>
                    <a:lnTo>
                      <a:pt x="916" y="90"/>
                    </a:lnTo>
                    <a:lnTo>
                      <a:pt x="896" y="114"/>
                    </a:lnTo>
                    <a:lnTo>
                      <a:pt x="878" y="144"/>
                    </a:lnTo>
                    <a:lnTo>
                      <a:pt x="872" y="160"/>
                    </a:lnTo>
                    <a:lnTo>
                      <a:pt x="864" y="176"/>
                    </a:lnTo>
                    <a:lnTo>
                      <a:pt x="860" y="194"/>
                    </a:lnTo>
                    <a:lnTo>
                      <a:pt x="854" y="214"/>
                    </a:lnTo>
                    <a:lnTo>
                      <a:pt x="852" y="236"/>
                    </a:lnTo>
                    <a:lnTo>
                      <a:pt x="850" y="258"/>
                    </a:lnTo>
                    <a:lnTo>
                      <a:pt x="916" y="1278"/>
                    </a:lnTo>
                    <a:lnTo>
                      <a:pt x="514" y="314"/>
                    </a:lnTo>
                    <a:lnTo>
                      <a:pt x="510" y="308"/>
                    </a:lnTo>
                    <a:lnTo>
                      <a:pt x="496" y="292"/>
                    </a:lnTo>
                    <a:lnTo>
                      <a:pt x="476" y="270"/>
                    </a:lnTo>
                    <a:lnTo>
                      <a:pt x="462" y="258"/>
                    </a:lnTo>
                    <a:lnTo>
                      <a:pt x="448" y="246"/>
                    </a:lnTo>
                    <a:lnTo>
                      <a:pt x="430" y="236"/>
                    </a:lnTo>
                    <a:lnTo>
                      <a:pt x="410" y="226"/>
                    </a:lnTo>
                    <a:lnTo>
                      <a:pt x="388" y="218"/>
                    </a:lnTo>
                    <a:lnTo>
                      <a:pt x="364" y="214"/>
                    </a:lnTo>
                    <a:lnTo>
                      <a:pt x="338" y="212"/>
                    </a:lnTo>
                    <a:lnTo>
                      <a:pt x="308" y="214"/>
                    </a:lnTo>
                    <a:lnTo>
                      <a:pt x="278" y="220"/>
                    </a:lnTo>
                    <a:lnTo>
                      <a:pt x="246" y="230"/>
                    </a:lnTo>
                    <a:lnTo>
                      <a:pt x="236" y="234"/>
                    </a:lnTo>
                    <a:lnTo>
                      <a:pt x="212" y="246"/>
                    </a:lnTo>
                    <a:lnTo>
                      <a:pt x="198" y="258"/>
                    </a:lnTo>
                    <a:lnTo>
                      <a:pt x="180" y="272"/>
                    </a:lnTo>
                    <a:lnTo>
                      <a:pt x="162" y="288"/>
                    </a:lnTo>
                    <a:lnTo>
                      <a:pt x="146" y="310"/>
                    </a:lnTo>
                    <a:lnTo>
                      <a:pt x="130" y="334"/>
                    </a:lnTo>
                    <a:lnTo>
                      <a:pt x="114" y="364"/>
                    </a:lnTo>
                    <a:lnTo>
                      <a:pt x="102" y="398"/>
                    </a:lnTo>
                    <a:lnTo>
                      <a:pt x="94" y="436"/>
                    </a:lnTo>
                    <a:lnTo>
                      <a:pt x="90" y="458"/>
                    </a:lnTo>
                    <a:lnTo>
                      <a:pt x="88" y="480"/>
                    </a:lnTo>
                    <a:lnTo>
                      <a:pt x="86" y="504"/>
                    </a:lnTo>
                    <a:lnTo>
                      <a:pt x="88" y="530"/>
                    </a:lnTo>
                    <a:lnTo>
                      <a:pt x="88" y="556"/>
                    </a:lnTo>
                    <a:lnTo>
                      <a:pt x="92" y="584"/>
                    </a:lnTo>
                    <a:lnTo>
                      <a:pt x="96" y="614"/>
                    </a:lnTo>
                    <a:lnTo>
                      <a:pt x="102" y="646"/>
                    </a:lnTo>
                    <a:lnTo>
                      <a:pt x="106" y="658"/>
                    </a:lnTo>
                    <a:lnTo>
                      <a:pt x="118" y="694"/>
                    </a:lnTo>
                    <a:lnTo>
                      <a:pt x="140" y="756"/>
                    </a:lnTo>
                    <a:lnTo>
                      <a:pt x="176" y="840"/>
                    </a:lnTo>
                    <a:lnTo>
                      <a:pt x="200" y="890"/>
                    </a:lnTo>
                    <a:lnTo>
                      <a:pt x="228" y="948"/>
                    </a:lnTo>
                    <a:lnTo>
                      <a:pt x="260" y="1010"/>
                    </a:lnTo>
                    <a:lnTo>
                      <a:pt x="298" y="1078"/>
                    </a:lnTo>
                    <a:lnTo>
                      <a:pt x="340" y="1152"/>
                    </a:lnTo>
                    <a:lnTo>
                      <a:pt x="390" y="1232"/>
                    </a:lnTo>
                    <a:lnTo>
                      <a:pt x="444" y="1316"/>
                    </a:lnTo>
                    <a:lnTo>
                      <a:pt x="504" y="1408"/>
                    </a:lnTo>
                    <a:lnTo>
                      <a:pt x="524" y="1440"/>
                    </a:lnTo>
                    <a:lnTo>
                      <a:pt x="512" y="1444"/>
                    </a:lnTo>
                    <a:lnTo>
                      <a:pt x="480" y="1454"/>
                    </a:lnTo>
                    <a:lnTo>
                      <a:pt x="460" y="1464"/>
                    </a:lnTo>
                    <a:lnTo>
                      <a:pt x="436" y="1476"/>
                    </a:lnTo>
                    <a:lnTo>
                      <a:pt x="412" y="1490"/>
                    </a:lnTo>
                    <a:lnTo>
                      <a:pt x="386" y="1506"/>
                    </a:lnTo>
                    <a:lnTo>
                      <a:pt x="362" y="1526"/>
                    </a:lnTo>
                    <a:lnTo>
                      <a:pt x="336" y="1548"/>
                    </a:lnTo>
                    <a:lnTo>
                      <a:pt x="314" y="1574"/>
                    </a:lnTo>
                    <a:lnTo>
                      <a:pt x="296" y="1602"/>
                    </a:lnTo>
                    <a:lnTo>
                      <a:pt x="286" y="1618"/>
                    </a:lnTo>
                    <a:lnTo>
                      <a:pt x="280" y="1634"/>
                    </a:lnTo>
                    <a:lnTo>
                      <a:pt x="272" y="1650"/>
                    </a:lnTo>
                    <a:lnTo>
                      <a:pt x="268" y="1668"/>
                    </a:lnTo>
                    <a:lnTo>
                      <a:pt x="264" y="1688"/>
                    </a:lnTo>
                    <a:lnTo>
                      <a:pt x="260" y="1708"/>
                    </a:lnTo>
                    <a:lnTo>
                      <a:pt x="260" y="1728"/>
                    </a:lnTo>
                    <a:lnTo>
                      <a:pt x="260" y="1750"/>
                    </a:lnTo>
                    <a:lnTo>
                      <a:pt x="246" y="1754"/>
                    </a:lnTo>
                    <a:lnTo>
                      <a:pt x="210" y="1762"/>
                    </a:lnTo>
                    <a:lnTo>
                      <a:pt x="186" y="1772"/>
                    </a:lnTo>
                    <a:lnTo>
                      <a:pt x="158" y="1782"/>
                    </a:lnTo>
                    <a:lnTo>
                      <a:pt x="132" y="1798"/>
                    </a:lnTo>
                    <a:lnTo>
                      <a:pt x="104" y="1816"/>
                    </a:lnTo>
                    <a:lnTo>
                      <a:pt x="78" y="1838"/>
                    </a:lnTo>
                    <a:lnTo>
                      <a:pt x="64" y="1850"/>
                    </a:lnTo>
                    <a:lnTo>
                      <a:pt x="52" y="1864"/>
                    </a:lnTo>
                    <a:lnTo>
                      <a:pt x="42" y="1880"/>
                    </a:lnTo>
                    <a:lnTo>
                      <a:pt x="32" y="1896"/>
                    </a:lnTo>
                    <a:lnTo>
                      <a:pt x="22" y="1914"/>
                    </a:lnTo>
                    <a:lnTo>
                      <a:pt x="16" y="1934"/>
                    </a:lnTo>
                    <a:lnTo>
                      <a:pt x="8" y="1954"/>
                    </a:lnTo>
                    <a:lnTo>
                      <a:pt x="4" y="1976"/>
                    </a:lnTo>
                    <a:lnTo>
                      <a:pt x="0" y="2000"/>
                    </a:lnTo>
                    <a:lnTo>
                      <a:pt x="0" y="2024"/>
                    </a:lnTo>
                    <a:lnTo>
                      <a:pt x="0" y="2052"/>
                    </a:lnTo>
                    <a:lnTo>
                      <a:pt x="2" y="2080"/>
                    </a:lnTo>
                    <a:lnTo>
                      <a:pt x="8" y="2110"/>
                    </a:lnTo>
                    <a:lnTo>
                      <a:pt x="14" y="2142"/>
                    </a:lnTo>
                    <a:lnTo>
                      <a:pt x="18" y="2154"/>
                    </a:lnTo>
                    <a:lnTo>
                      <a:pt x="28" y="2186"/>
                    </a:lnTo>
                    <a:lnTo>
                      <a:pt x="36" y="2208"/>
                    </a:lnTo>
                    <a:lnTo>
                      <a:pt x="48" y="2234"/>
                    </a:lnTo>
                    <a:lnTo>
                      <a:pt x="62" y="2264"/>
                    </a:lnTo>
                    <a:lnTo>
                      <a:pt x="78" y="2294"/>
                    </a:lnTo>
                    <a:lnTo>
                      <a:pt x="98" y="2326"/>
                    </a:lnTo>
                    <a:lnTo>
                      <a:pt x="122" y="2360"/>
                    </a:lnTo>
                    <a:lnTo>
                      <a:pt x="148" y="2394"/>
                    </a:lnTo>
                    <a:lnTo>
                      <a:pt x="180" y="2426"/>
                    </a:lnTo>
                    <a:lnTo>
                      <a:pt x="214" y="2460"/>
                    </a:lnTo>
                    <a:lnTo>
                      <a:pt x="254" y="2490"/>
                    </a:lnTo>
                    <a:lnTo>
                      <a:pt x="298" y="2518"/>
                    </a:lnTo>
                    <a:lnTo>
                      <a:pt x="322" y="2532"/>
                    </a:lnTo>
                    <a:lnTo>
                      <a:pt x="348" y="2544"/>
                    </a:lnTo>
                    <a:lnTo>
                      <a:pt x="360" y="2560"/>
                    </a:lnTo>
                    <a:lnTo>
                      <a:pt x="392" y="2598"/>
                    </a:lnTo>
                    <a:lnTo>
                      <a:pt x="416" y="2622"/>
                    </a:lnTo>
                    <a:lnTo>
                      <a:pt x="446" y="2650"/>
                    </a:lnTo>
                    <a:lnTo>
                      <a:pt x="480" y="2678"/>
                    </a:lnTo>
                    <a:lnTo>
                      <a:pt x="518" y="2706"/>
                    </a:lnTo>
                    <a:lnTo>
                      <a:pt x="560" y="2734"/>
                    </a:lnTo>
                    <a:lnTo>
                      <a:pt x="606" y="2758"/>
                    </a:lnTo>
                    <a:lnTo>
                      <a:pt x="630" y="2770"/>
                    </a:lnTo>
                    <a:lnTo>
                      <a:pt x="656" y="2780"/>
                    </a:lnTo>
                    <a:lnTo>
                      <a:pt x="684" y="2788"/>
                    </a:lnTo>
                    <a:lnTo>
                      <a:pt x="710" y="2796"/>
                    </a:lnTo>
                    <a:lnTo>
                      <a:pt x="738" y="2802"/>
                    </a:lnTo>
                    <a:lnTo>
                      <a:pt x="768" y="2806"/>
                    </a:lnTo>
                    <a:lnTo>
                      <a:pt x="798" y="2808"/>
                    </a:lnTo>
                    <a:lnTo>
                      <a:pt x="828" y="2810"/>
                    </a:lnTo>
                    <a:lnTo>
                      <a:pt x="860" y="2808"/>
                    </a:lnTo>
                    <a:lnTo>
                      <a:pt x="892" y="2804"/>
                    </a:lnTo>
                    <a:lnTo>
                      <a:pt x="926" y="2798"/>
                    </a:lnTo>
                    <a:lnTo>
                      <a:pt x="960" y="279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54" name="Freeform 291"/>
              <p:cNvSpPr/>
              <p:nvPr/>
            </p:nvSpPr>
            <p:spPr>
              <a:xfrm rot="1205400">
                <a:off x="4207680" y="2203920"/>
                <a:ext cx="432720" cy="537120"/>
              </a:xfrm>
              <a:custGeom>
                <a:avLst/>
                <a:gdLst>
                  <a:gd name="textAreaLeft" fmla="*/ 0 w 432720"/>
                  <a:gd name="textAreaRight" fmla="*/ 433080 w 432720"/>
                  <a:gd name="textAreaTop" fmla="*/ 0 h 537120"/>
                  <a:gd name="textAreaBottom" fmla="*/ 537480 h 537120"/>
                </a:gdLst>
                <a:ahLst/>
                <a:rect l="textAreaLeft" t="textAreaTop" r="textAreaRight" b="textAreaBottom"/>
                <a:pathLst>
                  <a:path w="814" h="1024">
                    <a:moveTo>
                      <a:pt x="494" y="1024"/>
                    </a:moveTo>
                    <a:lnTo>
                      <a:pt x="494" y="1024"/>
                    </a:lnTo>
                    <a:lnTo>
                      <a:pt x="486" y="1010"/>
                    </a:lnTo>
                    <a:lnTo>
                      <a:pt x="480" y="992"/>
                    </a:lnTo>
                    <a:lnTo>
                      <a:pt x="472" y="970"/>
                    </a:lnTo>
                    <a:lnTo>
                      <a:pt x="466" y="942"/>
                    </a:lnTo>
                    <a:lnTo>
                      <a:pt x="460" y="910"/>
                    </a:lnTo>
                    <a:lnTo>
                      <a:pt x="456" y="876"/>
                    </a:lnTo>
                    <a:lnTo>
                      <a:pt x="456" y="838"/>
                    </a:lnTo>
                    <a:lnTo>
                      <a:pt x="458" y="820"/>
                    </a:lnTo>
                    <a:lnTo>
                      <a:pt x="460" y="800"/>
                    </a:lnTo>
                    <a:lnTo>
                      <a:pt x="464" y="780"/>
                    </a:lnTo>
                    <a:lnTo>
                      <a:pt x="470" y="758"/>
                    </a:lnTo>
                    <a:lnTo>
                      <a:pt x="478" y="738"/>
                    </a:lnTo>
                    <a:lnTo>
                      <a:pt x="486" y="718"/>
                    </a:lnTo>
                    <a:lnTo>
                      <a:pt x="498" y="698"/>
                    </a:lnTo>
                    <a:lnTo>
                      <a:pt x="510" y="678"/>
                    </a:lnTo>
                    <a:lnTo>
                      <a:pt x="526" y="658"/>
                    </a:lnTo>
                    <a:lnTo>
                      <a:pt x="542" y="638"/>
                    </a:lnTo>
                    <a:lnTo>
                      <a:pt x="562" y="620"/>
                    </a:lnTo>
                    <a:lnTo>
                      <a:pt x="586" y="602"/>
                    </a:lnTo>
                    <a:lnTo>
                      <a:pt x="610" y="584"/>
                    </a:lnTo>
                    <a:lnTo>
                      <a:pt x="638" y="568"/>
                    </a:lnTo>
                    <a:lnTo>
                      <a:pt x="670" y="552"/>
                    </a:lnTo>
                    <a:lnTo>
                      <a:pt x="704" y="536"/>
                    </a:lnTo>
                    <a:lnTo>
                      <a:pt x="678" y="546"/>
                    </a:lnTo>
                    <a:lnTo>
                      <a:pt x="610" y="572"/>
                    </a:lnTo>
                    <a:lnTo>
                      <a:pt x="562" y="588"/>
                    </a:lnTo>
                    <a:lnTo>
                      <a:pt x="510" y="604"/>
                    </a:lnTo>
                    <a:lnTo>
                      <a:pt x="454" y="618"/>
                    </a:lnTo>
                    <a:lnTo>
                      <a:pt x="394" y="630"/>
                    </a:lnTo>
                    <a:lnTo>
                      <a:pt x="334" y="638"/>
                    </a:lnTo>
                    <a:lnTo>
                      <a:pt x="304" y="640"/>
                    </a:lnTo>
                    <a:lnTo>
                      <a:pt x="274" y="642"/>
                    </a:lnTo>
                    <a:lnTo>
                      <a:pt x="244" y="642"/>
                    </a:lnTo>
                    <a:lnTo>
                      <a:pt x="216" y="640"/>
                    </a:lnTo>
                    <a:lnTo>
                      <a:pt x="188" y="636"/>
                    </a:lnTo>
                    <a:lnTo>
                      <a:pt x="162" y="630"/>
                    </a:lnTo>
                    <a:lnTo>
                      <a:pt x="136" y="622"/>
                    </a:lnTo>
                    <a:lnTo>
                      <a:pt x="112" y="612"/>
                    </a:lnTo>
                    <a:lnTo>
                      <a:pt x="90" y="600"/>
                    </a:lnTo>
                    <a:lnTo>
                      <a:pt x="70" y="584"/>
                    </a:lnTo>
                    <a:lnTo>
                      <a:pt x="54" y="566"/>
                    </a:lnTo>
                    <a:lnTo>
                      <a:pt x="38" y="546"/>
                    </a:lnTo>
                    <a:lnTo>
                      <a:pt x="24" y="522"/>
                    </a:lnTo>
                    <a:lnTo>
                      <a:pt x="14" y="496"/>
                    </a:lnTo>
                    <a:lnTo>
                      <a:pt x="12" y="486"/>
                    </a:lnTo>
                    <a:lnTo>
                      <a:pt x="4" y="462"/>
                    </a:lnTo>
                    <a:lnTo>
                      <a:pt x="2" y="446"/>
                    </a:lnTo>
                    <a:lnTo>
                      <a:pt x="0" y="426"/>
                    </a:lnTo>
                    <a:lnTo>
                      <a:pt x="0" y="406"/>
                    </a:lnTo>
                    <a:lnTo>
                      <a:pt x="2" y="384"/>
                    </a:lnTo>
                    <a:lnTo>
                      <a:pt x="6" y="362"/>
                    </a:lnTo>
                    <a:lnTo>
                      <a:pt x="14" y="338"/>
                    </a:lnTo>
                    <a:lnTo>
                      <a:pt x="28" y="316"/>
                    </a:lnTo>
                    <a:lnTo>
                      <a:pt x="36" y="306"/>
                    </a:lnTo>
                    <a:lnTo>
                      <a:pt x="46" y="296"/>
                    </a:lnTo>
                    <a:lnTo>
                      <a:pt x="56" y="284"/>
                    </a:lnTo>
                    <a:lnTo>
                      <a:pt x="68" y="276"/>
                    </a:lnTo>
                    <a:lnTo>
                      <a:pt x="82" y="266"/>
                    </a:lnTo>
                    <a:lnTo>
                      <a:pt x="98" y="258"/>
                    </a:lnTo>
                    <a:lnTo>
                      <a:pt x="116" y="250"/>
                    </a:lnTo>
                    <a:lnTo>
                      <a:pt x="134" y="242"/>
                    </a:lnTo>
                    <a:lnTo>
                      <a:pt x="154" y="236"/>
                    </a:lnTo>
                    <a:lnTo>
                      <a:pt x="178" y="230"/>
                    </a:lnTo>
                    <a:lnTo>
                      <a:pt x="272" y="200"/>
                    </a:lnTo>
                    <a:lnTo>
                      <a:pt x="484" y="130"/>
                    </a:lnTo>
                    <a:lnTo>
                      <a:pt x="600" y="90"/>
                    </a:lnTo>
                    <a:lnTo>
                      <a:pt x="702" y="52"/>
                    </a:lnTo>
                    <a:lnTo>
                      <a:pt x="744" y="36"/>
                    </a:lnTo>
                    <a:lnTo>
                      <a:pt x="778" y="22"/>
                    </a:lnTo>
                    <a:lnTo>
                      <a:pt x="802" y="8"/>
                    </a:lnTo>
                    <a:lnTo>
                      <a:pt x="810" y="4"/>
                    </a:lnTo>
                    <a:lnTo>
                      <a:pt x="814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55" name="Line 292"/>
              <p:cNvSpPr/>
              <p:nvPr/>
            </p:nvSpPr>
            <p:spPr>
              <a:xfrm>
                <a:off x="4295160" y="2289960"/>
                <a:ext cx="3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56" name="Freeform 293"/>
              <p:cNvSpPr/>
              <p:nvPr/>
            </p:nvSpPr>
            <p:spPr>
              <a:xfrm rot="1205400">
                <a:off x="4224600" y="2178720"/>
                <a:ext cx="84960" cy="10152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60" h="194">
                    <a:moveTo>
                      <a:pt x="160" y="194"/>
                    </a:moveTo>
                    <a:lnTo>
                      <a:pt x="160" y="194"/>
                    </a:lnTo>
                    <a:lnTo>
                      <a:pt x="152" y="166"/>
                    </a:lnTo>
                    <a:lnTo>
                      <a:pt x="140" y="138"/>
                    </a:lnTo>
                    <a:lnTo>
                      <a:pt x="122" y="104"/>
                    </a:lnTo>
                    <a:lnTo>
                      <a:pt x="112" y="86"/>
                    </a:lnTo>
                    <a:lnTo>
                      <a:pt x="100" y="70"/>
                    </a:lnTo>
                    <a:lnTo>
                      <a:pt x="86" y="54"/>
                    </a:lnTo>
                    <a:lnTo>
                      <a:pt x="72" y="38"/>
                    </a:lnTo>
                    <a:lnTo>
                      <a:pt x="56" y="26"/>
                    </a:lnTo>
                    <a:lnTo>
                      <a:pt x="40" y="14"/>
                    </a:lnTo>
                    <a:lnTo>
                      <a:pt x="20" y="6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57" name="Freeform 294"/>
              <p:cNvSpPr/>
              <p:nvPr/>
            </p:nvSpPr>
            <p:spPr>
              <a:xfrm rot="1205400">
                <a:off x="3997440" y="2333880"/>
                <a:ext cx="371160" cy="31140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698" h="594">
                    <a:moveTo>
                      <a:pt x="692" y="238"/>
                    </a:moveTo>
                    <a:lnTo>
                      <a:pt x="692" y="238"/>
                    </a:lnTo>
                    <a:lnTo>
                      <a:pt x="694" y="252"/>
                    </a:lnTo>
                    <a:lnTo>
                      <a:pt x="696" y="288"/>
                    </a:lnTo>
                    <a:lnTo>
                      <a:pt x="698" y="312"/>
                    </a:lnTo>
                    <a:lnTo>
                      <a:pt x="696" y="340"/>
                    </a:lnTo>
                    <a:lnTo>
                      <a:pt x="692" y="370"/>
                    </a:lnTo>
                    <a:lnTo>
                      <a:pt x="686" y="402"/>
                    </a:lnTo>
                    <a:lnTo>
                      <a:pt x="676" y="434"/>
                    </a:lnTo>
                    <a:lnTo>
                      <a:pt x="664" y="466"/>
                    </a:lnTo>
                    <a:lnTo>
                      <a:pt x="654" y="480"/>
                    </a:lnTo>
                    <a:lnTo>
                      <a:pt x="646" y="494"/>
                    </a:lnTo>
                    <a:lnTo>
                      <a:pt x="634" y="510"/>
                    </a:lnTo>
                    <a:lnTo>
                      <a:pt x="622" y="522"/>
                    </a:lnTo>
                    <a:lnTo>
                      <a:pt x="608" y="536"/>
                    </a:lnTo>
                    <a:lnTo>
                      <a:pt x="592" y="548"/>
                    </a:lnTo>
                    <a:lnTo>
                      <a:pt x="576" y="558"/>
                    </a:lnTo>
                    <a:lnTo>
                      <a:pt x="556" y="568"/>
                    </a:lnTo>
                    <a:lnTo>
                      <a:pt x="536" y="576"/>
                    </a:lnTo>
                    <a:lnTo>
                      <a:pt x="514" y="584"/>
                    </a:lnTo>
                    <a:lnTo>
                      <a:pt x="490" y="588"/>
                    </a:lnTo>
                    <a:lnTo>
                      <a:pt x="464" y="594"/>
                    </a:lnTo>
                    <a:lnTo>
                      <a:pt x="448" y="594"/>
                    </a:lnTo>
                    <a:lnTo>
                      <a:pt x="428" y="592"/>
                    </a:lnTo>
                    <a:lnTo>
                      <a:pt x="404" y="588"/>
                    </a:lnTo>
                    <a:lnTo>
                      <a:pt x="374" y="582"/>
                    </a:lnTo>
                    <a:lnTo>
                      <a:pt x="342" y="570"/>
                    </a:lnTo>
                    <a:lnTo>
                      <a:pt x="304" y="554"/>
                    </a:lnTo>
                    <a:lnTo>
                      <a:pt x="286" y="544"/>
                    </a:lnTo>
                    <a:lnTo>
                      <a:pt x="266" y="532"/>
                    </a:lnTo>
                    <a:lnTo>
                      <a:pt x="246" y="518"/>
                    </a:lnTo>
                    <a:lnTo>
                      <a:pt x="226" y="502"/>
                    </a:lnTo>
                    <a:lnTo>
                      <a:pt x="208" y="484"/>
                    </a:lnTo>
                    <a:lnTo>
                      <a:pt x="188" y="464"/>
                    </a:lnTo>
                    <a:lnTo>
                      <a:pt x="168" y="440"/>
                    </a:lnTo>
                    <a:lnTo>
                      <a:pt x="148" y="416"/>
                    </a:lnTo>
                    <a:lnTo>
                      <a:pt x="130" y="388"/>
                    </a:lnTo>
                    <a:lnTo>
                      <a:pt x="112" y="358"/>
                    </a:lnTo>
                    <a:lnTo>
                      <a:pt x="94" y="324"/>
                    </a:lnTo>
                    <a:lnTo>
                      <a:pt x="78" y="288"/>
                    </a:lnTo>
                    <a:lnTo>
                      <a:pt x="62" y="248"/>
                    </a:lnTo>
                    <a:lnTo>
                      <a:pt x="46" y="206"/>
                    </a:lnTo>
                    <a:lnTo>
                      <a:pt x="32" y="160"/>
                    </a:lnTo>
                    <a:lnTo>
                      <a:pt x="20" y="110"/>
                    </a:lnTo>
                    <a:lnTo>
                      <a:pt x="10" y="56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58" name="Freeform 295"/>
              <p:cNvSpPr/>
              <p:nvPr/>
            </p:nvSpPr>
            <p:spPr>
              <a:xfrm rot="1205400">
                <a:off x="3957120" y="2588040"/>
                <a:ext cx="148680" cy="997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280" h="190">
                    <a:moveTo>
                      <a:pt x="280" y="0"/>
                    </a:moveTo>
                    <a:lnTo>
                      <a:pt x="280" y="0"/>
                    </a:lnTo>
                    <a:lnTo>
                      <a:pt x="278" y="10"/>
                    </a:lnTo>
                    <a:lnTo>
                      <a:pt x="274" y="36"/>
                    </a:lnTo>
                    <a:lnTo>
                      <a:pt x="268" y="52"/>
                    </a:lnTo>
                    <a:lnTo>
                      <a:pt x="260" y="72"/>
                    </a:lnTo>
                    <a:lnTo>
                      <a:pt x="250" y="92"/>
                    </a:lnTo>
                    <a:lnTo>
                      <a:pt x="238" y="112"/>
                    </a:lnTo>
                    <a:lnTo>
                      <a:pt x="222" y="130"/>
                    </a:lnTo>
                    <a:lnTo>
                      <a:pt x="204" y="148"/>
                    </a:lnTo>
                    <a:lnTo>
                      <a:pt x="182" y="164"/>
                    </a:lnTo>
                    <a:lnTo>
                      <a:pt x="168" y="172"/>
                    </a:lnTo>
                    <a:lnTo>
                      <a:pt x="154" y="178"/>
                    </a:lnTo>
                    <a:lnTo>
                      <a:pt x="140" y="182"/>
                    </a:lnTo>
                    <a:lnTo>
                      <a:pt x="124" y="186"/>
                    </a:lnTo>
                    <a:lnTo>
                      <a:pt x="106" y="188"/>
                    </a:lnTo>
                    <a:lnTo>
                      <a:pt x="88" y="190"/>
                    </a:lnTo>
                    <a:lnTo>
                      <a:pt x="68" y="190"/>
                    </a:lnTo>
                    <a:lnTo>
                      <a:pt x="46" y="190"/>
                    </a:lnTo>
                    <a:lnTo>
                      <a:pt x="24" y="186"/>
                    </a:lnTo>
                    <a:lnTo>
                      <a:pt x="0" y="182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59" name="Freeform 296"/>
              <p:cNvSpPr/>
              <p:nvPr/>
            </p:nvSpPr>
            <p:spPr>
              <a:xfrm rot="1205400">
                <a:off x="4461480" y="2158560"/>
                <a:ext cx="118800" cy="838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24" h="160">
                    <a:moveTo>
                      <a:pt x="0" y="0"/>
                    </a:moveTo>
                    <a:lnTo>
                      <a:pt x="46" y="160"/>
                    </a:lnTo>
                    <a:lnTo>
                      <a:pt x="64" y="158"/>
                    </a:lnTo>
                    <a:lnTo>
                      <a:pt x="108" y="154"/>
                    </a:lnTo>
                    <a:lnTo>
                      <a:pt x="166" y="154"/>
                    </a:lnTo>
                    <a:lnTo>
                      <a:pt x="196" y="154"/>
                    </a:lnTo>
                    <a:lnTo>
                      <a:pt x="224" y="15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60" name="Freeform 297"/>
              <p:cNvSpPr/>
              <p:nvPr/>
            </p:nvSpPr>
            <p:spPr>
              <a:xfrm rot="1205400">
                <a:off x="4383360" y="2211840"/>
                <a:ext cx="84960" cy="4932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60" h="94">
                    <a:moveTo>
                      <a:pt x="160" y="0"/>
                    </a:moveTo>
                    <a:lnTo>
                      <a:pt x="160" y="0"/>
                    </a:lnTo>
                    <a:lnTo>
                      <a:pt x="144" y="8"/>
                    </a:lnTo>
                    <a:lnTo>
                      <a:pt x="104" y="28"/>
                    </a:lnTo>
                    <a:lnTo>
                      <a:pt x="78" y="40"/>
                    </a:lnTo>
                    <a:lnTo>
                      <a:pt x="50" y="56"/>
                    </a:lnTo>
                    <a:lnTo>
                      <a:pt x="24" y="74"/>
                    </a:lnTo>
                    <a:lnTo>
                      <a:pt x="0" y="94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61" name="Group 298"/>
            <p:cNvGrpSpPr/>
            <p:nvPr/>
          </p:nvGrpSpPr>
          <p:grpSpPr>
            <a:xfrm>
              <a:off x="3202560" y="3213000"/>
              <a:ext cx="2665800" cy="2422440"/>
              <a:chOff x="3202560" y="3213000"/>
              <a:chExt cx="2665800" cy="2422440"/>
            </a:xfrm>
          </p:grpSpPr>
          <p:sp>
            <p:nvSpPr>
              <p:cNvPr id="1462" name="Oval 299"/>
              <p:cNvSpPr/>
              <p:nvPr/>
            </p:nvSpPr>
            <p:spPr>
              <a:xfrm>
                <a:off x="3202560" y="3213000"/>
                <a:ext cx="2665800" cy="2422440"/>
              </a:xfrm>
              <a:prstGeom prst="ellipse">
                <a:avLst/>
              </a:prstGeom>
              <a:gradFill rotWithShape="0">
                <a:gsLst>
                  <a:gs pos="0">
                    <a:srgbClr val="ffefef"/>
                  </a:gs>
                  <a:gs pos="50000">
                    <a:srgbClr val="ff9999"/>
                  </a:gs>
                  <a:gs pos="100000">
                    <a:srgbClr val="ffefef"/>
                  </a:gs>
                </a:gsLst>
                <a:lin ang="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63" name="Oval 300"/>
              <p:cNvSpPr/>
              <p:nvPr/>
            </p:nvSpPr>
            <p:spPr>
              <a:xfrm>
                <a:off x="3687120" y="3279240"/>
                <a:ext cx="1734480" cy="11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64" name="Group 301"/>
            <p:cNvGrpSpPr/>
            <p:nvPr/>
          </p:nvGrpSpPr>
          <p:grpSpPr>
            <a:xfrm>
              <a:off x="6084000" y="2955960"/>
              <a:ext cx="2480040" cy="2376360"/>
              <a:chOff x="6084000" y="2955960"/>
              <a:chExt cx="2480040" cy="2376360"/>
            </a:xfrm>
          </p:grpSpPr>
          <p:sp>
            <p:nvSpPr>
              <p:cNvPr id="1465" name="Oval 302"/>
              <p:cNvSpPr/>
              <p:nvPr/>
            </p:nvSpPr>
            <p:spPr>
              <a:xfrm>
                <a:off x="6084000" y="2955960"/>
                <a:ext cx="2480040" cy="2376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c0c0c0"/>
                  </a:gs>
                  <a:gs pos="100000">
                    <a:srgbClr val="dddddd"/>
                  </a:gs>
                </a:gsLst>
                <a:lin ang="0"/>
              </a:gradFill>
              <a:ln w="2844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6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66" name="Oval 303"/>
              <p:cNvSpPr/>
              <p:nvPr/>
            </p:nvSpPr>
            <p:spPr>
              <a:xfrm>
                <a:off x="6535080" y="3021120"/>
                <a:ext cx="1613520" cy="112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ce0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467" name="Oval 304"/>
            <p:cNvSpPr/>
            <p:nvPr/>
          </p:nvSpPr>
          <p:spPr>
            <a:xfrm>
              <a:off x="3810600" y="5877000"/>
              <a:ext cx="1512720" cy="5032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8" name="Oval 305"/>
            <p:cNvSpPr/>
            <p:nvPr/>
          </p:nvSpPr>
          <p:spPr>
            <a:xfrm>
              <a:off x="6547680" y="5518080"/>
              <a:ext cx="1440000" cy="5032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9" name="Oval 306"/>
            <p:cNvSpPr/>
            <p:nvPr/>
          </p:nvSpPr>
          <p:spPr>
            <a:xfrm>
              <a:off x="1146240" y="5661000"/>
              <a:ext cx="1440000" cy="50328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900" spc="-1" strike="noStrike">
                <a:solidFill>
                  <a:srgbClr val="da006d"/>
                </a:solidFill>
                <a:latin typeface="Arial"/>
                <a:ea typeface="Arial Unicode MS"/>
              </a:rPr>
              <a:t>THANK</a:t>
            </a:r>
            <a:r>
              <a:rPr b="1" lang="zh-CN" sz="5900" spc="-1" strike="noStrike">
                <a:solidFill>
                  <a:srgbClr val="ff6600"/>
                </a:solidFill>
                <a:latin typeface="Arial"/>
                <a:ea typeface="Arial Unicode MS"/>
              </a:rPr>
              <a:t> YOU</a:t>
            </a:r>
            <a:endParaRPr b="1" i="1" lang="en-US" sz="59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7200" y="1684440"/>
            <a:ext cx="822960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6851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Gulim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Guli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835280" y="1052280"/>
            <a:ext cx="6851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124"/>
          <p:cNvGrpSpPr/>
          <p:nvPr/>
        </p:nvGrpSpPr>
        <p:grpSpPr>
          <a:xfrm>
            <a:off x="611280" y="1484280"/>
            <a:ext cx="7985160" cy="4786200"/>
            <a:chOff x="611280" y="1484280"/>
            <a:chExt cx="7985160" cy="4786200"/>
          </a:xfrm>
        </p:grpSpPr>
        <p:sp>
          <p:nvSpPr>
            <p:cNvPr id="706" name="AutoShape 125"/>
            <p:cNvSpPr/>
            <p:nvPr/>
          </p:nvSpPr>
          <p:spPr>
            <a:xfrm>
              <a:off x="611280" y="1900080"/>
              <a:ext cx="7985160" cy="4370400"/>
            </a:xfrm>
            <a:prstGeom prst="roundRect">
              <a:avLst>
                <a:gd name="adj" fmla="val 3560"/>
              </a:avLst>
            </a:pr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7" name="AutoShape 126"/>
            <p:cNvSpPr/>
            <p:nvPr/>
          </p:nvSpPr>
          <p:spPr>
            <a:xfrm>
              <a:off x="916200" y="1484280"/>
              <a:ext cx="7230960" cy="6271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7000"/>
              </a:srgbClr>
            </a:solidFill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Click to add text here</a:t>
              </a: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08" name="Group 127"/>
            <p:cNvGrpSpPr/>
            <p:nvPr/>
          </p:nvGrpSpPr>
          <p:grpSpPr>
            <a:xfrm>
              <a:off x="1189080" y="2419200"/>
              <a:ext cx="6697800" cy="647640"/>
              <a:chOff x="1189080" y="2419200"/>
              <a:chExt cx="6697800" cy="647640"/>
            </a:xfrm>
          </p:grpSpPr>
          <p:sp>
            <p:nvSpPr>
              <p:cNvPr id="709" name="AutoShape 128"/>
              <p:cNvSpPr/>
              <p:nvPr/>
            </p:nvSpPr>
            <p:spPr>
              <a:xfrm>
                <a:off x="1189080" y="2419200"/>
                <a:ext cx="66978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Click to add text here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0" name="AutoShape 129"/>
              <p:cNvSpPr/>
              <p:nvPr/>
            </p:nvSpPr>
            <p:spPr>
              <a:xfrm>
                <a:off x="1217520" y="2446200"/>
                <a:ext cx="6624720" cy="333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11" name="Group 130"/>
            <p:cNvGrpSpPr/>
            <p:nvPr/>
          </p:nvGrpSpPr>
          <p:grpSpPr>
            <a:xfrm>
              <a:off x="1189080" y="3138480"/>
              <a:ext cx="6697800" cy="647640"/>
              <a:chOff x="1189080" y="3138480"/>
              <a:chExt cx="6697800" cy="647640"/>
            </a:xfrm>
          </p:grpSpPr>
          <p:sp>
            <p:nvSpPr>
              <p:cNvPr id="712" name="AutoShape 131"/>
              <p:cNvSpPr/>
              <p:nvPr/>
            </p:nvSpPr>
            <p:spPr>
              <a:xfrm>
                <a:off x="1189080" y="3138480"/>
                <a:ext cx="66978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ick to add text here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3" name="AutoShape 132"/>
              <p:cNvSpPr/>
              <p:nvPr/>
            </p:nvSpPr>
            <p:spPr>
              <a:xfrm>
                <a:off x="1217520" y="3165480"/>
                <a:ext cx="6624720" cy="333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14" name="Group 133"/>
            <p:cNvGrpSpPr/>
            <p:nvPr/>
          </p:nvGrpSpPr>
          <p:grpSpPr>
            <a:xfrm>
              <a:off x="1189080" y="3860640"/>
              <a:ext cx="6697800" cy="647640"/>
              <a:chOff x="1189080" y="3860640"/>
              <a:chExt cx="6697800" cy="647640"/>
            </a:xfrm>
          </p:grpSpPr>
          <p:sp>
            <p:nvSpPr>
              <p:cNvPr id="715" name="AutoShape 134"/>
              <p:cNvSpPr/>
              <p:nvPr/>
            </p:nvSpPr>
            <p:spPr>
              <a:xfrm>
                <a:off x="1189080" y="3860640"/>
                <a:ext cx="66978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Click to add text here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6" name="AutoShape 135"/>
              <p:cNvSpPr/>
              <p:nvPr/>
            </p:nvSpPr>
            <p:spPr>
              <a:xfrm>
                <a:off x="1217520" y="3887640"/>
                <a:ext cx="6624720" cy="333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17" name="Group 136"/>
            <p:cNvGrpSpPr/>
            <p:nvPr/>
          </p:nvGrpSpPr>
          <p:grpSpPr>
            <a:xfrm>
              <a:off x="1189080" y="4579920"/>
              <a:ext cx="6697800" cy="647640"/>
              <a:chOff x="1189080" y="4579920"/>
              <a:chExt cx="6697800" cy="647640"/>
            </a:xfrm>
          </p:grpSpPr>
          <p:sp>
            <p:nvSpPr>
              <p:cNvPr id="718" name="AutoShape 137"/>
              <p:cNvSpPr/>
              <p:nvPr/>
            </p:nvSpPr>
            <p:spPr>
              <a:xfrm>
                <a:off x="1189080" y="4579920"/>
                <a:ext cx="66978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ick to add text here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9" name="AutoShape 138"/>
              <p:cNvSpPr/>
              <p:nvPr/>
            </p:nvSpPr>
            <p:spPr>
              <a:xfrm>
                <a:off x="1217520" y="4606920"/>
                <a:ext cx="6624720" cy="333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20" name="Group 139"/>
            <p:cNvGrpSpPr/>
            <p:nvPr/>
          </p:nvGrpSpPr>
          <p:grpSpPr>
            <a:xfrm>
              <a:off x="1189080" y="5299200"/>
              <a:ext cx="6697800" cy="647640"/>
              <a:chOff x="1189080" y="5299200"/>
              <a:chExt cx="6697800" cy="647640"/>
            </a:xfrm>
          </p:grpSpPr>
          <p:sp>
            <p:nvSpPr>
              <p:cNvPr id="721" name="AutoShape 140"/>
              <p:cNvSpPr/>
              <p:nvPr/>
            </p:nvSpPr>
            <p:spPr>
              <a:xfrm>
                <a:off x="1189080" y="5299200"/>
                <a:ext cx="6697800" cy="647640"/>
              </a:xfrm>
              <a:prstGeom prst="roundRect">
                <a:avLst>
                  <a:gd name="adj" fmla="val 16667"/>
                </a:avLst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Click to add text here</a:t>
                </a:r>
                <a:endParaRPr b="0" lang="en-US" sz="2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22" name="AutoShape 141"/>
              <p:cNvSpPr/>
              <p:nvPr/>
            </p:nvSpPr>
            <p:spPr>
              <a:xfrm>
                <a:off x="1217520" y="5326200"/>
                <a:ext cx="6624720" cy="333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52"/>
          <p:cNvGrpSpPr/>
          <p:nvPr/>
        </p:nvGrpSpPr>
        <p:grpSpPr>
          <a:xfrm>
            <a:off x="369720" y="1700280"/>
            <a:ext cx="8305920" cy="3930480"/>
            <a:chOff x="369720" y="1700280"/>
            <a:chExt cx="8305920" cy="3930480"/>
          </a:xfrm>
        </p:grpSpPr>
        <p:sp>
          <p:nvSpPr>
            <p:cNvPr id="725" name="AutoShape 53"/>
            <p:cNvSpPr/>
            <p:nvPr/>
          </p:nvSpPr>
          <p:spPr>
            <a:xfrm>
              <a:off x="5018040" y="1700280"/>
              <a:ext cx="3657600" cy="4413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efef"/>
                </a:gs>
                <a:gs pos="100000">
                  <a:srgbClr val="ffcccc"/>
                </a:gs>
              </a:gsLst>
              <a:lin ang="18900000"/>
            </a:gradFill>
            <a:ln w="2844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6" name="AutoShape 54"/>
            <p:cNvSpPr/>
            <p:nvPr/>
          </p:nvSpPr>
          <p:spPr>
            <a:xfrm>
              <a:off x="2274840" y="2049480"/>
              <a:ext cx="2133360" cy="4413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efef"/>
                </a:gs>
                <a:gs pos="100000">
                  <a:srgbClr val="ffcccc"/>
                </a:gs>
              </a:gsLst>
              <a:lin ang="18900000"/>
            </a:gradFill>
            <a:ln w="2844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727" name="Picture 55" descr="Untitled-4"/>
            <p:cNvPicPr/>
            <p:nvPr/>
          </p:nvPicPr>
          <p:blipFill>
            <a:blip r:embed="rId1"/>
            <a:stretch/>
          </p:blipFill>
          <p:spPr>
            <a:xfrm>
              <a:off x="5095800" y="1776600"/>
              <a:ext cx="35064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AutoShape 56"/>
            <p:cNvSpPr/>
            <p:nvPr/>
          </p:nvSpPr>
          <p:spPr>
            <a:xfrm>
              <a:off x="369720" y="3344760"/>
              <a:ext cx="1523880" cy="4413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800080"/>
                </a:gs>
              </a:gsLst>
              <a:lin ang="18900000"/>
            </a:gradFill>
            <a:ln w="2844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9" name="AutoShape 57"/>
            <p:cNvSpPr/>
            <p:nvPr/>
          </p:nvSpPr>
          <p:spPr>
            <a:xfrm>
              <a:off x="2274840" y="3344760"/>
              <a:ext cx="2133360" cy="4413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9999"/>
                </a:gs>
              </a:gsLst>
              <a:lin ang="18900000"/>
            </a:gradFill>
            <a:ln w="2844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0" name="AutoShape 58"/>
            <p:cNvSpPr/>
            <p:nvPr/>
          </p:nvSpPr>
          <p:spPr>
            <a:xfrm>
              <a:off x="2274840" y="4732560"/>
              <a:ext cx="2133360" cy="4410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9999"/>
                </a:gs>
                <a:gs pos="100000">
                  <a:srgbClr val="ff3399"/>
                </a:gs>
              </a:gsLst>
              <a:lin ang="18900000"/>
            </a:gradFill>
            <a:ln w="2844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ulim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1" name="AutoShape 59"/>
            <p:cNvSpPr/>
            <p:nvPr/>
          </p:nvSpPr>
          <p:spPr>
            <a:xfrm>
              <a:off x="5018040" y="2370240"/>
              <a:ext cx="3657600" cy="4413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efef"/>
                </a:gs>
                <a:gs pos="100000">
                  <a:srgbClr val="ffcccc"/>
                </a:gs>
              </a:gsLst>
              <a:lin ang="18900000"/>
            </a:gradFill>
            <a:ln w="2844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732" name="Picture 60" descr="Untitled-4"/>
            <p:cNvPicPr/>
            <p:nvPr/>
          </p:nvPicPr>
          <p:blipFill>
            <a:blip r:embed="rId2"/>
            <a:stretch/>
          </p:blipFill>
          <p:spPr>
            <a:xfrm>
              <a:off x="5095800" y="2446560"/>
              <a:ext cx="3506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61" descr="Untitled-4"/>
            <p:cNvPicPr/>
            <p:nvPr/>
          </p:nvPicPr>
          <p:blipFill>
            <a:blip r:embed="rId3"/>
            <a:stretch/>
          </p:blipFill>
          <p:spPr>
            <a:xfrm>
              <a:off x="2350800" y="2125800"/>
              <a:ext cx="3542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62" descr="Untitled-4"/>
            <p:cNvPicPr/>
            <p:nvPr/>
          </p:nvPicPr>
          <p:blipFill>
            <a:blip r:embed="rId4"/>
            <a:stretch/>
          </p:blipFill>
          <p:spPr>
            <a:xfrm>
              <a:off x="2350800" y="3421080"/>
              <a:ext cx="3542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63" descr="Untitled-4"/>
            <p:cNvPicPr/>
            <p:nvPr/>
          </p:nvPicPr>
          <p:blipFill>
            <a:blip r:embed="rId5"/>
            <a:stretch/>
          </p:blipFill>
          <p:spPr>
            <a:xfrm>
              <a:off x="447480" y="3421080"/>
              <a:ext cx="37944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64" descr="Untitled-4"/>
            <p:cNvPicPr/>
            <p:nvPr/>
          </p:nvPicPr>
          <p:blipFill>
            <a:blip r:embed="rId6"/>
            <a:stretch/>
          </p:blipFill>
          <p:spPr>
            <a:xfrm>
              <a:off x="2350800" y="4808520"/>
              <a:ext cx="35424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AutoShape 65"/>
            <p:cNvSpPr/>
            <p:nvPr/>
          </p:nvSpPr>
          <p:spPr>
            <a:xfrm>
              <a:off x="5018040" y="3056040"/>
              <a:ext cx="3657600" cy="4413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9999"/>
                </a:gs>
              </a:gsLst>
              <a:lin ang="18900000"/>
            </a:gradFill>
            <a:ln w="2844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738" name="Picture 66" descr="Untitled-4"/>
            <p:cNvPicPr/>
            <p:nvPr/>
          </p:nvPicPr>
          <p:blipFill>
            <a:blip r:embed="rId7"/>
            <a:stretch/>
          </p:blipFill>
          <p:spPr>
            <a:xfrm>
              <a:off x="5095800" y="3132360"/>
              <a:ext cx="35064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AutoShape 67"/>
            <p:cNvSpPr/>
            <p:nvPr/>
          </p:nvSpPr>
          <p:spPr>
            <a:xfrm>
              <a:off x="5018040" y="4487760"/>
              <a:ext cx="3657600" cy="4413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9999"/>
                </a:gs>
                <a:gs pos="100000">
                  <a:srgbClr val="ff3399"/>
                </a:gs>
              </a:gsLst>
              <a:lin ang="5400000"/>
            </a:gradFill>
            <a:ln w="2844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740" name="Picture 68" descr="Untitled-4"/>
            <p:cNvPicPr/>
            <p:nvPr/>
          </p:nvPicPr>
          <p:blipFill>
            <a:blip r:embed="rId8"/>
            <a:stretch/>
          </p:blipFill>
          <p:spPr>
            <a:xfrm>
              <a:off x="5095800" y="4564080"/>
              <a:ext cx="35064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AutoShape 69"/>
            <p:cNvSpPr/>
            <p:nvPr/>
          </p:nvSpPr>
          <p:spPr>
            <a:xfrm>
              <a:off x="5018040" y="3726000"/>
              <a:ext cx="3657600" cy="4413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9999"/>
                </a:gs>
              </a:gsLst>
              <a:lin ang="18900000"/>
            </a:gradFill>
            <a:ln w="2844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742" name="Picture 70" descr="Untitled-4"/>
            <p:cNvPicPr/>
            <p:nvPr/>
          </p:nvPicPr>
          <p:blipFill>
            <a:blip r:embed="rId9"/>
            <a:stretch/>
          </p:blipFill>
          <p:spPr>
            <a:xfrm>
              <a:off x="5095800" y="3801960"/>
              <a:ext cx="350640" cy="2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AutoShape 71"/>
            <p:cNvSpPr/>
            <p:nvPr/>
          </p:nvSpPr>
          <p:spPr>
            <a:xfrm>
              <a:off x="5018040" y="5189760"/>
              <a:ext cx="3657600" cy="4410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9999"/>
                </a:gs>
                <a:gs pos="100000">
                  <a:srgbClr val="ff3399"/>
                </a:gs>
              </a:gsLst>
              <a:lin ang="5400000"/>
            </a:gradFill>
            <a:ln w="2844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ulim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744" name="Picture 72" descr="Untitled-4"/>
            <p:cNvPicPr/>
            <p:nvPr/>
          </p:nvPicPr>
          <p:blipFill>
            <a:blip r:embed="rId10"/>
            <a:stretch/>
          </p:blipFill>
          <p:spPr>
            <a:xfrm>
              <a:off x="5095800" y="5265720"/>
              <a:ext cx="35064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Line 73"/>
            <p:cNvSpPr/>
            <p:nvPr/>
          </p:nvSpPr>
          <p:spPr>
            <a:xfrm flipH="1">
              <a:off x="1920240" y="2323800"/>
              <a:ext cx="327240" cy="96264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6" name="Line 74"/>
            <p:cNvSpPr/>
            <p:nvPr/>
          </p:nvSpPr>
          <p:spPr>
            <a:xfrm>
              <a:off x="1929240" y="3921120"/>
              <a:ext cx="309240" cy="96840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7" name="Line 75"/>
            <p:cNvSpPr/>
            <p:nvPr/>
          </p:nvSpPr>
          <p:spPr>
            <a:xfrm flipH="1">
              <a:off x="1969560" y="3605400"/>
              <a:ext cx="30492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8" name="Line 76"/>
            <p:cNvSpPr/>
            <p:nvPr/>
          </p:nvSpPr>
          <p:spPr>
            <a:xfrm flipH="1">
              <a:off x="4484520" y="2005200"/>
              <a:ext cx="457200" cy="22860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9" name="Line 77"/>
            <p:cNvSpPr/>
            <p:nvPr/>
          </p:nvSpPr>
          <p:spPr>
            <a:xfrm flipH="1" flipV="1">
              <a:off x="4484520" y="2233800"/>
              <a:ext cx="457200" cy="3045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0" name="Line 78"/>
            <p:cNvSpPr/>
            <p:nvPr/>
          </p:nvSpPr>
          <p:spPr>
            <a:xfrm flipH="1">
              <a:off x="4484520" y="3300480"/>
              <a:ext cx="457200" cy="22860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1" name="Line 79"/>
            <p:cNvSpPr/>
            <p:nvPr/>
          </p:nvSpPr>
          <p:spPr>
            <a:xfrm flipH="1" flipV="1">
              <a:off x="4484520" y="3528720"/>
              <a:ext cx="457200" cy="30492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2" name="Line 80"/>
            <p:cNvSpPr/>
            <p:nvPr/>
          </p:nvSpPr>
          <p:spPr>
            <a:xfrm flipH="1">
              <a:off x="4484520" y="4824360"/>
              <a:ext cx="457200" cy="22860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3" name="Line 81"/>
            <p:cNvSpPr/>
            <p:nvPr/>
          </p:nvSpPr>
          <p:spPr>
            <a:xfrm flipH="1" flipV="1">
              <a:off x="4484520" y="5052600"/>
              <a:ext cx="457200" cy="30492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168"/>
          <p:cNvGrpSpPr/>
          <p:nvPr/>
        </p:nvGrpSpPr>
        <p:grpSpPr>
          <a:xfrm>
            <a:off x="755640" y="1700280"/>
            <a:ext cx="7623000" cy="4217400"/>
            <a:chOff x="755640" y="1700280"/>
            <a:chExt cx="7623000" cy="4217400"/>
          </a:xfrm>
        </p:grpSpPr>
        <p:grpSp>
          <p:nvGrpSpPr>
            <p:cNvPr id="756" name="Group 169"/>
            <p:cNvGrpSpPr/>
            <p:nvPr/>
          </p:nvGrpSpPr>
          <p:grpSpPr>
            <a:xfrm>
              <a:off x="784080" y="1700280"/>
              <a:ext cx="2860560" cy="498240"/>
              <a:chOff x="784080" y="1700280"/>
              <a:chExt cx="2860560" cy="498240"/>
            </a:xfrm>
          </p:grpSpPr>
          <p:sp>
            <p:nvSpPr>
              <p:cNvPr id="757" name="AutoShape 170"/>
              <p:cNvSpPr/>
              <p:nvPr/>
            </p:nvSpPr>
            <p:spPr>
              <a:xfrm>
                <a:off x="784080" y="1700280"/>
                <a:ext cx="2860560" cy="498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cc">
                      <a:alpha val="50196"/>
                    </a:srgbClr>
                  </a:gs>
                  <a:gs pos="100000">
                    <a:srgbClr val="ff9999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8" name="Text Box 171"/>
              <p:cNvSpPr/>
              <p:nvPr/>
            </p:nvSpPr>
            <p:spPr>
              <a:xfrm>
                <a:off x="1403280" y="1714320"/>
                <a:ext cx="1512720" cy="42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59" name="Group 172"/>
            <p:cNvGrpSpPr/>
            <p:nvPr/>
          </p:nvGrpSpPr>
          <p:grpSpPr>
            <a:xfrm>
              <a:off x="5518080" y="1700280"/>
              <a:ext cx="2860560" cy="498240"/>
              <a:chOff x="5518080" y="1700280"/>
              <a:chExt cx="2860560" cy="498240"/>
            </a:xfrm>
          </p:grpSpPr>
          <p:sp>
            <p:nvSpPr>
              <p:cNvPr id="760" name="AutoShape 173"/>
              <p:cNvSpPr/>
              <p:nvPr/>
            </p:nvSpPr>
            <p:spPr>
              <a:xfrm>
                <a:off x="5518080" y="1700280"/>
                <a:ext cx="2860560" cy="498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cc">
                      <a:alpha val="50196"/>
                    </a:srgbClr>
                  </a:gs>
                  <a:gs pos="100000">
                    <a:srgbClr val="ff9999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1" name="Text Box 174"/>
              <p:cNvSpPr/>
              <p:nvPr/>
            </p:nvSpPr>
            <p:spPr>
              <a:xfrm>
                <a:off x="6137280" y="1714320"/>
                <a:ext cx="1512720" cy="42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3333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62" name="Group 175"/>
            <p:cNvGrpSpPr/>
            <p:nvPr/>
          </p:nvGrpSpPr>
          <p:grpSpPr>
            <a:xfrm>
              <a:off x="755640" y="2149200"/>
              <a:ext cx="7580160" cy="624960"/>
              <a:chOff x="755640" y="2149200"/>
              <a:chExt cx="7580160" cy="624960"/>
            </a:xfrm>
          </p:grpSpPr>
          <p:sp>
            <p:nvSpPr>
              <p:cNvPr id="763" name="Rectangle 176"/>
              <p:cNvSpPr/>
              <p:nvPr/>
            </p:nvSpPr>
            <p:spPr>
              <a:xfrm>
                <a:off x="755640" y="2198160"/>
                <a:ext cx="2914560" cy="57564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4" name="Text Box 177"/>
              <p:cNvSpPr/>
              <p:nvPr/>
            </p:nvSpPr>
            <p:spPr>
              <a:xfrm>
                <a:off x="819000" y="234108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5" name="Rectangle 178"/>
              <p:cNvSpPr/>
              <p:nvPr/>
            </p:nvSpPr>
            <p:spPr>
              <a:xfrm>
                <a:off x="5459400" y="2198160"/>
                <a:ext cx="2876400" cy="57564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6" name="AutoShape 179"/>
              <p:cNvSpPr/>
              <p:nvPr/>
            </p:nvSpPr>
            <p:spPr>
              <a:xfrm>
                <a:off x="3635280" y="2149200"/>
                <a:ext cx="1873440" cy="624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67" name="Text Box 180"/>
              <p:cNvSpPr/>
              <p:nvPr/>
            </p:nvSpPr>
            <p:spPr>
              <a:xfrm>
                <a:off x="5514840" y="234108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68" name="Group 181"/>
            <p:cNvGrpSpPr/>
            <p:nvPr/>
          </p:nvGrpSpPr>
          <p:grpSpPr>
            <a:xfrm>
              <a:off x="755640" y="2777760"/>
              <a:ext cx="7580160" cy="625320"/>
              <a:chOff x="755640" y="2777760"/>
              <a:chExt cx="7580160" cy="625320"/>
            </a:xfrm>
          </p:grpSpPr>
          <p:sp>
            <p:nvSpPr>
              <p:cNvPr id="769" name="Rectangle 182"/>
              <p:cNvSpPr/>
              <p:nvPr/>
            </p:nvSpPr>
            <p:spPr>
              <a:xfrm>
                <a:off x="755640" y="2827080"/>
                <a:ext cx="2914560" cy="57600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0" name="Text Box 183"/>
              <p:cNvSpPr/>
              <p:nvPr/>
            </p:nvSpPr>
            <p:spPr>
              <a:xfrm>
                <a:off x="819000" y="297000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1" name="Rectangle 184"/>
              <p:cNvSpPr/>
              <p:nvPr/>
            </p:nvSpPr>
            <p:spPr>
              <a:xfrm>
                <a:off x="5459400" y="2827080"/>
                <a:ext cx="2876400" cy="57600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2" name="AutoShape 185"/>
              <p:cNvSpPr/>
              <p:nvPr/>
            </p:nvSpPr>
            <p:spPr>
              <a:xfrm>
                <a:off x="3635280" y="2777760"/>
                <a:ext cx="1873440" cy="625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3" name="Text Box 186"/>
              <p:cNvSpPr/>
              <p:nvPr/>
            </p:nvSpPr>
            <p:spPr>
              <a:xfrm>
                <a:off x="5514840" y="297000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74" name="Group 187"/>
            <p:cNvGrpSpPr/>
            <p:nvPr/>
          </p:nvGrpSpPr>
          <p:grpSpPr>
            <a:xfrm>
              <a:off x="755640" y="3406320"/>
              <a:ext cx="7580160" cy="625320"/>
              <a:chOff x="755640" y="3406320"/>
              <a:chExt cx="7580160" cy="625320"/>
            </a:xfrm>
          </p:grpSpPr>
          <p:sp>
            <p:nvSpPr>
              <p:cNvPr id="775" name="Rectangle 188"/>
              <p:cNvSpPr/>
              <p:nvPr/>
            </p:nvSpPr>
            <p:spPr>
              <a:xfrm>
                <a:off x="755640" y="3455640"/>
                <a:ext cx="2914560" cy="57600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6" name="Text Box 189"/>
              <p:cNvSpPr/>
              <p:nvPr/>
            </p:nvSpPr>
            <p:spPr>
              <a:xfrm>
                <a:off x="819000" y="359856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7" name="Rectangle 190"/>
              <p:cNvSpPr/>
              <p:nvPr/>
            </p:nvSpPr>
            <p:spPr>
              <a:xfrm>
                <a:off x="5459400" y="3455640"/>
                <a:ext cx="2876400" cy="57600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8" name="AutoShape 191"/>
              <p:cNvSpPr/>
              <p:nvPr/>
            </p:nvSpPr>
            <p:spPr>
              <a:xfrm>
                <a:off x="3635280" y="3406320"/>
                <a:ext cx="1873440" cy="625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79" name="Text Box 192"/>
              <p:cNvSpPr/>
              <p:nvPr/>
            </p:nvSpPr>
            <p:spPr>
              <a:xfrm>
                <a:off x="5514840" y="359856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80" name="Group 193"/>
            <p:cNvGrpSpPr/>
            <p:nvPr/>
          </p:nvGrpSpPr>
          <p:grpSpPr>
            <a:xfrm>
              <a:off x="755640" y="4035240"/>
              <a:ext cx="7580160" cy="624960"/>
              <a:chOff x="755640" y="4035240"/>
              <a:chExt cx="7580160" cy="624960"/>
            </a:xfrm>
          </p:grpSpPr>
          <p:sp>
            <p:nvSpPr>
              <p:cNvPr id="781" name="Rectangle 194"/>
              <p:cNvSpPr/>
              <p:nvPr/>
            </p:nvSpPr>
            <p:spPr>
              <a:xfrm>
                <a:off x="755640" y="4084200"/>
                <a:ext cx="2914560" cy="57564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2" name="Text Box 195"/>
              <p:cNvSpPr/>
              <p:nvPr/>
            </p:nvSpPr>
            <p:spPr>
              <a:xfrm>
                <a:off x="819000" y="422712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3" name="Rectangle 196"/>
              <p:cNvSpPr/>
              <p:nvPr/>
            </p:nvSpPr>
            <p:spPr>
              <a:xfrm>
                <a:off x="5459400" y="4084200"/>
                <a:ext cx="2876400" cy="57564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4" name="AutoShape 197"/>
              <p:cNvSpPr/>
              <p:nvPr/>
            </p:nvSpPr>
            <p:spPr>
              <a:xfrm>
                <a:off x="3635280" y="4035240"/>
                <a:ext cx="1873440" cy="624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5" name="Text Box 198"/>
              <p:cNvSpPr/>
              <p:nvPr/>
            </p:nvSpPr>
            <p:spPr>
              <a:xfrm>
                <a:off x="5514840" y="422712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86" name="Group 199"/>
            <p:cNvGrpSpPr/>
            <p:nvPr/>
          </p:nvGrpSpPr>
          <p:grpSpPr>
            <a:xfrm>
              <a:off x="765000" y="4663800"/>
              <a:ext cx="7580160" cy="624960"/>
              <a:chOff x="765000" y="4663800"/>
              <a:chExt cx="7580160" cy="624960"/>
            </a:xfrm>
          </p:grpSpPr>
          <p:sp>
            <p:nvSpPr>
              <p:cNvPr id="787" name="Rectangle 200"/>
              <p:cNvSpPr/>
              <p:nvPr/>
            </p:nvSpPr>
            <p:spPr>
              <a:xfrm>
                <a:off x="765000" y="4712760"/>
                <a:ext cx="2914560" cy="57564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8" name="Text Box 201"/>
              <p:cNvSpPr/>
              <p:nvPr/>
            </p:nvSpPr>
            <p:spPr>
              <a:xfrm>
                <a:off x="828360" y="485568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89" name="Rectangle 202"/>
              <p:cNvSpPr/>
              <p:nvPr/>
            </p:nvSpPr>
            <p:spPr>
              <a:xfrm>
                <a:off x="5468760" y="4712760"/>
                <a:ext cx="2876400" cy="57564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90" name="AutoShape 203"/>
              <p:cNvSpPr/>
              <p:nvPr/>
            </p:nvSpPr>
            <p:spPr>
              <a:xfrm>
                <a:off x="3644640" y="4663800"/>
                <a:ext cx="1873440" cy="62496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91" name="Text Box 204"/>
              <p:cNvSpPr/>
              <p:nvPr/>
            </p:nvSpPr>
            <p:spPr>
              <a:xfrm>
                <a:off x="5524200" y="485568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92" name="Group 205"/>
            <p:cNvGrpSpPr/>
            <p:nvPr/>
          </p:nvGrpSpPr>
          <p:grpSpPr>
            <a:xfrm>
              <a:off x="765000" y="5292360"/>
              <a:ext cx="7580160" cy="625320"/>
              <a:chOff x="765000" y="5292360"/>
              <a:chExt cx="7580160" cy="625320"/>
            </a:xfrm>
          </p:grpSpPr>
          <p:sp>
            <p:nvSpPr>
              <p:cNvPr id="793" name="Rectangle 206"/>
              <p:cNvSpPr/>
              <p:nvPr/>
            </p:nvSpPr>
            <p:spPr>
              <a:xfrm>
                <a:off x="765000" y="5341680"/>
                <a:ext cx="2914560" cy="57600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94" name="Text Box 207"/>
              <p:cNvSpPr/>
              <p:nvPr/>
            </p:nvSpPr>
            <p:spPr>
              <a:xfrm>
                <a:off x="828360" y="548460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95" name="Rectangle 208"/>
              <p:cNvSpPr/>
              <p:nvPr/>
            </p:nvSpPr>
            <p:spPr>
              <a:xfrm>
                <a:off x="5468760" y="5341680"/>
                <a:ext cx="2876400" cy="576000"/>
              </a:xfrm>
              <a:prstGeom prst="rect">
                <a:avLst/>
              </a:prstGeom>
              <a:gradFill rotWithShape="0">
                <a:gsLst>
                  <a:gs pos="0">
                    <a:srgbClr val="ffe299">
                      <a:alpha val="40000"/>
                    </a:srgbClr>
                  </a:gs>
                  <a:gs pos="100000">
                    <a:srgbClr val="ffffff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96" name="AutoShape 209"/>
              <p:cNvSpPr/>
              <p:nvPr/>
            </p:nvSpPr>
            <p:spPr>
              <a:xfrm>
                <a:off x="3644640" y="5292360"/>
                <a:ext cx="1873440" cy="62532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97" name="Text Box 210"/>
              <p:cNvSpPr/>
              <p:nvPr/>
            </p:nvSpPr>
            <p:spPr>
              <a:xfrm>
                <a:off x="5524200" y="5484600"/>
                <a:ext cx="280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ick to add text</a:t>
                </a:r>
                <a:endParaRPr b="0" lang="en-US" sz="1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642"/>
          <p:cNvGrpSpPr/>
          <p:nvPr/>
        </p:nvGrpSpPr>
        <p:grpSpPr>
          <a:xfrm>
            <a:off x="179280" y="1916280"/>
            <a:ext cx="8824680" cy="3771720"/>
            <a:chOff x="179280" y="1916280"/>
            <a:chExt cx="8824680" cy="3771720"/>
          </a:xfrm>
        </p:grpSpPr>
        <p:grpSp>
          <p:nvGrpSpPr>
            <p:cNvPr id="800" name="Group 641"/>
            <p:cNvGrpSpPr/>
            <p:nvPr/>
          </p:nvGrpSpPr>
          <p:grpSpPr>
            <a:xfrm>
              <a:off x="179280" y="1916280"/>
              <a:ext cx="2919240" cy="3771720"/>
              <a:chOff x="179280" y="1916280"/>
              <a:chExt cx="2919240" cy="3771720"/>
            </a:xfrm>
          </p:grpSpPr>
          <p:sp>
            <p:nvSpPr>
              <p:cNvPr id="801" name="Line 353"/>
              <p:cNvSpPr/>
              <p:nvPr/>
            </p:nvSpPr>
            <p:spPr>
              <a:xfrm>
                <a:off x="312480" y="2248200"/>
                <a:ext cx="2454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02" name="Group 354"/>
              <p:cNvGrpSpPr/>
              <p:nvPr/>
            </p:nvGrpSpPr>
            <p:grpSpPr>
              <a:xfrm>
                <a:off x="312480" y="2373480"/>
                <a:ext cx="61920" cy="372960"/>
                <a:chOff x="312480" y="2373480"/>
                <a:chExt cx="61920" cy="372960"/>
              </a:xfrm>
            </p:grpSpPr>
            <p:sp>
              <p:nvSpPr>
                <p:cNvPr id="803" name="Line 355"/>
                <p:cNvSpPr/>
                <p:nvPr/>
              </p:nvSpPr>
              <p:spPr>
                <a:xfrm>
                  <a:off x="312480" y="23734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04" name="Line 356"/>
                <p:cNvSpPr/>
                <p:nvPr/>
              </p:nvSpPr>
              <p:spPr>
                <a:xfrm>
                  <a:off x="312480" y="24969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05" name="Line 357"/>
                <p:cNvSpPr/>
                <p:nvPr/>
              </p:nvSpPr>
              <p:spPr>
                <a:xfrm>
                  <a:off x="312480" y="26215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06" name="Line 358"/>
                <p:cNvSpPr/>
                <p:nvPr/>
              </p:nvSpPr>
              <p:spPr>
                <a:xfrm>
                  <a:off x="312480" y="27464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07" name="Line 359"/>
              <p:cNvSpPr/>
              <p:nvPr/>
            </p:nvSpPr>
            <p:spPr>
              <a:xfrm>
                <a:off x="312480" y="2872080"/>
                <a:ext cx="245448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08" name="Group 360"/>
              <p:cNvGrpSpPr/>
              <p:nvPr/>
            </p:nvGrpSpPr>
            <p:grpSpPr>
              <a:xfrm>
                <a:off x="2643120" y="2373480"/>
                <a:ext cx="60120" cy="372960"/>
                <a:chOff x="2643120" y="2373480"/>
                <a:chExt cx="60120" cy="372960"/>
              </a:xfrm>
            </p:grpSpPr>
            <p:sp>
              <p:nvSpPr>
                <p:cNvPr id="809" name="Line 361"/>
                <p:cNvSpPr/>
                <p:nvPr/>
              </p:nvSpPr>
              <p:spPr>
                <a:xfrm>
                  <a:off x="2643120" y="237348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10" name="Line 362"/>
                <p:cNvSpPr/>
                <p:nvPr/>
              </p:nvSpPr>
              <p:spPr>
                <a:xfrm>
                  <a:off x="2643120" y="249696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11" name="Line 363"/>
                <p:cNvSpPr/>
                <p:nvPr/>
              </p:nvSpPr>
              <p:spPr>
                <a:xfrm>
                  <a:off x="2643120" y="262152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12" name="Line 364"/>
                <p:cNvSpPr/>
                <p:nvPr/>
              </p:nvSpPr>
              <p:spPr>
                <a:xfrm>
                  <a:off x="2643120" y="274644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813" name="Group 365"/>
              <p:cNvGrpSpPr/>
              <p:nvPr/>
            </p:nvGrpSpPr>
            <p:grpSpPr>
              <a:xfrm>
                <a:off x="312480" y="2998800"/>
                <a:ext cx="61920" cy="374760"/>
                <a:chOff x="312480" y="2998800"/>
                <a:chExt cx="61920" cy="374760"/>
              </a:xfrm>
            </p:grpSpPr>
            <p:sp>
              <p:nvSpPr>
                <p:cNvPr id="814" name="Line 366"/>
                <p:cNvSpPr/>
                <p:nvPr/>
              </p:nvSpPr>
              <p:spPr>
                <a:xfrm>
                  <a:off x="312480" y="299880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15" name="Line 367"/>
                <p:cNvSpPr/>
                <p:nvPr/>
              </p:nvSpPr>
              <p:spPr>
                <a:xfrm>
                  <a:off x="312480" y="31226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16" name="Line 368"/>
                <p:cNvSpPr/>
                <p:nvPr/>
              </p:nvSpPr>
              <p:spPr>
                <a:xfrm>
                  <a:off x="312480" y="32479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17" name="Line 369"/>
                <p:cNvSpPr/>
                <p:nvPr/>
              </p:nvSpPr>
              <p:spPr>
                <a:xfrm>
                  <a:off x="312480" y="33735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18" name="Line 370"/>
              <p:cNvSpPr/>
              <p:nvPr/>
            </p:nvSpPr>
            <p:spPr>
              <a:xfrm>
                <a:off x="312480" y="3497400"/>
                <a:ext cx="245448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19" name="Group 371"/>
              <p:cNvGrpSpPr/>
              <p:nvPr/>
            </p:nvGrpSpPr>
            <p:grpSpPr>
              <a:xfrm>
                <a:off x="2641320" y="2997360"/>
                <a:ext cx="60480" cy="374760"/>
                <a:chOff x="2641320" y="2997360"/>
                <a:chExt cx="60480" cy="374760"/>
              </a:xfrm>
            </p:grpSpPr>
            <p:sp>
              <p:nvSpPr>
                <p:cNvPr id="820" name="Line 372"/>
                <p:cNvSpPr/>
                <p:nvPr/>
              </p:nvSpPr>
              <p:spPr>
                <a:xfrm>
                  <a:off x="2641320" y="299736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21" name="Line 373"/>
                <p:cNvSpPr/>
                <p:nvPr/>
              </p:nvSpPr>
              <p:spPr>
                <a:xfrm>
                  <a:off x="2641320" y="31212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22" name="Line 374"/>
                <p:cNvSpPr/>
                <p:nvPr/>
              </p:nvSpPr>
              <p:spPr>
                <a:xfrm>
                  <a:off x="2641320" y="324648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23" name="Line 375"/>
                <p:cNvSpPr/>
                <p:nvPr/>
              </p:nvSpPr>
              <p:spPr>
                <a:xfrm>
                  <a:off x="2641320" y="337212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824" name="Group 376"/>
              <p:cNvGrpSpPr/>
              <p:nvPr/>
            </p:nvGrpSpPr>
            <p:grpSpPr>
              <a:xfrm>
                <a:off x="312480" y="3621240"/>
                <a:ext cx="61920" cy="372960"/>
                <a:chOff x="312480" y="3621240"/>
                <a:chExt cx="61920" cy="372960"/>
              </a:xfrm>
            </p:grpSpPr>
            <p:sp>
              <p:nvSpPr>
                <p:cNvPr id="825" name="Line 377"/>
                <p:cNvSpPr/>
                <p:nvPr/>
              </p:nvSpPr>
              <p:spPr>
                <a:xfrm>
                  <a:off x="312480" y="36212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26" name="Line 378"/>
                <p:cNvSpPr/>
                <p:nvPr/>
              </p:nvSpPr>
              <p:spPr>
                <a:xfrm>
                  <a:off x="312480" y="37447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27" name="Line 379"/>
                <p:cNvSpPr/>
                <p:nvPr/>
              </p:nvSpPr>
              <p:spPr>
                <a:xfrm>
                  <a:off x="312480" y="38692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28" name="Line 380"/>
                <p:cNvSpPr/>
                <p:nvPr/>
              </p:nvSpPr>
              <p:spPr>
                <a:xfrm>
                  <a:off x="312480" y="399420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29" name="Line 381"/>
              <p:cNvSpPr/>
              <p:nvPr/>
            </p:nvSpPr>
            <p:spPr>
              <a:xfrm>
                <a:off x="312480" y="4118040"/>
                <a:ext cx="245448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30" name="Group 382"/>
              <p:cNvGrpSpPr/>
              <p:nvPr/>
            </p:nvGrpSpPr>
            <p:grpSpPr>
              <a:xfrm>
                <a:off x="2641320" y="3619800"/>
                <a:ext cx="60480" cy="374400"/>
                <a:chOff x="2641320" y="3619800"/>
                <a:chExt cx="60480" cy="374400"/>
              </a:xfrm>
            </p:grpSpPr>
            <p:sp>
              <p:nvSpPr>
                <p:cNvPr id="831" name="Line 383"/>
                <p:cNvSpPr/>
                <p:nvPr/>
              </p:nvSpPr>
              <p:spPr>
                <a:xfrm>
                  <a:off x="2641320" y="36198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32" name="Line 384"/>
                <p:cNvSpPr/>
                <p:nvPr/>
              </p:nvSpPr>
              <p:spPr>
                <a:xfrm>
                  <a:off x="2641320" y="374364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33" name="Line 385"/>
                <p:cNvSpPr/>
                <p:nvPr/>
              </p:nvSpPr>
              <p:spPr>
                <a:xfrm>
                  <a:off x="2641320" y="386892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34" name="Line 386"/>
                <p:cNvSpPr/>
                <p:nvPr/>
              </p:nvSpPr>
              <p:spPr>
                <a:xfrm>
                  <a:off x="2641320" y="39942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835" name="Group 387"/>
              <p:cNvGrpSpPr/>
              <p:nvPr/>
            </p:nvGrpSpPr>
            <p:grpSpPr>
              <a:xfrm>
                <a:off x="312480" y="4246560"/>
                <a:ext cx="61920" cy="371520"/>
                <a:chOff x="312480" y="4246560"/>
                <a:chExt cx="61920" cy="371520"/>
              </a:xfrm>
            </p:grpSpPr>
            <p:sp>
              <p:nvSpPr>
                <p:cNvPr id="836" name="Line 388"/>
                <p:cNvSpPr/>
                <p:nvPr/>
              </p:nvSpPr>
              <p:spPr>
                <a:xfrm>
                  <a:off x="312480" y="42465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37" name="Line 389"/>
                <p:cNvSpPr/>
                <p:nvPr/>
              </p:nvSpPr>
              <p:spPr>
                <a:xfrm>
                  <a:off x="312480" y="43693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38" name="Line 390"/>
                <p:cNvSpPr/>
                <p:nvPr/>
              </p:nvSpPr>
              <p:spPr>
                <a:xfrm>
                  <a:off x="312480" y="44935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39" name="Line 391"/>
                <p:cNvSpPr/>
                <p:nvPr/>
              </p:nvSpPr>
              <p:spPr>
                <a:xfrm>
                  <a:off x="312480" y="46180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40" name="Line 392"/>
              <p:cNvSpPr/>
              <p:nvPr/>
            </p:nvSpPr>
            <p:spPr>
              <a:xfrm>
                <a:off x="312480" y="4743720"/>
                <a:ext cx="245448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41" name="Group 393"/>
              <p:cNvGrpSpPr/>
              <p:nvPr/>
            </p:nvGrpSpPr>
            <p:grpSpPr>
              <a:xfrm>
                <a:off x="2641320" y="4245120"/>
                <a:ext cx="60480" cy="372960"/>
                <a:chOff x="2641320" y="4245120"/>
                <a:chExt cx="60480" cy="372960"/>
              </a:xfrm>
            </p:grpSpPr>
            <p:sp>
              <p:nvSpPr>
                <p:cNvPr id="842" name="Line 394"/>
                <p:cNvSpPr/>
                <p:nvPr/>
              </p:nvSpPr>
              <p:spPr>
                <a:xfrm>
                  <a:off x="2641320" y="424512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43" name="Line 395"/>
                <p:cNvSpPr/>
                <p:nvPr/>
              </p:nvSpPr>
              <p:spPr>
                <a:xfrm>
                  <a:off x="2641320" y="43686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44" name="Line 396"/>
                <p:cNvSpPr/>
                <p:nvPr/>
              </p:nvSpPr>
              <p:spPr>
                <a:xfrm>
                  <a:off x="2641320" y="449316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45" name="Line 397"/>
                <p:cNvSpPr/>
                <p:nvPr/>
              </p:nvSpPr>
              <p:spPr>
                <a:xfrm>
                  <a:off x="2641320" y="461808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846" name="Group 398"/>
              <p:cNvGrpSpPr/>
              <p:nvPr/>
            </p:nvGrpSpPr>
            <p:grpSpPr>
              <a:xfrm>
                <a:off x="312480" y="4869000"/>
                <a:ext cx="61920" cy="372960"/>
                <a:chOff x="312480" y="4869000"/>
                <a:chExt cx="61920" cy="372960"/>
              </a:xfrm>
            </p:grpSpPr>
            <p:sp>
              <p:nvSpPr>
                <p:cNvPr id="847" name="Line 399"/>
                <p:cNvSpPr/>
                <p:nvPr/>
              </p:nvSpPr>
              <p:spPr>
                <a:xfrm>
                  <a:off x="312480" y="486900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48" name="Line 400"/>
                <p:cNvSpPr/>
                <p:nvPr/>
              </p:nvSpPr>
              <p:spPr>
                <a:xfrm>
                  <a:off x="312480" y="49924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49" name="Line 401"/>
                <p:cNvSpPr/>
                <p:nvPr/>
              </p:nvSpPr>
              <p:spPr>
                <a:xfrm>
                  <a:off x="312480" y="51170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50" name="Line 402"/>
                <p:cNvSpPr/>
                <p:nvPr/>
              </p:nvSpPr>
              <p:spPr>
                <a:xfrm>
                  <a:off x="312480" y="52419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51" name="Line 403"/>
              <p:cNvSpPr/>
              <p:nvPr/>
            </p:nvSpPr>
            <p:spPr>
              <a:xfrm>
                <a:off x="312480" y="5365800"/>
                <a:ext cx="2454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52" name="Group 404"/>
              <p:cNvGrpSpPr/>
              <p:nvPr/>
            </p:nvGrpSpPr>
            <p:grpSpPr>
              <a:xfrm>
                <a:off x="2643120" y="4869000"/>
                <a:ext cx="60120" cy="372960"/>
                <a:chOff x="2643120" y="4869000"/>
                <a:chExt cx="60120" cy="372960"/>
              </a:xfrm>
            </p:grpSpPr>
            <p:sp>
              <p:nvSpPr>
                <p:cNvPr id="853" name="Line 405"/>
                <p:cNvSpPr/>
                <p:nvPr/>
              </p:nvSpPr>
              <p:spPr>
                <a:xfrm>
                  <a:off x="2643120" y="486900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54" name="Line 406"/>
                <p:cNvSpPr/>
                <p:nvPr/>
              </p:nvSpPr>
              <p:spPr>
                <a:xfrm>
                  <a:off x="2643120" y="499248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55" name="Line 407"/>
                <p:cNvSpPr/>
                <p:nvPr/>
              </p:nvSpPr>
              <p:spPr>
                <a:xfrm>
                  <a:off x="2643120" y="511704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56" name="Line 408"/>
                <p:cNvSpPr/>
                <p:nvPr/>
              </p:nvSpPr>
              <p:spPr>
                <a:xfrm>
                  <a:off x="2643120" y="524196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57" name="Text Box 409"/>
              <p:cNvSpPr/>
              <p:nvPr/>
            </p:nvSpPr>
            <p:spPr>
              <a:xfrm>
                <a:off x="179280" y="5365800"/>
                <a:ext cx="398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4</a:t>
                </a:r>
                <a:endParaRPr b="0" lang="en-US" sz="15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8" name="Text Box 410"/>
              <p:cNvSpPr/>
              <p:nvPr/>
            </p:nvSpPr>
            <p:spPr>
              <a:xfrm>
                <a:off x="976320" y="5365800"/>
                <a:ext cx="398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5</a:t>
                </a:r>
                <a:endParaRPr b="0" lang="en-US" sz="15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9" name="Text Box 411"/>
              <p:cNvSpPr/>
              <p:nvPr/>
            </p:nvSpPr>
            <p:spPr>
              <a:xfrm>
                <a:off x="1706400" y="5365800"/>
                <a:ext cx="3970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6</a:t>
                </a:r>
                <a:endParaRPr b="0" lang="en-US" sz="15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0" name="Text Box 412"/>
              <p:cNvSpPr/>
              <p:nvPr/>
            </p:nvSpPr>
            <p:spPr>
              <a:xfrm>
                <a:off x="2436840" y="5365800"/>
                <a:ext cx="396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7</a:t>
                </a:r>
                <a:endParaRPr b="0" lang="en-US" sz="15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1" name="Line 413"/>
              <p:cNvSpPr/>
              <p:nvPr/>
            </p:nvSpPr>
            <p:spPr>
              <a:xfrm flipV="1">
                <a:off x="312480" y="4636800"/>
                <a:ext cx="862200" cy="198360"/>
              </a:xfrm>
              <a:prstGeom prst="line">
                <a:avLst/>
              </a:prstGeom>
              <a:ln w="50760">
                <a:solidFill>
                  <a:srgbClr val="ff3399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2" name="Line 414"/>
              <p:cNvSpPr/>
              <p:nvPr/>
            </p:nvSpPr>
            <p:spPr>
              <a:xfrm flipV="1">
                <a:off x="1174680" y="4303800"/>
                <a:ext cx="730080" cy="333360"/>
              </a:xfrm>
              <a:prstGeom prst="line">
                <a:avLst/>
              </a:prstGeom>
              <a:ln w="50760">
                <a:solidFill>
                  <a:srgbClr val="ff3399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3" name="Line 415"/>
              <p:cNvSpPr/>
              <p:nvPr/>
            </p:nvSpPr>
            <p:spPr>
              <a:xfrm flipV="1">
                <a:off x="1904760" y="3043080"/>
                <a:ext cx="795600" cy="1260360"/>
              </a:xfrm>
              <a:prstGeom prst="line">
                <a:avLst/>
              </a:prstGeom>
              <a:ln w="50760">
                <a:solidFill>
                  <a:srgbClr val="ff3399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4" name="Rectangle 416"/>
              <p:cNvSpPr/>
              <p:nvPr/>
            </p:nvSpPr>
            <p:spPr>
              <a:xfrm>
                <a:off x="312480" y="1916280"/>
                <a:ext cx="198720" cy="198360"/>
              </a:xfrm>
              <a:prstGeom prst="rect">
                <a:avLst/>
              </a:prstGeom>
              <a:solidFill>
                <a:srgbClr val="ff3399"/>
              </a:solidFill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5" name="Text Box 417"/>
              <p:cNvSpPr/>
              <p:nvPr/>
            </p:nvSpPr>
            <p:spPr>
              <a:xfrm>
                <a:off x="511200" y="1927440"/>
                <a:ext cx="21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Edit Title Style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6" name="Text Box 418"/>
              <p:cNvSpPr/>
              <p:nvPr/>
            </p:nvSpPr>
            <p:spPr>
              <a:xfrm>
                <a:off x="2700360" y="2114640"/>
                <a:ext cx="39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7" name="Text Box 419"/>
              <p:cNvSpPr/>
              <p:nvPr/>
            </p:nvSpPr>
            <p:spPr>
              <a:xfrm>
                <a:off x="2700360" y="2724480"/>
                <a:ext cx="39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8" name="Text Box 420"/>
              <p:cNvSpPr/>
              <p:nvPr/>
            </p:nvSpPr>
            <p:spPr>
              <a:xfrm>
                <a:off x="2700360" y="3375360"/>
                <a:ext cx="39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9" name="Text Box 421"/>
              <p:cNvSpPr/>
              <p:nvPr/>
            </p:nvSpPr>
            <p:spPr>
              <a:xfrm>
                <a:off x="2700360" y="3986280"/>
                <a:ext cx="39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70" name="Text Box 422"/>
              <p:cNvSpPr/>
              <p:nvPr/>
            </p:nvSpPr>
            <p:spPr>
              <a:xfrm>
                <a:off x="2700360" y="4637160"/>
                <a:ext cx="39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71" name="Group 493"/>
            <p:cNvGrpSpPr/>
            <p:nvPr/>
          </p:nvGrpSpPr>
          <p:grpSpPr>
            <a:xfrm>
              <a:off x="6084720" y="1916280"/>
              <a:ext cx="2919240" cy="3771720"/>
              <a:chOff x="6084720" y="1916280"/>
              <a:chExt cx="2919240" cy="3771720"/>
            </a:xfrm>
          </p:grpSpPr>
          <p:sp>
            <p:nvSpPr>
              <p:cNvPr id="872" name="Text Box 494"/>
              <p:cNvSpPr/>
              <p:nvPr/>
            </p:nvSpPr>
            <p:spPr>
              <a:xfrm>
                <a:off x="6084720" y="5365800"/>
                <a:ext cx="398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4</a:t>
                </a:r>
                <a:endParaRPr b="0" lang="en-US" sz="15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73" name="Line 495"/>
              <p:cNvSpPr/>
              <p:nvPr/>
            </p:nvSpPr>
            <p:spPr>
              <a:xfrm>
                <a:off x="6227640" y="4795920"/>
                <a:ext cx="792000" cy="0"/>
              </a:xfrm>
              <a:prstGeom prst="line">
                <a:avLst/>
              </a:prstGeom>
              <a:ln w="50760">
                <a:solidFill>
                  <a:srgbClr val="969696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74" name="Line 496"/>
              <p:cNvSpPr/>
              <p:nvPr/>
            </p:nvSpPr>
            <p:spPr>
              <a:xfrm>
                <a:off x="6217920" y="2248200"/>
                <a:ext cx="2454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75" name="Group 497"/>
              <p:cNvGrpSpPr/>
              <p:nvPr/>
            </p:nvGrpSpPr>
            <p:grpSpPr>
              <a:xfrm>
                <a:off x="6217920" y="2373480"/>
                <a:ext cx="61920" cy="372960"/>
                <a:chOff x="6217920" y="2373480"/>
                <a:chExt cx="61920" cy="372960"/>
              </a:xfrm>
            </p:grpSpPr>
            <p:sp>
              <p:nvSpPr>
                <p:cNvPr id="876" name="Line 498"/>
                <p:cNvSpPr/>
                <p:nvPr/>
              </p:nvSpPr>
              <p:spPr>
                <a:xfrm>
                  <a:off x="6217920" y="23734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77" name="Line 499"/>
                <p:cNvSpPr/>
                <p:nvPr/>
              </p:nvSpPr>
              <p:spPr>
                <a:xfrm>
                  <a:off x="6217920" y="24969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78" name="Line 500"/>
                <p:cNvSpPr/>
                <p:nvPr/>
              </p:nvSpPr>
              <p:spPr>
                <a:xfrm>
                  <a:off x="6217920" y="26215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79" name="Line 501"/>
                <p:cNvSpPr/>
                <p:nvPr/>
              </p:nvSpPr>
              <p:spPr>
                <a:xfrm>
                  <a:off x="6217920" y="27464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80" name="Line 502"/>
              <p:cNvSpPr/>
              <p:nvPr/>
            </p:nvSpPr>
            <p:spPr>
              <a:xfrm>
                <a:off x="6217920" y="2872080"/>
                <a:ext cx="245448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81" name="Group 503"/>
              <p:cNvGrpSpPr/>
              <p:nvPr/>
            </p:nvGrpSpPr>
            <p:grpSpPr>
              <a:xfrm>
                <a:off x="8548560" y="2373480"/>
                <a:ext cx="60120" cy="372960"/>
                <a:chOff x="8548560" y="2373480"/>
                <a:chExt cx="60120" cy="372960"/>
              </a:xfrm>
            </p:grpSpPr>
            <p:sp>
              <p:nvSpPr>
                <p:cNvPr id="882" name="Line 504"/>
                <p:cNvSpPr/>
                <p:nvPr/>
              </p:nvSpPr>
              <p:spPr>
                <a:xfrm>
                  <a:off x="8548560" y="237348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83" name="Line 505"/>
                <p:cNvSpPr/>
                <p:nvPr/>
              </p:nvSpPr>
              <p:spPr>
                <a:xfrm>
                  <a:off x="8548560" y="249696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84" name="Line 506"/>
                <p:cNvSpPr/>
                <p:nvPr/>
              </p:nvSpPr>
              <p:spPr>
                <a:xfrm>
                  <a:off x="8548560" y="262152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85" name="Line 507"/>
                <p:cNvSpPr/>
                <p:nvPr/>
              </p:nvSpPr>
              <p:spPr>
                <a:xfrm>
                  <a:off x="8548560" y="274644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886" name="Group 508"/>
              <p:cNvGrpSpPr/>
              <p:nvPr/>
            </p:nvGrpSpPr>
            <p:grpSpPr>
              <a:xfrm>
                <a:off x="6217920" y="2998800"/>
                <a:ext cx="61920" cy="374760"/>
                <a:chOff x="6217920" y="2998800"/>
                <a:chExt cx="61920" cy="374760"/>
              </a:xfrm>
            </p:grpSpPr>
            <p:sp>
              <p:nvSpPr>
                <p:cNvPr id="887" name="Line 509"/>
                <p:cNvSpPr/>
                <p:nvPr/>
              </p:nvSpPr>
              <p:spPr>
                <a:xfrm>
                  <a:off x="6217920" y="299880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88" name="Line 510"/>
                <p:cNvSpPr/>
                <p:nvPr/>
              </p:nvSpPr>
              <p:spPr>
                <a:xfrm>
                  <a:off x="6217920" y="31226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89" name="Line 511"/>
                <p:cNvSpPr/>
                <p:nvPr/>
              </p:nvSpPr>
              <p:spPr>
                <a:xfrm>
                  <a:off x="6217920" y="32479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90" name="Line 512"/>
                <p:cNvSpPr/>
                <p:nvPr/>
              </p:nvSpPr>
              <p:spPr>
                <a:xfrm>
                  <a:off x="6217920" y="33735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91" name="Line 513"/>
              <p:cNvSpPr/>
              <p:nvPr/>
            </p:nvSpPr>
            <p:spPr>
              <a:xfrm>
                <a:off x="6217920" y="3497400"/>
                <a:ext cx="245448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92" name="Group 514"/>
              <p:cNvGrpSpPr/>
              <p:nvPr/>
            </p:nvGrpSpPr>
            <p:grpSpPr>
              <a:xfrm>
                <a:off x="8546760" y="2997360"/>
                <a:ext cx="60480" cy="374760"/>
                <a:chOff x="8546760" y="2997360"/>
                <a:chExt cx="60480" cy="374760"/>
              </a:xfrm>
            </p:grpSpPr>
            <p:sp>
              <p:nvSpPr>
                <p:cNvPr id="893" name="Line 515"/>
                <p:cNvSpPr/>
                <p:nvPr/>
              </p:nvSpPr>
              <p:spPr>
                <a:xfrm>
                  <a:off x="8546760" y="299736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94" name="Line 516"/>
                <p:cNvSpPr/>
                <p:nvPr/>
              </p:nvSpPr>
              <p:spPr>
                <a:xfrm>
                  <a:off x="8546760" y="31212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95" name="Line 517"/>
                <p:cNvSpPr/>
                <p:nvPr/>
              </p:nvSpPr>
              <p:spPr>
                <a:xfrm>
                  <a:off x="8546760" y="324648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96" name="Line 518"/>
                <p:cNvSpPr/>
                <p:nvPr/>
              </p:nvSpPr>
              <p:spPr>
                <a:xfrm>
                  <a:off x="8546760" y="337212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897" name="Group 519"/>
              <p:cNvGrpSpPr/>
              <p:nvPr/>
            </p:nvGrpSpPr>
            <p:grpSpPr>
              <a:xfrm>
                <a:off x="6217920" y="3621240"/>
                <a:ext cx="61920" cy="372960"/>
                <a:chOff x="6217920" y="3621240"/>
                <a:chExt cx="61920" cy="372960"/>
              </a:xfrm>
            </p:grpSpPr>
            <p:sp>
              <p:nvSpPr>
                <p:cNvPr id="898" name="Line 520"/>
                <p:cNvSpPr/>
                <p:nvPr/>
              </p:nvSpPr>
              <p:spPr>
                <a:xfrm>
                  <a:off x="6217920" y="36212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99" name="Line 521"/>
                <p:cNvSpPr/>
                <p:nvPr/>
              </p:nvSpPr>
              <p:spPr>
                <a:xfrm>
                  <a:off x="6217920" y="37447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00" name="Line 522"/>
                <p:cNvSpPr/>
                <p:nvPr/>
              </p:nvSpPr>
              <p:spPr>
                <a:xfrm>
                  <a:off x="6217920" y="38692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01" name="Line 523"/>
                <p:cNvSpPr/>
                <p:nvPr/>
              </p:nvSpPr>
              <p:spPr>
                <a:xfrm>
                  <a:off x="6217920" y="399420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02" name="Line 524"/>
              <p:cNvSpPr/>
              <p:nvPr/>
            </p:nvSpPr>
            <p:spPr>
              <a:xfrm>
                <a:off x="6217920" y="4118040"/>
                <a:ext cx="245448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03" name="Group 525"/>
              <p:cNvGrpSpPr/>
              <p:nvPr/>
            </p:nvGrpSpPr>
            <p:grpSpPr>
              <a:xfrm>
                <a:off x="8546760" y="3619800"/>
                <a:ext cx="60480" cy="374400"/>
                <a:chOff x="8546760" y="3619800"/>
                <a:chExt cx="60480" cy="374400"/>
              </a:xfrm>
            </p:grpSpPr>
            <p:sp>
              <p:nvSpPr>
                <p:cNvPr id="904" name="Line 526"/>
                <p:cNvSpPr/>
                <p:nvPr/>
              </p:nvSpPr>
              <p:spPr>
                <a:xfrm>
                  <a:off x="8546760" y="36198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05" name="Line 527"/>
                <p:cNvSpPr/>
                <p:nvPr/>
              </p:nvSpPr>
              <p:spPr>
                <a:xfrm>
                  <a:off x="8546760" y="374364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06" name="Line 528"/>
                <p:cNvSpPr/>
                <p:nvPr/>
              </p:nvSpPr>
              <p:spPr>
                <a:xfrm>
                  <a:off x="8546760" y="386892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07" name="Line 529"/>
                <p:cNvSpPr/>
                <p:nvPr/>
              </p:nvSpPr>
              <p:spPr>
                <a:xfrm>
                  <a:off x="8546760" y="39942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08" name="Group 530"/>
              <p:cNvGrpSpPr/>
              <p:nvPr/>
            </p:nvGrpSpPr>
            <p:grpSpPr>
              <a:xfrm>
                <a:off x="6217920" y="4246560"/>
                <a:ext cx="61920" cy="371520"/>
                <a:chOff x="6217920" y="4246560"/>
                <a:chExt cx="61920" cy="371520"/>
              </a:xfrm>
            </p:grpSpPr>
            <p:sp>
              <p:nvSpPr>
                <p:cNvPr id="909" name="Line 531"/>
                <p:cNvSpPr/>
                <p:nvPr/>
              </p:nvSpPr>
              <p:spPr>
                <a:xfrm>
                  <a:off x="6217920" y="42465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10" name="Line 532"/>
                <p:cNvSpPr/>
                <p:nvPr/>
              </p:nvSpPr>
              <p:spPr>
                <a:xfrm>
                  <a:off x="6217920" y="43693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11" name="Line 533"/>
                <p:cNvSpPr/>
                <p:nvPr/>
              </p:nvSpPr>
              <p:spPr>
                <a:xfrm>
                  <a:off x="6217920" y="44935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12" name="Line 534"/>
                <p:cNvSpPr/>
                <p:nvPr/>
              </p:nvSpPr>
              <p:spPr>
                <a:xfrm>
                  <a:off x="6217920" y="46180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13" name="Line 535"/>
              <p:cNvSpPr/>
              <p:nvPr/>
            </p:nvSpPr>
            <p:spPr>
              <a:xfrm>
                <a:off x="6217920" y="4743720"/>
                <a:ext cx="245448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14" name="Group 536"/>
              <p:cNvGrpSpPr/>
              <p:nvPr/>
            </p:nvGrpSpPr>
            <p:grpSpPr>
              <a:xfrm>
                <a:off x="8546760" y="4245120"/>
                <a:ext cx="60480" cy="372960"/>
                <a:chOff x="8546760" y="4245120"/>
                <a:chExt cx="60480" cy="372960"/>
              </a:xfrm>
            </p:grpSpPr>
            <p:sp>
              <p:nvSpPr>
                <p:cNvPr id="915" name="Line 537"/>
                <p:cNvSpPr/>
                <p:nvPr/>
              </p:nvSpPr>
              <p:spPr>
                <a:xfrm>
                  <a:off x="8546760" y="424512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16" name="Line 538"/>
                <p:cNvSpPr/>
                <p:nvPr/>
              </p:nvSpPr>
              <p:spPr>
                <a:xfrm>
                  <a:off x="8546760" y="43686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17" name="Line 539"/>
                <p:cNvSpPr/>
                <p:nvPr/>
              </p:nvSpPr>
              <p:spPr>
                <a:xfrm>
                  <a:off x="8546760" y="449316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18" name="Line 540"/>
                <p:cNvSpPr/>
                <p:nvPr/>
              </p:nvSpPr>
              <p:spPr>
                <a:xfrm>
                  <a:off x="8546760" y="461808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19" name="Group 541"/>
              <p:cNvGrpSpPr/>
              <p:nvPr/>
            </p:nvGrpSpPr>
            <p:grpSpPr>
              <a:xfrm>
                <a:off x="6217920" y="4869000"/>
                <a:ext cx="61920" cy="372960"/>
                <a:chOff x="6217920" y="4869000"/>
                <a:chExt cx="61920" cy="372960"/>
              </a:xfrm>
            </p:grpSpPr>
            <p:sp>
              <p:nvSpPr>
                <p:cNvPr id="920" name="Line 542"/>
                <p:cNvSpPr/>
                <p:nvPr/>
              </p:nvSpPr>
              <p:spPr>
                <a:xfrm>
                  <a:off x="6217920" y="486900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21" name="Line 543"/>
                <p:cNvSpPr/>
                <p:nvPr/>
              </p:nvSpPr>
              <p:spPr>
                <a:xfrm>
                  <a:off x="6217920" y="49924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22" name="Line 544"/>
                <p:cNvSpPr/>
                <p:nvPr/>
              </p:nvSpPr>
              <p:spPr>
                <a:xfrm>
                  <a:off x="6217920" y="51170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23" name="Line 545"/>
                <p:cNvSpPr/>
                <p:nvPr/>
              </p:nvSpPr>
              <p:spPr>
                <a:xfrm>
                  <a:off x="6217920" y="52419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24" name="Line 546"/>
              <p:cNvSpPr/>
              <p:nvPr/>
            </p:nvSpPr>
            <p:spPr>
              <a:xfrm>
                <a:off x="6217920" y="5365800"/>
                <a:ext cx="2454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25" name="Group 547"/>
              <p:cNvGrpSpPr/>
              <p:nvPr/>
            </p:nvGrpSpPr>
            <p:grpSpPr>
              <a:xfrm>
                <a:off x="8548560" y="4869000"/>
                <a:ext cx="60120" cy="372960"/>
                <a:chOff x="8548560" y="4869000"/>
                <a:chExt cx="60120" cy="372960"/>
              </a:xfrm>
            </p:grpSpPr>
            <p:sp>
              <p:nvSpPr>
                <p:cNvPr id="926" name="Line 548"/>
                <p:cNvSpPr/>
                <p:nvPr/>
              </p:nvSpPr>
              <p:spPr>
                <a:xfrm>
                  <a:off x="8548560" y="486900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27" name="Line 549"/>
                <p:cNvSpPr/>
                <p:nvPr/>
              </p:nvSpPr>
              <p:spPr>
                <a:xfrm>
                  <a:off x="8548560" y="499248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28" name="Line 550"/>
                <p:cNvSpPr/>
                <p:nvPr/>
              </p:nvSpPr>
              <p:spPr>
                <a:xfrm>
                  <a:off x="8548560" y="511704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29" name="Line 551"/>
                <p:cNvSpPr/>
                <p:nvPr/>
              </p:nvSpPr>
              <p:spPr>
                <a:xfrm>
                  <a:off x="8548560" y="5241960"/>
                  <a:ext cx="6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30" name="Text Box 552"/>
              <p:cNvSpPr/>
              <p:nvPr/>
            </p:nvSpPr>
            <p:spPr>
              <a:xfrm>
                <a:off x="6881760" y="5365800"/>
                <a:ext cx="398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5</a:t>
                </a:r>
                <a:endParaRPr b="0" lang="en-US" sz="15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1" name="Text Box 553"/>
              <p:cNvSpPr/>
              <p:nvPr/>
            </p:nvSpPr>
            <p:spPr>
              <a:xfrm>
                <a:off x="7611840" y="5365800"/>
                <a:ext cx="3970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6</a:t>
                </a:r>
                <a:endParaRPr b="0" lang="en-US" sz="15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2" name="Text Box 554"/>
              <p:cNvSpPr/>
              <p:nvPr/>
            </p:nvSpPr>
            <p:spPr>
              <a:xfrm>
                <a:off x="8342280" y="5365800"/>
                <a:ext cx="396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7</a:t>
                </a:r>
                <a:endParaRPr b="0" lang="en-US" sz="15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3" name="Line 555"/>
              <p:cNvSpPr/>
              <p:nvPr/>
            </p:nvSpPr>
            <p:spPr>
              <a:xfrm flipV="1">
                <a:off x="7019640" y="4303440"/>
                <a:ext cx="790560" cy="492120"/>
              </a:xfrm>
              <a:prstGeom prst="line">
                <a:avLst/>
              </a:prstGeom>
              <a:ln w="50760">
                <a:solidFill>
                  <a:srgbClr val="969696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4" name="Line 556"/>
              <p:cNvSpPr/>
              <p:nvPr/>
            </p:nvSpPr>
            <p:spPr>
              <a:xfrm flipV="1">
                <a:off x="7810200" y="3043080"/>
                <a:ext cx="795600" cy="1260360"/>
              </a:xfrm>
              <a:prstGeom prst="line">
                <a:avLst/>
              </a:prstGeom>
              <a:ln w="50760">
                <a:solidFill>
                  <a:srgbClr val="969696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5" name="Rectangle 557"/>
              <p:cNvSpPr/>
              <p:nvPr/>
            </p:nvSpPr>
            <p:spPr>
              <a:xfrm>
                <a:off x="6217920" y="1916280"/>
                <a:ext cx="198720" cy="19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6" name="Text Box 558"/>
              <p:cNvSpPr/>
              <p:nvPr/>
            </p:nvSpPr>
            <p:spPr>
              <a:xfrm>
                <a:off x="6416640" y="1928880"/>
                <a:ext cx="21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lick To Edit Title Style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7" name="Text Box 559"/>
              <p:cNvSpPr/>
              <p:nvPr/>
            </p:nvSpPr>
            <p:spPr>
              <a:xfrm>
                <a:off x="8605800" y="2114640"/>
                <a:ext cx="39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8" name="Text Box 560"/>
              <p:cNvSpPr/>
              <p:nvPr/>
            </p:nvSpPr>
            <p:spPr>
              <a:xfrm>
                <a:off x="8605800" y="2724480"/>
                <a:ext cx="39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9" name="Text Box 561"/>
              <p:cNvSpPr/>
              <p:nvPr/>
            </p:nvSpPr>
            <p:spPr>
              <a:xfrm>
                <a:off x="8605800" y="3375360"/>
                <a:ext cx="39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0" name="Text Box 562"/>
              <p:cNvSpPr/>
              <p:nvPr/>
            </p:nvSpPr>
            <p:spPr>
              <a:xfrm>
                <a:off x="8605800" y="3986280"/>
                <a:ext cx="39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1" name="Text Box 563"/>
              <p:cNvSpPr/>
              <p:nvPr/>
            </p:nvSpPr>
            <p:spPr>
              <a:xfrm>
                <a:off x="8605800" y="4637160"/>
                <a:ext cx="39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42" name="Line 637"/>
            <p:cNvSpPr/>
            <p:nvPr/>
          </p:nvSpPr>
          <p:spPr>
            <a:xfrm flipV="1">
              <a:off x="3340080" y="4806720"/>
              <a:ext cx="861840" cy="198360"/>
            </a:xfrm>
            <a:prstGeom prst="line">
              <a:avLst/>
            </a:prstGeom>
            <a:ln w="50760">
              <a:solidFill>
                <a:srgbClr val="ff99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943" name="Group 640"/>
            <p:cNvGrpSpPr/>
            <p:nvPr/>
          </p:nvGrpSpPr>
          <p:grpSpPr>
            <a:xfrm>
              <a:off x="3265560" y="1916280"/>
              <a:ext cx="2786040" cy="3771720"/>
              <a:chOff x="3265560" y="1916280"/>
              <a:chExt cx="2786040" cy="3771720"/>
            </a:xfrm>
          </p:grpSpPr>
          <p:sp>
            <p:nvSpPr>
              <p:cNvPr id="944" name="Line 424"/>
              <p:cNvSpPr/>
              <p:nvPr/>
            </p:nvSpPr>
            <p:spPr>
              <a:xfrm>
                <a:off x="3265560" y="2248200"/>
                <a:ext cx="2454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45" name="Group 425"/>
              <p:cNvGrpSpPr/>
              <p:nvPr/>
            </p:nvGrpSpPr>
            <p:grpSpPr>
              <a:xfrm>
                <a:off x="3265560" y="2373480"/>
                <a:ext cx="61920" cy="372960"/>
                <a:chOff x="3265560" y="2373480"/>
                <a:chExt cx="61920" cy="372960"/>
              </a:xfrm>
            </p:grpSpPr>
            <p:sp>
              <p:nvSpPr>
                <p:cNvPr id="946" name="Line 426"/>
                <p:cNvSpPr/>
                <p:nvPr/>
              </p:nvSpPr>
              <p:spPr>
                <a:xfrm>
                  <a:off x="3265560" y="23734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47" name="Line 427"/>
                <p:cNvSpPr/>
                <p:nvPr/>
              </p:nvSpPr>
              <p:spPr>
                <a:xfrm>
                  <a:off x="3265560" y="24969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48" name="Line 428"/>
                <p:cNvSpPr/>
                <p:nvPr/>
              </p:nvSpPr>
              <p:spPr>
                <a:xfrm>
                  <a:off x="3265560" y="26215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49" name="Line 429"/>
                <p:cNvSpPr/>
                <p:nvPr/>
              </p:nvSpPr>
              <p:spPr>
                <a:xfrm>
                  <a:off x="3265560" y="27464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50" name="Line 430"/>
              <p:cNvSpPr/>
              <p:nvPr/>
            </p:nvSpPr>
            <p:spPr>
              <a:xfrm>
                <a:off x="3265560" y="2872080"/>
                <a:ext cx="245412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51" name="Group 431"/>
              <p:cNvGrpSpPr/>
              <p:nvPr/>
            </p:nvGrpSpPr>
            <p:grpSpPr>
              <a:xfrm>
                <a:off x="5595840" y="2373480"/>
                <a:ext cx="60480" cy="372960"/>
                <a:chOff x="5595840" y="2373480"/>
                <a:chExt cx="60480" cy="372960"/>
              </a:xfrm>
            </p:grpSpPr>
            <p:sp>
              <p:nvSpPr>
                <p:cNvPr id="952" name="Line 432"/>
                <p:cNvSpPr/>
                <p:nvPr/>
              </p:nvSpPr>
              <p:spPr>
                <a:xfrm>
                  <a:off x="5595840" y="237348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53" name="Line 433"/>
                <p:cNvSpPr/>
                <p:nvPr/>
              </p:nvSpPr>
              <p:spPr>
                <a:xfrm>
                  <a:off x="5595840" y="249696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54" name="Line 434"/>
                <p:cNvSpPr/>
                <p:nvPr/>
              </p:nvSpPr>
              <p:spPr>
                <a:xfrm>
                  <a:off x="5595840" y="262152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55" name="Line 435"/>
                <p:cNvSpPr/>
                <p:nvPr/>
              </p:nvSpPr>
              <p:spPr>
                <a:xfrm>
                  <a:off x="5595840" y="274644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56" name="Group 436"/>
              <p:cNvGrpSpPr/>
              <p:nvPr/>
            </p:nvGrpSpPr>
            <p:grpSpPr>
              <a:xfrm>
                <a:off x="3265560" y="2998800"/>
                <a:ext cx="61920" cy="374760"/>
                <a:chOff x="3265560" y="2998800"/>
                <a:chExt cx="61920" cy="374760"/>
              </a:xfrm>
            </p:grpSpPr>
            <p:sp>
              <p:nvSpPr>
                <p:cNvPr id="957" name="Line 437"/>
                <p:cNvSpPr/>
                <p:nvPr/>
              </p:nvSpPr>
              <p:spPr>
                <a:xfrm>
                  <a:off x="3265560" y="299880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58" name="Line 438"/>
                <p:cNvSpPr/>
                <p:nvPr/>
              </p:nvSpPr>
              <p:spPr>
                <a:xfrm>
                  <a:off x="3265560" y="31226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59" name="Line 439"/>
                <p:cNvSpPr/>
                <p:nvPr/>
              </p:nvSpPr>
              <p:spPr>
                <a:xfrm>
                  <a:off x="3265560" y="32479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0" name="Line 440"/>
                <p:cNvSpPr/>
                <p:nvPr/>
              </p:nvSpPr>
              <p:spPr>
                <a:xfrm>
                  <a:off x="3265560" y="33735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61" name="Line 441"/>
              <p:cNvSpPr/>
              <p:nvPr/>
            </p:nvSpPr>
            <p:spPr>
              <a:xfrm>
                <a:off x="3265560" y="3497400"/>
                <a:ext cx="245412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62" name="Group 442"/>
              <p:cNvGrpSpPr/>
              <p:nvPr/>
            </p:nvGrpSpPr>
            <p:grpSpPr>
              <a:xfrm>
                <a:off x="5594400" y="2997360"/>
                <a:ext cx="60480" cy="374760"/>
                <a:chOff x="5594400" y="2997360"/>
                <a:chExt cx="60480" cy="374760"/>
              </a:xfrm>
            </p:grpSpPr>
            <p:sp>
              <p:nvSpPr>
                <p:cNvPr id="963" name="Line 443"/>
                <p:cNvSpPr/>
                <p:nvPr/>
              </p:nvSpPr>
              <p:spPr>
                <a:xfrm>
                  <a:off x="5594400" y="299736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4" name="Line 444"/>
                <p:cNvSpPr/>
                <p:nvPr/>
              </p:nvSpPr>
              <p:spPr>
                <a:xfrm>
                  <a:off x="5594400" y="31212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5" name="Line 445"/>
                <p:cNvSpPr/>
                <p:nvPr/>
              </p:nvSpPr>
              <p:spPr>
                <a:xfrm>
                  <a:off x="5594400" y="324648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6" name="Line 446"/>
                <p:cNvSpPr/>
                <p:nvPr/>
              </p:nvSpPr>
              <p:spPr>
                <a:xfrm>
                  <a:off x="5594400" y="337212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67" name="Group 447"/>
              <p:cNvGrpSpPr/>
              <p:nvPr/>
            </p:nvGrpSpPr>
            <p:grpSpPr>
              <a:xfrm>
                <a:off x="3265560" y="3621240"/>
                <a:ext cx="61920" cy="372960"/>
                <a:chOff x="3265560" y="3621240"/>
                <a:chExt cx="61920" cy="372960"/>
              </a:xfrm>
            </p:grpSpPr>
            <p:sp>
              <p:nvSpPr>
                <p:cNvPr id="968" name="Line 448"/>
                <p:cNvSpPr/>
                <p:nvPr/>
              </p:nvSpPr>
              <p:spPr>
                <a:xfrm>
                  <a:off x="3265560" y="36212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69" name="Line 449"/>
                <p:cNvSpPr/>
                <p:nvPr/>
              </p:nvSpPr>
              <p:spPr>
                <a:xfrm>
                  <a:off x="3265560" y="37447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0" name="Line 450"/>
                <p:cNvSpPr/>
                <p:nvPr/>
              </p:nvSpPr>
              <p:spPr>
                <a:xfrm>
                  <a:off x="3265560" y="38692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1" name="Line 451"/>
                <p:cNvSpPr/>
                <p:nvPr/>
              </p:nvSpPr>
              <p:spPr>
                <a:xfrm>
                  <a:off x="3265560" y="399420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72" name="Line 452"/>
              <p:cNvSpPr/>
              <p:nvPr/>
            </p:nvSpPr>
            <p:spPr>
              <a:xfrm>
                <a:off x="3265560" y="4118040"/>
                <a:ext cx="245412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73" name="Group 453"/>
              <p:cNvGrpSpPr/>
              <p:nvPr/>
            </p:nvGrpSpPr>
            <p:grpSpPr>
              <a:xfrm>
                <a:off x="5594400" y="3619800"/>
                <a:ext cx="60480" cy="374400"/>
                <a:chOff x="5594400" y="3619800"/>
                <a:chExt cx="60480" cy="374400"/>
              </a:xfrm>
            </p:grpSpPr>
            <p:sp>
              <p:nvSpPr>
                <p:cNvPr id="974" name="Line 454"/>
                <p:cNvSpPr/>
                <p:nvPr/>
              </p:nvSpPr>
              <p:spPr>
                <a:xfrm>
                  <a:off x="5594400" y="36198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5" name="Line 455"/>
                <p:cNvSpPr/>
                <p:nvPr/>
              </p:nvSpPr>
              <p:spPr>
                <a:xfrm>
                  <a:off x="5594400" y="374364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6" name="Line 456"/>
                <p:cNvSpPr/>
                <p:nvPr/>
              </p:nvSpPr>
              <p:spPr>
                <a:xfrm>
                  <a:off x="5594400" y="386892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77" name="Line 457"/>
                <p:cNvSpPr/>
                <p:nvPr/>
              </p:nvSpPr>
              <p:spPr>
                <a:xfrm>
                  <a:off x="5594400" y="39942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78" name="Group 458"/>
              <p:cNvGrpSpPr/>
              <p:nvPr/>
            </p:nvGrpSpPr>
            <p:grpSpPr>
              <a:xfrm>
                <a:off x="3265560" y="4246560"/>
                <a:ext cx="61920" cy="371520"/>
                <a:chOff x="3265560" y="4246560"/>
                <a:chExt cx="61920" cy="371520"/>
              </a:xfrm>
            </p:grpSpPr>
            <p:sp>
              <p:nvSpPr>
                <p:cNvPr id="979" name="Line 459"/>
                <p:cNvSpPr/>
                <p:nvPr/>
              </p:nvSpPr>
              <p:spPr>
                <a:xfrm>
                  <a:off x="3265560" y="42465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0" name="Line 460"/>
                <p:cNvSpPr/>
                <p:nvPr/>
              </p:nvSpPr>
              <p:spPr>
                <a:xfrm>
                  <a:off x="3265560" y="43693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1" name="Line 461"/>
                <p:cNvSpPr/>
                <p:nvPr/>
              </p:nvSpPr>
              <p:spPr>
                <a:xfrm>
                  <a:off x="3265560" y="449352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2" name="Line 462"/>
                <p:cNvSpPr/>
                <p:nvPr/>
              </p:nvSpPr>
              <p:spPr>
                <a:xfrm>
                  <a:off x="3265560" y="46180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83" name="Line 463"/>
              <p:cNvSpPr/>
              <p:nvPr/>
            </p:nvSpPr>
            <p:spPr>
              <a:xfrm>
                <a:off x="3265560" y="4743720"/>
                <a:ext cx="245412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84" name="Group 464"/>
              <p:cNvGrpSpPr/>
              <p:nvPr/>
            </p:nvGrpSpPr>
            <p:grpSpPr>
              <a:xfrm>
                <a:off x="5594400" y="4245120"/>
                <a:ext cx="60480" cy="372960"/>
                <a:chOff x="5594400" y="4245120"/>
                <a:chExt cx="60480" cy="372960"/>
              </a:xfrm>
            </p:grpSpPr>
            <p:sp>
              <p:nvSpPr>
                <p:cNvPr id="985" name="Line 465"/>
                <p:cNvSpPr/>
                <p:nvPr/>
              </p:nvSpPr>
              <p:spPr>
                <a:xfrm>
                  <a:off x="5594400" y="424512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6" name="Line 466"/>
                <p:cNvSpPr/>
                <p:nvPr/>
              </p:nvSpPr>
              <p:spPr>
                <a:xfrm>
                  <a:off x="5594400" y="43686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7" name="Line 467"/>
                <p:cNvSpPr/>
                <p:nvPr/>
              </p:nvSpPr>
              <p:spPr>
                <a:xfrm>
                  <a:off x="5594400" y="449316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88" name="Line 468"/>
                <p:cNvSpPr/>
                <p:nvPr/>
              </p:nvSpPr>
              <p:spPr>
                <a:xfrm>
                  <a:off x="5594400" y="461808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989" name="Group 469"/>
              <p:cNvGrpSpPr/>
              <p:nvPr/>
            </p:nvGrpSpPr>
            <p:grpSpPr>
              <a:xfrm>
                <a:off x="3265560" y="4869000"/>
                <a:ext cx="61920" cy="372960"/>
                <a:chOff x="3265560" y="4869000"/>
                <a:chExt cx="61920" cy="372960"/>
              </a:xfrm>
            </p:grpSpPr>
            <p:sp>
              <p:nvSpPr>
                <p:cNvPr id="990" name="Line 470"/>
                <p:cNvSpPr/>
                <p:nvPr/>
              </p:nvSpPr>
              <p:spPr>
                <a:xfrm>
                  <a:off x="3265560" y="486900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1" name="Line 471"/>
                <p:cNvSpPr/>
                <p:nvPr/>
              </p:nvSpPr>
              <p:spPr>
                <a:xfrm>
                  <a:off x="3265560" y="499248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2" name="Line 472"/>
                <p:cNvSpPr/>
                <p:nvPr/>
              </p:nvSpPr>
              <p:spPr>
                <a:xfrm>
                  <a:off x="3265560" y="511704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3" name="Line 473"/>
                <p:cNvSpPr/>
                <p:nvPr/>
              </p:nvSpPr>
              <p:spPr>
                <a:xfrm>
                  <a:off x="3265560" y="5241960"/>
                  <a:ext cx="6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994" name="Line 474"/>
              <p:cNvSpPr/>
              <p:nvPr/>
            </p:nvSpPr>
            <p:spPr>
              <a:xfrm>
                <a:off x="3265560" y="5365800"/>
                <a:ext cx="2454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995" name="Group 475"/>
              <p:cNvGrpSpPr/>
              <p:nvPr/>
            </p:nvGrpSpPr>
            <p:grpSpPr>
              <a:xfrm>
                <a:off x="5595840" y="4869000"/>
                <a:ext cx="60480" cy="372960"/>
                <a:chOff x="5595840" y="4869000"/>
                <a:chExt cx="60480" cy="372960"/>
              </a:xfrm>
            </p:grpSpPr>
            <p:sp>
              <p:nvSpPr>
                <p:cNvPr id="996" name="Line 476"/>
                <p:cNvSpPr/>
                <p:nvPr/>
              </p:nvSpPr>
              <p:spPr>
                <a:xfrm>
                  <a:off x="5595840" y="486900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7" name="Line 477"/>
                <p:cNvSpPr/>
                <p:nvPr/>
              </p:nvSpPr>
              <p:spPr>
                <a:xfrm>
                  <a:off x="5595840" y="499248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8" name="Line 478"/>
                <p:cNvSpPr/>
                <p:nvPr/>
              </p:nvSpPr>
              <p:spPr>
                <a:xfrm>
                  <a:off x="5595840" y="511704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999" name="Line 479"/>
                <p:cNvSpPr/>
                <p:nvPr/>
              </p:nvSpPr>
              <p:spPr>
                <a:xfrm>
                  <a:off x="5595840" y="5241960"/>
                  <a:ext cx="60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00" name="Text Box 480"/>
              <p:cNvSpPr/>
              <p:nvPr/>
            </p:nvSpPr>
            <p:spPr>
              <a:xfrm>
                <a:off x="3929040" y="5365800"/>
                <a:ext cx="398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5</a:t>
                </a:r>
                <a:endParaRPr b="0" lang="en-US" sz="15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1" name="Text Box 481"/>
              <p:cNvSpPr/>
              <p:nvPr/>
            </p:nvSpPr>
            <p:spPr>
              <a:xfrm>
                <a:off x="4659480" y="5365800"/>
                <a:ext cx="396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6</a:t>
                </a:r>
                <a:endParaRPr b="0" lang="en-US" sz="15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2" name="Text Box 482"/>
              <p:cNvSpPr/>
              <p:nvPr/>
            </p:nvSpPr>
            <p:spPr>
              <a:xfrm>
                <a:off x="5389560" y="5365800"/>
                <a:ext cx="3970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07</a:t>
                </a:r>
                <a:endParaRPr b="0" lang="en-US" sz="15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1003" name="Group 485"/>
              <p:cNvGrpSpPr/>
              <p:nvPr/>
            </p:nvGrpSpPr>
            <p:grpSpPr>
              <a:xfrm>
                <a:off x="3265560" y="1916280"/>
                <a:ext cx="2322360" cy="289080"/>
                <a:chOff x="3265560" y="1916280"/>
                <a:chExt cx="2322360" cy="289080"/>
              </a:xfrm>
            </p:grpSpPr>
            <p:sp>
              <p:nvSpPr>
                <p:cNvPr id="1004" name="Rectangle 486"/>
                <p:cNvSpPr/>
                <p:nvPr/>
              </p:nvSpPr>
              <p:spPr>
                <a:xfrm>
                  <a:off x="3265560" y="1916280"/>
                  <a:ext cx="198360" cy="1983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ff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05" name="Text Box 487"/>
                <p:cNvSpPr/>
                <p:nvPr/>
              </p:nvSpPr>
              <p:spPr>
                <a:xfrm>
                  <a:off x="3463920" y="1928880"/>
                  <a:ext cx="21240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lick To Edit Title Style</a:t>
                  </a:r>
                  <a:endParaRPr b="0" lang="en-US" sz="12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06" name="Text Box 488"/>
              <p:cNvSpPr/>
              <p:nvPr/>
            </p:nvSpPr>
            <p:spPr>
              <a:xfrm>
                <a:off x="5653080" y="2114640"/>
                <a:ext cx="398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7" name="Text Box 489"/>
              <p:cNvSpPr/>
              <p:nvPr/>
            </p:nvSpPr>
            <p:spPr>
              <a:xfrm>
                <a:off x="5653080" y="2724480"/>
                <a:ext cx="398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8" name="Text Box 490"/>
              <p:cNvSpPr/>
              <p:nvPr/>
            </p:nvSpPr>
            <p:spPr>
              <a:xfrm>
                <a:off x="5653080" y="3375360"/>
                <a:ext cx="398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9" name="Text Box 491"/>
              <p:cNvSpPr/>
              <p:nvPr/>
            </p:nvSpPr>
            <p:spPr>
              <a:xfrm>
                <a:off x="5653080" y="3986280"/>
                <a:ext cx="398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0" name="Text Box 492"/>
              <p:cNvSpPr/>
              <p:nvPr/>
            </p:nvSpPr>
            <p:spPr>
              <a:xfrm>
                <a:off x="5653080" y="4637160"/>
                <a:ext cx="398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1" name="Line 638"/>
              <p:cNvSpPr/>
              <p:nvPr/>
            </p:nvSpPr>
            <p:spPr>
              <a:xfrm flipV="1">
                <a:off x="4202280" y="4473720"/>
                <a:ext cx="730080" cy="333360"/>
              </a:xfrm>
              <a:prstGeom prst="line">
                <a:avLst/>
              </a:prstGeom>
              <a:ln w="50760">
                <a:solidFill>
                  <a:srgbClr val="ff9999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2" name="Line 639"/>
              <p:cNvSpPr/>
              <p:nvPr/>
            </p:nvSpPr>
            <p:spPr>
              <a:xfrm flipV="1">
                <a:off x="4932360" y="3213000"/>
                <a:ext cx="795240" cy="1260360"/>
              </a:xfrm>
              <a:prstGeom prst="line">
                <a:avLst/>
              </a:prstGeom>
              <a:ln w="50760">
                <a:solidFill>
                  <a:srgbClr val="ff9999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a20051"/>
                </a:solidFill>
                <a:latin typeface="Times New Roman"/>
              </a:rPr>
              <a:t>Click To Edit Title Style</a:t>
            </a:r>
            <a:endParaRPr b="1" i="1" lang="en-US" sz="3000" spc="-1" strike="noStrike">
              <a:solidFill>
                <a:srgbClr val="a20051"/>
              </a:solidFill>
              <a:latin typeface="Times New Roman"/>
            </a:endParaRPr>
          </a:p>
        </p:txBody>
      </p:sp>
      <p:sp>
        <p:nvSpPr>
          <p:cNvPr id="101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4:34:39Z</dcterms:modified>
  <cp:revision>1</cp:revision>
  <dc:subject/>
  <dc:title>唯美花藤动态PPT模板在线下载</dc:title>
</cp:coreProperties>
</file>