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1008-5C33-4BF1-860D-94B42111C5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2E2-B133-4CBE-B6DF-FBC5567C4D06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7DDD-1D0A-4179-B8F8-1E61D4871806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07EB-CE69-4679-9BD7-984F5563851E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8A22-596F-47EB-AF49-A8D9566A710A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DD9B-6DB8-4C4D-8FD4-82D8F93D785F}" type="slidenum">
              <a:rPr b="0" lang="en-US" sz="1200" spc="-1" strike="noStrike">
                <a:solidFill>
                  <a:srgbClr val="99999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8C1-C8D6-4049-9A40-4A17C6A2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BB5-6412-4AEE-A358-238994C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4C9A-04FC-498C-98CB-237A9CC7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26D6-E7F9-4317-81BB-48B7083DC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5D42-A2CF-45AC-A4DC-D8F30854A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3C8B0-D63B-42ED-A799-AE42C568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56E6-8E6C-431B-BD21-C776B5A8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0913-12F6-4825-B9A6-9B2AD510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6C88-89AC-4C36-8FB6-5EE3D43F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F109-629D-4187-A8B1-6C91F49E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2D02-DD42-4695-8BB4-46F897A4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2CDA-B706-488E-9944-BF4B1D4A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4C62-B6A4-4F4C-9F02-88C95A54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6A22-CAE7-428B-85FE-D809ECE4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4D2F-BC33-4ED2-BEFF-10B33027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1A7D-6DF4-4B15-91AD-98D6A166A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8E99-ED83-4EEC-999B-05029AAE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1CE-2DFE-4051-AE6C-AAA19138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5FA-0B35-45A9-8272-0A2E89DD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1A3-093F-4EF5-B114-B5C1550E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7558-9E9E-4C79-B0E6-17D4D54E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305D-0057-4240-BEEB-EF8E7CE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E8B-E774-4E4C-8F4D-4CA26E7E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E87-42A4-4EF9-918A-EB7BE043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computermush"/>
          <p:cNvPicPr/>
          <p:nvPr/>
        </p:nvPicPr>
        <p:blipFill>
          <a:blip r:embed="rId2"/>
          <a:srcRect l="5512" t="98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0FA-30C6-4358-A7AD-4E33B58C7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4" descr="computermush"/>
          <p:cNvPicPr/>
          <p:nvPr/>
        </p:nvPicPr>
        <p:blipFill>
          <a:blip r:embed="rId2"/>
          <a:srcRect l="5512" t="98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9999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DB6CC-5D4F-4299-A31A-21A952682B10}" type="slidenum">
              <a:rPr b="0" lang="en-US" sz="1400" spc="-1" strike="noStrike">
                <a:solidFill>
                  <a:srgbClr val="999999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Text Box 55"/>
          <p:cNvSpPr/>
          <p:nvPr/>
        </p:nvSpPr>
        <p:spPr>
          <a:xfrm>
            <a:off x="8611920" y="6324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181080" y="50796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项目黑色风格商务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Black"/>
                <a:ea typeface="宋体"/>
              </a:rPr>
              <a:t>模板在线下载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7" name="Rectangle 62"/>
          <p:cNvSpPr/>
          <p:nvPr/>
        </p:nvSpPr>
        <p:spPr>
          <a:xfrm>
            <a:off x="79560" y="53341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Your project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Text Box 66"/>
          <p:cNvSpPr/>
          <p:nvPr/>
        </p:nvSpPr>
        <p:spPr>
          <a:xfrm>
            <a:off x="77760" y="4740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project dat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20/09/2007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9999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999999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999999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3"/>
          <p:cNvGraphicFramePr/>
          <p:nvPr/>
        </p:nvGraphicFramePr>
        <p:xfrm>
          <a:off x="-1143000" y="760320"/>
          <a:ext cx="9829800" cy="609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143000" y="760320"/>
                    <a:ext cx="9829800" cy="609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26"/>
          <p:cNvSpPr/>
          <p:nvPr/>
        </p:nvSpPr>
        <p:spPr>
          <a:xfrm>
            <a:off x="6244560" y="-1584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2fdf7"/>
                </a:solidFill>
                <a:latin typeface="Arial"/>
                <a:ea typeface="宋体"/>
              </a:rPr>
              <a:t>02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3" name="Rectangle 30"/>
          <p:cNvSpPr/>
          <p:nvPr/>
        </p:nvSpPr>
        <p:spPr>
          <a:xfrm>
            <a:off x="685800" y="22860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cc"/>
                </a:solidFill>
                <a:latin typeface="Arial"/>
                <a:ea typeface="宋体"/>
              </a:rPr>
              <a:t>CHART OBJECT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Rectangle 31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1"/>
          <p:cNvSpPr/>
          <p:nvPr/>
        </p:nvSpPr>
        <p:spPr>
          <a:xfrm>
            <a:off x="6174720" y="-9216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2fdf7"/>
                </a:solidFill>
                <a:latin typeface="Arial"/>
                <a:ea typeface="宋体"/>
              </a:rPr>
              <a:t>03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6e6e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6e6e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Text Box 34"/>
          <p:cNvSpPr/>
          <p:nvPr/>
        </p:nvSpPr>
        <p:spPr>
          <a:xfrm>
            <a:off x="68580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Arial"/>
                <a:ea typeface="宋体"/>
              </a:rPr>
              <a:t>BULLET LIST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0" descr="vectorflower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436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1"/>
          <p:cNvSpPr/>
          <p:nvPr/>
        </p:nvSpPr>
        <p:spPr>
          <a:xfrm>
            <a:off x="6168240" y="-1584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333333"/>
                </a:solidFill>
                <a:latin typeface="Arial"/>
                <a:ea typeface="宋体"/>
              </a:rPr>
              <a:t>04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685800" y="3808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df7"/>
                </a:solidFill>
                <a:latin typeface="Arial"/>
                <a:ea typeface="宋体"/>
              </a:rPr>
              <a:t>PICTURE OBJECT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0"/>
          <p:cNvSpPr/>
          <p:nvPr/>
        </p:nvSpPr>
        <p:spPr>
          <a:xfrm>
            <a:off x="6182640" y="-92160"/>
            <a:ext cx="2439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0" spc="-1" strike="noStrike">
                <a:solidFill>
                  <a:srgbClr val="f2fdf7"/>
                </a:solidFill>
                <a:latin typeface="Arial"/>
                <a:ea typeface="宋体"/>
              </a:rPr>
              <a:t>05</a:t>
            </a:r>
            <a:endParaRPr b="0" lang="en-US" sz="16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947520"/>
            <a:ext cx="85485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9999"/>
                </a:solidFill>
                <a:latin typeface="Arial"/>
                <a:ea typeface="宋体"/>
              </a:rPr>
              <a:t>Text and lines are like this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cccccc"/>
                </a:solidFill>
                <a:uFillTx/>
                <a:latin typeface="Arial"/>
                <a:ea typeface="宋体"/>
              </a:rPr>
              <a:t>Hyperlinks like this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80"/>
                </a:solidFill>
                <a:uFillTx/>
                <a:latin typeface="Arial"/>
                <a:ea typeface="宋体"/>
              </a:rPr>
              <a:t>Visited hyperlinks like this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994280" y="4648320"/>
          <a:ext cx="3630600" cy="1726920"/>
        </p:xfrm>
        <a:graphic>
          <a:graphicData uri="http://schemas.openxmlformats.org/drawingml/2006/table">
            <a:tbl>
              <a:tblPr/>
              <a:tblGrid>
                <a:gridCol w="1816200"/>
                <a:gridCol w="181440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999999"/>
                          </a:solidFill>
                          <a:latin typeface="Arial"/>
                          <a:ea typeface="宋体"/>
                        </a:rPr>
                        <a:t>Table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1368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13680">
                      <a:solidFill>
                        <a:srgbClr val="999999"/>
                      </a:solidFill>
                    </a:lnR>
                    <a:lnT w="1368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1368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9999"/>
                      </a:solidFill>
                    </a:lnL>
                    <a:lnR w="1368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13680">
                      <a:solidFill>
                        <a:srgbClr val="999999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16" name="Rectangle 16"/>
          <p:cNvSpPr/>
          <p:nvPr/>
        </p:nvSpPr>
        <p:spPr>
          <a:xfrm>
            <a:off x="533520" y="4646520"/>
            <a:ext cx="3429000" cy="1728720"/>
          </a:xfrm>
          <a:prstGeom prst="rect">
            <a:avLst/>
          </a:prstGeom>
          <a:solidFill>
            <a:srgbClr val="66ccff">
              <a:alpha val="38000"/>
            </a:srgbClr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9999"/>
                </a:solidFill>
                <a:latin typeface="Arial"/>
                <a:ea typeface="宋体"/>
              </a:rPr>
              <a:t>Text box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7" name="Rectangle 48"/>
          <p:cNvSpPr/>
          <p:nvPr/>
        </p:nvSpPr>
        <p:spPr>
          <a:xfrm>
            <a:off x="685800" y="228600"/>
            <a:ext cx="485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fdf7"/>
                </a:solidFill>
                <a:latin typeface="Arial"/>
                <a:ea typeface="宋体"/>
              </a:rPr>
              <a:t>DEFAULT STYLES &gt;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18" name="Rectangle 49"/>
          <p:cNvSpPr/>
          <p:nvPr/>
        </p:nvSpPr>
        <p:spPr>
          <a:xfrm>
            <a:off x="6402600" y="20574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99"/>
                </a:solidFill>
                <a:latin typeface="Arial"/>
                <a:ea typeface="宋体"/>
              </a:rPr>
              <a:t>page</a:t>
            </a:r>
            <a:r>
              <a:rPr b="1" lang="en-US" sz="2400" spc="-1" strike="noStrike">
                <a:solidFill>
                  <a:srgbClr val="ff008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  <a:ea typeface="宋体"/>
              </a:rPr>
              <a:t>number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5"/>
          <p:cNvSpPr/>
          <p:nvPr/>
        </p:nvSpPr>
        <p:spPr>
          <a:xfrm>
            <a:off x="1285920" y="1374840"/>
            <a:ext cx="695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9999"/>
                </a:solidFill>
                <a:latin typeface="Arial"/>
                <a:ea typeface="宋体"/>
              </a:rPr>
              <a:t>You are free to use these templates for your personal and business presentations.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251000" y="2803680"/>
            <a:ext cx="34099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999999"/>
                </a:solidFill>
                <a:uFillTx/>
                <a:latin typeface="Arial"/>
                <a:ea typeface="宋体"/>
              </a:rPr>
              <a:t>Do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Use these templates for your presentations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Display your presentation on a web site provided that it is not for the purpose of downloading the template.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9999"/>
                </a:solidFill>
                <a:latin typeface="Arial"/>
                <a:ea typeface="宋体"/>
              </a:rPr>
              <a:t>If you like these templates, we would always appreciate a link back to our website.  Many thanks.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595760" y="2803680"/>
            <a:ext cx="364032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999999"/>
                </a:solidFill>
                <a:uFillTx/>
                <a:latin typeface="Arial"/>
                <a:ea typeface="宋体"/>
              </a:rPr>
              <a:t>Don’t</a:t>
            </a: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Resell or distribute these templates or include the graphics in your work for re-sale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Put these templates on a website for download.  This includes uploading them onto file sharing networks like Slideshare, Myspace, Facebook, bit torrent etc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  <a:p>
            <a:pPr marL="264960" indent="-264960">
              <a:buClr>
                <a:srgbClr val="999999"/>
              </a:buClr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Pass off any of our created content as your own work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143000" y="5457960"/>
            <a:ext cx="71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309680" y="2271600"/>
            <a:ext cx="692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Arial"/>
                <a:ea typeface="宋体"/>
              </a:rPr>
              <a:t>We have put a lot of work into developing all these templates and retain the copyright in them.  You can use them freely providing that you do not redistribute or sell them.</a:t>
            </a:r>
            <a:endParaRPr b="0" lang="en-US" sz="1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pt宝藏</dc:creator>
  <dc:description/>
  <dc:language>en-US</dc:language>
  <cp:lastModifiedBy>a</cp:lastModifiedBy>
  <dcterms:modified xsi:type="dcterms:W3CDTF">2015-07-25T06:51:56Z</dcterms:modified>
  <cp:revision>72</cp:revision>
  <dc:subject/>
  <dc:title>www.pptbz.com</dc:title>
</cp:coreProperties>
</file>