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8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33.wmf" ContentType="image/x-wmf"/>
  <Override PartName="/ppt/media/image4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F74-3BB8-4C01-9508-915EEE254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0DC-A118-46B4-9ED7-9A6C280A4BA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EAD4-3DA9-4905-892A-1FE7A1E9AEA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F6E4-6FD0-47AA-97B3-71EA984DE62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6BF-1739-4790-B0A9-D3792F3055A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641-7128-4FA1-972F-2151D8D4D9C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606-0F8B-4FB4-90CB-82BC046EEA4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413-A033-4CB4-9036-1563DD741BD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C22F-8373-4835-BDEF-5E3706DB377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7B291-2690-4082-84D5-2044665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88D93-9D6F-4853-BBB9-24038158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0918E-6260-400A-8B49-97915E6F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826BD-C8A2-4AB0-AFE2-E6A3BE7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A4D41-6BBA-45F3-BDDE-25EA37B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4C0AA-1916-4C1E-A8B2-7679C29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6C148-0A69-43DF-B774-42CDEE58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FFDA1-3CD4-4897-96E6-158A2DAC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DE1DA-3471-4E73-BF80-235BB9C6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C0D55-1D53-4A26-B430-6921EF90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AA8A4-3D22-457D-96F9-2DFF85F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8CB16-03A5-4665-B5BE-D04B0CF5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E7CFB-C0AC-45A1-ACA4-98D0C4B8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7831C-F769-43BD-9EE5-BC0A12E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FEE49-F84D-438A-B2C5-17E6936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2393D-B86E-4775-AEB9-22B98DE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AFBC3-9F3B-4DE2-9E67-94174B6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A058B-2DA4-4CAC-A034-33FC1CD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BA959-7974-4118-8370-D5C9D44F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50ECC-BFD1-441A-BE03-5C034987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C8B94-FE81-4361-B7F7-40DE32A2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630665-98BC-40CE-A1BA-2E050987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47E461-2DF7-4554-AF26-45FBEA8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36734D-8017-4DDB-8BA3-1C1640E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A9B34-CDB0-4B82-AAC7-11057065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B0A951-E5AC-4E70-98CE-617114BB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DD6A37-6F41-4B1A-BBA6-A5CA8C5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0F6075-E2E9-4C18-8717-7BF631B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B99847-F139-48BA-A38D-FC0DB8B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E39385-5FA0-4FCA-8F58-EA6961B5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E361C-0808-4B40-90E6-25B976F6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00944B-DD24-46A1-832F-0217914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2438AD-4ABE-40DD-BB65-20286ACE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7C9577-6085-4675-8626-820A62D1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792EA-12E6-41FA-9050-2F22B0D7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B147B-40F1-472B-BDD0-D06A1C7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1B900-E791-491A-90C7-1565C40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D6A8E-9855-4BC2-B47A-571E0D5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0E0FC-9F21-4EA9-B706-5450D16A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FDA09-1FF2-488C-9CD7-886570C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D5440-D088-4C66-BD0B-E7281D3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6FA56-0B59-4391-9878-2BE2C7E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99E16-ACEC-40E4-B6FF-F7E8F14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21261-3DD4-4E8D-895D-653C008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C067A-E9FB-4EF1-A883-503DD5C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5F123-A668-4DFA-B1A9-62946EC2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7415C-9A69-4F46-B464-071CDD8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5737D3-E4F3-47F0-AB9B-B9CA5879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1B303D-B33C-491E-8C98-31A509A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4C02C7-E4E0-4196-9F99-503127C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7E4F5E-DE16-44BA-8FD3-027F8CB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91002-C518-491A-B09A-2354805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BC9E8-6BAE-42E3-9E2F-56881D4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C7DB4B-AF75-4FEF-AA4C-D6B7FD9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CA75AE-5C10-40CD-A5E2-6D830AE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32F6B5-ABCB-4806-97E7-2E2AFCC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6FAAC4-676E-4025-8DC8-245ACCA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D1692E-A9F7-4ADD-BFE2-4046ED4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ACE47-E104-4EED-9A7B-597E870F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366EEC-20F3-4192-ACB1-29737C04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BA750-2970-46C8-91AB-969B688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C2923-A137-45BA-B36A-FC5E03A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2A8AC-1F41-4227-B6FE-CA024172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AE6C-CE1B-4F4B-B257-2FA13DD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C1D4B-5248-4BF5-845A-17879464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CC58-5310-4B94-8C6D-6B5256E1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7FCA1-DCF9-44EB-A6D9-6D2F2FBD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9D767-D0C8-4F11-BEA9-C49AA263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D0D5-5AD6-4C7E-8837-FA535777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F596D-3CAB-44D1-9A59-46D05B9E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3F68E-C2E5-4101-9E37-6AE3C445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27116-6F56-4B16-BBB6-614C93A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7D77C-36E7-4DB4-9C60-8DE3E20F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20A4F-095F-466C-9D34-989FF28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849C9-830F-4839-9BAD-CA26B7D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6536A-590E-48D1-92F4-EFA18A9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27E5B-D574-47EF-8A38-BD06377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95123-9113-4086-BE4D-16B98AE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52822-31D4-450C-95C0-69599B6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CF4D0-63A4-4D51-8B78-D4DE09A2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72361-4DE9-457A-BFD4-9F651792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402DA-90AF-4304-BDDE-984EBB14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AEFE5-4538-4421-B222-75D23DA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10E10-1FD3-4403-8C99-AAEB390B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3EF77-11B5-4FD8-8BE7-DE62489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FF154-0FFC-441C-A2B4-2DC1E6B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D6E8F-3A1B-4C7F-88B5-D835C53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9C8D7-CD45-4916-A15B-8F5F04A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E33EC-57F2-41C6-9D4F-5B8B2B4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FE381-6332-4294-8BC4-12C6BA7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1C4BC-CF64-4B67-AA68-375E5BB7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F7AFA-28FB-4C66-8B74-310B3131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CFA28-23B1-4019-BDB7-A76DCA6B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F1BEB-5671-4DD6-8B01-6EF6AE6D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691F1-EE34-4DBA-8BA8-D0B27D6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98F527-7A92-4B4F-9C99-EF5E61A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61824-6596-4557-8FFC-B58FC09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CFB12-C3A7-407D-893C-C53A8A54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7026F-E3C7-4051-92D9-BE12CD0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30313-37CE-472D-8401-CBAC022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4DBCF-E753-47AF-9229-7F9FC89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7A3B1-1861-4437-AE82-A69C075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49956F-66C7-408A-B678-2859938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2EC211-8D5F-4B00-B6C6-A474DA4D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18EA4-175A-4B3A-8814-F7B645BA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F2780-665D-44FC-8EA1-111DF934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189CEB-1DD8-4F18-9EA1-29F1904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5D967D-2857-4D2B-9792-6DED9B1E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9172B-FA2C-4FA8-8757-11D590F6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14D02-99B6-40D4-80ED-8FD78BB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A37CB-567C-45CF-B5D0-263C40A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58FAD2-380F-4231-960C-9F7DCF4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25F9A-CAF1-4944-BEE8-AC250F3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2FC0B-CF8C-465A-85D8-3A8EACD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B5CC0-BFFB-4EAA-BD3E-FC23808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848F3-1700-4E3E-93B5-FFC87A99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4CE70-318A-451E-A984-F396FBAA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232964-F833-4ED3-822F-D16EE1C9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C3B79-70BA-4C58-A579-E9D1195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B3D83-4E8C-4AF4-A5A7-B3EB316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D8C9F-ADED-47A0-8369-7545B65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7A8A52-254F-4336-9249-43D37312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1B799-E8B8-4A23-90BB-C05B5E1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E0656F-40EF-4321-8085-CD8E469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1CB76-82FA-4AB4-8843-3CCC5D6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32285-8928-48A6-977E-4CC1D8DD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983B2-E267-4905-B726-DA1A8474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C5E512-C2EB-4D72-B8E7-A66DA400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21BAF-6F20-466F-815D-2EE750C3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ACCFE-530B-4F07-8284-01CC026E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A7286E-B44F-4FAC-94B4-DA53DD06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312EB-2EA3-4E89-B258-DC94791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B52901-197B-4A64-82F1-5148261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FEBFD1-F249-4885-AC1F-05D6A928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57CC7-9E35-4422-AB91-FCBE92D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9F7F59-11AC-439C-9646-406B2E0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B27D5-1534-4C11-8723-50E3CA1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E276E-22BF-41D0-8FFA-8418059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DFAAE-5E6F-4209-816B-8F4C775F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03657B-145D-4524-BEE9-7B6BD2DC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3ADD35-E3E1-480F-9BA7-2305DAAD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8DA2A-E032-480E-A9EF-E3D64C42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E82C7-8AA2-4B95-AF31-377DEAAD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67D4D-73CD-4FF0-9E3E-15B8296A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1"/>
          <p:cNvSpPr>
            <a:spLocks noGrp="1"/>
          </p:cNvSpPr>
          <p:nvPr>
            <p:ph type="dt" idx="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9A1-EDA1-4F50-B00A-E620D87E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PlaceHolder 2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664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665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669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673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677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681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69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6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58F-978A-456C-A998-BE8CCC22B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737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738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742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746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750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754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764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29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1CF7-A432-41E4-9690-D8EEA6926D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09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810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811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15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819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823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827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837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2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D66-F043-422F-8A86-59071A7DAD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8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88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88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8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89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89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90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910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152-C52E-47A9-B29F-B66907C0A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955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956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957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961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965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969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973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983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5"/>
          <p:cNvGrpSpPr/>
          <p:nvPr/>
        </p:nvGrpSpPr>
        <p:grpSpPr>
          <a:xfrm>
            <a:off x="-4680" y="-1440"/>
            <a:ext cx="9151920" cy="6859440"/>
            <a:chOff x="-4680" y="-1440"/>
            <a:chExt cx="9151920" cy="6859440"/>
          </a:xfrm>
        </p:grpSpPr>
        <p:grpSp>
          <p:nvGrpSpPr>
            <p:cNvPr id="72" name="Group 52"/>
            <p:cNvGrpSpPr/>
            <p:nvPr/>
          </p:nvGrpSpPr>
          <p:grpSpPr>
            <a:xfrm>
              <a:off x="2479680" y="1393920"/>
              <a:ext cx="6667560" cy="3511440"/>
              <a:chOff x="2479680" y="1393920"/>
              <a:chExt cx="6667560" cy="3511440"/>
            </a:xfrm>
          </p:grpSpPr>
          <p:sp>
            <p:nvSpPr>
              <p:cNvPr id="73" name="Freeform 7"/>
              <p:cNvSpPr/>
              <p:nvPr/>
            </p:nvSpPr>
            <p:spPr>
              <a:xfrm>
                <a:off x="2490840" y="168444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Group 49"/>
              <p:cNvGrpSpPr/>
              <p:nvPr/>
            </p:nvGrpSpPr>
            <p:grpSpPr>
              <a:xfrm>
                <a:off x="2479680" y="1393920"/>
                <a:ext cx="6667560" cy="3333600"/>
                <a:chOff x="2479680" y="1393920"/>
                <a:chExt cx="6667560" cy="3333600"/>
              </a:xfrm>
            </p:grpSpPr>
            <p:sp>
              <p:nvSpPr>
                <p:cNvPr id="75" name="Freeform 8"/>
                <p:cNvSpPr/>
                <p:nvPr/>
              </p:nvSpPr>
              <p:spPr>
                <a:xfrm>
                  <a:off x="2479680" y="1393920"/>
                  <a:ext cx="6667560" cy="3333600"/>
                </a:xfrm>
                <a:custGeom>
                  <a:avLst/>
                  <a:gdLst/>
                  <a:ahLst/>
                  <a:rect l="l" t="t" r="r" b="b"/>
                  <a:pathLst>
                    <a:path w="4200" h="2100">
                      <a:moveTo>
                        <a:pt x="0" y="1429"/>
                      </a:moveTo>
                      <a:cubicBezTo>
                        <a:pt x="0" y="1429"/>
                        <a:pt x="2708" y="2100"/>
                        <a:pt x="4200" y="1419"/>
                      </a:cubicBezTo>
                      <a:lnTo>
                        <a:pt x="4198" y="0"/>
                      </a:lnTo>
                      <a:cubicBezTo>
                        <a:pt x="2708" y="1655"/>
                        <a:pt x="0" y="1429"/>
                        <a:pt x="0" y="142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7f15"/>
                    </a:gs>
                    <a:gs pos="100000">
                      <a:srgbClr val="ffaa6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9"/>
                <p:cNvSpPr/>
                <p:nvPr/>
              </p:nvSpPr>
              <p:spPr>
                <a:xfrm>
                  <a:off x="2479680" y="2098800"/>
                  <a:ext cx="6664320" cy="2628720"/>
                </a:xfrm>
                <a:custGeom>
                  <a:avLst/>
                  <a:gdLst/>
                  <a:ahLst/>
                  <a:rect l="l" t="t" r="r" b="b"/>
                  <a:pathLst>
                    <a:path w="4198" h="1656">
                      <a:moveTo>
                        <a:pt x="0" y="986"/>
                      </a:moveTo>
                      <a:cubicBezTo>
                        <a:pt x="0" y="986"/>
                        <a:pt x="2704" y="1656"/>
                        <a:pt x="4194" y="975"/>
                      </a:cubicBezTo>
                      <a:lnTo>
                        <a:pt x="4198" y="0"/>
                      </a:lnTo>
                      <a:cubicBezTo>
                        <a:pt x="2388" y="1348"/>
                        <a:pt x="0" y="986"/>
                        <a:pt x="0" y="9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ba80"/>
                    </a:gs>
                    <a:gs pos="100000">
                      <a:srgbClr val="ff7f1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51"/>
            <p:cNvGrpSpPr/>
            <p:nvPr/>
          </p:nvGrpSpPr>
          <p:grpSpPr>
            <a:xfrm>
              <a:off x="2481120" y="0"/>
              <a:ext cx="3224520" cy="3657600"/>
              <a:chOff x="2481120" y="0"/>
              <a:chExt cx="3224520" cy="3657600"/>
            </a:xfrm>
          </p:grpSpPr>
          <p:sp>
            <p:nvSpPr>
              <p:cNvPr id="78" name="Freeform 10"/>
              <p:cNvSpPr/>
              <p:nvPr/>
            </p:nvSpPr>
            <p:spPr>
              <a:xfrm>
                <a:off x="2484360" y="0"/>
                <a:ext cx="322128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45"/>
              <p:cNvGrpSpPr/>
              <p:nvPr/>
            </p:nvGrpSpPr>
            <p:grpSpPr>
              <a:xfrm>
                <a:off x="2481120" y="0"/>
                <a:ext cx="2914920" cy="3656160"/>
                <a:chOff x="2481120" y="0"/>
                <a:chExt cx="2914920" cy="3656160"/>
              </a:xfrm>
            </p:grpSpPr>
            <p:sp>
              <p:nvSpPr>
                <p:cNvPr id="80" name="Freeform 11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999" y="0"/>
                      </a:lnTo>
                      <a:cubicBezTo>
                        <a:pt x="1167" y="1380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ebbd7"/>
                    </a:gs>
                    <a:gs pos="100000">
                      <a:srgbClr val="469e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2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1351" y="0"/>
                      </a:lnTo>
                      <a:cubicBezTo>
                        <a:pt x="1423" y="1387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69ec6"/>
                    </a:gs>
                    <a:gs pos="100000">
                      <a:srgbClr val="84be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53"/>
            <p:cNvGrpSpPr/>
            <p:nvPr/>
          </p:nvGrpSpPr>
          <p:grpSpPr>
            <a:xfrm>
              <a:off x="1903320" y="3664080"/>
              <a:ext cx="2594160" cy="3193920"/>
              <a:chOff x="1903320" y="3664080"/>
              <a:chExt cx="2594160" cy="3193920"/>
            </a:xfrm>
          </p:grpSpPr>
          <p:sp>
            <p:nvSpPr>
              <p:cNvPr id="83" name="Freeform 14"/>
              <p:cNvSpPr/>
              <p:nvPr/>
            </p:nvSpPr>
            <p:spPr>
              <a:xfrm>
                <a:off x="1903320" y="3681360"/>
                <a:ext cx="2457720" cy="3176640"/>
              </a:xfrm>
              <a:custGeom>
                <a:avLst/>
                <a:gdLst/>
                <a:ahLst/>
                <a:rect l="l" t="t" r="r" b="b"/>
                <a:pathLst>
                  <a:path w="1548" h="2001">
                    <a:moveTo>
                      <a:pt x="358" y="0"/>
                    </a:moveTo>
                    <a:cubicBezTo>
                      <a:pt x="358" y="0"/>
                      <a:pt x="167" y="1681"/>
                      <a:pt x="1548" y="2001"/>
                    </a:cubicBezTo>
                    <a:lnTo>
                      <a:pt x="181" y="1995"/>
                    </a:lnTo>
                    <a:cubicBezTo>
                      <a:pt x="0" y="1059"/>
                      <a:pt x="358" y="0"/>
                      <a:pt x="358" y="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7"/>
              <p:cNvGrpSpPr/>
              <p:nvPr/>
            </p:nvGrpSpPr>
            <p:grpSpPr>
              <a:xfrm>
                <a:off x="2058840" y="3664080"/>
                <a:ext cx="2438640" cy="3193920"/>
                <a:chOff x="2058840" y="3664080"/>
                <a:chExt cx="2438640" cy="3193920"/>
              </a:xfrm>
            </p:grpSpPr>
            <p:sp>
              <p:nvSpPr>
                <p:cNvPr id="85" name="Freeform 15"/>
                <p:cNvSpPr/>
                <p:nvPr/>
              </p:nvSpPr>
              <p:spPr>
                <a:xfrm>
                  <a:off x="2058840" y="3664080"/>
                  <a:ext cx="2438640" cy="3193920"/>
                </a:xfrm>
                <a:custGeom>
                  <a:avLst/>
                  <a:gdLst/>
                  <a:ahLst/>
                  <a:rect l="l" t="t" r="r" b="b"/>
                  <a:pathLst>
                    <a:path w="1780" h="2012">
                      <a:moveTo>
                        <a:pt x="304" y="0"/>
                      </a:moveTo>
                      <a:cubicBezTo>
                        <a:pt x="304" y="0"/>
                        <a:pt x="180" y="1692"/>
                        <a:pt x="1780" y="2012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d8a1"/>
                    </a:gs>
                    <a:gs pos="100000">
                      <a:srgbClr val="61bf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2058840" y="3664080"/>
                  <a:ext cx="1389240" cy="3187440"/>
                </a:xfrm>
                <a:custGeom>
                  <a:avLst/>
                  <a:gdLst/>
                  <a:ahLst/>
                  <a:rect l="l" t="t" r="r" b="b"/>
                  <a:pathLst>
                    <a:path w="1014" h="2008">
                      <a:moveTo>
                        <a:pt x="304" y="0"/>
                      </a:moveTo>
                      <a:cubicBezTo>
                        <a:pt x="304" y="0"/>
                        <a:pt x="2" y="1305"/>
                        <a:pt x="1014" y="1998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1bf63"/>
                    </a:gs>
                    <a:gs pos="100000">
                      <a:srgbClr val="8cd08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54"/>
            <p:cNvGrpSpPr/>
            <p:nvPr/>
          </p:nvGrpSpPr>
          <p:grpSpPr>
            <a:xfrm>
              <a:off x="-1440" y="3048120"/>
              <a:ext cx="2473200" cy="2427120"/>
              <a:chOff x="-1440" y="3048120"/>
              <a:chExt cx="2473200" cy="2427120"/>
            </a:xfrm>
          </p:grpSpPr>
          <p:sp>
            <p:nvSpPr>
              <p:cNvPr id="88" name="Freeform 18"/>
              <p:cNvSpPr/>
              <p:nvPr/>
            </p:nvSpPr>
            <p:spPr>
              <a:xfrm>
                <a:off x="3240" y="30481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48"/>
              <p:cNvGrpSpPr/>
              <p:nvPr/>
            </p:nvGrpSpPr>
            <p:grpSpPr>
              <a:xfrm>
                <a:off x="-1440" y="3137040"/>
                <a:ext cx="2471760" cy="2338200"/>
                <a:chOff x="-1440" y="3137040"/>
                <a:chExt cx="2471760" cy="2338200"/>
              </a:xfrm>
            </p:grpSpPr>
            <p:sp>
              <p:nvSpPr>
                <p:cNvPr id="90" name="Freeform 19"/>
                <p:cNvSpPr/>
                <p:nvPr/>
              </p:nvSpPr>
              <p:spPr>
                <a:xfrm>
                  <a:off x="3240" y="3137040"/>
                  <a:ext cx="2467080" cy="2338200"/>
                </a:xfrm>
                <a:custGeom>
                  <a:avLst/>
                  <a:gdLst/>
                  <a:ahLst/>
                  <a:rect l="l" t="t" r="r" b="b"/>
                  <a:pathLst>
                    <a:path w="1560" h="1676">
                      <a:moveTo>
                        <a:pt x="0" y="1676"/>
                      </a:moveTo>
                      <a:cubicBezTo>
                        <a:pt x="436" y="320"/>
                        <a:pt x="1560" y="370"/>
                        <a:pt x="1560" y="370"/>
                      </a:cubicBezTo>
                      <a:cubicBezTo>
                        <a:pt x="1560" y="370"/>
                        <a:pt x="772" y="0"/>
                        <a:pt x="0" y="451"/>
                      </a:cubicBezTo>
                      <a:lnTo>
                        <a:pt x="0" y="16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8ab9"/>
                    </a:gs>
                    <a:gs pos="100000">
                      <a:srgbClr val="29579b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0"/>
                <p:cNvSpPr/>
                <p:nvPr/>
              </p:nvSpPr>
              <p:spPr>
                <a:xfrm>
                  <a:off x="-1440" y="3137040"/>
                  <a:ext cx="2471760" cy="1811160"/>
                </a:xfrm>
                <a:custGeom>
                  <a:avLst/>
                  <a:gdLst/>
                  <a:ahLst/>
                  <a:rect l="l" t="t" r="r" b="b"/>
                  <a:pathLst>
                    <a:path w="1563" h="1298">
                      <a:moveTo>
                        <a:pt x="0" y="1298"/>
                      </a:moveTo>
                      <a:cubicBezTo>
                        <a:pt x="425" y="303"/>
                        <a:pt x="1563" y="370"/>
                        <a:pt x="1563" y="370"/>
                      </a:cubicBezTo>
                      <a:cubicBezTo>
                        <a:pt x="1563" y="370"/>
                        <a:pt x="775" y="0"/>
                        <a:pt x="3" y="451"/>
                      </a:cubicBezTo>
                      <a:lnTo>
                        <a:pt x="0" y="12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579b"/>
                    </a:gs>
                    <a:gs pos="100000">
                      <a:srgbClr val="6a8ab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50"/>
            <p:cNvGrpSpPr/>
            <p:nvPr/>
          </p:nvGrpSpPr>
          <p:grpSpPr>
            <a:xfrm>
              <a:off x="-4680" y="0"/>
              <a:ext cx="2849400" cy="3662280"/>
              <a:chOff x="-4680" y="0"/>
              <a:chExt cx="2849400" cy="3662280"/>
            </a:xfrm>
          </p:grpSpPr>
          <p:sp>
            <p:nvSpPr>
              <p:cNvPr id="93" name="Freeform 21"/>
              <p:cNvSpPr/>
              <p:nvPr/>
            </p:nvSpPr>
            <p:spPr>
              <a:xfrm>
                <a:off x="-4680" y="0"/>
                <a:ext cx="284940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44"/>
              <p:cNvGrpSpPr/>
              <p:nvPr/>
            </p:nvGrpSpPr>
            <p:grpSpPr>
              <a:xfrm>
                <a:off x="0" y="0"/>
                <a:ext cx="2814480" cy="3662280"/>
                <a:chOff x="0" y="0"/>
                <a:chExt cx="2814480" cy="3662280"/>
              </a:xfrm>
            </p:grpSpPr>
            <p:sp>
              <p:nvSpPr>
                <p:cNvPr id="95" name="Freeform 22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630"/>
                      </a:moveTo>
                      <a:cubicBezTo>
                        <a:pt x="1527" y="738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6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d6a"/>
                    </a:gs>
                    <a:gs pos="100000">
                      <a:srgbClr val="ffbb3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3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362"/>
                      </a:moveTo>
                      <a:cubicBezTo>
                        <a:pt x="1527" y="470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b33"/>
                    </a:gs>
                    <a:gs pos="100000">
                      <a:srgbClr val="ffdc9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Freeform 24"/>
            <p:cNvSpPr/>
            <p:nvPr/>
          </p:nvSpPr>
          <p:spPr>
            <a:xfrm>
              <a:off x="2575080" y="-1440"/>
              <a:ext cx="6568920" cy="381132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2070000" y="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0" y="146700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0" y="3568680"/>
              <a:ext cx="2444760" cy="3289320"/>
            </a:xfrm>
            <a:custGeom>
              <a:avLst/>
              <a:gdLst/>
              <a:ahLst/>
              <a:rect l="l" t="t" r="r" b="b"/>
              <a:pathLst>
                <a:path w="1540" h="2072">
                  <a:moveTo>
                    <a:pt x="0" y="1862"/>
                  </a:moveTo>
                  <a:cubicBezTo>
                    <a:pt x="504" y="0"/>
                    <a:pt x="1540" y="68"/>
                    <a:pt x="1540" y="68"/>
                  </a:cubicBezTo>
                  <a:cubicBezTo>
                    <a:pt x="1540" y="68"/>
                    <a:pt x="1094" y="838"/>
                    <a:pt x="1138" y="2072"/>
                  </a:cubicBezTo>
                  <a:lnTo>
                    <a:pt x="0" y="2070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0" y="0"/>
            <a:ext cx="9144000" cy="6859080"/>
            <a:chOff x="0" y="0"/>
            <a:chExt cx="9144000" cy="6859080"/>
          </a:xfrm>
        </p:grpSpPr>
        <p:grpSp>
          <p:nvGrpSpPr>
            <p:cNvPr id="102" name="Group 34"/>
            <p:cNvGrpSpPr/>
            <p:nvPr/>
          </p:nvGrpSpPr>
          <p:grpSpPr>
            <a:xfrm>
              <a:off x="0" y="0"/>
              <a:ext cx="9144000" cy="6859080"/>
              <a:chOff x="0" y="0"/>
              <a:chExt cx="9144000" cy="6859080"/>
            </a:xfrm>
          </p:grpSpPr>
          <p:sp>
            <p:nvSpPr>
              <p:cNvPr id="103" name="Rectangle 35"/>
              <p:cNvSpPr/>
              <p:nvPr/>
            </p:nvSpPr>
            <p:spPr>
              <a:xfrm>
                <a:off x="8964720" y="0"/>
                <a:ext cx="17928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6"/>
              <p:cNvSpPr/>
              <p:nvPr/>
            </p:nvSpPr>
            <p:spPr>
              <a:xfrm>
                <a:off x="0" y="0"/>
                <a:ext cx="17928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7"/>
              <p:cNvSpPr/>
              <p:nvPr/>
            </p:nvSpPr>
            <p:spPr>
              <a:xfrm rot="5400000">
                <a:off x="4482360" y="-4482360"/>
                <a:ext cx="179280" cy="9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8"/>
              <p:cNvSpPr/>
              <p:nvPr/>
            </p:nvSpPr>
            <p:spPr>
              <a:xfrm rot="5400000">
                <a:off x="4482360" y="2197080"/>
                <a:ext cx="179280" cy="9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39"/>
            <p:cNvSpPr/>
            <p:nvPr/>
          </p:nvSpPr>
          <p:spPr>
            <a:xfrm>
              <a:off x="179280" y="176040"/>
              <a:ext cx="8785440" cy="64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40" descr="3"/>
          <p:cNvPicPr/>
          <p:nvPr/>
        </p:nvPicPr>
        <p:blipFill>
          <a:blip r:embed="rId2"/>
          <a:stretch/>
        </p:blipFill>
        <p:spPr>
          <a:xfrm>
            <a:off x="1800360" y="292896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2"/>
          </p:nvPr>
        </p:nvSpPr>
        <p:spPr>
          <a:xfrm>
            <a:off x="457200" y="6316560"/>
            <a:ext cx="990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3"/>
          </p:nvPr>
        </p:nvSpPr>
        <p:spPr>
          <a:xfrm>
            <a:off x="5210280" y="6316560"/>
            <a:ext cx="1800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4"/>
          </p:nvPr>
        </p:nvSpPr>
        <p:spPr>
          <a:xfrm>
            <a:off x="7149960" y="6316560"/>
            <a:ext cx="1648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EC9B-D9E3-4786-81BA-2A278422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15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15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15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6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6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17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180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5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E81B-A381-4ABD-96DB-3CA269AD9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226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227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231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239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43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253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8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415C-D770-4919-A8C8-69617D52C7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299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300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304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308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312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316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26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488-93D5-4CDF-ADBC-30D49CCE26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72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373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377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381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385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389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99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4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599-E1F7-4C1B-A20F-376F3CD8DE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445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46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450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454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458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462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472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7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BC4-4002-4F6F-A7DC-D085F588B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518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519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523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527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531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535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545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0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3D6-1380-4B7F-A64E-A098B916E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591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592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596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600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604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608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618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3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EA0-3F24-41B7-9D1D-DDB96B9E7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3.wmf"/><Relationship Id="rId5" Type="http://schemas.openxmlformats.org/officeDocument/2006/relationships/image" Target="../media/image35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image" Target="../media/image33.wmf"/><Relationship Id="rId9" Type="http://schemas.openxmlformats.org/officeDocument/2006/relationships/image" Target="../media/image36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4.png"/><Relationship Id="rId3" Type="http://schemas.openxmlformats.org/officeDocument/2006/relationships/image" Target="../media/image41.png"/><Relationship Id="rId4" Type="http://schemas.openxmlformats.org/officeDocument/2006/relationships/image" Target="../media/image33.wmf"/><Relationship Id="rId5" Type="http://schemas.openxmlformats.org/officeDocument/2006/relationships/image" Target="../media/image42.png"/><Relationship Id="rId6" Type="http://schemas.openxmlformats.org/officeDocument/2006/relationships/image" Target="../media/image34.png"/><Relationship Id="rId7" Type="http://schemas.openxmlformats.org/officeDocument/2006/relationships/image" Target="../media/image43.png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179280" y="3097080"/>
            <a:ext cx="8763120" cy="800280"/>
          </a:xfrm>
          <a:prstGeom prst="rect">
            <a:avLst/>
          </a:prstGeom>
          <a:solidFill>
            <a:srgbClr val="b5d8e8">
              <a:alpha val="50000"/>
            </a:srgbClr>
          </a:solidFill>
          <a:ln w="9360">
            <a:solidFill>
              <a:srgbClr val="419c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2"/>
          <p:cNvSpPr/>
          <p:nvPr/>
        </p:nvSpPr>
        <p:spPr>
          <a:xfrm>
            <a:off x="2286360" y="762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旋转炫光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06BD-9DA2-4486-83AD-C839889043D3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227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236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245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53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59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Rectangle 42"/>
          <p:cNvSpPr/>
          <p:nvPr/>
        </p:nvSpPr>
        <p:spPr>
          <a:xfrm>
            <a:off x="2085840" y="3198960"/>
            <a:ext cx="50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965160" y="311040"/>
            <a:ext cx="551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5"/>
          <p:cNvSpPr/>
          <p:nvPr/>
        </p:nvSpPr>
        <p:spPr>
          <a:xfrm>
            <a:off x="571680" y="12654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2"/>
          <p:cNvSpPr/>
          <p:nvPr/>
        </p:nvSpPr>
        <p:spPr>
          <a:xfrm flipH="1">
            <a:off x="4914360" y="4419720"/>
            <a:ext cx="3886200" cy="1904760"/>
          </a:xfrm>
          <a:custGeom>
            <a:avLst/>
            <a:gdLst>
              <a:gd name="textAreaLeft" fmla="*/ -360 w 3886200"/>
              <a:gd name="textAreaRight" fmla="*/ 3886200 w 3886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1bf6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57200" y="4395960"/>
            <a:ext cx="3718080" cy="190476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9579b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"/>
          <p:cNvSpPr/>
          <p:nvPr/>
        </p:nvSpPr>
        <p:spPr>
          <a:xfrm>
            <a:off x="3487680" y="4383000"/>
            <a:ext cx="1949400" cy="1892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23"/>
          <p:cNvGrpSpPr/>
          <p:nvPr/>
        </p:nvGrpSpPr>
        <p:grpSpPr>
          <a:xfrm>
            <a:off x="5719680" y="4830840"/>
            <a:ext cx="1088640" cy="1050480"/>
            <a:chOff x="5719680" y="4830840"/>
            <a:chExt cx="1088640" cy="1050480"/>
          </a:xfrm>
        </p:grpSpPr>
        <p:pic>
          <p:nvPicPr>
            <p:cNvPr id="1271" name="Picture 24" descr="circuler_1"/>
            <p:cNvPicPr/>
            <p:nvPr/>
          </p:nvPicPr>
          <p:blipFill>
            <a:blip r:embed="rId1"/>
            <a:stretch/>
          </p:blipFill>
          <p:spPr>
            <a:xfrm>
              <a:off x="5719680" y="4830840"/>
              <a:ext cx="108108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Oval 25"/>
            <p:cNvSpPr/>
            <p:nvPr/>
          </p:nvSpPr>
          <p:spPr>
            <a:xfrm>
              <a:off x="5719680" y="4830840"/>
              <a:ext cx="108864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3" name="Picture 26" descr="Picture2"/>
            <p:cNvPicPr/>
            <p:nvPr/>
          </p:nvPicPr>
          <p:blipFill>
            <a:blip r:embed="rId2"/>
            <a:stretch/>
          </p:blipFill>
          <p:spPr>
            <a:xfrm>
              <a:off x="5827680" y="4840200"/>
              <a:ext cx="86688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4" name="Group 31"/>
          <p:cNvGrpSpPr/>
          <p:nvPr/>
        </p:nvGrpSpPr>
        <p:grpSpPr>
          <a:xfrm>
            <a:off x="723960" y="4840200"/>
            <a:ext cx="1110960" cy="1072800"/>
            <a:chOff x="723960" y="4840200"/>
            <a:chExt cx="1110960" cy="1072800"/>
          </a:xfrm>
        </p:grpSpPr>
        <p:pic>
          <p:nvPicPr>
            <p:cNvPr id="1275" name="Picture 32" descr="circuler_1"/>
            <p:cNvPicPr/>
            <p:nvPr/>
          </p:nvPicPr>
          <p:blipFill>
            <a:blip r:embed="rId3"/>
            <a:stretch/>
          </p:blipFill>
          <p:spPr>
            <a:xfrm>
              <a:off x="723960" y="4840200"/>
              <a:ext cx="110340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Oval 33"/>
            <p:cNvSpPr/>
            <p:nvPr/>
          </p:nvSpPr>
          <p:spPr>
            <a:xfrm>
              <a:off x="723960" y="4840200"/>
              <a:ext cx="111096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7" name="Picture 34" descr="Picture2"/>
            <p:cNvPicPr/>
            <p:nvPr/>
          </p:nvPicPr>
          <p:blipFill>
            <a:blip r:embed="rId4"/>
            <a:stretch/>
          </p:blipFill>
          <p:spPr>
            <a:xfrm>
              <a:off x="83448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35"/>
          <p:cNvGrpSpPr/>
          <p:nvPr/>
        </p:nvGrpSpPr>
        <p:grpSpPr>
          <a:xfrm>
            <a:off x="3565440" y="4462560"/>
            <a:ext cx="1799640" cy="1735920"/>
            <a:chOff x="3565440" y="4462560"/>
            <a:chExt cx="1799640" cy="1735920"/>
          </a:xfrm>
        </p:grpSpPr>
        <p:pic>
          <p:nvPicPr>
            <p:cNvPr id="1279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3565440" y="4462560"/>
              <a:ext cx="17874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Oval 37"/>
            <p:cNvSpPr/>
            <p:nvPr/>
          </p:nvSpPr>
          <p:spPr>
            <a:xfrm>
              <a:off x="3565440" y="4462560"/>
              <a:ext cx="1799640" cy="1735920"/>
            </a:xfrm>
            <a:prstGeom prst="ellipse">
              <a:avLst/>
            </a:prstGeom>
            <a:solidFill>
              <a:srgbClr val="ffbb3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1" name="Picture 38" descr="Picture2"/>
            <p:cNvPicPr/>
            <p:nvPr/>
          </p:nvPicPr>
          <p:blipFill>
            <a:blip r:embed="rId6"/>
            <a:stretch/>
          </p:blipFill>
          <p:spPr>
            <a:xfrm>
              <a:off x="3744360" y="4478400"/>
              <a:ext cx="1433160" cy="61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2" name="Group 39"/>
          <p:cNvGrpSpPr/>
          <p:nvPr/>
        </p:nvGrpSpPr>
        <p:grpSpPr>
          <a:xfrm>
            <a:off x="2109960" y="4840200"/>
            <a:ext cx="1110600" cy="1072800"/>
            <a:chOff x="2109960" y="4840200"/>
            <a:chExt cx="1110600" cy="1072800"/>
          </a:xfrm>
        </p:grpSpPr>
        <p:pic>
          <p:nvPicPr>
            <p:cNvPr id="1283" name="Picture 40" descr="circuler_1"/>
            <p:cNvPicPr/>
            <p:nvPr/>
          </p:nvPicPr>
          <p:blipFill>
            <a:blip r:embed="rId7"/>
            <a:stretch/>
          </p:blipFill>
          <p:spPr>
            <a:xfrm>
              <a:off x="2109960" y="4840200"/>
              <a:ext cx="110304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Oval 41"/>
            <p:cNvSpPr/>
            <p:nvPr/>
          </p:nvSpPr>
          <p:spPr>
            <a:xfrm>
              <a:off x="2109960" y="4840200"/>
              <a:ext cx="111060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5" name="Picture 42" descr="Picture2"/>
            <p:cNvPicPr/>
            <p:nvPr/>
          </p:nvPicPr>
          <p:blipFill>
            <a:blip r:embed="rId8"/>
            <a:stretch/>
          </p:blipFill>
          <p:spPr>
            <a:xfrm>
              <a:off x="222012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6" name="Group 43"/>
          <p:cNvGrpSpPr/>
          <p:nvPr/>
        </p:nvGrpSpPr>
        <p:grpSpPr>
          <a:xfrm>
            <a:off x="7116840" y="4830840"/>
            <a:ext cx="1411920" cy="1050480"/>
            <a:chOff x="7116840" y="4830840"/>
            <a:chExt cx="1411920" cy="1050480"/>
          </a:xfrm>
        </p:grpSpPr>
        <p:pic>
          <p:nvPicPr>
            <p:cNvPr id="1287" name="Picture 44" descr="circuler_1"/>
            <p:cNvPicPr/>
            <p:nvPr/>
          </p:nvPicPr>
          <p:blipFill>
            <a:blip r:embed="rId9"/>
            <a:stretch/>
          </p:blipFill>
          <p:spPr>
            <a:xfrm>
              <a:off x="7116840" y="4830840"/>
              <a:ext cx="140256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Oval 45"/>
            <p:cNvSpPr/>
            <p:nvPr/>
          </p:nvSpPr>
          <p:spPr>
            <a:xfrm>
              <a:off x="7116840" y="4830840"/>
              <a:ext cx="141192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9" name="Picture 46" descr="Picture2"/>
            <p:cNvPicPr/>
            <p:nvPr/>
          </p:nvPicPr>
          <p:blipFill>
            <a:blip r:embed="rId10"/>
            <a:stretch/>
          </p:blipFill>
          <p:spPr>
            <a:xfrm>
              <a:off x="7257240" y="4840200"/>
              <a:ext cx="112428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0" name="Rectangle 17"/>
          <p:cNvSpPr/>
          <p:nvPr/>
        </p:nvSpPr>
        <p:spPr>
          <a:xfrm>
            <a:off x="7029360" y="5094360"/>
            <a:ext cx="150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AutoShape 3"/>
          <p:cNvSpPr/>
          <p:nvPr/>
        </p:nvSpPr>
        <p:spPr>
          <a:xfrm>
            <a:off x="5195880" y="2239920"/>
            <a:ext cx="2849400" cy="311004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3110040"/>
              <a:gd name="textAreaBottom" fmla="*/ 3043440 h 3110040"/>
            </a:gdLst>
            <a:ahLst/>
            <a:rect l="textAreaLeft" t="textAreaTop" r="textAreaRight" b="textAreaBottom"/>
            <a:pathLst>
              <a:path w="21600" h="23576">
                <a:moveTo>
                  <a:pt x="1731" y="0"/>
                </a:moveTo>
                <a:arcTo wR="1731" hR="1731" stAng="16200000" swAng="-5400000"/>
                <a:lnTo>
                  <a:pt x="0" y="21845"/>
                </a:lnTo>
                <a:arcTo wR="1731" hR="1731" stAng="10800000" swAng="-5400000"/>
                <a:lnTo>
                  <a:pt x="19869" y="23576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4"/>
          <p:cNvSpPr/>
          <p:nvPr/>
        </p:nvSpPr>
        <p:spPr>
          <a:xfrm>
            <a:off x="5259240" y="23050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5"/>
          <p:cNvGrpSpPr/>
          <p:nvPr/>
        </p:nvGrpSpPr>
        <p:grpSpPr>
          <a:xfrm>
            <a:off x="961920" y="1676520"/>
            <a:ext cx="2857320" cy="466560"/>
            <a:chOff x="961920" y="1676520"/>
            <a:chExt cx="2857320" cy="466560"/>
          </a:xfrm>
        </p:grpSpPr>
        <p:sp>
          <p:nvSpPr>
            <p:cNvPr id="1294" name="AutoShape 6"/>
            <p:cNvSpPr/>
            <p:nvPr/>
          </p:nvSpPr>
          <p:spPr>
            <a:xfrm>
              <a:off x="9619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6511"/>
                </a:gs>
                <a:gs pos="50000">
                  <a:srgbClr val="ff7f15"/>
                </a:gs>
                <a:gs pos="100000">
                  <a:srgbClr val="ca6511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AutoShape 7"/>
            <p:cNvGrpSpPr/>
            <p:nvPr/>
          </p:nvGrpSpPr>
          <p:grpSpPr>
            <a:xfrm>
              <a:off x="3676680" y="1743120"/>
              <a:ext cx="127440" cy="328680"/>
              <a:chOff x="3676680" y="1743120"/>
              <a:chExt cx="127440" cy="328680"/>
            </a:xfrm>
          </p:grpSpPr>
          <p:pic>
            <p:nvPicPr>
              <p:cNvPr id="1296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6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7" name=""/>
              <p:cNvSpPr/>
              <p:nvPr/>
            </p:nvSpPr>
            <p:spPr>
              <a:xfrm>
                <a:off x="37767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8" name="AutoShape 8"/>
            <p:cNvGrpSpPr/>
            <p:nvPr/>
          </p:nvGrpSpPr>
          <p:grpSpPr>
            <a:xfrm>
              <a:off x="993960" y="1743120"/>
              <a:ext cx="127440" cy="328680"/>
              <a:chOff x="993960" y="1743120"/>
              <a:chExt cx="127440" cy="328680"/>
            </a:xfrm>
          </p:grpSpPr>
          <p:pic>
            <p:nvPicPr>
              <p:cNvPr id="1299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9396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"/>
              <p:cNvSpPr/>
              <p:nvPr/>
            </p:nvSpPr>
            <p:spPr>
              <a:xfrm>
                <a:off x="100080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Group 9"/>
          <p:cNvGrpSpPr/>
          <p:nvPr/>
        </p:nvGrpSpPr>
        <p:grpSpPr>
          <a:xfrm>
            <a:off x="5170320" y="1676520"/>
            <a:ext cx="2857320" cy="466560"/>
            <a:chOff x="5170320" y="1676520"/>
            <a:chExt cx="2857320" cy="466560"/>
          </a:xfrm>
        </p:grpSpPr>
        <p:sp>
          <p:nvSpPr>
            <p:cNvPr id="1302" name="AutoShape 10"/>
            <p:cNvSpPr/>
            <p:nvPr/>
          </p:nvSpPr>
          <p:spPr>
            <a:xfrm>
              <a:off x="51703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a12c"/>
                </a:gs>
                <a:gs pos="50000">
                  <a:srgbClr val="ffbb33"/>
                </a:gs>
                <a:gs pos="100000">
                  <a:srgbClr val="dba12c"/>
                </a:gs>
              </a:gsLst>
              <a:lin ang="0"/>
            </a:gradFill>
            <a:ln w="12600">
              <a:solidFill>
                <a:srgbClr val="ffbb33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3" name="AutoShape 11"/>
            <p:cNvGrpSpPr/>
            <p:nvPr/>
          </p:nvGrpSpPr>
          <p:grpSpPr>
            <a:xfrm>
              <a:off x="7886880" y="1743120"/>
              <a:ext cx="120960" cy="328680"/>
              <a:chOff x="7886880" y="1743120"/>
              <a:chExt cx="120960" cy="328680"/>
            </a:xfrm>
          </p:grpSpPr>
          <p:pic>
            <p:nvPicPr>
              <p:cNvPr id="1304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886880" y="1743120"/>
                <a:ext cx="12096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"/>
              <p:cNvSpPr/>
              <p:nvPr/>
            </p:nvSpPr>
            <p:spPr>
              <a:xfrm>
                <a:off x="7982640" y="1850400"/>
                <a:ext cx="1944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AutoShape 12"/>
            <p:cNvGrpSpPr/>
            <p:nvPr/>
          </p:nvGrpSpPr>
          <p:grpSpPr>
            <a:xfrm>
              <a:off x="5200560" y="1743120"/>
              <a:ext cx="127440" cy="328680"/>
              <a:chOff x="5200560" y="1743120"/>
              <a:chExt cx="127440" cy="328680"/>
            </a:xfrm>
          </p:grpSpPr>
          <p:pic>
            <p:nvPicPr>
              <p:cNvPr id="1307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56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8" name=""/>
              <p:cNvSpPr/>
              <p:nvPr/>
            </p:nvSpPr>
            <p:spPr>
              <a:xfrm>
                <a:off x="5209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9" name="AutoShape 13"/>
          <p:cNvSpPr/>
          <p:nvPr/>
        </p:nvSpPr>
        <p:spPr>
          <a:xfrm>
            <a:off x="961920" y="2239920"/>
            <a:ext cx="2849760" cy="303840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3038400"/>
              <a:gd name="textAreaBottom" fmla="*/ 2971800 h 3038400"/>
            </a:gdLst>
            <a:ahLst/>
            <a:rect l="textAreaLeft" t="textAreaTop" r="textAreaRight" b="textAreaBottom"/>
            <a:pathLst>
              <a:path w="21600" h="23030">
                <a:moveTo>
                  <a:pt x="1731" y="0"/>
                </a:moveTo>
                <a:arcTo wR="1731" hR="1731" stAng="16200000" swAng="-5400000"/>
                <a:lnTo>
                  <a:pt x="0" y="21299"/>
                </a:lnTo>
                <a:arcTo wR="1731" hR="1731" stAng="10800000" swAng="-5400000"/>
                <a:lnTo>
                  <a:pt x="19869" y="23030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ff7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21"/>
          <p:cNvGrpSpPr/>
          <p:nvPr/>
        </p:nvGrpSpPr>
        <p:grpSpPr>
          <a:xfrm>
            <a:off x="5327640" y="2451240"/>
            <a:ext cx="168120" cy="168120"/>
            <a:chOff x="5327640" y="2451240"/>
            <a:chExt cx="168120" cy="168120"/>
          </a:xfrm>
        </p:grpSpPr>
        <p:sp>
          <p:nvSpPr>
            <p:cNvPr id="1311" name="Oval 22"/>
            <p:cNvSpPr/>
            <p:nvPr/>
          </p:nvSpPr>
          <p:spPr>
            <a:xfrm>
              <a:off x="5327640" y="2451240"/>
              <a:ext cx="16812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23"/>
            <p:cNvSpPr/>
            <p:nvPr/>
          </p:nvSpPr>
          <p:spPr>
            <a:xfrm>
              <a:off x="5340960" y="2465280"/>
              <a:ext cx="14004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Text Box 27"/>
          <p:cNvSpPr/>
          <p:nvPr/>
        </p:nvSpPr>
        <p:spPr>
          <a:xfrm>
            <a:off x="1071720" y="4505400"/>
            <a:ext cx="263196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buClr>
                <a:srgbClr val="1c1c1c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8"/>
          <p:cNvSpPr/>
          <p:nvPr/>
        </p:nvSpPr>
        <p:spPr>
          <a:xfrm>
            <a:off x="103824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9"/>
          <p:cNvSpPr/>
          <p:nvPr/>
        </p:nvSpPr>
        <p:spPr>
          <a:xfrm>
            <a:off x="1038240" y="3051000"/>
            <a:ext cx="2698560" cy="5670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30"/>
          <p:cNvSpPr/>
          <p:nvPr/>
        </p:nvSpPr>
        <p:spPr>
          <a:xfrm>
            <a:off x="1038240" y="376092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31"/>
          <p:cNvSpPr/>
          <p:nvPr/>
        </p:nvSpPr>
        <p:spPr>
          <a:xfrm>
            <a:off x="1077480" y="254304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32"/>
          <p:cNvSpPr/>
          <p:nvPr/>
        </p:nvSpPr>
        <p:spPr>
          <a:xfrm>
            <a:off x="1077480" y="312732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3"/>
          <p:cNvSpPr/>
          <p:nvPr/>
        </p:nvSpPr>
        <p:spPr>
          <a:xfrm>
            <a:off x="1153800" y="383220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38"/>
          <p:cNvSpPr/>
          <p:nvPr/>
        </p:nvSpPr>
        <p:spPr>
          <a:xfrm rot="664200">
            <a:off x="3727440" y="2547720"/>
            <a:ext cx="1571760" cy="1447560"/>
          </a:xfrm>
          <a:custGeom>
            <a:avLst/>
            <a:gdLst>
              <a:gd name="textAreaLeft" fmla="*/ 230040 w 1571760"/>
              <a:gd name="textAreaRight" fmla="*/ 1341720 w 15717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97" y="2645"/>
                  <a:pt x="5037" y="4296"/>
                  <a:pt x="3616" y="6940"/>
                </a:cubicBezTo>
                <a:lnTo>
                  <a:pt x="1286" y="5688"/>
                </a:lnTo>
                <a:cubicBezTo>
                  <a:pt x="3168" y="2185"/>
                  <a:pt x="6823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2590f"/>
              </a:gs>
              <a:gs pos="100000">
                <a:srgbClr val="ff7f15"/>
              </a:gs>
            </a:gsLst>
            <a:lin ang="20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39"/>
          <p:cNvSpPr/>
          <p:nvPr/>
        </p:nvSpPr>
        <p:spPr>
          <a:xfrm flipH="1" flipV="1" rot="634200">
            <a:off x="3732840" y="2536920"/>
            <a:ext cx="1544400" cy="1447560"/>
          </a:xfrm>
          <a:custGeom>
            <a:avLst/>
            <a:gdLst>
              <a:gd name="textAreaLeft" fmla="*/ 226080 w 1544400"/>
              <a:gd name="textAreaRight" fmla="*/ 1318320 w 154440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25" y="2645"/>
                  <a:pt x="4912" y="4374"/>
                  <a:pt x="3524" y="7117"/>
                </a:cubicBezTo>
                <a:lnTo>
                  <a:pt x="1163" y="5922"/>
                </a:lnTo>
                <a:cubicBezTo>
                  <a:pt x="3002" y="2290"/>
                  <a:pt x="6728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a8825"/>
              </a:gs>
              <a:gs pos="100000">
                <a:srgbClr val="ffbb33"/>
              </a:gs>
            </a:gsLst>
            <a:lin ang="20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21"/>
          <p:cNvGrpSpPr/>
          <p:nvPr/>
        </p:nvGrpSpPr>
        <p:grpSpPr>
          <a:xfrm>
            <a:off x="5332320" y="4253040"/>
            <a:ext cx="168480" cy="168120"/>
            <a:chOff x="5332320" y="4253040"/>
            <a:chExt cx="168480" cy="168120"/>
          </a:xfrm>
        </p:grpSpPr>
        <p:sp>
          <p:nvSpPr>
            <p:cNvPr id="1323" name="Oval 22"/>
            <p:cNvSpPr/>
            <p:nvPr/>
          </p:nvSpPr>
          <p:spPr>
            <a:xfrm>
              <a:off x="5332320" y="4253040"/>
              <a:ext cx="16848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23"/>
            <p:cNvSpPr/>
            <p:nvPr/>
          </p:nvSpPr>
          <p:spPr>
            <a:xfrm>
              <a:off x="5345640" y="4267080"/>
              <a:ext cx="14040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오각형 6"/>
          <p:cNvSpPr/>
          <p:nvPr/>
        </p:nvSpPr>
        <p:spPr>
          <a:xfrm>
            <a:off x="642960" y="5916600"/>
            <a:ext cx="8072280" cy="39528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6" y="0"/>
                </a:lnTo>
                <a:lnTo>
                  <a:pt x="21600" y="10800"/>
                </a:lnTo>
                <a:lnTo>
                  <a:pt x="211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한쪽 모서리는 잘리고 다른 쪽 모서리는 둥근 사각형 7"/>
          <p:cNvSpPr/>
          <p:nvPr/>
        </p:nvSpPr>
        <p:spPr>
          <a:xfrm>
            <a:off x="571680" y="1636560"/>
            <a:ext cx="1571400" cy="376560"/>
          </a:xfrm>
          <a:custGeom>
            <a:avLst/>
            <a:gdLst/>
            <a:ahLst/>
            <a:rect l="l" t="t" r="r" b="b"/>
            <a:pathLst>
              <a:path w="1571625" h="376237">
                <a:moveTo>
                  <a:pt x="0" y="0"/>
                </a:moveTo>
                <a:lnTo>
                  <a:pt x="1508918" y="0"/>
                </a:lnTo>
                <a:lnTo>
                  <a:pt x="1571625" y="62707"/>
                </a:lnTo>
                <a:lnTo>
                  <a:pt x="1571625" y="376237"/>
                </a:lnTo>
                <a:lnTo>
                  <a:pt x="0" y="376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dcff"/>
              </a:gs>
              <a:gs pos="100000">
                <a:srgbClr val="e3f5ff"/>
              </a:gs>
            </a:gsLst>
            <a:lin ang="16200000"/>
          </a:gradFill>
          <a:ln w="9360">
            <a:solidFill>
              <a:srgbClr val="419c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직사각형 8"/>
          <p:cNvSpPr/>
          <p:nvPr/>
        </p:nvSpPr>
        <p:spPr>
          <a:xfrm>
            <a:off x="571680" y="2138040"/>
            <a:ext cx="8267400" cy="424980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2"/>
          <p:cNvSpPr/>
          <p:nvPr/>
        </p:nvSpPr>
        <p:spPr>
          <a:xfrm>
            <a:off x="533520" y="1073160"/>
            <a:ext cx="350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직선 연결선 9"/>
          <p:cNvSpPr/>
          <p:nvPr/>
        </p:nvSpPr>
        <p:spPr>
          <a:xfrm>
            <a:off x="2133720" y="2008080"/>
            <a:ext cx="6705360" cy="1800"/>
          </a:xfrm>
          <a:prstGeom prst="line">
            <a:avLst/>
          </a:prstGeom>
          <a:ln w="25560">
            <a:solidFill>
              <a:srgbClr val="469e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오각형 39"/>
          <p:cNvGrpSpPr/>
          <p:nvPr/>
        </p:nvGrpSpPr>
        <p:grpSpPr>
          <a:xfrm>
            <a:off x="4900680" y="4164120"/>
            <a:ext cx="3157560" cy="1706400"/>
            <a:chOff x="4900680" y="4164120"/>
            <a:chExt cx="3157560" cy="1706400"/>
          </a:xfrm>
        </p:grpSpPr>
        <p:pic>
          <p:nvPicPr>
            <p:cNvPr id="1331" name="오각형 39" descr=""/>
            <p:cNvPicPr/>
            <p:nvPr/>
          </p:nvPicPr>
          <p:blipFill>
            <a:blip r:embed="rId1"/>
            <a:stretch/>
          </p:blipFill>
          <p:spPr>
            <a:xfrm>
              <a:off x="4900680" y="4164120"/>
              <a:ext cx="31575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5353200" y="4191120"/>
              <a:ext cx="2647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Group 3"/>
          <p:cNvGrpSpPr/>
          <p:nvPr/>
        </p:nvGrpSpPr>
        <p:grpSpPr>
          <a:xfrm>
            <a:off x="1905120" y="2174760"/>
            <a:ext cx="5333760" cy="644760"/>
            <a:chOff x="1905120" y="2174760"/>
            <a:chExt cx="5333760" cy="644760"/>
          </a:xfrm>
        </p:grpSpPr>
        <p:sp>
          <p:nvSpPr>
            <p:cNvPr id="1334" name="AutoShape 4"/>
            <p:cNvSpPr/>
            <p:nvPr/>
          </p:nvSpPr>
          <p:spPr>
            <a:xfrm>
              <a:off x="1905120" y="2174760"/>
              <a:ext cx="5333760" cy="644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69ec6"/>
                </a:gs>
                <a:gs pos="50000">
                  <a:srgbClr val="4192b6"/>
                </a:gs>
                <a:gs pos="100000">
                  <a:srgbClr val="469e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Group 5"/>
            <p:cNvGrpSpPr/>
            <p:nvPr/>
          </p:nvGrpSpPr>
          <p:grpSpPr>
            <a:xfrm>
              <a:off x="1918080" y="2194560"/>
              <a:ext cx="5313960" cy="595800"/>
              <a:chOff x="1918080" y="2194560"/>
              <a:chExt cx="5313960" cy="595800"/>
            </a:xfrm>
          </p:grpSpPr>
          <p:sp>
            <p:nvSpPr>
              <p:cNvPr id="1336" name="AutoShape 6"/>
              <p:cNvSpPr/>
              <p:nvPr/>
            </p:nvSpPr>
            <p:spPr>
              <a:xfrm>
                <a:off x="1918080" y="2636280"/>
                <a:ext cx="53139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69ec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7"/>
              <p:cNvSpPr/>
              <p:nvPr/>
            </p:nvSpPr>
            <p:spPr>
              <a:xfrm>
                <a:off x="1918080" y="2194560"/>
                <a:ext cx="53139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469ec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8" name="Rectangle 2"/>
          <p:cNvSpPr/>
          <p:nvPr/>
        </p:nvSpPr>
        <p:spPr>
          <a:xfrm>
            <a:off x="533520" y="1073160"/>
            <a:ext cx="4724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Group 8"/>
          <p:cNvGrpSpPr/>
          <p:nvPr/>
        </p:nvGrpSpPr>
        <p:grpSpPr>
          <a:xfrm>
            <a:off x="1905120" y="3048120"/>
            <a:ext cx="5257800" cy="644400"/>
            <a:chOff x="1905120" y="3048120"/>
            <a:chExt cx="5257800" cy="644400"/>
          </a:xfrm>
        </p:grpSpPr>
        <p:sp>
          <p:nvSpPr>
            <p:cNvPr id="1340" name="AutoShape 9"/>
            <p:cNvSpPr/>
            <p:nvPr/>
          </p:nvSpPr>
          <p:spPr>
            <a:xfrm>
              <a:off x="1905120" y="3048120"/>
              <a:ext cx="5257800" cy="644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15"/>
                </a:gs>
                <a:gs pos="50000">
                  <a:srgbClr val="eb7513"/>
                </a:gs>
                <a:gs pos="100000">
                  <a:srgbClr val="ff7f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10"/>
            <p:cNvGrpSpPr/>
            <p:nvPr/>
          </p:nvGrpSpPr>
          <p:grpSpPr>
            <a:xfrm>
              <a:off x="1917720" y="3067920"/>
              <a:ext cx="5238360" cy="595440"/>
              <a:chOff x="1917720" y="3067920"/>
              <a:chExt cx="5238360" cy="595440"/>
            </a:xfrm>
          </p:grpSpPr>
          <p:sp>
            <p:nvSpPr>
              <p:cNvPr id="1342" name="AutoShape 11"/>
              <p:cNvSpPr/>
              <p:nvPr/>
            </p:nvSpPr>
            <p:spPr>
              <a:xfrm>
                <a:off x="1917720" y="3509280"/>
                <a:ext cx="52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1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12"/>
              <p:cNvSpPr/>
              <p:nvPr/>
            </p:nvSpPr>
            <p:spPr>
              <a:xfrm>
                <a:off x="1917720" y="3067920"/>
                <a:ext cx="52383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ec3"/>
                  </a:gs>
                  <a:gs pos="100000">
                    <a:srgbClr val="ff7f1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44" name="Picture 32" descr="circuler_1"/>
          <p:cNvPicPr/>
          <p:nvPr/>
        </p:nvPicPr>
        <p:blipFill>
          <a:blip r:embed="rId2"/>
          <a:stretch/>
        </p:blipFill>
        <p:spPr>
          <a:xfrm>
            <a:off x="4724280" y="4419720"/>
            <a:ext cx="1103400" cy="1068120"/>
          </a:xfrm>
          <a:prstGeom prst="rect">
            <a:avLst/>
          </a:prstGeom>
          <a:ln w="0">
            <a:noFill/>
          </a:ln>
        </p:spPr>
      </p:pic>
      <p:grpSp>
        <p:nvGrpSpPr>
          <p:cNvPr id="1345" name="Oval 33"/>
          <p:cNvGrpSpPr/>
          <p:nvPr/>
        </p:nvGrpSpPr>
        <p:grpSpPr>
          <a:xfrm>
            <a:off x="4668840" y="4389480"/>
            <a:ext cx="1219320" cy="1182600"/>
            <a:chOff x="4668840" y="4389480"/>
            <a:chExt cx="1219320" cy="1182600"/>
          </a:xfrm>
        </p:grpSpPr>
        <p:pic>
          <p:nvPicPr>
            <p:cNvPr id="1346" name="Oval 33" descr=""/>
            <p:cNvPicPr/>
            <p:nvPr/>
          </p:nvPicPr>
          <p:blipFill>
            <a:blip r:embed="rId3"/>
            <a:stretch/>
          </p:blipFill>
          <p:spPr>
            <a:xfrm>
              <a:off x="4668840" y="4389480"/>
              <a:ext cx="12193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"/>
            <p:cNvSpPr/>
            <p:nvPr/>
          </p:nvSpPr>
          <p:spPr>
            <a:xfrm>
              <a:off x="4888080" y="4576680"/>
              <a:ext cx="784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8" name="Picture 34" descr="Picture2"/>
          <p:cNvPicPr/>
          <p:nvPr/>
        </p:nvPicPr>
        <p:blipFill>
          <a:blip r:embed="rId4"/>
          <a:stretch/>
        </p:blipFill>
        <p:spPr>
          <a:xfrm>
            <a:off x="4835520" y="4429080"/>
            <a:ext cx="884160" cy="379440"/>
          </a:xfrm>
          <a:prstGeom prst="rect">
            <a:avLst/>
          </a:prstGeom>
          <a:ln w="0">
            <a:noFill/>
          </a:ln>
        </p:spPr>
      </p:pic>
      <p:grpSp>
        <p:nvGrpSpPr>
          <p:cNvPr id="1349" name="오각형 38"/>
          <p:cNvGrpSpPr/>
          <p:nvPr/>
        </p:nvGrpSpPr>
        <p:grpSpPr>
          <a:xfrm>
            <a:off x="1195560" y="4164120"/>
            <a:ext cx="3157200" cy="1706400"/>
            <a:chOff x="1195560" y="4164120"/>
            <a:chExt cx="3157200" cy="1706400"/>
          </a:xfrm>
        </p:grpSpPr>
        <p:pic>
          <p:nvPicPr>
            <p:cNvPr id="1350" name="오각형 38" descr=""/>
            <p:cNvPicPr/>
            <p:nvPr/>
          </p:nvPicPr>
          <p:blipFill>
            <a:blip r:embed="rId5"/>
            <a:stretch/>
          </p:blipFill>
          <p:spPr>
            <a:xfrm>
              <a:off x="1195560" y="4164120"/>
              <a:ext cx="31572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1251000" y="4191120"/>
              <a:ext cx="2647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2" name="Picture 40" descr="circuler_1"/>
          <p:cNvPicPr/>
          <p:nvPr/>
        </p:nvPicPr>
        <p:blipFill>
          <a:blip r:embed="rId6"/>
          <a:stretch/>
        </p:blipFill>
        <p:spPr>
          <a:xfrm>
            <a:off x="3308400" y="4489560"/>
            <a:ext cx="1103400" cy="1068120"/>
          </a:xfrm>
          <a:prstGeom prst="rect">
            <a:avLst/>
          </a:prstGeom>
          <a:ln w="0">
            <a:noFill/>
          </a:ln>
        </p:spPr>
      </p:pic>
      <p:grpSp>
        <p:nvGrpSpPr>
          <p:cNvPr id="1353" name="Oval 41"/>
          <p:cNvGrpSpPr/>
          <p:nvPr/>
        </p:nvGrpSpPr>
        <p:grpSpPr>
          <a:xfrm>
            <a:off x="3255840" y="4456080"/>
            <a:ext cx="1219320" cy="1189080"/>
            <a:chOff x="3255840" y="4456080"/>
            <a:chExt cx="1219320" cy="1189080"/>
          </a:xfrm>
        </p:grpSpPr>
        <p:pic>
          <p:nvPicPr>
            <p:cNvPr id="1354" name="Oval 41" descr=""/>
            <p:cNvPicPr/>
            <p:nvPr/>
          </p:nvPicPr>
          <p:blipFill>
            <a:blip r:embed="rId7"/>
            <a:stretch/>
          </p:blipFill>
          <p:spPr>
            <a:xfrm>
              <a:off x="3255840" y="4456080"/>
              <a:ext cx="1219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3471840" y="4646520"/>
              <a:ext cx="784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6" name="Picture 42" descr="Picture2"/>
          <p:cNvPicPr/>
          <p:nvPr/>
        </p:nvPicPr>
        <p:blipFill>
          <a:blip r:embed="rId8"/>
          <a:stretch/>
        </p:blipFill>
        <p:spPr>
          <a:xfrm>
            <a:off x="3419640" y="4498920"/>
            <a:ext cx="884160" cy="379440"/>
          </a:xfrm>
          <a:prstGeom prst="rect">
            <a:avLst/>
          </a:prstGeom>
          <a:ln w="0">
            <a:noFill/>
          </a:ln>
        </p:spPr>
      </p:pic>
      <p:sp>
        <p:nvSpPr>
          <p:cNvPr id="1357" name="직사각형 42"/>
          <p:cNvSpPr/>
          <p:nvPr/>
        </p:nvSpPr>
        <p:spPr>
          <a:xfrm>
            <a:off x="6019920" y="425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47880" y="175320"/>
            <a:ext cx="568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59" name="AutoShape 2"/>
          <p:cNvSpPr/>
          <p:nvPr/>
        </p:nvSpPr>
        <p:spPr>
          <a:xfrm>
            <a:off x="1676520" y="990720"/>
            <a:ext cx="7072200" cy="1523880"/>
          </a:xfrm>
          <a:prstGeom prst="roundRect">
            <a:avLst>
              <a:gd name="adj" fmla="val 3032"/>
            </a:avLst>
          </a:prstGeom>
          <a:gradFill rotWithShape="0">
            <a:gsLst>
              <a:gs pos="0">
                <a:srgbClr val="469ec6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6"/>
          <p:cNvSpPr/>
          <p:nvPr/>
        </p:nvSpPr>
        <p:spPr>
          <a:xfrm>
            <a:off x="2057400" y="1066680"/>
            <a:ext cx="64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28"/>
          <p:cNvGrpSpPr/>
          <p:nvPr/>
        </p:nvGrpSpPr>
        <p:grpSpPr>
          <a:xfrm>
            <a:off x="285840" y="1090440"/>
            <a:ext cx="1571400" cy="1285560"/>
            <a:chOff x="285840" y="1090440"/>
            <a:chExt cx="1571400" cy="1285560"/>
          </a:xfrm>
        </p:grpSpPr>
        <p:sp>
          <p:nvSpPr>
            <p:cNvPr id="1362" name="AutoShape 29"/>
            <p:cNvSpPr/>
            <p:nvPr/>
          </p:nvSpPr>
          <p:spPr>
            <a:xfrm>
              <a:off x="285840" y="1090440"/>
              <a:ext cx="1571400" cy="1285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69ec6"/>
                </a:gs>
                <a:gs pos="100000">
                  <a:srgbClr val="3c88a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0"/>
            <p:cNvSpPr/>
            <p:nvPr/>
          </p:nvSpPr>
          <p:spPr>
            <a:xfrm>
              <a:off x="359280" y="1201320"/>
              <a:ext cx="582480" cy="857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d0e3"/>
                </a:gs>
                <a:gs pos="50000">
                  <a:srgbClr val="469ec6">
                    <a:alpha val="0"/>
                  </a:srgbClr>
                </a:gs>
                <a:gs pos="100000">
                  <a:srgbClr val="a5d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AutoShape 5"/>
          <p:cNvSpPr/>
          <p:nvPr/>
        </p:nvSpPr>
        <p:spPr>
          <a:xfrm>
            <a:off x="1614600" y="2590920"/>
            <a:ext cx="7072200" cy="3195360"/>
          </a:xfrm>
          <a:prstGeom prst="roundRect">
            <a:avLst>
              <a:gd name="adj" fmla="val 3227"/>
            </a:avLst>
          </a:prstGeom>
          <a:gradFill rotWithShape="0">
            <a:gsLst>
              <a:gs pos="0">
                <a:srgbClr val="ffbb33">
                  <a:alpha val="31372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27"/>
          <p:cNvGrpSpPr/>
          <p:nvPr/>
        </p:nvGrpSpPr>
        <p:grpSpPr>
          <a:xfrm>
            <a:off x="357120" y="3214800"/>
            <a:ext cx="1365480" cy="1817640"/>
            <a:chOff x="357120" y="3214800"/>
            <a:chExt cx="1365480" cy="1817640"/>
          </a:xfrm>
        </p:grpSpPr>
        <p:sp>
          <p:nvSpPr>
            <p:cNvPr id="1366" name="AutoShape 25"/>
            <p:cNvSpPr/>
            <p:nvPr/>
          </p:nvSpPr>
          <p:spPr>
            <a:xfrm>
              <a:off x="365400" y="3214800"/>
              <a:ext cx="1357200" cy="99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bb33"/>
                </a:gs>
                <a:gs pos="100000">
                  <a:srgbClr val="dba12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"/>
            <p:cNvSpPr/>
            <p:nvPr/>
          </p:nvSpPr>
          <p:spPr>
            <a:xfrm>
              <a:off x="357120" y="4371840"/>
              <a:ext cx="50292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9c"/>
                </a:gs>
                <a:gs pos="50000">
                  <a:srgbClr val="ffbb33">
                    <a:alpha val="0"/>
                  </a:srgbClr>
                </a:gs>
                <a:gs pos="100000">
                  <a:srgbClr val="ffde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오각형 10"/>
          <p:cNvGrpSpPr/>
          <p:nvPr/>
        </p:nvGrpSpPr>
        <p:grpSpPr>
          <a:xfrm>
            <a:off x="585720" y="5937120"/>
            <a:ext cx="8186760" cy="695520"/>
            <a:chOff x="585720" y="5937120"/>
            <a:chExt cx="8186760" cy="695520"/>
          </a:xfrm>
        </p:grpSpPr>
        <p:pic>
          <p:nvPicPr>
            <p:cNvPr id="1369" name="오각형 10" descr=""/>
            <p:cNvPicPr/>
            <p:nvPr/>
          </p:nvPicPr>
          <p:blipFill>
            <a:blip r:embed="rId1"/>
            <a:stretch/>
          </p:blipFill>
          <p:spPr>
            <a:xfrm>
              <a:off x="585720" y="5937120"/>
              <a:ext cx="81867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0" name=""/>
            <p:cNvSpPr/>
            <p:nvPr/>
          </p:nvSpPr>
          <p:spPr>
            <a:xfrm>
              <a:off x="642960" y="5969160"/>
              <a:ext cx="79264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직사각형 17"/>
          <p:cNvSpPr/>
          <p:nvPr/>
        </p:nvSpPr>
        <p:spPr>
          <a:xfrm>
            <a:off x="1905120" y="2743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73" name="AutoShape 3"/>
          <p:cNvSpPr/>
          <p:nvPr/>
        </p:nvSpPr>
        <p:spPr>
          <a:xfrm>
            <a:off x="1230480" y="1523880"/>
            <a:ext cx="2808000" cy="427320"/>
          </a:xfrm>
          <a:prstGeom prst="bevel">
            <a:avLst>
              <a:gd name="adj" fmla="val 12639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4"/>
          <p:cNvSpPr/>
          <p:nvPr/>
        </p:nvSpPr>
        <p:spPr>
          <a:xfrm>
            <a:off x="1219320" y="3002040"/>
            <a:ext cx="2819160" cy="426960"/>
          </a:xfrm>
          <a:prstGeom prst="bevel">
            <a:avLst>
              <a:gd name="adj" fmla="val 12639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6"/>
          <p:cNvSpPr/>
          <p:nvPr/>
        </p:nvSpPr>
        <p:spPr>
          <a:xfrm>
            <a:off x="1219320" y="4952880"/>
            <a:ext cx="2819160" cy="427320"/>
          </a:xfrm>
          <a:prstGeom prst="bevel">
            <a:avLst>
              <a:gd name="adj" fmla="val 12639"/>
            </a:avLst>
          </a:prstGeom>
          <a:solidFill>
            <a:srgbClr val="6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8"/>
          <p:cNvSpPr/>
          <p:nvPr/>
        </p:nvSpPr>
        <p:spPr>
          <a:xfrm>
            <a:off x="1295280" y="1990800"/>
            <a:ext cx="7315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8"/>
          <p:cNvSpPr/>
          <p:nvPr/>
        </p:nvSpPr>
        <p:spPr>
          <a:xfrm>
            <a:off x="1295280" y="5473800"/>
            <a:ext cx="7315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D2A-A757-4C97-9CF8-A9C79434AD82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381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390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399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407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413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8" name="Rectangle 42"/>
          <p:cNvSpPr/>
          <p:nvPr/>
        </p:nvSpPr>
        <p:spPr>
          <a:xfrm>
            <a:off x="2133720" y="31845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Group 10"/>
          <p:cNvGrpSpPr/>
          <p:nvPr/>
        </p:nvGrpSpPr>
        <p:grpSpPr>
          <a:xfrm>
            <a:off x="3009960" y="1547640"/>
            <a:ext cx="1172160" cy="1175040"/>
            <a:chOff x="3009960" y="1547640"/>
            <a:chExt cx="1172160" cy="1175040"/>
          </a:xfrm>
        </p:grpSpPr>
        <p:sp>
          <p:nvSpPr>
            <p:cNvPr id="1428" name="Oval 11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9" name="Group 12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1430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1" name="Oval 14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ff7f1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2" name="Picture 15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3" name="Group 16"/>
              <p:cNvGrpSpPr/>
              <p:nvPr/>
            </p:nvGrpSpPr>
            <p:grpSpPr>
              <a:xfrm>
                <a:off x="3394440" y="2021400"/>
                <a:ext cx="768600" cy="701280"/>
                <a:chOff x="3394440" y="2021400"/>
                <a:chExt cx="768600" cy="701280"/>
              </a:xfrm>
            </p:grpSpPr>
            <p:grpSp>
              <p:nvGrpSpPr>
                <p:cNvPr id="1434" name="Group 17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1435" name="AutoShape 18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AutoShape 19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AutoShape 20"/>
                  <p:cNvSpPr/>
                  <p:nvPr/>
                </p:nvSpPr>
                <p:spPr>
                  <a:xfrm flipH="1" flipV="1" rot="2640000">
                    <a:off x="38192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AutoShape 21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" name="Group 22"/>
                <p:cNvGrpSpPr/>
                <p:nvPr/>
              </p:nvGrpSpPr>
              <p:grpSpPr>
                <a:xfrm>
                  <a:off x="3394440" y="2212560"/>
                  <a:ext cx="743400" cy="510120"/>
                  <a:chOff x="3394440" y="2212560"/>
                  <a:chExt cx="743400" cy="510120"/>
                </a:xfrm>
              </p:grpSpPr>
              <p:sp>
                <p:nvSpPr>
                  <p:cNvPr id="1440" name="AutoShape 23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AutoShape 24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AutoShape 25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AutoShape 26"/>
                  <p:cNvSpPr/>
                  <p:nvPr/>
                </p:nvSpPr>
                <p:spPr>
                  <a:xfrm flipH="1" flipV="1" rot="4525200">
                    <a:off x="36205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4" name="Group 27"/>
            <p:cNvGrpSpPr/>
            <p:nvPr/>
          </p:nvGrpSpPr>
          <p:grpSpPr>
            <a:xfrm>
              <a:off x="3504960" y="2054520"/>
              <a:ext cx="677160" cy="617760"/>
              <a:chOff x="3504960" y="2054520"/>
              <a:chExt cx="677160" cy="617760"/>
            </a:xfrm>
          </p:grpSpPr>
          <p:grpSp>
            <p:nvGrpSpPr>
              <p:cNvPr id="1445" name="Group 28"/>
              <p:cNvGrpSpPr/>
              <p:nvPr/>
            </p:nvGrpSpPr>
            <p:grpSpPr>
              <a:xfrm>
                <a:off x="3661200" y="2054520"/>
                <a:ext cx="520920" cy="611280"/>
                <a:chOff x="3661200" y="2054520"/>
                <a:chExt cx="520920" cy="611280"/>
              </a:xfrm>
            </p:grpSpPr>
            <p:sp>
              <p:nvSpPr>
                <p:cNvPr id="1446" name="AutoShape 29"/>
                <p:cNvSpPr/>
                <p:nvPr/>
              </p:nvSpPr>
              <p:spPr>
                <a:xfrm flipH="1" flipV="1" rot="1528800">
                  <a:off x="39510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AutoShape 30"/>
                <p:cNvSpPr/>
                <p:nvPr/>
              </p:nvSpPr>
              <p:spPr>
                <a:xfrm flipH="1" flipV="1" rot="2344200">
                  <a:off x="39117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AutoShape 31"/>
                <p:cNvSpPr/>
                <p:nvPr/>
              </p:nvSpPr>
              <p:spPr>
                <a:xfrm flipH="1" flipV="1" rot="2640000">
                  <a:off x="38790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AutoShape 32"/>
                <p:cNvSpPr/>
                <p:nvPr/>
              </p:nvSpPr>
              <p:spPr>
                <a:xfrm flipH="1" flipV="1" rot="3172200">
                  <a:off x="38383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Group 33"/>
              <p:cNvGrpSpPr/>
              <p:nvPr/>
            </p:nvGrpSpPr>
            <p:grpSpPr>
              <a:xfrm>
                <a:off x="3504960" y="2222280"/>
                <a:ext cx="654840" cy="450000"/>
                <a:chOff x="3504960" y="2222280"/>
                <a:chExt cx="654840" cy="450000"/>
              </a:xfrm>
            </p:grpSpPr>
            <p:sp>
              <p:nvSpPr>
                <p:cNvPr id="1451" name="AutoShape 34"/>
                <p:cNvSpPr/>
                <p:nvPr/>
              </p:nvSpPr>
              <p:spPr>
                <a:xfrm flipH="1" flipV="1" rot="2881800">
                  <a:off x="38660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AutoShape 35"/>
                <p:cNvSpPr/>
                <p:nvPr/>
              </p:nvSpPr>
              <p:spPr>
                <a:xfrm flipH="1" flipV="1" rot="3697200">
                  <a:off x="38012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AutoShape 36"/>
                <p:cNvSpPr/>
                <p:nvPr/>
              </p:nvSpPr>
              <p:spPr>
                <a:xfrm flipH="1" flipV="1" rot="3993000">
                  <a:off x="37573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AutoShape 37"/>
                <p:cNvSpPr/>
                <p:nvPr/>
              </p:nvSpPr>
              <p:spPr>
                <a:xfrm flipH="1" flipV="1" rot="4525200">
                  <a:off x="37033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5" name="Rectangle 38"/>
            <p:cNvSpPr/>
            <p:nvPr/>
          </p:nvSpPr>
          <p:spPr>
            <a:xfrm>
              <a:off x="3457440" y="1752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39"/>
          <p:cNvGrpSpPr/>
          <p:nvPr/>
        </p:nvGrpSpPr>
        <p:grpSpPr>
          <a:xfrm>
            <a:off x="1925640" y="2830680"/>
            <a:ext cx="1172160" cy="1175040"/>
            <a:chOff x="1925640" y="2830680"/>
            <a:chExt cx="1172160" cy="1175040"/>
          </a:xfrm>
        </p:grpSpPr>
        <p:sp>
          <p:nvSpPr>
            <p:cNvPr id="1457" name="Oval 40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8" name="Group 41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1459" name="Picture 4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0" name="Oval 43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469e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1" name="Picture 4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2" name="Group 45"/>
              <p:cNvGrpSpPr/>
              <p:nvPr/>
            </p:nvGrpSpPr>
            <p:grpSpPr>
              <a:xfrm>
                <a:off x="2310120" y="3304440"/>
                <a:ext cx="768600" cy="701280"/>
                <a:chOff x="2310120" y="3304440"/>
                <a:chExt cx="768600" cy="701280"/>
              </a:xfrm>
            </p:grpSpPr>
            <p:grpSp>
              <p:nvGrpSpPr>
                <p:cNvPr id="1463" name="Group 46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1464" name="AutoShape 47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AutoShape 48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AutoShape 49"/>
                  <p:cNvSpPr/>
                  <p:nvPr/>
                </p:nvSpPr>
                <p:spPr>
                  <a:xfrm flipH="1" flipV="1" rot="2640000">
                    <a:off x="27349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AutoShape 50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Group 51"/>
                <p:cNvGrpSpPr/>
                <p:nvPr/>
              </p:nvGrpSpPr>
              <p:grpSpPr>
                <a:xfrm>
                  <a:off x="2310120" y="3495600"/>
                  <a:ext cx="743400" cy="510120"/>
                  <a:chOff x="2310120" y="3495600"/>
                  <a:chExt cx="743400" cy="510120"/>
                </a:xfrm>
              </p:grpSpPr>
              <p:sp>
                <p:nvSpPr>
                  <p:cNvPr id="1469" name="AutoShape 52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AutoShape 53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AutoShape 54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AutoShape 55"/>
                  <p:cNvSpPr/>
                  <p:nvPr/>
                </p:nvSpPr>
                <p:spPr>
                  <a:xfrm flipH="1" flipV="1" rot="4525200">
                    <a:off x="25362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73" name="Group 56"/>
            <p:cNvGrpSpPr/>
            <p:nvPr/>
          </p:nvGrpSpPr>
          <p:grpSpPr>
            <a:xfrm>
              <a:off x="2420640" y="3337560"/>
              <a:ext cx="677160" cy="617760"/>
              <a:chOff x="2420640" y="3337560"/>
              <a:chExt cx="677160" cy="617760"/>
            </a:xfrm>
          </p:grpSpPr>
          <p:grpSp>
            <p:nvGrpSpPr>
              <p:cNvPr id="1474" name="Group 57"/>
              <p:cNvGrpSpPr/>
              <p:nvPr/>
            </p:nvGrpSpPr>
            <p:grpSpPr>
              <a:xfrm>
                <a:off x="2576880" y="3337560"/>
                <a:ext cx="520920" cy="611280"/>
                <a:chOff x="2576880" y="3337560"/>
                <a:chExt cx="520920" cy="611280"/>
              </a:xfrm>
            </p:grpSpPr>
            <p:sp>
              <p:nvSpPr>
                <p:cNvPr id="1475" name="AutoShape 58"/>
                <p:cNvSpPr/>
                <p:nvPr/>
              </p:nvSpPr>
              <p:spPr>
                <a:xfrm flipH="1" flipV="1" rot="1528800">
                  <a:off x="28666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AutoShape 59"/>
                <p:cNvSpPr/>
                <p:nvPr/>
              </p:nvSpPr>
              <p:spPr>
                <a:xfrm flipH="1" flipV="1" rot="2344200">
                  <a:off x="28274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AutoShape 60"/>
                <p:cNvSpPr/>
                <p:nvPr/>
              </p:nvSpPr>
              <p:spPr>
                <a:xfrm flipH="1" flipV="1" rot="2640000">
                  <a:off x="27946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61"/>
                <p:cNvSpPr/>
                <p:nvPr/>
              </p:nvSpPr>
              <p:spPr>
                <a:xfrm flipH="1" flipV="1" rot="3172200">
                  <a:off x="27540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Group 62"/>
              <p:cNvGrpSpPr/>
              <p:nvPr/>
            </p:nvGrpSpPr>
            <p:grpSpPr>
              <a:xfrm>
                <a:off x="2420640" y="3505320"/>
                <a:ext cx="654840" cy="450000"/>
                <a:chOff x="2420640" y="3505320"/>
                <a:chExt cx="654840" cy="450000"/>
              </a:xfrm>
            </p:grpSpPr>
            <p:sp>
              <p:nvSpPr>
                <p:cNvPr id="1480" name="AutoShape 63"/>
                <p:cNvSpPr/>
                <p:nvPr/>
              </p:nvSpPr>
              <p:spPr>
                <a:xfrm flipH="1" flipV="1" rot="2881800">
                  <a:off x="27817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AutoShape 64"/>
                <p:cNvSpPr/>
                <p:nvPr/>
              </p:nvSpPr>
              <p:spPr>
                <a:xfrm flipH="1" flipV="1" rot="3697200">
                  <a:off x="27169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AutoShape 65"/>
                <p:cNvSpPr/>
                <p:nvPr/>
              </p:nvSpPr>
              <p:spPr>
                <a:xfrm flipH="1" flipV="1" rot="3993000">
                  <a:off x="26730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AutoShape 66"/>
                <p:cNvSpPr/>
                <p:nvPr/>
              </p:nvSpPr>
              <p:spPr>
                <a:xfrm flipH="1" flipV="1" rot="4525200">
                  <a:off x="26190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Rectangle 67"/>
            <p:cNvSpPr/>
            <p:nvPr/>
          </p:nvSpPr>
          <p:spPr>
            <a:xfrm>
              <a:off x="2417760" y="3048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Group 68"/>
          <p:cNvGrpSpPr/>
          <p:nvPr/>
        </p:nvGrpSpPr>
        <p:grpSpPr>
          <a:xfrm>
            <a:off x="3038400" y="5178600"/>
            <a:ext cx="1172160" cy="1175040"/>
            <a:chOff x="3038400" y="5178600"/>
            <a:chExt cx="1172160" cy="1175040"/>
          </a:xfrm>
        </p:grpSpPr>
        <p:sp>
          <p:nvSpPr>
            <p:cNvPr id="1486" name="Oval 69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Group 70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1488" name="Picture 7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Oval 72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ffb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0" name="Picture 7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1" name="Group 74"/>
              <p:cNvGrpSpPr/>
              <p:nvPr/>
            </p:nvGrpSpPr>
            <p:grpSpPr>
              <a:xfrm>
                <a:off x="3422880" y="5652360"/>
                <a:ext cx="768600" cy="701280"/>
                <a:chOff x="3422880" y="5652360"/>
                <a:chExt cx="768600" cy="701280"/>
              </a:xfrm>
            </p:grpSpPr>
            <p:grpSp>
              <p:nvGrpSpPr>
                <p:cNvPr id="1492" name="Group 75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1493" name="AutoShape 76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AutoShape 77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AutoShape 78"/>
                  <p:cNvSpPr/>
                  <p:nvPr/>
                </p:nvSpPr>
                <p:spPr>
                  <a:xfrm flipH="1" flipV="1" rot="2640000">
                    <a:off x="3847680" y="5779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AutoShape 79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80"/>
                <p:cNvGrpSpPr/>
                <p:nvPr/>
              </p:nvGrpSpPr>
              <p:grpSpPr>
                <a:xfrm>
                  <a:off x="3422880" y="5843520"/>
                  <a:ext cx="743400" cy="510120"/>
                  <a:chOff x="3422880" y="5843520"/>
                  <a:chExt cx="743400" cy="510120"/>
                </a:xfrm>
              </p:grpSpPr>
              <p:sp>
                <p:nvSpPr>
                  <p:cNvPr id="1498" name="AutoShape 81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AutoShape 82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AutoShape 83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AutoShape 84"/>
                  <p:cNvSpPr/>
                  <p:nvPr/>
                </p:nvSpPr>
                <p:spPr>
                  <a:xfrm flipH="1" flipV="1" rot="4525200">
                    <a:off x="3648960" y="5911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2" name="Group 85"/>
            <p:cNvGrpSpPr/>
            <p:nvPr/>
          </p:nvGrpSpPr>
          <p:grpSpPr>
            <a:xfrm>
              <a:off x="3533400" y="5685480"/>
              <a:ext cx="677160" cy="617760"/>
              <a:chOff x="3533400" y="5685480"/>
              <a:chExt cx="677160" cy="617760"/>
            </a:xfrm>
          </p:grpSpPr>
          <p:grpSp>
            <p:nvGrpSpPr>
              <p:cNvPr id="1503" name="Group 86"/>
              <p:cNvGrpSpPr/>
              <p:nvPr/>
            </p:nvGrpSpPr>
            <p:grpSpPr>
              <a:xfrm>
                <a:off x="3689640" y="5685480"/>
                <a:ext cx="520920" cy="611280"/>
                <a:chOff x="3689640" y="5685480"/>
                <a:chExt cx="520920" cy="611280"/>
              </a:xfrm>
            </p:grpSpPr>
            <p:sp>
              <p:nvSpPr>
                <p:cNvPr id="1504" name="AutoShape 87"/>
                <p:cNvSpPr/>
                <p:nvPr/>
              </p:nvSpPr>
              <p:spPr>
                <a:xfrm flipH="1" flipV="1" rot="1528800">
                  <a:off x="3979440" y="56869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AutoShape 88"/>
                <p:cNvSpPr/>
                <p:nvPr/>
              </p:nvSpPr>
              <p:spPr>
                <a:xfrm flipH="1" flipV="1" rot="2344200">
                  <a:off x="3940200" y="5761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AutoShape 89"/>
                <p:cNvSpPr/>
                <p:nvPr/>
              </p:nvSpPr>
              <p:spPr>
                <a:xfrm flipH="1" flipV="1" rot="2640000">
                  <a:off x="3907440" y="5798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AutoShape 90"/>
                <p:cNvSpPr/>
                <p:nvPr/>
              </p:nvSpPr>
              <p:spPr>
                <a:xfrm flipH="1" flipV="1" rot="3172200">
                  <a:off x="3866760" y="5839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91"/>
              <p:cNvGrpSpPr/>
              <p:nvPr/>
            </p:nvGrpSpPr>
            <p:grpSpPr>
              <a:xfrm>
                <a:off x="3533400" y="5853240"/>
                <a:ext cx="654840" cy="450000"/>
                <a:chOff x="3533400" y="5853240"/>
                <a:chExt cx="654840" cy="450000"/>
              </a:xfrm>
            </p:grpSpPr>
            <p:sp>
              <p:nvSpPr>
                <p:cNvPr id="1509" name="AutoShape 92"/>
                <p:cNvSpPr/>
                <p:nvPr/>
              </p:nvSpPr>
              <p:spPr>
                <a:xfrm flipH="1" flipV="1" rot="2881800">
                  <a:off x="3894480" y="58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AutoShape 93"/>
                <p:cNvSpPr/>
                <p:nvPr/>
              </p:nvSpPr>
              <p:spPr>
                <a:xfrm flipH="1" flipV="1" rot="3697200">
                  <a:off x="3829680" y="58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AutoShape 94"/>
                <p:cNvSpPr/>
                <p:nvPr/>
              </p:nvSpPr>
              <p:spPr>
                <a:xfrm flipH="1" flipV="1" rot="3993000">
                  <a:off x="3785760" y="589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AutoShape 95"/>
                <p:cNvSpPr/>
                <p:nvPr/>
              </p:nvSpPr>
              <p:spPr>
                <a:xfrm flipH="1" flipV="1" rot="4525200">
                  <a:off x="3731760" y="591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3" name="Rectangle 96"/>
            <p:cNvSpPr/>
            <p:nvPr/>
          </p:nvSpPr>
          <p:spPr>
            <a:xfrm>
              <a:off x="3547800" y="5348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97"/>
          <p:cNvGrpSpPr/>
          <p:nvPr/>
        </p:nvGrpSpPr>
        <p:grpSpPr>
          <a:xfrm>
            <a:off x="5283360" y="3719520"/>
            <a:ext cx="1172160" cy="1175040"/>
            <a:chOff x="5283360" y="3719520"/>
            <a:chExt cx="1172160" cy="1175040"/>
          </a:xfrm>
        </p:grpSpPr>
        <p:sp>
          <p:nvSpPr>
            <p:cNvPr id="1515" name="Oval 98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99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1517" name="Picture 10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8" name="Oval 101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9" name="Picture 10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0" name="Group 103"/>
              <p:cNvGrpSpPr/>
              <p:nvPr/>
            </p:nvGrpSpPr>
            <p:grpSpPr>
              <a:xfrm>
                <a:off x="5667840" y="4193280"/>
                <a:ext cx="768600" cy="701280"/>
                <a:chOff x="5667840" y="4193280"/>
                <a:chExt cx="768600" cy="701280"/>
              </a:xfrm>
            </p:grpSpPr>
            <p:grpSp>
              <p:nvGrpSpPr>
                <p:cNvPr id="1521" name="Group 104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1522" name="AutoShape 105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AutoShape 106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AutoShape 107"/>
                  <p:cNvSpPr/>
                  <p:nvPr/>
                </p:nvSpPr>
                <p:spPr>
                  <a:xfrm flipH="1" flipV="1" rot="2640000">
                    <a:off x="60926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AutoShape 108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6" name="Group 109"/>
                <p:cNvGrpSpPr/>
                <p:nvPr/>
              </p:nvGrpSpPr>
              <p:grpSpPr>
                <a:xfrm>
                  <a:off x="5667840" y="4384440"/>
                  <a:ext cx="743400" cy="510120"/>
                  <a:chOff x="5667840" y="4384440"/>
                  <a:chExt cx="743400" cy="510120"/>
                </a:xfrm>
              </p:grpSpPr>
              <p:sp>
                <p:nvSpPr>
                  <p:cNvPr id="1527" name="AutoShape 110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AutoShape 111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AutoShape 112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AutoShape 113"/>
                  <p:cNvSpPr/>
                  <p:nvPr/>
                </p:nvSpPr>
                <p:spPr>
                  <a:xfrm flipH="1" flipV="1" rot="4525200">
                    <a:off x="58939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1" name="Group 114"/>
            <p:cNvGrpSpPr/>
            <p:nvPr/>
          </p:nvGrpSpPr>
          <p:grpSpPr>
            <a:xfrm>
              <a:off x="5778360" y="4226400"/>
              <a:ext cx="677160" cy="617760"/>
              <a:chOff x="5778360" y="4226400"/>
              <a:chExt cx="677160" cy="617760"/>
            </a:xfrm>
          </p:grpSpPr>
          <p:grpSp>
            <p:nvGrpSpPr>
              <p:cNvPr id="1532" name="Group 115"/>
              <p:cNvGrpSpPr/>
              <p:nvPr/>
            </p:nvGrpSpPr>
            <p:grpSpPr>
              <a:xfrm>
                <a:off x="5934600" y="4226400"/>
                <a:ext cx="520920" cy="611280"/>
                <a:chOff x="5934600" y="4226400"/>
                <a:chExt cx="520920" cy="611280"/>
              </a:xfrm>
            </p:grpSpPr>
            <p:sp>
              <p:nvSpPr>
                <p:cNvPr id="1533" name="AutoShape 116"/>
                <p:cNvSpPr/>
                <p:nvPr/>
              </p:nvSpPr>
              <p:spPr>
                <a:xfrm flipH="1" flipV="1" rot="1528800">
                  <a:off x="62244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AutoShape 117"/>
                <p:cNvSpPr/>
                <p:nvPr/>
              </p:nvSpPr>
              <p:spPr>
                <a:xfrm flipH="1" flipV="1" rot="2344200">
                  <a:off x="61851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AutoShape 118"/>
                <p:cNvSpPr/>
                <p:nvPr/>
              </p:nvSpPr>
              <p:spPr>
                <a:xfrm flipH="1" flipV="1" rot="2640000">
                  <a:off x="61524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119"/>
                <p:cNvSpPr/>
                <p:nvPr/>
              </p:nvSpPr>
              <p:spPr>
                <a:xfrm flipH="1" flipV="1" rot="3172200">
                  <a:off x="61117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Group 120"/>
              <p:cNvGrpSpPr/>
              <p:nvPr/>
            </p:nvGrpSpPr>
            <p:grpSpPr>
              <a:xfrm>
                <a:off x="5778360" y="4394160"/>
                <a:ext cx="654840" cy="450000"/>
                <a:chOff x="5778360" y="4394160"/>
                <a:chExt cx="654840" cy="450000"/>
              </a:xfrm>
            </p:grpSpPr>
            <p:sp>
              <p:nvSpPr>
                <p:cNvPr id="1538" name="AutoShape 121"/>
                <p:cNvSpPr/>
                <p:nvPr/>
              </p:nvSpPr>
              <p:spPr>
                <a:xfrm flipH="1" flipV="1" rot="2881800">
                  <a:off x="61394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122"/>
                <p:cNvSpPr/>
                <p:nvPr/>
              </p:nvSpPr>
              <p:spPr>
                <a:xfrm flipH="1" flipV="1" rot="3697200">
                  <a:off x="60746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123"/>
                <p:cNvSpPr/>
                <p:nvPr/>
              </p:nvSpPr>
              <p:spPr>
                <a:xfrm flipH="1" flipV="1" rot="3993000">
                  <a:off x="60307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AutoShape 124"/>
                <p:cNvSpPr/>
                <p:nvPr/>
              </p:nvSpPr>
              <p:spPr>
                <a:xfrm flipH="1" flipV="1" rot="4525200">
                  <a:off x="59767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2" name="Rectangle 125"/>
            <p:cNvSpPr/>
            <p:nvPr/>
          </p:nvSpPr>
          <p:spPr>
            <a:xfrm>
              <a:off x="5819760" y="38862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Group 126"/>
          <p:cNvGrpSpPr/>
          <p:nvPr/>
        </p:nvGrpSpPr>
        <p:grpSpPr>
          <a:xfrm>
            <a:off x="5276880" y="1557360"/>
            <a:ext cx="1172160" cy="1175040"/>
            <a:chOff x="5276880" y="1557360"/>
            <a:chExt cx="1172160" cy="1175040"/>
          </a:xfrm>
        </p:grpSpPr>
        <p:sp>
          <p:nvSpPr>
            <p:cNvPr id="1544" name="Oval 127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Group 128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1546" name="Picture 129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7" name="Oval 130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61bf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8" name="Picture 131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9" name="Group 132"/>
              <p:cNvGrpSpPr/>
              <p:nvPr/>
            </p:nvGrpSpPr>
            <p:grpSpPr>
              <a:xfrm>
                <a:off x="5661360" y="2031120"/>
                <a:ext cx="768600" cy="701280"/>
                <a:chOff x="5661360" y="2031120"/>
                <a:chExt cx="768600" cy="701280"/>
              </a:xfrm>
            </p:grpSpPr>
            <p:grpSp>
              <p:nvGrpSpPr>
                <p:cNvPr id="1550" name="Group 133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1551" name="AutoShape 134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AutoShape 135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AutoShape 136"/>
                  <p:cNvSpPr/>
                  <p:nvPr/>
                </p:nvSpPr>
                <p:spPr>
                  <a:xfrm flipH="1" flipV="1" rot="2640000">
                    <a:off x="60861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AutoShape 137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38"/>
                <p:cNvGrpSpPr/>
                <p:nvPr/>
              </p:nvGrpSpPr>
              <p:grpSpPr>
                <a:xfrm>
                  <a:off x="5661360" y="2222280"/>
                  <a:ext cx="743400" cy="510120"/>
                  <a:chOff x="5661360" y="2222280"/>
                  <a:chExt cx="743400" cy="510120"/>
                </a:xfrm>
              </p:grpSpPr>
              <p:sp>
                <p:nvSpPr>
                  <p:cNvPr id="1556" name="AutoShape 139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utoShape 140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utoShape 141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AutoShape 142"/>
                  <p:cNvSpPr/>
                  <p:nvPr/>
                </p:nvSpPr>
                <p:spPr>
                  <a:xfrm flipH="1" flipV="1" rot="4525200">
                    <a:off x="58874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0" name="Group 143"/>
            <p:cNvGrpSpPr/>
            <p:nvPr/>
          </p:nvGrpSpPr>
          <p:grpSpPr>
            <a:xfrm>
              <a:off x="5771880" y="2064240"/>
              <a:ext cx="677160" cy="617760"/>
              <a:chOff x="5771880" y="2064240"/>
              <a:chExt cx="677160" cy="617760"/>
            </a:xfrm>
          </p:grpSpPr>
          <p:grpSp>
            <p:nvGrpSpPr>
              <p:cNvPr id="1561" name="Group 144"/>
              <p:cNvGrpSpPr/>
              <p:nvPr/>
            </p:nvGrpSpPr>
            <p:grpSpPr>
              <a:xfrm>
                <a:off x="5928120" y="2064240"/>
                <a:ext cx="520920" cy="611280"/>
                <a:chOff x="5928120" y="2064240"/>
                <a:chExt cx="520920" cy="611280"/>
              </a:xfrm>
            </p:grpSpPr>
            <p:sp>
              <p:nvSpPr>
                <p:cNvPr id="1562" name="AutoShape 145"/>
                <p:cNvSpPr/>
                <p:nvPr/>
              </p:nvSpPr>
              <p:spPr>
                <a:xfrm flipH="1" flipV="1" rot="1528800">
                  <a:off x="62179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AutoShape 146"/>
                <p:cNvSpPr/>
                <p:nvPr/>
              </p:nvSpPr>
              <p:spPr>
                <a:xfrm flipH="1" flipV="1" rot="2344200">
                  <a:off x="61786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AutoShape 147"/>
                <p:cNvSpPr/>
                <p:nvPr/>
              </p:nvSpPr>
              <p:spPr>
                <a:xfrm flipH="1" flipV="1" rot="2640000">
                  <a:off x="61459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AutoShape 148"/>
                <p:cNvSpPr/>
                <p:nvPr/>
              </p:nvSpPr>
              <p:spPr>
                <a:xfrm flipH="1" flipV="1" rot="3172200">
                  <a:off x="61052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6" name="Group 149"/>
              <p:cNvGrpSpPr/>
              <p:nvPr/>
            </p:nvGrpSpPr>
            <p:grpSpPr>
              <a:xfrm>
                <a:off x="5771880" y="2232000"/>
                <a:ext cx="654840" cy="450000"/>
                <a:chOff x="5771880" y="2232000"/>
                <a:chExt cx="654840" cy="450000"/>
              </a:xfrm>
            </p:grpSpPr>
            <p:sp>
              <p:nvSpPr>
                <p:cNvPr id="1567" name="AutoShape 150"/>
                <p:cNvSpPr/>
                <p:nvPr/>
              </p:nvSpPr>
              <p:spPr>
                <a:xfrm flipH="1" flipV="1" rot="2881800">
                  <a:off x="61329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AutoShape 151"/>
                <p:cNvSpPr/>
                <p:nvPr/>
              </p:nvSpPr>
              <p:spPr>
                <a:xfrm flipH="1" flipV="1" rot="3697200">
                  <a:off x="60681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AutoShape 152"/>
                <p:cNvSpPr/>
                <p:nvPr/>
              </p:nvSpPr>
              <p:spPr>
                <a:xfrm flipH="1" flipV="1" rot="3993000">
                  <a:off x="60242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AutoShape 153"/>
                <p:cNvSpPr/>
                <p:nvPr/>
              </p:nvSpPr>
              <p:spPr>
                <a:xfrm flipH="1" flipV="1" rot="4525200">
                  <a:off x="59702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1" name="Rectangle 154"/>
            <p:cNvSpPr/>
            <p:nvPr/>
          </p:nvSpPr>
          <p:spPr>
            <a:xfrm>
              <a:off x="5780160" y="1676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155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1573" name="Picture 156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4" name="Oval 157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5" name="Group 158"/>
            <p:cNvGrpSpPr/>
            <p:nvPr/>
          </p:nvGrpSpPr>
          <p:grpSpPr>
            <a:xfrm>
              <a:off x="4604760" y="3446280"/>
              <a:ext cx="225000" cy="500040"/>
              <a:chOff x="4604760" y="3446280"/>
              <a:chExt cx="225000" cy="500040"/>
            </a:xfrm>
          </p:grpSpPr>
          <p:grpSp>
            <p:nvGrpSpPr>
              <p:cNvPr id="1576" name="Group 159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1577" name="AutoShape 160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AutoShape 161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AutoShape 162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AutoShape 163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64"/>
              <p:cNvGrpSpPr/>
              <p:nvPr/>
            </p:nvGrpSpPr>
            <p:grpSpPr>
              <a:xfrm>
                <a:off x="4604760" y="3446280"/>
                <a:ext cx="169200" cy="422640"/>
                <a:chOff x="4604760" y="3446280"/>
                <a:chExt cx="169200" cy="422640"/>
              </a:xfrm>
            </p:grpSpPr>
            <p:sp>
              <p:nvSpPr>
                <p:cNvPr id="1582" name="AutoShape 165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AutoShape 166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AutoShape 167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AutoShape 168"/>
                <p:cNvSpPr/>
                <p:nvPr/>
              </p:nvSpPr>
              <p:spPr>
                <a:xfrm flipH="1" flipV="1" rot="11938200">
                  <a:off x="465156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6" name="Arc 169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7" name="Picture 170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8" name="AutoShape 171"/>
          <p:cNvSpPr/>
          <p:nvPr/>
        </p:nvSpPr>
        <p:spPr>
          <a:xfrm>
            <a:off x="6902280" y="1828800"/>
            <a:ext cx="1857600" cy="685800"/>
          </a:xfrm>
          <a:noFill/>
          <a:ln w="9360">
            <a:solidFill>
              <a:srgbClr val="61bf6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172"/>
          <p:cNvSpPr/>
          <p:nvPr/>
        </p:nvSpPr>
        <p:spPr>
          <a:xfrm>
            <a:off x="6700680" y="3809880"/>
            <a:ext cx="1909800" cy="39240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173"/>
          <p:cNvSpPr/>
          <p:nvPr/>
        </p:nvSpPr>
        <p:spPr>
          <a:xfrm>
            <a:off x="990720" y="1620720"/>
            <a:ext cx="1708200" cy="741600"/>
          </a:xfrm>
          <a:noFill/>
          <a:ln w="9360">
            <a:solidFill>
              <a:srgbClr val="ff7f1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174"/>
          <p:cNvSpPr/>
          <p:nvPr/>
        </p:nvSpPr>
        <p:spPr>
          <a:xfrm>
            <a:off x="406440" y="3933720"/>
            <a:ext cx="1727280" cy="638280"/>
          </a:xfrm>
          <a:noFill/>
          <a:ln w="9360">
            <a:solidFill>
              <a:srgbClr val="469ec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175"/>
          <p:cNvSpPr/>
          <p:nvPr/>
        </p:nvSpPr>
        <p:spPr>
          <a:xfrm>
            <a:off x="1219320" y="5364000"/>
            <a:ext cx="1585800" cy="854280"/>
          </a:xfrm>
          <a:noFill/>
          <a:ln w="9360">
            <a:solidFill>
              <a:srgbClr val="ffbb3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77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295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871560" y="21816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오각형 3"/>
          <p:cNvSpPr/>
          <p:nvPr/>
        </p:nvSpPr>
        <p:spPr>
          <a:xfrm>
            <a:off x="642960" y="121608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5" y="0"/>
                </a:lnTo>
                <a:lnTo>
                  <a:pt x="21600" y="10800"/>
                </a:lnTo>
                <a:lnTo>
                  <a:pt x="20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오각형 4"/>
          <p:cNvSpPr/>
          <p:nvPr/>
        </p:nvSpPr>
        <p:spPr>
          <a:xfrm>
            <a:off x="642960" y="384660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5" y="0"/>
                </a:lnTo>
                <a:lnTo>
                  <a:pt x="21600" y="10800"/>
                </a:lnTo>
                <a:lnTo>
                  <a:pt x="20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직사각형 8"/>
          <p:cNvSpPr/>
          <p:nvPr/>
        </p:nvSpPr>
        <p:spPr>
          <a:xfrm>
            <a:off x="963720" y="2370240"/>
            <a:ext cx="764676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직사각형 9"/>
          <p:cNvSpPr/>
          <p:nvPr/>
        </p:nvSpPr>
        <p:spPr>
          <a:xfrm>
            <a:off x="1000080" y="5078520"/>
            <a:ext cx="761040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16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4"/>
          <p:cNvSpPr/>
          <p:nvPr/>
        </p:nvSpPr>
        <p:spPr>
          <a:xfrm>
            <a:off x="2286000" y="18939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1bf63"/>
              </a:gs>
              <a:gs pos="50000">
                <a:srgbClr val="cae9ca"/>
              </a:gs>
              <a:gs pos="100000">
                <a:srgbClr val="61bf63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AutoShape 5"/>
          <p:cNvGrpSpPr/>
          <p:nvPr/>
        </p:nvGrpSpPr>
        <p:grpSpPr>
          <a:xfrm>
            <a:off x="1768320" y="1731960"/>
            <a:ext cx="865440" cy="888840"/>
            <a:chOff x="1768320" y="1731960"/>
            <a:chExt cx="865440" cy="888840"/>
          </a:xfrm>
        </p:grpSpPr>
        <p:pic>
          <p:nvPicPr>
            <p:cNvPr id="1036" name="AutoShape 5" descr=""/>
            <p:cNvPicPr/>
            <p:nvPr/>
          </p:nvPicPr>
          <p:blipFill>
            <a:blip r:embed="rId1"/>
            <a:stretch/>
          </p:blipFill>
          <p:spPr>
            <a:xfrm>
              <a:off x="1768320" y="1731960"/>
              <a:ext cx="86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992240" y="196380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9"/>
          <p:cNvSpPr/>
          <p:nvPr/>
        </p:nvSpPr>
        <p:spPr>
          <a:xfrm>
            <a:off x="2357280" y="282240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b33"/>
              </a:gs>
              <a:gs pos="50000">
                <a:srgbClr val="fff1d4"/>
              </a:gs>
              <a:gs pos="100000">
                <a:srgbClr val="ffbb33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AutoShape 10"/>
          <p:cNvGrpSpPr/>
          <p:nvPr/>
        </p:nvGrpSpPr>
        <p:grpSpPr>
          <a:xfrm>
            <a:off x="1768320" y="2590920"/>
            <a:ext cx="865440" cy="890640"/>
            <a:chOff x="1768320" y="2590920"/>
            <a:chExt cx="865440" cy="890640"/>
          </a:xfrm>
        </p:grpSpPr>
        <p:pic>
          <p:nvPicPr>
            <p:cNvPr id="1040" name="AutoShape 10" descr=""/>
            <p:cNvPicPr/>
            <p:nvPr/>
          </p:nvPicPr>
          <p:blipFill>
            <a:blip r:embed="rId2"/>
            <a:stretch/>
          </p:blipFill>
          <p:spPr>
            <a:xfrm>
              <a:off x="1768320" y="259092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1994040" y="282096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Text Box 11"/>
          <p:cNvSpPr/>
          <p:nvPr/>
        </p:nvSpPr>
        <p:spPr>
          <a:xfrm>
            <a:off x="2548080" y="3679920"/>
            <a:ext cx="414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Text Box 12"/>
          <p:cNvGrpSpPr/>
          <p:nvPr/>
        </p:nvGrpSpPr>
        <p:grpSpPr>
          <a:xfrm>
            <a:off x="1925640" y="2822400"/>
            <a:ext cx="491760" cy="463680"/>
            <a:chOff x="1925640" y="2822400"/>
            <a:chExt cx="491760" cy="463680"/>
          </a:xfrm>
        </p:grpSpPr>
        <p:pic>
          <p:nvPicPr>
            <p:cNvPr id="1044" name="Text Box 12" descr=""/>
            <p:cNvPicPr/>
            <p:nvPr/>
          </p:nvPicPr>
          <p:blipFill>
            <a:blip r:embed="rId3"/>
            <a:stretch/>
          </p:blipFill>
          <p:spPr>
            <a:xfrm>
              <a:off x="1925640" y="2822400"/>
              <a:ext cx="491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1983240" y="28224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AutoShape 14"/>
          <p:cNvSpPr/>
          <p:nvPr/>
        </p:nvSpPr>
        <p:spPr>
          <a:xfrm>
            <a:off x="2357280" y="367992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AutoShape 15"/>
          <p:cNvGrpSpPr/>
          <p:nvPr/>
        </p:nvGrpSpPr>
        <p:grpSpPr>
          <a:xfrm>
            <a:off x="1768320" y="3517920"/>
            <a:ext cx="865440" cy="888840"/>
            <a:chOff x="1768320" y="3517920"/>
            <a:chExt cx="865440" cy="888840"/>
          </a:xfrm>
        </p:grpSpPr>
        <p:pic>
          <p:nvPicPr>
            <p:cNvPr id="1048" name="AutoShape 15" descr=""/>
            <p:cNvPicPr/>
            <p:nvPr/>
          </p:nvPicPr>
          <p:blipFill>
            <a:blip r:embed="rId4"/>
            <a:stretch/>
          </p:blipFill>
          <p:spPr>
            <a:xfrm>
              <a:off x="1768320" y="3517920"/>
              <a:ext cx="86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>
              <a:off x="1994040" y="374976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Text Box 16"/>
          <p:cNvSpPr/>
          <p:nvPr/>
        </p:nvSpPr>
        <p:spPr>
          <a:xfrm>
            <a:off x="2548080" y="4616280"/>
            <a:ext cx="4147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Text Box 17"/>
          <p:cNvGrpSpPr/>
          <p:nvPr/>
        </p:nvGrpSpPr>
        <p:grpSpPr>
          <a:xfrm>
            <a:off x="1925640" y="3749760"/>
            <a:ext cx="491760" cy="460800"/>
            <a:chOff x="1925640" y="3749760"/>
            <a:chExt cx="491760" cy="460800"/>
          </a:xfrm>
        </p:grpSpPr>
        <p:pic>
          <p:nvPicPr>
            <p:cNvPr id="1052" name="Text Box 17" descr=""/>
            <p:cNvPicPr/>
            <p:nvPr/>
          </p:nvPicPr>
          <p:blipFill>
            <a:blip r:embed="rId5"/>
            <a:stretch/>
          </p:blipFill>
          <p:spPr>
            <a:xfrm>
              <a:off x="1925640" y="3749760"/>
              <a:ext cx="49176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1939320" y="375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4" name="Picture 21" descr="vd"/>
          <p:cNvPicPr/>
          <p:nvPr/>
        </p:nvPicPr>
        <p:blipFill>
          <a:blip r:embed="rId6"/>
          <a:stretch/>
        </p:blipFill>
        <p:spPr>
          <a:xfrm>
            <a:off x="1066680" y="30492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14"/>
          <p:cNvSpPr/>
          <p:nvPr/>
        </p:nvSpPr>
        <p:spPr>
          <a:xfrm>
            <a:off x="2286000" y="460836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9ec6"/>
              </a:gs>
              <a:gs pos="50000">
                <a:srgbClr val="89c1db"/>
              </a:gs>
              <a:gs pos="100000">
                <a:srgbClr val="469ec6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AutoShape 15"/>
          <p:cNvGrpSpPr/>
          <p:nvPr/>
        </p:nvGrpSpPr>
        <p:grpSpPr>
          <a:xfrm>
            <a:off x="1768320" y="4449600"/>
            <a:ext cx="865440" cy="890640"/>
            <a:chOff x="1768320" y="4449600"/>
            <a:chExt cx="865440" cy="890640"/>
          </a:xfrm>
        </p:grpSpPr>
        <p:pic>
          <p:nvPicPr>
            <p:cNvPr id="1057" name="AutoShape 15" descr=""/>
            <p:cNvPicPr/>
            <p:nvPr/>
          </p:nvPicPr>
          <p:blipFill>
            <a:blip r:embed="rId7"/>
            <a:stretch/>
          </p:blipFill>
          <p:spPr>
            <a:xfrm>
              <a:off x="1768320" y="444960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992240" y="4678200"/>
              <a:ext cx="414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Text Box 17"/>
          <p:cNvGrpSpPr/>
          <p:nvPr/>
        </p:nvGrpSpPr>
        <p:grpSpPr>
          <a:xfrm>
            <a:off x="1925640" y="4681440"/>
            <a:ext cx="493560" cy="459720"/>
            <a:chOff x="1925640" y="4681440"/>
            <a:chExt cx="493560" cy="459720"/>
          </a:xfrm>
        </p:grpSpPr>
        <p:pic>
          <p:nvPicPr>
            <p:cNvPr id="1060" name="Text Box 17" descr=""/>
            <p:cNvPicPr/>
            <p:nvPr/>
          </p:nvPicPr>
          <p:blipFill>
            <a:blip r:embed="rId8"/>
            <a:stretch/>
          </p:blipFill>
          <p:spPr>
            <a:xfrm>
              <a:off x="1925640" y="4682520"/>
              <a:ext cx="4935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929600" y="468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AutoShape 14"/>
          <p:cNvSpPr/>
          <p:nvPr/>
        </p:nvSpPr>
        <p:spPr>
          <a:xfrm>
            <a:off x="2357280" y="55371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AutoShape 15"/>
          <p:cNvGrpSpPr/>
          <p:nvPr/>
        </p:nvGrpSpPr>
        <p:grpSpPr>
          <a:xfrm>
            <a:off x="1768320" y="5376960"/>
            <a:ext cx="865440" cy="890640"/>
            <a:chOff x="1768320" y="5376960"/>
            <a:chExt cx="865440" cy="890640"/>
          </a:xfrm>
        </p:grpSpPr>
        <p:pic>
          <p:nvPicPr>
            <p:cNvPr id="1064" name="AutoShape 15" descr=""/>
            <p:cNvPicPr/>
            <p:nvPr/>
          </p:nvPicPr>
          <p:blipFill>
            <a:blip r:embed="rId9"/>
            <a:stretch/>
          </p:blipFill>
          <p:spPr>
            <a:xfrm>
              <a:off x="1768320" y="537696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1994040" y="5608800"/>
              <a:ext cx="414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직사각형 27"/>
          <p:cNvSpPr/>
          <p:nvPr/>
        </p:nvSpPr>
        <p:spPr>
          <a:xfrm>
            <a:off x="1905480" y="5608800"/>
            <a:ext cx="4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0" y="5132520"/>
            <a:ext cx="419112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굴림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A8C-421D-4FB4-B232-D41ACF20627F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7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070" name="AutoShape 8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AutoShape 9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10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11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AutoShape 12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13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14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AutoShape 15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16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079" name="AutoShape 17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AutoShape 18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AutoShape 19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20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AutoShape 21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AutoShape 22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AutoShape 23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24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25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088" name="Rectangle 26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7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8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9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0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31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32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33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096" name="AutoShape 34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35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36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37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38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39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02" name="AutoShape 40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41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42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43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44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Rectangle 45"/>
          <p:cNvSpPr/>
          <p:nvPr/>
        </p:nvSpPr>
        <p:spPr>
          <a:xfrm>
            <a:off x="4295520" y="3129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Ⅰ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B38-A526-4E91-A8FB-D27F85A1E25E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59"/>
          <p:cNvSpPr/>
          <p:nvPr/>
        </p:nvSpPr>
        <p:spPr>
          <a:xfrm>
            <a:off x="379440" y="1143000"/>
            <a:ext cx="8459640" cy="205740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오각형 54"/>
          <p:cNvGrpSpPr/>
          <p:nvPr/>
        </p:nvGrpSpPr>
        <p:grpSpPr>
          <a:xfrm>
            <a:off x="554040" y="5608800"/>
            <a:ext cx="8182080" cy="993600"/>
            <a:chOff x="554040" y="5608800"/>
            <a:chExt cx="8182080" cy="993600"/>
          </a:xfrm>
        </p:grpSpPr>
        <p:pic>
          <p:nvPicPr>
            <p:cNvPr id="1112" name="오각형 54" descr=""/>
            <p:cNvPicPr/>
            <p:nvPr/>
          </p:nvPicPr>
          <p:blipFill>
            <a:blip r:embed="rId1"/>
            <a:stretch/>
          </p:blipFill>
          <p:spPr>
            <a:xfrm>
              <a:off x="554040" y="5608800"/>
              <a:ext cx="81820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609480" y="5638680"/>
              <a:ext cx="78580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그룹 91"/>
          <p:cNvGrpSpPr/>
          <p:nvPr/>
        </p:nvGrpSpPr>
        <p:grpSpPr>
          <a:xfrm>
            <a:off x="3428640" y="3643200"/>
            <a:ext cx="2662200" cy="2571840"/>
            <a:chOff x="3428640" y="3643200"/>
            <a:chExt cx="2662200" cy="2571840"/>
          </a:xfrm>
        </p:grpSpPr>
        <p:sp>
          <p:nvSpPr>
            <p:cNvPr id="1116" name="이등변 삼각형 87"/>
            <p:cNvSpPr/>
            <p:nvPr/>
          </p:nvSpPr>
          <p:spPr>
            <a:xfrm rot="5400000">
              <a:off x="4562280" y="4532400"/>
              <a:ext cx="2324160" cy="732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사다리꼴 90"/>
            <p:cNvSpPr/>
            <p:nvPr/>
          </p:nvSpPr>
          <p:spPr>
            <a:xfrm rot="5400000">
              <a:off x="3106440" y="3965040"/>
              <a:ext cx="2571840" cy="1927800"/>
            </a:xfrm>
            <a:custGeom>
              <a:avLst/>
              <a:gdLst/>
              <a:ahLst/>
              <a:rect l="l" t="t" r="r" b="b"/>
              <a:pathLst>
                <a:path w="2214578" h="1928995">
                  <a:moveTo>
                    <a:pt x="0" y="1928995"/>
                  </a:moveTo>
                  <a:lnTo>
                    <a:pt x="482249" y="0"/>
                  </a:lnTo>
                  <a:lnTo>
                    <a:pt x="1732329" y="0"/>
                  </a:lnTo>
                  <a:lnTo>
                    <a:pt x="2214578" y="1928995"/>
                  </a:lnTo>
                  <a:lnTo>
                    <a:pt x="0" y="1928995"/>
                  </a:lnTo>
                  <a:close/>
                </a:path>
              </a:pathLst>
            </a:cu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8" name="Picture 2" descr="C:\Documents and Settings\황성연\Local Settings\Temporary Internet Files\Content.IE5\05LH76FW\MCj04325170000[1].wmf"/>
          <p:cNvPicPr/>
          <p:nvPr/>
        </p:nvPicPr>
        <p:blipFill>
          <a:blip r:embed="rId1"/>
          <a:stretch/>
        </p:blipFill>
        <p:spPr>
          <a:xfrm>
            <a:off x="714240" y="2536920"/>
            <a:ext cx="905040" cy="723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7" descr="C:\Documents and Settings\황성연\Local Settings\Temporary Internet Files\Content.IE5\DBAXCC9H\MCj04316210000[1].png"/>
          <p:cNvPicPr/>
          <p:nvPr/>
        </p:nvPicPr>
        <p:blipFill>
          <a:blip r:embed="rId2"/>
          <a:stretch/>
        </p:blipFill>
        <p:spPr>
          <a:xfrm>
            <a:off x="4035600" y="3408480"/>
            <a:ext cx="664920" cy="663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0" descr="C:\Documents and Settings\황성연\Local Settings\Temporary Internet Files\Content.IE5\IVOAFD0C\MCj04315920000[1].png"/>
          <p:cNvPicPr/>
          <p:nvPr/>
        </p:nvPicPr>
        <p:blipFill>
          <a:blip r:embed="rId3"/>
          <a:stretch/>
        </p:blipFill>
        <p:spPr>
          <a:xfrm>
            <a:off x="4008600" y="4086360"/>
            <a:ext cx="636480" cy="4856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4" descr="C:\Documents and Settings\황성연\Local Settings\Temporary Internet Files\Content.IE5\SLOU1ECQ\MCj03569570000[1].wmf"/>
          <p:cNvPicPr/>
          <p:nvPr/>
        </p:nvPicPr>
        <p:blipFill>
          <a:blip r:embed="rId4"/>
          <a:stretch/>
        </p:blipFill>
        <p:spPr>
          <a:xfrm>
            <a:off x="3929040" y="5357880"/>
            <a:ext cx="642960" cy="3506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66" descr="C:\Documents and Settings\황성연\Local Settings\Temporary Internet Files\Content.IE5\OH89GNFQ\MCj04316070000[1].png"/>
          <p:cNvPicPr/>
          <p:nvPr/>
        </p:nvPicPr>
        <p:blipFill>
          <a:blip r:embed="rId5"/>
          <a:stretch/>
        </p:blipFill>
        <p:spPr>
          <a:xfrm>
            <a:off x="4000680" y="4572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123" name="직사각형 75"/>
          <p:cNvSpPr/>
          <p:nvPr/>
        </p:nvSpPr>
        <p:spPr>
          <a:xfrm>
            <a:off x="1857240" y="2647800"/>
            <a:ext cx="6905880" cy="43992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직사각형 76"/>
          <p:cNvSpPr/>
          <p:nvPr/>
        </p:nvSpPr>
        <p:spPr>
          <a:xfrm>
            <a:off x="642960" y="34783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직사각형 77"/>
          <p:cNvSpPr/>
          <p:nvPr/>
        </p:nvSpPr>
        <p:spPr>
          <a:xfrm>
            <a:off x="642960" y="407196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직사각형 78"/>
          <p:cNvSpPr/>
          <p:nvPr/>
        </p:nvSpPr>
        <p:spPr>
          <a:xfrm>
            <a:off x="642960" y="46688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직사각형 79"/>
          <p:cNvSpPr/>
          <p:nvPr/>
        </p:nvSpPr>
        <p:spPr>
          <a:xfrm>
            <a:off x="642960" y="52736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직사각형 82"/>
          <p:cNvSpPr/>
          <p:nvPr/>
        </p:nvSpPr>
        <p:spPr>
          <a:xfrm>
            <a:off x="635040" y="58831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9"/>
          <p:cNvSpPr/>
          <p:nvPr/>
        </p:nvSpPr>
        <p:spPr>
          <a:xfrm>
            <a:off x="436680" y="1087560"/>
            <a:ext cx="8373960" cy="108108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아래쪽 화살표 84"/>
          <p:cNvSpPr/>
          <p:nvPr/>
        </p:nvSpPr>
        <p:spPr>
          <a:xfrm>
            <a:off x="7215120" y="34290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a7adb6"/>
              </a:gs>
              <a:gs pos="100000">
                <a:srgbClr val="dbe3ef"/>
              </a:gs>
            </a:gsLst>
            <a:lin ang="16200000"/>
          </a:gradFill>
          <a:ln w="9360">
            <a:solidFill>
              <a:srgbClr val="dfe5e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983B-CE37-41BD-AF28-D8365F1A4D8B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34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43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52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160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66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Rectangle 42"/>
          <p:cNvSpPr/>
          <p:nvPr/>
        </p:nvSpPr>
        <p:spPr>
          <a:xfrm>
            <a:off x="2141640" y="31431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Ⅱ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871560" y="261720"/>
            <a:ext cx="5834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3"/>
          <p:cNvSpPr/>
          <p:nvPr/>
        </p:nvSpPr>
        <p:spPr>
          <a:xfrm>
            <a:off x="876240" y="1295280"/>
            <a:ext cx="7391520" cy="990720"/>
          </a:xfrm>
          <a:prstGeom prst="bevel">
            <a:avLst>
              <a:gd name="adj" fmla="val 5426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29579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4"/>
          <p:cNvSpPr/>
          <p:nvPr/>
        </p:nvSpPr>
        <p:spPr>
          <a:xfrm>
            <a:off x="871560" y="3916440"/>
            <a:ext cx="7400880" cy="884160"/>
          </a:xfrm>
          <a:prstGeom prst="bevel">
            <a:avLst>
              <a:gd name="adj" fmla="val 2944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직사각형 7"/>
          <p:cNvSpPr/>
          <p:nvPr/>
        </p:nvSpPr>
        <p:spPr>
          <a:xfrm>
            <a:off x="914400" y="491004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952-ADDE-44B2-891F-8E9C7C1C208D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79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88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97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05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11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42"/>
          <p:cNvSpPr/>
          <p:nvPr/>
        </p:nvSpPr>
        <p:spPr>
          <a:xfrm>
            <a:off x="2141640" y="31240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AutoShape 170"/>
          <p:cNvSpPr/>
          <p:nvPr/>
        </p:nvSpPr>
        <p:spPr>
          <a:xfrm>
            <a:off x="422280" y="2805120"/>
            <a:ext cx="5905440" cy="3595680"/>
          </a:xfrm>
          <a:prstGeom prst="roundRect">
            <a:avLst>
              <a:gd name="adj" fmla="val 6306"/>
            </a:avLst>
          </a:prstGeom>
          <a:solidFill>
            <a:srgbClr val="eaeaea">
              <a:alpha val="5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08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156"/>
          <p:cNvSpPr/>
          <p:nvPr/>
        </p:nvSpPr>
        <p:spPr>
          <a:xfrm>
            <a:off x="6496200" y="2887560"/>
            <a:ext cx="2190600" cy="3394080"/>
          </a:xfrm>
          <a:prstGeom prst="rect">
            <a:avLst/>
          </a:prstGeom>
          <a:gradFill rotWithShape="0">
            <a:gsLst>
              <a:gs pos="0">
                <a:srgbClr val="ebf3ff"/>
              </a:gs>
              <a:gs pos="100000">
                <a:srgbClr val="f9fbff"/>
              </a:gs>
            </a:gsLst>
            <a:lin ang="16200000"/>
          </a:gradFill>
          <a:ln w="9360">
            <a:solidFill>
              <a:srgbClr val="dfe5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57"/>
          <p:cNvSpPr/>
          <p:nvPr/>
        </p:nvSpPr>
        <p:spPr>
          <a:xfrm>
            <a:off x="6400800" y="133344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국내 전문방송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(PP) </a:t>
            </a: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개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158"/>
          <p:cNvSpPr/>
          <p:nvPr/>
        </p:nvSpPr>
        <p:spPr>
          <a:xfrm>
            <a:off x="5837400" y="2928960"/>
            <a:ext cx="757080" cy="744480"/>
          </a:xfrm>
          <a:prstGeom prst="rightArrow">
            <a:avLst>
              <a:gd name="adj1" fmla="val 49306"/>
              <a:gd name="adj2" fmla="val 43379"/>
            </a:avLst>
          </a:prstGeom>
          <a:gradFill rotWithShape="0">
            <a:gsLst>
              <a:gs pos="0">
                <a:srgbClr val="cfdaeb">
                  <a:alpha val="0"/>
                </a:srgbClr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990720" y="311040"/>
            <a:ext cx="4495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P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 현황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력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8"/>
          <p:cNvSpPr/>
          <p:nvPr/>
        </p:nvSpPr>
        <p:spPr>
          <a:xfrm>
            <a:off x="533520" y="1285920"/>
            <a:ext cx="8196120" cy="50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10173 -1.11111E-006 E">
                                      <p:cBhvr>
                                        <p:cTn id="17" dur="500" fill="hold"/>
                                        <p:tgtEl>
                                          <p:spTgt spid="1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27Z</dcterms:created>
  <dc:creator>www.themegallery.com</dc:creator>
  <dc:description/>
  <dc:language>en-US</dc:language>
  <cp:lastModifiedBy>王玉清</cp:lastModifiedBy>
  <dcterms:modified xsi:type="dcterms:W3CDTF">2016-02-25T02:33:17Z</dcterms:modified>
  <cp:revision>62</cp:revision>
  <dc:subject/>
  <dc:title>ThemeGallery PowerTemplate</dc:title>
</cp:coreProperties>
</file>