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B76-1DAE-4FD0-86AC-BB5FB54E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BD2-443D-4B91-A005-55BD7F45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284-6C54-4CFC-ACD1-DD7D33D2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D3F-D4C6-4119-A051-DCDED1C3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1D6-ECE1-4A9C-9F59-355756C6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C48-D57A-4F59-BC8C-2D1BB707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5E7-A5C0-4007-9BDF-7CBC00E8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820-6914-4761-8A93-CBE7A15D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4B9-D373-48DC-B10D-98DE862F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9B8-5A5B-4801-92D9-57B69539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72C-1341-41F4-98DB-8F890A21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C92-F0E0-4EB6-851E-EC6230D6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57C0-23F7-4949-B258-E7B8054EB9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  <a:ea typeface="宋体"/>
              </a:rPr>
              <a:t>业绩节节高商务</a:t>
            </a:r>
            <a:r>
              <a:rPr b="1" lang="en-US" sz="4000" spc="-1" strike="noStrike">
                <a:solidFill>
                  <a:srgbClr val="006699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6699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73080" y="981000"/>
            <a:ext cx="3851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2005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477360"/>
            <a:ext cx="3382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onte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987200"/>
            <a:ext cx="5976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Lorem ipsum dolor sit amet, consectet adipiscing elit, sed diam nonummy nibh euismod tincidunt ut laoreet dolore magna aliquam erat volutp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Ut wisi enim ad minim veniam, quis nostrud exerci tation ullamcorper suscipit lobortis nisl ut aliquip ex ea commodo consequ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250920" y="5300640"/>
            <a:ext cx="82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Lorem ipsum dolor sit amet, consectet adipiscing elit, sed diam nonummy nibh euismod tincidunt ut laoreet dolore magna aliquam erat volutp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6:19:00Z</dcterms:created>
  <dc:creator>ppt宝藏</dc:creator>
  <dc:description/>
  <dc:language>en-US</dc:language>
  <cp:lastModifiedBy>a</cp:lastModifiedBy>
  <dcterms:modified xsi:type="dcterms:W3CDTF">2015-07-25T07:02:20Z</dcterms:modified>
  <cp:revision>14</cp:revision>
  <dc:subject/>
  <dc:title>www.pptbz.com</dc:title>
</cp:coreProperties>
</file>