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0CC-F9D9-4A22-A696-B8C5E71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8EB-333C-477C-951F-273EBA4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856-6195-4B53-878A-83616C8D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E0F-F457-4675-A868-8F08C09A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7D03-8DA8-4440-90C1-40C5015A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BCD7-0B52-415D-9FF0-F9BDF5F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A6A9-C938-48B8-BEF7-D3C890BD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A4DD-1857-4F59-8538-A64BDC45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472-EF3F-4385-9CD8-CEA2FDCC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876F-B99D-48A1-A84D-431EFD1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580-8E6D-4A3F-A249-0D055EF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D80-C3C4-4E5E-B9A9-4D159AB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1A2-80A1-49D1-A657-1A09568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EB5-BB82-48A6-AE09-6BC5A81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1EC1-11FA-4C2A-86AE-81FE392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77B-4C2B-4C2E-955F-E96F8A8D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C726-8943-4EBA-B775-C5CEDD41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525-AF3F-4599-B9AD-477B19B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585-AB0A-4DD2-ACBA-023C1C3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E59-3E34-4D9F-8524-917F7CA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C94-D6E6-48D7-9869-92A3F45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192-BB2B-440F-A1F7-9F644517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BE6-5CDD-4674-8BD8-24A83B7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465-A034-4D97-968F-D63AB17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2180-B444-49ED-A7F1-1327CD2E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109-6298-4BC7-B1BD-E22F3399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tor\桌面\图片7.png"/>
          <p:cNvPicPr/>
          <p:nvPr/>
        </p:nvPicPr>
        <p:blipFill>
          <a:blip r:embed="rId1"/>
          <a:stretch/>
        </p:blipFill>
        <p:spPr>
          <a:xfrm>
            <a:off x="1639800" y="2343240"/>
            <a:ext cx="5864400" cy="21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桌面\图片7.png"/>
          <p:cNvPicPr/>
          <p:nvPr/>
        </p:nvPicPr>
        <p:blipFill>
          <a:blip r:embed="rId2"/>
          <a:stretch/>
        </p:blipFill>
        <p:spPr>
          <a:xfrm>
            <a:off x="1639800" y="2349360"/>
            <a:ext cx="5864400" cy="2170080"/>
          </a:xfrm>
          <a:prstGeom prst="rect">
            <a:avLst/>
          </a:prstGeom>
          <a:ln w="0">
            <a:noFill/>
          </a:ln>
        </p:spPr>
      </p:pic>
      <p:sp>
        <p:nvSpPr>
          <p:cNvPr id="84" name="矩形 9"/>
          <p:cNvSpPr/>
          <p:nvPr/>
        </p:nvSpPr>
        <p:spPr>
          <a:xfrm rot="21420600">
            <a:off x="-517680" y="5191200"/>
            <a:ext cx="10761840" cy="2152440"/>
          </a:xfrm>
          <a:prstGeom prst="rect">
            <a:avLst/>
          </a:prstGeom>
          <a:solidFill>
            <a:srgbClr val="ddfbff"/>
          </a:solidFill>
          <a:ln w="38160">
            <a:solidFill>
              <a:srgbClr val="dd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 rot="151800">
            <a:off x="-676080" y="3997080"/>
            <a:ext cx="10761840" cy="2152440"/>
          </a:xfrm>
          <a:prstGeom prst="rect">
            <a:avLst/>
          </a:prstGeom>
          <a:solidFill>
            <a:srgbClr val="e6e6e6"/>
          </a:solidFill>
          <a:ln w="381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 rot="151800">
            <a:off x="-703080" y="2565000"/>
            <a:ext cx="10760400" cy="2152800"/>
          </a:xfrm>
          <a:prstGeom prst="rect">
            <a:avLst/>
          </a:prstGeom>
          <a:solidFill>
            <a:srgbClr val="d1d1f0"/>
          </a:solidFill>
          <a:ln w="381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 rot="21352200">
            <a:off x="-612360" y="1486080"/>
            <a:ext cx="10760040" cy="2060280"/>
          </a:xfrm>
          <a:prstGeom prst="rect">
            <a:avLst/>
          </a:prstGeom>
          <a:solidFill>
            <a:srgbClr val="daedef"/>
          </a:solidFill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667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6720" y="40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教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3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55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5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5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5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5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6252840" y="54936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c009c"/>
                </a:solidFill>
                <a:latin typeface="微软雅黑"/>
                <a:ea typeface="微软雅黑"/>
              </a:rPr>
              <a:t>英 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653160" y="2117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9c"/>
                </a:solidFill>
                <a:latin typeface="微软雅黑"/>
                <a:ea typeface="微软雅黑"/>
              </a:rPr>
              <a:t>牛津上海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288840" y="306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09c"/>
                </a:solidFill>
                <a:latin typeface="微软雅黑"/>
                <a:ea typeface="微软雅黑"/>
              </a:rPr>
              <a:t>六年级第二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300280" y="3924360"/>
            <a:ext cx="351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c009c"/>
                </a:solidFill>
                <a:latin typeface="Book Antiqua"/>
                <a:ea typeface="微软雅黑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1"/>
          <p:cNvGrpSpPr/>
          <p:nvPr/>
        </p:nvGrpSpPr>
        <p:grpSpPr>
          <a:xfrm>
            <a:off x="7056360" y="5435640"/>
            <a:ext cx="1619280" cy="703440"/>
            <a:chOff x="7056360" y="5435640"/>
            <a:chExt cx="1619280" cy="703440"/>
          </a:xfrm>
        </p:grpSpPr>
        <p:sp>
          <p:nvSpPr>
            <p:cNvPr id="96" name="椭圆 9"/>
            <p:cNvSpPr/>
            <p:nvPr/>
          </p:nvSpPr>
          <p:spPr>
            <a:xfrm>
              <a:off x="7056360" y="5469840"/>
              <a:ext cx="1619280" cy="639720"/>
            </a:xfrm>
            <a:prstGeom prst="ellipse">
              <a:avLst/>
            </a:prstGeom>
            <a:solidFill>
              <a:srgbClr val="9c009c"/>
            </a:solidFill>
            <a:ln w="38160">
              <a:solidFill>
                <a:srgbClr val="9c00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0"/>
            <p:cNvSpPr/>
            <p:nvPr/>
          </p:nvSpPr>
          <p:spPr>
            <a:xfrm>
              <a:off x="7416360" y="543564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6564240" y="476280"/>
            <a:ext cx="1081080" cy="431640"/>
          </a:xfrm>
          <a:prstGeom prst="flowChartDocumen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7931160" y="476280"/>
            <a:ext cx="1081080" cy="431640"/>
          </a:xfrm>
          <a:prstGeom prst="flowChartDocumen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7343640" y="6302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 rot="10800000">
            <a:off x="7994520" y="6311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618400" y="6313320"/>
            <a:ext cx="370080" cy="392400"/>
          </a:xfrm>
          <a:prstGeom prst="foldedCorner">
            <a:avLst>
              <a:gd name="adj" fmla="val 27037"/>
            </a:avLst>
          </a:prstGeom>
          <a:solidFill>
            <a:srgbClr val="75ffb3"/>
          </a:solidFill>
          <a:ln w="9360">
            <a:solidFill>
              <a:srgbClr val="9a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969d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968400" y="632448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1395360" y="6329520"/>
            <a:ext cx="380880" cy="358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1819440" y="633096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2246400" y="6335640"/>
            <a:ext cx="380880" cy="35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8362800" y="1023840"/>
            <a:ext cx="781200" cy="32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微软雅黑"/>
                <a:ea typeface="微软雅黑"/>
              </a:rPr>
              <a:t>页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07000" y="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点击添加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123840" y="950760"/>
            <a:ext cx="8480520" cy="606600"/>
            <a:chOff x="123840" y="950760"/>
            <a:chExt cx="8480520" cy="606600"/>
          </a:xfrm>
        </p:grpSpPr>
        <p:sp>
          <p:nvSpPr>
            <p:cNvPr id="110" name="Oval 3"/>
            <p:cNvSpPr/>
            <p:nvPr/>
          </p:nvSpPr>
          <p:spPr>
            <a:xfrm>
              <a:off x="123840" y="1198440"/>
              <a:ext cx="7380360" cy="35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374400" y="950760"/>
              <a:ext cx="8229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2"/>
          <p:cNvSpPr/>
          <p:nvPr/>
        </p:nvSpPr>
        <p:spPr>
          <a:xfrm>
            <a:off x="250920" y="1700280"/>
            <a:ext cx="8680320" cy="4249800"/>
          </a:xfrm>
          <a:prstGeom prst="rect">
            <a:avLst/>
          </a:prstGeom>
          <a:noFill/>
          <a:ln w="38160">
            <a:solidFill>
              <a:srgbClr val="bbe0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点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>
            <a:hlinkClick r:id="" action="ppaction://hlinkshowjump?jump=previousslide"/>
          </p:cNvPr>
          <p:cNvSpPr/>
          <p:nvPr/>
        </p:nvSpPr>
        <p:spPr>
          <a:xfrm>
            <a:off x="7343640" y="6302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 rot="10800000">
            <a:off x="7994520" y="6311520"/>
            <a:ext cx="457200" cy="414360"/>
          </a:xfrm>
          <a:prstGeom prst="leftArrow">
            <a:avLst>
              <a:gd name="adj1" fmla="val 60917"/>
              <a:gd name="adj2" fmla="val 5133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618400" y="6313320"/>
            <a:ext cx="370080" cy="392400"/>
          </a:xfrm>
          <a:prstGeom prst="foldedCorner">
            <a:avLst>
              <a:gd name="adj" fmla="val 2703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50920" y="1719360"/>
            <a:ext cx="8680320" cy="4249800"/>
          </a:xfrm>
          <a:prstGeom prst="rect">
            <a:avLst/>
          </a:prstGeom>
          <a:noFill/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00"/>
                </a:solidFill>
                <a:latin typeface="微软雅黑"/>
                <a:ea typeface="微软雅黑"/>
              </a:rPr>
              <a:t>点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6564240" y="476280"/>
            <a:ext cx="1081080" cy="431640"/>
          </a:xfrm>
          <a:prstGeom prst="flowChartDocumen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7931160" y="476280"/>
            <a:ext cx="1081080" cy="431640"/>
          </a:xfrm>
          <a:prstGeom prst="flowChartDocumen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主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8362800" y="1023840"/>
            <a:ext cx="781200" cy="32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00"/>
                </a:solidFill>
                <a:latin typeface="微软雅黑"/>
                <a:ea typeface="微软雅黑"/>
              </a:rPr>
              <a:t>页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5607000" y="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00"/>
                </a:solidFill>
                <a:latin typeface="微软雅黑"/>
                <a:ea typeface="微软雅黑"/>
              </a:rPr>
              <a:t>点击添加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"/>
          <p:cNvGrpSpPr/>
          <p:nvPr/>
        </p:nvGrpSpPr>
        <p:grpSpPr>
          <a:xfrm>
            <a:off x="123840" y="950760"/>
            <a:ext cx="8480520" cy="606600"/>
            <a:chOff x="123840" y="950760"/>
            <a:chExt cx="8480520" cy="606600"/>
          </a:xfrm>
        </p:grpSpPr>
        <p:sp>
          <p:nvSpPr>
            <p:cNvPr id="122" name="Oval 3"/>
            <p:cNvSpPr/>
            <p:nvPr/>
          </p:nvSpPr>
          <p:spPr>
            <a:xfrm>
              <a:off x="123840" y="1198440"/>
              <a:ext cx="7380360" cy="358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374400" y="950760"/>
              <a:ext cx="8229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7"/>
          <p:cNvSpPr/>
          <p:nvPr/>
        </p:nvSpPr>
        <p:spPr>
          <a:xfrm>
            <a:off x="968400" y="632448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1395360" y="6329520"/>
            <a:ext cx="380880" cy="3585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819440" y="633096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2246400" y="6335640"/>
            <a:ext cx="380880" cy="358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21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0" y="981000"/>
            <a:ext cx="7093080" cy="917640"/>
            <a:chOff x="0" y="981000"/>
            <a:chExt cx="7093080" cy="917640"/>
          </a:xfrm>
        </p:grpSpPr>
        <p:sp>
          <p:nvSpPr>
            <p:cNvPr id="130" name="AutoShape 30"/>
            <p:cNvSpPr/>
            <p:nvPr/>
          </p:nvSpPr>
          <p:spPr>
            <a:xfrm>
              <a:off x="0" y="1268280"/>
              <a:ext cx="7093080" cy="576360"/>
            </a:xfrm>
            <a:prstGeom prst="flowChartDelay">
              <a:avLst/>
            </a:prstGeom>
            <a:solidFill>
              <a:srgbClr val="3c96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1258920" y="1195200"/>
              <a:ext cx="432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c969d"/>
                  </a:solidFill>
                  <a:latin typeface="微软雅黑"/>
                  <a:ea typeface="微软雅黑"/>
                </a:rPr>
                <a:t>作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33" descr=""/>
            <p:cNvPicPr/>
            <p:nvPr/>
          </p:nvPicPr>
          <p:blipFill>
            <a:blip r:embed="rId2"/>
            <a:stretch/>
          </p:blipFill>
          <p:spPr>
            <a:xfrm>
              <a:off x="179280" y="981000"/>
              <a:ext cx="115092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155320"/>
            <a:ext cx="822960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c969d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FEC-7973-4FD9-840F-88B4D7727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7:46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6:53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