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E93-AAEF-4D72-BC6B-B4BCCBB8F5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41240" y="7524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36400" y="4386240"/>
            <a:ext cx="57801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计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031-98D5-43C2-85A4-BB374A48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6F3-E05D-4606-9DBF-8F15373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52A-5D98-4152-B0BF-A16170A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49E-02D7-4247-8C11-2D76AB1F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DFC-2E2F-402C-A0CA-9D9EF18C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EC3-406C-4454-9AF8-822B688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AD0-D5BF-451A-9B19-AAA4DDF3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E55-2009-4957-B058-64813EB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0BA-0D5B-485F-85D1-9B4B1BD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7B3-FCB7-499A-BC49-C15DD8C3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09E-DD7F-40BB-92FF-27C3C15A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705-495C-48D1-9E2F-C85E6CAC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EDD-1365-4BBD-B51A-58FCDEF8E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6207120" y="5261040"/>
            <a:ext cx="114156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3389400" y="4375080"/>
            <a:ext cx="1652400" cy="1430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897440" y="39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静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45520" y="439272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ff"/>
                </a:solidFill>
                <a:latin typeface="comic"/>
                <a:ea typeface="MingLiU"/>
              </a:rPr>
              <a:t>心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4192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25640" y="4470480"/>
            <a:ext cx="26182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omic"/>
                <a:ea typeface="方正舒体"/>
              </a:rPr>
              <a:t>自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11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5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9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22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5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6"/>
          <a:srcRect l="20747" t="55651" r="73392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7"/>
          <a:srcRect l="20747" t="55653" r="73392" b="37015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7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F:\office\《水墨画鲤鱼》\001.png"/>
          <p:cNvPicPr/>
          <p:nvPr/>
        </p:nvPicPr>
        <p:blipFill>
          <a:blip r:embed="rId8"/>
          <a:srcRect l="20747" t="55651" r="73392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4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6"/>
          <a:srcRect l="20747" t="55653" r="73392" b="37015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7"/>
          <a:srcRect l="20747" t="55653" r="73392" b="37015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8"/>
          <a:srcRect l="20747" t="55653" r="73392" b="37015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F:\office\《水墨画鲤鱼》\001.png"/>
          <p:cNvPicPr/>
          <p:nvPr/>
        </p:nvPicPr>
        <p:blipFill>
          <a:blip r:embed="rId9"/>
          <a:srcRect l="20747" t="55653" r="73392" b="37015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2448000" y="819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奔腾年代001"/>
          <p:cNvPicPr/>
          <p:nvPr/>
        </p:nvPicPr>
        <p:blipFill>
          <a:blip r:embed="rId10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4" name="Picture 4" descr="image9"/>
            <p:cNvPicPr/>
            <p:nvPr/>
          </p:nvPicPr>
          <p:blipFill>
            <a:blip r:embed="rId11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image9"/>
            <p:cNvPicPr/>
            <p:nvPr/>
          </p:nvPicPr>
          <p:blipFill>
            <a:blip r:embed="rId12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image9"/>
            <p:cNvPicPr/>
            <p:nvPr/>
          </p:nvPicPr>
          <p:blipFill>
            <a:blip r:embed="rId13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64764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7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E:\新模板\国粹\04.png"/>
          <p:cNvPicPr/>
          <p:nvPr/>
        </p:nvPicPr>
        <p:blipFill>
          <a:blip r:embed="rId5"/>
          <a:stretch/>
        </p:blipFill>
        <p:spPr>
          <a:xfrm>
            <a:off x="431640" y="2708280"/>
            <a:ext cx="2448000" cy="727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098720" y="2421000"/>
            <a:ext cx="1439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华文行楷"/>
              </a:rPr>
              <a:t>静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74560" y="2019240"/>
            <a:ext cx="2233800" cy="2232000"/>
          </a:xfrm>
          <a:prstGeom prst="ellipse">
            <a:avLst/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19"/>
          <p:cNvSpPr/>
          <p:nvPr/>
        </p:nvSpPr>
        <p:spPr>
          <a:xfrm>
            <a:off x="3025800" y="2049480"/>
            <a:ext cx="7120080" cy="21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001"/>
          <p:cNvPicPr/>
          <p:nvPr/>
        </p:nvPicPr>
        <p:blipFill>
          <a:blip r:embed="rId6"/>
          <a:stretch/>
        </p:blipFill>
        <p:spPr>
          <a:xfrm>
            <a:off x="9361440" y="1757520"/>
            <a:ext cx="939960" cy="576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3"/>
          <p:cNvSpPr/>
          <p:nvPr/>
        </p:nvSpPr>
        <p:spPr>
          <a:xfrm>
            <a:off x="3241800" y="2146320"/>
            <a:ext cx="6622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“心静，则自由”结合中国恒久渊博的国学文化，衍生出“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归一、聚气凝神、神游天外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三大静心论，紧扣“</a:t>
            </a:r>
            <a:r>
              <a:rPr b="0" lang="zh-CN" sz="1600" spc="-1" strike="noStrike">
                <a:solidFill>
                  <a:srgbClr val="cc3300"/>
                </a:solidFill>
                <a:latin typeface="Arial"/>
                <a:ea typeface="微软雅黑"/>
              </a:rPr>
              <a:t>Simple, Powerful and fre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，万物归一意为“化繁为简”，聚气凝神意为“积蓄力量”，神游天外意为“实现自由”，以此层层推导出“轻松的心态”需要“静心”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a</cp:lastModifiedBy>
  <dcterms:modified xsi:type="dcterms:W3CDTF">2015-07-26T02:19:46Z</dcterms:modified>
  <cp:revision>7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