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B91-964C-44E4-B07E-0FC6BB24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97E2-F74F-4339-8296-CBEDC2FB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5CB-6E29-4BB4-AD07-51E7C8F8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252C-1146-4441-8CB1-93AF2C9F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BBC3-A014-4A12-A1A7-5C9A62A5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3969-2543-4A71-9A7F-0F38ABAB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4AED-69F1-42AD-BCBF-4A30C2B5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4BF0-11F7-4898-8E03-0FE3989D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9C34-29A4-4FF3-9EF9-372872C6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71C4-F249-4CC2-B9EE-C71CF93B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F839-AEB5-42A9-BFD5-B669D189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4197-41C5-438A-BA53-9FB44EC8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C9E5-2755-46E8-8E65-22D37FBF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571B-1371-4E9A-9CBC-CB08BE69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8D1C-68D3-4D9F-A121-61B42BDE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E903-3D1C-43E1-82AE-453A234C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8CC8-4631-4E2C-BC33-F7B40822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51F-3534-4B02-AC82-E2ED89F1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1A3-31EA-4D6D-8D5A-2B42FC19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2D0-DCA5-4AF5-97F4-CF25B1A8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DCD-2447-460E-BCC4-9D4365CD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70F-0DD4-4B55-8E58-8D0056E5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047-8180-4134-9189-5BC5D019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20F-CE93-40F5-B165-76117321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D243-EBA6-49E6-B2FC-7CF63FF88A1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3227-18D1-4A7E-9275-0D51F83976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5F86-C556-4242-BCA7-4DEDA50295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41"/>
          <p:cNvSpPr/>
          <p:nvPr/>
        </p:nvSpPr>
        <p:spPr>
          <a:xfrm>
            <a:off x="2771640" y="825336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26" descr="2-1.png"/>
          <p:cNvPicPr/>
          <p:nvPr/>
        </p:nvPicPr>
        <p:blipFill>
          <a:blip r:embed="rId2"/>
          <a:stretch/>
        </p:blipFill>
        <p:spPr>
          <a:xfrm>
            <a:off x="5842080" y="4098960"/>
            <a:ext cx="4572000" cy="11430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7" descr="2-2.png"/>
          <p:cNvPicPr/>
          <p:nvPr/>
        </p:nvPicPr>
        <p:blipFill>
          <a:blip r:embed="rId3"/>
          <a:stretch/>
        </p:blipFill>
        <p:spPr>
          <a:xfrm>
            <a:off x="5537160" y="3946680"/>
            <a:ext cx="4876920" cy="12286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8" descr="2-3.png"/>
          <p:cNvPicPr/>
          <p:nvPr/>
        </p:nvPicPr>
        <p:blipFill>
          <a:blip r:embed="rId4"/>
          <a:stretch/>
        </p:blipFill>
        <p:spPr>
          <a:xfrm>
            <a:off x="5613480" y="3794040"/>
            <a:ext cx="5029200" cy="12286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9" descr="2-4.png"/>
          <p:cNvPicPr/>
          <p:nvPr/>
        </p:nvPicPr>
        <p:blipFill>
          <a:blip r:embed="rId5"/>
          <a:stretch/>
        </p:blipFill>
        <p:spPr>
          <a:xfrm>
            <a:off x="5765760" y="3489480"/>
            <a:ext cx="6738840" cy="16635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30" descr="2-5.png"/>
          <p:cNvPicPr/>
          <p:nvPr/>
        </p:nvPicPr>
        <p:blipFill>
          <a:blip r:embed="rId6"/>
          <a:stretch/>
        </p:blipFill>
        <p:spPr>
          <a:xfrm>
            <a:off x="5156280" y="3336840"/>
            <a:ext cx="7284960" cy="19591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31" descr="3-1.png"/>
          <p:cNvPicPr/>
          <p:nvPr/>
        </p:nvPicPr>
        <p:blipFill>
          <a:blip r:embed="rId7"/>
          <a:stretch/>
        </p:blipFill>
        <p:spPr>
          <a:xfrm>
            <a:off x="-1168560" y="3184560"/>
            <a:ext cx="7175520" cy="16002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2" descr="3-2.png"/>
          <p:cNvPicPr/>
          <p:nvPr/>
        </p:nvPicPr>
        <p:blipFill>
          <a:blip r:embed="rId8"/>
          <a:stretch/>
        </p:blipFill>
        <p:spPr>
          <a:xfrm>
            <a:off x="-2844720" y="3184560"/>
            <a:ext cx="8872560" cy="23112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33" descr="3-3.png"/>
          <p:cNvPicPr/>
          <p:nvPr/>
        </p:nvPicPr>
        <p:blipFill>
          <a:blip r:embed="rId9"/>
          <a:stretch/>
        </p:blipFill>
        <p:spPr>
          <a:xfrm>
            <a:off x="888840" y="3946680"/>
            <a:ext cx="4678560" cy="10443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4" descr="3-4.png"/>
          <p:cNvPicPr/>
          <p:nvPr/>
        </p:nvPicPr>
        <p:blipFill>
          <a:blip r:embed="rId10"/>
          <a:stretch/>
        </p:blipFill>
        <p:spPr>
          <a:xfrm>
            <a:off x="1041480" y="4022640"/>
            <a:ext cx="4754520" cy="12384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5" descr="3-5.png"/>
          <p:cNvPicPr/>
          <p:nvPr/>
        </p:nvPicPr>
        <p:blipFill>
          <a:blip r:embed="rId11"/>
          <a:stretch/>
        </p:blipFill>
        <p:spPr>
          <a:xfrm>
            <a:off x="1041480" y="4022640"/>
            <a:ext cx="4754520" cy="1060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6" descr="光.png"/>
          <p:cNvPicPr/>
          <p:nvPr/>
        </p:nvPicPr>
        <p:blipFill>
          <a:blip r:embed="rId12"/>
          <a:stretch/>
        </p:blipFill>
        <p:spPr>
          <a:xfrm>
            <a:off x="5262480" y="3870360"/>
            <a:ext cx="1189080" cy="11937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7" descr="光.png"/>
          <p:cNvPicPr/>
          <p:nvPr/>
        </p:nvPicPr>
        <p:blipFill>
          <a:blip r:embed="rId13"/>
          <a:stretch/>
        </p:blipFill>
        <p:spPr>
          <a:xfrm>
            <a:off x="5156280" y="3870360"/>
            <a:ext cx="1307880" cy="13143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8" descr="地球2.png"/>
          <p:cNvPicPr/>
          <p:nvPr/>
        </p:nvPicPr>
        <p:blipFill>
          <a:blip r:embed="rId14"/>
          <a:stretch/>
        </p:blipFill>
        <p:spPr>
          <a:xfrm>
            <a:off x="5537160" y="417528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39" descr="地球2.png"/>
          <p:cNvPicPr/>
          <p:nvPr/>
        </p:nvPicPr>
        <p:blipFill>
          <a:blip r:embed="rId15"/>
          <a:stretch/>
        </p:blipFill>
        <p:spPr>
          <a:xfrm>
            <a:off x="1625760" y="74628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98" name="矩形 1"/>
          <p:cNvSpPr/>
          <p:nvPr/>
        </p:nvSpPr>
        <p:spPr>
          <a:xfrm>
            <a:off x="2863800" y="-111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地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22" presetSubtype="2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2" presetSubtype="2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2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2" presetSubtype="2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2" presetSubtype="8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2" presetSubtype="8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 repeatCount="4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8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3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 www.1ppt.com</cp:keywords>
  <dc:language>en-US</dc:language>
  <cp:lastModifiedBy>a</cp:lastModifiedBy>
  <dcterms:modified xsi:type="dcterms:W3CDTF">2015-07-20T12:30:13Z</dcterms:modified>
  <cp:revision>842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