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1.png" ContentType="image/png"/>
  <Override PartName="/ppt/media/hdphoto1.wdp" ContentType="image/vnd.ms-photo"/>
  <Override PartName="/ppt/media/image8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7.gif" ContentType="image/gif"/>
  <Override PartName="/ppt/media/image9.png" ContentType="image/png"/>
  <Override PartName="/ppt/media/hdphoto2.wdp" ContentType="image/vnd.ms-photo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7BEC-0263-4A7C-ABB7-685A27A3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A339-5AA4-43E8-949E-593AE874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8DD59-6F99-44CF-8B3B-E8D023DB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0D8151-4620-4FAE-A488-44216221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548640"/>
            <a:ext cx="82292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3C4318-9AC6-4D14-A387-7902E293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AB616-C6DA-452F-9AA7-C7EBB84B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F9D41-0353-459E-A968-CC222AE5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980E2-5815-4C7E-BBEA-8236FCE9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98729-680F-454E-97C1-BB18384C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0F789-29F4-4BDB-83B1-F56A5092E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E8A3D-BA53-468C-94A6-222B1717A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DC60-CDD7-4BE4-B156-E6579A4FD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B64E-8477-44C0-864C-30F47CFE3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B837-1591-4823-83B3-CE0A05880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CB2C-04B9-4EBD-8FB1-866F7C55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3014-7DBC-47F9-BB43-A5F51613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F971-C4EF-4DF5-B7D0-BE9A0999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8337-2862-4070-8DDC-D689700F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548640"/>
            <a:ext cx="82292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4068-E2FC-4E01-9803-2DA1C451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822C-B127-4AF7-90DD-39BBC439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AE6A-8432-4327-BC0B-0E67EEC4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807C-59A2-45B6-B024-9F061979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1B4D-4CC0-4B08-8398-C08A82A9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9EB7-AE09-4315-9650-B3C92585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9BD7-7F19-4D39-92A0-3C47F13FF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2E67-B6B0-4905-86AC-4D87D57D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4A619-EBFA-41E1-9811-7B8938D8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8CCFB-8FA6-4161-80B7-79038CC7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3DFF2-0F93-4F0A-896B-6506677B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08336-5FC7-47D9-8108-45DE3320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B5D86-6340-4681-B656-6FE8B3CE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0D9D-5EC2-4A36-92BE-816EDE93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548640"/>
            <a:ext cx="82292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A5B68-BEEC-40E7-8B96-0A92A7D5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0B2C2-CA03-407A-8F80-3130E296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3B712-E83F-48F6-8CD8-B2E4E66D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E3DA5-AB11-4783-942A-C973803A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1D211-8CB8-47A0-BC5B-5735033B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9860C-3DDD-45D3-A471-2A78D2ADB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10D31-311E-4523-A274-055F320F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D5FB6-7006-4A29-ACA2-50CA9878A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13934-703D-4A15-9358-FB6A5E47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857BC-ABAD-4701-B3CD-48803097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EEDA-F80C-4A1E-A95B-969708AD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4AD3F-7C08-4B77-87C2-CEC5F334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00488-7346-4478-BBF4-A4333A6C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548640"/>
            <a:ext cx="82292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CFF56-F0B5-4EB5-BA68-EC787E25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6DA11-6F92-4C91-82C3-D4C588A1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14635-4614-4416-9160-4C859C51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B8879-31D4-4CEB-A63C-D6B35D08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FEF07-ECA9-47FB-B2B8-D7AB370F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79B28-AA9A-4EFA-B7BF-67370F0A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5A264-E243-4402-8580-9E927DF2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CA12E-8B5D-41FF-843E-CCF0ADE5C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8335-C5FF-496C-8F2E-C1F7FC2A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F48B4-2BE6-4822-BE8E-6E99F193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2D7E9-EE9E-4D76-84F9-0670E4FE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2DF2F-73A0-4449-BCAD-EA9C3262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CC1B4-9777-4450-8966-0645EDDD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548640"/>
            <a:ext cx="82292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5130C-27B9-4E01-AA7D-DD075007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8961C-0615-46CD-9A0B-0EF82F5C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DCD28-B8D8-47C0-B97F-BC06A619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A100C-CE3C-4DE9-AD44-65C43901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D7F68-C664-4851-9CBF-F93FEBD4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A4C9A-12F9-4703-B889-A74011043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48640"/>
            <a:ext cx="82292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6073-324E-478A-A95E-1840DBB5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54905-B0AB-4E72-8ED1-4BBA1ED9B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FC748-D951-43F7-B10A-201AA3DE9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56458-8DBA-461F-A3E6-42343E46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B7323-DF49-47A5-A1B7-2691B07E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9C3E0-1D5A-4D29-8A39-81CAFF99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DEBB4-B6AA-4294-B8FE-204FF101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548640"/>
            <a:ext cx="82292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617AF-4B7D-40C1-86B9-BD676052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23272-CDD9-4F35-8813-0EAE3113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38036-0FB3-4F84-A2E6-2005B8CF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6C536-4FB7-4068-B8D1-79C9AA1F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E83D-8A05-4E08-8033-EE77AE8E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F307D-3273-4D3C-9727-141B8AF1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85ADC-DD98-4E37-9605-D87B8F69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5B0AC-5C1A-45C8-B420-AB40EDAB7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0BB33-962B-43E0-BE0A-6D6AFF06F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0CAB3-7361-4148-BB90-6AA2BD30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D1D8F-D66A-42B0-AF55-99FEA0ED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BF8B0-01C6-41CA-8822-CB30A05B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0CB90-7BD2-42F1-B696-CE9BA526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548640"/>
            <a:ext cx="82292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6CCB4-F7AF-4749-A16D-D09E9950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523EE-AFF1-45D6-80FE-74C4276B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1C17-E45C-4044-8EEE-048127E3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8DFBB-37B6-46AF-B296-B33DFC98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2C487-16F0-4FB4-B1D6-0D0CDC27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9D14E-EDC4-4EBB-BA43-8130A408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0CE59-194E-453D-9305-57E85C4C8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0AE71-900B-43F8-8845-DFFBA010B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E2E4E-FF1E-4C13-B772-816BD567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AA204-E982-4BEE-9F79-B12363EC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949DE-28D6-4382-B974-7DFB653E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6F371-EB67-4EEE-AC44-F86CBF7C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4309D-1D09-4ABC-9989-B1197D81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F0D6-34E5-4BAB-A12A-4C1AF320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548640"/>
            <a:ext cx="82292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E4B71-6F2D-4C3E-86B4-D4264D8B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DDE97-CE79-48D4-88F6-AAEFFC81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BAE84-57B2-4640-9743-992FFEA5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91C14-98F1-4242-9196-863FFD2F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3DA34-9E19-45A4-9BBC-19719313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04467-2C57-4236-BF70-D5B3F7399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C7C4E-89D9-453F-8242-BE3EC44A5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AC9A0-FEE6-4A13-85D1-907C8AAC3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E07A0-CF5E-4185-A631-399E6818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F1194-9DA3-4FC1-9B34-6A1826BA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microsoft.com/office/2007/relationships/hdphoto" Target="../media/hdphoto1.wdp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microsoft.com/office/2007/relationships/hdphoto" Target="../media/hdphoto2.wdp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20000" colorTemp="5300"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4111200"/>
          </a:xfrm>
          <a:prstGeom prst="rect">
            <a:avLst/>
          </a:prstGeom>
          <a:ln w="0">
            <a:noFill/>
          </a:ln>
        </p:spPr>
      </p:pic>
      <p:sp>
        <p:nvSpPr>
          <p:cNvPr id="1" name="矩形 7"/>
          <p:cNvSpPr/>
          <p:nvPr/>
        </p:nvSpPr>
        <p:spPr>
          <a:xfrm>
            <a:off x="0" y="0"/>
            <a:ext cx="9143640" cy="494064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2" name="矩形 8"/>
          <p:cNvSpPr/>
          <p:nvPr/>
        </p:nvSpPr>
        <p:spPr>
          <a:xfrm>
            <a:off x="0" y="0"/>
            <a:ext cx="9143640" cy="6237000"/>
          </a:xfrm>
          <a:prstGeom prst="rect">
            <a:avLst/>
          </a:prstGeom>
          <a:gradFill rotWithShape="0">
            <a:gsLst>
              <a:gs pos="4100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pic>
        <p:nvPicPr>
          <p:cNvPr id="3" name="图片 7" descr=""/>
          <p:cNvPicPr/>
          <p:nvPr/>
        </p:nvPicPr>
        <p:blipFill>
          <a:blip r:embed="rId4"/>
          <a:stretch/>
        </p:blipFill>
        <p:spPr>
          <a:xfrm>
            <a:off x="0" y="0"/>
            <a:ext cx="9143640" cy="44953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3" descr=""/>
          <p:cNvPicPr/>
          <p:nvPr/>
        </p:nvPicPr>
        <p:blipFill>
          <a:blip r:embed="rId5"/>
          <a:stretch/>
        </p:blipFill>
        <p:spPr>
          <a:xfrm>
            <a:off x="0" y="4254480"/>
            <a:ext cx="9143640" cy="2603160"/>
          </a:xfrm>
          <a:prstGeom prst="rect">
            <a:avLst/>
          </a:prstGeom>
          <a:ln w="0">
            <a:noFill/>
          </a:ln>
        </p:spPr>
      </p:pic>
      <p:sp>
        <p:nvSpPr>
          <p:cNvPr id="5" name="矩形 6"/>
          <p:cNvSpPr/>
          <p:nvPr/>
        </p:nvSpPr>
        <p:spPr>
          <a:xfrm>
            <a:off x="0" y="4221000"/>
            <a:ext cx="9143640" cy="716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>
            <a:bevelT prst="cross" w="139700"/>
          </a:sp3d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2130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49" strike="noStrike">
                <a:solidFill>
                  <a:srgbClr val="fdfbfc">
                    <a:alpha val="95000"/>
                  </a:srgbClr>
                </a:solidFill>
                <a:latin typeface="Impact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271796-9782-48D8-BDD3-AC4200ABED7E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20000" colorTemp="5300"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4111200"/>
          </a:xfrm>
          <a:prstGeom prst="rect">
            <a:avLst/>
          </a:prstGeom>
          <a:ln w="0">
            <a:noFill/>
          </a:ln>
        </p:spPr>
      </p:pic>
      <p:sp>
        <p:nvSpPr>
          <p:cNvPr id="48" name="矩形 7"/>
          <p:cNvSpPr/>
          <p:nvPr/>
        </p:nvSpPr>
        <p:spPr>
          <a:xfrm>
            <a:off x="0" y="0"/>
            <a:ext cx="9143640" cy="494064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49" name="矩形 8"/>
          <p:cNvSpPr/>
          <p:nvPr/>
        </p:nvSpPr>
        <p:spPr>
          <a:xfrm>
            <a:off x="0" y="0"/>
            <a:ext cx="9143640" cy="6237000"/>
          </a:xfrm>
          <a:prstGeom prst="rect">
            <a:avLst/>
          </a:prstGeom>
          <a:gradFill rotWithShape="0">
            <a:gsLst>
              <a:gs pos="4100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grpSp>
        <p:nvGrpSpPr>
          <p:cNvPr id="50" name="组合 10"/>
          <p:cNvGrpSpPr/>
          <p:nvPr/>
        </p:nvGrpSpPr>
        <p:grpSpPr>
          <a:xfrm>
            <a:off x="0" y="0"/>
            <a:ext cx="9148320" cy="6857640"/>
            <a:chOff x="0" y="0"/>
            <a:chExt cx="9148320" cy="6857640"/>
          </a:xfrm>
        </p:grpSpPr>
        <p:pic>
          <p:nvPicPr>
            <p:cNvPr id="51" name="图片 9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640" cy="571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图片 8" descr=""/>
            <p:cNvPicPr/>
            <p:nvPr/>
          </p:nvPicPr>
          <p:blipFill>
            <a:blip r:embed="rId4"/>
            <a:stretch/>
          </p:blipFill>
          <p:spPr>
            <a:xfrm>
              <a:off x="5400" y="3069000"/>
              <a:ext cx="9142920" cy="378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18536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148" strike="noStrike">
                <a:solidFill>
                  <a:srgbClr val="f8f8f8"/>
                </a:solidFill>
                <a:latin typeface="Impact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D31662-B9D6-4EFB-B451-4E08502CBAB5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20000" colorTemp="5300"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4111200"/>
          </a:xfrm>
          <a:prstGeom prst="rect">
            <a:avLst/>
          </a:prstGeom>
          <a:ln w="0">
            <a:noFill/>
          </a:ln>
        </p:spPr>
      </p:pic>
      <p:sp>
        <p:nvSpPr>
          <p:cNvPr id="95" name="矩形 7" hidden="1"/>
          <p:cNvSpPr/>
          <p:nvPr/>
        </p:nvSpPr>
        <p:spPr>
          <a:xfrm>
            <a:off x="0" y="0"/>
            <a:ext cx="9143640" cy="494064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96" name="矩形 8" hidden="1"/>
          <p:cNvSpPr/>
          <p:nvPr/>
        </p:nvSpPr>
        <p:spPr>
          <a:xfrm>
            <a:off x="0" y="0"/>
            <a:ext cx="9143640" cy="6237000"/>
          </a:xfrm>
          <a:prstGeom prst="rect">
            <a:avLst/>
          </a:prstGeom>
          <a:gradFill rotWithShape="0">
            <a:gsLst>
              <a:gs pos="4100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pic>
        <p:nvPicPr>
          <p:cNvPr id="97" name="图片 9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5432400"/>
          </a:xfrm>
          <a:prstGeom prst="rect">
            <a:avLst/>
          </a:prstGeom>
          <a:ln w="0">
            <a:noFill/>
          </a:ln>
        </p:spPr>
      </p:pic>
      <p:sp>
        <p:nvSpPr>
          <p:cNvPr id="98" name="矩形 10"/>
          <p:cNvSpPr/>
          <p:nvPr/>
        </p:nvSpPr>
        <p:spPr>
          <a:xfrm>
            <a:off x="0" y="0"/>
            <a:ext cx="9143640" cy="5432400"/>
          </a:xfrm>
          <a:prstGeom prst="rect">
            <a:avLst/>
          </a:prstGeom>
          <a:gradFill rotWithShape="0">
            <a:gsLst>
              <a:gs pos="51000">
                <a:srgbClr val="000000">
                  <a:alpha val="0"/>
                </a:srgbClr>
              </a:gs>
              <a:gs pos="100000">
                <a:srgbClr val="ffffff">
                  <a:alpha val="90196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99" name="矩形 1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22100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chemeClr val="accent2"/>
                </a:solidFill>
                <a:latin typeface="Impact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1EE2B8D-A502-45ED-A00A-7EB6B2321523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20000" colorTemp="5300"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4111200"/>
          </a:xfrm>
          <a:prstGeom prst="rect">
            <a:avLst/>
          </a:prstGeom>
          <a:ln w="0">
            <a:noFill/>
          </a:ln>
        </p:spPr>
      </p:pic>
      <p:sp>
        <p:nvSpPr>
          <p:cNvPr id="142" name="矩形 7" hidden="1"/>
          <p:cNvSpPr/>
          <p:nvPr/>
        </p:nvSpPr>
        <p:spPr>
          <a:xfrm>
            <a:off x="0" y="0"/>
            <a:ext cx="9143640" cy="494064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43" name="矩形 8" hidden="1"/>
          <p:cNvSpPr/>
          <p:nvPr/>
        </p:nvSpPr>
        <p:spPr>
          <a:xfrm>
            <a:off x="0" y="0"/>
            <a:ext cx="9143640" cy="6237000"/>
          </a:xfrm>
          <a:prstGeom prst="rect">
            <a:avLst/>
          </a:prstGeom>
          <a:gradFill rotWithShape="0">
            <a:gsLst>
              <a:gs pos="4100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pic>
        <p:nvPicPr>
          <p:cNvPr id="144" name="图片 9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5432400"/>
          </a:xfrm>
          <a:prstGeom prst="rect">
            <a:avLst/>
          </a:prstGeom>
          <a:ln w="0">
            <a:noFill/>
          </a:ln>
        </p:spPr>
      </p:pic>
      <p:sp>
        <p:nvSpPr>
          <p:cNvPr id="145" name="矩形 10"/>
          <p:cNvSpPr/>
          <p:nvPr/>
        </p:nvSpPr>
        <p:spPr>
          <a:xfrm>
            <a:off x="0" y="0"/>
            <a:ext cx="9143640" cy="5432400"/>
          </a:xfrm>
          <a:prstGeom prst="rect">
            <a:avLst/>
          </a:prstGeom>
          <a:gradFill rotWithShape="0">
            <a:gsLst>
              <a:gs pos="51000">
                <a:srgbClr val="000000">
                  <a:alpha val="0"/>
                </a:srgbClr>
              </a:gs>
              <a:gs pos="100000">
                <a:srgbClr val="ffffff">
                  <a:alpha val="90196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46" name="矩形 1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47" name="矩形 6"/>
          <p:cNvSpPr/>
          <p:nvPr/>
        </p:nvSpPr>
        <p:spPr>
          <a:xfrm>
            <a:off x="0" y="4293000"/>
            <a:ext cx="9143640" cy="2564640"/>
          </a:xfrm>
          <a:prstGeom prst="rect">
            <a:avLst/>
          </a:prstGeom>
          <a:solidFill>
            <a:srgbClr val="ffffff">
              <a:alpha val="3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48" name="矩形 12"/>
          <p:cNvSpPr/>
          <p:nvPr/>
        </p:nvSpPr>
        <p:spPr>
          <a:xfrm>
            <a:off x="0" y="4221000"/>
            <a:ext cx="9143640" cy="716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>
            <a:bevelT prst="cross" w="139700"/>
          </a:sp3d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2098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ecdbf1"/>
                </a:solidFill>
                <a:latin typeface="Impact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1236F9-173E-4970-B77B-F134D4698393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20000" colorTemp="5300"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4111200"/>
          </a:xfrm>
          <a:prstGeom prst="rect">
            <a:avLst/>
          </a:prstGeom>
          <a:ln w="0">
            <a:noFill/>
          </a:ln>
        </p:spPr>
      </p:pic>
      <p:sp>
        <p:nvSpPr>
          <p:cNvPr id="191" name="矩形 7"/>
          <p:cNvSpPr/>
          <p:nvPr/>
        </p:nvSpPr>
        <p:spPr>
          <a:xfrm>
            <a:off x="0" y="0"/>
            <a:ext cx="9143640" cy="494064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92" name="矩形 8"/>
          <p:cNvSpPr/>
          <p:nvPr/>
        </p:nvSpPr>
        <p:spPr>
          <a:xfrm>
            <a:off x="0" y="0"/>
            <a:ext cx="9143640" cy="6237000"/>
          </a:xfrm>
          <a:prstGeom prst="rect">
            <a:avLst/>
          </a:prstGeom>
          <a:gradFill rotWithShape="0">
            <a:gsLst>
              <a:gs pos="4100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ecdbf1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17"/>
              <a:buBlip>
                <a:blip r:embed="rId3"/>
              </a:buBlip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第二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三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四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098451-1A1B-447A-B857-E72FA6AE27EA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20000" colorTemp="5300"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4111200"/>
          </a:xfrm>
          <a:prstGeom prst="rect">
            <a:avLst/>
          </a:prstGeom>
          <a:ln w="0">
            <a:noFill/>
          </a:ln>
        </p:spPr>
      </p:pic>
      <p:sp>
        <p:nvSpPr>
          <p:cNvPr id="235" name="矩形 7"/>
          <p:cNvSpPr/>
          <p:nvPr/>
        </p:nvSpPr>
        <p:spPr>
          <a:xfrm>
            <a:off x="0" y="0"/>
            <a:ext cx="9143640" cy="494064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236" name="矩形 8"/>
          <p:cNvSpPr/>
          <p:nvPr/>
        </p:nvSpPr>
        <p:spPr>
          <a:xfrm>
            <a:off x="0" y="0"/>
            <a:ext cx="9143640" cy="6237000"/>
          </a:xfrm>
          <a:prstGeom prst="rect">
            <a:avLst/>
          </a:prstGeom>
          <a:gradFill rotWithShape="0">
            <a:gsLst>
              <a:gs pos="4100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3"/>
          <a:stretch/>
        </p:blipFill>
        <p:spPr>
          <a:xfrm>
            <a:off x="4320" y="0"/>
            <a:ext cx="9143640" cy="836280"/>
          </a:xfrm>
          <a:prstGeom prst="rect">
            <a:avLst/>
          </a:prstGeom>
          <a:ln w="0">
            <a:noFill/>
          </a:ln>
        </p:spPr>
      </p:pic>
      <p:sp>
        <p:nvSpPr>
          <p:cNvPr id="238" name="矩形 7"/>
          <p:cNvSpPr/>
          <p:nvPr/>
        </p:nvSpPr>
        <p:spPr>
          <a:xfrm>
            <a:off x="0" y="838800"/>
            <a:ext cx="9143640" cy="716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>
            <a:bevelT prst="cross" w="139700"/>
          </a:sp3d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17"/>
              <a:buBlip>
                <a:blip r:embed="rId4"/>
              </a:buBlip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第二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三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四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C286AC-7A74-459F-A574-4E869A7AB1F1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20000" colorTemp="5300"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4111200"/>
          </a:xfrm>
          <a:prstGeom prst="rect">
            <a:avLst/>
          </a:prstGeom>
          <a:ln w="0">
            <a:noFill/>
          </a:ln>
        </p:spPr>
      </p:pic>
      <p:sp>
        <p:nvSpPr>
          <p:cNvPr id="281" name="矩形 7" hidden="1"/>
          <p:cNvSpPr/>
          <p:nvPr/>
        </p:nvSpPr>
        <p:spPr>
          <a:xfrm>
            <a:off x="0" y="0"/>
            <a:ext cx="9143640" cy="494064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282" name="矩形 8" hidden="1"/>
          <p:cNvSpPr/>
          <p:nvPr/>
        </p:nvSpPr>
        <p:spPr>
          <a:xfrm>
            <a:off x="0" y="0"/>
            <a:ext cx="9143640" cy="6237000"/>
          </a:xfrm>
          <a:prstGeom prst="rect">
            <a:avLst/>
          </a:prstGeom>
          <a:gradFill rotWithShape="0">
            <a:gsLst>
              <a:gs pos="4100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17"/>
              <a:buBlip>
                <a:blip r:embed="rId3"/>
              </a:buBlip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第二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三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四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19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sldNum" idx="2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4CD2DB-3095-4102-BDE2-21773525296D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3" descr=""/>
          <p:cNvPicPr/>
          <p:nvPr/>
        </p:nvPicPr>
        <p:blipFill>
          <a:blip r:embed="rId4"/>
          <a:stretch/>
        </p:blipFill>
        <p:spPr>
          <a:xfrm>
            <a:off x="4320" y="0"/>
            <a:ext cx="9143640" cy="836280"/>
          </a:xfrm>
          <a:prstGeom prst="rect">
            <a:avLst/>
          </a:prstGeom>
          <a:ln w="0">
            <a:noFill/>
          </a:ln>
        </p:spPr>
      </p:pic>
      <p:sp>
        <p:nvSpPr>
          <p:cNvPr id="288" name="矩形 7"/>
          <p:cNvSpPr/>
          <p:nvPr/>
        </p:nvSpPr>
        <p:spPr>
          <a:xfrm>
            <a:off x="0" y="838800"/>
            <a:ext cx="9143640" cy="716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>
            <a:bevelT prst="cross" w="139700"/>
          </a:sp3d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20000" colorTemp="5300"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4111200"/>
          </a:xfrm>
          <a:prstGeom prst="rect">
            <a:avLst/>
          </a:prstGeom>
          <a:ln w="0">
            <a:noFill/>
          </a:ln>
        </p:spPr>
      </p:pic>
      <p:sp>
        <p:nvSpPr>
          <p:cNvPr id="327" name="矩形 7" hidden="1"/>
          <p:cNvSpPr/>
          <p:nvPr/>
        </p:nvSpPr>
        <p:spPr>
          <a:xfrm>
            <a:off x="0" y="0"/>
            <a:ext cx="9143640" cy="494064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28" name="矩形 8" hidden="1"/>
          <p:cNvSpPr/>
          <p:nvPr/>
        </p:nvSpPr>
        <p:spPr>
          <a:xfrm>
            <a:off x="0" y="0"/>
            <a:ext cx="9143640" cy="6237000"/>
          </a:xfrm>
          <a:prstGeom prst="rect">
            <a:avLst/>
          </a:prstGeom>
          <a:gradFill rotWithShape="0">
            <a:gsLst>
              <a:gs pos="4100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29" name="矩形 7"/>
          <p:cNvSpPr/>
          <p:nvPr/>
        </p:nvSpPr>
        <p:spPr>
          <a:xfrm>
            <a:off x="0" y="838800"/>
            <a:ext cx="9143640" cy="716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>
            <a:bevelT prst="cross" w="139700"/>
          </a:sp3d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Times New Roman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2339280" cy="8362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"/>
          <p:cNvPicPr/>
          <p:nvPr/>
        </p:nvPicPr>
        <p:blipFill>
          <a:blip r:embed="rId5"/>
          <a:stretch/>
        </p:blipFill>
        <p:spPr>
          <a:xfrm rot="16200000">
            <a:off x="1381680" y="-1381320"/>
            <a:ext cx="836280" cy="3600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"/>
          <p:cNvPicPr/>
          <p:nvPr/>
        </p:nvPicPr>
        <p:blipFill>
          <a:blip r:embed="rId6"/>
          <a:stretch/>
        </p:blipFill>
        <p:spPr>
          <a:xfrm>
            <a:off x="3499200" y="0"/>
            <a:ext cx="5648760" cy="8362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17"/>
              <a:buBlip>
                <a:blip r:embed="rId7"/>
              </a:buBlip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第二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三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四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235C91-0CF8-40EF-B80E-001B23D57DF5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20000" colorTemp="5300"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4111200"/>
          </a:xfrm>
          <a:prstGeom prst="rect">
            <a:avLst/>
          </a:prstGeom>
          <a:ln w="0">
            <a:noFill/>
          </a:ln>
        </p:spPr>
      </p:pic>
      <p:sp>
        <p:nvSpPr>
          <p:cNvPr id="375" name="矩形 7" hidden="1"/>
          <p:cNvSpPr/>
          <p:nvPr/>
        </p:nvSpPr>
        <p:spPr>
          <a:xfrm>
            <a:off x="0" y="0"/>
            <a:ext cx="9143640" cy="494064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76" name="矩形 8" hidden="1"/>
          <p:cNvSpPr/>
          <p:nvPr/>
        </p:nvSpPr>
        <p:spPr>
          <a:xfrm>
            <a:off x="0" y="0"/>
            <a:ext cx="9143640" cy="6237000"/>
          </a:xfrm>
          <a:prstGeom prst="rect">
            <a:avLst/>
          </a:prstGeom>
          <a:gradFill rotWithShape="0">
            <a:gsLst>
              <a:gs pos="4100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3"/>
          <a:stretch/>
        </p:blipFill>
        <p:spPr>
          <a:xfrm>
            <a:off x="-3240" y="3240"/>
            <a:ext cx="9150120" cy="6857640"/>
          </a:xfrm>
          <a:prstGeom prst="rect">
            <a:avLst/>
          </a:prstGeom>
          <a:ln w="0">
            <a:noFill/>
          </a:ln>
        </p:spPr>
      </p:pic>
      <p:sp>
        <p:nvSpPr>
          <p:cNvPr id="378" name="矩形 6"/>
          <p:cNvSpPr/>
          <p:nvPr/>
        </p:nvSpPr>
        <p:spPr>
          <a:xfrm>
            <a:off x="251640" y="260640"/>
            <a:ext cx="8640720" cy="6336360"/>
          </a:xfrm>
          <a:prstGeom prst="rect">
            <a:avLst/>
          </a:prstGeom>
          <a:solidFill>
            <a:srgbClr val="ffffff">
              <a:alpha val="8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17"/>
              <a:buBlip>
                <a:blip r:embed="rId4"/>
              </a:buBlip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第二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三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四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5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571B24-3918-428D-BF6C-A40C6C43B744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图文框 8"/>
          <p:cNvSpPr/>
          <p:nvPr/>
        </p:nvSpPr>
        <p:spPr>
          <a:xfrm>
            <a:off x="251640" y="260640"/>
            <a:ext cx="8640720" cy="6336360"/>
          </a:xfrm>
          <a:prstGeom prst="frame">
            <a:avLst>
              <a:gd name="adj1" fmla="val 1347"/>
            </a:avLst>
          </a:prstGeom>
          <a:solidFill>
            <a:srgbClr val="ffffff"/>
          </a:solidFill>
          <a:ln>
            <a:noFill/>
          </a:ln>
          <a:effectLst>
            <a:innerShdw blurRad="88900">
              <a:srgbClr val="000000"/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42130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49" strike="noStrike">
                <a:solidFill>
                  <a:srgbClr val="fdfbfc">
                    <a:alpha val="95000"/>
                  </a:srgbClr>
                </a:solidFill>
                <a:latin typeface="Impact"/>
              </a:rPr>
              <a:t>馨情玫瑰通用</a:t>
            </a:r>
            <a:r>
              <a:rPr b="1" lang="en-US" sz="4000" spc="49" strike="noStrike">
                <a:solidFill>
                  <a:srgbClr val="fdfbfc">
                    <a:alpha val="95000"/>
                  </a:srgbClr>
                </a:solidFill>
                <a:latin typeface="Impact"/>
              </a:rPr>
              <a:t>PPT</a:t>
            </a:r>
            <a:r>
              <a:rPr b="1" lang="zh-CN" sz="4000" spc="49" strike="noStrike">
                <a:solidFill>
                  <a:srgbClr val="fdfbfc">
                    <a:alpha val="95000"/>
                  </a:srgbClr>
                </a:solidFill>
                <a:latin typeface="Impact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矩形 4"/>
          <p:cNvSpPr/>
          <p:nvPr/>
        </p:nvSpPr>
        <p:spPr>
          <a:xfrm>
            <a:off x="6804360" y="9360"/>
            <a:ext cx="7617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683640" y="5733360"/>
            <a:ext cx="6400440" cy="60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/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418536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148" strike="noStrike">
                <a:solidFill>
                  <a:srgbClr val="f8f8f8"/>
                </a:solidFill>
                <a:latin typeface="Impact"/>
              </a:rPr>
              <a:t>馨情玫瑰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683640" y="5373360"/>
            <a:ext cx="6400440" cy="55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第一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模板网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ww.1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422100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3600" spc="-1" strike="noStrike">
              <a:solidFill>
                <a:schemeClr val="accent2"/>
              </a:solidFill>
              <a:latin typeface="Impac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683640" y="5733360"/>
            <a:ext cx="6400440" cy="4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8b8b8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42098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3600" spc="-1" strike="noStrike">
              <a:solidFill>
                <a:srgbClr val="ecdbf1"/>
              </a:solidFill>
              <a:latin typeface="Impac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683640" y="5733360"/>
            <a:ext cx="6400440" cy="5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8b8b8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179640" y="65232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d0d0d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e06e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d0d0d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华丽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华丽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​​">
  <a:themeElements>
    <a:clrScheme name="华丽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主题​​">
  <a:themeElements>
    <a:clrScheme name="华丽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主题​​">
  <a:themeElements>
    <a:clrScheme name="华丽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主题​​">
  <a:themeElements>
    <a:clrScheme name="华丽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主题​​">
  <a:themeElements>
    <a:clrScheme name="华丽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主题​​">
  <a:themeElements>
    <a:clrScheme name="华丽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主题​​">
  <a:themeElements>
    <a:clrScheme name="华丽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  <Words>132</Words>
  <Paragraphs>17</Paragraphs>
  <Company>Sky123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9T11:41:38Z</dcterms:created>
  <dc:creator>lenovo</dc:creator>
  <dc:description/>
  <dc:language>en-US</dc:language>
  <cp:lastModifiedBy>王玉清</cp:lastModifiedBy>
  <dcterms:modified xsi:type="dcterms:W3CDTF">2016-02-20T03:17:46Z</dcterms:modified>
  <cp:revision>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9</vt:r8>
  </property>
</Properties>
</file>