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B5C-DA87-485B-9BE7-AB9A03A0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554-1555-4900-BA83-A3F54CB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897-8C18-4A1F-B3B5-EB86A392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C0B-3CD2-4D1A-8ECE-7FE8F3AA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137-7DFB-4DF1-84F8-0E093C82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557-CAF0-415F-AF6F-789AC9E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789-3BD5-4A55-B6D3-F1CE6CE7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B9D-AB3F-46FC-B4C7-3C00A145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A7D-AE45-4D08-B4EA-EF1E545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2DA-59F3-45F3-B594-34D6951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BE2-3AD6-4A64-806E-27651F9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662-816F-44F8-95B8-0C198C0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F33B09-54C9-4484-A657-5B84286568AA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1"/>
          <p:cNvGrpSpPr/>
          <p:nvPr/>
        </p:nvGrpSpPr>
        <p:grpSpPr>
          <a:xfrm>
            <a:off x="2316240" y="1944720"/>
            <a:ext cx="7660080" cy="2968200"/>
            <a:chOff x="2316240" y="1944720"/>
            <a:chExt cx="7660080" cy="2968200"/>
          </a:xfrm>
        </p:grpSpPr>
        <p:sp>
          <p:nvSpPr>
            <p:cNvPr id="43" name="文本框 2"/>
            <p:cNvSpPr/>
            <p:nvPr/>
          </p:nvSpPr>
          <p:spPr>
            <a:xfrm>
              <a:off x="5025240" y="2143800"/>
              <a:ext cx="1278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直接连接符 3"/>
            <p:cNvCxnSpPr/>
            <p:nvPr/>
          </p:nvCxnSpPr>
          <p:spPr>
            <a:xfrm>
              <a:off x="2316240" y="1944720"/>
              <a:ext cx="766044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5" name="直接连接符 4"/>
            <p:cNvCxnSpPr/>
            <p:nvPr/>
          </p:nvCxnSpPr>
          <p:spPr>
            <a:xfrm>
              <a:off x="2316240" y="4912920"/>
              <a:ext cx="766044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6" name="直接连接符 5"/>
            <p:cNvCxnSpPr/>
            <p:nvPr/>
          </p:nvCxnSpPr>
          <p:spPr>
            <a:xfrm>
              <a:off x="2316240" y="1944720"/>
              <a:ext cx="360" cy="29685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7" name="直接连接符 6"/>
            <p:cNvCxnSpPr/>
            <p:nvPr/>
          </p:nvCxnSpPr>
          <p:spPr>
            <a:xfrm>
              <a:off x="4648680" y="1944720"/>
              <a:ext cx="360" cy="29685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8" name="直接连接符 7"/>
            <p:cNvCxnSpPr/>
            <p:nvPr/>
          </p:nvCxnSpPr>
          <p:spPr>
            <a:xfrm>
              <a:off x="4648680" y="2940480"/>
              <a:ext cx="532800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sp>
          <p:nvSpPr>
            <p:cNvPr id="49" name="文本框 8"/>
            <p:cNvSpPr/>
            <p:nvPr/>
          </p:nvSpPr>
          <p:spPr>
            <a:xfrm>
              <a:off x="5184720" y="3052440"/>
              <a:ext cx="1032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者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前研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9"/>
            <p:cNvSpPr/>
            <p:nvPr/>
          </p:nvSpPr>
          <p:spPr>
            <a:xfrm>
              <a:off x="4955040" y="3658320"/>
              <a:ext cx="1235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翻译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裴立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直接连接符 10"/>
            <p:cNvCxnSpPr/>
            <p:nvPr/>
          </p:nvCxnSpPr>
          <p:spPr>
            <a:xfrm>
              <a:off x="4648680" y="3535560"/>
              <a:ext cx="532800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52" name="直接连接符 11"/>
            <p:cNvCxnSpPr/>
            <p:nvPr/>
          </p:nvCxnSpPr>
          <p:spPr>
            <a:xfrm>
              <a:off x="4648680" y="4181040"/>
              <a:ext cx="532800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sp>
          <p:nvSpPr>
            <p:cNvPr id="53" name="文本框 12"/>
            <p:cNvSpPr/>
            <p:nvPr/>
          </p:nvSpPr>
          <p:spPr>
            <a:xfrm>
              <a:off x="5085360" y="4343400"/>
              <a:ext cx="1627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版社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信出版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直接连接符 13"/>
            <p:cNvCxnSpPr/>
            <p:nvPr/>
          </p:nvCxnSpPr>
          <p:spPr>
            <a:xfrm>
              <a:off x="9976320" y="1944720"/>
              <a:ext cx="360" cy="29685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</p:grpSp>
      <p:pic>
        <p:nvPicPr>
          <p:cNvPr id="55" name="图片 15" descr=""/>
          <p:cNvPicPr/>
          <p:nvPr/>
        </p:nvPicPr>
        <p:blipFill>
          <a:blip r:embed="rId1"/>
          <a:stretch/>
        </p:blipFill>
        <p:spPr>
          <a:xfrm>
            <a:off x="2570040" y="2143800"/>
            <a:ext cx="1861920" cy="2629080"/>
          </a:xfrm>
          <a:prstGeom prst="rect">
            <a:avLst/>
          </a:prstGeom>
          <a:ln w="0">
            <a:noFill/>
          </a:ln>
        </p:spPr>
      </p:pic>
      <p:sp>
        <p:nvSpPr>
          <p:cNvPr id="56" name="矩形 16"/>
          <p:cNvSpPr/>
          <p:nvPr/>
        </p:nvSpPr>
        <p:spPr>
          <a:xfrm>
            <a:off x="0" y="0"/>
            <a:ext cx="12324240" cy="1431000"/>
          </a:xfrm>
          <a:prstGeom prst="rect">
            <a:avLst/>
          </a:prstGeom>
          <a:solidFill>
            <a:schemeClr val="tx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0" y="5418720"/>
            <a:ext cx="12324240" cy="1431000"/>
          </a:xfrm>
          <a:prstGeom prst="rect">
            <a:avLst/>
          </a:prstGeom>
          <a:solidFill>
            <a:schemeClr val="tx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58" name="图片 21" descr=""/>
          <p:cNvPicPr/>
          <p:nvPr/>
        </p:nvPicPr>
        <p:blipFill>
          <a:blip r:embed="rId2"/>
          <a:srcRect l="20491" t="17697" r="0" b="0"/>
          <a:stretch/>
        </p:blipFill>
        <p:spPr>
          <a:xfrm>
            <a:off x="-13320" y="1431360"/>
            <a:ext cx="1352160" cy="1399680"/>
          </a:xfrm>
          <a:prstGeom prst="rect">
            <a:avLst/>
          </a:prstGeom>
          <a:ln w="0">
            <a:noFill/>
          </a:ln>
        </p:spPr>
      </p:pic>
      <p:sp>
        <p:nvSpPr>
          <p:cNvPr id="59" name="矩形 14"/>
          <p:cNvSpPr/>
          <p:nvPr/>
        </p:nvSpPr>
        <p:spPr>
          <a:xfrm>
            <a:off x="3458880" y="3618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主义读书笔记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14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215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228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实现构思的必要条件和充分条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30" name="组合 44"/>
          <p:cNvGrpSpPr/>
          <p:nvPr/>
        </p:nvGrpSpPr>
        <p:grpSpPr>
          <a:xfrm>
            <a:off x="1709640" y="3507480"/>
            <a:ext cx="8772480" cy="2611440"/>
            <a:chOff x="1709640" y="3507480"/>
            <a:chExt cx="8772480" cy="2611440"/>
          </a:xfrm>
        </p:grpSpPr>
        <p:grpSp>
          <p:nvGrpSpPr>
            <p:cNvPr id="231" name="组合 43"/>
            <p:cNvGrpSpPr/>
            <p:nvPr/>
          </p:nvGrpSpPr>
          <p:grpSpPr>
            <a:xfrm>
              <a:off x="1709640" y="3507480"/>
              <a:ext cx="8772480" cy="2611440"/>
              <a:chOff x="1709640" y="3507480"/>
              <a:chExt cx="8772480" cy="2611440"/>
            </a:xfrm>
          </p:grpSpPr>
          <p:sp>
            <p:nvSpPr>
              <p:cNvPr id="232" name="矩形 39"/>
              <p:cNvSpPr/>
              <p:nvPr/>
            </p:nvSpPr>
            <p:spPr>
              <a:xfrm>
                <a:off x="1709640" y="3708000"/>
                <a:ext cx="8772480" cy="241092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3" name="矩形 41"/>
              <p:cNvSpPr/>
              <p:nvPr/>
            </p:nvSpPr>
            <p:spPr>
              <a:xfrm>
                <a:off x="9626760" y="350748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4" name="矩形 42"/>
            <p:cNvSpPr/>
            <p:nvPr/>
          </p:nvSpPr>
          <p:spPr>
            <a:xfrm>
              <a:off x="1922400" y="4264560"/>
              <a:ext cx="834660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关于需求理论，比较著名的是马斯洛需求层次理论，即将需求分为五个层次：生理需求，安全需求，归属需求，自尊需求和自我实现需求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需求可以作为细分市场的依据，进而发现准确的目标市场，最终根据目标市场对自身进行定位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要完成以上每一步都需要论据支撑。要么使用现有的二手数据，要么就需要自己搜集数据分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矩形 1"/>
          <p:cNvSpPr/>
          <p:nvPr/>
        </p:nvSpPr>
        <p:spPr>
          <a:xfrm>
            <a:off x="1709640" y="1500480"/>
            <a:ext cx="877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要条件为社会的基本需求。如果此项事业能够满足顾客的需求，则开始从市场和财务方面调查取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有多少人赞成，需要付出多大的代价，设计出回收这种代价的方法并制定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考虑钱包里有多少钱，对整个事业进行构思，则是成功的充分条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37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238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251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深度经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53" name="组合 44"/>
          <p:cNvGrpSpPr/>
          <p:nvPr/>
        </p:nvGrpSpPr>
        <p:grpSpPr>
          <a:xfrm>
            <a:off x="1709640" y="3087000"/>
            <a:ext cx="8772480" cy="2611800"/>
            <a:chOff x="1709640" y="3087000"/>
            <a:chExt cx="8772480" cy="2611800"/>
          </a:xfrm>
        </p:grpSpPr>
        <p:grpSp>
          <p:nvGrpSpPr>
            <p:cNvPr id="254" name="组合 43"/>
            <p:cNvGrpSpPr/>
            <p:nvPr/>
          </p:nvGrpSpPr>
          <p:grpSpPr>
            <a:xfrm>
              <a:off x="1709640" y="3087000"/>
              <a:ext cx="8772480" cy="2611800"/>
              <a:chOff x="1709640" y="3087000"/>
              <a:chExt cx="8772480" cy="2611800"/>
            </a:xfrm>
          </p:grpSpPr>
          <p:sp>
            <p:nvSpPr>
              <p:cNvPr id="255" name="矩形 39"/>
              <p:cNvSpPr/>
              <p:nvPr/>
            </p:nvSpPr>
            <p:spPr>
              <a:xfrm>
                <a:off x="1709640" y="3287880"/>
                <a:ext cx="8772480" cy="241092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56" name="矩形 41"/>
              <p:cNvSpPr/>
              <p:nvPr/>
            </p:nvSpPr>
            <p:spPr>
              <a:xfrm>
                <a:off x="9626760" y="308700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57" name="矩形 42"/>
            <p:cNvSpPr/>
            <p:nvPr/>
          </p:nvSpPr>
          <p:spPr>
            <a:xfrm>
              <a:off x="1922400" y="3844080"/>
              <a:ext cx="83466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个人更推崇保龄球战略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要占领整个目标区域市场，首先攻占整个目标市场中的某个“关键市场”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——第一个“球瓶”，然后，利用这个“关键市场”的巨大辐射力来影响周边广大的市场，以达到占领大片市场的目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facebook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就是这样发展壮大的：目标群体，前期是大学生，然后扩展为所有人；功能，前期是传统的日志、相册、分享、游戏，然后加入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Graph Search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挑战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google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的搜索地位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1"/>
          <p:cNvSpPr/>
          <p:nvPr/>
        </p:nvSpPr>
        <p:spPr>
          <a:xfrm>
            <a:off x="1709640" y="1726200"/>
            <a:ext cx="877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度经济”要求我们把事业的重心限定在一个狭窄的范围内，然后纵深发展，以使竞争对手无法模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"/>
          <p:cNvGrpSpPr/>
          <p:nvPr/>
        </p:nvGrpSpPr>
        <p:grpSpPr>
          <a:xfrm>
            <a:off x="1593360" y="1648440"/>
            <a:ext cx="9150120" cy="1868400"/>
            <a:chOff x="1593360" y="1648440"/>
            <a:chExt cx="9150120" cy="1868400"/>
          </a:xfrm>
        </p:grpSpPr>
        <p:grpSp>
          <p:nvGrpSpPr>
            <p:cNvPr id="260" name="组合 2"/>
            <p:cNvGrpSpPr/>
            <p:nvPr/>
          </p:nvGrpSpPr>
          <p:grpSpPr>
            <a:xfrm>
              <a:off x="1593360" y="2515680"/>
              <a:ext cx="9150120" cy="1001160"/>
              <a:chOff x="1593360" y="2515680"/>
              <a:chExt cx="9150120" cy="1001160"/>
            </a:xfrm>
          </p:grpSpPr>
          <p:grpSp>
            <p:nvGrpSpPr>
              <p:cNvPr id="261" name="组合 5"/>
              <p:cNvGrpSpPr/>
              <p:nvPr/>
            </p:nvGrpSpPr>
            <p:grpSpPr>
              <a:xfrm>
                <a:off x="1593360" y="2515680"/>
                <a:ext cx="2002680" cy="1001160"/>
                <a:chOff x="1593360" y="2515680"/>
                <a:chExt cx="2002680" cy="1001160"/>
              </a:xfrm>
            </p:grpSpPr>
            <p:sp>
              <p:nvSpPr>
                <p:cNvPr id="262" name="矩形 15"/>
                <p:cNvSpPr/>
                <p:nvPr/>
              </p:nvSpPr>
              <p:spPr>
                <a:xfrm>
                  <a:off x="159336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3" name="文本框 16"/>
                <p:cNvSpPr/>
                <p:nvPr/>
              </p:nvSpPr>
              <p:spPr>
                <a:xfrm>
                  <a:off x="201636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组合 6"/>
              <p:cNvGrpSpPr/>
              <p:nvPr/>
            </p:nvGrpSpPr>
            <p:grpSpPr>
              <a:xfrm>
                <a:off x="3712320" y="2515680"/>
                <a:ext cx="2002680" cy="1001160"/>
                <a:chOff x="3712320" y="2515680"/>
                <a:chExt cx="2002680" cy="1001160"/>
              </a:xfrm>
            </p:grpSpPr>
            <p:sp>
              <p:nvSpPr>
                <p:cNvPr id="265" name="矩形 13"/>
                <p:cNvSpPr/>
                <p:nvPr/>
              </p:nvSpPr>
              <p:spPr>
                <a:xfrm>
                  <a:off x="371232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bfbfb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6" name="文本框 14"/>
                <p:cNvSpPr/>
                <p:nvPr/>
              </p:nvSpPr>
              <p:spPr>
                <a:xfrm>
                  <a:off x="413568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7"/>
              <p:cNvGrpSpPr/>
              <p:nvPr/>
            </p:nvGrpSpPr>
            <p:grpSpPr>
              <a:xfrm>
                <a:off x="5874840" y="2515680"/>
                <a:ext cx="2002680" cy="1001160"/>
                <a:chOff x="5874840" y="2515680"/>
                <a:chExt cx="2002680" cy="1001160"/>
              </a:xfrm>
            </p:grpSpPr>
            <p:sp>
              <p:nvSpPr>
                <p:cNvPr id="268" name="矩形 11"/>
                <p:cNvSpPr/>
                <p:nvPr/>
              </p:nvSpPr>
              <p:spPr>
                <a:xfrm>
                  <a:off x="587484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9" name="文本框 12"/>
                <p:cNvSpPr/>
                <p:nvPr/>
              </p:nvSpPr>
              <p:spPr>
                <a:xfrm>
                  <a:off x="629820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组合 8"/>
              <p:cNvGrpSpPr/>
              <p:nvPr/>
            </p:nvGrpSpPr>
            <p:grpSpPr>
              <a:xfrm>
                <a:off x="8008560" y="2515680"/>
                <a:ext cx="2734920" cy="1001160"/>
                <a:chOff x="8008560" y="2515680"/>
                <a:chExt cx="2734920" cy="1001160"/>
              </a:xfrm>
            </p:grpSpPr>
            <p:sp>
              <p:nvSpPr>
                <p:cNvPr id="271" name="矩形 9"/>
                <p:cNvSpPr/>
                <p:nvPr/>
              </p:nvSpPr>
              <p:spPr>
                <a:xfrm>
                  <a:off x="8008560" y="251568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72" name="文本框 10"/>
                <p:cNvSpPr/>
                <p:nvPr/>
              </p:nvSpPr>
              <p:spPr>
                <a:xfrm>
                  <a:off x="8553960" y="272412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矩形 3"/>
            <p:cNvSpPr/>
            <p:nvPr/>
          </p:nvSpPr>
          <p:spPr>
            <a:xfrm>
              <a:off x="1593360" y="164844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4" name="文本框 4"/>
            <p:cNvSpPr/>
            <p:nvPr/>
          </p:nvSpPr>
          <p:spPr>
            <a:xfrm>
              <a:off x="5475600" y="170820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1"/>
          <p:cNvGrpSpPr/>
          <p:nvPr/>
        </p:nvGrpSpPr>
        <p:grpSpPr>
          <a:xfrm>
            <a:off x="3018960" y="3937680"/>
            <a:ext cx="6153840" cy="540360"/>
            <a:chOff x="3018960" y="3937680"/>
            <a:chExt cx="6153840" cy="540360"/>
          </a:xfrm>
        </p:grpSpPr>
        <p:sp>
          <p:nvSpPr>
            <p:cNvPr id="276" name="文本框 17"/>
            <p:cNvSpPr/>
            <p:nvPr/>
          </p:nvSpPr>
          <p:spPr>
            <a:xfrm>
              <a:off x="4451400" y="3963960"/>
              <a:ext cx="3471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客客气气的态度反倒成了事业的绊脚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图片 19" descr=""/>
            <p:cNvPicPr/>
            <p:nvPr/>
          </p:nvPicPr>
          <p:blipFill>
            <a:blip r:embed="rId1"/>
            <a:srcRect l="54969" t="23640" r="27690" b="55803"/>
            <a:stretch/>
          </p:blipFill>
          <p:spPr>
            <a:xfrm>
              <a:off x="3018960" y="3937680"/>
              <a:ext cx="3495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20" descr=""/>
            <p:cNvPicPr/>
            <p:nvPr/>
          </p:nvPicPr>
          <p:blipFill>
            <a:blip r:embed="rId2"/>
            <a:srcRect l="54969" t="23640" r="27690" b="55803"/>
            <a:stretch/>
          </p:blipFill>
          <p:spPr>
            <a:xfrm rot="10800000">
              <a:off x="8823240" y="4208040"/>
              <a:ext cx="34956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80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281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294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影响讨论成功的因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96" name="组合 2"/>
          <p:cNvGrpSpPr/>
          <p:nvPr/>
        </p:nvGrpSpPr>
        <p:grpSpPr>
          <a:xfrm>
            <a:off x="1709640" y="1140480"/>
            <a:ext cx="8772480" cy="4880160"/>
            <a:chOff x="1709640" y="1140480"/>
            <a:chExt cx="8772480" cy="4880160"/>
          </a:xfrm>
        </p:grpSpPr>
        <p:grpSp>
          <p:nvGrpSpPr>
            <p:cNvPr id="297" name="组合 44"/>
            <p:cNvGrpSpPr/>
            <p:nvPr/>
          </p:nvGrpSpPr>
          <p:grpSpPr>
            <a:xfrm>
              <a:off x="1709640" y="3879720"/>
              <a:ext cx="8772480" cy="2140920"/>
              <a:chOff x="1709640" y="3879720"/>
              <a:chExt cx="8772480" cy="2140920"/>
            </a:xfrm>
          </p:grpSpPr>
          <p:grpSp>
            <p:nvGrpSpPr>
              <p:cNvPr id="298" name="组合 43"/>
              <p:cNvGrpSpPr/>
              <p:nvPr/>
            </p:nvGrpSpPr>
            <p:grpSpPr>
              <a:xfrm>
                <a:off x="1709640" y="3879720"/>
                <a:ext cx="8772480" cy="2140920"/>
                <a:chOff x="1709640" y="3879720"/>
                <a:chExt cx="8772480" cy="2140920"/>
              </a:xfrm>
            </p:grpSpPr>
            <p:sp>
              <p:nvSpPr>
                <p:cNvPr id="299" name="矩形 39"/>
                <p:cNvSpPr/>
                <p:nvPr/>
              </p:nvSpPr>
              <p:spPr>
                <a:xfrm>
                  <a:off x="1709640" y="4080240"/>
                  <a:ext cx="8772480" cy="1940400"/>
                </a:xfrm>
                <a:prstGeom prst="rect">
                  <a:avLst/>
                </a:prstGeom>
                <a:solidFill>
                  <a:srgbClr val="ffffff">
                    <a:alpha val="99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5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00" name="矩形 41"/>
                <p:cNvSpPr/>
                <p:nvPr/>
              </p:nvSpPr>
              <p:spPr>
                <a:xfrm>
                  <a:off x="9626760" y="3879720"/>
                  <a:ext cx="397080" cy="70884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sp>
            <p:nvSpPr>
              <p:cNvPr id="301" name="矩形 42"/>
              <p:cNvSpPr/>
              <p:nvPr/>
            </p:nvSpPr>
            <p:spPr>
              <a:xfrm>
                <a:off x="1922400" y="4588920"/>
                <a:ext cx="8346600" cy="8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1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关于利害关系的讨论就需要组织者（领导）的魄力。在《乔布斯传》中有提及产品设计过程中经常发生设计师与工程师之间的矛盾，问题最终都是在乔布斯的魄力下解决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2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规则与纪律则可以参考《罗伯特议事规则》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3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共同语言即逻辑。所以一般来说，大多数人愿意跟同层次的人交流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矩形 38"/>
            <p:cNvSpPr/>
            <p:nvPr/>
          </p:nvSpPr>
          <p:spPr>
            <a:xfrm>
              <a:off x="1709640" y="1140480"/>
              <a:ext cx="8772480" cy="14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讨论等同于谈判。谈判是为了协调利害关系，讨论是为了寻找最佳答案。一旦讨论内容涉及利害关系，就很容易演变为谈判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缺乏规则与纪律。在缺乏规则与纪律的情况下讨论问题，如果有人发言咄咄逼人，其他人便会静观发展动态，或是重复自己观点，于是会议最终流于形式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缺乏“共同语言”。讨论的共同语言指的是逻辑。发言不符合逻辑的讨论是无法奏响和谐的乐章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7682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05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306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319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小心诡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1" name="组合 2"/>
          <p:cNvGrpSpPr/>
          <p:nvPr/>
        </p:nvGrpSpPr>
        <p:grpSpPr>
          <a:xfrm>
            <a:off x="1709640" y="1646640"/>
            <a:ext cx="8772480" cy="3997080"/>
            <a:chOff x="1709640" y="1646640"/>
            <a:chExt cx="8772480" cy="3997080"/>
          </a:xfrm>
        </p:grpSpPr>
        <p:grpSp>
          <p:nvGrpSpPr>
            <p:cNvPr id="322" name="组合 44"/>
            <p:cNvGrpSpPr/>
            <p:nvPr/>
          </p:nvGrpSpPr>
          <p:grpSpPr>
            <a:xfrm>
              <a:off x="1709640" y="2913120"/>
              <a:ext cx="8772480" cy="2730600"/>
              <a:chOff x="1709640" y="2913120"/>
              <a:chExt cx="8772480" cy="2730600"/>
            </a:xfrm>
          </p:grpSpPr>
          <p:grpSp>
            <p:nvGrpSpPr>
              <p:cNvPr id="323" name="组合 43"/>
              <p:cNvGrpSpPr/>
              <p:nvPr/>
            </p:nvGrpSpPr>
            <p:grpSpPr>
              <a:xfrm>
                <a:off x="1709640" y="2913120"/>
                <a:ext cx="8772480" cy="2730600"/>
                <a:chOff x="1709640" y="2913120"/>
                <a:chExt cx="8772480" cy="2730600"/>
              </a:xfrm>
            </p:grpSpPr>
            <p:sp>
              <p:nvSpPr>
                <p:cNvPr id="324" name="矩形 39"/>
                <p:cNvSpPr/>
                <p:nvPr/>
              </p:nvSpPr>
              <p:spPr>
                <a:xfrm>
                  <a:off x="1709640" y="3114000"/>
                  <a:ext cx="8772480" cy="2529720"/>
                </a:xfrm>
                <a:prstGeom prst="rect">
                  <a:avLst/>
                </a:prstGeom>
                <a:solidFill>
                  <a:srgbClr val="ffffff">
                    <a:alpha val="99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5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25" name="矩形 41"/>
                <p:cNvSpPr/>
                <p:nvPr/>
              </p:nvSpPr>
              <p:spPr>
                <a:xfrm>
                  <a:off x="9626760" y="2913120"/>
                  <a:ext cx="397080" cy="70884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sp>
            <p:nvSpPr>
              <p:cNvPr id="326" name="矩形 42"/>
              <p:cNvSpPr/>
              <p:nvPr/>
            </p:nvSpPr>
            <p:spPr>
              <a:xfrm>
                <a:off x="1922400" y="3576240"/>
                <a:ext cx="834660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要否定一项国家财政安排十分简单，只需说一句：“为什么不把这些钱拿来支援贫苦山区的儿童？”这种站在道德高地的指责很容易赢得满堂喝彩，但问题是，它真的像它表现的那样符合逻辑吗？以修高铁为例，修高铁的过程需要很多劳力，这可以解决一部分农民工就业问题。他们有了工作，家里的孩子便有了书读。而且修好高铁后，其覆盖地区的经济势必提升（要想富，先修路）。如此种种，孰轻孰重，自见分晓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关于诡辩，常见的有：含糊其词，模棱两可；偷换概念；虚假论据；循环论证；以人为据；机械类比；以偏概全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矩形 38"/>
            <p:cNvSpPr/>
            <p:nvPr/>
          </p:nvSpPr>
          <p:spPr>
            <a:xfrm>
              <a:off x="1709640" y="1646640"/>
              <a:ext cx="8772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可把诡辩与符合逻辑的讨论混为一谈，这两者似是而非。当讨论达到白热化的程度时，满怀自信的与别人激烈争论的人，会使会场的气氛显得非常热烈，这些人的发言大多属于诡辩，他们的目的在于谋求自身的利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1"/>
          <p:cNvGrpSpPr/>
          <p:nvPr/>
        </p:nvGrpSpPr>
        <p:grpSpPr>
          <a:xfrm>
            <a:off x="1593360" y="1788120"/>
            <a:ext cx="9150120" cy="1868760"/>
            <a:chOff x="1593360" y="1788120"/>
            <a:chExt cx="9150120" cy="1868760"/>
          </a:xfrm>
        </p:grpSpPr>
        <p:grpSp>
          <p:nvGrpSpPr>
            <p:cNvPr id="329" name="组合 2"/>
            <p:cNvGrpSpPr/>
            <p:nvPr/>
          </p:nvGrpSpPr>
          <p:grpSpPr>
            <a:xfrm>
              <a:off x="1593360" y="2655720"/>
              <a:ext cx="9150120" cy="1001160"/>
              <a:chOff x="1593360" y="2655720"/>
              <a:chExt cx="9150120" cy="1001160"/>
            </a:xfrm>
          </p:grpSpPr>
          <p:grpSp>
            <p:nvGrpSpPr>
              <p:cNvPr id="330" name="组合 5"/>
              <p:cNvGrpSpPr/>
              <p:nvPr/>
            </p:nvGrpSpPr>
            <p:grpSpPr>
              <a:xfrm>
                <a:off x="1593360" y="2655720"/>
                <a:ext cx="2002680" cy="1001160"/>
                <a:chOff x="1593360" y="2655720"/>
                <a:chExt cx="2002680" cy="1001160"/>
              </a:xfrm>
            </p:grpSpPr>
            <p:sp>
              <p:nvSpPr>
                <p:cNvPr id="331" name="矩形 15"/>
                <p:cNvSpPr/>
                <p:nvPr/>
              </p:nvSpPr>
              <p:spPr>
                <a:xfrm>
                  <a:off x="1593360" y="265572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32" name="文本框 16"/>
                <p:cNvSpPr/>
                <p:nvPr/>
              </p:nvSpPr>
              <p:spPr>
                <a:xfrm>
                  <a:off x="2016360" y="286416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组合 6"/>
              <p:cNvGrpSpPr/>
              <p:nvPr/>
            </p:nvGrpSpPr>
            <p:grpSpPr>
              <a:xfrm>
                <a:off x="3712320" y="2655720"/>
                <a:ext cx="2002680" cy="1001160"/>
                <a:chOff x="3712320" y="2655720"/>
                <a:chExt cx="2002680" cy="1001160"/>
              </a:xfrm>
            </p:grpSpPr>
            <p:sp>
              <p:nvSpPr>
                <p:cNvPr id="334" name="矩形 13"/>
                <p:cNvSpPr/>
                <p:nvPr/>
              </p:nvSpPr>
              <p:spPr>
                <a:xfrm>
                  <a:off x="3712320" y="265572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bfbfb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35" name="文本框 14"/>
                <p:cNvSpPr/>
                <p:nvPr/>
              </p:nvSpPr>
              <p:spPr>
                <a:xfrm>
                  <a:off x="4135680" y="286416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组合 7"/>
              <p:cNvGrpSpPr/>
              <p:nvPr/>
            </p:nvGrpSpPr>
            <p:grpSpPr>
              <a:xfrm>
                <a:off x="5874840" y="2655720"/>
                <a:ext cx="2002680" cy="1001160"/>
                <a:chOff x="5874840" y="2655720"/>
                <a:chExt cx="2002680" cy="1001160"/>
              </a:xfrm>
            </p:grpSpPr>
            <p:sp>
              <p:nvSpPr>
                <p:cNvPr id="337" name="矩形 11"/>
                <p:cNvSpPr/>
                <p:nvPr/>
              </p:nvSpPr>
              <p:spPr>
                <a:xfrm>
                  <a:off x="5874840" y="265572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38" name="文本框 12"/>
                <p:cNvSpPr/>
                <p:nvPr/>
              </p:nvSpPr>
              <p:spPr>
                <a:xfrm>
                  <a:off x="6298200" y="286416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组合 8"/>
              <p:cNvGrpSpPr/>
              <p:nvPr/>
            </p:nvGrpSpPr>
            <p:grpSpPr>
              <a:xfrm>
                <a:off x="8008560" y="2655720"/>
                <a:ext cx="2734920" cy="1001160"/>
                <a:chOff x="8008560" y="2655720"/>
                <a:chExt cx="2734920" cy="1001160"/>
              </a:xfrm>
            </p:grpSpPr>
            <p:sp>
              <p:nvSpPr>
                <p:cNvPr id="340" name="矩形 9"/>
                <p:cNvSpPr/>
                <p:nvPr/>
              </p:nvSpPr>
              <p:spPr>
                <a:xfrm>
                  <a:off x="8008560" y="265572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41" name="文本框 10"/>
                <p:cNvSpPr/>
                <p:nvPr/>
              </p:nvSpPr>
              <p:spPr>
                <a:xfrm>
                  <a:off x="8553960" y="286416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矩形 3"/>
            <p:cNvSpPr/>
            <p:nvPr/>
          </p:nvSpPr>
          <p:spPr>
            <a:xfrm>
              <a:off x="1593360" y="178812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43" name="文本框 4"/>
            <p:cNvSpPr/>
            <p:nvPr/>
          </p:nvSpPr>
          <p:spPr>
            <a:xfrm>
              <a:off x="5475600" y="184788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1"/>
          <p:cNvGrpSpPr/>
          <p:nvPr/>
        </p:nvGrpSpPr>
        <p:grpSpPr>
          <a:xfrm>
            <a:off x="1569960" y="4077360"/>
            <a:ext cx="9136440" cy="514080"/>
            <a:chOff x="1569960" y="4077360"/>
            <a:chExt cx="9136440" cy="514080"/>
          </a:xfrm>
        </p:grpSpPr>
        <p:sp>
          <p:nvSpPr>
            <p:cNvPr id="345" name="文本框 17"/>
            <p:cNvSpPr/>
            <p:nvPr/>
          </p:nvSpPr>
          <p:spPr>
            <a:xfrm>
              <a:off x="6111720" y="4103640"/>
              <a:ext cx="330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反驳的目的不是在于击倒对方，而是为了加强相互之间的理解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19" descr=""/>
            <p:cNvPicPr/>
            <p:nvPr/>
          </p:nvPicPr>
          <p:blipFill>
            <a:blip r:embed="rId1"/>
            <a:srcRect l="54969" t="23640" r="27690" b="55803"/>
            <a:stretch/>
          </p:blipFill>
          <p:spPr>
            <a:xfrm>
              <a:off x="1569960" y="4077360"/>
              <a:ext cx="3495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图片 20" descr=""/>
            <p:cNvPicPr/>
            <p:nvPr/>
          </p:nvPicPr>
          <p:blipFill>
            <a:blip r:embed="rId2"/>
            <a:srcRect l="54969" t="23640" r="27690" b="55803"/>
            <a:stretch/>
          </p:blipFill>
          <p:spPr>
            <a:xfrm rot="10800000">
              <a:off x="10356840" y="4321440"/>
              <a:ext cx="34956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49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350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363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适应矛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65" name="组合 2"/>
          <p:cNvGrpSpPr/>
          <p:nvPr/>
        </p:nvGrpSpPr>
        <p:grpSpPr>
          <a:xfrm>
            <a:off x="1709640" y="1665360"/>
            <a:ext cx="8772480" cy="4355280"/>
            <a:chOff x="1709640" y="1665360"/>
            <a:chExt cx="8772480" cy="4355280"/>
          </a:xfrm>
        </p:grpSpPr>
        <p:grpSp>
          <p:nvGrpSpPr>
            <p:cNvPr id="366" name="组合 44"/>
            <p:cNvGrpSpPr/>
            <p:nvPr/>
          </p:nvGrpSpPr>
          <p:grpSpPr>
            <a:xfrm>
              <a:off x="1709640" y="3879720"/>
              <a:ext cx="8772480" cy="2140920"/>
              <a:chOff x="1709640" y="3879720"/>
              <a:chExt cx="8772480" cy="2140920"/>
            </a:xfrm>
          </p:grpSpPr>
          <p:grpSp>
            <p:nvGrpSpPr>
              <p:cNvPr id="367" name="组合 43"/>
              <p:cNvGrpSpPr/>
              <p:nvPr/>
            </p:nvGrpSpPr>
            <p:grpSpPr>
              <a:xfrm>
                <a:off x="1709640" y="3879720"/>
                <a:ext cx="8772480" cy="2140920"/>
                <a:chOff x="1709640" y="3879720"/>
                <a:chExt cx="8772480" cy="2140920"/>
              </a:xfrm>
            </p:grpSpPr>
            <p:sp>
              <p:nvSpPr>
                <p:cNvPr id="368" name="矩形 39"/>
                <p:cNvSpPr/>
                <p:nvPr/>
              </p:nvSpPr>
              <p:spPr>
                <a:xfrm>
                  <a:off x="1709640" y="4080240"/>
                  <a:ext cx="8772480" cy="1940400"/>
                </a:xfrm>
                <a:prstGeom prst="rect">
                  <a:avLst/>
                </a:prstGeom>
                <a:solidFill>
                  <a:srgbClr val="ffffff">
                    <a:alpha val="99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5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9" name="矩形 41"/>
                <p:cNvSpPr/>
                <p:nvPr/>
              </p:nvSpPr>
              <p:spPr>
                <a:xfrm>
                  <a:off x="9626760" y="3879720"/>
                  <a:ext cx="397080" cy="70884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sp>
            <p:nvSpPr>
              <p:cNvPr id="370" name="矩形 42"/>
              <p:cNvSpPr/>
              <p:nvPr/>
            </p:nvSpPr>
            <p:spPr>
              <a:xfrm>
                <a:off x="1922400" y="4588920"/>
                <a:ext cx="834660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适应矛盾就是根据环境进行变化。诺基亚的兴与衰就是一个很好的例子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1960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年，诺基亚时任总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Bjorn Westerlund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开始专注于电信行业，他认为未来的电信行业是科技发展的趋势，于是他建立了诺基亚电子部，并专注于电信系统方面的工作。之后的成绩我们有目共睹。而再之后，它又错过了智能手机的浪潮，现在仍然在追赶三星、苹果的路上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矩形 38"/>
            <p:cNvSpPr/>
            <p:nvPr/>
          </p:nvSpPr>
          <p:spPr>
            <a:xfrm>
              <a:off x="1709640" y="1665360"/>
              <a:ext cx="87724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经营没有唯一的最佳答案。经营上的“答案”几乎都是建立在决策者主观判断的基础之上，判断失误，损失就会加重，我们必须牢记这一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高效推进事业发展的过程中，当我们遇到问题时，解决问题的第一步就是思考“我们能够做什么”，把“不能做的事”变成“能做的事”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6"/>
          <p:cNvGrpSpPr/>
          <p:nvPr/>
        </p:nvGrpSpPr>
        <p:grpSpPr>
          <a:xfrm>
            <a:off x="2331000" y="2428920"/>
            <a:ext cx="6955560" cy="1549080"/>
            <a:chOff x="2331000" y="2428920"/>
            <a:chExt cx="6955560" cy="1549080"/>
          </a:xfrm>
        </p:grpSpPr>
        <p:pic>
          <p:nvPicPr>
            <p:cNvPr id="373" name="图片 1" descr=""/>
            <p:cNvPicPr/>
            <p:nvPr/>
          </p:nvPicPr>
          <p:blipFill>
            <a:blip r:embed="rId1"/>
            <a:stretch/>
          </p:blipFill>
          <p:spPr>
            <a:xfrm>
              <a:off x="2331000" y="2428920"/>
              <a:ext cx="3993480" cy="15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文本框 2"/>
            <p:cNvSpPr/>
            <p:nvPr/>
          </p:nvSpPr>
          <p:spPr>
            <a:xfrm>
              <a:off x="7428960" y="2819160"/>
              <a:ext cx="18576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谢谢观看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直接连接符 4"/>
            <p:cNvCxnSpPr/>
            <p:nvPr/>
          </p:nvCxnSpPr>
          <p:spPr>
            <a:xfrm>
              <a:off x="6589800" y="2428920"/>
              <a:ext cx="360" cy="15494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376" name="文本框 7"/>
          <p:cNvSpPr/>
          <p:nvPr/>
        </p:nvSpPr>
        <p:spPr>
          <a:xfrm>
            <a:off x="10895400" y="6387480"/>
            <a:ext cx="92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者 曹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1499400" y="2030400"/>
            <a:ext cx="9419760" cy="2797200"/>
          </a:xfrm>
          <a:prstGeom prst="rect">
            <a:avLst/>
          </a:prstGeom>
          <a:solidFill>
            <a:srgbClr val="d0c5b1">
              <a:alpha val="90000"/>
            </a:srgbClr>
          </a:solidFill>
          <a:ln>
            <a:noFill/>
          </a:ln>
          <a:effectLst>
            <a:outerShdw algn="ctr" blurRad="63360" rotWithShape="0" sx="102000" sy="102000">
              <a:srgbClr val="000000">
                <a:alpha val="1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62" name="图片 5" descr=""/>
          <p:cNvPicPr/>
          <p:nvPr/>
        </p:nvPicPr>
        <p:blipFill>
          <a:blip r:embed="rId1"/>
          <a:stretch/>
        </p:blipFill>
        <p:spPr>
          <a:xfrm>
            <a:off x="1499400" y="2030400"/>
            <a:ext cx="1959120" cy="2797200"/>
          </a:xfrm>
          <a:prstGeom prst="rect">
            <a:avLst/>
          </a:prstGeom>
          <a:ln w="0">
            <a:noFill/>
          </a:ln>
        </p:spPr>
      </p:pic>
      <p:sp>
        <p:nvSpPr>
          <p:cNvPr id="63" name="矩形 8"/>
          <p:cNvSpPr/>
          <p:nvPr/>
        </p:nvSpPr>
        <p:spPr>
          <a:xfrm>
            <a:off x="4321800" y="2275920"/>
            <a:ext cx="536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大前研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779640" y="2862000"/>
            <a:ext cx="66895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省理工学院博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任麦肯锡日本分公司董事长，兼任许多跨国公司的管理顾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英国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经济学家》杂志评选为“全球五位管理大师”之一，“日本战略之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接连接符 11"/>
          <p:cNvCxnSpPr/>
          <p:nvPr/>
        </p:nvCxnSpPr>
        <p:spPr>
          <a:xfrm>
            <a:off x="3869280" y="2862000"/>
            <a:ext cx="616284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66" name="直接连接符 14"/>
          <p:cNvCxnSpPr/>
          <p:nvPr/>
        </p:nvCxnSpPr>
        <p:spPr>
          <a:xfrm>
            <a:off x="3869280" y="4606920"/>
            <a:ext cx="616284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68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69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45"/>
          <p:cNvGrpSpPr/>
          <p:nvPr/>
        </p:nvGrpSpPr>
        <p:grpSpPr>
          <a:xfrm>
            <a:off x="0" y="263160"/>
            <a:ext cx="3643920" cy="577080"/>
            <a:chOff x="0" y="263160"/>
            <a:chExt cx="3643920" cy="577080"/>
          </a:xfrm>
        </p:grpSpPr>
        <p:sp>
          <p:nvSpPr>
            <p:cNvPr id="82" name="矩形 36"/>
            <p:cNvSpPr/>
            <p:nvPr/>
          </p:nvSpPr>
          <p:spPr>
            <a:xfrm>
              <a:off x="450000" y="263160"/>
              <a:ext cx="3193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你是专家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pic>
        <p:nvPicPr>
          <p:cNvPr id="84" name="图片 38" descr=""/>
          <p:cNvPicPr/>
          <p:nvPr/>
        </p:nvPicPr>
        <p:blipFill>
          <a:blip r:embed="rId1"/>
          <a:stretch/>
        </p:blipFill>
        <p:spPr>
          <a:xfrm>
            <a:off x="1177560" y="1642680"/>
            <a:ext cx="4018680" cy="408348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44"/>
          <p:cNvGrpSpPr/>
          <p:nvPr/>
        </p:nvGrpSpPr>
        <p:grpSpPr>
          <a:xfrm>
            <a:off x="5835960" y="2160360"/>
            <a:ext cx="5822280" cy="2676240"/>
            <a:chOff x="5835960" y="2160360"/>
            <a:chExt cx="5822280" cy="2676240"/>
          </a:xfrm>
        </p:grpSpPr>
        <p:grpSp>
          <p:nvGrpSpPr>
            <p:cNvPr id="86" name="组合 43"/>
            <p:cNvGrpSpPr/>
            <p:nvPr/>
          </p:nvGrpSpPr>
          <p:grpSpPr>
            <a:xfrm>
              <a:off x="5835960" y="2160360"/>
              <a:ext cx="5822280" cy="2676240"/>
              <a:chOff x="5835960" y="2160360"/>
              <a:chExt cx="5822280" cy="2676240"/>
            </a:xfrm>
          </p:grpSpPr>
          <p:sp>
            <p:nvSpPr>
              <p:cNvPr id="87" name="矩形 39"/>
              <p:cNvSpPr/>
              <p:nvPr/>
            </p:nvSpPr>
            <p:spPr>
              <a:xfrm>
                <a:off x="5835960" y="2415960"/>
                <a:ext cx="5822280" cy="242064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88" name="矩形 41"/>
              <p:cNvSpPr/>
              <p:nvPr/>
            </p:nvSpPr>
            <p:spPr>
              <a:xfrm>
                <a:off x="11014560" y="216036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89" name="矩形 42"/>
            <p:cNvSpPr/>
            <p:nvPr/>
          </p:nvSpPr>
          <p:spPr>
            <a:xfrm>
              <a:off x="6323400" y="3166560"/>
              <a:ext cx="508860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遵守纪律和讲求伦理是前提，顾客第一是准则，专业技能和控制情感是基本要求，好奇心和进取心是自我提升的动力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最难的莫过于控制情感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4492800" y="169596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33480" y="20700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4"/>
          <p:cNvGrpSpPr/>
          <p:nvPr/>
        </p:nvGrpSpPr>
        <p:grpSpPr>
          <a:xfrm>
            <a:off x="4190760" y="1368000"/>
            <a:ext cx="3490200" cy="2498400"/>
            <a:chOff x="4190760" y="1368000"/>
            <a:chExt cx="3490200" cy="2498400"/>
          </a:xfrm>
        </p:grpSpPr>
        <p:sp>
          <p:nvSpPr>
            <p:cNvPr id="93" name="矩形 2"/>
            <p:cNvSpPr/>
            <p:nvPr/>
          </p:nvSpPr>
          <p:spPr>
            <a:xfrm>
              <a:off x="5747760" y="1878480"/>
              <a:ext cx="696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达到平均水平就可以了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"/>
            <p:cNvSpPr/>
            <p:nvPr/>
          </p:nvSpPr>
          <p:spPr>
            <a:xfrm>
              <a:off x="5784120" y="3411000"/>
              <a:ext cx="62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还是自己更可爱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13"/>
            <p:cNvGrpSpPr/>
            <p:nvPr/>
          </p:nvGrpSpPr>
          <p:grpSpPr>
            <a:xfrm>
              <a:off x="4190760" y="2450880"/>
              <a:ext cx="3490200" cy="455400"/>
              <a:chOff x="4190760" y="2450880"/>
              <a:chExt cx="3490200" cy="455400"/>
            </a:xfrm>
          </p:grpSpPr>
          <p:sp>
            <p:nvSpPr>
              <p:cNvPr id="96" name="矩形 7"/>
              <p:cNvSpPr/>
              <p:nvPr/>
            </p:nvSpPr>
            <p:spPr>
              <a:xfrm>
                <a:off x="7132680" y="2481840"/>
                <a:ext cx="548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595959"/>
                    </a:solidFill>
                    <a:latin typeface="华康俪金黑W8(P)"/>
                    <a:ea typeface="华康俪金黑W8(P)"/>
                  </a:rPr>
                  <a:t>“</a:t>
                </a:r>
                <a:r>
                  <a:rPr b="0" lang="zh-CN" sz="2000" spc="-1" strike="noStrike">
                    <a:solidFill>
                      <a:srgbClr val="595959"/>
                    </a:solidFill>
                    <a:latin typeface="华康俪金黑W8(P)"/>
                    <a:ea typeface="华康俪金黑W8(P)"/>
                  </a:rPr>
                  <a:t>不想干辛苦和困难的事。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9"/>
              <p:cNvSpPr/>
              <p:nvPr/>
            </p:nvSpPr>
            <p:spPr>
              <a:xfrm>
                <a:off x="4190760" y="2450880"/>
                <a:ext cx="62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华康俪金黑W8(P)"/>
                    <a:ea typeface="华康俪金黑W8(P)"/>
                  </a:rPr>
                  <a:t>“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华康俪金黑W8(P)"/>
                    <a:ea typeface="华康俪金黑W8(P)"/>
                  </a:rPr>
                  <a:t>不想惹怒别人。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矩形 11"/>
            <p:cNvSpPr/>
            <p:nvPr/>
          </p:nvSpPr>
          <p:spPr>
            <a:xfrm>
              <a:off x="5401800" y="1368000"/>
              <a:ext cx="1388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不想失败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2"/>
            <p:cNvSpPr/>
            <p:nvPr/>
          </p:nvSpPr>
          <p:spPr>
            <a:xfrm>
              <a:off x="5821560" y="2961720"/>
              <a:ext cx="54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不想受束缚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5"/>
          <p:cNvSpPr/>
          <p:nvPr/>
        </p:nvSpPr>
        <p:spPr>
          <a:xfrm>
            <a:off x="495360" y="263160"/>
            <a:ext cx="517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74e37"/>
                </a:solidFill>
                <a:latin typeface="华康俪金黑W8(P)"/>
                <a:ea typeface="华康俪金黑W8(P)"/>
              </a:rPr>
              <a:t>专家需要与这些想法做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0" y="389880"/>
            <a:ext cx="442440" cy="3895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02" name="组合 24"/>
          <p:cNvGrpSpPr/>
          <p:nvPr/>
        </p:nvGrpSpPr>
        <p:grpSpPr>
          <a:xfrm>
            <a:off x="1473120" y="4371120"/>
            <a:ext cx="9245160" cy="1961640"/>
            <a:chOff x="1473120" y="4371120"/>
            <a:chExt cx="9245160" cy="1961640"/>
          </a:xfrm>
        </p:grpSpPr>
        <p:grpSp>
          <p:nvGrpSpPr>
            <p:cNvPr id="103" name="组合 22"/>
            <p:cNvGrpSpPr/>
            <p:nvPr/>
          </p:nvGrpSpPr>
          <p:grpSpPr>
            <a:xfrm>
              <a:off x="1473120" y="4371120"/>
              <a:ext cx="9245160" cy="1961640"/>
              <a:chOff x="1473120" y="4371120"/>
              <a:chExt cx="9245160" cy="1961640"/>
            </a:xfrm>
          </p:grpSpPr>
          <p:sp>
            <p:nvSpPr>
              <p:cNvPr id="104" name="矩形 17"/>
              <p:cNvSpPr/>
              <p:nvPr/>
            </p:nvSpPr>
            <p:spPr>
              <a:xfrm>
                <a:off x="1473120" y="4510800"/>
                <a:ext cx="9245160" cy="182196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05" name="矩形 18"/>
              <p:cNvSpPr/>
              <p:nvPr/>
            </p:nvSpPr>
            <p:spPr>
              <a:xfrm>
                <a:off x="9898560" y="437112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06" name="矩形 19"/>
            <p:cNvSpPr/>
            <p:nvPr/>
          </p:nvSpPr>
          <p:spPr>
            <a:xfrm>
              <a:off x="5287680" y="4803480"/>
              <a:ext cx="1549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1.0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微软雅黑"/>
                  <a:ea typeface="华文细黑"/>
                </a:rPr>
                <a:t>365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=37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0.99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微软雅黑"/>
                  <a:ea typeface="华文细黑"/>
                </a:rPr>
                <a:t>365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=0.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3"/>
            <p:cNvSpPr/>
            <p:nvPr/>
          </p:nvSpPr>
          <p:spPr>
            <a:xfrm>
              <a:off x="1895760" y="5410800"/>
              <a:ext cx="84002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日积跬步，终至千里。而每天都放纵一点，那么最后就是难以弥补的差距。现在的妥协意味着将来的失败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6"/>
          <p:cNvGrpSpPr/>
          <p:nvPr/>
        </p:nvGrpSpPr>
        <p:grpSpPr>
          <a:xfrm>
            <a:off x="1593360" y="2494440"/>
            <a:ext cx="9150120" cy="1868760"/>
            <a:chOff x="1593360" y="2494440"/>
            <a:chExt cx="9150120" cy="1868760"/>
          </a:xfrm>
        </p:grpSpPr>
        <p:grpSp>
          <p:nvGrpSpPr>
            <p:cNvPr id="109" name="组合 13"/>
            <p:cNvGrpSpPr/>
            <p:nvPr/>
          </p:nvGrpSpPr>
          <p:grpSpPr>
            <a:xfrm>
              <a:off x="1593360" y="3362040"/>
              <a:ext cx="9150120" cy="1001160"/>
              <a:chOff x="1593360" y="3362040"/>
              <a:chExt cx="9150120" cy="1001160"/>
            </a:xfrm>
          </p:grpSpPr>
          <p:grpSp>
            <p:nvGrpSpPr>
              <p:cNvPr id="110" name="组合 3"/>
              <p:cNvGrpSpPr/>
              <p:nvPr/>
            </p:nvGrpSpPr>
            <p:grpSpPr>
              <a:xfrm>
                <a:off x="1593360" y="3362040"/>
                <a:ext cx="2002680" cy="1001160"/>
                <a:chOff x="1593360" y="3362040"/>
                <a:chExt cx="2002680" cy="1001160"/>
              </a:xfrm>
            </p:grpSpPr>
            <p:sp>
              <p:nvSpPr>
                <p:cNvPr id="111" name="矩形 1"/>
                <p:cNvSpPr/>
                <p:nvPr/>
              </p:nvSpPr>
              <p:spPr>
                <a:xfrm>
                  <a:off x="1593360" y="336204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2" name="文本框 2"/>
                <p:cNvSpPr/>
                <p:nvPr/>
              </p:nvSpPr>
              <p:spPr>
                <a:xfrm>
                  <a:off x="2016360" y="357048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组合 4"/>
              <p:cNvGrpSpPr/>
              <p:nvPr/>
            </p:nvGrpSpPr>
            <p:grpSpPr>
              <a:xfrm>
                <a:off x="3712320" y="3362040"/>
                <a:ext cx="2002680" cy="1001160"/>
                <a:chOff x="3712320" y="3362040"/>
                <a:chExt cx="2002680" cy="1001160"/>
              </a:xfrm>
            </p:grpSpPr>
            <p:sp>
              <p:nvSpPr>
                <p:cNvPr id="114" name="矩形 5"/>
                <p:cNvSpPr/>
                <p:nvPr/>
              </p:nvSpPr>
              <p:spPr>
                <a:xfrm>
                  <a:off x="3712320" y="336204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5" name="文本框 6"/>
                <p:cNvSpPr/>
                <p:nvPr/>
              </p:nvSpPr>
              <p:spPr>
                <a:xfrm>
                  <a:off x="4135680" y="357048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组合 7"/>
              <p:cNvGrpSpPr/>
              <p:nvPr/>
            </p:nvGrpSpPr>
            <p:grpSpPr>
              <a:xfrm>
                <a:off x="5874840" y="3362040"/>
                <a:ext cx="2002680" cy="1001160"/>
                <a:chOff x="5874840" y="3362040"/>
                <a:chExt cx="2002680" cy="1001160"/>
              </a:xfrm>
            </p:grpSpPr>
            <p:sp>
              <p:nvSpPr>
                <p:cNvPr id="117" name="矩形 8"/>
                <p:cNvSpPr/>
                <p:nvPr/>
              </p:nvSpPr>
              <p:spPr>
                <a:xfrm>
                  <a:off x="5874840" y="336204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8" name="文本框 9"/>
                <p:cNvSpPr/>
                <p:nvPr/>
              </p:nvSpPr>
              <p:spPr>
                <a:xfrm>
                  <a:off x="6298200" y="357048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组合 10"/>
              <p:cNvGrpSpPr/>
              <p:nvPr/>
            </p:nvGrpSpPr>
            <p:grpSpPr>
              <a:xfrm>
                <a:off x="8008560" y="3362040"/>
                <a:ext cx="2734920" cy="1001160"/>
                <a:chOff x="8008560" y="3362040"/>
                <a:chExt cx="2734920" cy="1001160"/>
              </a:xfrm>
            </p:grpSpPr>
            <p:sp>
              <p:nvSpPr>
                <p:cNvPr id="120" name="矩形 11"/>
                <p:cNvSpPr/>
                <p:nvPr/>
              </p:nvSpPr>
              <p:spPr>
                <a:xfrm>
                  <a:off x="8008560" y="336204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21" name="文本框 12"/>
                <p:cNvSpPr/>
                <p:nvPr/>
              </p:nvSpPr>
              <p:spPr>
                <a:xfrm>
                  <a:off x="8553960" y="357048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矩形 14"/>
            <p:cNvSpPr/>
            <p:nvPr/>
          </p:nvSpPr>
          <p:spPr>
            <a:xfrm>
              <a:off x="1593360" y="249444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文本框 15"/>
            <p:cNvSpPr/>
            <p:nvPr/>
          </p:nvSpPr>
          <p:spPr>
            <a:xfrm>
              <a:off x="5475600" y="255420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"/>
          <p:cNvGrpSpPr/>
          <p:nvPr/>
        </p:nvGrpSpPr>
        <p:grpSpPr>
          <a:xfrm>
            <a:off x="1593360" y="1648440"/>
            <a:ext cx="9150120" cy="1868400"/>
            <a:chOff x="1593360" y="1648440"/>
            <a:chExt cx="9150120" cy="1868400"/>
          </a:xfrm>
        </p:grpSpPr>
        <p:grpSp>
          <p:nvGrpSpPr>
            <p:cNvPr id="125" name="组合 2"/>
            <p:cNvGrpSpPr/>
            <p:nvPr/>
          </p:nvGrpSpPr>
          <p:grpSpPr>
            <a:xfrm>
              <a:off x="1593360" y="2515680"/>
              <a:ext cx="9150120" cy="1001160"/>
              <a:chOff x="1593360" y="2515680"/>
              <a:chExt cx="9150120" cy="1001160"/>
            </a:xfrm>
          </p:grpSpPr>
          <p:grpSp>
            <p:nvGrpSpPr>
              <p:cNvPr id="126" name="组合 5"/>
              <p:cNvGrpSpPr/>
              <p:nvPr/>
            </p:nvGrpSpPr>
            <p:grpSpPr>
              <a:xfrm>
                <a:off x="1593360" y="2515680"/>
                <a:ext cx="2002680" cy="1001160"/>
                <a:chOff x="1593360" y="2515680"/>
                <a:chExt cx="2002680" cy="1001160"/>
              </a:xfrm>
            </p:grpSpPr>
            <p:sp>
              <p:nvSpPr>
                <p:cNvPr id="127" name="矩形 15"/>
                <p:cNvSpPr/>
                <p:nvPr/>
              </p:nvSpPr>
              <p:spPr>
                <a:xfrm>
                  <a:off x="159336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28" name="文本框 16"/>
                <p:cNvSpPr/>
                <p:nvPr/>
              </p:nvSpPr>
              <p:spPr>
                <a:xfrm>
                  <a:off x="201636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组合 6"/>
              <p:cNvGrpSpPr/>
              <p:nvPr/>
            </p:nvGrpSpPr>
            <p:grpSpPr>
              <a:xfrm>
                <a:off x="3712320" y="2515680"/>
                <a:ext cx="2002680" cy="1001160"/>
                <a:chOff x="3712320" y="2515680"/>
                <a:chExt cx="2002680" cy="1001160"/>
              </a:xfrm>
            </p:grpSpPr>
            <p:sp>
              <p:nvSpPr>
                <p:cNvPr id="130" name="矩形 13"/>
                <p:cNvSpPr/>
                <p:nvPr/>
              </p:nvSpPr>
              <p:spPr>
                <a:xfrm>
                  <a:off x="371232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bfbfb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1" name="文本框 14"/>
                <p:cNvSpPr/>
                <p:nvPr/>
              </p:nvSpPr>
              <p:spPr>
                <a:xfrm>
                  <a:off x="413568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组合 7"/>
              <p:cNvGrpSpPr/>
              <p:nvPr/>
            </p:nvGrpSpPr>
            <p:grpSpPr>
              <a:xfrm>
                <a:off x="5874840" y="2515680"/>
                <a:ext cx="2002680" cy="1001160"/>
                <a:chOff x="5874840" y="2515680"/>
                <a:chExt cx="2002680" cy="1001160"/>
              </a:xfrm>
            </p:grpSpPr>
            <p:sp>
              <p:nvSpPr>
                <p:cNvPr id="133" name="矩形 11"/>
                <p:cNvSpPr/>
                <p:nvPr/>
              </p:nvSpPr>
              <p:spPr>
                <a:xfrm>
                  <a:off x="587484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4" name="文本框 12"/>
                <p:cNvSpPr/>
                <p:nvPr/>
              </p:nvSpPr>
              <p:spPr>
                <a:xfrm>
                  <a:off x="629820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组合 8"/>
              <p:cNvGrpSpPr/>
              <p:nvPr/>
            </p:nvGrpSpPr>
            <p:grpSpPr>
              <a:xfrm>
                <a:off x="8008560" y="2515680"/>
                <a:ext cx="2734920" cy="1001160"/>
                <a:chOff x="8008560" y="2515680"/>
                <a:chExt cx="2734920" cy="1001160"/>
              </a:xfrm>
            </p:grpSpPr>
            <p:sp>
              <p:nvSpPr>
                <p:cNvPr id="136" name="矩形 9"/>
                <p:cNvSpPr/>
                <p:nvPr/>
              </p:nvSpPr>
              <p:spPr>
                <a:xfrm>
                  <a:off x="8008560" y="251568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7" name="文本框 10"/>
                <p:cNvSpPr/>
                <p:nvPr/>
              </p:nvSpPr>
              <p:spPr>
                <a:xfrm>
                  <a:off x="8553960" y="272412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矩形 3"/>
            <p:cNvSpPr/>
            <p:nvPr/>
          </p:nvSpPr>
          <p:spPr>
            <a:xfrm>
              <a:off x="1593360" y="164844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9" name="文本框 4"/>
            <p:cNvSpPr/>
            <p:nvPr/>
          </p:nvSpPr>
          <p:spPr>
            <a:xfrm>
              <a:off x="5475600" y="170820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21"/>
          <p:cNvGrpSpPr/>
          <p:nvPr/>
        </p:nvGrpSpPr>
        <p:grpSpPr>
          <a:xfrm>
            <a:off x="1810800" y="3937680"/>
            <a:ext cx="8570520" cy="540360"/>
            <a:chOff x="1810800" y="3937680"/>
            <a:chExt cx="8570520" cy="540360"/>
          </a:xfrm>
        </p:grpSpPr>
        <p:sp>
          <p:nvSpPr>
            <p:cNvPr id="141" name="文本框 17"/>
            <p:cNvSpPr/>
            <p:nvPr/>
          </p:nvSpPr>
          <p:spPr>
            <a:xfrm>
              <a:off x="6044760" y="3963960"/>
              <a:ext cx="330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我们轻易地推翻了以往的常识，正置身于全新的经济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19" descr=""/>
            <p:cNvPicPr/>
            <p:nvPr/>
          </p:nvPicPr>
          <p:blipFill>
            <a:blip r:embed="rId1"/>
            <a:srcRect l="54969" t="23640" r="27690" b="55803"/>
            <a:stretch/>
          </p:blipFill>
          <p:spPr>
            <a:xfrm>
              <a:off x="1810800" y="3937680"/>
              <a:ext cx="3495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20" descr=""/>
            <p:cNvPicPr/>
            <p:nvPr/>
          </p:nvPicPr>
          <p:blipFill>
            <a:blip r:embed="rId2"/>
            <a:srcRect l="54969" t="23640" r="27690" b="55803"/>
            <a:stretch/>
          </p:blipFill>
          <p:spPr>
            <a:xfrm rot="10800000">
              <a:off x="10031760" y="4208040"/>
              <a:ext cx="34956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45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146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45"/>
          <p:cNvGrpSpPr/>
          <p:nvPr/>
        </p:nvGrpSpPr>
        <p:grpSpPr>
          <a:xfrm>
            <a:off x="0" y="263160"/>
            <a:ext cx="5317200" cy="577080"/>
            <a:chOff x="0" y="263160"/>
            <a:chExt cx="5317200" cy="577080"/>
          </a:xfrm>
        </p:grpSpPr>
        <p:sp>
          <p:nvSpPr>
            <p:cNvPr id="159" name="矩形 36"/>
            <p:cNvSpPr/>
            <p:nvPr/>
          </p:nvSpPr>
          <p:spPr>
            <a:xfrm>
              <a:off x="450000" y="263160"/>
              <a:ext cx="4867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先见能力的充分必要条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61" name="组合 44"/>
          <p:cNvGrpSpPr/>
          <p:nvPr/>
        </p:nvGrpSpPr>
        <p:grpSpPr>
          <a:xfrm>
            <a:off x="1709640" y="3507480"/>
            <a:ext cx="8772480" cy="2598480"/>
            <a:chOff x="1709640" y="3507480"/>
            <a:chExt cx="8772480" cy="2598480"/>
          </a:xfrm>
        </p:grpSpPr>
        <p:grpSp>
          <p:nvGrpSpPr>
            <p:cNvPr id="162" name="组合 43"/>
            <p:cNvGrpSpPr/>
            <p:nvPr/>
          </p:nvGrpSpPr>
          <p:grpSpPr>
            <a:xfrm>
              <a:off x="1709640" y="3507480"/>
              <a:ext cx="8772480" cy="2598480"/>
              <a:chOff x="1709640" y="3507480"/>
              <a:chExt cx="8772480" cy="2598480"/>
            </a:xfrm>
          </p:grpSpPr>
          <p:sp>
            <p:nvSpPr>
              <p:cNvPr id="163" name="矩形 39"/>
              <p:cNvSpPr/>
              <p:nvPr/>
            </p:nvSpPr>
            <p:spPr>
              <a:xfrm>
                <a:off x="1709640" y="3708000"/>
                <a:ext cx="8772480" cy="239796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4" name="矩形 41"/>
              <p:cNvSpPr/>
              <p:nvPr/>
            </p:nvSpPr>
            <p:spPr>
              <a:xfrm>
                <a:off x="9626760" y="350748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65" name="矩形 42"/>
            <p:cNvSpPr/>
            <p:nvPr/>
          </p:nvSpPr>
          <p:spPr>
            <a:xfrm>
              <a:off x="1922400" y="4192560"/>
              <a:ext cx="834660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第一、第二两点涉及到管理学中的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PEST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宏观分析模型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P-Political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政治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E-Economic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经济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S-Social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社会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T-Technological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科技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第三、第四两点则强调根据从外部环境发现的机遇与风险，根据自身条件（优势与劣势）选择最好的方向进行发展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总的来说，就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SWOT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分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1"/>
          <p:cNvSpPr/>
          <p:nvPr/>
        </p:nvSpPr>
        <p:spPr>
          <a:xfrm>
            <a:off x="1709640" y="1500480"/>
            <a:ext cx="8772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定义视野领域（范围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分析现状入手预测未来的方向，简明扼要地阐明假想的论点，以分析其因果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多种可选情况下，只精选几种。采用强有力的手段调配人，财，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情况没有彻底改变的情况下，不要偏离原则，不要迷失假想的基本方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68240" y="6400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38"/>
          <p:cNvGrpSpPr/>
          <p:nvPr/>
        </p:nvGrpSpPr>
        <p:grpSpPr>
          <a:xfrm>
            <a:off x="1709640" y="3763080"/>
            <a:ext cx="8772480" cy="2187000"/>
            <a:chOff x="1709640" y="3763080"/>
            <a:chExt cx="8772480" cy="2187000"/>
          </a:xfrm>
        </p:grpSpPr>
        <p:grpSp>
          <p:nvGrpSpPr>
            <p:cNvPr id="169" name="组合 40"/>
            <p:cNvGrpSpPr/>
            <p:nvPr/>
          </p:nvGrpSpPr>
          <p:grpSpPr>
            <a:xfrm>
              <a:off x="1709640" y="3763080"/>
              <a:ext cx="8772480" cy="2187000"/>
              <a:chOff x="1709640" y="3763080"/>
              <a:chExt cx="8772480" cy="2187000"/>
            </a:xfrm>
          </p:grpSpPr>
          <p:sp>
            <p:nvSpPr>
              <p:cNvPr id="170" name="矩形 47"/>
              <p:cNvSpPr/>
              <p:nvPr/>
            </p:nvSpPr>
            <p:spPr>
              <a:xfrm>
                <a:off x="1709640" y="3963600"/>
                <a:ext cx="8772480" cy="198648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1" name="矩形 48"/>
              <p:cNvSpPr/>
              <p:nvPr/>
            </p:nvSpPr>
            <p:spPr>
              <a:xfrm>
                <a:off x="9626760" y="376308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2" name="矩形 46"/>
            <p:cNvSpPr/>
            <p:nvPr/>
          </p:nvSpPr>
          <p:spPr>
            <a:xfrm>
              <a:off x="1922400" y="4519800"/>
              <a:ext cx="8346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endParaRPr>
            </a:p>
          </p:txBody>
        </p:sp>
      </p:grpSp>
      <p:sp>
        <p:nvSpPr>
          <p:cNvPr id="173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74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175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5"/>
          <p:cNvGrpSpPr/>
          <p:nvPr/>
        </p:nvGrpSpPr>
        <p:grpSpPr>
          <a:xfrm>
            <a:off x="0" y="263160"/>
            <a:ext cx="5317200" cy="577080"/>
            <a:chOff x="0" y="263160"/>
            <a:chExt cx="5317200" cy="577080"/>
          </a:xfrm>
        </p:grpSpPr>
        <p:sp>
          <p:nvSpPr>
            <p:cNvPr id="188" name="矩形 36"/>
            <p:cNvSpPr/>
            <p:nvPr/>
          </p:nvSpPr>
          <p:spPr>
            <a:xfrm>
              <a:off x="450000" y="263160"/>
              <a:ext cx="4867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一些注意事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0" name="矩形 1"/>
          <p:cNvSpPr/>
          <p:nvPr/>
        </p:nvSpPr>
        <p:spPr>
          <a:xfrm>
            <a:off x="1709640" y="1216080"/>
            <a:ext cx="87724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清变化的本质，需要对身边的变化逐一反复地向自己提问：为什么会这样？新在什么地方？从中会产生什么？其真正的价值何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意识的假设一个相反的观点，并不断验证，对于常识毫无遗漏地进行分析，对于反证也需要同样程度的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归一张白纸重新开始思考。坦率地承认自己的错误，意味着对思考永不厌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9"/>
          <p:cNvSpPr/>
          <p:nvPr/>
        </p:nvSpPr>
        <p:spPr>
          <a:xfrm>
            <a:off x="1922400" y="4367520"/>
            <a:ext cx="83466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这三点都在强调结论得来过程不能马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第一点：问自己变化“是什么”“为什么”“将导致什么”“有什么意义”。只有弄清来龙去脉才能理直气壮下结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第二点：用“自我否定”来检验该结论是否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第三点：冷静一下，可以等几个小时（几天）后再来考虑这个该结论是否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8"/>
          <p:cNvGrpSpPr/>
          <p:nvPr/>
        </p:nvGrpSpPr>
        <p:grpSpPr>
          <a:xfrm>
            <a:off x="1593360" y="1788120"/>
            <a:ext cx="9150120" cy="3281760"/>
            <a:chOff x="1593360" y="1788120"/>
            <a:chExt cx="9150120" cy="3281760"/>
          </a:xfrm>
        </p:grpSpPr>
        <p:grpSp>
          <p:nvGrpSpPr>
            <p:cNvPr id="193" name="组合 1"/>
            <p:cNvGrpSpPr/>
            <p:nvPr/>
          </p:nvGrpSpPr>
          <p:grpSpPr>
            <a:xfrm>
              <a:off x="1593360" y="1788120"/>
              <a:ext cx="9150120" cy="1868760"/>
              <a:chOff x="1593360" y="1788120"/>
              <a:chExt cx="9150120" cy="1868760"/>
            </a:xfrm>
          </p:grpSpPr>
          <p:grpSp>
            <p:nvGrpSpPr>
              <p:cNvPr id="194" name="组合 2"/>
              <p:cNvGrpSpPr/>
              <p:nvPr/>
            </p:nvGrpSpPr>
            <p:grpSpPr>
              <a:xfrm>
                <a:off x="1593360" y="2655720"/>
                <a:ext cx="9150120" cy="1001160"/>
                <a:chOff x="1593360" y="2655720"/>
                <a:chExt cx="9150120" cy="1001160"/>
              </a:xfrm>
            </p:grpSpPr>
            <p:grpSp>
              <p:nvGrpSpPr>
                <p:cNvPr id="195" name="组合 5"/>
                <p:cNvGrpSpPr/>
                <p:nvPr/>
              </p:nvGrpSpPr>
              <p:grpSpPr>
                <a:xfrm>
                  <a:off x="1593360" y="2655720"/>
                  <a:ext cx="2002680" cy="1001160"/>
                  <a:chOff x="1593360" y="2655720"/>
                  <a:chExt cx="2002680" cy="1001160"/>
                </a:xfrm>
              </p:grpSpPr>
              <p:sp>
                <p:nvSpPr>
                  <p:cNvPr id="196" name="矩形 15"/>
                  <p:cNvSpPr/>
                  <p:nvPr/>
                </p:nvSpPr>
                <p:spPr>
                  <a:xfrm>
                    <a:off x="1593360" y="2655720"/>
                    <a:ext cx="200268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197" name="文本框 16"/>
                  <p:cNvSpPr/>
                  <p:nvPr/>
                </p:nvSpPr>
                <p:spPr>
                  <a:xfrm>
                    <a:off x="2016360" y="2864160"/>
                    <a:ext cx="11563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bfbfbf"/>
                        </a:solidFill>
                        <a:latin typeface="华康俪金黑W8(P)"/>
                        <a:ea typeface="华康俪金黑W8(P)"/>
                      </a:rPr>
                      <a:t>先见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组合 6"/>
                <p:cNvGrpSpPr/>
                <p:nvPr/>
              </p:nvGrpSpPr>
              <p:grpSpPr>
                <a:xfrm>
                  <a:off x="3712320" y="2655720"/>
                  <a:ext cx="2002680" cy="1001160"/>
                  <a:chOff x="3712320" y="2655720"/>
                  <a:chExt cx="2002680" cy="1001160"/>
                </a:xfrm>
              </p:grpSpPr>
              <p:sp>
                <p:nvSpPr>
                  <p:cNvPr id="199" name="矩形 13"/>
                  <p:cNvSpPr/>
                  <p:nvPr/>
                </p:nvSpPr>
                <p:spPr>
                  <a:xfrm>
                    <a:off x="3712320" y="2655720"/>
                    <a:ext cx="200268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bfbfbf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200" name="文本框 14"/>
                  <p:cNvSpPr/>
                  <p:nvPr/>
                </p:nvSpPr>
                <p:spPr>
                  <a:xfrm>
                    <a:off x="4135680" y="2864160"/>
                    <a:ext cx="11563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574e37"/>
                        </a:solidFill>
                        <a:latin typeface="华康俪金黑W8(P)"/>
                        <a:ea typeface="华康俪金黑W8(P)"/>
                      </a:rPr>
                      <a:t>构思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组合 7"/>
                <p:cNvGrpSpPr/>
                <p:nvPr/>
              </p:nvGrpSpPr>
              <p:grpSpPr>
                <a:xfrm>
                  <a:off x="5874840" y="2655720"/>
                  <a:ext cx="2002680" cy="1001160"/>
                  <a:chOff x="5874840" y="2655720"/>
                  <a:chExt cx="2002680" cy="1001160"/>
                </a:xfrm>
              </p:grpSpPr>
              <p:sp>
                <p:nvSpPr>
                  <p:cNvPr id="202" name="矩形 11"/>
                  <p:cNvSpPr/>
                  <p:nvPr/>
                </p:nvSpPr>
                <p:spPr>
                  <a:xfrm>
                    <a:off x="5874840" y="2655720"/>
                    <a:ext cx="200268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203" name="文本框 12"/>
                  <p:cNvSpPr/>
                  <p:nvPr/>
                </p:nvSpPr>
                <p:spPr>
                  <a:xfrm>
                    <a:off x="6298200" y="2864160"/>
                    <a:ext cx="11563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bfbfbf"/>
                        </a:solidFill>
                        <a:latin typeface="华康俪金黑W8(P)"/>
                        <a:ea typeface="华康俪金黑W8(P)"/>
                      </a:rPr>
                      <a:t>讨论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组合 8"/>
                <p:cNvGrpSpPr/>
                <p:nvPr/>
              </p:nvGrpSpPr>
              <p:grpSpPr>
                <a:xfrm>
                  <a:off x="8008560" y="2655720"/>
                  <a:ext cx="2734920" cy="1001160"/>
                  <a:chOff x="8008560" y="2655720"/>
                  <a:chExt cx="2734920" cy="1001160"/>
                </a:xfrm>
              </p:grpSpPr>
              <p:sp>
                <p:nvSpPr>
                  <p:cNvPr id="205" name="矩形 9"/>
                  <p:cNvSpPr/>
                  <p:nvPr/>
                </p:nvSpPr>
                <p:spPr>
                  <a:xfrm>
                    <a:off x="8008560" y="2655720"/>
                    <a:ext cx="273492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206" name="文本框 10"/>
                  <p:cNvSpPr/>
                  <p:nvPr/>
                </p:nvSpPr>
                <p:spPr>
                  <a:xfrm>
                    <a:off x="8553960" y="2864160"/>
                    <a:ext cx="16441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bfbfbf"/>
                        </a:solidFill>
                        <a:latin typeface="华康俪金黑W8(P)"/>
                        <a:ea typeface="华康俪金黑W8(P)"/>
                      </a:rPr>
                      <a:t>适应矛盾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" name="矩形 3"/>
              <p:cNvSpPr/>
              <p:nvPr/>
            </p:nvSpPr>
            <p:spPr>
              <a:xfrm>
                <a:off x="1593360" y="1788120"/>
                <a:ext cx="9150120" cy="73980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12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08" name="文本框 4"/>
              <p:cNvSpPr/>
              <p:nvPr/>
            </p:nvSpPr>
            <p:spPr>
              <a:xfrm>
                <a:off x="5475600" y="1847880"/>
                <a:ext cx="138528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200" spc="599" strike="noStrike">
                    <a:solidFill>
                      <a:srgbClr val="574e37"/>
                    </a:solidFill>
                    <a:latin typeface="华康俪金黑W8(P)"/>
                    <a:ea typeface="华康俪金黑W8(P)"/>
                  </a:rPr>
                  <a:t>专业主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21"/>
            <p:cNvGrpSpPr/>
            <p:nvPr/>
          </p:nvGrpSpPr>
          <p:grpSpPr>
            <a:xfrm>
              <a:off x="1849680" y="4077360"/>
              <a:ext cx="8304840" cy="992520"/>
              <a:chOff x="1849680" y="4077360"/>
              <a:chExt cx="8304840" cy="992520"/>
            </a:xfrm>
          </p:grpSpPr>
          <p:sp>
            <p:nvSpPr>
              <p:cNvPr id="210" name="文本框 17"/>
              <p:cNvSpPr/>
              <p:nvPr/>
            </p:nvSpPr>
            <p:spPr>
              <a:xfrm>
                <a:off x="3780720" y="4103640"/>
                <a:ext cx="493596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康俪金黑W8(P)"/>
                    <a:ea typeface="华康俪金黑W8(P)"/>
                  </a:rPr>
                  <a:t>成功的充分必要条件是把预见到的未来蓝图变成具体的商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康俪金黑W8(P)"/>
                    <a:ea typeface="华康俪金黑W8(P)"/>
                  </a:rPr>
                  <a:t>模式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图片 19" descr=""/>
              <p:cNvPicPr/>
              <p:nvPr/>
            </p:nvPicPr>
            <p:blipFill>
              <a:blip r:embed="rId1"/>
              <a:srcRect l="54969" t="23640" r="27690" b="55803"/>
              <a:stretch/>
            </p:blipFill>
            <p:spPr>
              <a:xfrm>
                <a:off x="1849680" y="4077360"/>
                <a:ext cx="34956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20" descr=""/>
              <p:cNvPicPr/>
              <p:nvPr/>
            </p:nvPicPr>
            <p:blipFill>
              <a:blip r:embed="rId2"/>
              <a:srcRect l="54969" t="23640" r="27690" b="55803"/>
              <a:stretch/>
            </p:blipFill>
            <p:spPr>
              <a:xfrm rot="10800000">
                <a:off x="9804960" y="4799880"/>
                <a:ext cx="349560" cy="2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  <Words>1658</Words>
  <Paragraphs>1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46:33Z</dcterms:created>
  <dc:creator>曹将</dc:creator>
  <dc:description/>
  <dc:language>en-US</dc:language>
  <cp:lastModifiedBy>王玉清</cp:lastModifiedBy>
  <dcterms:modified xsi:type="dcterms:W3CDTF">2016-02-23T03:17:26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7</vt:r8>
  </property>
</Properties>
</file>