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36A-5C9B-4ED9-8508-8E1B39B0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5A35-8FD0-4804-B7F4-4EC86B0F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9A13-9DD3-4D6E-9FC1-C69EA808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221-50A0-4C83-8B63-4A75FDA4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A217-E3B7-4390-8BF6-14CEA470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F97-F00C-4F58-B839-BF51A579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DBC9-D1DE-463B-BFF7-5181726F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FA0-0AC6-4251-962C-447D66DC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335-FF80-4FC5-8EA0-D673140E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670-0AFC-47D7-84BA-DD94B5E8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4930-428F-4B53-9F59-14A610D9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671-0C26-4F8A-A34B-D26DDB80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66760" y="6350040"/>
            <a:ext cx="2200320" cy="2602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C2EA-71CF-488B-A533-8ECD9B87547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CF0C-DC67-4A16-BDCE-7D8786C660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hyperlink" Target="http://www.eeppt.com/moban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\\192.168.1.3\临时中转站1_以本人姓名建目录\开发中心-多媒体部\02美术部\晨会文件\04宁煌\人教数学教参\08.png"/>
          <p:cNvPicPr/>
          <p:nvPr/>
        </p:nvPicPr>
        <p:blipFill>
          <a:blip r:embed="rId1"/>
          <a:stretch/>
        </p:blipFill>
        <p:spPr>
          <a:xfrm>
            <a:off x="1050840" y="1395360"/>
            <a:ext cx="784440" cy="784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399960" y="1311120"/>
            <a:ext cx="77724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以内的进位加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806400" y="2565360"/>
            <a:ext cx="7788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加法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6155"/>
          <p:cNvSpPr/>
          <p:nvPr/>
        </p:nvSpPr>
        <p:spPr>
          <a:xfrm>
            <a:off x="34920" y="5877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6"/>
          <p:cNvSpPr/>
          <p:nvPr/>
        </p:nvSpPr>
        <p:spPr>
          <a:xfrm>
            <a:off x="466560" y="1557000"/>
            <a:ext cx="6159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方正楷体简体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帮小动物们算一算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87"/>
          <p:cNvSpPr/>
          <p:nvPr/>
        </p:nvSpPr>
        <p:spPr>
          <a:xfrm>
            <a:off x="5881680" y="2449440"/>
            <a:ext cx="32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狗和小熊一共摘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少个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88"/>
          <p:cNvSpPr/>
          <p:nvPr/>
        </p:nvSpPr>
        <p:spPr>
          <a:xfrm>
            <a:off x="5865840" y="3933720"/>
            <a:ext cx="32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和小狗一共摘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少个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89"/>
          <p:cNvSpPr/>
          <p:nvPr/>
        </p:nvSpPr>
        <p:spPr>
          <a:xfrm>
            <a:off x="5881680" y="5445000"/>
            <a:ext cx="32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还想知道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同桌同学说一说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90"/>
          <p:cNvSpPr/>
          <p:nvPr/>
        </p:nvSpPr>
        <p:spPr>
          <a:xfrm>
            <a:off x="6156360" y="33195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457200" y="417600"/>
            <a:ext cx="8686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多种形式练习，巩固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90"/>
          <p:cNvSpPr/>
          <p:nvPr/>
        </p:nvSpPr>
        <p:spPr>
          <a:xfrm>
            <a:off x="7650000" y="331956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90"/>
          <p:cNvSpPr/>
          <p:nvPr/>
        </p:nvSpPr>
        <p:spPr>
          <a:xfrm>
            <a:off x="6156360" y="4749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90"/>
          <p:cNvSpPr/>
          <p:nvPr/>
        </p:nvSpPr>
        <p:spPr>
          <a:xfrm>
            <a:off x="7669080" y="474984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18" descr="C:\Documents and Settings\kings\桌面\第8单元—摘苹果.jpg"/>
          <p:cNvPicPr/>
          <p:nvPr/>
        </p:nvPicPr>
        <p:blipFill>
          <a:blip r:embed="rId1"/>
          <a:srcRect l="2987" t="9958" r="1395" b="0"/>
          <a:stretch/>
        </p:blipFill>
        <p:spPr>
          <a:xfrm>
            <a:off x="214200" y="2357280"/>
            <a:ext cx="54626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B934-EF8C-42C3-9DC7-FC6752FF46F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4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布置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684360" y="2492280"/>
            <a:ext cx="84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9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做一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交流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练习后同桌同学相互检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37"/>
          <p:cNvSpPr/>
          <p:nvPr/>
        </p:nvSpPr>
        <p:spPr>
          <a:xfrm>
            <a:off x="3405240" y="4944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5"/>
          <p:cNvSpPr/>
          <p:nvPr/>
        </p:nvSpPr>
        <p:spPr>
          <a:xfrm>
            <a:off x="895320" y="2708280"/>
            <a:ext cx="76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你们为什么算得这么快呀！能说说是怎么计算的吗？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一、口算练习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66560" y="155736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手势表示结果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466560" y="1557360"/>
            <a:ext cx="1873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抢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6" descr="306"/>
          <p:cNvPicPr/>
          <p:nvPr/>
        </p:nvPicPr>
        <p:blipFill>
          <a:blip r:embed="rId1"/>
          <a:stretch/>
        </p:blipFill>
        <p:spPr>
          <a:xfrm rot="618000">
            <a:off x="6016320" y="4254480"/>
            <a:ext cx="2371680" cy="1382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7" descr="307"/>
          <p:cNvPicPr/>
          <p:nvPr/>
        </p:nvPicPr>
        <p:blipFill>
          <a:blip r:embed="rId2"/>
          <a:stretch/>
        </p:blipFill>
        <p:spPr>
          <a:xfrm rot="20336400">
            <a:off x="250920" y="4149360"/>
            <a:ext cx="2181240" cy="227952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49"/>
          <p:cNvGrpSpPr/>
          <p:nvPr/>
        </p:nvGrpSpPr>
        <p:grpSpPr>
          <a:xfrm>
            <a:off x="2627280" y="2781360"/>
            <a:ext cx="2879640" cy="2879640"/>
            <a:chOff x="2627280" y="2781360"/>
            <a:chExt cx="2879640" cy="2879640"/>
          </a:xfrm>
        </p:grpSpPr>
        <p:sp>
          <p:nvSpPr>
            <p:cNvPr id="131" name="椭圆 27"/>
            <p:cNvSpPr/>
            <p:nvPr/>
          </p:nvSpPr>
          <p:spPr>
            <a:xfrm>
              <a:off x="2627280" y="2781360"/>
              <a:ext cx="2879640" cy="287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7"/>
            <p:cNvSpPr/>
            <p:nvPr/>
          </p:nvSpPr>
          <p:spPr>
            <a:xfrm>
              <a:off x="2809800" y="3708360"/>
              <a:ext cx="206064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8"/>
          <p:cNvSpPr/>
          <p:nvPr/>
        </p:nvSpPr>
        <p:spPr>
          <a:xfrm>
            <a:off x="4390920" y="3716280"/>
            <a:ext cx="115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51"/>
          <p:cNvGrpSpPr/>
          <p:nvPr/>
        </p:nvGrpSpPr>
        <p:grpSpPr>
          <a:xfrm>
            <a:off x="2627280" y="2781360"/>
            <a:ext cx="2879640" cy="2879640"/>
            <a:chOff x="2627280" y="2781360"/>
            <a:chExt cx="2879640" cy="2879640"/>
          </a:xfrm>
        </p:grpSpPr>
        <p:sp>
          <p:nvSpPr>
            <p:cNvPr id="135" name="椭圆 27"/>
            <p:cNvSpPr/>
            <p:nvPr/>
          </p:nvSpPr>
          <p:spPr>
            <a:xfrm>
              <a:off x="2627280" y="2781360"/>
              <a:ext cx="2879640" cy="287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7"/>
            <p:cNvSpPr/>
            <p:nvPr/>
          </p:nvSpPr>
          <p:spPr>
            <a:xfrm>
              <a:off x="2809800" y="3708360"/>
              <a:ext cx="206064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8"/>
          <p:cNvSpPr/>
          <p:nvPr/>
        </p:nvSpPr>
        <p:spPr>
          <a:xfrm>
            <a:off x="4390920" y="3716280"/>
            <a:ext cx="115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55"/>
          <p:cNvGrpSpPr/>
          <p:nvPr/>
        </p:nvGrpSpPr>
        <p:grpSpPr>
          <a:xfrm>
            <a:off x="2627280" y="2781360"/>
            <a:ext cx="2879640" cy="2879640"/>
            <a:chOff x="2627280" y="2781360"/>
            <a:chExt cx="2879640" cy="2879640"/>
          </a:xfrm>
        </p:grpSpPr>
        <p:sp>
          <p:nvSpPr>
            <p:cNvPr id="139" name="椭圆 27"/>
            <p:cNvSpPr/>
            <p:nvPr/>
          </p:nvSpPr>
          <p:spPr>
            <a:xfrm>
              <a:off x="2627280" y="2781360"/>
              <a:ext cx="2879640" cy="287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7"/>
            <p:cNvSpPr/>
            <p:nvPr/>
          </p:nvSpPr>
          <p:spPr>
            <a:xfrm>
              <a:off x="2809800" y="3708360"/>
              <a:ext cx="206064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8"/>
          <p:cNvSpPr/>
          <p:nvPr/>
        </p:nvSpPr>
        <p:spPr>
          <a:xfrm>
            <a:off x="4390920" y="3716280"/>
            <a:ext cx="115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59"/>
          <p:cNvGrpSpPr/>
          <p:nvPr/>
        </p:nvGrpSpPr>
        <p:grpSpPr>
          <a:xfrm>
            <a:off x="2627280" y="2781360"/>
            <a:ext cx="2879640" cy="2879640"/>
            <a:chOff x="2627280" y="2781360"/>
            <a:chExt cx="2879640" cy="2879640"/>
          </a:xfrm>
        </p:grpSpPr>
        <p:sp>
          <p:nvSpPr>
            <p:cNvPr id="143" name="椭圆 27"/>
            <p:cNvSpPr/>
            <p:nvPr/>
          </p:nvSpPr>
          <p:spPr>
            <a:xfrm>
              <a:off x="2627280" y="2781360"/>
              <a:ext cx="2879640" cy="287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89a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2809800" y="3708360"/>
              <a:ext cx="206064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8"/>
          <p:cNvSpPr/>
          <p:nvPr/>
        </p:nvSpPr>
        <p:spPr>
          <a:xfrm>
            <a:off x="4390920" y="3716280"/>
            <a:ext cx="115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68"/>
          <p:cNvGrpSpPr/>
          <p:nvPr/>
        </p:nvGrpSpPr>
        <p:grpSpPr>
          <a:xfrm>
            <a:off x="3419640" y="2133720"/>
            <a:ext cx="2879640" cy="2879640"/>
            <a:chOff x="3419640" y="2133720"/>
            <a:chExt cx="2879640" cy="2879640"/>
          </a:xfrm>
        </p:grpSpPr>
        <p:sp>
          <p:nvSpPr>
            <p:cNvPr id="147" name="椭圆 47"/>
            <p:cNvSpPr/>
            <p:nvPr/>
          </p:nvSpPr>
          <p:spPr>
            <a:xfrm>
              <a:off x="3419640" y="2133720"/>
              <a:ext cx="2879640" cy="2879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117"/>
                  </a:srgbClr>
                </a:gs>
                <a:gs pos="100000">
                  <a:srgbClr val="91802b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9180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"/>
            <p:cNvSpPr/>
            <p:nvPr/>
          </p:nvSpPr>
          <p:spPr>
            <a:xfrm>
              <a:off x="3546360" y="3075120"/>
              <a:ext cx="27370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5146560" y="3071880"/>
            <a:ext cx="115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69"/>
          <p:cNvGrpSpPr/>
          <p:nvPr/>
        </p:nvGrpSpPr>
        <p:grpSpPr>
          <a:xfrm>
            <a:off x="3419640" y="2133720"/>
            <a:ext cx="2879640" cy="2879640"/>
            <a:chOff x="3419640" y="2133720"/>
            <a:chExt cx="2879640" cy="2879640"/>
          </a:xfrm>
        </p:grpSpPr>
        <p:sp>
          <p:nvSpPr>
            <p:cNvPr id="151" name="椭圆 47"/>
            <p:cNvSpPr/>
            <p:nvPr/>
          </p:nvSpPr>
          <p:spPr>
            <a:xfrm>
              <a:off x="3419640" y="2133720"/>
              <a:ext cx="2879640" cy="2879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117"/>
                  </a:srgbClr>
                </a:gs>
                <a:gs pos="100000">
                  <a:srgbClr val="91802b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9180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7"/>
            <p:cNvSpPr/>
            <p:nvPr/>
          </p:nvSpPr>
          <p:spPr>
            <a:xfrm>
              <a:off x="3546360" y="3075120"/>
              <a:ext cx="27370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8"/>
          <p:cNvSpPr/>
          <p:nvPr/>
        </p:nvSpPr>
        <p:spPr>
          <a:xfrm>
            <a:off x="5146560" y="3071880"/>
            <a:ext cx="115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73"/>
          <p:cNvGrpSpPr/>
          <p:nvPr/>
        </p:nvGrpSpPr>
        <p:grpSpPr>
          <a:xfrm>
            <a:off x="3419640" y="2133720"/>
            <a:ext cx="2879640" cy="2879640"/>
            <a:chOff x="3419640" y="2133720"/>
            <a:chExt cx="2879640" cy="2879640"/>
          </a:xfrm>
        </p:grpSpPr>
        <p:sp>
          <p:nvSpPr>
            <p:cNvPr id="155" name="椭圆 47"/>
            <p:cNvSpPr/>
            <p:nvPr/>
          </p:nvSpPr>
          <p:spPr>
            <a:xfrm>
              <a:off x="3419640" y="2133720"/>
              <a:ext cx="2879640" cy="2879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117"/>
                  </a:srgbClr>
                </a:gs>
                <a:gs pos="100000">
                  <a:srgbClr val="91802b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9180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3546360" y="3075120"/>
              <a:ext cx="27370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8"/>
          <p:cNvSpPr/>
          <p:nvPr/>
        </p:nvSpPr>
        <p:spPr>
          <a:xfrm>
            <a:off x="5146560" y="3071880"/>
            <a:ext cx="115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8196"/>
          <p:cNvSpPr/>
          <p:nvPr/>
        </p:nvSpPr>
        <p:spPr>
          <a:xfrm>
            <a:off x="1979640" y="6237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18519E-006 C -0.07604 -0.09399 -0.15191 -0.18774 -0.26389 -0.22038 C -0.37587 -0.25301 -0.60469 -0.20093 -0.67222 -0.1963 E">
                                      <p:cBhvr>
                                        <p:cTn id="2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6 C -0.08837 -0.10324 -0.17639 -0.20601 -0.28872 -0.2368 C -0.40087 -0.26736 -0.53698 -0.22592 -0.67326 -0.18402 E">
                                      <p:cBhvr>
                                        <p:cTn id="31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18519E-006 C -0.07604 -0.09399 -0.15191 -0.18774 -0.26389 -0.22038 C -0.37587 -0.25301 -0.60469 -0.20093 -0.67222 -0.1963 E">
                                      <p:cBhvr>
                                        <p:cTn id="4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6 C -0.08837 -0.10324 -0.17639 -0.20601 -0.28872 -0.2368 C -0.40087 -0.26736 -0.53698 -0.22592 -0.67326 -0.18402 E">
                                      <p:cBhvr>
                                        <p:cTn id="49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18519E-006 C -0.07604 -0.09399 -0.15191 -0.18774 -0.26389 -0.22038 C -0.37587 -0.25301 -0.60469 -0.20093 -0.67222 -0.1963 E">
                                      <p:cBhvr>
                                        <p:cTn id="6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6 C -0.08837 -0.10324 -0.17639 -0.20601 -0.28872 -0.2368 C -0.40087 -0.26736 -0.53698 -0.22592 -0.67326 -0.18402 E">
                                      <p:cBhvr>
                                        <p:cTn id="67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18519E-006 C -0.07604 -0.09399 -0.15191 -0.18774 -0.26389 -0.22038 C -0.37587 -0.25301 -0.60469 -0.20093 -0.67222 -0.1963 E">
                                      <p:cBhvr>
                                        <p:cTn id="83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6 C -0.08837 -0.10324 -0.17639 -0.20601 -0.28872 -0.2368 C -0.40087 -0.26736 -0.53698 -0.22592 -0.67326 -0.18402 E">
                                      <p:cBhvr>
                                        <p:cTn id="8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121 0.02707 C -0.16441 -4.42285000000139E-006 -0.19114 0.00185 -0.21232 0.00047 C -0.25347 0.00116 -0.29531 -0.00347 -0.33593 0.00371 C -0.34201 0.00486 -0.34687 0.00879 -0.35347 0.00995 C -0.36597 0.02013 -0.40451 0.01874 -0.41354 0.0192 C -0.42708 0.02059 -0.43889 0.02291 -0.45243 0.02406 C -0.46093 0.03146 -0.47291 0.02869 -0.48298 0.03031 C -0.52239 0.06431 -0.57795 0.03609 -0.62413 0.03031 C -0.6375 0.02661 -0.64895 0.02637 -0.66302 0.02568 C -0.66961 0.02337 -0.67673 0.02429 -0.68298 0.02082 C -0.70555 0.00833 -0.68489 0.01805 -0.69583 0.01296 C -0.70243 0.00463 -0.71319 0.00185 -0.72187 -0.00115 C -0.72934 -0.00855 -0.725 -0.00462 -0.73593 -0.01202 C -0.73732 -0.01295 -0.73819 -0.01549 -0.73941 -0.01665 C -0.7434 -0.01966 -0.74826 -0.02012 -0.75243 -0.0229 C -0.75989 -0.02799 -0.76666 -0.03469 -0.77465 -0.03863 C -0.77916 -0.04094 -0.78316 -0.0421 -0.78767 -0.04487 C -0.79184 -0.05065 -0.79479 -0.05389 -0.80069 -0.05598 C -0.80225 -0.05759 -0.80364 -0.05921 -0.80538 -0.0606 C -0.8092 -0.06338 -0.81701 -0.06847 -0.81701 -0.06847 C -0.82291 -0.0835 -0.8158 -0.0687 -0.82291 -0.07633 C -0.83055 -0.08443 -0.82014 -0.07841 -0.82882 -0.08258 C -0.8375 -0.09114 -0.85312 -0.11172 -0.86302 -0.11542 C -0.86788 -0.12236 -0.87187 -0.1293 -0.8783 -0.13439 C -0.88211 -0.1374 -0.8901 -0.14203 -0.8901 -0.14203 C -0.89461 -0.14827 -0.90052 -0.15244 -0.90642 -0.15614 C -0.90972 -0.16285 -0.91493 -0.16793 -0.92066 -0.17025 C -0.925 -0.17418 -0.92847 -0.17649 -0.9335 -0.17811 C -0.93975 -0.18251 -0.9467 -0.1869 -0.95347 -0.18922 C -0.96007 -0.19754 -0.96857 -0.2024 -0.97465 -0.21119 E">
                                      <p:cBhvr>
                                        <p:cTn id="8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"/>
                            </p:stCondLst>
                            <p:childTnLst>
                              <p:par>
                                <p:cTn id="9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C 0.04445 -0.05787 0.15712 -0.27199 0.26736 -0.34745 C 0.37761 -0.42291 0.57934 -0.43101 0.66164 -0.453 E">
                                      <p:cBhvr>
                                        <p:cTn id="119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2.22222E-006 C 0.04514 -0.05879 0.15885 -0.27477 0.27048 -0.35092 C 0.38194 -0.42754 0.58628 -0.43518 0.66944 -0.45694 E">
                                      <p:cBhvr>
                                        <p:cTn id="121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C 0.04445 -0.05787 0.15712 -0.27199 0.26736 -0.34745 C 0.37761 -0.42291 0.57934 -0.43101 0.66164 -0.453 E">
                                      <p:cBhvr>
                                        <p:cTn id="137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2.22222E-006 C 0.04514 -0.05879 0.15885 -0.27477 0.27048 -0.35092 C 0.38194 -0.42754 0.58628 -0.43518 0.66944 -0.45694 E">
                                      <p:cBhvr>
                                        <p:cTn id="139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1481E-006 C 0.04445 -0.05787 0.15712 -0.27199 0.26736 -0.34745 C 0.37761 -0.42291 0.57934 -0.43101 0.66164 -0.453 E">
                                      <p:cBhvr>
                                        <p:cTn id="155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2.22222E-006 C 0.04514 -0.05879 0.15885 -0.27477 0.27048 -0.35092 C 0.38194 -0.42754 0.58628 -0.43518 0.66944 -0.45694 E">
                                      <p:cBhvr>
                                        <p:cTn id="157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69 0.0303 C 0.13472 0.0236 0.13837 0.02151 0.14514 0.0192 C 0.15504 0.01064 0.16563 0.01365 0.17795 0.01296 C 0.1842 0.01087 0.18906 0.00949 0.19566 0.00833 C 0.20156 0.00555 0.19931 0.00625 0.20851 0.00509 C 0.21719 0.00393 0.23455 0.00208 0.23455 0.00208 C 0.27952 0.00393 0.32327 0.0074 0.36858 0.00833 C 0.39184 0.00671 0.40799 0.00463 0.43212 0.0037 C 0.44184 0.00231 0.45174 0.00023 0.46146 -0.00116 C 0.46424 -0.00231 0.46702 -0.00277 0.46979 -0.00416 C 0.47552 -0.00694 0.48038 -0.01156 0.48629 -0.01365 C 0.49375 -0.01943 0.50261 -0.0266 0.51094 -0.02938 C 0.51893 -0.03562 0.52778 -0.03979 0.53681 -0.04187 C 0.54636 -0.04673 0.55365 -0.05598 0.56268 -0.06222 C 0.56806 -0.07148 0.5757 -0.07541 0.58264 -0.08258 C 0.58438 -0.08443 0.58577 -0.08698 0.5875 -0.08883 C 0.59045 -0.09183 0.59688 -0.09669 0.59688 -0.09669 C 0.60052 -0.10409 0.60695 -0.10733 0.61215 -0.11242 C 0.61702 -0.11705 0.62309 -0.12445 0.62743 -0.12954 C 0.63351 -0.13671 0.63802 -0.14596 0.64393 -0.15313 C 0.64531 -0.15475 0.64722 -0.15475 0.64861 -0.15637 C 0.64861 -0.15637 0.65955 -0.17095 0.66268 -0.17511 C 0.66528 -0.17858 0.66927 -0.17974 0.67205 -0.18297 C 0.68004 -0.192 0.68611 -0.19917 0.69688 -0.20171 C 0.70243 -0.21305 0.69497 -0.19963 0.70382 -0.20958 C 0.70833 -0.21466 0.70851 -0.21813 0.71441 -0.22045 C 0.72049 -0.226 0.73038 -0.23803 0.73681 -0.24104 C 0.75452 -0.25977 0.73351 -0.23942 0.7474 -0.24867 C 0.74913 -0.24983 0.75035 -0.25237 0.75208 -0.25353 C 0.75434 -0.25491 0.7592 -0.25653 0.7592 -0.25653 C 0.76077 -0.25815 0.76215 -0.26023 0.76389 -0.26139 C 0.76528 -0.26232 0.76719 -0.26162 0.76858 -0.26278 C 0.76997 -0.26394 0.77066 -0.26648 0.77205 -0.26764 C 0.77344 -0.26879 0.77535 -0.26856 0.77691 -0.26926 C 0.78594 -0.27365 0.79427 -0.27782 0.80382 -0.28013 C 0.80886 -0.28452 0.81458 -0.28545 0.82031 -0.28799 C 0.8342 -0.29447 0.83854 -0.29609 0.85452 -0.29748 C 0.87292 -0.30118 0.88993 -0.30395 0.90851 -0.30511 C 0.94323 -0.31298 0.97813 -0.31968 1.01337 -0.32246 C 1.02778 -0.32662 1.04219 -0.32709 1.05677 -0.32709 E">
                                      <p:cBhvr>
                                        <p:cTn id="161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1"/>
          <p:cNvSpPr/>
          <p:nvPr/>
        </p:nvSpPr>
        <p:spPr>
          <a:xfrm>
            <a:off x="468360" y="155736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自主探索学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692360" y="2874960"/>
            <a:ext cx="433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4"/>
          <p:cNvSpPr/>
          <p:nvPr/>
        </p:nvSpPr>
        <p:spPr>
          <a:xfrm>
            <a:off x="1619280" y="4221000"/>
            <a:ext cx="66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这道题你是怎样算的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你的算法跟同桌同学说一说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5"/>
          <p:cNvSpPr/>
          <p:nvPr/>
        </p:nvSpPr>
        <p:spPr>
          <a:xfrm>
            <a:off x="3951360" y="2981160"/>
            <a:ext cx="718920" cy="71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1"/>
          <p:cNvSpPr/>
          <p:nvPr/>
        </p:nvSpPr>
        <p:spPr>
          <a:xfrm>
            <a:off x="647640" y="2205000"/>
            <a:ext cx="50040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示学生的计算方法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468360" y="155736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自主探索学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49"/>
          <p:cNvGrpSpPr/>
          <p:nvPr/>
        </p:nvGrpSpPr>
        <p:grpSpPr>
          <a:xfrm>
            <a:off x="1403280" y="2781360"/>
            <a:ext cx="4164120" cy="2694960"/>
            <a:chOff x="1403280" y="2781360"/>
            <a:chExt cx="4164120" cy="2694960"/>
          </a:xfrm>
        </p:grpSpPr>
        <p:sp>
          <p:nvSpPr>
            <p:cNvPr id="167" name="标题 1"/>
            <p:cNvSpPr/>
            <p:nvPr/>
          </p:nvSpPr>
          <p:spPr>
            <a:xfrm>
              <a:off x="1677960" y="2781360"/>
              <a:ext cx="388944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51"/>
            <p:cNvGrpSpPr/>
            <p:nvPr/>
          </p:nvGrpSpPr>
          <p:grpSpPr>
            <a:xfrm>
              <a:off x="1403280" y="3446280"/>
              <a:ext cx="576360" cy="1158480"/>
              <a:chOff x="1403280" y="3446280"/>
              <a:chExt cx="576360" cy="115848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19280" y="3446280"/>
                <a:ext cx="287280" cy="576360"/>
                <a:chOff x="1619280" y="3446280"/>
                <a:chExt cx="287280" cy="576360"/>
              </a:xfrm>
            </p:grpSpPr>
            <p:sp>
              <p:nvSpPr>
                <p:cNvPr id="170" name="Line 9"/>
                <p:cNvSpPr/>
                <p:nvPr/>
              </p:nvSpPr>
              <p:spPr>
                <a:xfrm flipH="1">
                  <a:off x="1619280" y="3446280"/>
                  <a:ext cx="287280" cy="576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 txBox="1"/>
                <p:nvPr/>
              </p:nvSpPr>
              <p:spPr>
                <a:xfrm>
                  <a:off x="1619280" y="3446280"/>
                  <a:ext cx="28728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11"/>
              <p:cNvSpPr/>
              <p:nvPr/>
            </p:nvSpPr>
            <p:spPr>
              <a:xfrm>
                <a:off x="1403280" y="39621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54"/>
            <p:cNvGrpSpPr/>
            <p:nvPr/>
          </p:nvGrpSpPr>
          <p:grpSpPr>
            <a:xfrm>
              <a:off x="1905120" y="3458880"/>
              <a:ext cx="579240" cy="1139760"/>
              <a:chOff x="1905120" y="3458880"/>
              <a:chExt cx="579240" cy="113976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1905120" y="3458880"/>
                <a:ext cx="260280" cy="557280"/>
                <a:chOff x="1905120" y="3458880"/>
                <a:chExt cx="260280" cy="557280"/>
              </a:xfrm>
            </p:grpSpPr>
            <p:sp>
              <p:nvSpPr>
                <p:cNvPr id="175" name="Line 10"/>
                <p:cNvSpPr/>
                <p:nvPr/>
              </p:nvSpPr>
              <p:spPr>
                <a:xfrm>
                  <a:off x="1905120" y="3458880"/>
                  <a:ext cx="260280" cy="557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 txBox="1"/>
                <p:nvPr/>
              </p:nvSpPr>
              <p:spPr>
                <a:xfrm>
                  <a:off x="1905120" y="3458880"/>
                  <a:ext cx="2602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Text Box 12"/>
              <p:cNvSpPr/>
              <p:nvPr/>
            </p:nvSpPr>
            <p:spPr>
              <a:xfrm>
                <a:off x="1908000" y="395604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2182320" y="3490920"/>
              <a:ext cx="682920" cy="1320480"/>
              <a:chOff x="2182320" y="3490920"/>
              <a:chExt cx="682920" cy="1320480"/>
            </a:xfrm>
          </p:grpSpPr>
          <p:grpSp>
            <p:nvGrpSpPr>
              <p:cNvPr id="179" name="Group 58"/>
              <p:cNvGrpSpPr/>
              <p:nvPr/>
            </p:nvGrpSpPr>
            <p:grpSpPr>
              <a:xfrm>
                <a:off x="2182320" y="3490920"/>
                <a:ext cx="682920" cy="1320480"/>
                <a:chOff x="2182320" y="3490920"/>
                <a:chExt cx="682920" cy="1320480"/>
              </a:xfrm>
            </p:grpSpPr>
            <p:grpSp>
              <p:nvGrpSpPr>
                <p:cNvPr id="180" name=""/>
                <p:cNvGrpSpPr/>
                <p:nvPr/>
              </p:nvGrpSpPr>
              <p:grpSpPr>
                <a:xfrm>
                  <a:off x="2864880" y="3490920"/>
                  <a:ext cx="360" cy="1320120"/>
                  <a:chOff x="2864880" y="3490920"/>
                  <a:chExt cx="360" cy="1320120"/>
                </a:xfrm>
              </p:grpSpPr>
              <p:sp>
                <p:nvSpPr>
                  <p:cNvPr id="181" name="Line 15"/>
                  <p:cNvSpPr/>
                  <p:nvPr/>
                </p:nvSpPr>
                <p:spPr>
                  <a:xfrm>
                    <a:off x="2865240" y="3490920"/>
                    <a:ext cx="0" cy="13201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 txBox="1"/>
                  <p:nvPr/>
                </p:nvSpPr>
                <p:spPr>
                  <a:xfrm>
                    <a:off x="2864880" y="3490920"/>
                    <a:ext cx="360" cy="132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2182320" y="4811040"/>
                  <a:ext cx="682920" cy="360"/>
                  <a:chOff x="2182320" y="4811040"/>
                  <a:chExt cx="682920" cy="360"/>
                </a:xfrm>
              </p:grpSpPr>
              <p:sp>
                <p:nvSpPr>
                  <p:cNvPr id="184" name="Line 16"/>
                  <p:cNvSpPr/>
                  <p:nvPr/>
                </p:nvSpPr>
                <p:spPr>
                  <a:xfrm flipH="1">
                    <a:off x="2182320" y="4811040"/>
                    <a:ext cx="682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 txBox="1"/>
                  <p:nvPr/>
                </p:nvSpPr>
                <p:spPr>
                  <a:xfrm>
                    <a:off x="2182320" y="4811040"/>
                    <a:ext cx="682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"/>
              <p:cNvGrpSpPr/>
              <p:nvPr/>
            </p:nvGrpSpPr>
            <p:grpSpPr>
              <a:xfrm>
                <a:off x="2182320" y="4578120"/>
                <a:ext cx="360" cy="232920"/>
                <a:chOff x="2182320" y="4578120"/>
                <a:chExt cx="360" cy="232920"/>
              </a:xfrm>
            </p:grpSpPr>
            <p:sp>
              <p:nvSpPr>
                <p:cNvPr id="187" name="Line 18"/>
                <p:cNvSpPr/>
                <p:nvPr/>
              </p:nvSpPr>
              <p:spPr>
                <a:xfrm flipV="1">
                  <a:off x="2182320" y="4578120"/>
                  <a:ext cx="0" cy="23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 txBox="1"/>
                <p:nvPr/>
              </p:nvSpPr>
              <p:spPr>
                <a:xfrm rot="10800000">
                  <a:off x="2182320" y="4578120"/>
                  <a:ext cx="360" cy="23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9" name="Text Box 20"/>
            <p:cNvSpPr/>
            <p:nvPr/>
          </p:nvSpPr>
          <p:spPr>
            <a:xfrm>
              <a:off x="2016000" y="4833720"/>
              <a:ext cx="9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1"/>
            <p:cNvSpPr/>
            <p:nvPr/>
          </p:nvSpPr>
          <p:spPr>
            <a:xfrm>
              <a:off x="3381480" y="2887560"/>
              <a:ext cx="107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64"/>
          <p:cNvGrpSpPr/>
          <p:nvPr/>
        </p:nvGrpSpPr>
        <p:grpSpPr>
          <a:xfrm>
            <a:off x="5146560" y="2781360"/>
            <a:ext cx="2881440" cy="2694960"/>
            <a:chOff x="5146560" y="2781360"/>
            <a:chExt cx="2881440" cy="2694960"/>
          </a:xfrm>
        </p:grpSpPr>
        <p:sp>
          <p:nvSpPr>
            <p:cNvPr id="192" name="标题 1"/>
            <p:cNvSpPr/>
            <p:nvPr/>
          </p:nvSpPr>
          <p:spPr>
            <a:xfrm>
              <a:off x="5146560" y="2781360"/>
              <a:ext cx="288144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66"/>
            <p:cNvGrpSpPr/>
            <p:nvPr/>
          </p:nvGrpSpPr>
          <p:grpSpPr>
            <a:xfrm>
              <a:off x="5829480" y="3446280"/>
              <a:ext cx="576000" cy="1158120"/>
              <a:chOff x="5829480" y="3446280"/>
              <a:chExt cx="576000" cy="115812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6044760" y="3446280"/>
                <a:ext cx="287280" cy="576000"/>
                <a:chOff x="6044760" y="3446280"/>
                <a:chExt cx="287280" cy="576000"/>
              </a:xfrm>
            </p:grpSpPr>
            <p:sp>
              <p:nvSpPr>
                <p:cNvPr id="195" name="Line 9"/>
                <p:cNvSpPr/>
                <p:nvPr/>
              </p:nvSpPr>
              <p:spPr>
                <a:xfrm flipH="1">
                  <a:off x="6044760" y="3446280"/>
                  <a:ext cx="286920" cy="57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 txBox="1"/>
                <p:nvPr/>
              </p:nvSpPr>
              <p:spPr>
                <a:xfrm>
                  <a:off x="6045120" y="3446280"/>
                  <a:ext cx="28692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Text Box 11"/>
              <p:cNvSpPr/>
              <p:nvPr/>
            </p:nvSpPr>
            <p:spPr>
              <a:xfrm>
                <a:off x="5829480" y="396180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69"/>
            <p:cNvGrpSpPr/>
            <p:nvPr/>
          </p:nvGrpSpPr>
          <p:grpSpPr>
            <a:xfrm>
              <a:off x="6330960" y="3458880"/>
              <a:ext cx="579240" cy="1139400"/>
              <a:chOff x="6330960" y="3458880"/>
              <a:chExt cx="579240" cy="113940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6330960" y="3458880"/>
                <a:ext cx="260280" cy="556920"/>
                <a:chOff x="6330960" y="3458880"/>
                <a:chExt cx="260280" cy="556920"/>
              </a:xfrm>
            </p:grpSpPr>
            <p:sp>
              <p:nvSpPr>
                <p:cNvPr id="200" name="Line 10"/>
                <p:cNvSpPr/>
                <p:nvPr/>
              </p:nvSpPr>
              <p:spPr>
                <a:xfrm>
                  <a:off x="6330960" y="3458880"/>
                  <a:ext cx="260280" cy="55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 txBox="1"/>
                <p:nvPr/>
              </p:nvSpPr>
              <p:spPr>
                <a:xfrm>
                  <a:off x="6330960" y="3458880"/>
                  <a:ext cx="260280" cy="55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Text Box 12"/>
              <p:cNvSpPr/>
              <p:nvPr/>
            </p:nvSpPr>
            <p:spPr>
              <a:xfrm>
                <a:off x="6333840" y="395568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72"/>
            <p:cNvGrpSpPr/>
            <p:nvPr/>
          </p:nvGrpSpPr>
          <p:grpSpPr>
            <a:xfrm>
              <a:off x="5362560" y="3490560"/>
              <a:ext cx="695520" cy="1320120"/>
              <a:chOff x="5362560" y="3490560"/>
              <a:chExt cx="695520" cy="1320120"/>
            </a:xfrm>
          </p:grpSpPr>
          <p:grpSp>
            <p:nvGrpSpPr>
              <p:cNvPr id="204" name="Group 73"/>
              <p:cNvGrpSpPr/>
              <p:nvPr/>
            </p:nvGrpSpPr>
            <p:grpSpPr>
              <a:xfrm>
                <a:off x="5362560" y="3490560"/>
                <a:ext cx="695520" cy="1320120"/>
                <a:chOff x="5362560" y="3490560"/>
                <a:chExt cx="695520" cy="1320120"/>
              </a:xfrm>
            </p:grpSpPr>
            <p:grpSp>
              <p:nvGrpSpPr>
                <p:cNvPr id="205" name=""/>
                <p:cNvGrpSpPr/>
                <p:nvPr/>
              </p:nvGrpSpPr>
              <p:grpSpPr>
                <a:xfrm>
                  <a:off x="5362560" y="3490560"/>
                  <a:ext cx="360" cy="1319760"/>
                  <a:chOff x="5362560" y="3490560"/>
                  <a:chExt cx="360" cy="1319760"/>
                </a:xfrm>
              </p:grpSpPr>
              <p:sp>
                <p:nvSpPr>
                  <p:cNvPr id="206" name="Line 15"/>
                  <p:cNvSpPr/>
                  <p:nvPr/>
                </p:nvSpPr>
                <p:spPr>
                  <a:xfrm>
                    <a:off x="5362560" y="3490560"/>
                    <a:ext cx="0" cy="1319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 txBox="1"/>
                  <p:nvPr/>
                </p:nvSpPr>
                <p:spPr>
                  <a:xfrm>
                    <a:off x="5362560" y="3490560"/>
                    <a:ext cx="360" cy="131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5362560" y="4810320"/>
                  <a:ext cx="695520" cy="360"/>
                  <a:chOff x="5362560" y="4810320"/>
                  <a:chExt cx="695520" cy="360"/>
                </a:xfrm>
              </p:grpSpPr>
              <p:sp>
                <p:nvSpPr>
                  <p:cNvPr id="209" name="Line 16"/>
                  <p:cNvSpPr/>
                  <p:nvPr/>
                </p:nvSpPr>
                <p:spPr>
                  <a:xfrm>
                    <a:off x="5362560" y="4810320"/>
                    <a:ext cx="6955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 txBox="1"/>
                  <p:nvPr/>
                </p:nvSpPr>
                <p:spPr>
                  <a:xfrm>
                    <a:off x="5362560" y="4810320"/>
                    <a:ext cx="695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" name=""/>
              <p:cNvGrpSpPr/>
              <p:nvPr/>
            </p:nvGrpSpPr>
            <p:grpSpPr>
              <a:xfrm>
                <a:off x="6057720" y="4577400"/>
                <a:ext cx="360" cy="232920"/>
                <a:chOff x="6057720" y="4577400"/>
                <a:chExt cx="360" cy="232920"/>
              </a:xfrm>
            </p:grpSpPr>
            <p:sp>
              <p:nvSpPr>
                <p:cNvPr id="212" name="Line 18"/>
                <p:cNvSpPr/>
                <p:nvPr/>
              </p:nvSpPr>
              <p:spPr>
                <a:xfrm flipV="1">
                  <a:off x="6058080" y="4577400"/>
                  <a:ext cx="0" cy="23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 txBox="1"/>
                <p:nvPr/>
              </p:nvSpPr>
              <p:spPr>
                <a:xfrm rot="10800000">
                  <a:off x="6057720" y="4577400"/>
                  <a:ext cx="360" cy="23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4" name="Text Box 20"/>
            <p:cNvSpPr/>
            <p:nvPr/>
          </p:nvSpPr>
          <p:spPr>
            <a:xfrm>
              <a:off x="5226120" y="4833720"/>
              <a:ext cx="9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1"/>
            <p:cNvSpPr/>
            <p:nvPr/>
          </p:nvSpPr>
          <p:spPr>
            <a:xfrm>
              <a:off x="6850080" y="288756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79"/>
          <p:cNvGrpSpPr/>
          <p:nvPr/>
        </p:nvGrpSpPr>
        <p:grpSpPr>
          <a:xfrm>
            <a:off x="3059280" y="5402160"/>
            <a:ext cx="3457440" cy="1291680"/>
            <a:chOff x="3059280" y="5402160"/>
            <a:chExt cx="3457440" cy="1291680"/>
          </a:xfrm>
        </p:grpSpPr>
        <p:sp>
          <p:nvSpPr>
            <p:cNvPr id="217" name="矩形 44"/>
            <p:cNvSpPr/>
            <p:nvPr/>
          </p:nvSpPr>
          <p:spPr>
            <a:xfrm>
              <a:off x="3059280" y="5402160"/>
              <a:ext cx="34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44"/>
            <p:cNvSpPr/>
            <p:nvPr/>
          </p:nvSpPr>
          <p:spPr>
            <a:xfrm>
              <a:off x="3059280" y="6051240"/>
              <a:ext cx="34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4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5"/>
          <p:cNvSpPr/>
          <p:nvPr/>
        </p:nvSpPr>
        <p:spPr>
          <a:xfrm>
            <a:off x="1332000" y="5229360"/>
            <a:ext cx="74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 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于多少？说一说你是怎么算的。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43"/>
          <p:cNvSpPr/>
          <p:nvPr/>
        </p:nvSpPr>
        <p:spPr>
          <a:xfrm>
            <a:off x="2109960" y="5732640"/>
            <a:ext cx="674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为什么有时要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时要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呢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468360" y="155736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自主探索学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标题 1"/>
          <p:cNvSpPr/>
          <p:nvPr/>
        </p:nvSpPr>
        <p:spPr>
          <a:xfrm>
            <a:off x="1677960" y="2349360"/>
            <a:ext cx="38894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7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38"/>
          <p:cNvGrpSpPr/>
          <p:nvPr/>
        </p:nvGrpSpPr>
        <p:grpSpPr>
          <a:xfrm>
            <a:off x="1403280" y="3014640"/>
            <a:ext cx="576360" cy="1158480"/>
            <a:chOff x="1403280" y="3014640"/>
            <a:chExt cx="576360" cy="1158480"/>
          </a:xfrm>
        </p:grpSpPr>
        <p:grpSp>
          <p:nvGrpSpPr>
            <p:cNvPr id="225" name=""/>
            <p:cNvGrpSpPr/>
            <p:nvPr/>
          </p:nvGrpSpPr>
          <p:grpSpPr>
            <a:xfrm>
              <a:off x="1619280" y="3014640"/>
              <a:ext cx="287280" cy="576360"/>
              <a:chOff x="1619280" y="3014640"/>
              <a:chExt cx="287280" cy="576360"/>
            </a:xfrm>
          </p:grpSpPr>
          <p:sp>
            <p:nvSpPr>
              <p:cNvPr id="226" name="Line 9"/>
              <p:cNvSpPr/>
              <p:nvPr/>
            </p:nvSpPr>
            <p:spPr>
              <a:xfrm flipH="1">
                <a:off x="1619280" y="3014640"/>
                <a:ext cx="287280" cy="57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 txBox="1"/>
              <p:nvPr/>
            </p:nvSpPr>
            <p:spPr>
              <a:xfrm>
                <a:off x="1619280" y="3014640"/>
                <a:ext cx="287280" cy="57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 Box 11"/>
            <p:cNvSpPr/>
            <p:nvPr/>
          </p:nvSpPr>
          <p:spPr>
            <a:xfrm>
              <a:off x="1403280" y="35305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41"/>
          <p:cNvGrpSpPr/>
          <p:nvPr/>
        </p:nvGrpSpPr>
        <p:grpSpPr>
          <a:xfrm>
            <a:off x="1905120" y="3027240"/>
            <a:ext cx="579240" cy="1139760"/>
            <a:chOff x="1905120" y="3027240"/>
            <a:chExt cx="579240" cy="1139760"/>
          </a:xfrm>
        </p:grpSpPr>
        <p:grpSp>
          <p:nvGrpSpPr>
            <p:cNvPr id="230" name=""/>
            <p:cNvGrpSpPr/>
            <p:nvPr/>
          </p:nvGrpSpPr>
          <p:grpSpPr>
            <a:xfrm>
              <a:off x="1905120" y="3027240"/>
              <a:ext cx="260280" cy="557280"/>
              <a:chOff x="1905120" y="3027240"/>
              <a:chExt cx="260280" cy="557280"/>
            </a:xfrm>
          </p:grpSpPr>
          <p:sp>
            <p:nvSpPr>
              <p:cNvPr id="231" name="Line 10"/>
              <p:cNvSpPr/>
              <p:nvPr/>
            </p:nvSpPr>
            <p:spPr>
              <a:xfrm>
                <a:off x="1905120" y="3027240"/>
                <a:ext cx="260280" cy="55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>
                <a:off x="1905120" y="3027240"/>
                <a:ext cx="260280" cy="55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12"/>
            <p:cNvSpPr/>
            <p:nvPr/>
          </p:nvSpPr>
          <p:spPr>
            <a:xfrm>
              <a:off x="1908000" y="35244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51"/>
          <p:cNvGrpSpPr/>
          <p:nvPr/>
        </p:nvGrpSpPr>
        <p:grpSpPr>
          <a:xfrm>
            <a:off x="2016000" y="3059280"/>
            <a:ext cx="971640" cy="1985400"/>
            <a:chOff x="2016000" y="3059280"/>
            <a:chExt cx="971640" cy="1985400"/>
          </a:xfrm>
        </p:grpSpPr>
        <p:grpSp>
          <p:nvGrpSpPr>
            <p:cNvPr id="235" name="Group 44"/>
            <p:cNvGrpSpPr/>
            <p:nvPr/>
          </p:nvGrpSpPr>
          <p:grpSpPr>
            <a:xfrm>
              <a:off x="2182320" y="3059280"/>
              <a:ext cx="682920" cy="1320120"/>
              <a:chOff x="2182320" y="3059280"/>
              <a:chExt cx="682920" cy="1320120"/>
            </a:xfrm>
          </p:grpSpPr>
          <p:grpSp>
            <p:nvGrpSpPr>
              <p:cNvPr id="236" name="Group 45"/>
              <p:cNvGrpSpPr/>
              <p:nvPr/>
            </p:nvGrpSpPr>
            <p:grpSpPr>
              <a:xfrm>
                <a:off x="2182320" y="3059280"/>
                <a:ext cx="682920" cy="1320120"/>
                <a:chOff x="2182320" y="3059280"/>
                <a:chExt cx="682920" cy="1320120"/>
              </a:xfrm>
            </p:grpSpPr>
            <p:grpSp>
              <p:nvGrpSpPr>
                <p:cNvPr id="237" name=""/>
                <p:cNvGrpSpPr/>
                <p:nvPr/>
              </p:nvGrpSpPr>
              <p:grpSpPr>
                <a:xfrm>
                  <a:off x="2864880" y="3059280"/>
                  <a:ext cx="360" cy="1319760"/>
                  <a:chOff x="2864880" y="3059280"/>
                  <a:chExt cx="360" cy="1319760"/>
                </a:xfrm>
              </p:grpSpPr>
              <p:sp>
                <p:nvSpPr>
                  <p:cNvPr id="238" name="Line 15"/>
                  <p:cNvSpPr/>
                  <p:nvPr/>
                </p:nvSpPr>
                <p:spPr>
                  <a:xfrm>
                    <a:off x="2865240" y="3059280"/>
                    <a:ext cx="0" cy="1319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 txBox="1"/>
                  <p:nvPr/>
                </p:nvSpPr>
                <p:spPr>
                  <a:xfrm>
                    <a:off x="2864880" y="3059280"/>
                    <a:ext cx="360" cy="131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2182320" y="4379040"/>
                  <a:ext cx="682920" cy="360"/>
                  <a:chOff x="2182320" y="4379040"/>
                  <a:chExt cx="682920" cy="360"/>
                </a:xfrm>
              </p:grpSpPr>
              <p:sp>
                <p:nvSpPr>
                  <p:cNvPr id="241" name="Line 16"/>
                  <p:cNvSpPr/>
                  <p:nvPr/>
                </p:nvSpPr>
                <p:spPr>
                  <a:xfrm flipH="1">
                    <a:off x="2182320" y="4379040"/>
                    <a:ext cx="682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 txBox="1"/>
                  <p:nvPr/>
                </p:nvSpPr>
                <p:spPr>
                  <a:xfrm>
                    <a:off x="2182320" y="4379040"/>
                    <a:ext cx="682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3" name=""/>
              <p:cNvGrpSpPr/>
              <p:nvPr/>
            </p:nvGrpSpPr>
            <p:grpSpPr>
              <a:xfrm>
                <a:off x="2182320" y="4146120"/>
                <a:ext cx="360" cy="232920"/>
                <a:chOff x="2182320" y="4146120"/>
                <a:chExt cx="360" cy="232920"/>
              </a:xfrm>
            </p:grpSpPr>
            <p:sp>
              <p:nvSpPr>
                <p:cNvPr id="244" name="Line 18"/>
                <p:cNvSpPr/>
                <p:nvPr/>
              </p:nvSpPr>
              <p:spPr>
                <a:xfrm flipV="1">
                  <a:off x="2182320" y="4146120"/>
                  <a:ext cx="0" cy="23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 txBox="1"/>
                <p:nvPr/>
              </p:nvSpPr>
              <p:spPr>
                <a:xfrm rot="10800000">
                  <a:off x="2182320" y="4146120"/>
                  <a:ext cx="360" cy="23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6" name="Text Box 20"/>
            <p:cNvSpPr/>
            <p:nvPr/>
          </p:nvSpPr>
          <p:spPr>
            <a:xfrm>
              <a:off x="2016000" y="4402080"/>
              <a:ext cx="9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21"/>
          <p:cNvSpPr/>
          <p:nvPr/>
        </p:nvSpPr>
        <p:spPr>
          <a:xfrm>
            <a:off x="3381480" y="245592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54"/>
          <p:cNvGrpSpPr/>
          <p:nvPr/>
        </p:nvGrpSpPr>
        <p:grpSpPr>
          <a:xfrm>
            <a:off x="5829480" y="3014640"/>
            <a:ext cx="576000" cy="1158480"/>
            <a:chOff x="5829480" y="3014640"/>
            <a:chExt cx="576000" cy="1158480"/>
          </a:xfrm>
        </p:grpSpPr>
        <p:grpSp>
          <p:nvGrpSpPr>
            <p:cNvPr id="249" name=""/>
            <p:cNvGrpSpPr/>
            <p:nvPr/>
          </p:nvGrpSpPr>
          <p:grpSpPr>
            <a:xfrm>
              <a:off x="6044760" y="3014640"/>
              <a:ext cx="287280" cy="576360"/>
              <a:chOff x="6044760" y="3014640"/>
              <a:chExt cx="287280" cy="576360"/>
            </a:xfrm>
          </p:grpSpPr>
          <p:sp>
            <p:nvSpPr>
              <p:cNvPr id="250" name="Line 9"/>
              <p:cNvSpPr/>
              <p:nvPr/>
            </p:nvSpPr>
            <p:spPr>
              <a:xfrm flipH="1">
                <a:off x="6044760" y="3014640"/>
                <a:ext cx="286920" cy="57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>
                <a:off x="6045120" y="3014640"/>
                <a:ext cx="286920" cy="57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Text Box 11"/>
            <p:cNvSpPr/>
            <p:nvPr/>
          </p:nvSpPr>
          <p:spPr>
            <a:xfrm>
              <a:off x="5829480" y="353052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57"/>
          <p:cNvGrpSpPr/>
          <p:nvPr/>
        </p:nvGrpSpPr>
        <p:grpSpPr>
          <a:xfrm>
            <a:off x="6330960" y="3027240"/>
            <a:ext cx="579240" cy="1139760"/>
            <a:chOff x="6330960" y="3027240"/>
            <a:chExt cx="579240" cy="1139760"/>
          </a:xfrm>
        </p:grpSpPr>
        <p:grpSp>
          <p:nvGrpSpPr>
            <p:cNvPr id="254" name=""/>
            <p:cNvGrpSpPr/>
            <p:nvPr/>
          </p:nvGrpSpPr>
          <p:grpSpPr>
            <a:xfrm>
              <a:off x="6330960" y="3027240"/>
              <a:ext cx="260280" cy="557280"/>
              <a:chOff x="6330960" y="3027240"/>
              <a:chExt cx="260280" cy="557280"/>
            </a:xfrm>
          </p:grpSpPr>
          <p:sp>
            <p:nvSpPr>
              <p:cNvPr id="255" name="Line 10"/>
              <p:cNvSpPr/>
              <p:nvPr/>
            </p:nvSpPr>
            <p:spPr>
              <a:xfrm>
                <a:off x="6330960" y="3027240"/>
                <a:ext cx="260280" cy="55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>
                <a:off x="6330960" y="3027240"/>
                <a:ext cx="260280" cy="55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 Box 12"/>
            <p:cNvSpPr/>
            <p:nvPr/>
          </p:nvSpPr>
          <p:spPr>
            <a:xfrm>
              <a:off x="6333840" y="35244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69"/>
          <p:cNvGrpSpPr/>
          <p:nvPr/>
        </p:nvGrpSpPr>
        <p:grpSpPr>
          <a:xfrm>
            <a:off x="5226120" y="3059280"/>
            <a:ext cx="971640" cy="1985400"/>
            <a:chOff x="5226120" y="3059280"/>
            <a:chExt cx="971640" cy="1985400"/>
          </a:xfrm>
        </p:grpSpPr>
        <p:grpSp>
          <p:nvGrpSpPr>
            <p:cNvPr id="259" name="Group 60"/>
            <p:cNvGrpSpPr/>
            <p:nvPr/>
          </p:nvGrpSpPr>
          <p:grpSpPr>
            <a:xfrm>
              <a:off x="5362560" y="3059280"/>
              <a:ext cx="695520" cy="1320120"/>
              <a:chOff x="5362560" y="3059280"/>
              <a:chExt cx="695520" cy="1320120"/>
            </a:xfrm>
          </p:grpSpPr>
          <p:grpSp>
            <p:nvGrpSpPr>
              <p:cNvPr id="260" name="Group 61"/>
              <p:cNvGrpSpPr/>
              <p:nvPr/>
            </p:nvGrpSpPr>
            <p:grpSpPr>
              <a:xfrm>
                <a:off x="5362560" y="3059280"/>
                <a:ext cx="695520" cy="1320120"/>
                <a:chOff x="5362560" y="3059280"/>
                <a:chExt cx="695520" cy="132012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5362560" y="3059280"/>
                  <a:ext cx="360" cy="1319760"/>
                  <a:chOff x="5362560" y="3059280"/>
                  <a:chExt cx="360" cy="1319760"/>
                </a:xfrm>
              </p:grpSpPr>
              <p:sp>
                <p:nvSpPr>
                  <p:cNvPr id="262" name="Line 15"/>
                  <p:cNvSpPr/>
                  <p:nvPr/>
                </p:nvSpPr>
                <p:spPr>
                  <a:xfrm>
                    <a:off x="5362560" y="3059280"/>
                    <a:ext cx="0" cy="1319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 txBox="1"/>
                  <p:nvPr/>
                </p:nvSpPr>
                <p:spPr>
                  <a:xfrm>
                    <a:off x="5362560" y="3059280"/>
                    <a:ext cx="360" cy="131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5362560" y="4379040"/>
                  <a:ext cx="695520" cy="360"/>
                  <a:chOff x="5362560" y="4379040"/>
                  <a:chExt cx="695520" cy="360"/>
                </a:xfrm>
              </p:grpSpPr>
              <p:sp>
                <p:nvSpPr>
                  <p:cNvPr id="265" name="Line 16"/>
                  <p:cNvSpPr/>
                  <p:nvPr/>
                </p:nvSpPr>
                <p:spPr>
                  <a:xfrm>
                    <a:off x="5362560" y="4379040"/>
                    <a:ext cx="6955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 txBox="1"/>
                  <p:nvPr/>
                </p:nvSpPr>
                <p:spPr>
                  <a:xfrm>
                    <a:off x="5362560" y="4379040"/>
                    <a:ext cx="695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6057720" y="4146120"/>
                <a:ext cx="360" cy="232920"/>
                <a:chOff x="6057720" y="4146120"/>
                <a:chExt cx="360" cy="232920"/>
              </a:xfrm>
            </p:grpSpPr>
            <p:sp>
              <p:nvSpPr>
                <p:cNvPr id="268" name="Line 18"/>
                <p:cNvSpPr/>
                <p:nvPr/>
              </p:nvSpPr>
              <p:spPr>
                <a:xfrm flipV="1">
                  <a:off x="6058080" y="4146120"/>
                  <a:ext cx="0" cy="23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 txBox="1"/>
                <p:nvPr/>
              </p:nvSpPr>
              <p:spPr>
                <a:xfrm rot="10800000">
                  <a:off x="6057720" y="4146120"/>
                  <a:ext cx="360" cy="23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0" name="Text Box 20"/>
            <p:cNvSpPr/>
            <p:nvPr/>
          </p:nvSpPr>
          <p:spPr>
            <a:xfrm>
              <a:off x="5226120" y="4402080"/>
              <a:ext cx="9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8"/>
          <p:cNvGrpSpPr/>
          <p:nvPr/>
        </p:nvGrpSpPr>
        <p:grpSpPr>
          <a:xfrm>
            <a:off x="5146560" y="2349360"/>
            <a:ext cx="2881440" cy="851040"/>
            <a:chOff x="5146560" y="2349360"/>
            <a:chExt cx="2881440" cy="851040"/>
          </a:xfrm>
        </p:grpSpPr>
        <p:sp>
          <p:nvSpPr>
            <p:cNvPr id="272" name="标题 1"/>
            <p:cNvSpPr/>
            <p:nvPr/>
          </p:nvSpPr>
          <p:spPr>
            <a:xfrm>
              <a:off x="5146560" y="2349360"/>
              <a:ext cx="288144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1"/>
            <p:cNvSpPr/>
            <p:nvPr/>
          </p:nvSpPr>
          <p:spPr>
            <a:xfrm>
              <a:off x="6850080" y="245592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Rectangle 4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5"/>
          <p:cNvSpPr/>
          <p:nvPr/>
        </p:nvSpPr>
        <p:spPr>
          <a:xfrm>
            <a:off x="542880" y="544500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知道他是怎么想的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53"/>
          <p:cNvSpPr/>
          <p:nvPr/>
        </p:nvSpPr>
        <p:spPr>
          <a:xfrm>
            <a:off x="1312920" y="589428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两个算式哪里相同？哪里不同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542880" y="5446800"/>
            <a:ext cx="860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结：在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时，既可以把大数凑成十，也可以把小数凑成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可以想与它有关系的算式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468360" y="155736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自主探索学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53"/>
          <p:cNvGrpSpPr/>
          <p:nvPr/>
        </p:nvGrpSpPr>
        <p:grpSpPr>
          <a:xfrm>
            <a:off x="468360" y="2570040"/>
            <a:ext cx="3457440" cy="1291680"/>
            <a:chOff x="468360" y="2570040"/>
            <a:chExt cx="3457440" cy="1291680"/>
          </a:xfrm>
        </p:grpSpPr>
        <p:sp>
          <p:nvSpPr>
            <p:cNvPr id="281" name="矩形 44"/>
            <p:cNvSpPr/>
            <p:nvPr/>
          </p:nvSpPr>
          <p:spPr>
            <a:xfrm>
              <a:off x="468360" y="2570040"/>
              <a:ext cx="34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44"/>
            <p:cNvSpPr/>
            <p:nvPr/>
          </p:nvSpPr>
          <p:spPr>
            <a:xfrm>
              <a:off x="468360" y="3219120"/>
              <a:ext cx="34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57"/>
          <p:cNvGrpSpPr/>
          <p:nvPr/>
        </p:nvGrpSpPr>
        <p:grpSpPr>
          <a:xfrm>
            <a:off x="2844720" y="2492280"/>
            <a:ext cx="4164120" cy="2694960"/>
            <a:chOff x="2844720" y="2492280"/>
            <a:chExt cx="4164120" cy="2694960"/>
          </a:xfrm>
        </p:grpSpPr>
        <p:sp>
          <p:nvSpPr>
            <p:cNvPr id="284" name="标题 1"/>
            <p:cNvSpPr/>
            <p:nvPr/>
          </p:nvSpPr>
          <p:spPr>
            <a:xfrm>
              <a:off x="3119400" y="2492280"/>
              <a:ext cx="388944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59"/>
            <p:cNvGrpSpPr/>
            <p:nvPr/>
          </p:nvGrpSpPr>
          <p:grpSpPr>
            <a:xfrm>
              <a:off x="2844720" y="3157200"/>
              <a:ext cx="576360" cy="1158480"/>
              <a:chOff x="2844720" y="3157200"/>
              <a:chExt cx="576360" cy="115848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060720" y="3157200"/>
                <a:ext cx="287280" cy="576360"/>
                <a:chOff x="3060720" y="3157200"/>
                <a:chExt cx="287280" cy="576360"/>
              </a:xfrm>
            </p:grpSpPr>
            <p:sp>
              <p:nvSpPr>
                <p:cNvPr id="287" name="Line 9"/>
                <p:cNvSpPr/>
                <p:nvPr/>
              </p:nvSpPr>
              <p:spPr>
                <a:xfrm flipH="1">
                  <a:off x="3060720" y="3157200"/>
                  <a:ext cx="287280" cy="576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 txBox="1"/>
                <p:nvPr/>
              </p:nvSpPr>
              <p:spPr>
                <a:xfrm>
                  <a:off x="3060720" y="3157200"/>
                  <a:ext cx="28728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Text Box 11"/>
              <p:cNvSpPr/>
              <p:nvPr/>
            </p:nvSpPr>
            <p:spPr>
              <a:xfrm>
                <a:off x="2844720" y="367308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62"/>
            <p:cNvGrpSpPr/>
            <p:nvPr/>
          </p:nvGrpSpPr>
          <p:grpSpPr>
            <a:xfrm>
              <a:off x="3346560" y="3169800"/>
              <a:ext cx="579240" cy="1139760"/>
              <a:chOff x="3346560" y="3169800"/>
              <a:chExt cx="579240" cy="11397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3346560" y="3169800"/>
                <a:ext cx="260280" cy="557280"/>
                <a:chOff x="3346560" y="3169800"/>
                <a:chExt cx="260280" cy="557280"/>
              </a:xfrm>
            </p:grpSpPr>
            <p:sp>
              <p:nvSpPr>
                <p:cNvPr id="292" name="Line 10"/>
                <p:cNvSpPr/>
                <p:nvPr/>
              </p:nvSpPr>
              <p:spPr>
                <a:xfrm>
                  <a:off x="3346560" y="3169800"/>
                  <a:ext cx="260280" cy="557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 txBox="1"/>
                <p:nvPr/>
              </p:nvSpPr>
              <p:spPr>
                <a:xfrm>
                  <a:off x="3346560" y="3169800"/>
                  <a:ext cx="2602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Text Box 12"/>
              <p:cNvSpPr/>
              <p:nvPr/>
            </p:nvSpPr>
            <p:spPr>
              <a:xfrm>
                <a:off x="3349440" y="36669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65"/>
            <p:cNvGrpSpPr/>
            <p:nvPr/>
          </p:nvGrpSpPr>
          <p:grpSpPr>
            <a:xfrm>
              <a:off x="3623760" y="3201840"/>
              <a:ext cx="682920" cy="1320480"/>
              <a:chOff x="3623760" y="3201840"/>
              <a:chExt cx="682920" cy="1320480"/>
            </a:xfrm>
          </p:grpSpPr>
          <p:grpSp>
            <p:nvGrpSpPr>
              <p:cNvPr id="296" name="Group 66"/>
              <p:cNvGrpSpPr/>
              <p:nvPr/>
            </p:nvGrpSpPr>
            <p:grpSpPr>
              <a:xfrm>
                <a:off x="3623760" y="3201840"/>
                <a:ext cx="682920" cy="1320480"/>
                <a:chOff x="3623760" y="3201840"/>
                <a:chExt cx="682920" cy="132048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4306320" y="3201840"/>
                  <a:ext cx="360" cy="1320120"/>
                  <a:chOff x="4306320" y="3201840"/>
                  <a:chExt cx="360" cy="1320120"/>
                </a:xfrm>
              </p:grpSpPr>
              <p:sp>
                <p:nvSpPr>
                  <p:cNvPr id="298" name="Line 15"/>
                  <p:cNvSpPr/>
                  <p:nvPr/>
                </p:nvSpPr>
                <p:spPr>
                  <a:xfrm>
                    <a:off x="4306680" y="3201840"/>
                    <a:ext cx="0" cy="13201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 txBox="1"/>
                  <p:nvPr/>
                </p:nvSpPr>
                <p:spPr>
                  <a:xfrm>
                    <a:off x="4306320" y="3201840"/>
                    <a:ext cx="360" cy="132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3623760" y="4521960"/>
                  <a:ext cx="682920" cy="360"/>
                  <a:chOff x="3623760" y="4521960"/>
                  <a:chExt cx="682920" cy="360"/>
                </a:xfrm>
              </p:grpSpPr>
              <p:sp>
                <p:nvSpPr>
                  <p:cNvPr id="301" name="Line 16"/>
                  <p:cNvSpPr/>
                  <p:nvPr/>
                </p:nvSpPr>
                <p:spPr>
                  <a:xfrm flipH="1">
                    <a:off x="3623760" y="4521960"/>
                    <a:ext cx="682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 txBox="1"/>
                  <p:nvPr/>
                </p:nvSpPr>
                <p:spPr>
                  <a:xfrm>
                    <a:off x="3623760" y="4521960"/>
                    <a:ext cx="682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3" name=""/>
              <p:cNvGrpSpPr/>
              <p:nvPr/>
            </p:nvGrpSpPr>
            <p:grpSpPr>
              <a:xfrm>
                <a:off x="3623760" y="4289040"/>
                <a:ext cx="360" cy="232920"/>
                <a:chOff x="3623760" y="4289040"/>
                <a:chExt cx="360" cy="232920"/>
              </a:xfrm>
            </p:grpSpPr>
            <p:sp>
              <p:nvSpPr>
                <p:cNvPr id="304" name="Line 18"/>
                <p:cNvSpPr/>
                <p:nvPr/>
              </p:nvSpPr>
              <p:spPr>
                <a:xfrm flipV="1">
                  <a:off x="3623760" y="4289040"/>
                  <a:ext cx="0" cy="23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 txBox="1"/>
                <p:nvPr/>
              </p:nvSpPr>
              <p:spPr>
                <a:xfrm rot="10800000">
                  <a:off x="3623760" y="4289040"/>
                  <a:ext cx="360" cy="23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Text Box 20"/>
            <p:cNvSpPr/>
            <p:nvPr/>
          </p:nvSpPr>
          <p:spPr>
            <a:xfrm>
              <a:off x="3457440" y="4544640"/>
              <a:ext cx="9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1"/>
            <p:cNvSpPr/>
            <p:nvPr/>
          </p:nvSpPr>
          <p:spPr>
            <a:xfrm>
              <a:off x="4822920" y="2598480"/>
              <a:ext cx="107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72"/>
          <p:cNvGrpSpPr/>
          <p:nvPr/>
        </p:nvGrpSpPr>
        <p:grpSpPr>
          <a:xfrm>
            <a:off x="6227640" y="2492280"/>
            <a:ext cx="2881440" cy="2695320"/>
            <a:chOff x="6227640" y="2492280"/>
            <a:chExt cx="2881440" cy="2695320"/>
          </a:xfrm>
        </p:grpSpPr>
        <p:sp>
          <p:nvSpPr>
            <p:cNvPr id="309" name="标题 1"/>
            <p:cNvSpPr/>
            <p:nvPr/>
          </p:nvSpPr>
          <p:spPr>
            <a:xfrm>
              <a:off x="6227640" y="2492280"/>
              <a:ext cx="288144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74"/>
            <p:cNvGrpSpPr/>
            <p:nvPr/>
          </p:nvGrpSpPr>
          <p:grpSpPr>
            <a:xfrm>
              <a:off x="6910560" y="3157560"/>
              <a:ext cx="576000" cy="1158480"/>
              <a:chOff x="6910560" y="3157560"/>
              <a:chExt cx="576000" cy="115848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7125840" y="3157560"/>
                <a:ext cx="287280" cy="576360"/>
                <a:chOff x="7125840" y="3157560"/>
                <a:chExt cx="287280" cy="576360"/>
              </a:xfrm>
            </p:grpSpPr>
            <p:sp>
              <p:nvSpPr>
                <p:cNvPr id="312" name="Line 9"/>
                <p:cNvSpPr/>
                <p:nvPr/>
              </p:nvSpPr>
              <p:spPr>
                <a:xfrm flipH="1">
                  <a:off x="7125840" y="3157560"/>
                  <a:ext cx="286920" cy="576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 txBox="1"/>
                <p:nvPr/>
              </p:nvSpPr>
              <p:spPr>
                <a:xfrm>
                  <a:off x="7126200" y="3157560"/>
                  <a:ext cx="2869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Text Box 11"/>
              <p:cNvSpPr/>
              <p:nvPr/>
            </p:nvSpPr>
            <p:spPr>
              <a:xfrm>
                <a:off x="6910560" y="367344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77"/>
            <p:cNvGrpSpPr/>
            <p:nvPr/>
          </p:nvGrpSpPr>
          <p:grpSpPr>
            <a:xfrm>
              <a:off x="7412040" y="3170160"/>
              <a:ext cx="579240" cy="1139760"/>
              <a:chOff x="7412040" y="3170160"/>
              <a:chExt cx="579240" cy="113976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7412040" y="3170160"/>
                <a:ext cx="260280" cy="557280"/>
                <a:chOff x="7412040" y="3170160"/>
                <a:chExt cx="260280" cy="557280"/>
              </a:xfrm>
            </p:grpSpPr>
            <p:sp>
              <p:nvSpPr>
                <p:cNvPr id="317" name="Line 10"/>
                <p:cNvSpPr/>
                <p:nvPr/>
              </p:nvSpPr>
              <p:spPr>
                <a:xfrm>
                  <a:off x="7412040" y="3170160"/>
                  <a:ext cx="260280" cy="557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 txBox="1"/>
                <p:nvPr/>
              </p:nvSpPr>
              <p:spPr>
                <a:xfrm>
                  <a:off x="7412040" y="3170160"/>
                  <a:ext cx="260280" cy="55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Text Box 12"/>
              <p:cNvSpPr/>
              <p:nvPr/>
            </p:nvSpPr>
            <p:spPr>
              <a:xfrm>
                <a:off x="7414920" y="36673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80"/>
            <p:cNvGrpSpPr/>
            <p:nvPr/>
          </p:nvGrpSpPr>
          <p:grpSpPr>
            <a:xfrm>
              <a:off x="6443640" y="3201840"/>
              <a:ext cx="695520" cy="1320480"/>
              <a:chOff x="6443640" y="3201840"/>
              <a:chExt cx="695520" cy="1320480"/>
            </a:xfrm>
          </p:grpSpPr>
          <p:grpSp>
            <p:nvGrpSpPr>
              <p:cNvPr id="321" name="Group 81"/>
              <p:cNvGrpSpPr/>
              <p:nvPr/>
            </p:nvGrpSpPr>
            <p:grpSpPr>
              <a:xfrm>
                <a:off x="6443640" y="3201840"/>
                <a:ext cx="695520" cy="1320480"/>
                <a:chOff x="6443640" y="3201840"/>
                <a:chExt cx="695520" cy="1320480"/>
              </a:xfrm>
            </p:grpSpPr>
            <p:grpSp>
              <p:nvGrpSpPr>
                <p:cNvPr id="322" name=""/>
                <p:cNvGrpSpPr/>
                <p:nvPr/>
              </p:nvGrpSpPr>
              <p:grpSpPr>
                <a:xfrm>
                  <a:off x="6443640" y="3201840"/>
                  <a:ext cx="360" cy="1320120"/>
                  <a:chOff x="6443640" y="3201840"/>
                  <a:chExt cx="360" cy="1320120"/>
                </a:xfrm>
              </p:grpSpPr>
              <p:sp>
                <p:nvSpPr>
                  <p:cNvPr id="323" name="Line 15"/>
                  <p:cNvSpPr/>
                  <p:nvPr/>
                </p:nvSpPr>
                <p:spPr>
                  <a:xfrm>
                    <a:off x="6443640" y="3201840"/>
                    <a:ext cx="0" cy="13201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 txBox="1"/>
                  <p:nvPr/>
                </p:nvSpPr>
                <p:spPr>
                  <a:xfrm>
                    <a:off x="6443640" y="3201840"/>
                    <a:ext cx="360" cy="132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6443640" y="4521960"/>
                  <a:ext cx="695520" cy="360"/>
                  <a:chOff x="6443640" y="4521960"/>
                  <a:chExt cx="695520" cy="360"/>
                </a:xfrm>
              </p:grpSpPr>
              <p:sp>
                <p:nvSpPr>
                  <p:cNvPr id="326" name="Line 16"/>
                  <p:cNvSpPr/>
                  <p:nvPr/>
                </p:nvSpPr>
                <p:spPr>
                  <a:xfrm>
                    <a:off x="6443640" y="4521960"/>
                    <a:ext cx="6955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 txBox="1"/>
                  <p:nvPr/>
                </p:nvSpPr>
                <p:spPr>
                  <a:xfrm>
                    <a:off x="6443640" y="4521960"/>
                    <a:ext cx="695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" name=""/>
              <p:cNvGrpSpPr/>
              <p:nvPr/>
            </p:nvGrpSpPr>
            <p:grpSpPr>
              <a:xfrm>
                <a:off x="7138800" y="4289040"/>
                <a:ext cx="360" cy="232920"/>
                <a:chOff x="7138800" y="4289040"/>
                <a:chExt cx="360" cy="232920"/>
              </a:xfrm>
            </p:grpSpPr>
            <p:sp>
              <p:nvSpPr>
                <p:cNvPr id="329" name="Line 18"/>
                <p:cNvSpPr/>
                <p:nvPr/>
              </p:nvSpPr>
              <p:spPr>
                <a:xfrm flipV="1">
                  <a:off x="7139160" y="4289040"/>
                  <a:ext cx="0" cy="23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 txBox="1"/>
                <p:nvPr/>
              </p:nvSpPr>
              <p:spPr>
                <a:xfrm rot="10800000">
                  <a:off x="7138800" y="4289040"/>
                  <a:ext cx="360" cy="23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1" name="Text Box 20"/>
            <p:cNvSpPr/>
            <p:nvPr/>
          </p:nvSpPr>
          <p:spPr>
            <a:xfrm>
              <a:off x="6307200" y="4545000"/>
              <a:ext cx="9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21"/>
            <p:cNvSpPr/>
            <p:nvPr/>
          </p:nvSpPr>
          <p:spPr>
            <a:xfrm>
              <a:off x="7931160" y="259884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"/>
                            </p:stCondLst>
                            <p:childTnLst>
                              <p:par>
                                <p:cTn id="2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7"/>
          <p:cNvSpPr/>
          <p:nvPr/>
        </p:nvSpPr>
        <p:spPr>
          <a:xfrm>
            <a:off x="4917960" y="2914560"/>
            <a:ext cx="354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7164360" y="291132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971640" y="2905200"/>
            <a:ext cx="310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3174840" y="2911320"/>
            <a:ext cx="10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7"/>
          <p:cNvSpPr/>
          <p:nvPr/>
        </p:nvSpPr>
        <p:spPr>
          <a:xfrm>
            <a:off x="7267680" y="2986200"/>
            <a:ext cx="792000" cy="79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16"/>
          <p:cNvSpPr/>
          <p:nvPr/>
        </p:nvSpPr>
        <p:spPr>
          <a:xfrm>
            <a:off x="3279600" y="2987640"/>
            <a:ext cx="792360" cy="79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466560" y="1557360"/>
            <a:ext cx="67582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独立学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4"/>
          <p:cNvSpPr/>
          <p:nvPr/>
        </p:nvSpPr>
        <p:spPr>
          <a:xfrm>
            <a:off x="1103400" y="499104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先独立算，再把你的方法跟同桌同学交流一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1103400" y="556416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：说说你是怎么算的。怎样想能很快说出得数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0" descr="311"/>
          <p:cNvPicPr/>
          <p:nvPr/>
        </p:nvPicPr>
        <p:blipFill>
          <a:blip r:embed="rId1"/>
          <a:stretch/>
        </p:blipFill>
        <p:spPr>
          <a:xfrm>
            <a:off x="666720" y="2567160"/>
            <a:ext cx="7921800" cy="200484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6"/>
          <p:cNvSpPr/>
          <p:nvPr/>
        </p:nvSpPr>
        <p:spPr>
          <a:xfrm>
            <a:off x="466560" y="1557000"/>
            <a:ext cx="4791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方正楷体简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图列式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5"/>
          <p:cNvSpPr/>
          <p:nvPr/>
        </p:nvSpPr>
        <p:spPr>
          <a:xfrm>
            <a:off x="1573200" y="5013360"/>
            <a:ext cx="68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两幅图各表示什么意思？能说一说吗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6"/>
          <p:cNvSpPr/>
          <p:nvPr/>
        </p:nvSpPr>
        <p:spPr>
          <a:xfrm>
            <a:off x="2357280" y="5510160"/>
            <a:ext cx="48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看图列出算式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23"/>
          <p:cNvGrpSpPr/>
          <p:nvPr/>
        </p:nvGrpSpPr>
        <p:grpSpPr>
          <a:xfrm>
            <a:off x="1177920" y="4108320"/>
            <a:ext cx="2335320" cy="512280"/>
            <a:chOff x="1177920" y="4108320"/>
            <a:chExt cx="2335320" cy="512280"/>
          </a:xfrm>
        </p:grpSpPr>
        <p:sp>
          <p:nvSpPr>
            <p:cNvPr id="348" name="Text Box 25"/>
            <p:cNvSpPr/>
            <p:nvPr/>
          </p:nvSpPr>
          <p:spPr>
            <a:xfrm>
              <a:off x="1177920" y="4130640"/>
              <a:ext cx="647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25"/>
            <p:cNvSpPr/>
            <p:nvPr/>
          </p:nvSpPr>
          <p:spPr>
            <a:xfrm>
              <a:off x="1657440" y="4108320"/>
              <a:ext cx="647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25"/>
            <p:cNvSpPr/>
            <p:nvPr/>
          </p:nvSpPr>
          <p:spPr>
            <a:xfrm>
              <a:off x="2139840" y="4130640"/>
              <a:ext cx="647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25"/>
            <p:cNvSpPr/>
            <p:nvPr/>
          </p:nvSpPr>
          <p:spPr>
            <a:xfrm>
              <a:off x="2865600" y="4127400"/>
              <a:ext cx="647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24"/>
          <p:cNvGrpSpPr/>
          <p:nvPr/>
        </p:nvGrpSpPr>
        <p:grpSpPr>
          <a:xfrm>
            <a:off x="5270400" y="4113360"/>
            <a:ext cx="2362320" cy="505800"/>
            <a:chOff x="5270400" y="4113360"/>
            <a:chExt cx="2362320" cy="505800"/>
          </a:xfrm>
        </p:grpSpPr>
        <p:sp>
          <p:nvSpPr>
            <p:cNvPr id="353" name="Text Box 25"/>
            <p:cNvSpPr/>
            <p:nvPr/>
          </p:nvSpPr>
          <p:spPr>
            <a:xfrm>
              <a:off x="5270400" y="4129200"/>
              <a:ext cx="647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25"/>
            <p:cNvSpPr/>
            <p:nvPr/>
          </p:nvSpPr>
          <p:spPr>
            <a:xfrm>
              <a:off x="5786280" y="4121280"/>
              <a:ext cx="648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5"/>
            <p:cNvSpPr/>
            <p:nvPr/>
          </p:nvSpPr>
          <p:spPr>
            <a:xfrm>
              <a:off x="6257880" y="4113360"/>
              <a:ext cx="647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5"/>
            <p:cNvSpPr/>
            <p:nvPr/>
          </p:nvSpPr>
          <p:spPr>
            <a:xfrm>
              <a:off x="6985080" y="4124160"/>
              <a:ext cx="647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矩形 15"/>
          <p:cNvSpPr/>
          <p:nvPr/>
        </p:nvSpPr>
        <p:spPr>
          <a:xfrm>
            <a:off x="2354400" y="6040440"/>
            <a:ext cx="48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要用加法计算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457200" y="417600"/>
            <a:ext cx="8686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多种形式练习，巩固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73"/>
          <p:cNvGrpSpPr/>
          <p:nvPr/>
        </p:nvGrpSpPr>
        <p:grpSpPr>
          <a:xfrm>
            <a:off x="7596360" y="5403960"/>
            <a:ext cx="1223640" cy="1120680"/>
            <a:chOff x="7596360" y="5403960"/>
            <a:chExt cx="1223640" cy="1120680"/>
          </a:xfrm>
        </p:grpSpPr>
        <p:pic>
          <p:nvPicPr>
            <p:cNvPr id="360" name="Picture 74" descr="310"/>
            <p:cNvPicPr/>
            <p:nvPr/>
          </p:nvPicPr>
          <p:blipFill>
            <a:blip r:embed="rId1"/>
            <a:stretch/>
          </p:blipFill>
          <p:spPr>
            <a:xfrm>
              <a:off x="7596360" y="5403960"/>
              <a:ext cx="122364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TextBox 11"/>
            <p:cNvSpPr/>
            <p:nvPr/>
          </p:nvSpPr>
          <p:spPr>
            <a:xfrm>
              <a:off x="7883280" y="5958360"/>
              <a:ext cx="643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60"/>
          <p:cNvGrpSpPr/>
          <p:nvPr/>
        </p:nvGrpSpPr>
        <p:grpSpPr>
          <a:xfrm>
            <a:off x="398520" y="5403960"/>
            <a:ext cx="1224000" cy="1120680"/>
            <a:chOff x="398520" y="5403960"/>
            <a:chExt cx="1224000" cy="1120680"/>
          </a:xfrm>
        </p:grpSpPr>
        <p:pic>
          <p:nvPicPr>
            <p:cNvPr id="363" name="Picture 59" descr="310"/>
            <p:cNvPicPr/>
            <p:nvPr/>
          </p:nvPicPr>
          <p:blipFill>
            <a:blip r:embed="rId2"/>
            <a:stretch/>
          </p:blipFill>
          <p:spPr>
            <a:xfrm>
              <a:off x="398520" y="5403960"/>
              <a:ext cx="12240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11"/>
            <p:cNvSpPr/>
            <p:nvPr/>
          </p:nvSpPr>
          <p:spPr>
            <a:xfrm>
              <a:off x="685800" y="5958360"/>
              <a:ext cx="643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61"/>
          <p:cNvGrpSpPr/>
          <p:nvPr/>
        </p:nvGrpSpPr>
        <p:grpSpPr>
          <a:xfrm>
            <a:off x="1838160" y="5403960"/>
            <a:ext cx="1224000" cy="1120680"/>
            <a:chOff x="1838160" y="5403960"/>
            <a:chExt cx="1224000" cy="1120680"/>
          </a:xfrm>
        </p:grpSpPr>
        <p:pic>
          <p:nvPicPr>
            <p:cNvPr id="366" name="Picture 62" descr="310"/>
            <p:cNvPicPr/>
            <p:nvPr/>
          </p:nvPicPr>
          <p:blipFill>
            <a:blip r:embed="rId3"/>
            <a:stretch/>
          </p:blipFill>
          <p:spPr>
            <a:xfrm>
              <a:off x="1838160" y="5403960"/>
              <a:ext cx="12240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extBox 11"/>
            <p:cNvSpPr/>
            <p:nvPr/>
          </p:nvSpPr>
          <p:spPr>
            <a:xfrm>
              <a:off x="2125440" y="5958360"/>
              <a:ext cx="643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64"/>
          <p:cNvGrpSpPr/>
          <p:nvPr/>
        </p:nvGrpSpPr>
        <p:grpSpPr>
          <a:xfrm>
            <a:off x="3278160" y="5403960"/>
            <a:ext cx="1224000" cy="1120680"/>
            <a:chOff x="3278160" y="5403960"/>
            <a:chExt cx="1224000" cy="1120680"/>
          </a:xfrm>
        </p:grpSpPr>
        <p:pic>
          <p:nvPicPr>
            <p:cNvPr id="369" name="Picture 65" descr="310"/>
            <p:cNvPicPr/>
            <p:nvPr/>
          </p:nvPicPr>
          <p:blipFill>
            <a:blip r:embed="rId4"/>
            <a:stretch/>
          </p:blipFill>
          <p:spPr>
            <a:xfrm>
              <a:off x="3278160" y="5403960"/>
              <a:ext cx="12240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Box 11"/>
            <p:cNvSpPr/>
            <p:nvPr/>
          </p:nvSpPr>
          <p:spPr>
            <a:xfrm>
              <a:off x="3565440" y="5958360"/>
              <a:ext cx="643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67"/>
          <p:cNvGrpSpPr/>
          <p:nvPr/>
        </p:nvGrpSpPr>
        <p:grpSpPr>
          <a:xfrm>
            <a:off x="4718160" y="5403960"/>
            <a:ext cx="1224000" cy="1120680"/>
            <a:chOff x="4718160" y="5403960"/>
            <a:chExt cx="1224000" cy="1120680"/>
          </a:xfrm>
        </p:grpSpPr>
        <p:pic>
          <p:nvPicPr>
            <p:cNvPr id="372" name="Picture 68" descr="310"/>
            <p:cNvPicPr/>
            <p:nvPr/>
          </p:nvPicPr>
          <p:blipFill>
            <a:blip r:embed="rId5"/>
            <a:stretch/>
          </p:blipFill>
          <p:spPr>
            <a:xfrm>
              <a:off x="4718160" y="5403960"/>
              <a:ext cx="12240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TextBox 11"/>
            <p:cNvSpPr/>
            <p:nvPr/>
          </p:nvSpPr>
          <p:spPr>
            <a:xfrm>
              <a:off x="5005440" y="5958360"/>
              <a:ext cx="643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70"/>
          <p:cNvGrpSpPr/>
          <p:nvPr/>
        </p:nvGrpSpPr>
        <p:grpSpPr>
          <a:xfrm>
            <a:off x="6156360" y="5403960"/>
            <a:ext cx="1224000" cy="1120680"/>
            <a:chOff x="6156360" y="5403960"/>
            <a:chExt cx="1224000" cy="1120680"/>
          </a:xfrm>
        </p:grpSpPr>
        <p:pic>
          <p:nvPicPr>
            <p:cNvPr id="375" name="Picture 71" descr="310"/>
            <p:cNvPicPr/>
            <p:nvPr/>
          </p:nvPicPr>
          <p:blipFill>
            <a:blip r:embed="rId6"/>
            <a:stretch/>
          </p:blipFill>
          <p:spPr>
            <a:xfrm>
              <a:off x="6156360" y="5403960"/>
              <a:ext cx="12240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Box 11"/>
            <p:cNvSpPr/>
            <p:nvPr/>
          </p:nvSpPr>
          <p:spPr>
            <a:xfrm>
              <a:off x="6443640" y="5958360"/>
              <a:ext cx="643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Rectangle 6"/>
          <p:cNvSpPr/>
          <p:nvPr/>
        </p:nvSpPr>
        <p:spPr>
          <a:xfrm>
            <a:off x="466560" y="1557000"/>
            <a:ext cx="378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摘水果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457200" y="417600"/>
            <a:ext cx="8686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多种形式练习，巩固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几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87"/>
          <p:cNvGrpSpPr/>
          <p:nvPr/>
        </p:nvGrpSpPr>
        <p:grpSpPr>
          <a:xfrm>
            <a:off x="2014560" y="2349360"/>
            <a:ext cx="1271160" cy="860040"/>
            <a:chOff x="2014560" y="2349360"/>
            <a:chExt cx="1271160" cy="860040"/>
          </a:xfrm>
        </p:grpSpPr>
        <p:pic>
          <p:nvPicPr>
            <p:cNvPr id="380" name="Picture 88" descr="308"/>
            <p:cNvPicPr/>
            <p:nvPr/>
          </p:nvPicPr>
          <p:blipFill>
            <a:blip r:embed="rId7"/>
            <a:stretch/>
          </p:blipFill>
          <p:spPr>
            <a:xfrm>
              <a:off x="2014560" y="2349360"/>
              <a:ext cx="1271160" cy="86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Rectangle 89"/>
            <p:cNvSpPr/>
            <p:nvPr/>
          </p:nvSpPr>
          <p:spPr>
            <a:xfrm>
              <a:off x="2165400" y="25192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93"/>
          <p:cNvGrpSpPr/>
          <p:nvPr/>
        </p:nvGrpSpPr>
        <p:grpSpPr>
          <a:xfrm>
            <a:off x="3346560" y="2382840"/>
            <a:ext cx="1226880" cy="826920"/>
            <a:chOff x="3346560" y="2382840"/>
            <a:chExt cx="1226880" cy="826920"/>
          </a:xfrm>
        </p:grpSpPr>
        <p:pic>
          <p:nvPicPr>
            <p:cNvPr id="383" name="Picture 94" descr="308"/>
            <p:cNvPicPr/>
            <p:nvPr/>
          </p:nvPicPr>
          <p:blipFill>
            <a:blip r:embed="rId8"/>
            <a:stretch/>
          </p:blipFill>
          <p:spPr>
            <a:xfrm>
              <a:off x="3346560" y="2382840"/>
              <a:ext cx="12268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Rectangle 95"/>
            <p:cNvSpPr/>
            <p:nvPr/>
          </p:nvSpPr>
          <p:spPr>
            <a:xfrm>
              <a:off x="3491280" y="25462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9"/>
          <p:cNvGrpSpPr/>
          <p:nvPr/>
        </p:nvGrpSpPr>
        <p:grpSpPr>
          <a:xfrm>
            <a:off x="4632480" y="2382840"/>
            <a:ext cx="1226880" cy="826920"/>
            <a:chOff x="4632480" y="2382840"/>
            <a:chExt cx="1226880" cy="826920"/>
          </a:xfrm>
        </p:grpSpPr>
        <p:pic>
          <p:nvPicPr>
            <p:cNvPr id="386" name="Picture 100" descr="308"/>
            <p:cNvPicPr/>
            <p:nvPr/>
          </p:nvPicPr>
          <p:blipFill>
            <a:blip r:embed="rId9"/>
            <a:stretch/>
          </p:blipFill>
          <p:spPr>
            <a:xfrm>
              <a:off x="4632480" y="2382840"/>
              <a:ext cx="12268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Rectangle 101"/>
            <p:cNvSpPr/>
            <p:nvPr/>
          </p:nvSpPr>
          <p:spPr>
            <a:xfrm>
              <a:off x="4777200" y="25462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05"/>
          <p:cNvGrpSpPr/>
          <p:nvPr/>
        </p:nvGrpSpPr>
        <p:grpSpPr>
          <a:xfrm>
            <a:off x="5915160" y="2382840"/>
            <a:ext cx="1226880" cy="826920"/>
            <a:chOff x="5915160" y="2382840"/>
            <a:chExt cx="1226880" cy="826920"/>
          </a:xfrm>
        </p:grpSpPr>
        <p:pic>
          <p:nvPicPr>
            <p:cNvPr id="389" name="Picture 106" descr="308"/>
            <p:cNvPicPr/>
            <p:nvPr/>
          </p:nvPicPr>
          <p:blipFill>
            <a:blip r:embed="rId10"/>
            <a:stretch/>
          </p:blipFill>
          <p:spPr>
            <a:xfrm>
              <a:off x="5915160" y="2382840"/>
              <a:ext cx="12268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Rectangle 107"/>
            <p:cNvSpPr/>
            <p:nvPr/>
          </p:nvSpPr>
          <p:spPr>
            <a:xfrm>
              <a:off x="6059880" y="25462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11"/>
          <p:cNvGrpSpPr/>
          <p:nvPr/>
        </p:nvGrpSpPr>
        <p:grpSpPr>
          <a:xfrm>
            <a:off x="7184880" y="2382840"/>
            <a:ext cx="1227240" cy="826920"/>
            <a:chOff x="7184880" y="2382840"/>
            <a:chExt cx="1227240" cy="826920"/>
          </a:xfrm>
        </p:grpSpPr>
        <p:pic>
          <p:nvPicPr>
            <p:cNvPr id="392" name="Picture 112" descr="308"/>
            <p:cNvPicPr/>
            <p:nvPr/>
          </p:nvPicPr>
          <p:blipFill>
            <a:blip r:embed="rId11"/>
            <a:stretch/>
          </p:blipFill>
          <p:spPr>
            <a:xfrm>
              <a:off x="7184880" y="2382840"/>
              <a:ext cx="122724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Rectangle 113"/>
            <p:cNvSpPr/>
            <p:nvPr/>
          </p:nvSpPr>
          <p:spPr>
            <a:xfrm>
              <a:off x="7330320" y="25462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17"/>
          <p:cNvGrpSpPr/>
          <p:nvPr/>
        </p:nvGrpSpPr>
        <p:grpSpPr>
          <a:xfrm>
            <a:off x="755640" y="3297240"/>
            <a:ext cx="1227240" cy="826920"/>
            <a:chOff x="755640" y="3297240"/>
            <a:chExt cx="1227240" cy="826920"/>
          </a:xfrm>
        </p:grpSpPr>
        <p:pic>
          <p:nvPicPr>
            <p:cNvPr id="395" name="Picture 118" descr="308"/>
            <p:cNvPicPr/>
            <p:nvPr/>
          </p:nvPicPr>
          <p:blipFill>
            <a:blip r:embed="rId12"/>
            <a:stretch/>
          </p:blipFill>
          <p:spPr>
            <a:xfrm>
              <a:off x="755640" y="3297240"/>
              <a:ext cx="122724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Rectangle 119"/>
            <p:cNvSpPr/>
            <p:nvPr/>
          </p:nvSpPr>
          <p:spPr>
            <a:xfrm>
              <a:off x="901080" y="34606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20"/>
          <p:cNvGrpSpPr/>
          <p:nvPr/>
        </p:nvGrpSpPr>
        <p:grpSpPr>
          <a:xfrm>
            <a:off x="2014560" y="3263760"/>
            <a:ext cx="1271160" cy="860040"/>
            <a:chOff x="2014560" y="3263760"/>
            <a:chExt cx="1271160" cy="860040"/>
          </a:xfrm>
        </p:grpSpPr>
        <p:pic>
          <p:nvPicPr>
            <p:cNvPr id="398" name="Picture 121" descr="308"/>
            <p:cNvPicPr/>
            <p:nvPr/>
          </p:nvPicPr>
          <p:blipFill>
            <a:blip r:embed="rId13"/>
            <a:stretch/>
          </p:blipFill>
          <p:spPr>
            <a:xfrm>
              <a:off x="2014560" y="3263760"/>
              <a:ext cx="1271160" cy="86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Rectangle 122"/>
            <p:cNvSpPr/>
            <p:nvPr/>
          </p:nvSpPr>
          <p:spPr>
            <a:xfrm>
              <a:off x="2165400" y="34336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123"/>
          <p:cNvGrpSpPr/>
          <p:nvPr/>
        </p:nvGrpSpPr>
        <p:grpSpPr>
          <a:xfrm>
            <a:off x="3346560" y="3297240"/>
            <a:ext cx="1226880" cy="826920"/>
            <a:chOff x="3346560" y="3297240"/>
            <a:chExt cx="1226880" cy="826920"/>
          </a:xfrm>
        </p:grpSpPr>
        <p:pic>
          <p:nvPicPr>
            <p:cNvPr id="401" name="Picture 124" descr="308"/>
            <p:cNvPicPr/>
            <p:nvPr/>
          </p:nvPicPr>
          <p:blipFill>
            <a:blip r:embed="rId14"/>
            <a:stretch/>
          </p:blipFill>
          <p:spPr>
            <a:xfrm>
              <a:off x="3346560" y="3297240"/>
              <a:ext cx="12268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Rectangle 125"/>
            <p:cNvSpPr/>
            <p:nvPr/>
          </p:nvSpPr>
          <p:spPr>
            <a:xfrm>
              <a:off x="3491280" y="34606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26"/>
          <p:cNvGrpSpPr/>
          <p:nvPr/>
        </p:nvGrpSpPr>
        <p:grpSpPr>
          <a:xfrm>
            <a:off x="4632480" y="3297240"/>
            <a:ext cx="1226880" cy="826920"/>
            <a:chOff x="4632480" y="3297240"/>
            <a:chExt cx="1226880" cy="826920"/>
          </a:xfrm>
        </p:grpSpPr>
        <p:pic>
          <p:nvPicPr>
            <p:cNvPr id="404" name="Picture 127" descr="308"/>
            <p:cNvPicPr/>
            <p:nvPr/>
          </p:nvPicPr>
          <p:blipFill>
            <a:blip r:embed="rId15"/>
            <a:stretch/>
          </p:blipFill>
          <p:spPr>
            <a:xfrm>
              <a:off x="4632480" y="3297240"/>
              <a:ext cx="12268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Rectangle 128"/>
            <p:cNvSpPr/>
            <p:nvPr/>
          </p:nvSpPr>
          <p:spPr>
            <a:xfrm>
              <a:off x="4777200" y="34606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129"/>
          <p:cNvGrpSpPr/>
          <p:nvPr/>
        </p:nvGrpSpPr>
        <p:grpSpPr>
          <a:xfrm>
            <a:off x="5915160" y="3297240"/>
            <a:ext cx="1226880" cy="826920"/>
            <a:chOff x="5915160" y="3297240"/>
            <a:chExt cx="1226880" cy="826920"/>
          </a:xfrm>
        </p:grpSpPr>
        <p:pic>
          <p:nvPicPr>
            <p:cNvPr id="407" name="Picture 130" descr="308"/>
            <p:cNvPicPr/>
            <p:nvPr/>
          </p:nvPicPr>
          <p:blipFill>
            <a:blip r:embed="rId16"/>
            <a:stretch/>
          </p:blipFill>
          <p:spPr>
            <a:xfrm>
              <a:off x="5915160" y="3297240"/>
              <a:ext cx="12268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Rectangle 131"/>
            <p:cNvSpPr/>
            <p:nvPr/>
          </p:nvSpPr>
          <p:spPr>
            <a:xfrm>
              <a:off x="6059880" y="34606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132"/>
          <p:cNvGrpSpPr/>
          <p:nvPr/>
        </p:nvGrpSpPr>
        <p:grpSpPr>
          <a:xfrm>
            <a:off x="7184880" y="3297240"/>
            <a:ext cx="1227240" cy="826920"/>
            <a:chOff x="7184880" y="3297240"/>
            <a:chExt cx="1227240" cy="826920"/>
          </a:xfrm>
        </p:grpSpPr>
        <p:pic>
          <p:nvPicPr>
            <p:cNvPr id="410" name="Picture 133" descr="308"/>
            <p:cNvPicPr/>
            <p:nvPr/>
          </p:nvPicPr>
          <p:blipFill>
            <a:blip r:embed="rId17"/>
            <a:stretch/>
          </p:blipFill>
          <p:spPr>
            <a:xfrm>
              <a:off x="7184880" y="3297240"/>
              <a:ext cx="122724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Rectangle 134"/>
            <p:cNvSpPr/>
            <p:nvPr/>
          </p:nvSpPr>
          <p:spPr>
            <a:xfrm>
              <a:off x="7330320" y="34606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83"/>
          <p:cNvGrpSpPr/>
          <p:nvPr/>
        </p:nvGrpSpPr>
        <p:grpSpPr>
          <a:xfrm>
            <a:off x="755640" y="2382840"/>
            <a:ext cx="1227240" cy="826920"/>
            <a:chOff x="755640" y="2382840"/>
            <a:chExt cx="1227240" cy="826920"/>
          </a:xfrm>
        </p:grpSpPr>
        <p:pic>
          <p:nvPicPr>
            <p:cNvPr id="413" name="Picture 77" descr="308"/>
            <p:cNvPicPr/>
            <p:nvPr/>
          </p:nvPicPr>
          <p:blipFill>
            <a:blip r:embed="rId18"/>
            <a:stretch/>
          </p:blipFill>
          <p:spPr>
            <a:xfrm>
              <a:off x="755640" y="2382840"/>
              <a:ext cx="122724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Rectangle 78"/>
            <p:cNvSpPr/>
            <p:nvPr/>
          </p:nvSpPr>
          <p:spPr>
            <a:xfrm>
              <a:off x="901080" y="254628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文本框 8196"/>
          <p:cNvSpPr/>
          <p:nvPr/>
        </p:nvSpPr>
        <p:spPr>
          <a:xfrm>
            <a:off x="826920" y="213192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9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1111E-006 L 0.43698 0.50185 E">
                                      <p:cBhvr>
                                        <p:cTn id="360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07407E-006 L -0.18351 0.50417 E">
                                      <p:cBhvr>
                                        <p:cTn id="368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11111E-006 L -0.32674 0.50185 E">
                                      <p:cBhvr>
                                        <p:cTn id="376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11111E-006 L -0.15243 0.50671 E">
                                      <p:cBhvr>
                                        <p:cTn id="384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11111E-006 L -0.45017 0.50185 E">
                                      <p:cBhvr>
                                        <p:cTn id="392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11111E-006 L -0.1165 0.50185 E">
                                      <p:cBhvr>
                                        <p:cTn id="400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22222E-006 L 0.43698 0.36852 E">
                                      <p:cBhvr>
                                        <p:cTn id="408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59259E-006 L 0.13941 0.37083 E">
                                      <p:cBhvr>
                                        <p:cTn id="416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22222E-006 L -0.01181 0.36852 E">
                                      <p:cBhvr>
                                        <p:cTn id="424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22222E-006 L -0.30989 0.36852 E">
                                      <p:cBhvr>
                                        <p:cTn id="432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22222E-006 L 0.18767 0.36852 E">
                                      <p:cBhvr>
                                        <p:cTn id="440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22222E-006 L -0.74653 0.3581 E">
                                      <p:cBhvr>
                                        <p:cTn id="448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22Z</dcterms:modified>
  <cp:revision>17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