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hammer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7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2-10-23T08:26:51.603000000" idx="2">
    <p:pos x="3591" y="149"/>
    <p:text/>
  </p:cm>
</p:cmLst>
</file>

<file path=ppt/comments/comment7.xml><?xml version="1.0" encoding="utf-8"?>
<p:cmLst xmlns:p="http://schemas.openxmlformats.org/presentationml/2006/main">
  <p:cm authorId="0" dt="2012-10-23T08:26:47.123000000" idx="1">
    <p:pos x="2913" y="284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180-29C9-45BB-A26A-254C04FE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894-A499-46AA-8FBF-772534C8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204-9A18-41F6-A42A-B54AB5BD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B8C-115C-4372-ADB3-A091ED1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FAED-0BD9-453A-9956-E39915D3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87DB-3ACD-4861-B191-0A212A5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72DA-7FF6-4DEE-A1EC-AE0887EA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F854-BC6E-4D89-9B9D-09C93E7B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B633-904B-4CEB-BD1D-CFF79162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EDD-CDAD-4F5F-8E57-557540C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3DE4-6CEA-42AE-9562-176BD5B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BF3-D991-4FDA-A0B1-776FB24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60AB-ACE1-4AF4-B568-8DDFC2E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B8B-0E64-4D9A-A360-1337683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AFB-7658-4634-82FA-B8D9F3F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B91A-C2FF-4359-A004-4A35F152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813-4A12-4374-B073-D145408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C24-DAF0-447F-9BBB-753AAEC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922-1A44-490F-BE84-F1065A9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8D2-35A2-4DD3-93F8-378DB46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7DF-EB51-4259-9FE0-2307680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C1E-4D39-437A-8456-B3D673F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664-0098-4A0A-9A05-C42F0AC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01E-573F-477E-B41A-3B0DF2B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BAA2-1915-4F0B-8FC6-793BF18A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00F1-22BC-4253-95B4-A183E2E2DB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2325-C208-426F-B920-520F438E21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image" Target="../media/image7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7908840" y="6377040"/>
            <a:ext cx="1152360" cy="288720"/>
            <a:chOff x="7908840" y="6377040"/>
            <a:chExt cx="1152360" cy="288720"/>
          </a:xfrm>
        </p:grpSpPr>
        <p:sp>
          <p:nvSpPr>
            <p:cNvPr id="83" name="AutoShape 3">
              <a:hlinkClick r:id="" action="ppaction://hlinkshowjump?jump=nextslide"/>
            </p:cNvPr>
            <p:cNvSpPr/>
            <p:nvPr/>
          </p:nvSpPr>
          <p:spPr>
            <a:xfrm>
              <a:off x="8556480" y="6377040"/>
              <a:ext cx="504720" cy="288720"/>
            </a:xfrm>
            <a:prstGeom prst="rightArrow">
              <a:avLst>
                <a:gd name="adj1" fmla="val 50000"/>
                <a:gd name="adj2" fmla="val 4367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08840" y="6377040"/>
              <a:ext cx="504720" cy="288720"/>
            </a:xfrm>
            <a:prstGeom prst="rightArrow">
              <a:avLst>
                <a:gd name="adj1" fmla="val 50000"/>
                <a:gd name="adj2" fmla="val 4367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5" descr="Image00006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89752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1258920" y="2349360"/>
            <a:ext cx="669780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8</a:t>
            </a:r>
            <a:r>
              <a:rPr b="1" lang="zh-CN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、</a:t>
            </a:r>
            <a:r>
              <a:rPr b="1" lang="en-US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9</a:t>
            </a:r>
            <a:r>
              <a:rPr b="1" lang="zh-CN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加减法的应用小学课件打包下载</a:t>
            </a:r>
            <a:endParaRPr b="1" lang="en-US" sz="4000" spc="1" strike="noStrike">
              <a:ln w="9360">
                <a:solidFill>
                  <a:srgbClr val="00cc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260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人教新课标一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215560" cy="43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ds知识应用"/>
          <p:cNvPicPr/>
          <p:nvPr/>
        </p:nvPicPr>
        <p:blipFill>
          <a:blip r:embed="rId2"/>
          <a:stretch/>
        </p:blipFill>
        <p:spPr>
          <a:xfrm>
            <a:off x="785880" y="399960"/>
            <a:ext cx="2244600" cy="666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32696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894680" y="429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57640" y="43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08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003360" y="4413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0160" y="445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未命名"/>
          <p:cNvPicPr/>
          <p:nvPr/>
        </p:nvPicPr>
        <p:blipFill>
          <a:blip r:embed="rId3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6877080" y="6021360"/>
            <a:ext cx="3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24000" y="1073160"/>
            <a:ext cx="8208720" cy="425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ds知识应用"/>
          <p:cNvPicPr/>
          <p:nvPr/>
        </p:nvPicPr>
        <p:blipFill>
          <a:blip r:embed="rId2"/>
          <a:stretch/>
        </p:blipFill>
        <p:spPr>
          <a:xfrm>
            <a:off x="785880" y="471600"/>
            <a:ext cx="2244600" cy="66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025280" y="4240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95520" y="425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9708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78160" y="431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25600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806440" y="4365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46416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543800" y="443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未命名"/>
          <p:cNvPicPr/>
          <p:nvPr/>
        </p:nvPicPr>
        <p:blipFill>
          <a:blip r:embed="rId3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6877080" y="6021360"/>
            <a:ext cx="3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196"/>
          <p:cNvSpPr/>
          <p:nvPr/>
        </p:nvSpPr>
        <p:spPr>
          <a:xfrm>
            <a:off x="1187280" y="56610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达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176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0836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3"/>
          <a:srcRect l="0" t="16260" r="0" b="0"/>
          <a:stretch/>
        </p:blipFill>
        <p:spPr>
          <a:xfrm>
            <a:off x="468360" y="3500280"/>
            <a:ext cx="7993080" cy="25527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4211640" y="1989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5        9        9       4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284720" y="2708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4        9        9       5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1D4-942B-4626-9082-8DB088BD9C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12446" t="0" r="0" b="0"/>
          <a:stretch/>
        </p:blipFill>
        <p:spPr>
          <a:xfrm>
            <a:off x="468360" y="2997360"/>
            <a:ext cx="7489800" cy="18637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5292720" y="1052640"/>
            <a:ext cx="3240000" cy="1512720"/>
          </a:xfrm>
          <a:prstGeom prst="wedgeRoundRectCallout">
            <a:avLst>
              <a:gd name="adj1" fmla="val -40152"/>
              <a:gd name="adj2" fmla="val 111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左边数，我排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从右边数，我排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50920" y="836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一共有   个小朋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195640" y="981000"/>
            <a:ext cx="5032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124000" y="836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口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6=      9-1=    6+3=      8+1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+2=      8-2=    9-5=       5+4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6=       7-3=    8-4=      3+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104840"/>
            <a:ext cx="822960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说图意，列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★★★★★       ★★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＋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－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－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henlin"/>
          <p:cNvPicPr/>
          <p:nvPr/>
        </p:nvPicPr>
        <p:blipFill>
          <a:blip r:embed="rId16"/>
          <a:stretch/>
        </p:blipFill>
        <p:spPr>
          <a:xfrm>
            <a:off x="0" y="476280"/>
            <a:ext cx="9144000" cy="66564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9" descr="56.jpg"/>
          <p:cNvPicPr/>
          <p:nvPr/>
        </p:nvPicPr>
        <p:blipFill>
          <a:blip r:embed="rId17"/>
          <a:stretch/>
        </p:blipFill>
        <p:spPr>
          <a:xfrm>
            <a:off x="3851280" y="105264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{9`4]NX(3T12FB(]V458{PJ"/>
          <p:cNvPicPr/>
          <p:nvPr/>
        </p:nvPicPr>
        <p:blipFill>
          <a:blip r:embed="rId18"/>
          <a:stretch/>
        </p:blipFill>
        <p:spPr>
          <a:xfrm>
            <a:off x="755640" y="27813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)[(XQ(TLU_O$B~R5%VUW}AV"/>
          <p:cNvPicPr/>
          <p:nvPr/>
        </p:nvPicPr>
        <p:blipFill>
          <a:blip r:embed="rId19"/>
          <a:stretch/>
        </p:blipFill>
        <p:spPr>
          <a:xfrm>
            <a:off x="3780000" y="2852640"/>
            <a:ext cx="145404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MDT(YQ6H)O4KXKV~)L0L2_J"/>
          <p:cNvPicPr/>
          <p:nvPr/>
        </p:nvPicPr>
        <p:blipFill>
          <a:blip r:embed="rId20"/>
          <a:stretch/>
        </p:blipFill>
        <p:spPr>
          <a:xfrm>
            <a:off x="6227640" y="292428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RTWRSEWHM5PQRO6LO{~RFXW"/>
          <p:cNvPicPr/>
          <p:nvPr/>
        </p:nvPicPr>
        <p:blipFill>
          <a:blip r:embed="rId21"/>
          <a:stretch/>
        </p:blipFill>
        <p:spPr>
          <a:xfrm>
            <a:off x="324000" y="4653000"/>
            <a:ext cx="1654200" cy="15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]OK2VNLIGJ$Y9HMD45[}8]P"/>
          <p:cNvPicPr/>
          <p:nvPr/>
        </p:nvPicPr>
        <p:blipFill>
          <a:blip r:embed="rId22"/>
          <a:stretch/>
        </p:blipFill>
        <p:spPr>
          <a:xfrm>
            <a:off x="2700360" y="4653000"/>
            <a:ext cx="1798560" cy="147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2"/>
          <p:cNvPicPr/>
          <p:nvPr/>
        </p:nvPicPr>
        <p:blipFill>
          <a:blip r:embed="rId23"/>
          <a:srcRect l="4689" t="12984" r="61910" b="13799"/>
          <a:stretch/>
        </p:blipFill>
        <p:spPr>
          <a:xfrm>
            <a:off x="7020000" y="4653000"/>
            <a:ext cx="1828800" cy="1612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snap"/>
          <p:cNvPicPr/>
          <p:nvPr/>
        </p:nvPicPr>
        <p:blipFill>
          <a:blip r:embed="rId24"/>
          <a:srcRect l="31784" t="43434" r="50946" b="21455"/>
          <a:stretch/>
        </p:blipFill>
        <p:spPr>
          <a:xfrm>
            <a:off x="4932360" y="4653000"/>
            <a:ext cx="1654200" cy="143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9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7045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98"/>
          <p:cNvPicPr/>
          <p:nvPr/>
        </p:nvPicPr>
        <p:blipFill>
          <a:blip r:embed="rId1"/>
          <a:stretch/>
        </p:blipFill>
        <p:spPr>
          <a:xfrm>
            <a:off x="468360" y="981000"/>
            <a:ext cx="7920000" cy="420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26920" y="5229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从图中你知道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6624720" cy="3519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68360" y="3645000"/>
            <a:ext cx="48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一共有（     ）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跑走（     ）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95640" y="357336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619280" y="4292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516720" y="170028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要解决的问题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52"/>
          <p:cNvPicPr/>
          <p:nvPr/>
        </p:nvPicPr>
        <p:blipFill>
          <a:blip r:embed="rId2"/>
          <a:stretch/>
        </p:blipFill>
        <p:spPr>
          <a:xfrm>
            <a:off x="3995640" y="4292640"/>
            <a:ext cx="3313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4067280" y="4508640"/>
            <a:ext cx="50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  -   3    6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55600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答：还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6"/>
          <p:cNvSpPr/>
          <p:nvPr/>
        </p:nvSpPr>
        <p:spPr>
          <a:xfrm>
            <a:off x="169236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95"/>
          <p:cNvPicPr/>
          <p:nvPr/>
        </p:nvPicPr>
        <p:blipFill>
          <a:blip r:embed="rId1"/>
          <a:stretch/>
        </p:blipFill>
        <p:spPr>
          <a:xfrm>
            <a:off x="755640" y="1197000"/>
            <a:ext cx="5977080" cy="236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835280" y="9079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树根下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个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96"/>
          <p:cNvPicPr/>
          <p:nvPr/>
        </p:nvPicPr>
        <p:blipFill>
          <a:blip r:embed="rId2"/>
          <a:stretch/>
        </p:blipFill>
        <p:spPr>
          <a:xfrm>
            <a:off x="4788000" y="765000"/>
            <a:ext cx="792000" cy="115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611280" y="4076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草地上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左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，右边有几个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11280" y="479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草地上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右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，左边有几个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11280" y="5516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左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右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一共有几个蘑菇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97"/>
          <p:cNvPicPr/>
          <p:nvPr/>
        </p:nvPicPr>
        <p:blipFill>
          <a:blip r:embed="rId1"/>
          <a:stretch/>
        </p:blipFill>
        <p:spPr>
          <a:xfrm>
            <a:off x="395280" y="765000"/>
            <a:ext cx="8280360" cy="2691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11280" y="371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说说图意，并列式计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494172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8-3=5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（只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2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