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7.png" ContentType="image/png"/>
  <Override PartName="/ppt/media/image1.jpeg" ContentType="image/jpeg"/>
  <Override PartName="/ppt/media/chimes.wav" ContentType="audio/x-wav"/>
  <Override PartName="/ppt/media/image13.png" ContentType="image/png"/>
  <Override PartName="/ppt/media/image12.jpeg" ContentType="image/jpeg"/>
  <Override PartName="/ppt/media/camera.wav" ContentType="audio/x-wav"/>
  <Override PartName="/ppt/media/image6.png" ContentType="image/png"/>
  <Override PartName="/ppt/media/image11.png" ContentType="image/png"/>
  <Override PartName="/ppt/media/image10.png" ContentType="image/png"/>
  <Override PartName="/ppt/media/image2.jpeg" ContentType="image/jpeg"/>
  <Override PartName="/ppt/media/projctor.wav" ContentType="audio/x-wav"/>
  <Override PartName="/ppt/media/image9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6F1-4B52-448C-BEE0-2C195196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5B4-10D3-4626-BB7C-16F1DAE6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01D-E698-4BBA-83CA-3FA3E688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D39-11E1-4972-9163-97A24042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6156-B1BA-4471-8153-F4E36F6C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DA3C-D263-479C-9D9B-31E9E973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33A3-CC7C-4E1A-A309-26B7C997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39C7-D7FE-4663-84B2-F81FA66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15F9-CD5F-4243-9E0F-95B24C45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9DC2-4E08-4555-970C-9A84C7ED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6E70-D903-4A66-874D-A08B5F57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AB5-6ABB-4B2E-8DCB-E8BCAD73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DFD6-3252-40E7-8C9A-66713E2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21A3-3297-4E8A-AC51-E912E213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99BC-97E3-46CC-9A94-176A3E2F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E15F-9075-4491-BA5F-25659192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C7C5-D300-4C19-B712-EA9F829C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F36-A3E0-4BE8-9AEA-237695BA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4D0-AC28-44DC-BBF4-E00B1575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92F-9FBE-4779-A8DE-002F9FB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1A1-2CFC-404C-9917-90840F8B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115-416B-44A3-88F8-686BB415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C3A-63CF-4181-92CB-C9A45DB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631-64D3-47F9-BAC0-7F06966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6693-896C-463A-BC08-136FE32C5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C5DE-CF7D-4E3E-85DB-16D88E47C4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A27E-1262-43A1-8157-6608B7F67D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老人"/>
          <p:cNvPicPr/>
          <p:nvPr/>
        </p:nvPicPr>
        <p:blipFill>
          <a:blip r:embed="rId14"/>
          <a:stretch/>
        </p:blipFill>
        <p:spPr>
          <a:xfrm>
            <a:off x="304920" y="495360"/>
            <a:ext cx="8305560" cy="6362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/>
          <p:cNvSpPr/>
          <p:nvPr/>
        </p:nvSpPr>
        <p:spPr>
          <a:xfrm>
            <a:off x="3809880" y="1219320"/>
            <a:ext cx="1219320" cy="914400"/>
          </a:xfrm>
          <a:prstGeom prst="wedgeEllipseCallout">
            <a:avLst>
              <a:gd name="adj1" fmla="val -89064"/>
              <a:gd name="adj2" fmla="val 550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4876920" y="2743200"/>
            <a:ext cx="838080" cy="838080"/>
          </a:xfrm>
          <a:prstGeom prst="wedgeEllipseCallout">
            <a:avLst>
              <a:gd name="adj1" fmla="val -134092"/>
              <a:gd name="adj2" fmla="val 2821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 rot="10915200">
            <a:off x="609120" y="3200040"/>
            <a:ext cx="838440" cy="914400"/>
          </a:xfrm>
          <a:prstGeom prst="wedgeEllipseCallout">
            <a:avLst>
              <a:gd name="adj1" fmla="val -134064"/>
              <a:gd name="adj2" fmla="val 243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1052640"/>
            <a:ext cx="6837120" cy="838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高矮长短小学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07080" y="3228480"/>
            <a:ext cx="911520" cy="85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7238880" y="5638680"/>
            <a:ext cx="838440" cy="838440"/>
          </a:xfrm>
          <a:prstGeom prst="wedgeEllipseCallout">
            <a:avLst>
              <a:gd name="adj1" fmla="val -125000"/>
              <a:gd name="adj2" fmla="val 3731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67816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8196"/>
          <p:cNvSpPr/>
          <p:nvPr/>
        </p:nvSpPr>
        <p:spPr>
          <a:xfrm>
            <a:off x="1692360" y="6093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97180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56272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A29D-E5C9-4269-89C6-0BA5C858E9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676520" y="563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124080" y="56386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19720" y="563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91320" y="563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162920" y="563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小朋友"/>
          <p:cNvPicPr/>
          <p:nvPr/>
        </p:nvPicPr>
        <p:blipFill>
          <a:blip r:embed="rId1"/>
          <a:srcRect l="48325" t="0" r="0" b="0"/>
          <a:stretch/>
        </p:blipFill>
        <p:spPr>
          <a:xfrm>
            <a:off x="4475160" y="1219320"/>
            <a:ext cx="4135320" cy="53337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彩云"/>
              </a:rPr>
              <a:t>如  何  比  身  高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小朋友"/>
          <p:cNvPicPr/>
          <p:nvPr/>
        </p:nvPicPr>
        <p:blipFill>
          <a:blip r:embed="rId2"/>
          <a:srcRect l="0" t="0" r="48325" b="0"/>
          <a:stretch/>
        </p:blipFill>
        <p:spPr>
          <a:xfrm>
            <a:off x="609480" y="1219320"/>
            <a:ext cx="4191120" cy="53337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grpSp>
        <p:nvGrpSpPr>
          <p:cNvPr id="94" name=""/>
          <p:cNvGrpSpPr/>
          <p:nvPr/>
        </p:nvGrpSpPr>
        <p:grpSpPr>
          <a:xfrm>
            <a:off x="4800600" y="6019920"/>
            <a:ext cx="2895480" cy="360"/>
            <a:chOff x="4800600" y="6019920"/>
            <a:chExt cx="2895480" cy="360"/>
          </a:xfrm>
        </p:grpSpPr>
        <p:sp>
          <p:nvSpPr>
            <p:cNvPr id="95" name="Line 5"/>
            <p:cNvSpPr/>
            <p:nvPr/>
          </p:nvSpPr>
          <p:spPr>
            <a:xfrm>
              <a:off x="4800600" y="6019920"/>
              <a:ext cx="2895480" cy="0"/>
            </a:xfrm>
            <a:prstGeom prst="line">
              <a:avLst/>
            </a:prstGeom>
            <a:ln w="127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4800600" y="601992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523520" y="4952880"/>
            <a:ext cx="1143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715000" y="4800600"/>
            <a:ext cx="1143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7086600" y="5181480"/>
            <a:ext cx="2057400" cy="914400"/>
          </a:xfrm>
          <a:prstGeom prst="wedgeRectCallout">
            <a:avLst>
              <a:gd name="adj1" fmla="val -27083"/>
              <a:gd name="adj2" fmla="val 434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同一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彩云"/>
              </a:rPr>
              <a:t>比一比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彩云"/>
              </a:rPr>
              <a:t> 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方正舒体"/>
              </a:rPr>
              <a:t>高的画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方正舒体"/>
              </a:rPr>
              <a:t>       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方正舒体"/>
              </a:rPr>
              <a:t>矮的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62120" y="2895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952880" y="304920"/>
            <a:ext cx="762120" cy="7642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96080" y="304920"/>
            <a:ext cx="838440" cy="83808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"/>
          <p:cNvGrpSpPr/>
          <p:nvPr/>
        </p:nvGrpSpPr>
        <p:grpSpPr>
          <a:xfrm>
            <a:off x="457200" y="1447920"/>
            <a:ext cx="4343400" cy="4800600"/>
            <a:chOff x="457200" y="1447920"/>
            <a:chExt cx="4343400" cy="4800600"/>
          </a:xfrm>
        </p:grpSpPr>
        <p:grpSp>
          <p:nvGrpSpPr>
            <p:cNvPr id="105" name="Group 7"/>
            <p:cNvGrpSpPr/>
            <p:nvPr/>
          </p:nvGrpSpPr>
          <p:grpSpPr>
            <a:xfrm>
              <a:off x="457200" y="1447920"/>
              <a:ext cx="4343400" cy="4800600"/>
              <a:chOff x="457200" y="1447920"/>
              <a:chExt cx="4343400" cy="4800600"/>
            </a:xfrm>
          </p:grpSpPr>
          <p:sp>
            <p:nvSpPr>
              <p:cNvPr id="106" name="Rectangle 8"/>
              <p:cNvSpPr/>
              <p:nvPr/>
            </p:nvSpPr>
            <p:spPr>
              <a:xfrm>
                <a:off x="457200" y="1447920"/>
                <a:ext cx="4343400" cy="4800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ree"/>
              <p:cNvSpPr/>
              <p:nvPr/>
            </p:nvSpPr>
            <p:spPr>
              <a:xfrm>
                <a:off x="983880" y="1447920"/>
                <a:ext cx="2039760" cy="360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8900"/>
                    </a:moveTo>
                    <a:lnTo>
                      <a:pt x="9257" y="18900"/>
                    </a:lnTo>
                    <a:lnTo>
                      <a:pt x="9257" y="21600"/>
                    </a:lnTo>
                    <a:lnTo>
                      <a:pt x="12343" y="21600"/>
                    </a:lnTo>
                    <a:lnTo>
                      <a:pt x="12343" y="18900"/>
                    </a:lnTo>
                    <a:lnTo>
                      <a:pt x="21600" y="18900"/>
                    </a:lnTo>
                    <a:lnTo>
                      <a:pt x="12343" y="12600"/>
                    </a:lnTo>
                    <a:lnTo>
                      <a:pt x="18514" y="12600"/>
                    </a:lnTo>
                    <a:lnTo>
                      <a:pt x="12343" y="6300"/>
                    </a:lnTo>
                    <a:lnTo>
                      <a:pt x="15429" y="6300"/>
                    </a:lnTo>
                    <a:lnTo>
                      <a:pt x="10800" y="0"/>
                    </a:lnTo>
                    <a:lnTo>
                      <a:pt x="6171" y="6300"/>
                    </a:lnTo>
                    <a:lnTo>
                      <a:pt x="9257" y="6300"/>
                    </a:lnTo>
                    <a:lnTo>
                      <a:pt x="3086" y="12600"/>
                    </a:lnTo>
                    <a:lnTo>
                      <a:pt x="9257" y="12600"/>
                    </a:lnTo>
                    <a:lnTo>
                      <a:pt x="0" y="1890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ree"/>
              <p:cNvSpPr/>
              <p:nvPr/>
            </p:nvSpPr>
            <p:spPr>
              <a:xfrm>
                <a:off x="2892240" y="2797920"/>
                <a:ext cx="1233720" cy="2250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8900"/>
                    </a:moveTo>
                    <a:lnTo>
                      <a:pt x="9257" y="18900"/>
                    </a:lnTo>
                    <a:lnTo>
                      <a:pt x="9257" y="21600"/>
                    </a:lnTo>
                    <a:lnTo>
                      <a:pt x="12343" y="21600"/>
                    </a:lnTo>
                    <a:lnTo>
                      <a:pt x="12343" y="18900"/>
                    </a:lnTo>
                    <a:lnTo>
                      <a:pt x="21600" y="18900"/>
                    </a:lnTo>
                    <a:lnTo>
                      <a:pt x="12343" y="12600"/>
                    </a:lnTo>
                    <a:lnTo>
                      <a:pt x="18514" y="12600"/>
                    </a:lnTo>
                    <a:lnTo>
                      <a:pt x="12343" y="6300"/>
                    </a:lnTo>
                    <a:lnTo>
                      <a:pt x="15429" y="6300"/>
                    </a:lnTo>
                    <a:lnTo>
                      <a:pt x="10800" y="0"/>
                    </a:lnTo>
                    <a:lnTo>
                      <a:pt x="6171" y="6300"/>
                    </a:lnTo>
                    <a:lnTo>
                      <a:pt x="9257" y="6300"/>
                    </a:lnTo>
                    <a:lnTo>
                      <a:pt x="3086" y="12600"/>
                    </a:lnTo>
                    <a:lnTo>
                      <a:pt x="9257" y="12600"/>
                    </a:lnTo>
                    <a:lnTo>
                      <a:pt x="0" y="1890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 Box 11"/>
            <p:cNvSpPr/>
            <p:nvPr/>
          </p:nvSpPr>
          <p:spPr>
            <a:xfrm>
              <a:off x="3038400" y="5372280"/>
              <a:ext cx="727200" cy="75384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2"/>
            <p:cNvSpPr/>
            <p:nvPr/>
          </p:nvSpPr>
          <p:spPr>
            <a:xfrm>
              <a:off x="1371600" y="5410080"/>
              <a:ext cx="762120" cy="68580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90720" y="5029200"/>
            <a:ext cx="3276360" cy="360"/>
            <a:chOff x="990720" y="5029200"/>
            <a:chExt cx="3276360" cy="360"/>
          </a:xfrm>
        </p:grpSpPr>
        <p:sp>
          <p:nvSpPr>
            <p:cNvPr id="112" name="Line 13"/>
            <p:cNvSpPr/>
            <p:nvPr/>
          </p:nvSpPr>
          <p:spPr>
            <a:xfrm>
              <a:off x="990720" y="5029200"/>
              <a:ext cx="3276360" cy="0"/>
            </a:xfrm>
            <a:prstGeom prst="line">
              <a:avLst/>
            </a:prstGeom>
            <a:ln w="10152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990720" y="5029200"/>
              <a:ext cx="32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4952880" y="1447920"/>
            <a:ext cx="3886200" cy="4800600"/>
            <a:chOff x="4952880" y="1447920"/>
            <a:chExt cx="3886200" cy="4800600"/>
          </a:xfrm>
        </p:grpSpPr>
        <p:grpSp>
          <p:nvGrpSpPr>
            <p:cNvPr id="115" name="Group 15"/>
            <p:cNvGrpSpPr/>
            <p:nvPr/>
          </p:nvGrpSpPr>
          <p:grpSpPr>
            <a:xfrm>
              <a:off x="4952880" y="1447920"/>
              <a:ext cx="3886200" cy="4800600"/>
              <a:chOff x="4952880" y="1447920"/>
              <a:chExt cx="3886200" cy="48006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4952880" y="1447920"/>
                <a:ext cx="3886200" cy="480060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17" descr="大象"/>
              <p:cNvPicPr/>
              <p:nvPr/>
            </p:nvPicPr>
            <p:blipFill>
              <a:blip r:embed="rId1"/>
              <a:srcRect l="14316" t="0" r="23860" b="3634"/>
              <a:stretch/>
            </p:blipFill>
            <p:spPr>
              <a:xfrm>
                <a:off x="5105520" y="1600200"/>
                <a:ext cx="3504960" cy="342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Text Box 18"/>
            <p:cNvSpPr/>
            <p:nvPr/>
          </p:nvSpPr>
          <p:spPr>
            <a:xfrm>
              <a:off x="5638680" y="5334120"/>
              <a:ext cx="685800" cy="68580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7467480" y="5334120"/>
              <a:ext cx="685800" cy="68580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20"/>
          <p:cNvSpPr/>
          <p:nvPr/>
        </p:nvSpPr>
        <p:spPr>
          <a:xfrm>
            <a:off x="144792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312408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571500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754380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988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9880" y="5181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32448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84582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哪一本书厚，哪一本书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1143000" y="1523880"/>
            <a:ext cx="6476760" cy="3962160"/>
            <a:chOff x="1143000" y="1523880"/>
            <a:chExt cx="6476760" cy="3962160"/>
          </a:xfrm>
        </p:grpSpPr>
        <p:pic>
          <p:nvPicPr>
            <p:cNvPr id="130" name="Picture 4" descr="书本"/>
            <p:cNvPicPr/>
            <p:nvPr/>
          </p:nvPicPr>
          <p:blipFill>
            <a:blip r:embed="rId1"/>
            <a:srcRect l="0" t="0" r="62540" b="0"/>
            <a:stretch/>
          </p:blipFill>
          <p:spPr>
            <a:xfrm>
              <a:off x="1143000" y="1523880"/>
              <a:ext cx="349452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" descr="书本"/>
            <p:cNvPicPr/>
            <p:nvPr/>
          </p:nvPicPr>
          <p:blipFill>
            <a:blip r:embed="rId2"/>
            <a:srcRect l="50035" t="0" r="16674" b="0"/>
            <a:stretch/>
          </p:blipFill>
          <p:spPr>
            <a:xfrm>
              <a:off x="4511880" y="1523880"/>
              <a:ext cx="3107880" cy="39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6"/>
          <p:cNvSpPr/>
          <p:nvPr/>
        </p:nvSpPr>
        <p:spPr>
          <a:xfrm>
            <a:off x="182880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字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86400" y="4495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故事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057400" y="1066680"/>
            <a:ext cx="2057400" cy="914400"/>
          </a:xfrm>
          <a:prstGeom prst="cloudCallout">
            <a:avLst>
              <a:gd name="adj1" fmla="val -43750"/>
              <a:gd name="adj2" fmla="val 899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Times New Roman"/>
              </a:rPr>
              <a:t>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086600" y="1143000"/>
            <a:ext cx="1143000" cy="1447920"/>
          </a:xfrm>
          <a:prstGeom prst="cloudCallout">
            <a:avLst>
              <a:gd name="adj1" fmla="val -57083"/>
              <a:gd name="adj2" fmla="val 6995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Times New Roman"/>
              </a:rPr>
              <a:t>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50532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581280" y="5638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822960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305920" y="4419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362320" y="3429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238880" y="3429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8196"/>
          <p:cNvSpPr/>
          <p:nvPr/>
        </p:nvSpPr>
        <p:spPr>
          <a:xfrm>
            <a:off x="2340000" y="6308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6668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97180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26960" y="657540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更多全套课件免费下载：第一</a:t>
            </a: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模板网：</a:t>
            </a: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12:5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1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