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png" ContentType="image/png"/>
  <Override PartName="/ppt/media/image6.gif" ContentType="image/gif"/>
  <Override PartName="/ppt/media/image8.png" ContentType="image/png"/>
  <Override PartName="/ppt/media/image2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18.png" ContentType="image/png"/>
  <Override PartName="/ppt/media/type.wav" ContentType="audio/x-wav"/>
  <Override PartName="/ppt/media/image1.png" ContentType="image/png"/>
  <Override PartName="/ppt/media/image24.png" ContentType="image/png"/>
  <Override PartName="/ppt/media/image13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07E-D5CE-4043-80C8-321F4C38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402-2E21-4373-9D18-FC0BB48F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C78-49DA-44EC-A55A-3A2C2CD7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261-73F6-4AC0-81AD-2E895517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6DEB-A762-41AE-BF24-EFD15741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DD71-49D5-4C1F-8EC6-194C59A6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F655-EEC0-4485-A7B1-F490E102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57D8-57D8-409A-9B51-73FAE5D8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B299-B7A6-4F92-8E62-17023D6D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8C36-44B6-4C13-BD94-158053AF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94D2-8A17-41AD-ADB8-68D78FA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C33-FCB8-4232-9D2D-4F68C851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5A6C-F980-4E53-9BA8-CA8D2361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0F9E-4BD0-4831-8C93-9F233B2A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A3ED-0AC6-4741-A550-958640C5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1236-11CF-4A01-B8F9-9A97675F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BDDF-DB0A-4277-9A72-ED782D9F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24C-DEF8-44A1-81CA-7744A5D0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36D-A3AE-4873-A6BF-4F2AEAD6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725-3FDC-437F-9D97-41777E29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882-2986-4F57-80E8-1100C72F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A52-B361-4C7A-A8BA-D2DEC791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BBE-F13F-4F57-A75B-C09D9CBC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B10-B61C-4C83-AEA2-AF2C0C8D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90E2-AE9A-405B-863F-BC777F241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BD7A-E70A-44C3-8AE5-46FC66FBCC0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00D3-2512-4838-BC0C-6AC6E9AAA8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2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细雨草地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3652920" y="290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630600" y="297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652920" y="289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816120" y="1484280"/>
            <a:ext cx="758484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57240">
                  <a:solidFill>
                    <a:srgbClr val="f4663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春雨的色彩</a:t>
            </a:r>
            <a:r>
              <a:rPr b="1" lang="en-US" sz="4000" spc="1" strike="noStrike">
                <a:ln w="57240">
                  <a:solidFill>
                    <a:srgbClr val="f4663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57240">
                  <a:solidFill>
                    <a:srgbClr val="f4663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课件打包下载</a:t>
            </a:r>
            <a:endParaRPr b="1" lang="en-US" sz="4000" spc="1" strike="noStrike">
              <a:ln w="57240">
                <a:solidFill>
                  <a:srgbClr val="f4663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xinsrc_6b021429fc1040708a30f9583a6d0446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1187280" y="1989000"/>
            <a:ext cx="70567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55640" y="112536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田野里，一群小鸟正在争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论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个有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趣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的问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题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：春雨到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底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是什么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色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jiayan"/>
          <p:cNvPicPr/>
          <p:nvPr/>
        </p:nvPicPr>
        <p:blipFill>
          <a:blip r:embed="rId1"/>
          <a:stretch/>
        </p:blipFill>
        <p:spPr>
          <a:xfrm>
            <a:off x="4419720" y="2438280"/>
            <a:ext cx="1752480" cy="1712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maque"/>
          <p:cNvPicPr/>
          <p:nvPr/>
        </p:nvPicPr>
        <p:blipFill>
          <a:blip r:embed="rId2"/>
          <a:stretch/>
        </p:blipFill>
        <p:spPr>
          <a:xfrm>
            <a:off x="2895480" y="4876920"/>
            <a:ext cx="2057400" cy="163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uangying"/>
          <p:cNvPicPr/>
          <p:nvPr/>
        </p:nvPicPr>
        <p:blipFill>
          <a:blip r:embed="rId3"/>
          <a:stretch/>
        </p:blipFill>
        <p:spPr>
          <a:xfrm>
            <a:off x="609588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0" y="228600"/>
            <a:ext cx="8839080" cy="182880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春雨，像春姑娘纺出的线，轻轻地落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上，沙沙沙，沙沙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228600" y="2743200"/>
            <a:ext cx="3505320" cy="1523880"/>
          </a:xfrm>
          <a:prstGeom prst="cloudCallout">
            <a:avLst>
              <a:gd name="adj1" fmla="val 92120"/>
              <a:gd name="adj2" fmla="val 6020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雨到底是什么颜色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4952880" y="4191120"/>
            <a:ext cx="1219320" cy="838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争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fyzw_2005351147[1]"/>
          <p:cNvPicPr/>
          <p:nvPr/>
        </p:nvPicPr>
        <p:blipFill>
          <a:blip r:embed="rId2"/>
          <a:stretch/>
        </p:blipFill>
        <p:spPr>
          <a:xfrm>
            <a:off x="971640" y="765000"/>
            <a:ext cx="3417840" cy="609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麻雀"/>
          <p:cNvPicPr/>
          <p:nvPr/>
        </p:nvPicPr>
        <p:blipFill>
          <a:blip r:embed="rId3"/>
          <a:stretch/>
        </p:blipFill>
        <p:spPr>
          <a:xfrm>
            <a:off x="4316400" y="692280"/>
            <a:ext cx="4827600" cy="301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黄莺"/>
          <p:cNvPicPr/>
          <p:nvPr/>
        </p:nvPicPr>
        <p:blipFill>
          <a:blip r:embed="rId4"/>
          <a:srcRect l="2301" t="4451" r="3714" b="13584"/>
          <a:stretch/>
        </p:blipFill>
        <p:spPr>
          <a:xfrm>
            <a:off x="4356000" y="3591000"/>
            <a:ext cx="4788000" cy="3267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1166400" y="11786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小燕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810680" y="895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麻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994640" y="5950080"/>
            <a:ext cx="1003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小黄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xinsrc_6b021429fc1040708a30f9583a6d0446_6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-108000" y="549360"/>
            <a:ext cx="96123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燕子说：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是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色的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瞧，春雨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落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上，草就绿了。春雨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树上，柳枝也绿了。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20050722000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image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324000" y="69228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麻雀说：“不对，春雨是红色的。你们瞧，春雨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洒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桃树上，桃花红了。春雨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滴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杜鹃丛中，杜鹃花也红了。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文本框 1"/>
          <p:cNvSpPr/>
          <p:nvPr/>
        </p:nvSpPr>
        <p:spPr>
          <a:xfrm>
            <a:off x="2913120" y="616572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image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back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xinsrc_aecf80a1ef104a6fa2cd32a91e1bee7d_7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-71280" y="1125360"/>
            <a:ext cx="946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黄莺说：“不对，不对，春雨是黄色的。你们看，春雨落在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油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菜地里，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油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菜花黄了。春雨落在蒲公英上，蒲公英花也黄了。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3492360" y="16700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netease_demo_mf_1024x768_or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1788480" y="2781360"/>
            <a:ext cx="4569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看到这个题目，大家有什么问题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66760" y="3284640"/>
            <a:ext cx="29239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春雨有颜色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春雨到底是什么颜色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32880" y="981000"/>
            <a:ext cx="152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楷体"/>
              </a:rPr>
              <a:t>质疑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j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jiayan"/>
          <p:cNvPicPr/>
          <p:nvPr/>
        </p:nvPicPr>
        <p:blipFill>
          <a:blip r:embed="rId2"/>
          <a:stretch/>
        </p:blipFill>
        <p:spPr>
          <a:xfrm>
            <a:off x="0" y="4114800"/>
            <a:ext cx="2057400" cy="24620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4"/>
          <p:cNvSpPr/>
          <p:nvPr/>
        </p:nvSpPr>
        <p:spPr>
          <a:xfrm>
            <a:off x="1676520" y="1066680"/>
            <a:ext cx="6476760" cy="2971800"/>
          </a:xfrm>
          <a:prstGeom prst="wedgeEllipseCallout">
            <a:avLst>
              <a:gd name="adj1" fmla="val -44189"/>
              <a:gd name="adj2" fmla="val 69976"/>
            </a:avLst>
          </a:prstGeom>
          <a:solidFill>
            <a:srgbClr val="cc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春雨是绿色的。你们瞧，春雨落到草地上，草就绿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xinsrc_20f00f6e81904277b0f7a942b03e47b9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jiayan"/>
          <p:cNvPicPr/>
          <p:nvPr/>
        </p:nvPicPr>
        <p:blipFill>
          <a:blip r:embed="rId2"/>
          <a:stretch/>
        </p:blipFill>
        <p:spPr>
          <a:xfrm>
            <a:off x="0" y="4114800"/>
            <a:ext cx="2057400" cy="24620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/>
          <p:cNvSpPr/>
          <p:nvPr/>
        </p:nvSpPr>
        <p:spPr>
          <a:xfrm>
            <a:off x="1676520" y="1066680"/>
            <a:ext cx="6476760" cy="2971800"/>
          </a:xfrm>
          <a:prstGeom prst="wedgeEllipseCallout">
            <a:avLst>
              <a:gd name="adj1" fmla="val -44189"/>
              <a:gd name="adj2" fmla="val 69976"/>
            </a:avLst>
          </a:prstGeom>
          <a:solidFill>
            <a:srgbClr val="ccff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春雨淋到柳树上，柳枝也绿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ujhun1"/>
          <p:cNvPicPr/>
          <p:nvPr/>
        </p:nvPicPr>
        <p:blipFill>
          <a:blip r:embed="rId1"/>
          <a:stretch/>
        </p:blipFill>
        <p:spPr>
          <a:xfrm>
            <a:off x="5029200" y="457200"/>
            <a:ext cx="3787920" cy="472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03030392"/>
          <p:cNvPicPr/>
          <p:nvPr/>
        </p:nvPicPr>
        <p:blipFill>
          <a:blip r:embed="rId2"/>
          <a:stretch/>
        </p:blipFill>
        <p:spPr>
          <a:xfrm>
            <a:off x="304920" y="380880"/>
            <a:ext cx="4286160" cy="4876920"/>
          </a:xfrm>
          <a:prstGeom prst="rect">
            <a:avLst/>
          </a:prstGeom>
          <a:ln w="0">
            <a:noFill/>
          </a:ln>
        </p:spPr>
      </p:pic>
      <p:sp>
        <p:nvSpPr>
          <p:cNvPr id="169" name="WordArt 4"/>
          <p:cNvSpPr txBox="1"/>
          <p:nvPr/>
        </p:nvSpPr>
        <p:spPr>
          <a:xfrm>
            <a:off x="2514600" y="571500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桃花</a:t>
            </a:r>
            <a:endParaRPr b="0" lang="en-US" sz="2400" spc="1" strike="noStrike">
              <a:ln w="9360">
                <a:solidFill>
                  <a:srgbClr val="ff00ff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5943600" y="5562720"/>
            <a:ext cx="2057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杜鹃花</a:t>
            </a:r>
            <a:endParaRPr b="0" lang="en-US" sz="2400" spc="1" strike="noStrike">
              <a:ln w="9360">
                <a:solidFill>
                  <a:srgbClr val="ff66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71" name="Picture 6" descr="maque"/>
          <p:cNvPicPr/>
          <p:nvPr/>
        </p:nvPicPr>
        <p:blipFill>
          <a:blip r:embed="rId3"/>
          <a:stretch/>
        </p:blipFill>
        <p:spPr>
          <a:xfrm>
            <a:off x="0" y="4792680"/>
            <a:ext cx="2590920" cy="20653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>
            <a:off x="2057400" y="304920"/>
            <a:ext cx="5334120" cy="3657600"/>
          </a:xfrm>
          <a:prstGeom prst="wedgeRoundRectCallout">
            <a:avLst>
              <a:gd name="adj1" fmla="val -40180"/>
              <a:gd name="adj2" fmla="val 77819"/>
              <a:gd name="adj3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对，春雨是红色的。你们瞧，春雨洒在桃树上，桃花红了。春雨滴在杜鹃丛中，杜鹃花也红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3273480" y="530208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img579063_1"/>
          <p:cNvPicPr/>
          <p:nvPr/>
        </p:nvPicPr>
        <p:blipFill>
          <a:blip r:embed="rId1"/>
          <a:stretch/>
        </p:blipFill>
        <p:spPr>
          <a:xfrm>
            <a:off x="324000" y="1052640"/>
            <a:ext cx="4724280" cy="4267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p000000734"/>
          <p:cNvPicPr/>
          <p:nvPr/>
        </p:nvPicPr>
        <p:blipFill>
          <a:blip r:embed="rId2"/>
          <a:stretch/>
        </p:blipFill>
        <p:spPr>
          <a:xfrm>
            <a:off x="5334120" y="1143000"/>
            <a:ext cx="3452760" cy="4191120"/>
          </a:xfrm>
          <a:prstGeom prst="rect">
            <a:avLst/>
          </a:prstGeom>
          <a:ln w="0">
            <a:noFill/>
          </a:ln>
        </p:spPr>
      </p:pic>
      <p:sp>
        <p:nvSpPr>
          <p:cNvPr id="176" name="WordArt 4"/>
          <p:cNvSpPr txBox="1"/>
          <p:nvPr/>
        </p:nvSpPr>
        <p:spPr>
          <a:xfrm>
            <a:off x="5638680" y="4724280"/>
            <a:ext cx="2895840" cy="18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 </a:t>
            </a:r>
            <a:endParaRPr b="0" lang="en-US" sz="2400" spc="1" strike="noStrike">
              <a:ln w="12600">
                <a:solidFill>
                  <a:srgbClr val="ffcc00"/>
                </a:solidFill>
                <a:round/>
              </a:ln>
              <a:solidFill>
                <a:srgbClr val="ffff99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蒲公英花</a:t>
            </a:r>
            <a:endParaRPr b="0" lang="en-US" sz="2400" spc="1" strike="noStrike">
              <a:ln w="12600">
                <a:solidFill>
                  <a:srgbClr val="ffcc00"/>
                </a:solidFill>
                <a:round/>
              </a:ln>
              <a:solidFill>
                <a:srgbClr val="ffff99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1066680" y="5562720"/>
            <a:ext cx="289584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油菜花</a:t>
            </a:r>
            <a:endParaRPr b="0" lang="en-US" sz="2400" spc="1" strike="noStrike">
              <a:ln w="12600">
                <a:solidFill>
                  <a:srgbClr val="ffcc00"/>
                </a:solidFill>
                <a:round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8" name="Picture 6" descr="huangying"/>
          <p:cNvPicPr/>
          <p:nvPr/>
        </p:nvPicPr>
        <p:blipFill>
          <a:blip r:embed="rId3"/>
          <a:stretch/>
        </p:blipFill>
        <p:spPr>
          <a:xfrm>
            <a:off x="6629400" y="34290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7"/>
          <p:cNvSpPr/>
          <p:nvPr/>
        </p:nvSpPr>
        <p:spPr>
          <a:xfrm>
            <a:off x="0" y="838080"/>
            <a:ext cx="6781680" cy="4114800"/>
          </a:xfrm>
          <a:prstGeom prst="wedgeEllipseCallout">
            <a:avLst>
              <a:gd name="adj1" fmla="val 52856"/>
              <a:gd name="adj2" fmla="val 21643"/>
            </a:avLst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对，不对，春雨是黄色的。你们看，春雨落在油菜地里，油菜花黄了。春雨落在蒲公英上，蒲公英花也黄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4"/>
          <p:cNvSpPr/>
          <p:nvPr/>
        </p:nvSpPr>
        <p:spPr>
          <a:xfrm>
            <a:off x="468360" y="1268280"/>
            <a:ext cx="8136000" cy="4032360"/>
          </a:xfrm>
          <a:prstGeom prst="flowChartAlternateProcess">
            <a:avLst/>
          </a:prstGeom>
          <a:solidFill>
            <a:srgbClr val="00cc99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611280" y="1844640"/>
            <a:ext cx="78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春雨听了大家的争论，下得更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欢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了，沙沙沙，沙沙沙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4FF9-7ACC-4844-AF88-7F6CF9E65E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826920" y="1413000"/>
            <a:ext cx="7848720" cy="4038480"/>
            <a:chOff x="826920" y="1413000"/>
            <a:chExt cx="7848720" cy="4038480"/>
          </a:xfrm>
        </p:grpSpPr>
        <p:sp>
          <p:nvSpPr>
            <p:cNvPr id="187" name="Rectangle 3"/>
            <p:cNvSpPr/>
            <p:nvPr/>
          </p:nvSpPr>
          <p:spPr>
            <a:xfrm>
              <a:off x="826920" y="1413000"/>
              <a:ext cx="7848720" cy="403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826920" y="2784600"/>
              <a:ext cx="7848720" cy="360"/>
              <a:chOff x="826920" y="2784600"/>
              <a:chExt cx="7848720" cy="360"/>
            </a:xfrm>
          </p:grpSpPr>
          <p:sp>
            <p:nvSpPr>
              <p:cNvPr id="189" name="Line 4"/>
              <p:cNvSpPr/>
              <p:nvPr/>
            </p:nvSpPr>
            <p:spPr>
              <a:xfrm>
                <a:off x="826920" y="278460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826920" y="278460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826920" y="4156200"/>
              <a:ext cx="7848720" cy="360"/>
              <a:chOff x="826920" y="4156200"/>
              <a:chExt cx="7848720" cy="360"/>
            </a:xfrm>
          </p:grpSpPr>
          <p:sp>
            <p:nvSpPr>
              <p:cNvPr id="192" name="Line 5"/>
              <p:cNvSpPr/>
              <p:nvPr/>
            </p:nvSpPr>
            <p:spPr>
              <a:xfrm>
                <a:off x="826920" y="415620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826920" y="415620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2198520" y="1413000"/>
              <a:ext cx="360" cy="4038480"/>
              <a:chOff x="2198520" y="1413000"/>
              <a:chExt cx="360" cy="403848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198520" y="141300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21985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570120" y="1413000"/>
              <a:ext cx="360" cy="4038480"/>
              <a:chOff x="3570120" y="1413000"/>
              <a:chExt cx="360" cy="4038480"/>
            </a:xfrm>
          </p:grpSpPr>
          <p:sp>
            <p:nvSpPr>
              <p:cNvPr id="198" name="Line 7"/>
              <p:cNvSpPr/>
              <p:nvPr/>
            </p:nvSpPr>
            <p:spPr>
              <a:xfrm>
                <a:off x="3570120" y="141300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35701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941720" y="1413000"/>
              <a:ext cx="360" cy="4038480"/>
              <a:chOff x="4941720" y="1413000"/>
              <a:chExt cx="360" cy="4038480"/>
            </a:xfrm>
          </p:grpSpPr>
          <p:sp>
            <p:nvSpPr>
              <p:cNvPr id="201" name="Line 8"/>
              <p:cNvSpPr/>
              <p:nvPr/>
            </p:nvSpPr>
            <p:spPr>
              <a:xfrm>
                <a:off x="4941720" y="141300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49417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237000" y="1413000"/>
              <a:ext cx="360" cy="4038480"/>
              <a:chOff x="6237000" y="1413000"/>
              <a:chExt cx="360" cy="4038480"/>
            </a:xfrm>
          </p:grpSpPr>
          <p:sp>
            <p:nvSpPr>
              <p:cNvPr id="204" name="Line 9"/>
              <p:cNvSpPr/>
              <p:nvPr/>
            </p:nvSpPr>
            <p:spPr>
              <a:xfrm>
                <a:off x="6237000" y="141300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623700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456320" y="1413000"/>
              <a:ext cx="360" cy="4038480"/>
              <a:chOff x="7456320" y="1413000"/>
              <a:chExt cx="360" cy="4038480"/>
            </a:xfrm>
          </p:grpSpPr>
          <p:sp>
            <p:nvSpPr>
              <p:cNvPr id="207" name="Line 10"/>
              <p:cNvSpPr/>
              <p:nvPr/>
            </p:nvSpPr>
            <p:spPr>
              <a:xfrm>
                <a:off x="7456320" y="141300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74563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826920" y="2098800"/>
              <a:ext cx="7848720" cy="360"/>
              <a:chOff x="826920" y="2098800"/>
              <a:chExt cx="7848720" cy="360"/>
            </a:xfrm>
          </p:grpSpPr>
          <p:sp>
            <p:nvSpPr>
              <p:cNvPr id="210" name="Line 11"/>
              <p:cNvSpPr/>
              <p:nvPr/>
            </p:nvSpPr>
            <p:spPr>
              <a:xfrm>
                <a:off x="826920" y="2098800"/>
                <a:ext cx="7848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826920" y="209880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512720" y="1413000"/>
              <a:ext cx="360" cy="4038480"/>
              <a:chOff x="1512720" y="1413000"/>
              <a:chExt cx="360" cy="4038480"/>
            </a:xfrm>
          </p:grpSpPr>
          <p:sp>
            <p:nvSpPr>
              <p:cNvPr id="213" name="Line 12"/>
              <p:cNvSpPr/>
              <p:nvPr/>
            </p:nvSpPr>
            <p:spPr>
              <a:xfrm>
                <a:off x="1512720" y="1413000"/>
                <a:ext cx="0" cy="4038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15127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884320" y="1413000"/>
              <a:ext cx="360" cy="4038480"/>
              <a:chOff x="2884320" y="1413000"/>
              <a:chExt cx="360" cy="4038480"/>
            </a:xfrm>
          </p:grpSpPr>
          <p:sp>
            <p:nvSpPr>
              <p:cNvPr id="216" name="Line 13"/>
              <p:cNvSpPr/>
              <p:nvPr/>
            </p:nvSpPr>
            <p:spPr>
              <a:xfrm>
                <a:off x="2884320" y="1413000"/>
                <a:ext cx="0" cy="4038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28843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255920" y="1413000"/>
              <a:ext cx="360" cy="4038480"/>
              <a:chOff x="4255920" y="1413000"/>
              <a:chExt cx="360" cy="4038480"/>
            </a:xfrm>
          </p:grpSpPr>
          <p:sp>
            <p:nvSpPr>
              <p:cNvPr id="219" name="Line 14"/>
              <p:cNvSpPr/>
              <p:nvPr/>
            </p:nvSpPr>
            <p:spPr>
              <a:xfrm>
                <a:off x="4255920" y="1413000"/>
                <a:ext cx="0" cy="4038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42559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5551200" y="1413000"/>
              <a:ext cx="360" cy="4038480"/>
              <a:chOff x="5551200" y="1413000"/>
              <a:chExt cx="360" cy="4038480"/>
            </a:xfrm>
          </p:grpSpPr>
          <p:sp>
            <p:nvSpPr>
              <p:cNvPr id="222" name="Line 15"/>
              <p:cNvSpPr/>
              <p:nvPr/>
            </p:nvSpPr>
            <p:spPr>
              <a:xfrm>
                <a:off x="5551200" y="1413000"/>
                <a:ext cx="0" cy="4038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555120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6846840" y="1413000"/>
              <a:ext cx="360" cy="4038480"/>
              <a:chOff x="6846840" y="1413000"/>
              <a:chExt cx="360" cy="4038480"/>
            </a:xfrm>
          </p:grpSpPr>
          <p:sp>
            <p:nvSpPr>
              <p:cNvPr id="225" name="Line 16"/>
              <p:cNvSpPr/>
              <p:nvPr/>
            </p:nvSpPr>
            <p:spPr>
              <a:xfrm>
                <a:off x="6846840" y="1413000"/>
                <a:ext cx="0" cy="4038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684684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8065800" y="1413000"/>
              <a:ext cx="360" cy="4038480"/>
              <a:chOff x="8065800" y="1413000"/>
              <a:chExt cx="360" cy="4038480"/>
            </a:xfrm>
          </p:grpSpPr>
          <p:sp>
            <p:nvSpPr>
              <p:cNvPr id="228" name="Line 17"/>
              <p:cNvSpPr/>
              <p:nvPr/>
            </p:nvSpPr>
            <p:spPr>
              <a:xfrm>
                <a:off x="8065800" y="1413000"/>
                <a:ext cx="0" cy="4038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806580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826920" y="3470400"/>
              <a:ext cx="7848720" cy="360"/>
              <a:chOff x="826920" y="3470400"/>
              <a:chExt cx="7848720" cy="360"/>
            </a:xfrm>
          </p:grpSpPr>
          <p:sp>
            <p:nvSpPr>
              <p:cNvPr id="231" name="Line 18"/>
              <p:cNvSpPr/>
              <p:nvPr/>
            </p:nvSpPr>
            <p:spPr>
              <a:xfrm>
                <a:off x="826920" y="3470400"/>
                <a:ext cx="7848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826920" y="347040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826920" y="4765680"/>
              <a:ext cx="7848720" cy="360"/>
              <a:chOff x="826920" y="4765680"/>
              <a:chExt cx="7848720" cy="360"/>
            </a:xfrm>
          </p:grpSpPr>
          <p:sp>
            <p:nvSpPr>
              <p:cNvPr id="234" name="Line 19"/>
              <p:cNvSpPr/>
              <p:nvPr/>
            </p:nvSpPr>
            <p:spPr>
              <a:xfrm>
                <a:off x="826920" y="4765680"/>
                <a:ext cx="7848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>
                <a:off x="826920" y="47656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Text Box 20"/>
            <p:cNvSpPr/>
            <p:nvPr/>
          </p:nvSpPr>
          <p:spPr>
            <a:xfrm>
              <a:off x="1165320" y="141300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你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1"/>
            <p:cNvSpPr/>
            <p:nvPr/>
          </p:nvSpPr>
          <p:spPr>
            <a:xfrm>
              <a:off x="1165320" y="28605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红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2"/>
            <p:cNvSpPr/>
            <p:nvPr/>
          </p:nvSpPr>
          <p:spPr>
            <a:xfrm>
              <a:off x="1165320" y="415620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花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23"/>
            <p:cNvSpPr/>
            <p:nvPr/>
          </p:nvSpPr>
          <p:spPr>
            <a:xfrm>
              <a:off x="5204160" y="14889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们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24"/>
            <p:cNvSpPr/>
            <p:nvPr/>
          </p:nvSpPr>
          <p:spPr>
            <a:xfrm>
              <a:off x="5204160" y="28605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绿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25"/>
            <p:cNvSpPr/>
            <p:nvPr/>
          </p:nvSpPr>
          <p:spPr>
            <a:xfrm>
              <a:off x="5127840" y="407988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草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Picture 26" descr="写一写"/>
          <p:cNvPicPr/>
          <p:nvPr/>
        </p:nvPicPr>
        <p:blipFill>
          <a:blip r:embed="rId1"/>
          <a:stretch/>
        </p:blipFill>
        <p:spPr>
          <a:xfrm>
            <a:off x="3348000" y="333360"/>
            <a:ext cx="208908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357000" y="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</a:rPr>
              <a:t>春雨的色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692280"/>
            <a:ext cx="91440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　　春雨</a:t>
            </a:r>
            <a:r>
              <a:rPr b="1" lang="zh-CN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像春姑娘纺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线</a:t>
            </a:r>
            <a:r>
              <a:rPr b="1" lang="zh-CN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轻轻地落到地上</a:t>
            </a:r>
            <a:r>
              <a:rPr b="1" lang="zh-CN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沙沙沙</a:t>
            </a:r>
            <a:r>
              <a:rPr b="1" lang="zh-CN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沙沙沙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　　田野里，一群小鸟正在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论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一个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趣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的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题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：春雨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底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是什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颜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色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　　小燕子说：“春雨是绿色的。你们瞧，春雨落到草地上，草就绿了。春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淋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在柳树上，柳枝也绿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　　麻雀说：“不对，春雨是红色的。你们瞧，春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洒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在桃树上，桃花红了。春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滴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在杜鹃丛中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杜鹃花也红了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。</a:t>
            </a:r>
            <a:r>
              <a:rPr b="1" lang="zh-CN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　　小黄莺说：“不对，不对，春雨是黄色的。你们看，春雨落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油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菜地里，油菜花黄了。春雨落在蒲公英上，蒲公英花也黄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　　春雨听了大家的争论，下得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欢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了，沙沙沙，沙沙沙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喇叭"/>
          <p:cNvPicPr/>
          <p:nvPr/>
        </p:nvPicPr>
        <p:blipFill>
          <a:blip r:embed="rId2"/>
          <a:stretch/>
        </p:blipFill>
        <p:spPr>
          <a:xfrm>
            <a:off x="8172360" y="6021360"/>
            <a:ext cx="639720" cy="58248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395280" y="765000"/>
            <a:ext cx="36036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、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324000" y="1557360"/>
            <a:ext cx="36036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、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395280" y="2492280"/>
            <a:ext cx="36036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、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395280" y="3284640"/>
            <a:ext cx="36036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、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395280" y="4221000"/>
            <a:ext cx="36036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、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2" name="WordArt 12"/>
          <p:cNvSpPr txBox="1"/>
          <p:nvPr/>
        </p:nvSpPr>
        <p:spPr>
          <a:xfrm>
            <a:off x="395280" y="5445000"/>
            <a:ext cx="36036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、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1547640" y="891000"/>
            <a:ext cx="6624720" cy="560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xi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n   lùn 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qù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  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tí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d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线   论   趣   题   底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n 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lín 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sǎ   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dī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yóu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huā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颜   淋   洒   滴   油   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miyo"/>
          <p:cNvPicPr/>
          <p:nvPr/>
        </p:nvPicPr>
        <p:blipFill>
          <a:blip r:embed="rId1"/>
          <a:stretch/>
        </p:blipFill>
        <p:spPr>
          <a:xfrm>
            <a:off x="1332000" y="620640"/>
            <a:ext cx="26226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84480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914400" y="2362320"/>
            <a:ext cx="7848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论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题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洒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滴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油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欢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973240" y="1174680"/>
            <a:ext cx="19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只要你认识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个字，就可以得到一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wuxing"/>
          <p:cNvPicPr/>
          <p:nvPr/>
        </p:nvPicPr>
        <p:blipFill>
          <a:blip r:embed="rId1"/>
          <a:stretch/>
        </p:blipFill>
        <p:spPr>
          <a:xfrm>
            <a:off x="6934320" y="1219320"/>
            <a:ext cx="990360" cy="79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971640" y="1341360"/>
            <a:ext cx="78375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线  论  趣  题  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颜 淋 洒 滴 油 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958840" y="1484280"/>
            <a:ext cx="22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"/>
                <a:ea typeface="楷体"/>
              </a:rPr>
              <a:t>只要你认识</a:t>
            </a:r>
            <a:r>
              <a:rPr b="1" lang="en-US" sz="3200" spc="-1" strike="noStrike">
                <a:solidFill>
                  <a:srgbClr val="9933ff"/>
                </a:solidFill>
                <a:latin typeface="楷体"/>
                <a:ea typeface="楷体"/>
              </a:rPr>
              <a:t>9</a:t>
            </a:r>
            <a:r>
              <a:rPr b="1" lang="zh-CN" sz="3200" spc="-1" strike="noStrike">
                <a:solidFill>
                  <a:srgbClr val="9933ff"/>
                </a:solidFill>
                <a:latin typeface="楷体"/>
                <a:ea typeface="楷体"/>
              </a:rPr>
              <a:t>个字，就可以得到一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" descr="wuxing"/>
          <p:cNvPicPr/>
          <p:nvPr/>
        </p:nvPicPr>
        <p:blipFill>
          <a:blip r:embed="rId3"/>
          <a:stretch/>
        </p:blipFill>
        <p:spPr>
          <a:xfrm>
            <a:off x="7308720" y="1413000"/>
            <a:ext cx="99072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xinsrc_6b021429fc1040708a30f9583a6d0446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xiàn   zhēng lùn     qù       t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线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争论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有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趣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问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yán      lín     huān         d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颜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欢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  到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dī   sǎ          yó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滴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车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油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xinsrc_6b021429fc1040708a30f9583a6d0446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50920" y="40428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线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争论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趣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题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颜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欢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底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洒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车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 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油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草地 柳树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xinsrc_6b021429fc1040708a30f9583a6d0446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-108000" y="1125360"/>
            <a:ext cx="9468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，像春姑娘纺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iàn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线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轻轻地落到地上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沙沙沙，沙沙沙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39640" y="2421000"/>
            <a:ext cx="860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知道是谁在那边吵吵嚷嚷，争论不休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细读感悟"/>
          <p:cNvPicPr/>
          <p:nvPr/>
        </p:nvPicPr>
        <p:blipFill>
          <a:blip r:embed="rId1"/>
          <a:stretch/>
        </p:blipFill>
        <p:spPr>
          <a:xfrm>
            <a:off x="468360" y="1341360"/>
            <a:ext cx="2951280" cy="100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2699640" y="3213000"/>
            <a:ext cx="3198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说说它们在争论什么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616200" y="41497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它们各自有什么意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6:03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53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