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A26-F14B-4CAE-B681-E9CC1CAF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694-E4EC-4597-9711-2E6D1E36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C65-BB54-4BDB-935F-BD35B6B6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266-743F-4411-A4C5-620E1D95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2405-535C-42B1-B26F-51D48A3E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F10D-2C92-4DA1-83DD-5DF427A8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9422-00BA-4C2A-B198-7164E439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53AD-AD24-4B77-811F-3221E8C9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CDF6-B2E9-4A21-A2D4-FA61D666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8FE9-713B-459C-A276-5BC52FCD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2C75-A130-4952-9949-5F038EA1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A2A-AEF3-4DA2-BFC1-756F4668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DCA5-2154-475C-8CCF-86F48EF2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26A1-7460-477B-B6A8-27BA67E4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7598-ABAE-4424-9B39-1BF31AEA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CF2C-0784-4ACD-8499-A2EBAB9B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BC7D-0832-43EE-B3C4-D2199CFA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C9195-F9B3-4998-8662-EE79F87B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73D4B-956D-4A6E-B742-2D43A047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F3367-168D-4EA2-90B1-33CD9C2F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1B35-487F-429F-AFCE-BCCD1487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C71F2-416C-4E59-ADF7-E07110A8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862-7A08-4635-9B36-90949A0B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ED2B7-19A9-4F92-8F90-70B7ED2E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B77FE-09CB-4DA7-A093-134AAC84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BBD31-20B4-4D31-81F7-89442B5A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8AB18-F666-4634-8F85-0DB80339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7C61A-BEE5-4E4C-AC6F-42CA0FB8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EDE53-4E20-4D75-959A-9FDCA68D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A8CAE-5FFF-42BD-9ABE-2933B284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CC9-9182-4E3C-9019-ECCE0294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F1C-078F-4CE0-8085-649292A3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5AB-B130-493E-AAA4-8F7EF268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3D1-C5EA-456F-AA38-455E1A31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727D-B5E3-404C-A4FF-CAA70995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3FD-6A27-4687-9AED-D16E722E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4525-0BCF-45CC-A6D0-C75C42AE7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BC1F-8A1A-4CD1-9DC7-C7945DE1037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B15C-F65B-4D86-B69B-889323CAD9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B070-0905-4D3A-8CD7-B6FEB069F1F1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"/>
          <p:cNvPicPr/>
          <p:nvPr/>
        </p:nvPicPr>
        <p:blipFill>
          <a:blip r:embed="rId1"/>
          <a:srcRect l="0" t="0" r="15616" b="49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889000" y="400500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b81"/>
                </a:solidFill>
                <a:latin typeface="Arial"/>
                <a:ea typeface="新宋体"/>
              </a:rPr>
              <a:t>（白居易）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847520" y="1127160"/>
            <a:ext cx="5925960" cy="15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9ac"/>
                </a:solidFill>
                <a:latin typeface="华文隶书"/>
                <a:ea typeface="华文隶书"/>
              </a:rPr>
              <a:t>草语文</a:t>
            </a:r>
            <a:r>
              <a:rPr b="0" lang="en-US" sz="4000" spc="-1" strike="noStrike">
                <a:solidFill>
                  <a:srgbClr val="0039ac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0039ac"/>
                </a:solidFill>
                <a:latin typeface="华文隶书"/>
                <a:ea typeface="华文隶书"/>
              </a:rPr>
              <a:t>课件模板下载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80808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j0144348[1]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80808"/>
                </a:solidFill>
                <a:latin typeface="Arial"/>
              </a:rPr>
              <a:t>草</a:t>
            </a:r>
            <a:endParaRPr b="0" lang="en-US" sz="6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</a:t>
            </a:r>
            <a:r>
              <a:rPr b="1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离离原上草，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</a:t>
            </a: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一岁一枯荣。  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</a:t>
            </a: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野火烧不尽，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</a:t>
            </a: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春风吹又生。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752480" y="22860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cc00"/>
                </a:solidFill>
                <a:latin typeface="Times New Roman"/>
                <a:ea typeface="隶书"/>
              </a:rPr>
              <a:t>近反义词：</a:t>
            </a:r>
            <a:endParaRPr b="0" lang="en-US" sz="7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0" y="152388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Times New Roman"/>
                <a:ea typeface="经典楷体简"/>
              </a:rPr>
              <a:t>近义词：尽</a:t>
            </a:r>
            <a:r>
              <a:rPr b="1" lang="en-US" sz="5400" spc="-1" strike="noStrike">
                <a:solidFill>
                  <a:srgbClr val="cc00ff"/>
                </a:solidFill>
                <a:latin typeface="Times New Roman"/>
                <a:ea typeface="经典楷体简"/>
              </a:rPr>
              <a:t>---        </a:t>
            </a:r>
            <a:r>
              <a:rPr b="1" lang="zh-CN" sz="5400" spc="-1" strike="noStrike">
                <a:solidFill>
                  <a:srgbClr val="cc00ff"/>
                </a:solidFill>
                <a:latin typeface="Times New Roman"/>
                <a:ea typeface="经典楷体简"/>
              </a:rPr>
              <a:t>岁</a:t>
            </a:r>
            <a:r>
              <a:rPr b="1" lang="en-US" sz="5400" spc="-1" strike="noStrike">
                <a:solidFill>
                  <a:srgbClr val="cc00ff"/>
                </a:solidFill>
                <a:latin typeface="Times New Roman"/>
                <a:ea typeface="经典楷体简"/>
              </a:rPr>
              <a:t>---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0" y="32004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反义词：生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----     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离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----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114800" y="152388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Times New Roman"/>
                <a:ea typeface="方正楷体简体"/>
              </a:rPr>
              <a:t>完           年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343400" y="320040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死            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5BFC-A52A-4CD5-8331-8A83C1BBC2D3}" type="slidenum"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036800" y="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  <a:ea typeface="文鼎圆立体"/>
              </a:rPr>
              <a:t>课文中心：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9640" y="145404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imes New Roman"/>
                <a:ea typeface="经典宋体简"/>
              </a:rPr>
              <a:t>         </a:t>
            </a:r>
            <a:r>
              <a:rPr b="1" lang="zh-CN" sz="60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这首古诗赞颂了野草顽强的生命力。“野火烧不尽，春风吹又生”已成名句，常比喻百折不挠的顽强精神。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j0144348[1]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80808"/>
                </a:solidFill>
                <a:latin typeface="Arial"/>
              </a:rPr>
              <a:t>草</a:t>
            </a:r>
            <a:endParaRPr b="0" lang="en-US" sz="72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8541000" cy="21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  <a:ea typeface="华文楷体"/>
              </a:rPr>
              <a:t>              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离离原上草，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185040" indent="-185040"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  </a:t>
            </a: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一岁一枯荣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185040" indent="-185040"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  </a:t>
            </a: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野火烧不尽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185040" indent="-185040"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  </a:t>
            </a: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春风吹又生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276720" y="1484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唐 白居易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3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78920" y="1844640"/>
            <a:ext cx="8541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草原  岁月  吹风   离开  枯叶   光荣   野果  烧火  不尽  </a:t>
            </a:r>
            <a:endParaRPr b="0" lang="en-US" sz="7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WordArt 1031"/>
          <p:cNvSpPr txBox="1"/>
          <p:nvPr/>
        </p:nvSpPr>
        <p:spPr>
          <a:xfrm>
            <a:off x="5724360" y="115920"/>
            <a:ext cx="2592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生字</a:t>
            </a:r>
            <a:endParaRPr b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j0144348[1]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80808"/>
                </a:solidFill>
                <a:latin typeface="Arial"/>
              </a:rPr>
              <a:t>草</a:t>
            </a:r>
            <a:endParaRPr b="0" lang="en-US" sz="72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  <a:ea typeface="华文楷体"/>
              </a:rPr>
              <a:t>              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离离原上草，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185040" indent="-185040"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  </a:t>
            </a: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一岁一枯荣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185040" indent="-185040"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  </a:t>
            </a: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野火烧不尽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185040" indent="-185040"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  </a:t>
            </a: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春风吹又生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文本框 8200"/>
          <p:cNvSpPr/>
          <p:nvPr/>
        </p:nvSpPr>
        <p:spPr>
          <a:xfrm>
            <a:off x="1835280" y="5734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28600" y="1057320"/>
            <a:ext cx="8610480" cy="58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离离：形容野草茂盛的样子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原：原野，即广阔 的野外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岁：年的意思。一岁：一年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枯：枯萎，枯黄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荣：繁荣、茂盛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野火：荒山野地燃烧起来的火 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尽：完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生：生长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0880" y="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词语解释：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j014434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80808"/>
                </a:solidFill>
                <a:latin typeface="黑体"/>
                <a:ea typeface="黑体"/>
              </a:rPr>
              <a:t>草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  <a:ea typeface="黑体"/>
              </a:rPr>
              <a:t>离离原上草，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  <a:ea typeface="黑体"/>
              </a:rPr>
              <a:t>一岁一枯荣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  <a:ea typeface="黑体"/>
              </a:rPr>
              <a:t>野火烧不尽，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  <a:ea typeface="黑体"/>
              </a:rPr>
              <a:t>春风吹又生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原野上长满了茂密的野草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这些草都是秋冬枯萎了，春夏又茂密的生长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野火只能烧掉草的茎叶，它的根还在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来年春天，草儿又重新发芽生长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3520" y="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ff"/>
                </a:solidFill>
                <a:latin typeface="Times New Roman"/>
                <a:ea typeface="隶书"/>
              </a:rPr>
              <a:t>课文大意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0" y="1219320"/>
            <a:ext cx="841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Times New Roman"/>
                <a:ea typeface="经典楷体简"/>
              </a:rPr>
              <a:t>第一句（</a:t>
            </a:r>
            <a:r>
              <a:rPr b="1" lang="en-US" sz="5400" spc="-1" strike="noStrike">
                <a:solidFill>
                  <a:srgbClr val="ffff99"/>
                </a:solidFill>
                <a:latin typeface="Times New Roman"/>
                <a:ea typeface="经典楷体简"/>
              </a:rPr>
              <a:t>1—2</a:t>
            </a:r>
            <a:r>
              <a:rPr b="1" lang="zh-CN" sz="5400" spc="-1" strike="noStrike">
                <a:solidFill>
                  <a:srgbClr val="ffff99"/>
                </a:solidFill>
                <a:latin typeface="Times New Roman"/>
                <a:ea typeface="经典楷体简"/>
              </a:rPr>
              <a:t>行）讲野草生长的特点：春夏茂盛，秋冬枯萎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4114800"/>
            <a:ext cx="8686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Times New Roman"/>
                <a:ea typeface="经典楷体简"/>
              </a:rPr>
              <a:t>第二句（</a:t>
            </a:r>
            <a:r>
              <a:rPr b="1" lang="en-US" sz="5400" spc="-1" strike="noStrike">
                <a:solidFill>
                  <a:srgbClr val="0066ff"/>
                </a:solidFill>
                <a:latin typeface="Times New Roman"/>
                <a:ea typeface="经典楷体简"/>
              </a:rPr>
              <a:t>3-4</a:t>
            </a:r>
            <a:r>
              <a:rPr b="1" lang="zh-CN" sz="5400" spc="-1" strike="noStrike">
                <a:solidFill>
                  <a:srgbClr val="0066ff"/>
                </a:solidFill>
                <a:latin typeface="Times New Roman"/>
                <a:ea typeface="经典楷体简"/>
              </a:rPr>
              <a:t>行）是赞扬野草的生命力很强：野火烧 不尽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j0144348[1]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80808"/>
                </a:solidFill>
                <a:latin typeface="Arial"/>
              </a:rPr>
              <a:t>草</a:t>
            </a:r>
            <a:endParaRPr b="0" lang="en-US" sz="6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</a:t>
            </a:r>
            <a:r>
              <a:rPr b="1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离离原上草，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</a:t>
            </a: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一岁一枯荣。  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</a:t>
            </a: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野火烧不尽，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</a:t>
            </a: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春风吹又生。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1" descr="j0144348[1]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2"/>
          <p:cNvGrpSpPr/>
          <p:nvPr/>
        </p:nvGrpSpPr>
        <p:grpSpPr>
          <a:xfrm>
            <a:off x="762120" y="380880"/>
            <a:ext cx="6248160" cy="5630760"/>
            <a:chOff x="762120" y="380880"/>
            <a:chExt cx="6248160" cy="5630760"/>
          </a:xfrm>
        </p:grpSpPr>
        <p:sp>
          <p:nvSpPr>
            <p:cNvPr id="152" name="Text Box 3"/>
            <p:cNvSpPr/>
            <p:nvPr/>
          </p:nvSpPr>
          <p:spPr>
            <a:xfrm>
              <a:off x="2362320" y="1600200"/>
              <a:ext cx="4647960" cy="44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80808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4000" spc="-1" strike="noStrike">
                  <a:solidFill>
                    <a:srgbClr val="993300"/>
                  </a:solidFill>
                  <a:latin typeface="楷体_GB2312"/>
                  <a:ea typeface="楷体_GB2312"/>
                </a:rPr>
                <a:t>草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3300"/>
                  </a:solidFill>
                  <a:latin typeface="楷体_GB2312"/>
                  <a:ea typeface="楷体_GB2312"/>
                </a:rPr>
                <a:t>离离（      ），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3300"/>
                  </a:solidFill>
                  <a:latin typeface="楷体_GB2312"/>
                  <a:ea typeface="楷体_GB2312"/>
                </a:rPr>
                <a:t>（    ）一枯荣。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3300"/>
                  </a:solidFill>
                  <a:latin typeface="楷体_GB2312"/>
                  <a:ea typeface="楷体_GB2312"/>
                </a:rPr>
                <a:t>野火烧不尽，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3300"/>
                  </a:solidFill>
                  <a:latin typeface="楷体_GB2312"/>
                  <a:ea typeface="楷体_GB2312"/>
                </a:rPr>
                <a:t>（          ）。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" name="Text Box 4"/>
            <p:cNvSpPr/>
            <p:nvPr/>
          </p:nvSpPr>
          <p:spPr>
            <a:xfrm>
              <a:off x="762120" y="380880"/>
              <a:ext cx="4647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3300"/>
                  </a:solidFill>
                  <a:latin typeface="Times New Roman"/>
                  <a:ea typeface="楷体_GB2312"/>
                </a:rPr>
                <a:t>填空，再读一读。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54" name="Picture 5" descr="BD21313_"/>
            <p:cNvPicPr/>
            <p:nvPr/>
          </p:nvPicPr>
          <p:blipFill>
            <a:blip r:embed="rId2"/>
            <a:stretch/>
          </p:blipFill>
          <p:spPr>
            <a:xfrm>
              <a:off x="914400" y="1066680"/>
              <a:ext cx="5622840" cy="2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 Box 6"/>
          <p:cNvSpPr/>
          <p:nvPr/>
        </p:nvSpPr>
        <p:spPr>
          <a:xfrm>
            <a:off x="3886200" y="25146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原上草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819520" y="34290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一岁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895480" y="5257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春风吹又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8001000" y="59436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6T09:29:4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20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