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11.gif" ContentType="image/gif"/>
  <Override PartName="/ppt/media/image14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CD3-5527-4A09-8470-CA2500FF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D2A-2635-404E-A92B-D378E71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D7D-9D9A-4569-8B3D-0BC33B28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763-5C8B-4FAA-8935-B8960663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19AD-FF09-43B0-A38F-B51719DF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2DB-5FD4-449C-BA8D-DAD18ED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9CD-7438-4C05-BBC5-064D608C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3E7-40B5-4E04-AFC4-EAF9CDC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797-F330-42F6-8671-694BDA0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2796-E270-4BA0-BA2E-ED16D48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9D42-FA43-41F8-9163-B4911A5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D0E-9C8D-4C2E-A4CB-6142F827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D4AB-6E13-44C0-98AF-EF70F70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3AD-248F-4162-A4DF-D99144A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21E-0E32-4F14-9D56-9A7B2CE4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E47B-A333-4B80-8098-44D81EB6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4123-471F-45D9-BDED-1C5F55FD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46F-E4BA-44FA-91BB-C85B3B6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6C3-BA0A-4A8E-A053-49C53808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F19-D9FF-4E80-8D81-8397964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527-224B-4BC0-BA62-CC00B7E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C89-0E06-44B6-A566-BABB698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2BE-EB49-4E71-8CAB-80719C5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34D-DAEB-4CCF-8FAD-80DF810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6FE-F78E-4B92-8DFD-489D0CFA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F5AB-060C-46A5-9DEB-A539F2A90FF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4D2C-7705-40A7-8FBE-6177658E2F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724183331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547640" y="1054080"/>
            <a:ext cx="619308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独坐敬亭山语文课件免费下载</a:t>
            </a:r>
            <a:endParaRPr b="1" lang="en-US" sz="80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4" name="Rectangle 5" descr=""/>
          <p:cNvPicPr/>
          <p:nvPr/>
        </p:nvPicPr>
        <p:blipFill>
          <a:blip r:embed="rId2"/>
          <a:stretch/>
        </p:blipFill>
        <p:spPr>
          <a:xfrm>
            <a:off x="1835280" y="3787920"/>
            <a:ext cx="5194080" cy="16128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hi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刘禹锡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7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4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刘锡禹"/>
          <p:cNvPicPr/>
          <p:nvPr/>
        </p:nvPicPr>
        <p:blipFill>
          <a:blip r:embed="rId1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4"/>
          <p:cNvSpPr txBox="1"/>
          <p:nvPr/>
        </p:nvSpPr>
        <p:spPr>
          <a:xfrm>
            <a:off x="243828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=864263884,3953997451&amp;gp=0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56996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庭湖在湖南省北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南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中国第二大淡水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称“云梦泽” 。跨湘鄂两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北连长江、南接湘、资、沅、酆四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“八百里洞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水面被分割为东洞庭湖、南洞庭湖、西洞庭湖三部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洞庭湖的风光极为秀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景点都是国家级的风景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阳楼、君山、杜甫墓、杨么寨、铁经幢、屈子祠、跃龙塔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积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公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743200" y="1066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洞庭湖概况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200410919629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1258920" y="853200"/>
            <a:ext cx="66978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望洞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（唐）刘禹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潭面无风镜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遥望洞庭山水翠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白银盘里一青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684360" y="5493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51211102857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057320" y="2420640"/>
            <a:ext cx="76183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和谐，这里指水色和月色融为一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潭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指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青螺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这里用来形容洞庭湖中的君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37920" y="23619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洞庭湖的水光与秋月和谐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2666880" y="114300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理解诗意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23162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首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219320" y="3306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颔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19320" y="4221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颈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4515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尾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438280" y="32767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水面波平浪静就好象铜镜未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438280" y="41752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远远望去洞庭湖山水一片碧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507120" y="5151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恰似白银盘子托着轻轻的田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2"/>
          <p:cNvSpPr txBox="1"/>
          <p:nvPr/>
        </p:nvSpPr>
        <p:spPr>
          <a:xfrm>
            <a:off x="1619280" y="2602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理解诗意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湖光秋月互相辉映，显得多么和谐，平静潭水无风，如一面没经过打磨的迷蒙的铜镜，那月下洞庭湖里苍翠的君山，从远处看，就好像在白银盘里盛放着的一枚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191512202654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24000" y="26028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古诗中有三个比喻句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你能找到吗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没有一丝风吹过</a:t>
            </a: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,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静静的湖面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像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                  镜子          </a:t>
            </a: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   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潭面             像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白色银盘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   </a:t>
            </a:r>
            <a:r>
              <a:rPr b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君山                   像湖中的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一颗青螺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272880"/>
            <a:ext cx="835164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FR5029"/>
          <p:cNvPicPr/>
          <p:nvPr/>
        </p:nvPicPr>
        <p:blipFill>
          <a:blip r:embed="rId1"/>
          <a:stretch/>
        </p:blipFill>
        <p:spPr>
          <a:xfrm>
            <a:off x="-468360" y="155520"/>
            <a:ext cx="9793440" cy="670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35280" y="1055520"/>
            <a:ext cx="5111640" cy="496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忆江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唐）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江南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风景旧曾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日出江花红胜火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春来江水绿如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能不忆江南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51211102857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11280" y="242064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谙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熟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蓝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一种植物，叶蓝绿色，可提取青蓝色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51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107316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FR2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403280" y="1341360"/>
            <a:ext cx="70581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洞庭   敬亭山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潭面   青螺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深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468360" y="101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古诗大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105264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江南是多么美好啊，那往日的风景是多么熟悉。每当太阳从东方升起，遍地开放的鲜花更加艳丽，春光水碧，碧波粼粼。怎能叫人不回忆江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line24"/>
          <p:cNvPicPr/>
          <p:nvPr/>
        </p:nvPicPr>
        <p:blipFill>
          <a:blip r:embed="rId2"/>
          <a:stretch/>
        </p:blipFill>
        <p:spPr>
          <a:xfrm>
            <a:off x="7696080" y="352440"/>
            <a:ext cx="8042400" cy="276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line24"/>
          <p:cNvPicPr/>
          <p:nvPr/>
        </p:nvPicPr>
        <p:blipFill>
          <a:blip r:embed="rId3"/>
          <a:stretch/>
        </p:blipFill>
        <p:spPr>
          <a:xfrm>
            <a:off x="8381880" y="493560"/>
            <a:ext cx="6137280" cy="21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line24"/>
          <p:cNvPicPr/>
          <p:nvPr/>
        </p:nvPicPr>
        <p:blipFill>
          <a:blip r:embed="rId4"/>
          <a:stretch/>
        </p:blipFill>
        <p:spPr>
          <a:xfrm flipH="1" rot="10800000">
            <a:off x="8229600" y="0"/>
            <a:ext cx="590868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9328-C08E-43DF-B372-D08B616953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ine24"/>
          <p:cNvPicPr/>
          <p:nvPr/>
        </p:nvPicPr>
        <p:blipFill>
          <a:blip r:embed="rId2"/>
          <a:stretch/>
        </p:blipFill>
        <p:spPr>
          <a:xfrm>
            <a:off x="7696080" y="352440"/>
            <a:ext cx="8042400" cy="276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line24"/>
          <p:cNvPicPr/>
          <p:nvPr/>
        </p:nvPicPr>
        <p:blipFill>
          <a:blip r:embed="rId3"/>
          <a:stretch/>
        </p:blipFill>
        <p:spPr>
          <a:xfrm>
            <a:off x="8381880" y="493560"/>
            <a:ext cx="6137280" cy="211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line24"/>
          <p:cNvPicPr/>
          <p:nvPr/>
        </p:nvPicPr>
        <p:blipFill>
          <a:blip r:embed="rId4"/>
          <a:stretch/>
        </p:blipFill>
        <p:spPr>
          <a:xfrm flipH="1" rot="10800000">
            <a:off x="8229600" y="0"/>
            <a:ext cx="5908680" cy="203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484360" y="33336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忆江南 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332000" y="134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方正舒体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方正舒体"/>
              </a:rPr>
              <a:t>江南忆，最忆是杭州。山       寺月中寻桂子，郡亭枕上看潮头。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340000" y="3500280"/>
            <a:ext cx="59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忆江南 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547640" y="4437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方正舒体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方正舒体"/>
              </a:rPr>
              <a:t>江南忆，其次是吴宫。吴酒一杯春竹叶，吴娃双舞醉芙蓉。早晚复相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8360" y="2349000"/>
            <a:ext cx="5184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李白（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701-762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），字太白，唐代伟大的浪漫主义诗人。他写了大量歌颂祖国河山、揭露社会黑暗和蔑视权贵的诗歌。他的诗对后人有深远的影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611280" y="98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作者简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92" name="Picture 5" descr="李白"/>
          <p:cNvPicPr/>
          <p:nvPr/>
        </p:nvPicPr>
        <p:blipFill>
          <a:blip r:embed="rId2"/>
          <a:stretch/>
        </p:blipFill>
        <p:spPr>
          <a:xfrm>
            <a:off x="5651640" y="1773360"/>
            <a:ext cx="2781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yijiangnan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Bj_042"/>
          <p:cNvPicPr/>
          <p:nvPr/>
        </p:nvPicPr>
        <p:blipFill>
          <a:blip r:embed="rId2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 rot="5400000">
            <a:off x="-952560" y="2171520"/>
            <a:ext cx="449568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李白</a:t>
            </a:r>
            <a:endParaRPr b="1" lang="en-US" sz="6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55640" y="1341360"/>
            <a:ext cx="4968720" cy="4824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这首诗是李白离开长安后，经过了长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来到宣城时所写。在长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中，他饱尝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世态炎凉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滋味，心中充满了孤独寂寞的情感。　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FR2002"/>
          <p:cNvPicPr/>
          <p:nvPr/>
        </p:nvPicPr>
        <p:blipFill>
          <a:blip r:embed="rId1"/>
          <a:stretch/>
        </p:blipFill>
        <p:spPr>
          <a:xfrm>
            <a:off x="250920" y="130320"/>
            <a:ext cx="8569080" cy="6654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664080" y="1700640"/>
            <a:ext cx="2009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独坐敬亭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众鸟高飞尽，孤云独去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相看两不厌，只有敬亭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51211102857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42920" y="3284280"/>
            <a:ext cx="76183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闲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形容云彩飘来飘去悠闲自在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厌：</a:t>
            </a:r>
            <a:r>
              <a:rPr b="0" lang="zh-CN" sz="3200" spc="-1" strike="noStrike">
                <a:solidFill>
                  <a:srgbClr val="cc9900"/>
                </a:solidFill>
                <a:latin typeface="Arial"/>
                <a:ea typeface="楷体_GB2312"/>
              </a:rPr>
              <a:t>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684360" y="83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诗句释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02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古诗大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68360" y="914400"/>
            <a:ext cx="806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天上的几只鸟儿高飞远去，寂寥的长空有一片云，也慢慢越飘越远。我静静凝视着山，觉得山也在看着我，彼此总是看不够；此时此刻，我的心里似乎只有那座敬亭山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line24"/>
          <p:cNvPicPr/>
          <p:nvPr/>
        </p:nvPicPr>
        <p:blipFill>
          <a:blip r:embed="rId2"/>
          <a:stretch/>
        </p:blipFill>
        <p:spPr>
          <a:xfrm>
            <a:off x="7696080" y="352440"/>
            <a:ext cx="8042400" cy="27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ine24"/>
          <p:cNvPicPr/>
          <p:nvPr/>
        </p:nvPicPr>
        <p:blipFill>
          <a:blip r:embed="rId3"/>
          <a:stretch/>
        </p:blipFill>
        <p:spPr>
          <a:xfrm>
            <a:off x="8381880" y="493560"/>
            <a:ext cx="6137280" cy="21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line24"/>
          <p:cNvPicPr/>
          <p:nvPr/>
        </p:nvPicPr>
        <p:blipFill>
          <a:blip r:embed="rId4"/>
          <a:stretch/>
        </p:blipFill>
        <p:spPr>
          <a:xfrm flipH="1" rot="10800000">
            <a:off x="8229600" y="0"/>
            <a:ext cx="590868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656982898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268360" y="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Times New Roman"/>
                <a:ea typeface="黑体"/>
              </a:rPr>
              <a:t>看画面说诗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-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571680" y="-66600"/>
            <a:ext cx="8001000" cy="5622840"/>
            <a:chOff x="571680" y="-66600"/>
            <a:chExt cx="8001000" cy="5622840"/>
          </a:xfrm>
        </p:grpSpPr>
        <p:sp>
          <p:nvSpPr>
            <p:cNvPr id="113" name="Rectangle 4"/>
            <p:cNvSpPr/>
            <p:nvPr/>
          </p:nvSpPr>
          <p:spPr>
            <a:xfrm>
              <a:off x="571680" y="-66600"/>
              <a:ext cx="800100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571680" y="-66600"/>
              <a:ext cx="8001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6"/>
          <p:cNvSpPr/>
          <p:nvPr/>
        </p:nvSpPr>
        <p:spPr>
          <a:xfrm>
            <a:off x="4356000" y="189000"/>
            <a:ext cx="4608720" cy="6451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这首诗是李白离开长安后，经过了长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十年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，来到宣城时所写。在长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飘泊生活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中，他饱尝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态炎凉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的滋味，心中充满了孤独寂寞的情感。　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p021-0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1116000" y="429264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Times New Roman"/>
                <a:ea typeface="黑体"/>
              </a:rPr>
              <a:t>看画面说诗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0:5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5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