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4.gif" ContentType="image/gif"/>
  <Override PartName="/ppt/media/camera.wav" ContentType="audio/x-wav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0C7-6DD6-4D43-B305-6E9FDD71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4DB-665B-4271-813C-1E9271A2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08D-2DE8-4DF7-8CC9-06084570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493-983B-48EA-9C8F-6BD1E2E4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FAED-C543-4F20-B397-2CCA6ADB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06F7-6732-4A42-86F0-757BDA4F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AA77-9E21-4E23-B355-3F056699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D195-218C-4F17-96A9-335CB35D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4F35-2EBB-43B9-BCF3-D36B87B8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20C3-E860-4E13-AB06-226B6F39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D061-1DF4-492B-9AC3-477662D1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9991-4990-43F9-BFB7-E40B704F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105A-466E-409E-82D7-ECF62A15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1D82-6045-41E8-A4F2-F894973C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3B89-9602-456B-8DD2-F7F43B7E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3689-0FCA-4822-A9F8-1BE71746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1E8D-2446-4196-8C3B-6AC8B009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438-9565-44E9-9322-EB1E803F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34C-D885-47C0-9351-8231B78C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8720-240C-4E00-AC98-522DE720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94F-7274-47E9-A2F9-9CA13DC1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B69-6A22-45E7-8281-3DFD1659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8EF-EB2A-44F6-B8AE-E93A5EF0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8F93-DD51-4C4E-A87E-271FA68D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5D73-6BF7-4039-A921-B20B6225A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4912-AE55-416A-8D34-189183EB193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9BD5-8817-495B-A1DC-6E98231BC0A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001"/>
          <p:cNvPicPr/>
          <p:nvPr/>
        </p:nvPicPr>
        <p:blipFill>
          <a:blip r:embed="rId16"/>
          <a:stretch/>
        </p:blipFill>
        <p:spPr>
          <a:xfrm>
            <a:off x="0" y="0"/>
            <a:ext cx="11506320" cy="6904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03320" y="1558440"/>
            <a:ext cx="8678880" cy="21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地震中的</a:t>
            </a:r>
            <a:r>
              <a:rPr b="0" lang="zh-CN" sz="4000" spc="-1" strike="noStrike">
                <a:solidFill>
                  <a:srgbClr val="ffc000"/>
                </a:solidFill>
                <a:latin typeface="华文琥珀"/>
                <a:ea typeface="华文琥珀"/>
              </a:rPr>
              <a:t>父与子语文课件</a:t>
            </a:r>
            <a:r>
              <a:rPr b="0" lang="en-US" sz="4000" spc="-1" strike="noStrike">
                <a:solidFill>
                  <a:srgbClr val="ffc000"/>
                </a:solidFill>
                <a:latin typeface="华文琥珀"/>
                <a:ea typeface="华文琥珀"/>
              </a:rPr>
              <a:t>PPT</a:t>
            </a:r>
            <a:r>
              <a:rPr b="0" lang="zh-CN" sz="4000" spc="-1" strike="noStrike">
                <a:solidFill>
                  <a:srgbClr val="ffc000"/>
                </a:solidFill>
                <a:latin typeface="华文琥珀"/>
                <a:ea typeface="华文琥珀"/>
              </a:rPr>
              <a:t>模板下载</a:t>
            </a:r>
            <a:br>
              <a:rPr sz="9600"/>
            </a:b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       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80880" y="609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他顿时感到眼前一片漆黑，大喊：“阿曼达，我的儿子！”跪在地上大哭了一阵后，他猛地想起自己常对儿子说的一句话：“不论发生什么，我总会跟你在一起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-3240" y="476280"/>
            <a:ext cx="91440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他挖了八小时、十二小时、二十四小时、三十六小时，没人再来阻挡他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3733920"/>
            <a:ext cx="9144000" cy="178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他挖了三十六小时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没人再来阻挡他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8197"/>
          <p:cNvSpPr/>
          <p:nvPr/>
        </p:nvSpPr>
        <p:spPr>
          <a:xfrm>
            <a:off x="755640" y="2854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3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3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D0CF-3F39-4204-9B17-822CA5E0A1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111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685800" y="8380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选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2971800" y="304920"/>
            <a:ext cx="3429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爱的延伸</a:t>
            </a:r>
            <a:endParaRPr b="0" lang="en-US" sz="2400" spc="-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0948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有感情朗读课文，再一次体会地震中父子间的似海深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09480" y="31240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摘抄文中自己喜欢的语句，并诵读积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85800" y="41148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搜集表现爱的文章（把爱扩大到动物、植    物、世间的每个角落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62120" y="54864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帮父母做一件力所能及的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57200" y="1371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听音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爱的奉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dur="indefinite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dur="indefinite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" dur="indefinite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dur="indefinite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22:55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30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