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11.jpeg" ContentType="image/jpeg"/>
  <Override PartName="/ppt/media/image9.gif" ContentType="image/gif"/>
  <Override PartName="/ppt/media/type.wav" ContentType="audio/x-wav"/>
  <Override PartName="/ppt/media/image14.gif" ContentType="image/gif"/>
  <Override PartName="/ppt/media/image7.gif" ContentType="image/gif"/>
  <Override PartName="/ppt/media/image10.jpeg" ContentType="image/jpeg"/>
  <Override PartName="/ppt/media/image5.png" ContentType="image/png"/>
  <Override PartName="/ppt/media/Button18.wav" ContentType="audio/x-wav"/>
  <Override PartName="/ppt/media/image15.png" ContentType="image/png"/>
  <Override PartName="/ppt/media/REMINDER.WAV" ContentType="audio/x-wav"/>
  <Override PartName="/ppt/media/image6.gif" ContentType="image/gif"/>
  <Override PartName="/ppt/media/image13.jpeg" ContentType="image/jpeg"/>
  <Override PartName="/ppt/media/image16.jpeg" ContentType="image/jpeg"/>
  <Override PartName="/ppt/media/chimes.wav" ContentType="audio/x-wav"/>
  <Override PartName="/ppt/media/image12.jpeg" ContentType="image/jpeg"/>
  <Override PartName="/ppt/media/cashreg.wav" ContentType="audio/x-wav"/>
  <Override PartName="/ppt/media/image8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306-59DE-4584-92FD-63B59DE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DDE-3F92-4117-96AC-99D1821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F6CB5-2EFB-4072-ADF3-0E4991CF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56E1A-E08E-4FFE-9280-CA8B4296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5701C-5245-445C-A3B0-3B6DDB87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646C5-4428-4AE5-8C54-84269D8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F4D65-286A-4A59-B0C7-3C0AD06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256BA-105A-4B72-A9FB-3054A43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D8B5F-2D03-445B-858A-8F5E6BF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65B3A-1F54-42E1-BFA8-5D83FE9E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7207B-90F6-4CA1-BB32-3BE8C0F6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B6113-5BA8-46E6-9928-0564C927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DF4-5706-4CD7-9BF6-C5FB4A78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2AC6B-D7EB-4BD2-B7CB-29A32AB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C0627-3DF2-4951-85E5-A6FF806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BFF17-D786-49B6-8DE6-250C2F4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79837-70ED-4E3F-B035-EC32DD0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B6392-F320-4C67-9CB6-14027D01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AB32C-4C1B-4F9F-B5AB-60C3640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3464F-90EC-4FF6-86AF-460F02F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622C-AC32-4B82-AAF8-32C6DCB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8D8FD-30B5-41F8-A701-52E1BDC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68694-6F79-44AC-93C2-BC835520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87F-69BB-47DF-9079-D6BADBDA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6139-B415-47CA-AD84-34B939C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77B23-D06E-4D9F-887C-92EA5D7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2E9C-585F-41E6-BDD5-DC6BC47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1AFC1-8C10-4D61-AB00-2ECC1F1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C4E57-8FF6-4B3F-B902-10314D7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48B6A-5D49-4F9F-ACD6-9D0045EE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227EA-0F7A-475E-9EBB-825CABA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68D2-BBFB-4965-86E1-AF1D462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E31CA-5DC1-4322-8AD0-12B1D38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CD16D-DA1F-48ED-8338-D77C78D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F93E-D547-4875-A6B8-05F61BE4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B6070-6ED0-4D9E-8504-DF7BA4B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E694E-04AD-49DC-AAF7-52EB77B7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3BF61-9071-40D8-9670-93E39AB4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F00D2-01F8-46ED-AA29-D942C24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97C4C-024F-42A0-8A57-0C95496A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A2D0-6672-4C66-9283-523A6A23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767F0-0CA4-47E0-8C50-F4E04F7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FB320-8C11-4ED3-B1A4-9A2DB20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3693B-4F49-4E5F-9B34-A8DBBE5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E40C6-7747-4210-9334-06974B9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710-5BE8-4C9E-AA24-A068271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46B7B-2D6A-4450-8DBE-B7A78F1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6906F-C819-475B-981D-21A5510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79B57-D9DD-4DE6-81E7-5E627B5C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7EECC-C7E2-49A1-92F2-705823A9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40FD8-1AFE-46D9-84E9-330D6AC2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CF286-D5FD-4A7D-8ED5-CBBB5BD1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19ED0-3749-4432-AEF3-5B8332FA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0A518-3F40-412F-A81D-37BF1130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9B8B9-FCDB-42A5-851D-7F6B6291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F2EA4-35E1-4504-9FD7-35006AB2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5986-AB21-47E0-8116-26465383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A0280-140F-4ADF-A9F2-715AE7CD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F6B9F-772D-4F57-8F77-8D33888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DC86B-3578-4929-B69A-FDEB63E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29F38-634B-442B-A2E1-88F5706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E373F-0B31-437A-9429-65CB5381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E482-9F9B-4576-A7E3-85ACCB20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299A3-3701-4F5E-9A29-1B40F6D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2AC-4D43-4069-B94C-C36789A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0D28-AAF3-483F-9A2F-48B5F21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53E2-7F6E-4E82-9C31-F2F370A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FAD-6FEF-4812-936F-88C2B02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2F5-F58E-41BD-9EB2-A4FF269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611F-1DCB-4C1C-AC73-6321758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BAE-25EE-4D53-B60E-9099EE4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D561-2664-4ACB-8EDA-182C9CC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626-D40F-4817-B0B0-CA090164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31C7-895C-4CFE-9EFD-50EC773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A359-4D78-40C0-A1EA-263E7B3A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BF96-2D0C-4AB7-9DE9-437FF95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86D8-001E-425E-BBE7-A6A11DD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063F-9847-4B58-B3B9-5F740F05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38EB-72D1-42EB-9118-C6AE6C8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198-E3A2-48E8-A84F-89B1C393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82E3-FA8E-4D5C-B3DD-9BBE0171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491C-3945-4233-8971-0413445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931B-306A-419F-81D3-E41C16B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CE8D-E1FB-413D-BF06-06985C3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4219-7C20-45DB-B316-BF9639A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DDDB-45B8-429B-941C-EDD8CA82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21F8-3EDC-4677-8FF1-D7B4AD24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AE15-6116-46E5-8928-0F8A28DB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8A647-7106-46F3-9117-BF47D01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B262-F9C7-4A19-88BD-A8E43E9F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5A4-E78D-44D0-A92B-00009BD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EDDE-3284-448B-9640-1C79049D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18AF-E035-4478-B830-CC2C044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7F8C-47FB-47F4-A949-974C121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8C37-761A-42D8-B6B4-600AABD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0CE7-04A4-49A4-823D-77AA39E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CD96-92B7-4208-B911-3DC19F0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D762-BDD7-446A-9AEA-788ABE1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013F-B5A9-440E-899A-E40C87AD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1E1D-1E0B-4FF3-8689-99E79DBB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2C69-320F-43AD-8B08-1BAD981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051-FBFF-45DC-A77D-60ACA97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954B9-3C77-4EEF-BD5A-6BF1A7E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2665-7A47-4F4A-AE6B-1AD5DF18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1391-012B-46B1-B9B8-FD0D78D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BFF4-53DC-44BF-B18D-04D12CE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28F7-164A-4423-A4BE-01CDDDDC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27DE-4D2B-46A6-B83E-498A820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8B56C-5CBD-480C-8AC2-C56A2F0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6207-7905-45D3-B694-AD38198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14CB-50F5-42B0-A37D-7E95C13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8F23-E59F-4C01-8715-40041AAA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18A-2467-47DD-B611-A037247C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8528-5E38-4223-B344-27C50885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7B44-2055-49FA-8D8B-78408E63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8EC9-DB99-46F4-960E-18474948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A2FD-C970-406E-AD11-D62BFE24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EB0B-4752-4D35-B7A1-4934FBA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B43C-DAAA-4C4B-9D6C-AC15F87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FC7B-818A-4753-BBF5-049CC51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C46E-7989-49A0-A49E-6886266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4083-E3A4-4670-96F7-437A423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4E15-57E3-4FB3-AF6A-59F1395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BAB-339D-4778-A6DB-922ECB8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435C-F266-4981-80DB-E9828EB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802BE-91BE-42AB-8A94-D5918273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51984-48D0-4A6C-BD73-050173E7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1EFE-949C-4744-B921-433A8D16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1B23-0ECF-43C5-9C7D-67F62634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E487-A47E-40C1-8C5A-E2F7190D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2CAD-839B-463D-A454-500D17BF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B942-A754-4634-892A-E9C640C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9EB2-734C-4F71-96C9-F81EB79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F54F-D4E2-4707-ACDF-913943B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C65-3699-44AB-8FB1-CB2AF96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60EB-EC37-4D6F-AEEC-2AB5803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F48C-0D63-44FB-81E8-1FAE1F1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EC5A-200A-4111-BD8A-211BDF3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FEBD7-3670-4F05-BDC3-078A840F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8A7D-8455-4CD6-A066-959CAEC8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9591-119B-4DA8-A299-50810484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7FF0-EDEB-40BE-9AC6-EAD94513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08EC-6CAC-4AB9-B65B-401AAA9E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D1B11-68EC-4EB8-958C-1D6DA376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37F3-63E8-41ED-A8CF-305AE5B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EE2-C1AB-4DDF-ADBD-C47C91C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8A384-ED28-40A0-9CB3-9F6ABB9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C61A-707B-484B-A3D0-A10ED00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3FA52-751F-4A59-8785-F4D0B91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0D00-6011-4961-97C8-C3447CA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6C4F-F875-4D3C-BA2C-6C1194C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77802-8676-4DA1-B502-14BE2591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02A9-39C5-4904-93E5-D29667A9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940CF-C51B-45E7-A139-9E5E301A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510E8-C7BF-4148-931C-046A67AE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03CDA-FB99-4362-84A6-5852F68E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1160"/>
                <a:chOff x="0" y="304920"/>
                <a:chExt cx="9144000" cy="640116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4" name="Line 5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7" name="Line 6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10" name="Line 7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13" name="Line 8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16" name="Line 9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19" name="Line 10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2" name="Line 11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5" name="Line 12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8" name="Line 13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31" name="Line 14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34" name="Line 15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37" name="Line 16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40" name="Line 17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43" name="Line 18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46" name="Line 19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49" name="Line 20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52" name="Line 21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55" name="Line 22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58" name="Line 23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61" name="Line 24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64" name="Line 25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67" name="Line 26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9" name="Group 27"/>
              <p:cNvGrpSpPr/>
              <p:nvPr/>
            </p:nvGrpSpPr>
            <p:grpSpPr>
              <a:xfrm>
                <a:off x="304920" y="0"/>
                <a:ext cx="8534520" cy="6858000"/>
                <a:chOff x="304920" y="0"/>
                <a:chExt cx="8534520" cy="68580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71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74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77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80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83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86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89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92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95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98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101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104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107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110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113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116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119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122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125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128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131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134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137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140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143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146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149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152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155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5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39080" y="0"/>
              <a:ext cx="360" cy="2362320"/>
              <a:chOff x="8839080" y="0"/>
              <a:chExt cx="360" cy="2362320"/>
            </a:xfrm>
          </p:grpSpPr>
          <p:sp>
            <p:nvSpPr>
              <p:cNvPr id="159" name="Line 58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8839080" y="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14360" y="1513440"/>
                <a:ext cx="1784160" cy="360"/>
                <a:chOff x="414360" y="1513440"/>
                <a:chExt cx="1784160" cy="360"/>
              </a:xfrm>
            </p:grpSpPr>
            <p:sp>
              <p:nvSpPr>
                <p:cNvPr id="163" name="Line 60"/>
                <p:cNvSpPr/>
                <p:nvPr/>
              </p:nvSpPr>
              <p:spPr>
                <a:xfrm flipH="1">
                  <a:off x="414360" y="1513440"/>
                  <a:ext cx="178416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414360" y="1513440"/>
                  <a:ext cx="1784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8400" y="1419120"/>
                <a:ext cx="360" cy="2320920"/>
                <a:chOff x="608400" y="1419120"/>
                <a:chExt cx="360" cy="2320920"/>
              </a:xfrm>
            </p:grpSpPr>
            <p:sp>
              <p:nvSpPr>
                <p:cNvPr id="166" name="Line 61"/>
                <p:cNvSpPr/>
                <p:nvPr/>
              </p:nvSpPr>
              <p:spPr>
                <a:xfrm>
                  <a:off x="608400" y="1419120"/>
                  <a:ext cx="0" cy="23209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>
                  <a:off x="608400" y="1419120"/>
                  <a:ext cx="36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AEC-780E-40F4-8B92-61D671DB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CE91-F8FD-4A99-B13C-46248E01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102-1771-4410-97C8-4D857320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37C-BD60-4672-BC69-4133237E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C64-1BB9-4427-9B85-6EB8661D675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DA12-3A73-4A1F-948E-91BF624257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F2E-58C5-4AB1-8017-731E0DB674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53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54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256" name="Line 6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259" name="Line 7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262" name="Line 8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265" name="Line 9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268" name="Line 10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271" name="Line 11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74" name="Line 12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77" name="Line 13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80" name="Line 14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283" name="Line 15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286" name="Line 16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7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289" name="Line 17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292" name="Line 18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295" name="Line 19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298" name="Line 20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301" name="Line 21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304" name="Line 22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307" name="Line 23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310" name="Line 24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1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313" name="Line 25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4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316" name="Line 26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319" name="Line 27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322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325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328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331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334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5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337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340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343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346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7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349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352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3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355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6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358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361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364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5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367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370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373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376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379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0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382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3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385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6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388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9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391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394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5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397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8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400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403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4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406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7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8839080" y="0"/>
                <a:ext cx="360" cy="2362320"/>
                <a:chOff x="8839080" y="0"/>
                <a:chExt cx="360" cy="2362320"/>
              </a:xfrm>
            </p:grpSpPr>
            <p:sp>
              <p:nvSpPr>
                <p:cNvPr id="409" name="Line 57"/>
                <p:cNvSpPr/>
                <p:nvPr/>
              </p:nvSpPr>
              <p:spPr>
                <a:xfrm>
                  <a:off x="8839080" y="0"/>
                  <a:ext cx="0" cy="23623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8839080" y="0"/>
                  <a:ext cx="360" cy="23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1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03160" y="887400"/>
                <a:ext cx="360" cy="2851200"/>
                <a:chOff x="803160" y="887400"/>
                <a:chExt cx="360" cy="2851200"/>
              </a:xfrm>
            </p:grpSpPr>
            <p:sp>
              <p:nvSpPr>
                <p:cNvPr id="413" name="Line 59"/>
                <p:cNvSpPr/>
                <p:nvPr/>
              </p:nvSpPr>
              <p:spPr>
                <a:xfrm>
                  <a:off x="803160" y="887400"/>
                  <a:ext cx="0" cy="28512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4" name=""/>
                <p:cNvSpPr txBox="1"/>
                <p:nvPr/>
              </p:nvSpPr>
              <p:spPr>
                <a:xfrm>
                  <a:off x="803160" y="887400"/>
                  <a:ext cx="360" cy="28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680" y="3053880"/>
                <a:ext cx="5097600" cy="1800"/>
                <a:chOff x="4680" y="3053880"/>
                <a:chExt cx="5097600" cy="1800"/>
              </a:xfrm>
            </p:grpSpPr>
            <p:sp>
              <p:nvSpPr>
                <p:cNvPr id="416" name="Line 60"/>
                <p:cNvSpPr/>
                <p:nvPr/>
              </p:nvSpPr>
              <p:spPr>
                <a:xfrm flipH="1" flipV="1">
                  <a:off x="4680" y="3053880"/>
                  <a:ext cx="509760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"/>
                <p:cNvSpPr txBox="1"/>
                <p:nvPr/>
              </p:nvSpPr>
              <p:spPr>
                <a:xfrm rot="10800000">
                  <a:off x="4680" y="3053880"/>
                  <a:ext cx="5097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09480" y="1488600"/>
                <a:ext cx="6050160" cy="1800"/>
                <a:chOff x="609480" y="1488600"/>
                <a:chExt cx="6050160" cy="1800"/>
              </a:xfrm>
            </p:grpSpPr>
            <p:sp>
              <p:nvSpPr>
                <p:cNvPr id="419" name="Line 61"/>
                <p:cNvSpPr/>
                <p:nvPr/>
              </p:nvSpPr>
              <p:spPr>
                <a:xfrm flipH="1" flipV="1">
                  <a:off x="609480" y="1488600"/>
                  <a:ext cx="605016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"/>
                <p:cNvSpPr txBox="1"/>
                <p:nvPr/>
              </p:nvSpPr>
              <p:spPr>
                <a:xfrm rot="10800000">
                  <a:off x="609480" y="1488240"/>
                  <a:ext cx="605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Arc 62"/>
              <p:cNvSpPr/>
              <p:nvPr/>
            </p:nvSpPr>
            <p:spPr>
              <a:xfrm flipH="1" rot="16200000">
                <a:off x="671040" y="136260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22" name="Group 63"/>
            <p:cNvGrpSpPr/>
            <p:nvPr/>
          </p:nvGrpSpPr>
          <p:grpSpPr>
            <a:xfrm>
              <a:off x="2349000" y="3098880"/>
              <a:ext cx="6045840" cy="2876400"/>
              <a:chOff x="2349000" y="3098880"/>
              <a:chExt cx="6045840" cy="28764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349000" y="5463720"/>
                <a:ext cx="6045840" cy="360"/>
                <a:chOff x="2349000" y="5463720"/>
                <a:chExt cx="6045840" cy="360"/>
              </a:xfrm>
            </p:grpSpPr>
            <p:sp>
              <p:nvSpPr>
                <p:cNvPr id="424" name="Line 64"/>
                <p:cNvSpPr/>
                <p:nvPr/>
              </p:nvSpPr>
              <p:spPr>
                <a:xfrm>
                  <a:off x="2349360" y="5464080"/>
                  <a:ext cx="604548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 rot="10800000">
                  <a:off x="2349000" y="5463360"/>
                  <a:ext cx="604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8210520" y="3098880"/>
                <a:ext cx="360" cy="2876400"/>
                <a:chOff x="8210520" y="3098880"/>
                <a:chExt cx="360" cy="2876400"/>
              </a:xfrm>
            </p:grpSpPr>
            <p:sp>
              <p:nvSpPr>
                <p:cNvPr id="427" name="Line 65"/>
                <p:cNvSpPr/>
                <p:nvPr/>
              </p:nvSpPr>
              <p:spPr>
                <a:xfrm>
                  <a:off x="8210520" y="3098880"/>
                  <a:ext cx="0" cy="28764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8210520" y="3098880"/>
                  <a:ext cx="360" cy="28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9" name="Arc 66"/>
              <p:cNvSpPr/>
              <p:nvPr/>
            </p:nvSpPr>
            <p:spPr>
              <a:xfrm rot="5400000">
                <a:off x="8087400" y="53092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49A2-9B68-4D2D-AB75-BC39C2B23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0AF-2D31-4275-B575-0497A4991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D1C-5E6F-45E9-B00C-50D5BF6D4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79F-5711-4499-8BC5-F5722AA15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9D7-C43A-467A-8C39-34CBFB67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A083-3363-453F-8B4E-6205343F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606-B028-44AF-ACCF-1FEF648BC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Button18.wav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audio" Target="../media/REMINDER.WAV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矩形 8"/>
          <p:cNvSpPr/>
          <p:nvPr/>
        </p:nvSpPr>
        <p:spPr>
          <a:xfrm>
            <a:off x="2484360" y="521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2" name="图片 1" descr=""/>
          <p:cNvPicPr/>
          <p:nvPr/>
        </p:nvPicPr>
        <p:blipFill>
          <a:blip r:embed="rId1"/>
          <a:stretch/>
        </p:blipFill>
        <p:spPr>
          <a:xfrm>
            <a:off x="2205000" y="2924280"/>
            <a:ext cx="4403880" cy="2776320"/>
          </a:xfrm>
          <a:prstGeom prst="rect">
            <a:avLst/>
          </a:prstGeom>
          <a:ln w="0">
            <a:noFill/>
          </a:ln>
        </p:spPr>
      </p:pic>
      <p:pic>
        <p:nvPicPr>
          <p:cNvPr id="883" name="矩形 2" descr=""/>
          <p:cNvPicPr/>
          <p:nvPr/>
        </p:nvPicPr>
        <p:blipFill>
          <a:blip r:embed="rId2"/>
          <a:stretch/>
        </p:blipFill>
        <p:spPr>
          <a:xfrm>
            <a:off x="1467000" y="476280"/>
            <a:ext cx="5678280" cy="701640"/>
          </a:xfrm>
          <a:prstGeom prst="rect">
            <a:avLst/>
          </a:prstGeom>
          <a:ln w="0">
            <a:noFill/>
          </a:ln>
        </p:spPr>
      </p:pic>
      <p:sp>
        <p:nvSpPr>
          <p:cNvPr id="8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0458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60120" y="26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  <a:ea typeface="楷体_GB2312"/>
              </a:rPr>
              <a:t>桂花摇落以后，挑去小枝小叶，晒上几天太阳，收在铁盒子里，可以加在茶叶里泡茶，过年时还可以做羔饼</a:t>
            </a:r>
            <a:r>
              <a:rPr b="1" lang="zh-CN" sz="4800" spc="-1" strike="noStrike">
                <a:solidFill>
                  <a:srgbClr val="8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08" name="Picture 5" descr="4"/>
          <p:cNvPicPr/>
          <p:nvPr/>
        </p:nvPicPr>
        <p:blipFill>
          <a:blip r:embed="rId1"/>
          <a:stretch/>
        </p:blipFill>
        <p:spPr>
          <a:xfrm rot="1092000">
            <a:off x="-107640" y="-171360"/>
            <a:ext cx="1585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94920" y="260280"/>
            <a:ext cx="90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1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楷体_GB2312"/>
              </a:rPr>
              <a:t>可是母亲说：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楷体_GB2312"/>
              </a:rPr>
              <a:t>这里的桂花再香，也比不上家乡院子里的桂花。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于是，我又想起了在故乡童年时代的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摇花乐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还有那摇落的阵阵桂花雨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011-4B11-4D13-BF67-7038FC494972}" type="slidenum">
              <a:rPr b="0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3890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扩展思维练习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23640" y="980640"/>
            <a:ext cx="8351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学习文中的表达方法，说一说  你童年难与忘怀的人和事，或说一说你喜欢的植物或家乡的特产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684360" y="183528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自由读课文，依据自己的理解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谈感受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最感兴趣处，最动情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处，有疑点处，分别用自己喜欢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的方式做上记号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6" name="Picture 6" descr="17"/>
          <p:cNvPicPr/>
          <p:nvPr/>
        </p:nvPicPr>
        <p:blipFill>
          <a:blip r:embed="rId2"/>
          <a:stretch/>
        </p:blipFill>
        <p:spPr>
          <a:xfrm>
            <a:off x="684360" y="260280"/>
            <a:ext cx="820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02920" y="44280"/>
            <a:ext cx="28098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阅读提示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250560" y="98100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这是一篇回忆童年生活的文章，饱含着作者对童年往事的无比怀念。读读课文，说说课文主要写了一件什么事，想象课文描写的情景，体会作者表达的思想感情。再回忆一下自己的童年生活，有没有不能忘怀的人和事？如果有，说给大家听听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89" name="Picture 4" descr="HAT"/>
          <p:cNvPicPr/>
          <p:nvPr/>
        </p:nvPicPr>
        <p:blipFill>
          <a:blip r:embed="rId2"/>
          <a:stretch/>
        </p:blipFill>
        <p:spPr>
          <a:xfrm>
            <a:off x="179280" y="-47520"/>
            <a:ext cx="1089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" y="-316440"/>
            <a:ext cx="324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ahoma"/>
              </a:rPr>
              <a:t>阅读要求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250560" y="9079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说说课文主要讲了一件什么事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边读边想象课文描述的情景。边读边体会作者表达的思想感情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回忆自己的童年生活，如有不能忘怀的人和事，说给大家听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2" name="Picture 4" descr="045"/>
          <p:cNvPicPr/>
          <p:nvPr/>
        </p:nvPicPr>
        <p:blipFill>
          <a:blip r:embed="rId1"/>
          <a:stretch/>
        </p:blipFill>
        <p:spPr>
          <a:xfrm>
            <a:off x="3203640" y="115920"/>
            <a:ext cx="10778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324000" y="549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分别画出描述桂花树和桂花香气的语句，想一想每句话的意思，并与同小组的同学交流感受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4" name="Picture 13" descr="7(6)"/>
          <p:cNvPicPr/>
          <p:nvPr/>
        </p:nvPicPr>
        <p:blipFill>
          <a:blip r:embed="rId2"/>
          <a:stretch/>
        </p:blipFill>
        <p:spPr>
          <a:xfrm>
            <a:off x="1324080" y="4076640"/>
            <a:ext cx="1952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97080" y="115560"/>
            <a:ext cx="98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桂花树的样子笨笨的，不像梅树那样有姿态。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96" name="Picture 4" descr="s8"/>
          <p:cNvPicPr/>
          <p:nvPr/>
        </p:nvPicPr>
        <p:blipFill>
          <a:blip r:embed="rId1"/>
          <a:stretch/>
        </p:blipFill>
        <p:spPr>
          <a:xfrm>
            <a:off x="5105520" y="1628640"/>
            <a:ext cx="3504960" cy="41148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5" descr="s7"/>
          <p:cNvPicPr/>
          <p:nvPr/>
        </p:nvPicPr>
        <p:blipFill>
          <a:blip r:embed="rId2"/>
          <a:stretch/>
        </p:blipFill>
        <p:spPr>
          <a:xfrm>
            <a:off x="846000" y="1614600"/>
            <a:ext cx="358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609480" y="-27000"/>
            <a:ext cx="7994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不开花时，只是满树的叶子；开花时，仔细地在树丛里寻找，才能看到那些小花。可是桂花的香气，太迷人了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33560" indent="-13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9" name="Picture 5" descr="GUIHUA10"/>
          <p:cNvPicPr/>
          <p:nvPr/>
        </p:nvPicPr>
        <p:blipFill>
          <a:blip r:embed="rId1"/>
          <a:stretch/>
        </p:blipFill>
        <p:spPr>
          <a:xfrm>
            <a:off x="990720" y="1628640"/>
            <a:ext cx="7162560" cy="298296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6"/>
          <p:cNvSpPr/>
          <p:nvPr/>
        </p:nvSpPr>
        <p:spPr>
          <a:xfrm>
            <a:off x="755640" y="443700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桂花盛开的时候，不说香飘十里，至少前后十几家邻居，没有不浸在桂花香里的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Text Box 7"/>
          <p:cNvSpPr/>
          <p:nvPr/>
        </p:nvSpPr>
        <p:spPr>
          <a:xfrm>
            <a:off x="1403280" y="59500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全年，整个村子都浸在桂花的香气里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楷体_GB2312"/>
              </a:rPr>
              <a:t>画出描写摇桂花树和表达心情的句子，边读边想象课文描述的情景。边读边体会作者表达的思想感情。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4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0" y="50277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这下，我可乐了，帮大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抱着桂花树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使劲地摇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800000"/>
                </a:solidFill>
                <a:latin typeface="Tahoma"/>
                <a:ea typeface="楷体_GB2312"/>
              </a:rPr>
              <a:t>桂花纷纷落下来，我们满头满身都是桂花。我喊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啊！真像下雨，好香的雨啊！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06" name="Picture 7" descr="桂花雨a"/>
          <p:cNvPicPr/>
          <p:nvPr/>
        </p:nvPicPr>
        <p:blipFill>
          <a:blip r:embed="rId1"/>
          <a:stretch/>
        </p:blipFill>
        <p:spPr>
          <a:xfrm>
            <a:off x="2109960" y="0"/>
            <a:ext cx="489564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6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1Z</dcterms:modified>
  <cp:revision>1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