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6BF-5C07-402E-BF0E-A3D2880D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875-EA17-48FD-832E-A05001D1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6A2-D4AC-4B91-8437-0645BC14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720-E7C7-4E9C-8D8E-CD69B353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4011-0D7C-492D-9F43-6A837117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71C5-8BEE-4410-B633-957EA04C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E533-B123-4D1D-81FC-03397D9C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E6EE-DAFA-4F6B-A866-2F0AB68B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0C7E-A5F2-4C2D-B296-4BADD882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8245-9154-4FF0-9235-7BD1B7BF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A54B-F56B-4AA3-A956-1819FDA6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45A-0FEA-4A65-8163-E8E3FB7D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87E6-185B-4E58-81C6-2A6DF15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3427-EA79-4AAF-8E95-FFEB87D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9375-139F-42C3-B81E-6383A0B8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8B44-38B8-4A87-8F5A-7709A766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36E2-A2A9-42FD-83C0-B4212DDC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3D93E-99A7-4B9D-AE7E-58DEDEDD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9BAA-D848-42FD-ABBD-C6BD3F44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C3E2-A0DE-4A5E-A022-50302D7B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B5F5-7AAF-4FDB-BF87-3C5D3B7D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1C4E-5A51-4EA2-A236-4BA7BB9D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761-2D01-4DC3-A09B-B6097D1D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C1F5-0DBE-4635-A21C-0D37FE35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06FB-A118-4E64-9EC4-20D7A4D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67FB-29A1-4062-8659-8E338BF9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8225-A0AC-4CCC-AD57-8A624415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F126-789F-428E-97F3-4DDA89BC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7CE2-1B23-46A6-9AB6-9AD9DE15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6F64-F6BC-429F-9878-82D36F79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989-581B-48D0-AA6F-5598FAE3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274-66EB-4D19-8ACF-551642D5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B4F-E0CE-4C29-AABB-EEEF2EF7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150-4022-4356-8294-7F3CC2FC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5CA-6219-4A8E-95F5-EBFFE480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919-CC35-4204-AB22-CECCBAB5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7E9D-72A7-4A51-AF87-1B44A6848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C8B7-13E7-417A-940E-65E1005EE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703B-5E0E-4D31-AAD8-05747E165B7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C8DD-02E0-41BB-9545-978F54717D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57,9,&#24187;&#28783;&#29255; 9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4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7542360" y="404640"/>
            <a:ext cx="127764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题西林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80820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131112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2" descr="8630362006628170922843"/>
          <p:cNvPicPr/>
          <p:nvPr/>
        </p:nvPicPr>
        <p:blipFill>
          <a:blip r:embed="rId1"/>
          <a:stretch/>
        </p:blipFill>
        <p:spPr>
          <a:xfrm>
            <a:off x="0" y="507960"/>
            <a:ext cx="7402680" cy="532944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108000" y="2205000"/>
            <a:ext cx="71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古诗两首语文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380880" y="175248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假如你现在就面对着庐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用我站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一句话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仿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620120" y="579132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80880" y="533520"/>
            <a:ext cx="8534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歌思想感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第一、二句赞美庐山景色的雄奇壮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地三、四句寓理：要想对某事物有全面的、符合实际的认识，就必须站在各管的立场上，来观察分析事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7200" y="126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5"/>
          <p:cNvSpPr/>
          <p:nvPr/>
        </p:nvSpPr>
        <p:spPr>
          <a:xfrm>
            <a:off x="1476360" y="620640"/>
            <a:ext cx="304920" cy="5181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619280" y="1557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771640" y="1628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050920" y="39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9"/>
          <p:cNvSpPr/>
          <p:nvPr/>
        </p:nvSpPr>
        <p:spPr>
          <a:xfrm>
            <a:off x="6443640" y="335772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152280" y="2909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西林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5"/>
          <p:cNvSpPr/>
          <p:nvPr/>
        </p:nvSpPr>
        <p:spPr>
          <a:xfrm>
            <a:off x="2987640" y="1268280"/>
            <a:ext cx="287280" cy="1157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7"/>
          <p:cNvSpPr/>
          <p:nvPr/>
        </p:nvSpPr>
        <p:spPr>
          <a:xfrm>
            <a:off x="3203640" y="3573360"/>
            <a:ext cx="144360" cy="115740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9"/>
          <p:cNvSpPr/>
          <p:nvPr/>
        </p:nvSpPr>
        <p:spPr>
          <a:xfrm>
            <a:off x="6443640" y="1268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3733560" y="9079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横     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6836760" y="37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意深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9236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   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山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7"/>
          <p:cNvSpPr/>
          <p:nvPr/>
        </p:nvSpPr>
        <p:spPr>
          <a:xfrm>
            <a:off x="690840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幻莫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8"/>
          <p:cNvSpPr/>
          <p:nvPr/>
        </p:nvSpPr>
        <p:spPr>
          <a:xfrm>
            <a:off x="349236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侧     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9"/>
          <p:cNvSpPr/>
          <p:nvPr/>
        </p:nvSpPr>
        <p:spPr>
          <a:xfrm>
            <a:off x="3870000" y="352116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   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面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61"/>
          <p:cNvSpPr/>
          <p:nvPr/>
        </p:nvSpPr>
        <p:spPr>
          <a:xfrm rot="10800000">
            <a:off x="7884720" y="765000"/>
            <a:ext cx="576360" cy="518184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2"/>
          <p:cNvSpPr/>
          <p:nvPr/>
        </p:nvSpPr>
        <p:spPr>
          <a:xfrm>
            <a:off x="4066200" y="213372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远近高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4"/>
          <p:cNvSpPr/>
          <p:nvPr/>
        </p:nvSpPr>
        <p:spPr>
          <a:xfrm>
            <a:off x="3133800" y="39337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8392680" y="197064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美庐山奇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0183-3DF0-440C-842E-667F05C5BB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80880" y="53352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对偶的巧妙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       </a:t>
            </a: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对偶作为一种修辞方法，使用字相等、结构形式相同，意义对成的一对短语后句子来表达两个相对或相近意思的语言方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68360" y="126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9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认识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539640" y="19810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莫 腊 浑 疑 豚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9640" y="1773360"/>
            <a:ext cx="8353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735920" y="227664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莫 腊 浑 疑 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4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9280" y="1844640"/>
            <a:ext cx="8839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闲人莫入  腊梅  浑浊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怀疑  豚鼠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04920" y="1413000"/>
            <a:ext cx="8839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岭  侧面  缘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叠  重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理解字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1413000"/>
            <a:ext cx="883908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：高大山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峰：高而尖的山头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：认识，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缘：因为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22400" y="1690560"/>
            <a:ext cx="84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179280" y="1773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横看成岭侧成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横着看，庐山是一条山岭，连绵不断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侧着看却仿佛变成了一座山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8200"/>
          <p:cNvSpPr/>
          <p:nvPr/>
        </p:nvSpPr>
        <p:spPr>
          <a:xfrm>
            <a:off x="971640" y="1341360"/>
            <a:ext cx="445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8360" y="126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4000" y="1916280"/>
            <a:ext cx="864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远近高低各不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向远处、近处、高处、低处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看到的庐山景色都不相同。</a:t>
            </a:r>
            <a:br>
              <a:rPr sz="4000"/>
            </a:b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8360" y="126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57200" y="344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596360" y="5950080"/>
            <a:ext cx="91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  <a:hlinkClick r:id="rId1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19120" y="1628640"/>
            <a:ext cx="86248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不识庐山真面目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我”没有认清庐山的真面目全景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只缘身在此山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只因为我站在庐山中。</a:t>
            </a:r>
            <a:br>
              <a:rPr sz="4000"/>
            </a:b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3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20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