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DB60-D99A-49F3-875B-B7ED3E49B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F4C0-D425-4580-8E5A-3BE8E8B4E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F3DB-7288-4CBE-9885-19EC2AB1E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788A-1039-4AC5-9F30-F69083215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43AE4-5E85-4D47-8443-E97A6116A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42AF3-33A5-41D2-B411-C3A7E3DBC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8E295-07FB-4B6A-853D-3216B3B65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2BD14-0128-42CB-A1AC-451F30CB5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4E152-7945-4861-AAD0-B353BECCC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D23DA-3D4F-47B5-A4B4-7D9500046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641A9-0D4C-42CE-B670-14F38622E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BE98-B2C3-4B20-BFD0-BC7A9FB45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ECEB8-A96B-435A-8A0D-C71B881CE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0D9DE-6841-4FE0-93CF-C0681DB81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253E7-60DC-40B7-8516-39BD931CB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EDE56-8695-48DF-ADAC-649D3958F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3F37C-E048-4D04-BD57-9EE35420E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C035-99F5-435E-9644-E081B962F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EF9A-D398-4B25-A1D3-60162891B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A926-5533-48E8-B861-ADF0355B0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F757-4C14-470E-8D9A-D2FF29BE1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F147-77D3-4E99-A325-583318A64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1FA7-7828-433F-8EA1-27220B99D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F0F2-015F-462B-A711-67FBF9CA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2B5A7-FB50-4FD4-B696-A90423A68B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46DA6-D121-41E2-A258-EECC110E65E0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78BA2-37EC-4ADE-8FDF-49AE8DB56AA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hyperlink" Target="http://tele.lbx777.com/yw0002/x_hcdgs/xgzs01.htm" TargetMode="Externa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you.video.sina.com.cn/b/9094423-1323652160.html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1187280" y="3718080"/>
            <a:ext cx="729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火车的故事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课件模板下载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1d17bd2fbe1af51a349bf7d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内燃机车"/>
          <p:cNvPicPr/>
          <p:nvPr/>
        </p:nvPicPr>
        <p:blipFill>
          <a:blip r:embed="rId2"/>
          <a:stretch/>
        </p:blipFill>
        <p:spPr>
          <a:xfrm>
            <a:off x="0" y="0"/>
            <a:ext cx="9144000" cy="3733920"/>
          </a:xfrm>
          <a:prstGeom prst="rect">
            <a:avLst/>
          </a:prstGeom>
          <a:ln w="0">
            <a:noFill/>
          </a:ln>
        </p:spPr>
      </p:pic>
      <p:sp>
        <p:nvSpPr>
          <p:cNvPr id="117" name="WordArt 4"/>
          <p:cNvSpPr txBox="1"/>
          <p:nvPr/>
        </p:nvSpPr>
        <p:spPr>
          <a:xfrm>
            <a:off x="228600" y="3962520"/>
            <a:ext cx="186696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黑体"/>
              </a:rPr>
              <a:t>内燃机车</a:t>
            </a:r>
            <a:endParaRPr b="1" lang="en-US" sz="9600" spc="1" strike="noStrike">
              <a:ln w="12600">
                <a:solidFill>
                  <a:srgbClr val="000099"/>
                </a:solidFill>
                <a:round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2362320" y="4648320"/>
            <a:ext cx="6476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它烧汽油、柴油或煤气，不会产生多少烟。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1d17bd2fbe1af51a349bf7d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3"/>
          <p:cNvSpPr/>
          <p:nvPr/>
        </p:nvSpPr>
        <p:spPr>
          <a:xfrm>
            <a:off x="0" y="4572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     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小明查了好几本书。原来，一节一节的车厢是由机车带动的。最早的机车是蒸汽机车。后来，人们把内燃机装到火车上，制成了内燃机车。再后来，又发明了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电力火车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、磁悬浮火车。这样的火车速度快，污染小，真称得上是“绿色环保型”火车了。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1d17bd2fbe1af51a349bf7d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dba1b0A"/>
          <p:cNvPicPr/>
          <p:nvPr/>
        </p:nvPicPr>
        <p:blipFill>
          <a:blip r:embed="rId2"/>
          <a:stretch/>
        </p:blipFill>
        <p:spPr>
          <a:xfrm>
            <a:off x="0" y="0"/>
            <a:ext cx="9144000" cy="3641760"/>
          </a:xfrm>
          <a:prstGeom prst="rect">
            <a:avLst/>
          </a:prstGeom>
          <a:ln w="0">
            <a:noFill/>
          </a:ln>
        </p:spPr>
      </p:pic>
      <p:sp>
        <p:nvSpPr>
          <p:cNvPr id="123" name="WordArt 4"/>
          <p:cNvSpPr txBox="1"/>
          <p:nvPr/>
        </p:nvSpPr>
        <p:spPr>
          <a:xfrm>
            <a:off x="380880" y="3733920"/>
            <a:ext cx="224820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黑体"/>
              </a:rPr>
              <a:t>电力机车</a:t>
            </a:r>
            <a:endParaRPr b="1" lang="en-US" sz="9600" spc="1" strike="noStrike">
              <a:ln w="12600">
                <a:solidFill>
                  <a:srgbClr val="000099"/>
                </a:solidFill>
                <a:round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1828800" y="480060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电力机车的车顶上有两根电线。它行驶时，下面靠两根铁轨，上面靠两根电线提供能量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1d17bd2fbe1af51a349bf7d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3"/>
          <p:cNvSpPr/>
          <p:nvPr/>
        </p:nvSpPr>
        <p:spPr>
          <a:xfrm>
            <a:off x="0" y="4572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     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小明查了好几本书。原来，一节一节的车厢是由机车带动的。最早的机车是蒸汽机车。后来，人们把内燃机装到火车上，制成了内燃机车。再后来，又发明了电力火车、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磁悬浮火车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。这样的火车速度快，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污染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小，真称得上是“绿色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环保型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”火车了。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1d17bd2fbe1af51a349bf7d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xuanfu"/>
          <p:cNvPicPr/>
          <p:nvPr/>
        </p:nvPicPr>
        <p:blipFill>
          <a:blip r:embed="rId2"/>
          <a:stretch/>
        </p:blipFill>
        <p:spPr>
          <a:xfrm>
            <a:off x="0" y="0"/>
            <a:ext cx="4419720" cy="32972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兹悬浮火车"/>
          <p:cNvPicPr/>
          <p:nvPr/>
        </p:nvPicPr>
        <p:blipFill>
          <a:blip r:embed="rId3"/>
          <a:stretch/>
        </p:blipFill>
        <p:spPr>
          <a:xfrm>
            <a:off x="4495680" y="0"/>
            <a:ext cx="4648320" cy="335268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5"/>
          <p:cNvSpPr/>
          <p:nvPr/>
        </p:nvSpPr>
        <p:spPr>
          <a:xfrm>
            <a:off x="2362320" y="380988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当今世界上最先进的火车，速度快，接近普通飞机。这种火车只有中间一根铁轨，最特别的是它是浮在轨道上的。它在日本、德国常见，我国在研究制造中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WordArt 6"/>
          <p:cNvSpPr txBox="1"/>
          <p:nvPr/>
        </p:nvSpPr>
        <p:spPr>
          <a:xfrm>
            <a:off x="0" y="3733920"/>
            <a:ext cx="224784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黑体"/>
              </a:rPr>
              <a:t>磁悬浮机车</a:t>
            </a:r>
            <a:endParaRPr b="1" lang="en-US" sz="9600" spc="1" strike="noStrike">
              <a:ln w="12600">
                <a:solidFill>
                  <a:srgbClr val="000099"/>
                </a:solidFill>
                <a:round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3661920" y="6292800"/>
            <a:ext cx="534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ttp://tele.lbx777.com/yw0002/x_hcdgs/xgzs01.ht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1d17bd2fbe1af51a349bf7d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3"/>
          <p:cNvSpPr/>
          <p:nvPr/>
        </p:nvSpPr>
        <p:spPr>
          <a:xfrm>
            <a:off x="457200" y="0"/>
            <a:ext cx="8305920" cy="26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  <a:ea typeface="楷体_GB2312"/>
              </a:rPr>
              <a:t>     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爸爸告诉小明，我国的火车不断</a:t>
            </a:r>
            <a:r>
              <a:rPr b="1" lang="zh-CN" sz="4800" spc="-1" strike="noStrike">
                <a:solidFill>
                  <a:srgbClr val="9933ff"/>
                </a:solidFill>
                <a:latin typeface="Arial"/>
                <a:ea typeface="楷体_GB2312"/>
              </a:rPr>
              <a:t>提速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。现在从北京到上海，可以</a:t>
            </a:r>
            <a:r>
              <a:rPr b="1" lang="zh-CN" sz="10600" spc="-1" strike="noStrike">
                <a:solidFill>
                  <a:srgbClr val="ff0066"/>
                </a:solidFill>
                <a:latin typeface="Arial"/>
                <a:ea typeface="楷体_GB2312"/>
              </a:rPr>
              <a:t>夕发朝至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。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057040" y="3200400"/>
            <a:ext cx="1219680" cy="533520"/>
            <a:chOff x="2057040" y="3200400"/>
            <a:chExt cx="1219680" cy="533520"/>
          </a:xfrm>
        </p:grpSpPr>
        <p:sp>
          <p:nvSpPr>
            <p:cNvPr id="136" name="Line 4"/>
            <p:cNvSpPr/>
            <p:nvPr/>
          </p:nvSpPr>
          <p:spPr>
            <a:xfrm flipH="1">
              <a:off x="2057040" y="3200400"/>
              <a:ext cx="1219320" cy="5335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 txBox="1"/>
            <p:nvPr/>
          </p:nvSpPr>
          <p:spPr>
            <a:xfrm>
              <a:off x="2057400" y="3200400"/>
              <a:ext cx="121932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Text Box 5"/>
          <p:cNvSpPr/>
          <p:nvPr/>
        </p:nvSpPr>
        <p:spPr>
          <a:xfrm>
            <a:off x="838080" y="3809880"/>
            <a:ext cx="182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33ff"/>
                </a:solidFill>
                <a:latin typeface="Arial"/>
                <a:ea typeface="楷体_GB2312"/>
              </a:rPr>
              <a:t>晚上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4114440" y="3200400"/>
            <a:ext cx="609840" cy="762120"/>
            <a:chOff x="4114440" y="3200400"/>
            <a:chExt cx="609840" cy="762120"/>
          </a:xfrm>
        </p:grpSpPr>
        <p:sp>
          <p:nvSpPr>
            <p:cNvPr id="140" name="Line 6"/>
            <p:cNvSpPr/>
            <p:nvPr/>
          </p:nvSpPr>
          <p:spPr>
            <a:xfrm flipH="1">
              <a:off x="4114440" y="3200400"/>
              <a:ext cx="609480" cy="7621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 txBox="1"/>
            <p:nvPr/>
          </p:nvSpPr>
          <p:spPr>
            <a:xfrm>
              <a:off x="4114800" y="3200400"/>
              <a:ext cx="609480" cy="76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Text Box 7"/>
          <p:cNvSpPr/>
          <p:nvPr/>
        </p:nvSpPr>
        <p:spPr>
          <a:xfrm>
            <a:off x="3048120" y="3886200"/>
            <a:ext cx="182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99ff"/>
                </a:solidFill>
                <a:latin typeface="Arial"/>
                <a:ea typeface="楷体_GB2312"/>
              </a:rPr>
              <a:t>出发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6171840" y="3200400"/>
            <a:ext cx="152640" cy="838080"/>
            <a:chOff x="6171840" y="3200400"/>
            <a:chExt cx="152640" cy="838080"/>
          </a:xfrm>
        </p:grpSpPr>
        <p:sp>
          <p:nvSpPr>
            <p:cNvPr id="144" name="Line 8"/>
            <p:cNvSpPr/>
            <p:nvPr/>
          </p:nvSpPr>
          <p:spPr>
            <a:xfrm flipH="1">
              <a:off x="6171840" y="3200400"/>
              <a:ext cx="152280" cy="8380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 txBox="1"/>
            <p:nvPr/>
          </p:nvSpPr>
          <p:spPr>
            <a:xfrm>
              <a:off x="6172200" y="3200400"/>
              <a:ext cx="152280" cy="838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Text Box 9"/>
          <p:cNvSpPr/>
          <p:nvPr/>
        </p:nvSpPr>
        <p:spPr>
          <a:xfrm>
            <a:off x="5257800" y="3886200"/>
            <a:ext cx="182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Arial"/>
                <a:ea typeface="楷体_GB2312"/>
              </a:rPr>
              <a:t>早上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7696080" y="3200400"/>
            <a:ext cx="304920" cy="762120"/>
            <a:chOff x="7696080" y="3200400"/>
            <a:chExt cx="304920" cy="762120"/>
          </a:xfrm>
        </p:grpSpPr>
        <p:sp>
          <p:nvSpPr>
            <p:cNvPr id="148" name="Line 10"/>
            <p:cNvSpPr/>
            <p:nvPr/>
          </p:nvSpPr>
          <p:spPr>
            <a:xfrm>
              <a:off x="7696080" y="3200400"/>
              <a:ext cx="304920" cy="7621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 txBox="1"/>
            <p:nvPr/>
          </p:nvSpPr>
          <p:spPr>
            <a:xfrm>
              <a:off x="7696080" y="3200400"/>
              <a:ext cx="304920" cy="76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Text Box 11"/>
          <p:cNvSpPr/>
          <p:nvPr/>
        </p:nvSpPr>
        <p:spPr>
          <a:xfrm>
            <a:off x="7620120" y="3886200"/>
            <a:ext cx="1523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  <a:ea typeface="楷体_GB2312"/>
              </a:rPr>
              <a:t>到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304920" y="5562720"/>
            <a:ext cx="8305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楷体_GB2312"/>
              </a:rPr>
              <a:t>夕发朝至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：晚上出发早上到。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各种火车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762120" y="1143000"/>
            <a:ext cx="464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你能读好这句话吗？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838080" y="289548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听爸爸说，世界上海拔最高的铁路－青藏铁路已经在２００６年通车了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1143000" y="1600200"/>
            <a:ext cx="655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听爸爸讲，我国正在修建世界上海拔最高的铁路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青藏铁路。等铁路修成了，火车就可以开到“世界屋脊”上了。这真是一个了不起的创举！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1684440" y="4648320"/>
            <a:ext cx="144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创举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3200400" y="220968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海拔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6008760" y="341316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世界屋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1116000" y="400536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脊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文本框 1"/>
          <p:cNvSpPr/>
          <p:nvPr/>
        </p:nvSpPr>
        <p:spPr>
          <a:xfrm>
            <a:off x="691200" y="5805360"/>
            <a:ext cx="41356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ppt</a:t>
            </a:r>
            <a:r>
              <a:rPr b="1" lang="zh-CN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模版免费下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20090423175753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3"/>
          <p:cNvSpPr/>
          <p:nvPr/>
        </p:nvSpPr>
        <p:spPr>
          <a:xfrm>
            <a:off x="1905120" y="685800"/>
            <a:ext cx="312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l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è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1600200" y="2209680"/>
            <a:ext cx="29718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800" spc="-1" strike="noStrike">
                <a:solidFill>
                  <a:srgbClr val="0000ff"/>
                </a:solidFill>
                <a:latin typeface="Arial"/>
                <a:ea typeface="楷体_GB2312"/>
              </a:rPr>
              <a:t>列</a:t>
            </a:r>
            <a:endParaRPr b="1" lang="en-US" sz="20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4038480" y="3429000"/>
            <a:ext cx="5105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6600"/>
                </a:solidFill>
                <a:latin typeface="Arial"/>
                <a:ea typeface="楷体_GB2312"/>
              </a:rPr>
              <a:t>（一列）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3962520" y="5073480"/>
            <a:ext cx="495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6600"/>
                </a:solidFill>
                <a:latin typeface="Arial"/>
                <a:ea typeface="楷体_GB2312"/>
              </a:rPr>
              <a:t>（列车）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7"/>
          <p:cNvSpPr/>
          <p:nvPr/>
        </p:nvSpPr>
        <p:spPr>
          <a:xfrm>
            <a:off x="3505320" y="3313080"/>
            <a:ext cx="10792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1026" descr="0kwct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027"/>
          <p:cNvSpPr/>
          <p:nvPr/>
        </p:nvSpPr>
        <p:spPr>
          <a:xfrm>
            <a:off x="2286000" y="838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1028"/>
          <p:cNvSpPr/>
          <p:nvPr/>
        </p:nvSpPr>
        <p:spPr>
          <a:xfrm>
            <a:off x="2057400" y="380880"/>
            <a:ext cx="678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    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小明和爸爸去郊游。他们看到一列火车飞驰而过。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20090423175753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3"/>
          <p:cNvSpPr/>
          <p:nvPr/>
        </p:nvSpPr>
        <p:spPr>
          <a:xfrm>
            <a:off x="1905120" y="685800"/>
            <a:ext cx="3504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òng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1600200" y="2209680"/>
            <a:ext cx="29718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800" spc="-1" strike="noStrike">
                <a:solidFill>
                  <a:srgbClr val="0000ff"/>
                </a:solidFill>
                <a:latin typeface="Arial"/>
                <a:ea typeface="楷体_GB2312"/>
              </a:rPr>
              <a:t>弄</a:t>
            </a:r>
            <a:endParaRPr b="1" lang="en-US" sz="20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4038480" y="3429000"/>
            <a:ext cx="5105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6600"/>
                </a:solidFill>
                <a:latin typeface="Arial"/>
                <a:ea typeface="楷体_GB2312"/>
              </a:rPr>
              <a:t>（弄坏）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3962520" y="5073480"/>
            <a:ext cx="495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6600"/>
                </a:solidFill>
                <a:latin typeface="Arial"/>
                <a:ea typeface="楷体_GB2312"/>
              </a:rPr>
              <a:t>（别弄）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20090423175753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3"/>
          <p:cNvSpPr/>
          <p:nvPr/>
        </p:nvSpPr>
        <p:spPr>
          <a:xfrm>
            <a:off x="1905120" y="685800"/>
            <a:ext cx="312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ch</a:t>
            </a:r>
            <a:r>
              <a:rPr b="1" lang="en-US" sz="9600" spc="-1" strike="noStrike">
                <a:solidFill>
                  <a:srgbClr val="000000"/>
                </a:solidFill>
                <a:latin typeface="宋体"/>
              </a:rPr>
              <a:t>á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1600200" y="2209680"/>
            <a:ext cx="29718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800" spc="-1" strike="noStrike">
                <a:solidFill>
                  <a:srgbClr val="0000ff"/>
                </a:solidFill>
                <a:latin typeface="Arial"/>
                <a:ea typeface="楷体_GB2312"/>
              </a:rPr>
              <a:t>查</a:t>
            </a:r>
            <a:endParaRPr b="1" lang="en-US" sz="20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4038480" y="3429000"/>
            <a:ext cx="5105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6600"/>
                </a:solidFill>
                <a:latin typeface="Arial"/>
                <a:ea typeface="楷体_GB2312"/>
              </a:rPr>
              <a:t>（检查）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3962520" y="5073480"/>
            <a:ext cx="495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6600"/>
                </a:solidFill>
                <a:latin typeface="Arial"/>
                <a:ea typeface="楷体_GB2312"/>
              </a:rPr>
              <a:t>（查出）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20090423175753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3"/>
          <p:cNvSpPr/>
          <p:nvPr/>
        </p:nvSpPr>
        <p:spPr>
          <a:xfrm>
            <a:off x="1905120" y="685800"/>
            <a:ext cx="312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ù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1600200" y="2209680"/>
            <a:ext cx="29718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800" spc="-1" strike="noStrike">
                <a:solidFill>
                  <a:srgbClr val="0000ff"/>
                </a:solidFill>
                <a:latin typeface="Arial"/>
                <a:ea typeface="楷体_GB2312"/>
              </a:rPr>
              <a:t>速</a:t>
            </a:r>
            <a:endParaRPr b="1" lang="en-US" sz="20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4038480" y="3429000"/>
            <a:ext cx="5105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6600"/>
                </a:solidFill>
                <a:latin typeface="Arial"/>
                <a:ea typeface="楷体_GB2312"/>
              </a:rPr>
              <a:t>（迅速）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3962520" y="5073480"/>
            <a:ext cx="495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6600"/>
                </a:solidFill>
                <a:latin typeface="Arial"/>
                <a:ea typeface="楷体_GB2312"/>
              </a:rPr>
              <a:t>（速度）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20090423175753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3"/>
          <p:cNvSpPr/>
          <p:nvPr/>
        </p:nvSpPr>
        <p:spPr>
          <a:xfrm>
            <a:off x="1905120" y="685800"/>
            <a:ext cx="3124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96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1600200" y="2209680"/>
            <a:ext cx="29718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800" spc="-1" strike="noStrike">
                <a:solidFill>
                  <a:srgbClr val="0000ff"/>
                </a:solidFill>
                <a:latin typeface="Arial"/>
                <a:ea typeface="楷体_GB2312"/>
              </a:rPr>
              <a:t>断</a:t>
            </a:r>
            <a:endParaRPr b="1" lang="en-US" sz="20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4038480" y="3429000"/>
            <a:ext cx="5105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6600"/>
                </a:solidFill>
                <a:latin typeface="Arial"/>
                <a:ea typeface="楷体_GB2312"/>
              </a:rPr>
              <a:t>（不断）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3962520" y="5073480"/>
            <a:ext cx="495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6600"/>
                </a:solidFill>
                <a:latin typeface="Arial"/>
                <a:ea typeface="楷体_GB2312"/>
              </a:rPr>
              <a:t>（断开）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20090423175753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3"/>
          <p:cNvSpPr/>
          <p:nvPr/>
        </p:nvSpPr>
        <p:spPr>
          <a:xfrm>
            <a:off x="1905120" y="685800"/>
            <a:ext cx="312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í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1600200" y="2209680"/>
            <a:ext cx="29718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800" spc="-1" strike="noStrike">
                <a:solidFill>
                  <a:srgbClr val="0000ff"/>
                </a:solidFill>
                <a:latin typeface="Arial"/>
                <a:ea typeface="楷体_GB2312"/>
              </a:rPr>
              <a:t>提</a:t>
            </a:r>
            <a:endParaRPr b="1" lang="en-US" sz="20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4038480" y="3429000"/>
            <a:ext cx="5105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6600"/>
                </a:solidFill>
                <a:latin typeface="Arial"/>
                <a:ea typeface="楷体_GB2312"/>
              </a:rPr>
              <a:t>（提速）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3962520" y="5073480"/>
            <a:ext cx="495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6600"/>
                </a:solidFill>
                <a:latin typeface="Arial"/>
                <a:ea typeface="楷体_GB2312"/>
              </a:rPr>
              <a:t>（提问）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20090423175753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3"/>
          <p:cNvSpPr/>
          <p:nvPr/>
        </p:nvSpPr>
        <p:spPr>
          <a:xfrm>
            <a:off x="1905120" y="685800"/>
            <a:ext cx="312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ū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1600200" y="2209680"/>
            <a:ext cx="29718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800" spc="-1" strike="noStrike">
                <a:solidFill>
                  <a:srgbClr val="0000ff"/>
                </a:solidFill>
                <a:latin typeface="Arial"/>
                <a:ea typeface="楷体_GB2312"/>
              </a:rPr>
              <a:t>修</a:t>
            </a:r>
            <a:endParaRPr b="1" lang="en-US" sz="20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4038480" y="3429000"/>
            <a:ext cx="5105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6600"/>
                </a:solidFill>
                <a:latin typeface="Arial"/>
                <a:ea typeface="楷体_GB2312"/>
              </a:rPr>
              <a:t>（修建）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3962520" y="5073480"/>
            <a:ext cx="495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6600"/>
                </a:solidFill>
                <a:latin typeface="Arial"/>
                <a:ea typeface="楷体_GB2312"/>
              </a:rPr>
              <a:t>（修路）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20090423175753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3"/>
          <p:cNvSpPr/>
          <p:nvPr/>
        </p:nvSpPr>
        <p:spPr>
          <a:xfrm>
            <a:off x="1905120" y="685800"/>
            <a:ext cx="312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j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96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1600200" y="2209680"/>
            <a:ext cx="29718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800" spc="-1" strike="noStrike">
                <a:solidFill>
                  <a:srgbClr val="0000ff"/>
                </a:solidFill>
                <a:latin typeface="Arial"/>
                <a:ea typeface="楷体_GB2312"/>
              </a:rPr>
              <a:t>建</a:t>
            </a:r>
            <a:endParaRPr b="1" lang="en-US" sz="20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4038480" y="3429000"/>
            <a:ext cx="5105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6600"/>
                </a:solidFill>
                <a:latin typeface="Arial"/>
                <a:ea typeface="楷体_GB2312"/>
              </a:rPr>
              <a:t>（建设）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3962520" y="5073480"/>
            <a:ext cx="495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6600"/>
                </a:solidFill>
                <a:latin typeface="Arial"/>
                <a:ea typeface="楷体_GB2312"/>
              </a:rPr>
              <a:t>（建立）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20090423175753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3"/>
          <p:cNvSpPr/>
          <p:nvPr/>
        </p:nvSpPr>
        <p:spPr>
          <a:xfrm>
            <a:off x="1905120" y="685800"/>
            <a:ext cx="312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sh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ì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1600200" y="2209680"/>
            <a:ext cx="29718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800" spc="-1" strike="noStrike">
                <a:solidFill>
                  <a:srgbClr val="0000ff"/>
                </a:solidFill>
                <a:latin typeface="Arial"/>
                <a:ea typeface="楷体_GB2312"/>
              </a:rPr>
              <a:t>世</a:t>
            </a:r>
            <a:endParaRPr b="1" lang="en-US" sz="20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4038480" y="3429000"/>
            <a:ext cx="5105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6600"/>
                </a:solidFill>
                <a:latin typeface="Arial"/>
                <a:ea typeface="楷体_GB2312"/>
              </a:rPr>
              <a:t>（世上）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3962520" y="5073480"/>
            <a:ext cx="495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6600"/>
                </a:solidFill>
                <a:latin typeface="Arial"/>
                <a:ea typeface="楷体_GB2312"/>
              </a:rPr>
              <a:t>（世界）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20090423175753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3"/>
          <p:cNvSpPr/>
          <p:nvPr/>
        </p:nvSpPr>
        <p:spPr>
          <a:xfrm>
            <a:off x="1905120" y="685800"/>
            <a:ext cx="312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j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è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1600200" y="2209680"/>
            <a:ext cx="29718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800" spc="-1" strike="noStrike">
                <a:solidFill>
                  <a:srgbClr val="0000ff"/>
                </a:solidFill>
                <a:latin typeface="Arial"/>
                <a:ea typeface="楷体_GB2312"/>
              </a:rPr>
              <a:t>界</a:t>
            </a:r>
            <a:endParaRPr b="1" lang="en-US" sz="20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4038480" y="3429000"/>
            <a:ext cx="5105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6600"/>
                </a:solidFill>
                <a:latin typeface="Arial"/>
                <a:ea typeface="楷体_GB2312"/>
              </a:rPr>
              <a:t>（世界）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3962520" y="5073480"/>
            <a:ext cx="495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6600"/>
                </a:solidFill>
                <a:latin typeface="Arial"/>
                <a:ea typeface="楷体_GB2312"/>
              </a:rPr>
              <a:t>（边界）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20090423175753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3"/>
          <p:cNvSpPr/>
          <p:nvPr/>
        </p:nvSpPr>
        <p:spPr>
          <a:xfrm>
            <a:off x="1066680" y="685800"/>
            <a:ext cx="4953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ch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96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600200" y="2209680"/>
            <a:ext cx="29718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800" spc="-1" strike="noStrike">
                <a:solidFill>
                  <a:srgbClr val="0000ff"/>
                </a:solidFill>
                <a:latin typeface="Arial"/>
                <a:ea typeface="楷体_GB2312"/>
              </a:rPr>
              <a:t>创</a:t>
            </a:r>
            <a:endParaRPr b="1" lang="en-US" sz="20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4038480" y="3429000"/>
            <a:ext cx="5105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6600"/>
                </a:solidFill>
                <a:latin typeface="Arial"/>
                <a:ea typeface="楷体_GB2312"/>
              </a:rPr>
              <a:t>（创造）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3962520" y="5073480"/>
            <a:ext cx="495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6600"/>
                </a:solidFill>
                <a:latin typeface="Arial"/>
                <a:ea typeface="楷体_GB2312"/>
              </a:rPr>
              <a:t>（创立）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026" descr="0kwct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027"/>
          <p:cNvSpPr/>
          <p:nvPr/>
        </p:nvSpPr>
        <p:spPr>
          <a:xfrm>
            <a:off x="2286000" y="838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028"/>
          <p:cNvSpPr/>
          <p:nvPr/>
        </p:nvSpPr>
        <p:spPr>
          <a:xfrm>
            <a:off x="2057400" y="380880"/>
            <a:ext cx="678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    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小明和爸爸去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郊游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。他们看到一列火车飞驰而过。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20090423175753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3"/>
          <p:cNvSpPr/>
          <p:nvPr/>
        </p:nvSpPr>
        <p:spPr>
          <a:xfrm>
            <a:off x="1905120" y="685800"/>
            <a:ext cx="3733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èng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1600200" y="2209680"/>
            <a:ext cx="29718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800" spc="-1" strike="noStrike">
                <a:solidFill>
                  <a:srgbClr val="0000ff"/>
                </a:solidFill>
                <a:latin typeface="Arial"/>
                <a:ea typeface="楷体_GB2312"/>
              </a:rPr>
              <a:t>梦</a:t>
            </a:r>
            <a:endParaRPr b="1" lang="en-US" sz="20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4038480" y="3429000"/>
            <a:ext cx="5105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6600"/>
                </a:solidFill>
                <a:latin typeface="Arial"/>
                <a:ea typeface="楷体_GB2312"/>
              </a:rPr>
              <a:t>（梦想）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3962520" y="5073480"/>
            <a:ext cx="495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6600"/>
                </a:solidFill>
                <a:latin typeface="Arial"/>
                <a:ea typeface="楷体_GB2312"/>
              </a:rPr>
              <a:t>（梦乡）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609480" y="1295280"/>
            <a:ext cx="762012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iāo   liè   nòng  chá    sù   duàn    tí     xiū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郊   列   弄   查   速   断   提   修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iàn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hì    jiè  chuàng  mèng  mí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建   世   界   创      梦   名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文本框 1"/>
          <p:cNvSpPr/>
          <p:nvPr/>
        </p:nvSpPr>
        <p:spPr>
          <a:xfrm>
            <a:off x="-6138360" y="2651040"/>
            <a:ext cx="41356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ppt</a:t>
            </a:r>
            <a:r>
              <a:rPr b="1" lang="zh-CN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模版免费下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文本框 2"/>
          <p:cNvSpPr/>
          <p:nvPr/>
        </p:nvSpPr>
        <p:spPr>
          <a:xfrm>
            <a:off x="1051560" y="5950080"/>
            <a:ext cx="41356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ppt</a:t>
            </a:r>
            <a:r>
              <a:rPr b="1" lang="zh-CN" sz="2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模版免费下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2"/>
          <p:cNvSpPr/>
          <p:nvPr/>
        </p:nvSpPr>
        <p:spPr>
          <a:xfrm>
            <a:off x="685800" y="1600200"/>
            <a:ext cx="76201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郊   列   弄   查   速   断   提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修  建   世   界   创   梦   名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533520" y="1219320"/>
            <a:ext cx="71625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1322280" y="838080"/>
            <a:ext cx="66294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郊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外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郊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游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列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车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弄断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查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看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查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找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速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度  快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速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断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开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提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高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提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醒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修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改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修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理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建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造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建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立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世界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开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创  创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新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梦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想  做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梦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名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字  有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名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79B84-04C3-47B8-81BC-3539628ADC0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tian-zi-ge"/>
          <p:cNvPicPr/>
          <p:nvPr/>
        </p:nvPicPr>
        <p:blipFill>
          <a:blip r:embed="rId1"/>
          <a:stretch/>
        </p:blipFill>
        <p:spPr>
          <a:xfrm>
            <a:off x="200160" y="685800"/>
            <a:ext cx="1969920" cy="21970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3"/>
          <p:cNvSpPr/>
          <p:nvPr/>
        </p:nvSpPr>
        <p:spPr>
          <a:xfrm>
            <a:off x="704880" y="114300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名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4" descr="tian-zi-ge"/>
          <p:cNvPicPr/>
          <p:nvPr/>
        </p:nvPicPr>
        <p:blipFill>
          <a:blip r:embed="rId2"/>
          <a:stretch/>
        </p:blipFill>
        <p:spPr>
          <a:xfrm>
            <a:off x="3429000" y="685800"/>
            <a:ext cx="1969920" cy="21970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tian-zi-ge"/>
          <p:cNvPicPr/>
          <p:nvPr/>
        </p:nvPicPr>
        <p:blipFill>
          <a:blip r:embed="rId3"/>
          <a:stretch/>
        </p:blipFill>
        <p:spPr>
          <a:xfrm>
            <a:off x="6705720" y="685800"/>
            <a:ext cx="1969920" cy="21970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6" descr="tian-zi-ge"/>
          <p:cNvPicPr/>
          <p:nvPr/>
        </p:nvPicPr>
        <p:blipFill>
          <a:blip r:embed="rId4"/>
          <a:stretch/>
        </p:blipFill>
        <p:spPr>
          <a:xfrm>
            <a:off x="228600" y="4114800"/>
            <a:ext cx="1969920" cy="21970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tian-zi-ge"/>
          <p:cNvPicPr/>
          <p:nvPr/>
        </p:nvPicPr>
        <p:blipFill>
          <a:blip r:embed="rId5"/>
          <a:stretch/>
        </p:blipFill>
        <p:spPr>
          <a:xfrm>
            <a:off x="3429000" y="4114800"/>
            <a:ext cx="1969920" cy="21970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8" descr="tian-zi-ge"/>
          <p:cNvPicPr/>
          <p:nvPr/>
        </p:nvPicPr>
        <p:blipFill>
          <a:blip r:embed="rId6"/>
          <a:stretch/>
        </p:blipFill>
        <p:spPr>
          <a:xfrm>
            <a:off x="6781680" y="4114800"/>
            <a:ext cx="1970280" cy="219708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9"/>
          <p:cNvSpPr/>
          <p:nvPr/>
        </p:nvSpPr>
        <p:spPr>
          <a:xfrm>
            <a:off x="3809880" y="1143000"/>
            <a:ext cx="129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发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0"/>
          <p:cNvSpPr/>
          <p:nvPr/>
        </p:nvSpPr>
        <p:spPr>
          <a:xfrm>
            <a:off x="6934320" y="1143000"/>
            <a:ext cx="10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成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11"/>
          <p:cNvSpPr/>
          <p:nvPr/>
        </p:nvSpPr>
        <p:spPr>
          <a:xfrm>
            <a:off x="457200" y="4572000"/>
            <a:ext cx="152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晚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12"/>
          <p:cNvSpPr/>
          <p:nvPr/>
        </p:nvSpPr>
        <p:spPr>
          <a:xfrm>
            <a:off x="3733920" y="4616280"/>
            <a:ext cx="129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动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13"/>
          <p:cNvSpPr/>
          <p:nvPr/>
        </p:nvSpPr>
        <p:spPr>
          <a:xfrm>
            <a:off x="7086600" y="4616280"/>
            <a:ext cx="129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新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0kwct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"/>
          <p:cNvSpPr/>
          <p:nvPr/>
        </p:nvSpPr>
        <p:spPr>
          <a:xfrm>
            <a:off x="2286000" y="838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2057400" y="380880"/>
            <a:ext cx="678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    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小明和爸爸去郊游。他们看到一列火车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飞驰而过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。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2902320" y="5943600"/>
            <a:ext cx="59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you.video.sina.com.cn/b/9094423-1323652160.htm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122957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3"/>
          <p:cNvSpPr/>
          <p:nvPr/>
        </p:nvSpPr>
        <p:spPr>
          <a:xfrm>
            <a:off x="0" y="34290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这么长的火车车厢，一节连着一节，靠什么带动呢？小明感到很奇怪。爸爸</a:t>
            </a: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楷体_GB2312"/>
              </a:rPr>
              <a:t>鼓励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他</a:t>
            </a: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楷体_GB2312"/>
              </a:rPr>
              <a:t>自己弄明白。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4" descr="069"/>
          <p:cNvPicPr/>
          <p:nvPr/>
        </p:nvPicPr>
        <p:blipFill>
          <a:blip r:embed="rId2"/>
          <a:stretch/>
        </p:blipFill>
        <p:spPr>
          <a:xfrm>
            <a:off x="0" y="0"/>
            <a:ext cx="91440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457200" y="4724280"/>
            <a:ext cx="586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这么长的火车车厢，一节连一节，靠什么带动呢？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3" descr="火车7B"/>
          <p:cNvPicPr/>
          <p:nvPr/>
        </p:nvPicPr>
        <p:blipFill>
          <a:blip r:embed="rId1"/>
          <a:stretch/>
        </p:blipFill>
        <p:spPr>
          <a:xfrm>
            <a:off x="0" y="0"/>
            <a:ext cx="5638680" cy="39528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4"/>
          <p:cNvSpPr/>
          <p:nvPr/>
        </p:nvSpPr>
        <p:spPr>
          <a:xfrm>
            <a:off x="6324480" y="1143000"/>
            <a:ext cx="129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Times New Roman"/>
              </a:rPr>
              <a:t>？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6858000" y="5029200"/>
            <a:ext cx="19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机车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250920" y="72540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明查了好几本书。原来，一节一节的车厢是由机车带动的。最早的机车是蒸汽机车。后来，人们把内燃机装到火车上，制成了内燃机车。再后来，又发明了电力火车、磁悬浮火车。这样的火车速度快，污染小，真称得上是“绿色环保型”火车了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258920" y="191628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蒸汽机车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4859280" y="256536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内燃机车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3286080" y="3159000"/>
            <a:ext cx="24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电力火车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5869080" y="2565360"/>
            <a:ext cx="3024000" cy="46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                                                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磁悬浮火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7"/>
          <p:cNvSpPr/>
          <p:nvPr/>
        </p:nvSpPr>
        <p:spPr>
          <a:xfrm>
            <a:off x="7924680" y="6248520"/>
            <a:ext cx="76212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7920000" y="3159000"/>
            <a:ext cx="75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车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0kwct17"/>
          <p:cNvPicPr/>
          <p:nvPr/>
        </p:nvPicPr>
        <p:blipFill>
          <a:blip r:embed="rId1"/>
          <a:stretch/>
        </p:blipFill>
        <p:spPr>
          <a:xfrm>
            <a:off x="0" y="0"/>
            <a:ext cx="9144000" cy="3352680"/>
          </a:xfrm>
          <a:prstGeom prst="rect">
            <a:avLst/>
          </a:prstGeom>
          <a:ln w="0">
            <a:noFill/>
          </a:ln>
        </p:spPr>
      </p:pic>
      <p:sp>
        <p:nvSpPr>
          <p:cNvPr id="110" name="WordArt 3"/>
          <p:cNvSpPr txBox="1"/>
          <p:nvPr/>
        </p:nvSpPr>
        <p:spPr>
          <a:xfrm>
            <a:off x="380880" y="3645000"/>
            <a:ext cx="2246400" cy="104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黑体"/>
              </a:rPr>
              <a:t>蒸汽机车</a:t>
            </a:r>
            <a:endParaRPr b="1" lang="en-US" sz="9600" spc="1" strike="noStrike">
              <a:ln w="12600">
                <a:solidFill>
                  <a:srgbClr val="000099"/>
                </a:solidFill>
                <a:round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2438280" y="4695840"/>
            <a:ext cx="6705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它烧煤炭，从上面的烟囱冒出浓重的黑烟。</a:t>
            </a:r>
            <a:br>
              <a:rPr sz="1800"/>
            </a:b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1d17bd2fbe1af51a349bf7d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3"/>
          <p:cNvSpPr/>
          <p:nvPr/>
        </p:nvSpPr>
        <p:spPr>
          <a:xfrm>
            <a:off x="0" y="4572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     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小明查了好几本书。原来，一节一节的车厢是由机车带动的。最早的机车是蒸汽机车。后来，人们把内燃机装到火车上，制成了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内燃机车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。再后来，又发明了电力火车、磁悬浮火车。这样的火车速度快，污染小，真称得上是“绿色环保型”火车了。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文本框 1"/>
          <p:cNvSpPr/>
          <p:nvPr/>
        </p:nvSpPr>
        <p:spPr>
          <a:xfrm>
            <a:off x="980280" y="5877000"/>
            <a:ext cx="41356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ppt</a:t>
            </a:r>
            <a:r>
              <a:rPr b="1" lang="zh-CN" sz="2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0T08:02:5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1:25Z</dcterms:modified>
  <cp:revision>1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