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774-BAD0-48F5-AD8C-FB88F150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759-241B-49C7-9DB7-ACB761E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43B-4CD7-47FB-9F12-045C2494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FE1-C2B5-48AA-9834-14D29FC2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C47-A6A4-4E9B-90B7-BA07353A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78DC-6C1A-45A9-BD12-69C0CB2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A1BE-B1B8-44DC-8AFA-B77113E6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0C5-E667-42FE-8EF2-7ADB343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6A4-6FEC-490B-B881-EE1B2CCB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1DB5-5D2F-4BC9-96FE-4D22188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1DB0-8646-4550-9BC7-6ED1412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AEB-D78C-41BC-80AA-6900211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3397-6395-4C97-A0A4-5C09CE1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D13C-B08E-45EC-B838-88D8025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244-AC67-47DE-916C-1C2E379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3605-04E3-441A-9F44-A16D8CEF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827B-D5AC-4F1E-8348-74212E13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44EA-8AB4-4398-8598-E9D5B4F2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C64-2E24-488A-9151-C8D2F22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651E-AB4E-43BA-8C4B-CF848F80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042-DD72-45AF-B12D-0EF18B3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5B5-A935-4761-B23F-6EBFCD5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56E-4942-45DC-8A3F-FDF8EFD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0E7-55A5-4034-A6EC-51290EE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D9AF-C634-4ED3-BDE8-A1E27B44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CA0B-4A9E-4B0B-87C6-52643C2A49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CE98-57B8-4A28-BDF3-BDF4AB3DA4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56000" y="404640"/>
            <a:ext cx="187164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琥珀"/>
              </a:rPr>
              <a:t>花的勇气语文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华文琥珀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11"/>
          <p:cNvPicPr/>
          <p:nvPr/>
        </p:nvPicPr>
        <p:blipFill>
          <a:blip r:embed="rId2"/>
          <a:stretch/>
        </p:blipFill>
        <p:spPr>
          <a:xfrm>
            <a:off x="1403280" y="693720"/>
            <a:ext cx="4813200" cy="5256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2340000" y="19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11"/>
          <p:cNvPicPr/>
          <p:nvPr/>
        </p:nvPicPr>
        <p:blipFill>
          <a:blip r:embed="rId1"/>
          <a:stretch/>
        </p:blipFill>
        <p:spPr>
          <a:xfrm>
            <a:off x="826920" y="836640"/>
            <a:ext cx="4762800" cy="5200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003640" y="1413000"/>
            <a:ext cx="35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地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人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</a:rPr>
              <a:t>事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84360" y="1125360"/>
            <a:ext cx="7561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吕  　厘米　齐刷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泛滥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遗憾　铺天盖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天换地　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傲然挺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怦然一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567640" y="6093000"/>
            <a:ext cx="576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无标题"/>
          <p:cNvPicPr/>
          <p:nvPr/>
        </p:nvPicPr>
        <p:blipFill>
          <a:blip r:embed="rId1"/>
          <a:stretch/>
        </p:blipFill>
        <p:spPr>
          <a:xfrm>
            <a:off x="-396720" y="-4680"/>
            <a:ext cx="9936000" cy="6862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55640" y="105264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细读课文，体会作者情感变化，联系上下文说说为什么会有这个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5640" y="328464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要求：文中直接表达的请划出来，没有明确表达的请用心体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072418337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550600" y="717480"/>
            <a:ext cx="1115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没有花的绿地是寂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072418337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50720" y="333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用手扒开草一看，原来青草下边藏着满满一层小花，白的，黄的，紫的；纯洁，娇小，鲜嫩  这么多，这么密，这么辽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072418337666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333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正是前几天那片千万朵小花藏身的草地，此刻那些花儿一下子全冒了出来，顿时改天换地，整个世界铺满全新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无标题"/>
          <p:cNvPicPr/>
          <p:nvPr/>
        </p:nvPicPr>
        <p:blipFill>
          <a:blip r:embed="rId1"/>
          <a:stretch/>
        </p:blipFill>
        <p:spPr>
          <a:xfrm>
            <a:off x="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39640" y="189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读了这篇课文，你对生命又产生了哪些新的感悟？结合前面的几篇课文，大胆地谈一谈自己对生命的思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2AB6-D80A-4AF8-84A5-0E55CC0D8C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1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19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