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09A-05EB-4C5B-B68E-6610A5C6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7EB-FA6A-4E31-AB22-381A85E3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745-8C48-47D4-8DC3-62ACD02F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36E-9755-4C5A-8E02-DD3C623B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360D-ED45-4A6C-8AEB-17D985F5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D3B0-2B1B-4058-8365-E629E4B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0AE-D846-4603-956B-92B8A876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4675-898C-4AC6-A400-30AFB4A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9C5C-5D59-4B8D-83B4-B5D9013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7C00-C31A-45EE-ADD7-5F3814D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659-7F33-4F3E-B6BA-319D9AC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9A0-31E1-4571-BE75-82D5483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D840-D40B-404F-8882-EEE8026E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A85C-E890-40C5-B898-20A3BD6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2F45-48AE-4B9B-BF43-0DCDF56F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D7EF-293C-4317-9EAE-B9B16736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704-1013-4824-83AF-24AA4478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DAD-1EA7-4003-9B10-ED920522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E1D-916B-4325-9AF3-6B451D2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AE0-AC93-4D3C-BA5D-E30489A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444-A4D9-4EB8-851A-C9980B8E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286-70C3-446A-AD4F-836643A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497-7B11-4BD1-83A9-11FEAAD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517-8A06-45B8-ADEC-D532C23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8FC4-3A50-475D-BE0D-91DE9D19F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BF4-1059-4111-BBCB-6C5CAD838C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C62-A8F9-4D04-BBB2-DF807B48E9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71640" y="1341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汉查理语文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3" name="好汉片段.mp3" descr=""/>
          <p:cNvPicPr/>
          <p:nvPr/>
        </p:nvPicPr>
        <p:blipFill>
          <a:blip r:embed="rId2"/>
          <a:stretch/>
        </p:blipFill>
        <p:spPr>
          <a:xfrm>
            <a:off x="8028000" y="59752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96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44640"/>
            <a:ext cx="882000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不，好汉查理从来不随便拿别人的东西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谢谢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查理显得彬彬有礼。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当然可以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查理虽然调皮，但说话是算数的。整整一个暑假，他每天都陪杰西在草地上玩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不行，罗伯特先生，我不能随便拿别人的东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杰西，我会做个好汉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79280" y="692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54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查理是个很调皮的孩子，爱搞恶作剧，没有人喜欢他，倒是他叫自己是“好汉查理”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284720" y="62064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649400" y="2205000"/>
            <a:ext cx="838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，好汉查理从来不随便拿别人的东西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4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6794640" y="701856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屋里的墙上挂着一把漂亮的长刀，喜欢极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羡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抽刀出鞘，仔细地看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恋恋不舍地把它挂回墙上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37900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8453880" y="579672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3492360" y="1628640"/>
            <a:ext cx="4454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95280" y="115920"/>
            <a:ext cx="856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下午，查理跑到罗伯特家的院子里玩，看到屋里的墙上挂着一把漂亮的长刀，喜欢极了。他从窗户爬进房间，羡慕得望着那把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你想把它拿走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到说话声，查理才发现有个小女孩坐在轮椅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不随便拿别人的东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显得彬彬有礼。他抽刀出鞘，仔细地看着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杰西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刀是我爸爸的，要不然我会送给你。好汉查理，能推我到外面晒晒太阳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查理恋恋不舍地把它挂回墙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7008120" y="6367680"/>
            <a:ext cx="309600" cy="303120"/>
          </a:xfrm>
          <a:custGeom>
            <a:avLst/>
            <a:gdLst>
              <a:gd name="textAreaLeft" fmla="*/ 19440 w 309600"/>
              <a:gd name="textAreaRight" fmla="*/ 290160 w 3096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061" h="21600">
                <a:moveTo>
                  <a:pt x="0" y="0"/>
                </a:moveTo>
                <a:lnTo>
                  <a:pt x="22061" y="0"/>
                </a:lnTo>
                <a:lnTo>
                  <a:pt x="22061" y="21600"/>
                </a:lnTo>
                <a:lnTo>
                  <a:pt x="0" y="21600"/>
                </a:lnTo>
                <a:close/>
              </a:path>
              <a:path fill="lightenLess" w="22061" h="21600">
                <a:moveTo>
                  <a:pt x="0" y="0"/>
                </a:moveTo>
                <a:lnTo>
                  <a:pt x="22061" y="0"/>
                </a:lnTo>
                <a:lnTo>
                  <a:pt x="20661" y="1400"/>
                </a:lnTo>
                <a:lnTo>
                  <a:pt x="1400" y="1400"/>
                </a:lnTo>
                <a:close/>
              </a:path>
              <a:path fill="darken" w="22061" h="21600">
                <a:moveTo>
                  <a:pt x="22061" y="0"/>
                </a:moveTo>
                <a:lnTo>
                  <a:pt x="22061" y="21600"/>
                </a:lnTo>
                <a:lnTo>
                  <a:pt x="20661" y="20200"/>
                </a:lnTo>
                <a:lnTo>
                  <a:pt x="20661" y="1400"/>
                </a:lnTo>
                <a:close/>
              </a:path>
              <a:path fill="darkenLess" w="22061" h="21600">
                <a:moveTo>
                  <a:pt x="2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1" y="20200"/>
                </a:lnTo>
                <a:close/>
              </a:path>
              <a:path fill="lighten" w="2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49720" y="6369840"/>
            <a:ext cx="320400" cy="3031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2830" h="21600">
                <a:moveTo>
                  <a:pt x="0" y="0"/>
                </a:moveTo>
                <a:lnTo>
                  <a:pt x="22830" y="0"/>
                </a:lnTo>
                <a:lnTo>
                  <a:pt x="22830" y="21600"/>
                </a:lnTo>
                <a:lnTo>
                  <a:pt x="0" y="21600"/>
                </a:lnTo>
                <a:close/>
              </a:path>
              <a:path fill="lightenLess" w="22830" h="21600">
                <a:moveTo>
                  <a:pt x="0" y="0"/>
                </a:moveTo>
                <a:lnTo>
                  <a:pt x="22830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30" h="21600">
                <a:moveTo>
                  <a:pt x="22830" y="0"/>
                </a:moveTo>
                <a:lnTo>
                  <a:pt x="22830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30" h="21600">
                <a:moveTo>
                  <a:pt x="22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6291360" y="6370920"/>
            <a:ext cx="360000" cy="303120"/>
          </a:xfrm>
          <a:custGeom>
            <a:avLst/>
            <a:gdLst>
              <a:gd name="textAreaLeft" fmla="*/ 19440 w 360000"/>
              <a:gd name="textAreaRight" fmla="*/ 340560 w 3600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8577720" y="5793840"/>
            <a:ext cx="397800" cy="303120"/>
          </a:xfrm>
          <a:custGeom>
            <a:avLst/>
            <a:gdLst>
              <a:gd name="textAreaLeft" fmla="*/ 19440 w 397800"/>
              <a:gd name="textAreaRight" fmla="*/ 378360 w 39780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339" h="21600">
                <a:moveTo>
                  <a:pt x="0" y="0"/>
                </a:moveTo>
                <a:lnTo>
                  <a:pt x="28339" y="0"/>
                </a:lnTo>
                <a:lnTo>
                  <a:pt x="28339" y="21600"/>
                </a:lnTo>
                <a:lnTo>
                  <a:pt x="0" y="21600"/>
                </a:lnTo>
                <a:close/>
              </a:path>
              <a:path fill="lightenLess" w="28339" h="21600">
                <a:moveTo>
                  <a:pt x="0" y="0"/>
                </a:moveTo>
                <a:lnTo>
                  <a:pt x="28339" y="0"/>
                </a:lnTo>
                <a:lnTo>
                  <a:pt x="26939" y="1400"/>
                </a:lnTo>
                <a:lnTo>
                  <a:pt x="1400" y="1400"/>
                </a:lnTo>
                <a:close/>
              </a:path>
              <a:path fill="darken" w="28339" h="21600">
                <a:moveTo>
                  <a:pt x="28339" y="0"/>
                </a:moveTo>
                <a:lnTo>
                  <a:pt x="28339" y="21600"/>
                </a:lnTo>
                <a:lnTo>
                  <a:pt x="26939" y="20200"/>
                </a:lnTo>
                <a:lnTo>
                  <a:pt x="26939" y="1400"/>
                </a:lnTo>
                <a:close/>
              </a:path>
              <a:path fill="darkenLess" w="28339" h="21600">
                <a:moveTo>
                  <a:pt x="28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9" y="20200"/>
                </a:lnTo>
                <a:close/>
              </a:path>
              <a:path fill="lighten" w="28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n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12880" y="2205000"/>
            <a:ext cx="768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，好汉查理从不随便拿别人的东西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你想把它拿走吗？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听到说话声，查理才发现有个小女孩坐在轮椅上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不，好汉查理从来不随便拿别人的东西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你可以拿下来看看。好汉查理，我叫杰西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谢谢！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查理显得彬彬有礼。他抽刀出鞘，仔细地看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杰西说：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这刀是我爸爸的，要不然我会送给你。好汉查理，能推我到外面晒晒太阳吗？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好吧。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查理恋恋不舍地把刀挂回墙上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在草坪上，杰西高兴地背诵着一首首诗。他们俩在阳光下度过了一个快乐的下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分手时，杰西问查理：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“你能常来陪我吗？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3200" spc="-1" strike="noStrike">
                <a:solidFill>
                  <a:srgbClr val="00b050"/>
                </a:solidFill>
                <a:latin typeface="宋体"/>
              </a:rPr>
              <a:t>“当然可以。”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4000" y="836640"/>
            <a:ext cx="8532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想把它拿走吗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不，好汉查理从来不随便拿别人的东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可以拿下来看看。好汉查理，我叫杰西。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谢谢！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刀是我爸爸的，要不然我会送给你。好汉查理，能推我到外面晒晒太阳吗？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好吧。”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你能常来陪我吗？”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当然可以。”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81160" y="528480"/>
            <a:ext cx="66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0" y="0"/>
            <a:ext cx="30862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324320" y="3789360"/>
            <a:ext cx="81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读读课文，想想课文中的小男孩发生了哪些变化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和同学交流课文中人物的看法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说说自己读后的感受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08000" y="242100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阅读提示：</a:t>
            </a:r>
            <a:endParaRPr b="0" lang="en-US" sz="8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07586180d338e1c35fa41e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08000" y="30780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08000" y="126828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79280" y="285264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79280" y="501336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9280" y="6021360"/>
            <a:ext cx="28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下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148120" y="2205000"/>
            <a:ext cx="446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826920" y="162864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71640" y="3573360"/>
            <a:ext cx="77040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理是个很调皮的孩子，爱搞恶作剧，没有人喜欢他，倒是他叫自己是“好汉查理”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611280" y="1341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611280" y="1341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95280" y="155736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会的，我从来就相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spcAft>
                <a:spcPts val="1749"/>
              </a:spcAft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468360" y="404640"/>
            <a:ext cx="8424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想把它拿走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好汉查理从来不随便拿别人东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拿下来看看。好汉查理，我叫杰西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刀是爸爸的，要不然我会送给你。好汉查理，能推我到外面晒晒太阳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常来陪我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可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神秘园之歌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4492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1402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07586180d338e1c35fa41e1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885080" y="6473880"/>
            <a:ext cx="287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24000" y="1571400"/>
            <a:ext cx="860400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阳光明媚的午后，查理来到了杰西家，他们在草坪上快乐地玩耍。查理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；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杰西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。他们度过了一个快乐的下午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整整一个暑假，他每天都陪杰西在草地上玩。镇上的人们发现查理没有再搞恶作剧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c2d71eef11015e1b3fb9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篇课文讲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理 从前是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孩子，暑假时，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，后来，他变了一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0d2e150313552f6e3812bbd5"/>
          <p:cNvPicPr/>
          <p:nvPr/>
        </p:nvPicPr>
        <p:blipFill>
          <a:blip r:embed="rId1"/>
          <a:stretch/>
        </p:blipFill>
        <p:spPr>
          <a:xfrm>
            <a:off x="478800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719280" y="31417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杰西，我会做个好汉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380880" y="5335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讨论</a:t>
            </a:r>
            <a:endParaRPr b="1" lang="en-US" sz="6000" spc="1" strike="noStrike">
              <a:ln w="19080">
                <a:solidFill>
                  <a:srgbClr val="ffff99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2819520"/>
            <a:ext cx="70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ff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查理成为好汉的原因是什么？</a:t>
            </a:r>
            <a:endParaRPr b="1" lang="en-US" sz="2400" spc="1" strike="noStrike">
              <a:ln w="9360">
                <a:solidFill>
                  <a:srgbClr val="ccff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3" name="文本框 8200"/>
          <p:cNvSpPr/>
          <p:nvPr/>
        </p:nvSpPr>
        <p:spPr>
          <a:xfrm>
            <a:off x="3564000" y="189000"/>
            <a:ext cx="4454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140360" y="260280"/>
            <a:ext cx="43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讨论探究：你觉得查理的变化和哪些人有关呢？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9640" y="22050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己   杰西  罗伯特先生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7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5" descr="e0382a1769dae110c83d6dd8"/>
          <p:cNvPicPr/>
          <p:nvPr/>
        </p:nvPicPr>
        <p:blipFill>
          <a:blip r:embed="rId1"/>
          <a:stretch/>
        </p:blipFill>
        <p:spPr>
          <a:xfrm>
            <a:off x="-1368360" y="0"/>
            <a:ext cx="10512360" cy="7029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2916360" y="0"/>
            <a:ext cx="71294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什么？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让出自己的座位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捐出自己心爱的书籍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送上一杯热茶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伸出温暖的双手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太阳洒下的无私与关怀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种欣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鼓励。　　　　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种包容，一种奉献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是一份暖暖的默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什么？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，是人类最美好的情感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，使人间充满温暖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9" name="爱的奉献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30126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8b65bb1fd3dde60740341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971640" y="1125360"/>
            <a:ext cx="77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查理是个很调皮的孩子，爱搞恶作剧，没有人喜欢他，倒是他叫自己是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汉查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389800" y="6308640"/>
            <a:ext cx="50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回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A0F-F49C-4415-AF31-8B747B58F9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a49e710202f97c164bfb51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11600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539640" y="105264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！”查理显得彬彬有礼。他抽刀出鞘，仔细地看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2836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有礼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26836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守信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3708000" y="6381720"/>
            <a:ext cx="39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爱心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539640" y="2349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查理虽然调皮，但说话却是算数的。整整一个暑假，他每天都陪杰西在草地上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539640" y="414972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“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然可以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58667016836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762120"/>
            <a:ext cx="8458200" cy="489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调皮   恶作剧   度假   羡慕  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彬彬有礼   抽刀出鞘   背诵   陪伴   算数   临走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随便   好汉   恋恋不舍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7439d8be1dde0a1219d81f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1042920" y="2192400"/>
            <a:ext cx="78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查理   杰西  罗伯特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b65bb1fd3dde60740341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971640" y="1125360"/>
            <a:ext cx="77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查理是个很调皮的孩子，爱搞恶作剧，没有人喜欢他，倒是他叫自己是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汉查理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a49e710202f97c164bfb51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11600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2060640"/>
            <a:ext cx="63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叫自己是“好汉查理”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15866701683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380880" y="53352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讨论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2286000" y="2666880"/>
            <a:ext cx="6172200" cy="1300320"/>
            <a:chOff x="2286000" y="2666880"/>
            <a:chExt cx="6172200" cy="1300320"/>
          </a:xfrm>
        </p:grpSpPr>
        <p:sp>
          <p:nvSpPr>
            <p:cNvPr id="106" name="WordArt 5"/>
            <p:cNvSpPr txBox="1"/>
            <p:nvPr/>
          </p:nvSpPr>
          <p:spPr>
            <a:xfrm>
              <a:off x="2362320" y="2743200"/>
              <a:ext cx="60958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查理是不是好汉？</a:t>
              </a:r>
              <a:endPara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7" name="WordArt 6"/>
            <p:cNvSpPr txBox="1"/>
            <p:nvPr/>
          </p:nvSpPr>
          <p:spPr>
            <a:xfrm>
              <a:off x="2286000" y="2666880"/>
              <a:ext cx="60958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查理是不是好汉？</a:t>
              </a:r>
              <a:endParaRPr b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08" name="Picture 7" descr="查理"/>
          <p:cNvPicPr/>
          <p:nvPr/>
        </p:nvPicPr>
        <p:blipFill>
          <a:blip r:embed="rId2"/>
          <a:stretch/>
        </p:blipFill>
        <p:spPr>
          <a:xfrm>
            <a:off x="304920" y="2971800"/>
            <a:ext cx="1876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查理后来有没有发生变化？读课文，你发现查理是一个怎样的人？从课文里找出句子读一读，说一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5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48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