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3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B31-1B6C-40AC-8670-51E36F9D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DFE-4EA7-47E1-9A0F-28F996A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72D-882B-45B3-9505-CAE7D8AE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7E4-9B15-41FF-88EF-925863C1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D836-100E-4722-BCB9-69EFF030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72CF-6E53-4420-9921-D427DCC5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BB70-F929-4616-A16A-115E419C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6525-395F-4715-B12F-97066A9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4188-7283-4520-94AF-825BADFD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22AD-2606-464B-8E5F-DFFDF1B7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99C4-B6C2-4A67-BD9E-B78D7217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227-19CD-49AA-967E-4CC6CBED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47E9-291D-4EC3-BF36-B667265E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1AD5-BA60-43F7-A56E-9D8D44C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4A46-2B0C-4820-BAAE-7B10DB6F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B56F-A84C-4F6A-AF3A-718A529A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6090-B506-44B8-8497-2D7DCF68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6973-B10D-4FAA-8654-5E07C453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BE19-9E5E-4395-BD82-D9A8102F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16E5-70D9-4FBF-870F-1EC8C086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D188-DE22-400C-AC92-EED180F7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2DAE-E4BA-495A-A3B8-033D5D30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8DB-97D3-4470-B6D8-13F669E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3803-DAAA-4439-A25C-61E4E4B0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B022-598D-4801-A229-4D4DCDA9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E8D3-0FD2-42B5-9633-99E7388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7AE6-F987-4F38-8C2B-2D2F0E9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DB50-CF0C-4DE2-AF14-737405A7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0A83-0296-4304-9A9C-89BA87B3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6D4D-8199-40E2-8B76-5C80107D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042-1D6D-40CC-B505-24994E9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289-2513-47F8-B775-26B28137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8CB-2E28-4300-84F5-0F2AA95C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BC6-511D-4C48-94EC-81E9335C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38A-6DC0-4082-9369-90E70C93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3E8-3809-4470-BE40-A28B02F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5040"/>
                <a:ext cx="1833480" cy="1663920"/>
                <a:chOff x="852840" y="4055040"/>
                <a:chExt cx="183348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3440"/>
                  <a:ext cx="47412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760" y="4972320"/>
                  <a:ext cx="10872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9E6-1356-4DC9-8D7A-9AA0830A5C35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D69-3FF1-4FCF-8B55-A7565C0F501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4519-BC64-4DF1-A842-7A3C58948B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37480" y="1036080"/>
              <a:ext cx="1017000" cy="1263240"/>
              <a:chOff x="4137480" y="103608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3280" y="10738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37880" y="160704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097880" y="196560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2280" y="294840"/>
              <a:ext cx="888120" cy="833760"/>
              <a:chOff x="5642280" y="29484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3520" y="7984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2400" y="4780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0600" y="39528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6400" y="430920"/>
              <a:ext cx="1692720" cy="1147320"/>
              <a:chOff x="356400" y="43092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58440" y="10497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4760" y="57420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59200" y="10886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7522-7765-480E-AE6C-20BFB2CFE01F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347052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10">
            <a:hlinkClick r:id="" action="ppaction://hlinkshowjump?jump=nextslide"/>
          </p:cNvPr>
          <p:cNvSpPr/>
          <p:nvPr/>
        </p:nvSpPr>
        <p:spPr>
          <a:xfrm>
            <a:off x="7524720" y="5877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25033" y="10800"/>
                </a:lnTo>
                <a:lnTo>
                  <a:pt x="1102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80880" y="4572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Verdana"/>
                <a:ea typeface="黑体"/>
              </a:rPr>
              <a:t>九年义务教育小学语文第六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矩形 2" descr=""/>
          <p:cNvPicPr/>
          <p:nvPr/>
        </p:nvPicPr>
        <p:blipFill>
          <a:blip r:embed="rId2"/>
          <a:stretch/>
        </p:blipFill>
        <p:spPr>
          <a:xfrm>
            <a:off x="754200" y="1557360"/>
            <a:ext cx="7813440" cy="70020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66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已录下的2906.WAV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368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4633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66"/>
                </a:solidFill>
                <a:latin typeface="Verdana"/>
              </a:rPr>
              <a:t>形状变化多端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70028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凶猛的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石头狮子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什么也看不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26"/>
          <p:cNvSpPr/>
          <p:nvPr/>
        </p:nvSpPr>
        <p:spPr>
          <a:xfrm>
            <a:off x="0" y="2060640"/>
            <a:ext cx="533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99ff"/>
                </a:solidFill>
                <a:latin typeface="Times New Roman"/>
              </a:rPr>
              <a:t>颜色多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1027"/>
          <p:cNvSpPr/>
          <p:nvPr/>
        </p:nvSpPr>
        <p:spPr>
          <a:xfrm>
            <a:off x="4086000" y="6922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</a:rPr>
              <a:t>火烧云的变化极多。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Text Box 1029"/>
          <p:cNvSpPr/>
          <p:nvPr/>
        </p:nvSpPr>
        <p:spPr>
          <a:xfrm>
            <a:off x="1403280" y="3645000"/>
            <a:ext cx="247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Verdana"/>
              </a:rPr>
              <a:t>形态多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Text Box 1030"/>
          <p:cNvSpPr/>
          <p:nvPr/>
        </p:nvSpPr>
        <p:spPr>
          <a:xfrm>
            <a:off x="5467320" y="2997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变化快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1031"/>
          <p:cNvSpPr/>
          <p:nvPr/>
        </p:nvSpPr>
        <p:spPr>
          <a:xfrm>
            <a:off x="4130640" y="2349360"/>
            <a:ext cx="8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↘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1032"/>
          <p:cNvSpPr/>
          <p:nvPr/>
        </p:nvSpPr>
        <p:spPr>
          <a:xfrm>
            <a:off x="4059000" y="3500280"/>
            <a:ext cx="8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↗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552680" y="2421000"/>
            <a:ext cx="670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以“一会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黑体"/>
              </a:rPr>
              <a:t>……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一会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黑体"/>
              </a:rPr>
              <a:t>……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一会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黑体"/>
              </a:rPr>
              <a:t>……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一会”这一顺序写一段话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WordArt 3"/>
          <p:cNvSpPr txBox="1"/>
          <p:nvPr/>
        </p:nvSpPr>
        <p:spPr>
          <a:xfrm>
            <a:off x="250920" y="333360"/>
            <a:ext cx="37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练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58A4-6710-4CCC-BA66-9AA514E00FAC}" type="slidenum">
              <a:rPr b="0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447920" y="240192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660033"/>
                </a:solidFill>
                <a:latin typeface="Verdana"/>
                <a:ea typeface="华文彩云"/>
              </a:rPr>
              <a:t>谢谢欣赏，再见</a:t>
            </a:r>
            <a:r>
              <a:rPr b="1" i="1" lang="zh-CN" sz="6000" spc="-1" strike="noStrike">
                <a:solidFill>
                  <a:srgbClr val="660033"/>
                </a:solidFill>
                <a:latin typeface="Verdana"/>
                <a:ea typeface="华文彩云"/>
              </a:rPr>
              <a:t>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7308720" y="5589720"/>
            <a:ext cx="648000" cy="43020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2526" h="21600">
                <a:moveTo>
                  <a:pt x="0" y="0"/>
                </a:moveTo>
                <a:lnTo>
                  <a:pt x="32526" y="0"/>
                </a:lnTo>
                <a:lnTo>
                  <a:pt x="32526" y="21600"/>
                </a:lnTo>
                <a:lnTo>
                  <a:pt x="0" y="21600"/>
                </a:lnTo>
                <a:close/>
              </a:path>
              <a:path fill="lightenLess" w="32526" h="21600">
                <a:moveTo>
                  <a:pt x="0" y="0"/>
                </a:moveTo>
                <a:lnTo>
                  <a:pt x="32526" y="0"/>
                </a:lnTo>
                <a:lnTo>
                  <a:pt x="31126" y="1400"/>
                </a:lnTo>
                <a:lnTo>
                  <a:pt x="1400" y="1400"/>
                </a:lnTo>
                <a:close/>
              </a:path>
              <a:path fill="darken" w="32526" h="21600">
                <a:moveTo>
                  <a:pt x="32526" y="0"/>
                </a:moveTo>
                <a:lnTo>
                  <a:pt x="32526" y="21600"/>
                </a:lnTo>
                <a:lnTo>
                  <a:pt x="31126" y="20200"/>
                </a:lnTo>
                <a:lnTo>
                  <a:pt x="31126" y="1400"/>
                </a:lnTo>
                <a:close/>
              </a:path>
              <a:path fill="darkenLess" w="32526" h="21600">
                <a:moveTo>
                  <a:pt x="32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26" y="20200"/>
                </a:lnTo>
                <a:close/>
              </a:path>
              <a:path fill="lighten" w="32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26" h="21600">
                <a:moveTo>
                  <a:pt x="9257" y="10800"/>
                </a:moveTo>
                <a:lnTo>
                  <a:pt x="23270" y="3794"/>
                </a:lnTo>
                <a:lnTo>
                  <a:pt x="2327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93680" y="2913120"/>
            <a:ext cx="882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烧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云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喂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猪     笑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盈盈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    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寿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红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彤彤  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 百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  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茄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子紫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跪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着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模糊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凶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猛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镇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静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揉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眼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698480" y="601560"/>
            <a:ext cx="272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检查预习情况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6"/>
          <p:cNvSpPr/>
          <p:nvPr/>
        </p:nvSpPr>
        <p:spPr>
          <a:xfrm>
            <a:off x="6948360" y="47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Picture 5" descr="金灿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689120" y="476280"/>
            <a:ext cx="383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火烧云：日出或日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落时出现在天际的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红彤彤的云霞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WordArt 3"/>
          <p:cNvSpPr txBox="1"/>
          <p:nvPr/>
        </p:nvSpPr>
        <p:spPr>
          <a:xfrm>
            <a:off x="1828800" y="2976480"/>
            <a:ext cx="60958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火烧云的变化极多</a:t>
            </a:r>
            <a:endParaRPr b="1" i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21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1028" descr="001058[1]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MTM_042.MID" descr=""/>
          <p:cNvPicPr/>
          <p:nvPr/>
        </p:nvPicPr>
        <p:blipFill>
          <a:blip r:embed="rId2"/>
          <a:stretch/>
        </p:blipFill>
        <p:spPr>
          <a:xfrm>
            <a:off x="6172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043"/>
          <p:cNvSpPr/>
          <p:nvPr/>
        </p:nvSpPr>
        <p:spPr>
          <a:xfrm>
            <a:off x="784872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680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345083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02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460017"/>
          <p:cNvPicPr/>
          <p:nvPr/>
        </p:nvPicPr>
        <p:blipFill>
          <a:blip r:embed="rId2"/>
          <a:stretch/>
        </p:blipFill>
        <p:spPr>
          <a:xfrm>
            <a:off x="4572000" y="260280"/>
            <a:ext cx="4319640" cy="302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93070"/>
          <p:cNvPicPr/>
          <p:nvPr/>
        </p:nvPicPr>
        <p:blipFill>
          <a:blip r:embed="rId3"/>
          <a:stretch/>
        </p:blipFill>
        <p:spPr>
          <a:xfrm>
            <a:off x="250920" y="3573360"/>
            <a:ext cx="4103640" cy="2808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火烧云图片1"/>
          <p:cNvPicPr/>
          <p:nvPr/>
        </p:nvPicPr>
        <p:blipFill>
          <a:blip r:embed="rId4"/>
          <a:srcRect l="13036" t="9243" r="4362" b="17478"/>
          <a:stretch/>
        </p:blipFill>
        <p:spPr>
          <a:xfrm>
            <a:off x="4572000" y="3573360"/>
            <a:ext cx="4319640" cy="2808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826920" y="836640"/>
            <a:ext cx="7490160" cy="824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5280" y="1628640"/>
            <a:ext cx="8497800" cy="37501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会儿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红彤彤的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会儿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金灿灿的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会儿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半紫半黄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会儿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半灰半百合色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950120" y="54936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Verdana"/>
              </a:rPr>
              <a:t>颜色变化多端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Verdana"/>
              </a:rPr>
              <a:t>思考：</a:t>
            </a: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i="1" lang="zh-CN" sz="4400" spc="-1" strike="noStrike">
                <a:solidFill>
                  <a:srgbClr val="006699"/>
                </a:solidFill>
                <a:latin typeface="Verdana"/>
              </a:rPr>
              <a:t>一会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……</a:t>
            </a:r>
            <a:r>
              <a:rPr b="1" i="1" lang="zh-CN" sz="4400" spc="-1" strike="noStrike">
                <a:solidFill>
                  <a:srgbClr val="006699"/>
                </a:solidFill>
                <a:latin typeface="Verdana"/>
              </a:rPr>
              <a:t>一会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6699"/>
                </a:solidFill>
                <a:latin typeface="Verdana"/>
              </a:rPr>
              <a:t>体现了火烧云什么特征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47280" y="3499920"/>
            <a:ext cx="62024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火烧云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的颜色不仅变化多端，而且变化极快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85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660066"/>
                </a:solidFill>
                <a:latin typeface="Arial"/>
                <a:ea typeface="黑体"/>
              </a:rPr>
              <a:t>忽然又来了一条大狗，那狗十分凶猛，在向前跑，后面似乎还跟着几条小狗。跑着跑着，小狗不知哪里去了，大狗也不见了</a:t>
            </a: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11600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2455200" y="69228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Verdana"/>
              </a:rPr>
              <a:t>从刚才的两幅图中，你发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Verdana"/>
              </a:rPr>
              <a:t>了什么？（请用原文回答）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09:36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24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