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4C7-81C7-4F0D-86B4-B58EB6FF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6F3-760C-4A12-A720-190E56F2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29F-B9F0-4DCA-8D72-3EE2C699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C7A-2494-48A7-91AB-6DA34357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B63C-DBB9-4101-A508-733029B8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D837-0CDA-4A6E-802E-DAB86B2D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1F5C-9077-482E-8B9D-6816421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6795-2274-4D58-B6BB-370EEC7C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1CF6-A521-46E2-83C1-F69ECAB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7C0A-8F14-402E-997B-CBAD0A1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9928-ACA7-4F90-9973-773810C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630-612D-4E57-BE0E-8419C6F9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7799-C77C-42FF-9E9E-BE6D31D3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0EC1-0309-492B-8F11-E225B9B3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CA03-ACE7-4E99-9306-7E20E824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134A-9C86-40F0-AA8F-14BEC05B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19CD-4AE5-4B00-997C-F407BFD6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07831-32CE-4301-8EA1-84B1A0B3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F1B9-C5C8-460F-9233-86C145F9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6DDE6-B479-475B-B4B1-738E6C3B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0823-9154-49DE-A64B-E99A3ADE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91FA-8387-4984-BC33-2F4CEB4D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8EC-787A-4E64-8032-3639291E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14E7-AF27-4D2C-8814-A56BAF2A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0E75-AC1B-4025-ABCA-E9A2AA9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0D3A-48F1-404D-B06D-5F4793FF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CD62-ADB5-4C21-988B-0C5338C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E840-C63A-40B0-9405-C66A2C99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B9DD-12E3-4C6E-B1F5-74082D38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EA9F-A7A3-47DA-AD76-9F455C39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603-95B5-47DC-8C59-D91D8B6C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206-C672-4D28-8B1D-BE7A0318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9FA-6594-47F9-B815-ABEC386B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CDB-683C-4128-9F9C-14E40A3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BC8-3FC9-41E0-AAD3-45B23E6A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0E1-1C51-426C-BD4D-11218AC5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3C78-E0D4-4500-9D9D-96BD0E109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2A3-5390-4F21-BDA3-A43E16C56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C34A-3294-4A77-9B9A-76134432D08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0EBB-12F5-4EDE-8254-364B6F0B15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1187280" y="1989000"/>
            <a:ext cx="6553440" cy="12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和我们一样享受春天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"/>
          <p:cNvSpPr/>
          <p:nvPr/>
        </p:nvSpPr>
        <p:spPr>
          <a:xfrm>
            <a:off x="1476360" y="3182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17844973_84e4c0403d_o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68360" y="189000"/>
            <a:ext cx="457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蔚蓝色的大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本来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是海鸥的乐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xin_5321001080910015430487"/>
          <p:cNvPicPr/>
          <p:nvPr/>
        </p:nvPicPr>
        <p:blipFill>
          <a:blip r:embed="rId1"/>
          <a:stretch/>
        </p:blipFill>
        <p:spPr>
          <a:xfrm>
            <a:off x="3809880" y="2928960"/>
            <a:ext cx="1524240" cy="1000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yj11083"/>
          <p:cNvPicPr/>
          <p:nvPr/>
        </p:nvPicPr>
        <p:blipFill>
          <a:blip r:embed="rId2"/>
          <a:stretch/>
        </p:blipFill>
        <p:spPr>
          <a:xfrm>
            <a:off x="2905200" y="2238480"/>
            <a:ext cx="3333600" cy="2381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wgzzjz11"/>
          <p:cNvPicPr/>
          <p:nvPr/>
        </p:nvPicPr>
        <p:blipFill>
          <a:blip r:embed="rId3"/>
          <a:stretch/>
        </p:blipFill>
        <p:spPr>
          <a:xfrm>
            <a:off x="3119400" y="1943280"/>
            <a:ext cx="290520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Img21199023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676520" y="1371600"/>
            <a:ext cx="6400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可是巡弋的战舰和水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成了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不速之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这究竟是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0" y="1828800"/>
            <a:ext cx="6858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蓝的发黑的夜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本来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属于星星和月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可是如今频频发射的导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把星星的家园搅得很不安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这究竟是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3780000" y="1052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编诗小能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133266653"/>
          <p:cNvPicPr/>
          <p:nvPr/>
        </p:nvPicPr>
        <p:blipFill>
          <a:blip r:embed="rId2"/>
          <a:stretch/>
        </p:blipFill>
        <p:spPr>
          <a:xfrm>
            <a:off x="2162160" y="479520"/>
            <a:ext cx="4857840" cy="903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187280" y="1628640"/>
            <a:ext cx="7543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续写诗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本来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可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的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这究竟是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8200"/>
          <p:cNvSpPr/>
          <p:nvPr/>
        </p:nvSpPr>
        <p:spPr>
          <a:xfrm>
            <a:off x="10800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981080" y="1219320"/>
            <a:ext cx="670572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们希望，我们祈盼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让战火中的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张课桌，平稳的课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被导弹的气浪掀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间教室，洁白的教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免遭炸弹的弹片击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鲜花中读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我们一样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享受春天</a:t>
            </a:r>
            <a:r>
              <a:rPr b="0" lang="en-US" sz="3600" spc="-1" strike="noStrike">
                <a:solidFill>
                  <a:srgbClr val="0000ff"/>
                </a:solidFill>
                <a:latin typeface="Courier New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1F0B-DED4-4FA7-B694-19BD80655D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032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儿童和平公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5640" y="692280"/>
            <a:ext cx="8893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世界的儿童，宣告未来的和平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想要一个没有战争和武器的星球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要除掉疾病和破坏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再也不要憎恨和饥饿，再也不要无家可归。我们要消灭这一切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的大地给予我们足够的食品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将共享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的天空给予我们美丽的彩虹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将保卫它们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的河水给予我们不朽的生命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保持它们的洁净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要共同欢笑，共同游玩，共同工作，互相学习，探索和改善大家的生活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我们是为和平，为现在的和平，永久的和平，我们大家的和平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世界上的成年人和我们一起，你们丢掉的只是恐惧和悲伤。抓住我们的欢笑和想象，我们在一起，和平就是可能的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24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