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A3D-0726-43EE-B7CF-C22A0252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8EF-F690-45DE-8F9C-8D7B7DD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6CB-D8A8-423E-BF6C-59D9EC26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A70-A621-4381-833D-232C407E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76D-FD77-4371-A243-B5A04B92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4C95-FA12-4096-9798-D1E50DCD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AD36-605E-4B03-8E7F-FFAA5F4E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85D1-E14C-436C-A157-BEEF0260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96F4-F232-4A5F-AAFE-60FCBFC7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CAA8-5801-4D5C-9342-F10B33F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63C-2484-4B98-A75F-54DECFB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FCB-2DA1-42D5-B95B-B01D32EB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87F-EC49-4043-9B0C-4DC42CB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54DE-E94E-48B4-853C-59D21FD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907-7768-4F51-BF6D-91C3624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4D8-A9F4-4F51-AC91-24E74C49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16C-B1CF-4493-9BF0-F1756F3D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16EC-F1A2-4FFE-BE3A-A2BA7F2A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C4D5-CBF6-4057-B04F-1645DCC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BBC6-5C22-4065-9232-7F5A313A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CA56-2BB8-448A-8838-4A29398D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8F23-85DE-4130-8E4A-787A534E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163-8582-411D-9EEC-4EEFE84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0998-F253-45AA-956B-FD54FD51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A770-6B2D-42A8-8F04-E2C5E15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0064-82D7-46DD-B9FE-17E3125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037C-2037-415F-962B-ABAD8A41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F861-4E5C-417C-9401-D824AF60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A9D6-0EC8-4CD9-BC10-FDE96A6E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67F9-84C2-4D94-9EF9-CB0486E1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067-2218-468D-9ABB-BAB5E3DE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691-F83F-4E4B-86FF-9595CDF8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CDD-F04B-4ED2-AC49-BFBB8BC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1ED-2C71-4496-851B-E7D860D6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DE7-C29D-4854-B0FB-DBEB247F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161-4254-42A3-86AB-313F48A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5B31-1723-47CF-8A64-EACF9788E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BD48-A034-4053-A676-09FCCA99AE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2B88-3B5D-48F2-A2A0-A74B4F97C5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FB9-D1B2-47F9-B4A5-C76848FCD99C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4,12,&#24187;&#28783;&#29255; 12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4" name="Picture 4" descr="双龙洞1"/>
          <p:cNvPicPr/>
          <p:nvPr/>
        </p:nvPicPr>
        <p:blipFill>
          <a:blip r:embed="rId1"/>
          <a:stretch/>
        </p:blipFill>
        <p:spPr>
          <a:xfrm>
            <a:off x="-10800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WordArt 5" descr=""/>
          <p:cNvPicPr/>
          <p:nvPr/>
        </p:nvPicPr>
        <p:blipFill>
          <a:blip r:embed="rId2"/>
          <a:stretch/>
        </p:blipFill>
        <p:spPr>
          <a:xfrm>
            <a:off x="906480" y="1398600"/>
            <a:ext cx="7275600" cy="1023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4" descr="水石奇观"/>
          <p:cNvPicPr/>
          <p:nvPr/>
        </p:nvPicPr>
        <p:blipFill>
          <a:blip r:embed="rId1"/>
          <a:stretch/>
        </p:blipFill>
        <p:spPr>
          <a:xfrm>
            <a:off x="-36360" y="-27000"/>
            <a:ext cx="311292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419640" y="549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小的小船呢？两个人并排仰卧，刚合适，再没法容第三个人，是这样小的小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348000" y="3068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怀着好奇的心情独个儿仰卧在小船里，自以为从后脑到肩背，到臀</a:t>
            </a:r>
            <a:r>
              <a:rPr b="0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79280" y="4941720"/>
            <a:ext cx="88567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部，到脚跟，没有一处不贴着船底了，才说一声“行了”，船就慢慢移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71640" y="692280"/>
            <a:ext cx="7056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眼前昏暗了，可是还能感觉左右和上方的山石似乎都在朝我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1"/>
              </a:rPr>
              <a:t>挤压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过来。我又感觉要是把头稍微抬起一点儿，准会撞破额角，擦伤鼻子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7885080" y="5950080"/>
            <a:ext cx="790560" cy="647640"/>
          </a:xfrm>
          <a:custGeom>
            <a:avLst/>
            <a:gdLst/>
            <a:ahLst/>
            <a:rect l="l" t="t" r="r" b="b"/>
            <a:pathLst>
              <a:path w="790575" h="647700">
                <a:moveTo>
                  <a:pt x="0" y="247398"/>
                </a:moveTo>
                <a:lnTo>
                  <a:pt x="301974" y="247400"/>
                </a:lnTo>
                <a:lnTo>
                  <a:pt x="395287" y="0"/>
                </a:lnTo>
                <a:lnTo>
                  <a:pt x="488600" y="247400"/>
                </a:lnTo>
                <a:lnTo>
                  <a:pt x="790574" y="247398"/>
                </a:lnTo>
                <a:lnTo>
                  <a:pt x="546271" y="400298"/>
                </a:lnTo>
                <a:lnTo>
                  <a:pt x="639588" y="647698"/>
                </a:lnTo>
                <a:lnTo>
                  <a:pt x="395287" y="494795"/>
                </a:lnTo>
                <a:lnTo>
                  <a:pt x="150986" y="647698"/>
                </a:lnTo>
                <a:lnTo>
                  <a:pt x="244303" y="400298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lianjie2.MP3" descr=""/>
          <p:cNvPicPr/>
          <p:nvPr/>
        </p:nvPicPr>
        <p:blipFill>
          <a:blip r:embed="rId2"/>
          <a:stretch/>
        </p:blipFill>
        <p:spPr>
          <a:xfrm>
            <a:off x="1332000" y="560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0794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Picture 4" descr="进出孔隙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3" name="Picture 4" descr="guizhou-zjd02"/>
          <p:cNvPicPr/>
          <p:nvPr/>
        </p:nvPicPr>
        <p:blipFill>
          <a:blip r:embed="rId1"/>
          <a:stretch/>
        </p:blipFill>
        <p:spPr>
          <a:xfrm>
            <a:off x="0" y="0"/>
            <a:ext cx="5076720" cy="46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p1a"/>
          <p:cNvPicPr/>
          <p:nvPr/>
        </p:nvPicPr>
        <p:blipFill>
          <a:blip r:embed="rId2"/>
          <a:srcRect l="0" t="0" r="3341" b="3338"/>
          <a:stretch/>
        </p:blipFill>
        <p:spPr>
          <a:xfrm>
            <a:off x="3995640" y="2492280"/>
            <a:ext cx="5148360" cy="4365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516720" y="404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黄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 flipH="1">
            <a:off x="5508000" y="549360"/>
            <a:ext cx="863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85" y="0"/>
                </a:moveTo>
                <a:lnTo>
                  <a:pt x="16185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16185" y="16762"/>
                </a:lnTo>
                <a:lnTo>
                  <a:pt x="16185" y="21600"/>
                </a:lnTo>
                <a:lnTo>
                  <a:pt x="21600" y="10800"/>
                </a:lnTo>
                <a:lnTo>
                  <a:pt x="16185" y="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lnTo>
                  <a:pt x="135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lnTo>
                  <a:pt x="0" y="4838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826920" y="566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青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2484360" y="5950080"/>
            <a:ext cx="792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0" name="Picture 2" descr="xl4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3492360" y="573408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海龟探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477120" y="2757600"/>
            <a:ext cx="129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523880" y="624852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324480" y="6248520"/>
            <a:ext cx="163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7" name="Picture 4" descr="p6c"/>
          <p:cNvPicPr/>
          <p:nvPr/>
        </p:nvPicPr>
        <p:blipFill>
          <a:blip r:embed="rId1"/>
          <a:srcRect l="4767" t="6502" r="0" b="0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3635280" y="56610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五彩图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1" name="Picture 4" descr="p6b"/>
          <p:cNvPicPr/>
          <p:nvPr/>
        </p:nvPicPr>
        <p:blipFill>
          <a:blip r:embed="rId1"/>
          <a:srcRect l="5009" t="0" r="500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3780000" y="580536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擎天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5" name="Picture 4" descr="p2b"/>
          <p:cNvPicPr/>
          <p:nvPr/>
        </p:nvPicPr>
        <p:blipFill>
          <a:blip r:embed="rId1"/>
          <a:srcRect l="5009" t="6667" r="500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6084720" y="5805360"/>
            <a:ext cx="27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小桥流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8" name="Picture 4" descr="双龙洞4"/>
          <p:cNvPicPr/>
          <p:nvPr/>
        </p:nvPicPr>
        <p:blipFill>
          <a:blip r:embed="rId1"/>
          <a:stretch/>
        </p:blipFill>
        <p:spPr>
          <a:xfrm>
            <a:off x="0" y="0"/>
            <a:ext cx="9361440" cy="6954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39528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避水金针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2" name="Picture 3" descr="silin_ziyund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539640" y="2602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寿星捧仙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2411280" y="11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0" name="Picture 4" descr="guizhou-zjd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6" name="Picture 4" descr="双龙洞5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9" name="Picture 4" descr="图片2"/>
          <p:cNvPicPr/>
          <p:nvPr/>
        </p:nvPicPr>
        <p:blipFill>
          <a:blip r:embed="rId1"/>
          <a:stretch/>
        </p:blipFill>
        <p:spPr>
          <a:xfrm>
            <a:off x="1619280" y="-27000"/>
            <a:ext cx="62658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2" name="Picture 3" descr="alugudong"/>
          <p:cNvPicPr/>
          <p:nvPr/>
        </p:nvPicPr>
        <p:blipFill>
          <a:blip r:embed="rId1"/>
          <a:srcRect l="2502" t="3497" r="3341" b="34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4"/>
          <p:cNvSpPr/>
          <p:nvPr/>
        </p:nvSpPr>
        <p:spPr>
          <a:xfrm>
            <a:off x="8317080" y="6237360"/>
            <a:ext cx="502920" cy="431640"/>
          </a:xfrm>
          <a:custGeom>
            <a:avLst/>
            <a:gdLst/>
            <a:ahLst/>
            <a:rect l="l" t="t" r="r" b="b"/>
            <a:pathLst>
              <a:path w="503237" h="431800">
                <a:moveTo>
                  <a:pt x="0" y="164932"/>
                </a:moveTo>
                <a:lnTo>
                  <a:pt x="192220" y="164933"/>
                </a:lnTo>
                <a:lnTo>
                  <a:pt x="251618" y="0"/>
                </a:lnTo>
                <a:lnTo>
                  <a:pt x="311016" y="164933"/>
                </a:lnTo>
                <a:lnTo>
                  <a:pt x="503236" y="164932"/>
                </a:lnTo>
                <a:lnTo>
                  <a:pt x="347726" y="266865"/>
                </a:lnTo>
                <a:lnTo>
                  <a:pt x="407127" y="431798"/>
                </a:lnTo>
                <a:lnTo>
                  <a:pt x="251618" y="329863"/>
                </a:lnTo>
                <a:lnTo>
                  <a:pt x="96110" y="431798"/>
                </a:lnTo>
                <a:lnTo>
                  <a:pt x="155510" y="266865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A0E-C954-4304-A607-16E5F5A0FAF7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619280" y="1341360"/>
            <a:ext cx="6408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谢谢观看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195640" y="3933720"/>
            <a:ext cx="5040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彩云"/>
              </a:rPr>
              <a:t>再见！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4" descr="silin_ziyund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4" descr="alugudong"/>
          <p:cNvPicPr/>
          <p:nvPr/>
        </p:nvPicPr>
        <p:blipFill>
          <a:blip r:embed="rId1"/>
          <a:srcRect l="2502" t="3497" r="3341" b="34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4" descr="slide0031_background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87280" y="907920"/>
            <a:ext cx="15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浙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51280" y="981000"/>
            <a:ext cx="158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罗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甸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588000" y="907920"/>
            <a:ext cx="10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呈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300720" y="2205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合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116000" y="335772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昏暗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851280" y="342900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稍微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24360" y="213372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聚集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16000" y="213372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森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00720" y="335772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额头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050920" y="508428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突兀   臀部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680" y="105264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171c"/>
                </a:solidFill>
                <a:latin typeface="Arial"/>
              </a:rPr>
              <a:t>自读课文，边读边画出作者游览的景点，看看作者是按什么顺序游览的，作者的游览路线是怎样的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9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路上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33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外洞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8000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孔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21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内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65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出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205092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349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93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644364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105264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171c"/>
                </a:solidFill>
                <a:latin typeface="Arial"/>
              </a:rPr>
              <a:t>自读课文，边读边画出作者游览的景点，看看作者是按什么顺序游览的，作者的游览路线是怎样的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9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路上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33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外洞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78000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孔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21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a50021"/>
                </a:solidFill>
                <a:uFillTx/>
                <a:latin typeface="Arial"/>
                <a:ea typeface="楷体_GB2312"/>
              </a:rPr>
              <a:t>内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65964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出洞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05092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49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93236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6443640" y="4653000"/>
            <a:ext cx="2890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5" descr="双龙洞6"/>
          <p:cNvPicPr/>
          <p:nvPr/>
        </p:nvPicPr>
        <p:blipFill>
          <a:blip r:embed="rId1"/>
          <a:stretch/>
        </p:blipFill>
        <p:spPr>
          <a:xfrm>
            <a:off x="-36360" y="-27000"/>
            <a:ext cx="2592360" cy="360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双龙洞"/>
          <p:cNvPicPr/>
          <p:nvPr/>
        </p:nvPicPr>
        <p:blipFill>
          <a:blip r:embed="rId2"/>
          <a:stretch/>
        </p:blipFill>
        <p:spPr>
          <a:xfrm>
            <a:off x="6505560" y="2637000"/>
            <a:ext cx="2644920" cy="4214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2771640" y="476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洞口抬头望，山相当高，突兀森郁，很有气势。洞口像桥洞似的，很宽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411280" y="2349360"/>
            <a:ext cx="42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走进去，仿佛到                     了个大会堂，周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50920" y="3573360"/>
            <a:ext cx="655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石壁，头上是高高的石顶，在那里聚集一千或是八百人开个会，一定不觉得拥挤。泉水靠着洞口的右边往外流。这是外洞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lianjie1.MP3" descr=""/>
          <p:cNvPicPr/>
          <p:nvPr/>
        </p:nvPicPr>
        <p:blipFill>
          <a:blip r:embed="rId3"/>
          <a:stretch/>
        </p:blipFill>
        <p:spPr>
          <a:xfrm>
            <a:off x="4572000" y="6165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936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6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0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8</vt:r8>
  </property>
</Properties>
</file>