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6.png" ContentType="image/png"/>
  <Override PartName="/ppt/media/image7.jpeg" ContentType="image/jpeg"/>
  <Override PartName="/ppt/media/camera.wav" ContentType="audio/x-wav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9CA-5DE1-4AEF-93FB-8702F5FC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F28-0FD0-4D18-B8F5-EB38DDA3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B07-F8F2-47F6-AD58-FF5A83CC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956-1399-43D7-B8BD-00ECBD0B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4F20-A88A-408A-BD5D-F4DB713A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E472-14FF-4883-9355-6BB8692E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7819-146A-4310-8B7D-A7D5CCDB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5471-289C-450B-945D-7BEEF6FA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DFE0-5748-4954-9E7F-C06826DB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9A2C-5D0E-455E-8839-A2D1384E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9D47-38C3-4A25-9048-1F794DD9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F19-13BD-40AB-A461-AFFB9D53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2275-7F1D-46CC-9BB7-DDE3E1EF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CCA2-66E3-4042-9E62-0CC1D907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8A82-E66B-4888-9A62-0607777E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5DC3-1489-4182-AD18-C5D182EE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F586-074F-47DE-982A-51C67E84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C07-7574-4C7D-9A4D-958A4245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35FB-955F-4ECC-8348-597F13EC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6EA-1207-462B-8A3A-0BA35B65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7A0-B597-45B4-BB91-AB71AC79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3F1-1A37-4825-B2A8-5B744C25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10F-798A-46AB-8CCC-DBD3EBF6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140-D34D-4163-A2C8-5CFB3A56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DA53-AA83-4673-9AEB-6B1B72643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371E-0673-4663-AFB3-00F76BD87BB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A7BA-FCEF-4778-BBD8-4C15439163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F:\PPT\710b\20120327224006_hVhKm.thumb.600_0.jpe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6"/>
          <p:cNvSpPr txBox="1"/>
          <p:nvPr/>
        </p:nvSpPr>
        <p:spPr>
          <a:xfrm>
            <a:off x="2700360" y="476280"/>
            <a:ext cx="5551560" cy="743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宋体"/>
              </a:rPr>
              <a:t>鲸语文课件</a:t>
            </a:r>
            <a:r>
              <a:rPr b="0" lang="en-US" sz="4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宋体"/>
              </a:rPr>
              <a:t>模板下载</a:t>
            </a:r>
            <a:endParaRPr b="0" lang="en-US" sz="4000" spc="-1" strike="noStrike">
              <a:ln w="0">
                <a:noFill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会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确、流利、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鲸的种类、进化过程和生活习性，知道保护鲸的 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打比方、列数据等说明性文章的写作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8194"/>
          <p:cNvSpPr/>
          <p:nvPr/>
        </p:nvSpPr>
        <p:spPr>
          <a:xfrm>
            <a:off x="1692360" y="119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学习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课文，扫除文字障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检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捕获  宽敞  哺乳动物  前肢  退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胎生  滤过去  肺呼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默读课文，想想课文介绍了鲸的哪些知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5087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呼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睡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7"/>
          <p:cNvSpPr txBox="1"/>
          <p:nvPr/>
        </p:nvSpPr>
        <p:spPr>
          <a:xfrm rot="5400000">
            <a:off x="3814920" y="44020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生活习性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用你最喜欢的方式学习你最感兴趣的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95280" y="177336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5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活习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     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写作方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呼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睡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vert"/>
    <p:sndAc>
      <p:stSnd>
        <p:snd r:embed="rId1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感情的朗读感兴趣的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小组讨论学习感兴趣的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一画鲸的呼吸和睡觉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“鲸的自述”形式讲一讲鲸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E328-E093-4B14-9B46-27CE1FEAF1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比较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须鲸吃虾和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须鲸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主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吃虾和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鲸隔一定的时间呼吸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鲸隔一定的时间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必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呼吸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（鲸）睡觉的时候，几头聚在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鲸）睡觉的时候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总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几头聚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bigphoto11"/>
          <p:cNvPicPr/>
          <p:nvPr/>
        </p:nvPicPr>
        <p:blipFill>
          <a:blip r:embed="rId1"/>
          <a:stretch/>
        </p:blipFill>
        <p:spPr>
          <a:xfrm>
            <a:off x="0" y="0"/>
            <a:ext cx="9144000" cy="7151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bigphoto15"/>
          <p:cNvPicPr/>
          <p:nvPr/>
        </p:nvPicPr>
        <p:blipFill>
          <a:blip r:embed="rId1"/>
          <a:stretch/>
        </p:blipFill>
        <p:spPr>
          <a:xfrm>
            <a:off x="-612720" y="0"/>
            <a:ext cx="9756720" cy="7848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ome_007"/>
          <p:cNvPicPr/>
          <p:nvPr/>
        </p:nvPicPr>
        <p:blipFill>
          <a:blip r:embed="rId1"/>
          <a:stretch/>
        </p:blipFill>
        <p:spPr>
          <a:xfrm>
            <a:off x="0" y="-70956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ome_006"/>
          <p:cNvPicPr/>
          <p:nvPr/>
        </p:nvPicPr>
        <p:blipFill>
          <a:blip r:embed="rId1"/>
          <a:stretch/>
        </p:blipFill>
        <p:spPr>
          <a:xfrm>
            <a:off x="0" y="-70956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8194"/>
          <p:cNvSpPr/>
          <p:nvPr/>
        </p:nvSpPr>
        <p:spPr>
          <a:xfrm>
            <a:off x="111600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大翅鲸"/>
          <p:cNvPicPr/>
          <p:nvPr/>
        </p:nvPicPr>
        <p:blipFill>
          <a:blip r:embed="rId1"/>
          <a:stretch/>
        </p:blipFill>
        <p:spPr>
          <a:xfrm>
            <a:off x="-612720" y="0"/>
            <a:ext cx="11449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抹香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ing0001"/>
          <p:cNvPicPr/>
          <p:nvPr/>
        </p:nvPicPr>
        <p:blipFill>
          <a:blip r:embed="rId1"/>
          <a:stretch/>
        </p:blipFill>
        <p:spPr>
          <a:xfrm>
            <a:off x="0" y="0"/>
            <a:ext cx="3251160" cy="335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jing0002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335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jing0003"/>
          <p:cNvPicPr/>
          <p:nvPr/>
        </p:nvPicPr>
        <p:blipFill>
          <a:blip r:embed="rId3"/>
          <a:stretch/>
        </p:blipFill>
        <p:spPr>
          <a:xfrm>
            <a:off x="0" y="3357720"/>
            <a:ext cx="3430440" cy="350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jing0004"/>
          <p:cNvPicPr/>
          <p:nvPr/>
        </p:nvPicPr>
        <p:blipFill>
          <a:blip r:embed="rId4"/>
          <a:stretch/>
        </p:blipFill>
        <p:spPr>
          <a:xfrm>
            <a:off x="3203640" y="3213000"/>
            <a:ext cx="3168720" cy="3645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jing0005"/>
          <p:cNvPicPr/>
          <p:nvPr/>
        </p:nvPicPr>
        <p:blipFill>
          <a:blip r:embed="rId5"/>
          <a:stretch/>
        </p:blipFill>
        <p:spPr>
          <a:xfrm>
            <a:off x="6300720" y="3284640"/>
            <a:ext cx="2843280" cy="357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jing0006"/>
          <p:cNvPicPr/>
          <p:nvPr/>
        </p:nvPicPr>
        <p:blipFill>
          <a:blip r:embed="rId6"/>
          <a:stretch/>
        </p:blipFill>
        <p:spPr>
          <a:xfrm>
            <a:off x="3203640" y="0"/>
            <a:ext cx="3097080" cy="3284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7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ing0007"/>
          <p:cNvPicPr/>
          <p:nvPr/>
        </p:nvPicPr>
        <p:blipFill>
          <a:blip r:embed="rId1"/>
          <a:stretch/>
        </p:blipFill>
        <p:spPr>
          <a:xfrm>
            <a:off x="0" y="0"/>
            <a:ext cx="3059280" cy="3284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jing0009"/>
          <p:cNvPicPr/>
          <p:nvPr/>
        </p:nvPicPr>
        <p:blipFill>
          <a:blip r:embed="rId2"/>
          <a:stretch/>
        </p:blipFill>
        <p:spPr>
          <a:xfrm>
            <a:off x="3059280" y="0"/>
            <a:ext cx="3025440" cy="3284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jing0010"/>
          <p:cNvPicPr/>
          <p:nvPr/>
        </p:nvPicPr>
        <p:blipFill>
          <a:blip r:embed="rId3"/>
          <a:stretch/>
        </p:blipFill>
        <p:spPr>
          <a:xfrm>
            <a:off x="0" y="3284640"/>
            <a:ext cx="3236760" cy="3573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jing0011"/>
          <p:cNvPicPr/>
          <p:nvPr/>
        </p:nvPicPr>
        <p:blipFill>
          <a:blip r:embed="rId4"/>
          <a:stretch/>
        </p:blipFill>
        <p:spPr>
          <a:xfrm>
            <a:off x="6084720" y="0"/>
            <a:ext cx="3059280" cy="328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jing0012"/>
          <p:cNvPicPr/>
          <p:nvPr/>
        </p:nvPicPr>
        <p:blipFill>
          <a:blip r:embed="rId5"/>
          <a:stretch/>
        </p:blipFill>
        <p:spPr>
          <a:xfrm>
            <a:off x="3059280" y="3284640"/>
            <a:ext cx="3251160" cy="3573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jing0013"/>
          <p:cNvPicPr/>
          <p:nvPr/>
        </p:nvPicPr>
        <p:blipFill>
          <a:blip r:embed="rId6"/>
          <a:stretch/>
        </p:blipFill>
        <p:spPr>
          <a:xfrm>
            <a:off x="6156360" y="3284640"/>
            <a:ext cx="2987640" cy="3573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7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01:2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20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