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image7.jpeg" ContentType="image/jpeg"/>
  <Override PartName="/ppt/media/camera.wav" ContentType="audio/x-wav"/>
  <Override PartName="/ppt/media/image11.jpeg" ContentType="image/jpeg"/>
  <Override PartName="/ppt/media/image6.jpeg" ContentType="image/jpeg"/>
  <Override PartName="/ppt/media/chimes.wav" ContentType="audio/x-wav"/>
  <Override PartName="/ppt/media/image1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jpeg" ContentType="image/jpeg"/>
  <Override PartName="/ppt/media/image8.jpeg" ContentType="image/jpeg"/>
  <Override PartName="/ppt/media/projctor.wav" ContentType="audio/x-wav"/>
  <Override PartName="/ppt/media/image9.png" ContentType="image/png"/>
  <Override PartName="/ppt/media/type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22D-2BFF-429F-931C-0C0D49BD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951-C625-4223-B9C5-3178ABBF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9AD-B2B9-4B5B-AC06-27A5ECFB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E4F-9437-46B4-A9C8-F2C3AD40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0497-1C88-43A7-BA0B-EBBC72F4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9F61-CF21-49F8-BDB4-6D89A639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4C3-1FFB-4D31-A11F-444E951F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886A-F8D6-47BD-934A-A68C0444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E1F8-FD2D-4496-82B8-5851B8C3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8D33-03EC-48E2-927D-D1D6A1F2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CF7C-3C76-440F-8744-6FA6AB36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096-C736-407C-86EE-FD66EEA9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186B-D53F-425D-BE21-39ACC435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BE5D-21EB-4124-8279-AEF13FCC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12A-A7B7-401C-A936-5DE98C91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20D0-65B6-435D-8178-00A186B4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B808-2A1C-4A78-A167-2949F0B2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A393-D626-44BF-B3C1-E24613BF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6AAD-1C6C-4760-8E60-2465C990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08E0-F66A-4926-9879-D6FB6586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C8AD-E3FF-494F-AEEA-6D968043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7B2A-CEC0-442C-A31D-15600855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1A9-8F55-4BF5-876A-167C26DB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80A7-E499-4C55-872D-E4D7AE77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06D5-E20E-4A46-936F-1C98A1A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B451-51FC-4EA2-8D76-1FA19C8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AEC9-03B6-458A-A7DC-BA652D02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FEB7-AF87-4339-BF44-DEF551B5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5C07-45C8-424F-9D05-8B9C9FAE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5BD6-1992-494E-B6B1-3A741457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E46-6DF9-4053-9014-46EBD8AE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5E9-302E-49FE-896A-F5A0A102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300-75D6-4046-BE93-58E35B57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B82-2FA6-44CA-AF03-35C5649C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640-E8CA-4365-B5C6-D43B9BB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FF7-5244-4252-B1F6-B558065D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B05B-3634-4D0D-B43A-5FE05CE6023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C7B6-13E5-4128-B1B7-D60266F1BFB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208A-2890-4081-BE16-FDE994A125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A3AD-E742-4026-8015-233125C156C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8576-FED5-47A8-BC26-A41CABD06BC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Picture 1027" descr="PE02097_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715000"/>
          </a:xfrm>
          <a:prstGeom prst="rect">
            <a:avLst/>
          </a:prstGeom>
          <a:ln w="0">
            <a:noFill/>
          </a:ln>
        </p:spPr>
      </p:pic>
      <p:pic>
        <p:nvPicPr>
          <p:cNvPr id="134" name="Text Box 1026" descr=""/>
          <p:cNvPicPr/>
          <p:nvPr/>
        </p:nvPicPr>
        <p:blipFill>
          <a:blip r:embed="rId2"/>
          <a:stretch/>
        </p:blipFill>
        <p:spPr>
          <a:xfrm>
            <a:off x="343080" y="1555920"/>
            <a:ext cx="8458200" cy="96012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4F18-4E60-4D42-90FE-2BF7B4C46AB4}" type="slidenum">
              <a:rPr b="0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A27C-B881-4158-BB71-0360415BD8C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098960" y="428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6" name="Picture 3" descr="BJ_022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62120" y="781200"/>
            <a:ext cx="81532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作业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5b5249"/>
                </a:solidFill>
                <a:latin typeface="Times New Roman"/>
              </a:rPr>
              <a:t>做一些体贴父母的事，向老师汇报。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7"/>
          <p:cNvSpPr/>
          <p:nvPr/>
        </p:nvSpPr>
        <p:spPr>
          <a:xfrm>
            <a:off x="3754440" y="162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1348-E2B6-460E-8235-E42FFFC5C67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2" descr="PM_029"/>
          <p:cNvPicPr/>
          <p:nvPr/>
        </p:nvPicPr>
        <p:blipFill>
          <a:blip r:embed="rId1"/>
          <a:stretch/>
        </p:blipFill>
        <p:spPr>
          <a:xfrm>
            <a:off x="-609480" y="-1066680"/>
            <a:ext cx="10210680" cy="9448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85800" y="2057400"/>
            <a:ext cx="740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孩子们对老师提出的问题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开始的表现怎样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?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接着怎样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?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最后又是怎样的表现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0451-0A85-4D2B-B390-7A2E684D562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533520" y="1066680"/>
            <a:ext cx="80010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检查预习情况</a:t>
            </a: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、认识生字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华文细黑"/>
                <a:ea typeface="华文细黑"/>
              </a:rPr>
              <a:t>蕴藏</a:t>
            </a:r>
            <a:r>
              <a:rPr b="1" lang="zh-CN" sz="6000" spc="-1" strike="noStrike">
                <a:solidFill>
                  <a:srgbClr val="5b5249"/>
                </a:solidFill>
                <a:latin typeface="华文细黑"/>
                <a:ea typeface="华文细黑"/>
              </a:rPr>
              <a:t>     </a:t>
            </a:r>
            <a:r>
              <a:rPr b="1" lang="zh-CN" sz="6000" spc="-1" strike="noStrike">
                <a:solidFill>
                  <a:srgbClr val="cc0000"/>
                </a:solidFill>
                <a:latin typeface="华文细黑"/>
                <a:ea typeface="华文细黑"/>
              </a:rPr>
              <a:t>瞥见     稚拙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A946-575E-46E5-B7BD-02F219F9C18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0" y="38088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检查预习情况</a:t>
            </a: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r>
              <a:rPr b="1" lang="en-US" sz="4400" spc="-1" strike="noStrike">
                <a:solidFill>
                  <a:srgbClr val="5b5249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、请找出四个字的词语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371600" y="2438280"/>
            <a:ext cx="8077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神气十足、左顾右盼、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沉默不语、四面八方、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七嘴八舌、异口同声、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不约而同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C751-3F07-4AA1-9985-8B6227A8719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21337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6600" spc="-1" strike="noStrike">
                <a:solidFill>
                  <a:srgbClr val="5b5249"/>
                </a:solidFill>
                <a:latin typeface="Times New Roman"/>
              </a:rPr>
              <a:t>他们骄傲地举起了手，有的还神气十足地左顾右盼。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05520" y="4191120"/>
            <a:ext cx="3200400" cy="360"/>
            <a:chOff x="5105520" y="4191120"/>
            <a:chExt cx="3200400" cy="360"/>
          </a:xfrm>
        </p:grpSpPr>
        <p:sp>
          <p:nvSpPr>
            <p:cNvPr id="152" name="Line 4"/>
            <p:cNvSpPr/>
            <p:nvPr/>
          </p:nvSpPr>
          <p:spPr>
            <a:xfrm>
              <a:off x="5105520" y="419112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5105520" y="4191120"/>
              <a:ext cx="3200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00200" y="5334120"/>
            <a:ext cx="3200400" cy="360"/>
            <a:chOff x="1600200" y="5334120"/>
            <a:chExt cx="3200400" cy="360"/>
          </a:xfrm>
        </p:grpSpPr>
        <p:sp>
          <p:nvSpPr>
            <p:cNvPr id="155" name="Line 5"/>
            <p:cNvSpPr/>
            <p:nvPr/>
          </p:nvSpPr>
          <p:spPr>
            <a:xfrm>
              <a:off x="1600200" y="533412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600200" y="5334120"/>
              <a:ext cx="3200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7" name="Text Box 6"/>
          <p:cNvSpPr/>
          <p:nvPr/>
        </p:nvSpPr>
        <p:spPr>
          <a:xfrm>
            <a:off x="762120" y="9144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品尝句子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文本框 8200"/>
          <p:cNvSpPr/>
          <p:nvPr/>
        </p:nvSpPr>
        <p:spPr>
          <a:xfrm>
            <a:off x="1476360" y="587700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EDFA-B952-4893-B6E3-501BC21AB82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609480" y="146844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孩子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会感受爱了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，这还不够。我想去寻找蕴藏在他们心灵深处的、他们自己还没有意识到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极为珍贵的东西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85800" y="762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你体会到吗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143000" y="441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“会感受爱了”说的是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554200" y="5105520"/>
            <a:ext cx="47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“极为珍贵的东西”指的是什么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从这句话你懂得了老师的心意了吗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A99C-2D1F-444C-91CB-C6BE8BA04BF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7" name="Picture 2" descr="PM_015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9246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3581280" y="1600200"/>
            <a:ext cx="495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5b5249"/>
                </a:solidFill>
                <a:latin typeface="Times New Roman"/>
                <a:ea typeface="隶书"/>
              </a:rPr>
              <a:t>学到这里，你们明白课文为什么要用“可贵的沉默”做题目吗</a:t>
            </a:r>
            <a:r>
              <a:rPr b="1" lang="zh-CN" sz="6000" spc="-1" strike="noStrike">
                <a:solidFill>
                  <a:srgbClr val="5b5249"/>
                </a:solidFill>
                <a:latin typeface="Times New Roman"/>
                <a:ea typeface="隶书"/>
              </a:rPr>
              <a:t>？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文本框 8200"/>
          <p:cNvSpPr/>
          <p:nvPr/>
        </p:nvSpPr>
        <p:spPr>
          <a:xfrm>
            <a:off x="2987640" y="630864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2AC9-FBB3-49A9-B6F6-F8E965F6559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2" name="Picture 2" descr="PM_009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7191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066680" y="2819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295280" y="2743200"/>
            <a:ext cx="544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学了这篇课文，你以后会怎样对待爸爸妈妈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648320" y="1371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小组交流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6" name="22.MP3" descr=""/>
          <p:cNvPicPr/>
          <p:nvPr/>
        </p:nvPicPr>
        <p:blipFill>
          <a:blip r:embed="rId2"/>
          <a:stretch/>
        </p:blipFill>
        <p:spPr>
          <a:xfrm>
            <a:off x="609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2E4E-BBF1-48BA-8032-95EB53CD828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63680" y="1371600"/>
            <a:ext cx="868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66"/>
                </a:solidFill>
                <a:latin typeface="Times New Roman"/>
              </a:rPr>
              <a:t>啊，我真快活！这一片沉默给了我多大的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享受</a:t>
            </a:r>
            <a:r>
              <a:rPr b="1" lang="zh-CN" sz="6000" spc="-1" strike="noStrike">
                <a:solidFill>
                  <a:srgbClr val="000066"/>
                </a:solidFill>
                <a:latin typeface="Times New Roman"/>
              </a:rPr>
              <a:t>啊！在沉默中，这些小家伙终于懂得要回报父母对自己的爱了。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19920" y="4191120"/>
            <a:ext cx="3124080" cy="360"/>
            <a:chOff x="6019920" y="4191120"/>
            <a:chExt cx="3124080" cy="360"/>
          </a:xfrm>
        </p:grpSpPr>
        <p:sp>
          <p:nvSpPr>
            <p:cNvPr id="181" name="Line 4"/>
            <p:cNvSpPr/>
            <p:nvPr/>
          </p:nvSpPr>
          <p:spPr>
            <a:xfrm>
              <a:off x="6019920" y="4191120"/>
              <a:ext cx="3124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019920" y="419112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09480" y="5105520"/>
            <a:ext cx="8229600" cy="360"/>
            <a:chOff x="609480" y="5105520"/>
            <a:chExt cx="8229600" cy="360"/>
          </a:xfrm>
        </p:grpSpPr>
        <p:sp>
          <p:nvSpPr>
            <p:cNvPr id="184" name="Line 5"/>
            <p:cNvSpPr/>
            <p:nvPr/>
          </p:nvSpPr>
          <p:spPr>
            <a:xfrm>
              <a:off x="609480" y="5105520"/>
              <a:ext cx="8229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09480" y="5105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62120" y="6172200"/>
            <a:ext cx="4038480" cy="360"/>
            <a:chOff x="762120" y="6172200"/>
            <a:chExt cx="4038480" cy="360"/>
          </a:xfrm>
        </p:grpSpPr>
        <p:sp>
          <p:nvSpPr>
            <p:cNvPr id="187" name="Line 6"/>
            <p:cNvSpPr/>
            <p:nvPr/>
          </p:nvSpPr>
          <p:spPr>
            <a:xfrm>
              <a:off x="762120" y="6172200"/>
              <a:ext cx="4038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762120" y="6172200"/>
              <a:ext cx="4038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0:16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21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