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5.png" ContentType="image/png"/>
  <Override PartName="/ppt/media/image6.gif" ContentType="image/gif"/>
  <Override PartName="/ppt/media/image4.jpeg" ContentType="image/jpeg"/>
  <Override PartName="/ppt/media/image3.jpeg" ContentType="image/jpeg"/>
  <Override PartName="/ppt/media/image2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EB2-800D-4DAC-A19E-BD9D4C6F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F95-CA8B-4ED8-8A17-AA45BF12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987-AECC-4402-BB39-1E601BB5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707-9485-41FF-9244-0035C74A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9161-D602-41DA-A7FD-32FDDF7C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9047-78D4-4668-AEAB-BF8E6993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4A76-D220-4BB4-81DB-10E6D15A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21B6-AA69-43D8-8D41-8B7CD22F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78D9-EEFE-45D8-83C8-303E90D7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0C98-2FDD-4AB9-A937-B580DAF2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AC54-F8AD-42B5-826D-C7167657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EB1-5D20-46F6-83C7-123D8376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8B0E-77AF-4BA9-8E02-3E6DC407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31E-E512-4F6A-9CE0-CF939B23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D2A8-52AB-4B0A-A054-F255DC3D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18CC-385A-43DD-9FBB-32A0216F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217B-6F5D-4077-B2EC-E67D3FD1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E31-089A-441A-8FBC-C43188BF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B13-CF1F-41C0-9538-4A26AB5A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444-2225-463A-A304-4EF19EEE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1D2-8730-473C-8BFA-A47518DA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4EA-A932-4591-BD54-F5B9710F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2BF-8C14-4BB3-A86B-8C6BBB2F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E4F-7515-4AF8-B0C9-F6560C23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234B-583E-4B1C-B7D0-623381308B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6E4A-31DA-4CB2-ACD4-1C7587529FA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8BC7-3B39-4137-BC35-E1189C83B5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图片18907676"/>
          <p:cNvPicPr/>
          <p:nvPr/>
        </p:nvPicPr>
        <p:blipFill>
          <a:blip r:embed="rId1"/>
          <a:stretch/>
        </p:blipFill>
        <p:spPr>
          <a:xfrm>
            <a:off x="-9360" y="0"/>
            <a:ext cx="91659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>
            <a:off x="1162080" y="1689120"/>
            <a:ext cx="69231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课件分与合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模板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50880" y="1027080"/>
            <a:ext cx="53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</a:rPr>
              <a:t>一年级数学上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图片14623626"/>
          <p:cNvPicPr/>
          <p:nvPr/>
        </p:nvPicPr>
        <p:blipFill>
          <a:blip r:embed="rId1"/>
          <a:stretch/>
        </p:blipFill>
        <p:spPr>
          <a:xfrm>
            <a:off x="206280" y="635040"/>
            <a:ext cx="8758440" cy="58942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370240" y="1990800"/>
            <a:ext cx="18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一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3454560" y="2917800"/>
            <a:ext cx="812520" cy="72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5194440" y="2916360"/>
            <a:ext cx="812520" cy="725400"/>
          </a:xfrm>
          <a:prstGeom prst="ellipse">
            <a:avLst/>
          </a:prstGeom>
          <a:solidFill>
            <a:srgbClr val="ff99cc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6"/>
          <p:cNvGrpSpPr/>
          <p:nvPr/>
        </p:nvGrpSpPr>
        <p:grpSpPr>
          <a:xfrm>
            <a:off x="3654360" y="3979800"/>
            <a:ext cx="1768320" cy="1820880"/>
            <a:chOff x="3654360" y="3979800"/>
            <a:chExt cx="1768320" cy="1820880"/>
          </a:xfrm>
        </p:grpSpPr>
        <p:sp>
          <p:nvSpPr>
            <p:cNvPr id="228" name="Text Box 7"/>
            <p:cNvSpPr/>
            <p:nvPr/>
          </p:nvSpPr>
          <p:spPr>
            <a:xfrm>
              <a:off x="4335120" y="39798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4098600" y="4645080"/>
              <a:ext cx="463680" cy="485640"/>
              <a:chOff x="4098600" y="4645080"/>
              <a:chExt cx="463680" cy="485640"/>
            </a:xfrm>
          </p:grpSpPr>
          <p:sp>
            <p:nvSpPr>
              <p:cNvPr id="230" name="Line 8"/>
              <p:cNvSpPr/>
              <p:nvPr/>
            </p:nvSpPr>
            <p:spPr>
              <a:xfrm flipH="1">
                <a:off x="4098600" y="4645080"/>
                <a:ext cx="463320" cy="4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4098960" y="4645080"/>
                <a:ext cx="46332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562280" y="4645080"/>
              <a:ext cx="493920" cy="457200"/>
              <a:chOff x="4562280" y="4645080"/>
              <a:chExt cx="493920" cy="457200"/>
            </a:xfrm>
          </p:grpSpPr>
          <p:sp>
            <p:nvSpPr>
              <p:cNvPr id="233" name="Line 9"/>
              <p:cNvSpPr/>
              <p:nvPr/>
            </p:nvSpPr>
            <p:spPr>
              <a:xfrm>
                <a:off x="4562280" y="4645080"/>
                <a:ext cx="49392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4562280" y="4645080"/>
                <a:ext cx="4939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Rectangle 10"/>
            <p:cNvSpPr/>
            <p:nvPr/>
          </p:nvSpPr>
          <p:spPr>
            <a:xfrm>
              <a:off x="3654360" y="5162760"/>
              <a:ext cx="652320" cy="63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"/>
            <p:cNvSpPr/>
            <p:nvPr/>
          </p:nvSpPr>
          <p:spPr>
            <a:xfrm>
              <a:off x="4770360" y="5159520"/>
              <a:ext cx="652320" cy="6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12"/>
          <p:cNvSpPr/>
          <p:nvPr/>
        </p:nvSpPr>
        <p:spPr>
          <a:xfrm>
            <a:off x="3727440" y="50529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4846680" y="5054760"/>
            <a:ext cx="46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图片14623626"/>
          <p:cNvPicPr/>
          <p:nvPr/>
        </p:nvPicPr>
        <p:blipFill>
          <a:blip r:embed="rId1"/>
          <a:stretch/>
        </p:blipFill>
        <p:spPr>
          <a:xfrm>
            <a:off x="200160" y="644400"/>
            <a:ext cx="8758080" cy="5894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2370240" y="1990800"/>
            <a:ext cx="18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一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"/>
          <p:cNvSpPr/>
          <p:nvPr/>
        </p:nvSpPr>
        <p:spPr>
          <a:xfrm>
            <a:off x="3801960" y="2989440"/>
            <a:ext cx="812880" cy="72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5194440" y="3003480"/>
            <a:ext cx="812520" cy="725400"/>
          </a:xfrm>
          <a:prstGeom prst="ellipse">
            <a:avLst/>
          </a:prstGeom>
          <a:solidFill>
            <a:srgbClr val="ff99cc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6"/>
          <p:cNvGrpSpPr/>
          <p:nvPr/>
        </p:nvGrpSpPr>
        <p:grpSpPr>
          <a:xfrm>
            <a:off x="2039760" y="3979800"/>
            <a:ext cx="1768320" cy="1820880"/>
            <a:chOff x="2039760" y="3979800"/>
            <a:chExt cx="1768320" cy="1820880"/>
          </a:xfrm>
        </p:grpSpPr>
        <p:sp>
          <p:nvSpPr>
            <p:cNvPr id="245" name="Text Box 7"/>
            <p:cNvSpPr/>
            <p:nvPr/>
          </p:nvSpPr>
          <p:spPr>
            <a:xfrm>
              <a:off x="2720520" y="39798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2484000" y="4645080"/>
              <a:ext cx="463680" cy="485640"/>
              <a:chOff x="2484000" y="4645080"/>
              <a:chExt cx="463680" cy="485640"/>
            </a:xfrm>
          </p:grpSpPr>
          <p:sp>
            <p:nvSpPr>
              <p:cNvPr id="247" name="Line 8"/>
              <p:cNvSpPr/>
              <p:nvPr/>
            </p:nvSpPr>
            <p:spPr>
              <a:xfrm flipH="1">
                <a:off x="2484000" y="4645080"/>
                <a:ext cx="463320" cy="4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2484360" y="4645080"/>
                <a:ext cx="46332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2947680" y="4645080"/>
              <a:ext cx="493920" cy="457200"/>
              <a:chOff x="2947680" y="4645080"/>
              <a:chExt cx="493920" cy="457200"/>
            </a:xfrm>
          </p:grpSpPr>
          <p:sp>
            <p:nvSpPr>
              <p:cNvPr id="250" name="Line 9"/>
              <p:cNvSpPr/>
              <p:nvPr/>
            </p:nvSpPr>
            <p:spPr>
              <a:xfrm>
                <a:off x="2947680" y="4645080"/>
                <a:ext cx="49392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2947680" y="4645080"/>
                <a:ext cx="4939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ctangle 10"/>
            <p:cNvSpPr/>
            <p:nvPr/>
          </p:nvSpPr>
          <p:spPr>
            <a:xfrm>
              <a:off x="2039760" y="5162760"/>
              <a:ext cx="652320" cy="63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1"/>
            <p:cNvSpPr/>
            <p:nvPr/>
          </p:nvSpPr>
          <p:spPr>
            <a:xfrm>
              <a:off x="3155760" y="5159520"/>
              <a:ext cx="652320" cy="6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12"/>
          <p:cNvSpPr/>
          <p:nvPr/>
        </p:nvSpPr>
        <p:spPr>
          <a:xfrm>
            <a:off x="2112840" y="50529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232080" y="5054760"/>
            <a:ext cx="46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2798640" y="3003480"/>
            <a:ext cx="812880" cy="72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4870440" y="3852720"/>
            <a:ext cx="1768320" cy="1820880"/>
            <a:chOff x="4870440" y="3852720"/>
            <a:chExt cx="1768320" cy="1820880"/>
          </a:xfrm>
        </p:grpSpPr>
        <p:sp>
          <p:nvSpPr>
            <p:cNvPr id="258" name="Text Box 16"/>
            <p:cNvSpPr/>
            <p:nvPr/>
          </p:nvSpPr>
          <p:spPr>
            <a:xfrm>
              <a:off x="5551200" y="38527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314680" y="4518000"/>
              <a:ext cx="463680" cy="485640"/>
              <a:chOff x="5314680" y="4518000"/>
              <a:chExt cx="463680" cy="485640"/>
            </a:xfrm>
          </p:grpSpPr>
          <p:sp>
            <p:nvSpPr>
              <p:cNvPr id="260" name="Line 17"/>
              <p:cNvSpPr/>
              <p:nvPr/>
            </p:nvSpPr>
            <p:spPr>
              <a:xfrm flipH="1">
                <a:off x="5314680" y="4518000"/>
                <a:ext cx="463320" cy="4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5315040" y="4518000"/>
                <a:ext cx="46332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778360" y="4518000"/>
              <a:ext cx="493920" cy="457200"/>
              <a:chOff x="5778360" y="4518000"/>
              <a:chExt cx="493920" cy="457200"/>
            </a:xfrm>
          </p:grpSpPr>
          <p:sp>
            <p:nvSpPr>
              <p:cNvPr id="263" name="Line 18"/>
              <p:cNvSpPr/>
              <p:nvPr/>
            </p:nvSpPr>
            <p:spPr>
              <a:xfrm>
                <a:off x="5778360" y="4518000"/>
                <a:ext cx="49392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5778360" y="4518000"/>
                <a:ext cx="4939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Rectangle 19"/>
            <p:cNvSpPr/>
            <p:nvPr/>
          </p:nvSpPr>
          <p:spPr>
            <a:xfrm>
              <a:off x="4870440" y="5035680"/>
              <a:ext cx="652320" cy="63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0"/>
            <p:cNvSpPr/>
            <p:nvPr/>
          </p:nvSpPr>
          <p:spPr>
            <a:xfrm>
              <a:off x="5986440" y="5032440"/>
              <a:ext cx="652320" cy="6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1"/>
          <p:cNvSpPr/>
          <p:nvPr/>
        </p:nvSpPr>
        <p:spPr>
          <a:xfrm>
            <a:off x="4943160" y="4925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6062760" y="4927680"/>
            <a:ext cx="46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CB99-D688-450E-B246-D016822639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25600" y="1552680"/>
            <a:ext cx="8069040" cy="32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498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66"/>
                </a:solidFill>
                <a:latin typeface="Arial"/>
              </a:rPr>
              <a:t>总结：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通过对本课的学习，同学们学会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分与合了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93560" y="1233360"/>
            <a:ext cx="847584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66"/>
                </a:solidFill>
                <a:latin typeface="Arial"/>
              </a:rPr>
              <a:t>学习目标：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使同学们能够熟悉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组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能够熟练记忆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组成与分解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u=246154440,2622632992&amp;fm=0&amp;gp=0[1]"/>
          <p:cNvPicPr/>
          <p:nvPr/>
        </p:nvPicPr>
        <p:blipFill>
          <a:blip r:embed="rId1"/>
          <a:stretch/>
        </p:blipFill>
        <p:spPr>
          <a:xfrm>
            <a:off x="466560" y="1687680"/>
            <a:ext cx="1339920" cy="100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u=246154440,2622632992&amp;fm=0&amp;gp=0[1]"/>
          <p:cNvPicPr/>
          <p:nvPr/>
        </p:nvPicPr>
        <p:blipFill>
          <a:blip r:embed="rId2"/>
          <a:stretch/>
        </p:blipFill>
        <p:spPr>
          <a:xfrm>
            <a:off x="2246400" y="1687680"/>
            <a:ext cx="1339920" cy="100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u=246154440,2622632992&amp;fm=0&amp;gp=0[1]"/>
          <p:cNvPicPr/>
          <p:nvPr/>
        </p:nvPicPr>
        <p:blipFill>
          <a:blip r:embed="rId3"/>
          <a:stretch/>
        </p:blipFill>
        <p:spPr>
          <a:xfrm>
            <a:off x="457200" y="3197160"/>
            <a:ext cx="1339920" cy="1006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u=246154440,2622632992&amp;fm=0&amp;gp=0[1]"/>
          <p:cNvPicPr/>
          <p:nvPr/>
        </p:nvPicPr>
        <p:blipFill>
          <a:blip r:embed="rId4"/>
          <a:stretch/>
        </p:blipFill>
        <p:spPr>
          <a:xfrm>
            <a:off x="2246400" y="2997360"/>
            <a:ext cx="1339920" cy="1006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u=246154440,2622632992&amp;fm=0&amp;gp=0[1]"/>
          <p:cNvPicPr/>
          <p:nvPr/>
        </p:nvPicPr>
        <p:blipFill>
          <a:blip r:embed="rId5"/>
          <a:stretch/>
        </p:blipFill>
        <p:spPr>
          <a:xfrm>
            <a:off x="1797120" y="41292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2916360" y="557280"/>
            <a:ext cx="61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放在两个筐里，有几种情况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196"/>
          <p:cNvSpPr/>
          <p:nvPr/>
        </p:nvSpPr>
        <p:spPr>
          <a:xfrm>
            <a:off x="1104840" y="50212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模板下载 免费完整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u=246154440,2622632992&amp;fm=0&amp;gp=0[1]"/>
          <p:cNvPicPr/>
          <p:nvPr/>
        </p:nvPicPr>
        <p:blipFill>
          <a:blip r:embed="rId1"/>
          <a:stretch/>
        </p:blipFill>
        <p:spPr>
          <a:xfrm>
            <a:off x="6062760" y="9216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u=246154440,2622632992&amp;fm=0&amp;gp=0[1]"/>
          <p:cNvPicPr/>
          <p:nvPr/>
        </p:nvPicPr>
        <p:blipFill>
          <a:blip r:embed="rId2"/>
          <a:stretch/>
        </p:blipFill>
        <p:spPr>
          <a:xfrm>
            <a:off x="5076720" y="9216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u=246154440,2622632992&amp;fm=0&amp;gp=0[1]"/>
          <p:cNvPicPr/>
          <p:nvPr/>
        </p:nvPicPr>
        <p:blipFill>
          <a:blip r:embed="rId3"/>
          <a:stretch/>
        </p:blipFill>
        <p:spPr>
          <a:xfrm>
            <a:off x="6927840" y="9216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u=246154440,2622632992&amp;fm=0&amp;gp=0[1]"/>
          <p:cNvPicPr/>
          <p:nvPr/>
        </p:nvPicPr>
        <p:blipFill>
          <a:blip r:embed="rId4"/>
          <a:stretch/>
        </p:blipFill>
        <p:spPr>
          <a:xfrm>
            <a:off x="1332000" y="277920"/>
            <a:ext cx="1339920" cy="820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u=246154440,2622632992&amp;fm=0&amp;gp=0[1]"/>
          <p:cNvPicPr/>
          <p:nvPr/>
        </p:nvPicPr>
        <p:blipFill>
          <a:blip r:embed="rId5"/>
          <a:stretch/>
        </p:blipFill>
        <p:spPr>
          <a:xfrm>
            <a:off x="1576440" y="227952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u=246154440,2622632992&amp;fm=0&amp;gp=0[1]"/>
          <p:cNvPicPr/>
          <p:nvPr/>
        </p:nvPicPr>
        <p:blipFill>
          <a:blip r:embed="rId6"/>
          <a:stretch/>
        </p:blipFill>
        <p:spPr>
          <a:xfrm>
            <a:off x="2246400" y="198900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u=246154440,2622632992&amp;fm=0&amp;gp=0[1]"/>
          <p:cNvPicPr/>
          <p:nvPr/>
        </p:nvPicPr>
        <p:blipFill>
          <a:blip r:embed="rId7"/>
          <a:stretch/>
        </p:blipFill>
        <p:spPr>
          <a:xfrm>
            <a:off x="5811840" y="227952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u=246154440,2622632992&amp;fm=0&amp;gp=0[1]"/>
          <p:cNvPicPr/>
          <p:nvPr/>
        </p:nvPicPr>
        <p:blipFill>
          <a:blip r:embed="rId8"/>
          <a:stretch/>
        </p:blipFill>
        <p:spPr>
          <a:xfrm>
            <a:off x="6705720" y="2279520"/>
            <a:ext cx="1339560" cy="100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u=246154440,2622632992&amp;fm=0&amp;gp=0[1]"/>
          <p:cNvPicPr/>
          <p:nvPr/>
        </p:nvPicPr>
        <p:blipFill>
          <a:blip r:embed="rId9"/>
          <a:stretch/>
        </p:blipFill>
        <p:spPr>
          <a:xfrm>
            <a:off x="458640" y="395928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u=246154440,2622632992&amp;fm=0&amp;gp=0[1]"/>
          <p:cNvPicPr/>
          <p:nvPr/>
        </p:nvPicPr>
        <p:blipFill>
          <a:blip r:embed="rId10"/>
          <a:stretch/>
        </p:blipFill>
        <p:spPr>
          <a:xfrm>
            <a:off x="1798560" y="395928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u=246154440,2622632992&amp;fm=0&amp;gp=0[1]"/>
          <p:cNvPicPr/>
          <p:nvPr/>
        </p:nvPicPr>
        <p:blipFill>
          <a:blip r:embed="rId11"/>
          <a:stretch/>
        </p:blipFill>
        <p:spPr>
          <a:xfrm>
            <a:off x="2462040" y="395928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u=246154440,2622632992&amp;fm=0&amp;gp=0[1]"/>
          <p:cNvPicPr/>
          <p:nvPr/>
        </p:nvPicPr>
        <p:blipFill>
          <a:blip r:embed="rId12"/>
          <a:stretch/>
        </p:blipFill>
        <p:spPr>
          <a:xfrm>
            <a:off x="6257880" y="4151160"/>
            <a:ext cx="1339920" cy="10065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4"/>
          <p:cNvGrpSpPr/>
          <p:nvPr/>
        </p:nvGrpSpPr>
        <p:grpSpPr>
          <a:xfrm>
            <a:off x="3362400" y="233280"/>
            <a:ext cx="1662120" cy="1204560"/>
            <a:chOff x="3362400" y="233280"/>
            <a:chExt cx="1662120" cy="1204560"/>
          </a:xfrm>
        </p:grpSpPr>
        <p:sp>
          <p:nvSpPr>
            <p:cNvPr id="114" name="Rectangle 15"/>
            <p:cNvSpPr/>
            <p:nvPr/>
          </p:nvSpPr>
          <p:spPr>
            <a:xfrm>
              <a:off x="3916440" y="23328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4470480" y="105372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3362400" y="105372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638880" y="617400"/>
              <a:ext cx="482400" cy="436320"/>
              <a:chOff x="3638880" y="617400"/>
              <a:chExt cx="482400" cy="436320"/>
            </a:xfrm>
          </p:grpSpPr>
          <p:sp>
            <p:nvSpPr>
              <p:cNvPr id="118" name="Line 18"/>
              <p:cNvSpPr/>
              <p:nvPr/>
            </p:nvSpPr>
            <p:spPr>
              <a:xfrm flipH="1">
                <a:off x="3638880" y="617400"/>
                <a:ext cx="48204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3639240" y="617400"/>
                <a:ext cx="482040" cy="43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4121640" y="617400"/>
              <a:ext cx="576000" cy="436320"/>
              <a:chOff x="4121640" y="617400"/>
              <a:chExt cx="576000" cy="436320"/>
            </a:xfrm>
          </p:grpSpPr>
          <p:sp>
            <p:nvSpPr>
              <p:cNvPr id="121" name="Line 19"/>
              <p:cNvSpPr/>
              <p:nvPr/>
            </p:nvSpPr>
            <p:spPr>
              <a:xfrm>
                <a:off x="4121640" y="617400"/>
                <a:ext cx="57600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4121640" y="617400"/>
                <a:ext cx="576000" cy="43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0"/>
          <p:cNvGrpSpPr/>
          <p:nvPr/>
        </p:nvGrpSpPr>
        <p:grpSpPr>
          <a:xfrm>
            <a:off x="3801960" y="2279520"/>
            <a:ext cx="1662120" cy="1203480"/>
            <a:chOff x="3801960" y="2279520"/>
            <a:chExt cx="1662120" cy="1203480"/>
          </a:xfrm>
        </p:grpSpPr>
        <p:sp>
          <p:nvSpPr>
            <p:cNvPr id="124" name="Rectangle 21"/>
            <p:cNvSpPr/>
            <p:nvPr/>
          </p:nvSpPr>
          <p:spPr>
            <a:xfrm>
              <a:off x="4356000" y="2279520"/>
              <a:ext cx="554040" cy="38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2"/>
            <p:cNvSpPr/>
            <p:nvPr/>
          </p:nvSpPr>
          <p:spPr>
            <a:xfrm>
              <a:off x="4910040" y="3099240"/>
              <a:ext cx="554040" cy="38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3"/>
            <p:cNvSpPr/>
            <p:nvPr/>
          </p:nvSpPr>
          <p:spPr>
            <a:xfrm>
              <a:off x="3801960" y="3099240"/>
              <a:ext cx="554040" cy="38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078440" y="2663280"/>
              <a:ext cx="482400" cy="435600"/>
              <a:chOff x="4078440" y="2663280"/>
              <a:chExt cx="482400" cy="435600"/>
            </a:xfrm>
          </p:grpSpPr>
          <p:sp>
            <p:nvSpPr>
              <p:cNvPr id="128" name="Line 24"/>
              <p:cNvSpPr/>
              <p:nvPr/>
            </p:nvSpPr>
            <p:spPr>
              <a:xfrm flipH="1">
                <a:off x="4078440" y="2663280"/>
                <a:ext cx="48204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078800" y="2663280"/>
                <a:ext cx="48204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561200" y="2663280"/>
              <a:ext cx="576000" cy="435600"/>
              <a:chOff x="4561200" y="2663280"/>
              <a:chExt cx="576000" cy="435600"/>
            </a:xfrm>
          </p:grpSpPr>
          <p:sp>
            <p:nvSpPr>
              <p:cNvPr id="131" name="Line 25"/>
              <p:cNvSpPr/>
              <p:nvPr/>
            </p:nvSpPr>
            <p:spPr>
              <a:xfrm>
                <a:off x="4561200" y="2663280"/>
                <a:ext cx="57600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4561200" y="2663280"/>
                <a:ext cx="57600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26"/>
          <p:cNvGrpSpPr/>
          <p:nvPr/>
        </p:nvGrpSpPr>
        <p:grpSpPr>
          <a:xfrm>
            <a:off x="3995640" y="4462560"/>
            <a:ext cx="1662120" cy="1204560"/>
            <a:chOff x="3995640" y="4462560"/>
            <a:chExt cx="1662120" cy="1204560"/>
          </a:xfrm>
        </p:grpSpPr>
        <p:sp>
          <p:nvSpPr>
            <p:cNvPr id="134" name="Rectangle 27"/>
            <p:cNvSpPr/>
            <p:nvPr/>
          </p:nvSpPr>
          <p:spPr>
            <a:xfrm>
              <a:off x="4549680" y="446256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8"/>
            <p:cNvSpPr/>
            <p:nvPr/>
          </p:nvSpPr>
          <p:spPr>
            <a:xfrm>
              <a:off x="5103720" y="528300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9"/>
            <p:cNvSpPr/>
            <p:nvPr/>
          </p:nvSpPr>
          <p:spPr>
            <a:xfrm>
              <a:off x="3995640" y="528300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272120" y="4846680"/>
              <a:ext cx="482400" cy="436320"/>
              <a:chOff x="4272120" y="4846680"/>
              <a:chExt cx="482400" cy="436320"/>
            </a:xfrm>
          </p:grpSpPr>
          <p:sp>
            <p:nvSpPr>
              <p:cNvPr id="138" name="Line 30"/>
              <p:cNvSpPr/>
              <p:nvPr/>
            </p:nvSpPr>
            <p:spPr>
              <a:xfrm flipH="1">
                <a:off x="4272120" y="4846680"/>
                <a:ext cx="48204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4272480" y="4846680"/>
                <a:ext cx="482040" cy="43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754880" y="4846680"/>
              <a:ext cx="576000" cy="436320"/>
              <a:chOff x="4754880" y="4846680"/>
              <a:chExt cx="576000" cy="436320"/>
            </a:xfrm>
          </p:grpSpPr>
          <p:sp>
            <p:nvSpPr>
              <p:cNvPr id="141" name="Line 31"/>
              <p:cNvSpPr/>
              <p:nvPr/>
            </p:nvSpPr>
            <p:spPr>
              <a:xfrm>
                <a:off x="4754880" y="4846680"/>
                <a:ext cx="57600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4754880" y="4846680"/>
                <a:ext cx="576000" cy="43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Text Box 32"/>
          <p:cNvSpPr/>
          <p:nvPr/>
        </p:nvSpPr>
        <p:spPr>
          <a:xfrm>
            <a:off x="3995640" y="11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3419640" y="9158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4500720" y="9079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4411800" y="2133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3924360" y="2965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4930920" y="299736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4572000" y="43257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4067280" y="5165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0"/>
          <p:cNvSpPr/>
          <p:nvPr/>
        </p:nvSpPr>
        <p:spPr>
          <a:xfrm>
            <a:off x="5024520" y="51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9"/>
          <p:cNvSpPr/>
          <p:nvPr/>
        </p:nvSpPr>
        <p:spPr>
          <a:xfrm>
            <a:off x="4432320" y="34574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33360" y="620640"/>
            <a:ext cx="8810640" cy="5904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531880" y="122544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Arial"/>
                <a:ea typeface="华文彩云"/>
              </a:rPr>
              <a:t>做一做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4977720" y="3213000"/>
            <a:ext cx="3447000" cy="2519640"/>
            <a:chOff x="4977720" y="3213000"/>
            <a:chExt cx="3447000" cy="2519640"/>
          </a:xfrm>
        </p:grpSpPr>
        <p:sp>
          <p:nvSpPr>
            <p:cNvPr id="157" name="Text Box 5"/>
            <p:cNvSpPr/>
            <p:nvPr/>
          </p:nvSpPr>
          <p:spPr>
            <a:xfrm>
              <a:off x="4977720" y="4797360"/>
              <a:ext cx="1521720" cy="764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加油啊！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6" descr="女孩"/>
            <p:cNvPicPr/>
            <p:nvPr/>
          </p:nvPicPr>
          <p:blipFill>
            <a:blip r:embed="rId2"/>
            <a:stretch/>
          </p:blipFill>
          <p:spPr>
            <a:xfrm>
              <a:off x="7164360" y="3213000"/>
              <a:ext cx="1260360" cy="251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做一做4"/>
          <p:cNvPicPr/>
          <p:nvPr/>
        </p:nvPicPr>
        <p:blipFill>
          <a:blip r:embed="rId1"/>
          <a:srcRect l="0" t="0" r="2500" b="0"/>
          <a:stretch/>
        </p:blipFill>
        <p:spPr>
          <a:xfrm>
            <a:off x="422280" y="406440"/>
            <a:ext cx="8172360" cy="296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做一做5"/>
          <p:cNvPicPr/>
          <p:nvPr/>
        </p:nvPicPr>
        <p:blipFill>
          <a:blip r:embed="rId2"/>
          <a:srcRect l="0" t="0" r="77196" b="58187"/>
          <a:stretch/>
        </p:blipFill>
        <p:spPr>
          <a:xfrm>
            <a:off x="1698480" y="3730680"/>
            <a:ext cx="1981440" cy="1241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2552760" y="488628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437920" y="5400720"/>
            <a:ext cx="305280" cy="457200"/>
            <a:chOff x="2437920" y="5400720"/>
            <a:chExt cx="305280" cy="457200"/>
          </a:xfrm>
        </p:grpSpPr>
        <p:sp>
          <p:nvSpPr>
            <p:cNvPr id="165" name="Line 7"/>
            <p:cNvSpPr/>
            <p:nvPr/>
          </p:nvSpPr>
          <p:spPr>
            <a:xfrm flipH="1">
              <a:off x="2437920" y="54007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2438280" y="540072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43200" y="5400720"/>
            <a:ext cx="304920" cy="457200"/>
            <a:chOff x="2743200" y="5400720"/>
            <a:chExt cx="304920" cy="457200"/>
          </a:xfrm>
        </p:grpSpPr>
        <p:sp>
          <p:nvSpPr>
            <p:cNvPr id="168" name="Line 8"/>
            <p:cNvSpPr/>
            <p:nvPr/>
          </p:nvSpPr>
          <p:spPr>
            <a:xfrm>
              <a:off x="2743200" y="54007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743200" y="540072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1"/>
          <p:cNvSpPr/>
          <p:nvPr/>
        </p:nvSpPr>
        <p:spPr>
          <a:xfrm>
            <a:off x="6280200" y="48150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165360" y="5329080"/>
            <a:ext cx="305280" cy="457200"/>
            <a:chOff x="6165360" y="5329080"/>
            <a:chExt cx="305280" cy="457200"/>
          </a:xfrm>
        </p:grpSpPr>
        <p:sp>
          <p:nvSpPr>
            <p:cNvPr id="172" name="Line 12"/>
            <p:cNvSpPr/>
            <p:nvPr/>
          </p:nvSpPr>
          <p:spPr>
            <a:xfrm flipH="1">
              <a:off x="6165360" y="53290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6165720" y="532908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470640" y="5329080"/>
            <a:ext cx="304920" cy="457200"/>
            <a:chOff x="6470640" y="5329080"/>
            <a:chExt cx="304920" cy="457200"/>
          </a:xfrm>
        </p:grpSpPr>
        <p:sp>
          <p:nvSpPr>
            <p:cNvPr id="175" name="Line 13"/>
            <p:cNvSpPr/>
            <p:nvPr/>
          </p:nvSpPr>
          <p:spPr>
            <a:xfrm>
              <a:off x="6470640" y="53290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6470640" y="532908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21" descr="做一做5"/>
          <p:cNvPicPr/>
          <p:nvPr/>
        </p:nvPicPr>
        <p:blipFill>
          <a:blip r:embed="rId3"/>
          <a:srcRect l="39473" t="0" r="37720" b="58187"/>
          <a:stretch/>
        </p:blipFill>
        <p:spPr>
          <a:xfrm>
            <a:off x="5445000" y="3659040"/>
            <a:ext cx="1981440" cy="1241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3"/>
          <p:cNvSpPr/>
          <p:nvPr/>
        </p:nvSpPr>
        <p:spPr>
          <a:xfrm>
            <a:off x="2844720" y="5937120"/>
            <a:ext cx="506520" cy="435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6545160" y="5878440"/>
            <a:ext cx="565200" cy="434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5802480" y="5935680"/>
            <a:ext cx="506160" cy="434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1"/>
          <p:cNvSpPr/>
          <p:nvPr/>
        </p:nvSpPr>
        <p:spPr>
          <a:xfrm>
            <a:off x="2144880" y="5935680"/>
            <a:ext cx="506160" cy="434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2"/>
          <p:cNvSpPr/>
          <p:nvPr/>
        </p:nvSpPr>
        <p:spPr>
          <a:xfrm>
            <a:off x="1521000" y="870120"/>
            <a:ext cx="301320" cy="49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01300000822820128806205169847"/>
          <p:cNvPicPr/>
          <p:nvPr/>
        </p:nvPicPr>
        <p:blipFill>
          <a:blip r:embed="rId1"/>
          <a:stretch/>
        </p:blipFill>
        <p:spPr>
          <a:xfrm>
            <a:off x="179280" y="2511360"/>
            <a:ext cx="3494160" cy="218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01300000822820128806205169847"/>
          <p:cNvPicPr/>
          <p:nvPr/>
        </p:nvPicPr>
        <p:blipFill>
          <a:blip r:embed="rId2"/>
          <a:stretch/>
        </p:blipFill>
        <p:spPr>
          <a:xfrm>
            <a:off x="4645080" y="1773360"/>
            <a:ext cx="3494160" cy="218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01300000822820128806205169847"/>
          <p:cNvPicPr/>
          <p:nvPr/>
        </p:nvPicPr>
        <p:blipFill>
          <a:blip r:embed="rId3"/>
          <a:stretch/>
        </p:blipFill>
        <p:spPr>
          <a:xfrm>
            <a:off x="179280" y="4697280"/>
            <a:ext cx="3494160" cy="21862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01300000822820128806205169847"/>
          <p:cNvPicPr/>
          <p:nvPr/>
        </p:nvPicPr>
        <p:blipFill>
          <a:blip r:embed="rId4"/>
          <a:stretch/>
        </p:blipFill>
        <p:spPr>
          <a:xfrm>
            <a:off x="5192640" y="4697280"/>
            <a:ext cx="3494160" cy="2186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01300000822820128806205169847"/>
          <p:cNvPicPr/>
          <p:nvPr/>
        </p:nvPicPr>
        <p:blipFill>
          <a:blip r:embed="rId5"/>
          <a:stretch/>
        </p:blipFill>
        <p:spPr>
          <a:xfrm>
            <a:off x="2484360" y="3603600"/>
            <a:ext cx="3907080" cy="2444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01300000822820128806205169847"/>
          <p:cNvPicPr/>
          <p:nvPr/>
        </p:nvPicPr>
        <p:blipFill>
          <a:blip r:embed="rId6"/>
          <a:stretch/>
        </p:blipFill>
        <p:spPr>
          <a:xfrm>
            <a:off x="1255680" y="44280"/>
            <a:ext cx="2457360" cy="1538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4033800" y="635040"/>
            <a:ext cx="46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成两堆，怎样分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ppt模板下载 免费完整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01300000822820128806205169847"/>
          <p:cNvPicPr/>
          <p:nvPr/>
        </p:nvPicPr>
        <p:blipFill>
          <a:blip r:embed="rId1"/>
          <a:stretch/>
        </p:blipFill>
        <p:spPr>
          <a:xfrm>
            <a:off x="6737400" y="4870440"/>
            <a:ext cx="2459160" cy="1536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01300000822820128806205169847"/>
          <p:cNvPicPr/>
          <p:nvPr/>
        </p:nvPicPr>
        <p:blipFill>
          <a:blip r:embed="rId2"/>
          <a:stretch/>
        </p:blipFill>
        <p:spPr>
          <a:xfrm>
            <a:off x="5508720" y="2611440"/>
            <a:ext cx="2457360" cy="1538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01300000822820128806205169847"/>
          <p:cNvPicPr/>
          <p:nvPr/>
        </p:nvPicPr>
        <p:blipFill>
          <a:blip r:embed="rId3"/>
          <a:stretch/>
        </p:blipFill>
        <p:spPr>
          <a:xfrm>
            <a:off x="5724360" y="3141720"/>
            <a:ext cx="2459160" cy="1538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01300000822820128806205169847"/>
          <p:cNvPicPr/>
          <p:nvPr/>
        </p:nvPicPr>
        <p:blipFill>
          <a:blip r:embed="rId4"/>
          <a:stretch/>
        </p:blipFill>
        <p:spPr>
          <a:xfrm>
            <a:off x="34920" y="117360"/>
            <a:ext cx="2079720" cy="1301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1300000822820128806205169847"/>
          <p:cNvPicPr/>
          <p:nvPr/>
        </p:nvPicPr>
        <p:blipFill>
          <a:blip r:embed="rId5"/>
          <a:stretch/>
        </p:blipFill>
        <p:spPr>
          <a:xfrm>
            <a:off x="4919760" y="476280"/>
            <a:ext cx="2233440" cy="139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01300000822820128806205169847"/>
          <p:cNvPicPr/>
          <p:nvPr/>
        </p:nvPicPr>
        <p:blipFill>
          <a:blip r:embed="rId6"/>
          <a:stretch/>
        </p:blipFill>
        <p:spPr>
          <a:xfrm>
            <a:off x="900000" y="641520"/>
            <a:ext cx="1970280" cy="1231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01300000822820128806205169847"/>
          <p:cNvPicPr/>
          <p:nvPr/>
        </p:nvPicPr>
        <p:blipFill>
          <a:blip r:embed="rId7"/>
          <a:stretch/>
        </p:blipFill>
        <p:spPr>
          <a:xfrm>
            <a:off x="6445080" y="476280"/>
            <a:ext cx="2062440" cy="1292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1300000822820128806205169847"/>
          <p:cNvPicPr/>
          <p:nvPr/>
        </p:nvPicPr>
        <p:blipFill>
          <a:blip r:embed="rId8"/>
          <a:stretch/>
        </p:blipFill>
        <p:spPr>
          <a:xfrm>
            <a:off x="2181240" y="903240"/>
            <a:ext cx="1380960" cy="865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01300000822820128806205169847"/>
          <p:cNvPicPr/>
          <p:nvPr/>
        </p:nvPicPr>
        <p:blipFill>
          <a:blip r:embed="rId9"/>
          <a:stretch/>
        </p:blipFill>
        <p:spPr>
          <a:xfrm>
            <a:off x="27000" y="292572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01300000822820128806205169847"/>
          <p:cNvPicPr/>
          <p:nvPr/>
        </p:nvPicPr>
        <p:blipFill>
          <a:blip r:embed="rId10"/>
          <a:stretch/>
        </p:blipFill>
        <p:spPr>
          <a:xfrm>
            <a:off x="1122480" y="2825640"/>
            <a:ext cx="2116080" cy="1324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01300000822820128806205169847"/>
          <p:cNvPicPr/>
          <p:nvPr/>
        </p:nvPicPr>
        <p:blipFill>
          <a:blip r:embed="rId11"/>
          <a:stretch/>
        </p:blipFill>
        <p:spPr>
          <a:xfrm>
            <a:off x="4495680" y="2825640"/>
            <a:ext cx="2457720" cy="153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01300000822820128806205169847"/>
          <p:cNvPicPr/>
          <p:nvPr/>
        </p:nvPicPr>
        <p:blipFill>
          <a:blip r:embed="rId12"/>
          <a:stretch/>
        </p:blipFill>
        <p:spPr>
          <a:xfrm>
            <a:off x="34920" y="4680000"/>
            <a:ext cx="2459160" cy="1536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01300000822820128806205169847"/>
          <p:cNvPicPr/>
          <p:nvPr/>
        </p:nvPicPr>
        <p:blipFill>
          <a:blip r:embed="rId13"/>
          <a:stretch/>
        </p:blipFill>
        <p:spPr>
          <a:xfrm>
            <a:off x="5508720" y="4870440"/>
            <a:ext cx="2457360" cy="1536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01300000822820128806205169847"/>
          <p:cNvPicPr/>
          <p:nvPr/>
        </p:nvPicPr>
        <p:blipFill>
          <a:blip r:embed="rId14"/>
          <a:stretch/>
        </p:blipFill>
        <p:spPr>
          <a:xfrm>
            <a:off x="4495680" y="4870440"/>
            <a:ext cx="2457720" cy="15368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6"/>
          <p:cNvSpPr/>
          <p:nvPr/>
        </p:nvSpPr>
        <p:spPr>
          <a:xfrm>
            <a:off x="4008600" y="9032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3521160" y="1736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4527720" y="176832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719520" y="2825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3232080" y="36576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4240080" y="3689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3432240" y="4680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2943360" y="551196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3951360" y="5543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5" descr="01300000822820128806205169847"/>
          <p:cNvPicPr/>
          <p:nvPr/>
        </p:nvPicPr>
        <p:blipFill>
          <a:blip r:embed="rId15"/>
          <a:stretch/>
        </p:blipFill>
        <p:spPr>
          <a:xfrm>
            <a:off x="5724360" y="5448240"/>
            <a:ext cx="24591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379440" y="237960"/>
            <a:ext cx="6834240" cy="3625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2"/>
          <a:stretch/>
        </p:blipFill>
        <p:spPr>
          <a:xfrm>
            <a:off x="360360" y="3746520"/>
            <a:ext cx="71866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48555E-006 L -5.55556E-007 -2.48555E-006 E">
                                      <p:cBhvr>
                                        <p:cTn id="231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01Z</dcterms:modified>
  <cp:revision>14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