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9D7-4F66-4B7E-9468-F331CB26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BC3-1F68-40A4-AC95-6B5482D9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E90-3776-46CD-8470-6088FE52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248-CAC7-4421-8F84-EFDA2BC1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053F-072B-4463-B94B-B61D1076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0CE8-F8EB-4C83-B49B-61C1929F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DBFD-9385-4B5A-ABDD-87BC66C2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CC4A-23AA-42DB-A0B8-3BFAE24B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8920-C48E-4CC5-BF9A-52E937A5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30A5-CF8E-4687-99C2-4AF8AEC0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D41-B0D1-47C1-BA3F-A9DAC9C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E3C-924E-4736-B5EC-08B64B17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2611-7B98-434B-8799-8EA5C235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78F6-C15C-4783-BCA6-00CDE0AF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5337-C6B5-44A1-B6C9-9D9B44D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B8A7-DA42-43FF-B5D3-EC906A01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10D2-D3ED-4471-9878-9DA49D4B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C0B-2C7E-46AD-AF6B-23C4A2FA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9D1-5872-40B4-B2CB-6065145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C77-4E65-4E63-82CC-A8A03007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827-519C-4AE2-B8B4-2C0BC4E7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C61-5A52-4DD8-93F0-B1519A1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95F-BC28-4F7B-9DC9-1148E7C3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AE9-6E25-499F-9996-AC592CEA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28A-AB14-49C5-A59B-AE9C5E2B0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D695-CEB1-4928-9CAF-705919443AF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2B6E-459C-4268-8528-59107FDE82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xinsrc_77e7ae1d04c643f4bbcdf0eeb984a897"/>
          <p:cNvPicPr/>
          <p:nvPr/>
        </p:nvPicPr>
        <p:blipFill>
          <a:blip r:embed="rId2"/>
          <a:stretch/>
        </p:blipFill>
        <p:spPr>
          <a:xfrm>
            <a:off x="2268360" y="189000"/>
            <a:ext cx="4680000" cy="611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398520" y="4290840"/>
            <a:ext cx="871524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宋体"/>
                <a:ea typeface="宋体"/>
              </a:rPr>
              <a:t>雷锋叔叔，你在哪里课件</a:t>
            </a:r>
            <a:r>
              <a:rPr b="0" lang="en-US" sz="4000" spc="-1" strike="noStrike">
                <a:solidFill>
                  <a:srgbClr val="ffff66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66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23160" y="260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册第６课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幻灯片之家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" name="Picture 4" descr="xinsrc_dfee777cf30643af866cc21daa3f3ba1"/>
          <p:cNvPicPr/>
          <p:nvPr/>
        </p:nvPicPr>
        <p:blipFill>
          <a:blip r:embed="rId2"/>
          <a:stretch/>
        </p:blipFill>
        <p:spPr>
          <a:xfrm>
            <a:off x="324000" y="549360"/>
            <a:ext cx="3887640" cy="525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xinsimple_4478460532794efab76df78339771c77"/>
          <p:cNvPicPr/>
          <p:nvPr/>
        </p:nvPicPr>
        <p:blipFill>
          <a:blip r:embed="rId3"/>
          <a:stretch/>
        </p:blipFill>
        <p:spPr>
          <a:xfrm>
            <a:off x="4643280" y="476280"/>
            <a:ext cx="4105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1" name="Picture 4" descr="未标题-2"/>
          <p:cNvPicPr/>
          <p:nvPr/>
        </p:nvPicPr>
        <p:blipFill>
          <a:blip r:embed="rId1"/>
          <a:stretch/>
        </p:blipFill>
        <p:spPr>
          <a:xfrm>
            <a:off x="611280" y="549360"/>
            <a:ext cx="70768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24000" y="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雷锋叔叔牺牲以后，好几位国家领导人为他题词。毛泽东主席的题词是：“向雷锋同志学习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4" name="Picture 3" descr="xinsrc_ee9a555f8bc24a62965ecc6917616d84"/>
          <p:cNvPicPr/>
          <p:nvPr/>
        </p:nvPicPr>
        <p:blipFill>
          <a:blip r:embed="rId1"/>
          <a:stretch/>
        </p:blipFill>
        <p:spPr>
          <a:xfrm>
            <a:off x="539640" y="1819440"/>
            <a:ext cx="3527640" cy="4705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xinsrc_6e2b9b4a75c1451fbb70ef1a88888a13"/>
          <p:cNvPicPr/>
          <p:nvPr/>
        </p:nvPicPr>
        <p:blipFill>
          <a:blip r:embed="rId2"/>
          <a:stretch/>
        </p:blipFill>
        <p:spPr>
          <a:xfrm>
            <a:off x="4716360" y="1844640"/>
            <a:ext cx="374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79280" y="260280"/>
            <a:ext cx="1022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哪里需要献出爱心，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雷锋叔叔就出现在哪里</a:t>
            </a:r>
            <a:r>
              <a:rPr b="1" lang="zh-CN" sz="6600" spc="-1" strike="noStrike">
                <a:solidFill>
                  <a:srgbClr val="cc0099"/>
                </a:solidFill>
                <a:latin typeface="Arial"/>
                <a:ea typeface="黑体"/>
              </a:rPr>
              <a:t>。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912680" y="350028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哪里需要献出爱心，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我们就出现在哪里。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1187280" y="2637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835280" y="0"/>
            <a:ext cx="705780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ff"/>
                </a:solidFill>
                <a:latin typeface="黑体"/>
                <a:ea typeface="黑体"/>
              </a:rPr>
              <a:t>长长的（　）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黑体"/>
                <a:ea typeface="黑体"/>
              </a:rPr>
              <a:t>蒙蒙的（　）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6633"/>
                </a:solidFill>
                <a:latin typeface="黑体"/>
                <a:ea typeface="黑体"/>
              </a:rPr>
              <a:t>弯弯的（　）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黑体"/>
                <a:ea typeface="黑体"/>
              </a:rPr>
              <a:t>晶莹的（　）</a:t>
            </a:r>
            <a:r>
              <a:rPr b="1" lang="zh-CN" sz="8000" spc="-1" strike="noStrike">
                <a:solidFill>
                  <a:srgbClr val="00cc66"/>
                </a:solidFill>
                <a:latin typeface="黑体"/>
                <a:ea typeface="黑体"/>
              </a:rPr>
              <a:t>温暖的（　）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95280" y="260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黑体"/>
              </a:rPr>
              <a:t>　　　　　</a:t>
            </a: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我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不但在小溪旁、小路边找到了雷锋叔叔，我还在　　　　也找到了雷锋叔叔的足迹。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Arial"/>
                <a:ea typeface="黑体"/>
              </a:rPr>
              <a:t>　　　　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641960" y="3068640"/>
            <a:ext cx="576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　　　　　需要献出爱心，雷锋叔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叔就出现在　　　　　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11280" y="501336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　　　　需要献出爱心，我们就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出现在　　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227640" y="1557360"/>
            <a:ext cx="2376720" cy="360"/>
            <a:chOff x="6227640" y="1557360"/>
            <a:chExt cx="2376720" cy="360"/>
          </a:xfrm>
        </p:grpSpPr>
        <p:sp>
          <p:nvSpPr>
            <p:cNvPr id="137" name="Line 9"/>
            <p:cNvSpPr/>
            <p:nvPr/>
          </p:nvSpPr>
          <p:spPr>
            <a:xfrm>
              <a:off x="6227640" y="155736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6227640" y="155736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348000" y="4292640"/>
            <a:ext cx="2376360" cy="360"/>
            <a:chOff x="3348000" y="4292640"/>
            <a:chExt cx="2376360" cy="360"/>
          </a:xfrm>
        </p:grpSpPr>
        <p:sp>
          <p:nvSpPr>
            <p:cNvPr id="140" name="Line 10"/>
            <p:cNvSpPr/>
            <p:nvPr/>
          </p:nvSpPr>
          <p:spPr>
            <a:xfrm>
              <a:off x="3348000" y="429264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348000" y="4292640"/>
              <a:ext cx="23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63640" y="3645000"/>
            <a:ext cx="1440000" cy="360"/>
            <a:chOff x="1763640" y="3645000"/>
            <a:chExt cx="1440000" cy="360"/>
          </a:xfrm>
        </p:grpSpPr>
        <p:sp>
          <p:nvSpPr>
            <p:cNvPr id="143" name="Line 11"/>
            <p:cNvSpPr/>
            <p:nvPr/>
          </p:nvSpPr>
          <p:spPr>
            <a:xfrm>
              <a:off x="1763640" y="364500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763640" y="364500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663560" y="5661000"/>
            <a:ext cx="1079640" cy="360"/>
            <a:chOff x="1663560" y="5661000"/>
            <a:chExt cx="1079640" cy="360"/>
          </a:xfrm>
        </p:grpSpPr>
        <p:sp>
          <p:nvSpPr>
            <p:cNvPr id="146" name="Line 12"/>
            <p:cNvSpPr/>
            <p:nvPr/>
          </p:nvSpPr>
          <p:spPr>
            <a:xfrm>
              <a:off x="1663560" y="5661000"/>
              <a:ext cx="1079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1663560" y="5661000"/>
              <a:ext cx="10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268360" y="6308640"/>
            <a:ext cx="935280" cy="360"/>
            <a:chOff x="2268360" y="6308640"/>
            <a:chExt cx="935280" cy="360"/>
          </a:xfrm>
        </p:grpSpPr>
        <p:sp>
          <p:nvSpPr>
            <p:cNvPr id="149" name="Line 13"/>
            <p:cNvSpPr/>
            <p:nvPr/>
          </p:nvSpPr>
          <p:spPr>
            <a:xfrm>
              <a:off x="2268360" y="6308640"/>
              <a:ext cx="935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268360" y="6308640"/>
              <a:ext cx="9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" name="Rectangle 14"/>
          <p:cNvSpPr/>
          <p:nvPr/>
        </p:nvSpPr>
        <p:spPr>
          <a:xfrm>
            <a:off x="1774800" y="501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哪里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330640" y="566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哪里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2855160" y="1052640"/>
            <a:ext cx="4986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Arial"/>
                <a:ea typeface="楷体_GB2312"/>
              </a:rPr>
              <a:t>滴　洒</a:t>
            </a:r>
            <a:endParaRPr b="0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Arial"/>
                <a:ea typeface="楷体_GB2312"/>
              </a:rPr>
              <a:t>泥　泞</a:t>
            </a:r>
            <a:endParaRPr b="0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250920" y="0"/>
            <a:ext cx="3529080" cy="1844640"/>
          </a:xfrm>
          <a:prstGeom prst="cloudCallout">
            <a:avLst>
              <a:gd name="adj1" fmla="val -50180"/>
              <a:gd name="adj2" fmla="val 6093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198800" y="1494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黑体"/>
              </a:rPr>
              <a:t>我会写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8" name="Picture 2" descr="背景29"/>
          <p:cNvPicPr/>
          <p:nvPr/>
        </p:nvPicPr>
        <p:blipFill>
          <a:blip r:embed="rId2"/>
          <a:stretch/>
        </p:blipFill>
        <p:spPr>
          <a:xfrm>
            <a:off x="1116000" y="907920"/>
            <a:ext cx="6837480" cy="514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874600" y="1922400"/>
            <a:ext cx="37468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cc"/>
                </a:solidFill>
                <a:latin typeface="Arial"/>
                <a:ea typeface="黑体"/>
              </a:rPr>
              <a:t>谢谢指导</a:t>
            </a:r>
            <a:endParaRPr b="0" lang="en-US" sz="11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1" name="Picture 4" descr="xinsrc_67b76a598d594b529cd69c105dc1f426"/>
          <p:cNvPicPr/>
          <p:nvPr/>
        </p:nvPicPr>
        <p:blipFill>
          <a:blip r:embed="rId1"/>
          <a:stretch/>
        </p:blipFill>
        <p:spPr>
          <a:xfrm>
            <a:off x="900000" y="1268280"/>
            <a:ext cx="770436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3" name="Picture 4" descr="xinsrc_47a4660b40f34e8290880d89958a504d"/>
          <p:cNvPicPr/>
          <p:nvPr/>
        </p:nvPicPr>
        <p:blipFill>
          <a:blip r:embed="rId1"/>
          <a:stretch/>
        </p:blipFill>
        <p:spPr>
          <a:xfrm>
            <a:off x="1692360" y="692280"/>
            <a:ext cx="5545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684360" y="1989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泥泞　脚窝　冒着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曾经　年迈　荆棘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花瓣　晶莹　寻觅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需要　汗滴　洒下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AutoShape 1028"/>
          <p:cNvSpPr/>
          <p:nvPr/>
        </p:nvSpPr>
        <p:spPr>
          <a:xfrm>
            <a:off x="2050920" y="0"/>
            <a:ext cx="4176720" cy="1735200"/>
          </a:xfrm>
          <a:prstGeom prst="cloudCallout">
            <a:avLst>
              <a:gd name="adj1" fmla="val -48629"/>
              <a:gd name="adj2" fmla="val 5704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 Box 1029"/>
          <p:cNvSpPr/>
          <p:nvPr/>
        </p:nvSpPr>
        <p:spPr>
          <a:xfrm>
            <a:off x="3276360" y="260280"/>
            <a:ext cx="168948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99"/>
                </a:solidFill>
                <a:latin typeface="Arial"/>
                <a:ea typeface="华文彩云"/>
              </a:rPr>
              <a:t>我会读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40AE-2403-4AF2-8873-0012091214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9" name="Picture 4" descr="xinsimple_4478460532794efab76df78339771c77"/>
          <p:cNvPicPr/>
          <p:nvPr/>
        </p:nvPicPr>
        <p:blipFill>
          <a:blip r:embed="rId1"/>
          <a:stretch/>
        </p:blipFill>
        <p:spPr>
          <a:xfrm>
            <a:off x="1692360" y="692280"/>
            <a:ext cx="5506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52712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2" name="Picture 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2368440" y="404640"/>
            <a:ext cx="475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黑体"/>
              </a:rPr>
              <a:t>沿着长长的小溪，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黑体"/>
              </a:rPr>
              <a:t>寻找雷锋的足迹。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黑体"/>
              </a:rPr>
              <a:t>雷锋叔叔，你在哪里，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黑体"/>
              </a:rPr>
              <a:t>你在哪里？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152712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6" name="Picture 3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527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39920" y="836640"/>
            <a:ext cx="52099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Arial"/>
                <a:ea typeface="黑体"/>
              </a:rPr>
              <a:t>沿着弯弯的小路，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Arial"/>
                <a:ea typeface="黑体"/>
              </a:rPr>
              <a:t>寻找雷锋的足迹。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Arial"/>
                <a:ea typeface="黑体"/>
              </a:rPr>
              <a:t>雷锋叔叔，你在哪里，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Arial"/>
                <a:ea typeface="黑体"/>
              </a:rPr>
              <a:t>你在哪里？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900000" y="404640"/>
            <a:ext cx="7704360" cy="4210200"/>
          </a:xfrm>
          <a:prstGeom prst="cloudCallout">
            <a:avLst>
              <a:gd name="adj1" fmla="val -45199"/>
              <a:gd name="adj2" fmla="val 577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56200" y="108432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99"/>
                </a:solidFill>
                <a:latin typeface="Arial"/>
                <a:ea typeface="黑体"/>
              </a:rPr>
              <a:t>老师讲故事了，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99"/>
                </a:solidFill>
                <a:latin typeface="Arial"/>
                <a:ea typeface="黑体"/>
              </a:rPr>
              <a:t>我要认真听喔！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971640" y="476280"/>
            <a:ext cx="7777080" cy="4392720"/>
          </a:xfrm>
          <a:prstGeom prst="cloudCallout">
            <a:avLst>
              <a:gd name="adj1" fmla="val -49490"/>
              <a:gd name="adj2" fmla="val 4107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583720" y="1557360"/>
            <a:ext cx="44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我头脑中出现了雷锋叔叔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背着年迈的老大娘的样子，我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想讲给你们听，好吗？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79280" y="2133720"/>
            <a:ext cx="1022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哪里需要献出爱心，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雷锋叔叔就出现在哪里。</a:t>
            </a:r>
            <a:r>
              <a:rPr b="1" lang="zh-CN" sz="6600" spc="-1" strike="noStrike">
                <a:solidFill>
                  <a:srgbClr val="cc3399"/>
                </a:solidFill>
                <a:latin typeface="Arial"/>
                <a:ea typeface="黑体"/>
              </a:rPr>
              <a:t>　　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1908000" y="0"/>
            <a:ext cx="6409080" cy="2166840"/>
          </a:xfrm>
          <a:prstGeom prst="cloudCallout">
            <a:avLst>
              <a:gd name="adj1" fmla="val -50643"/>
              <a:gd name="adj2" fmla="val 5425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735720" y="6922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知道雷锋叔叔的故事吗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643280" y="198900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雷锋叔叔是一名解放军战士，只活了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22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岁。他为人民做了许多好事。当时流传这样一句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雷锋出差一千里，好事做了一火车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1" name="Picture 3" descr="3"/>
          <p:cNvPicPr/>
          <p:nvPr/>
        </p:nvPicPr>
        <p:blipFill>
          <a:blip r:embed="rId2"/>
          <a:stretch/>
        </p:blipFill>
        <p:spPr>
          <a:xfrm>
            <a:off x="179280" y="260280"/>
            <a:ext cx="4176720" cy="6264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5003640" y="0"/>
            <a:ext cx="3816360" cy="1735200"/>
          </a:xfrm>
          <a:prstGeom prst="cloudCallout">
            <a:avLst>
              <a:gd name="adj1" fmla="val -42638"/>
              <a:gd name="adj2" fmla="val 6033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0000" y="2602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Arial"/>
                <a:ea typeface="黑体"/>
              </a:rPr>
              <a:t>我知道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5" name="Picture 1034" descr="2"/>
          <p:cNvPicPr/>
          <p:nvPr/>
        </p:nvPicPr>
        <p:blipFill>
          <a:blip r:embed="rId2"/>
          <a:stretch/>
        </p:blipFill>
        <p:spPr>
          <a:xfrm>
            <a:off x="4716360" y="765000"/>
            <a:ext cx="4140360" cy="517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35" descr="xinsrc_47a4660b40f34e8290880d89958a504d"/>
          <p:cNvPicPr/>
          <p:nvPr/>
        </p:nvPicPr>
        <p:blipFill>
          <a:blip r:embed="rId3"/>
          <a:stretch/>
        </p:blipFill>
        <p:spPr>
          <a:xfrm>
            <a:off x="250920" y="765000"/>
            <a:ext cx="4321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7:36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12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