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BFA9-9566-4059-8F34-3E4A7011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0BDB-6BDC-47EA-9FC2-5BB9FE29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632-A54F-4487-8AC5-80A1780D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4C3D-668F-4C65-8B78-8B0F40A6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40CE-1841-4C4D-A734-10764720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3AFA-9AF7-4B41-9BBD-5E868C20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BAB1-C554-4E60-8698-9A27DBB0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D46F-2238-4682-B947-70138277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F56B-F2AB-421D-8636-5B25FB4B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62C6-2626-4E3F-968F-B1D038B6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CBD0-CF5A-4F2C-986E-578FE454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69BC-61B3-4F2D-BE3A-7D8A8CA1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0C34-63D6-4AA3-8D0F-69A400B7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A5D5-A4E5-4ADC-8B6E-1166C0C2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DE0C-72DC-47BD-9256-5C9EB1B7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1913-EF02-4CFF-9D72-B39BCE29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D080-A4E3-47B7-9AED-A4228900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3064-C979-4722-BDC4-0EEDDB67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5F22-6AEA-4D21-98D2-38BD9143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1E2-23C7-4656-9F65-3A7A1A74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C7B8-4391-4598-9216-74F1BF9B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6DE2-CDA4-461D-8A24-DE6F066B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672-76C3-49C7-B925-FCFBE89E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08D-F16D-46A6-99A4-7D7406A9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1832-32EF-4384-9FED-36294DE48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FBE1-27D2-45FB-A6C9-F4E70FD4D3E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832F-CC6B-4B44-AEB1-8076B0F58E9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7" descr=""/>
          <p:cNvPicPr/>
          <p:nvPr/>
        </p:nvPicPr>
        <p:blipFill>
          <a:blip r:embed="rId2"/>
          <a:stretch/>
        </p:blipFill>
        <p:spPr>
          <a:xfrm>
            <a:off x="1339920" y="1824120"/>
            <a:ext cx="6770520" cy="85248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685800" y="835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筑这条路的人一定有一颗高尚的心。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button106"/>
          <p:cNvPicPr/>
          <p:nvPr/>
        </p:nvPicPr>
        <p:blipFill>
          <a:blip r:embed="rId2"/>
          <a:stretch/>
        </p:blipFill>
        <p:spPr>
          <a:xfrm>
            <a:off x="8305920" y="600876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533520" y="28954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句话赞美了工程师和筑路工人珍爱树木、保护环境的高尚品质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85800" y="835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筑这条路的人一定有一颗高尚的心。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F744-FE33-496D-B50C-2331347AB3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6"/>
          <p:cNvSpPr/>
          <p:nvPr/>
        </p:nvSpPr>
        <p:spPr>
          <a:xfrm>
            <a:off x="952560" y="7542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3" descr="《路旁的橡树》课文插图一"/>
          <p:cNvPicPr/>
          <p:nvPr/>
        </p:nvPicPr>
        <p:blipFill>
          <a:blip r:embed="rId2"/>
          <a:stretch/>
        </p:blipFill>
        <p:spPr>
          <a:xfrm>
            <a:off x="0" y="0"/>
            <a:ext cx="4572000" cy="3435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4" descr="《路旁的橡树》课文插图二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914400" y="220968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课文朗读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5562720" y="220968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词语学习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914400" y="365760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句段赏析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88" name="WordArt 10"/>
          <p:cNvSpPr txBox="1"/>
          <p:nvPr/>
        </p:nvSpPr>
        <p:spPr>
          <a:xfrm>
            <a:off x="5562720" y="365760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复述课文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62120" y="7621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xi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à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571680" y="1447920"/>
            <a:ext cx="8001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橡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      平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坦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灌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木 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未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来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路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03848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tǎ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548640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gu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à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137160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w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è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380988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p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594360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y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á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8200"/>
          <p:cNvSpPr/>
          <p:nvPr/>
        </p:nvSpPr>
        <p:spPr>
          <a:xfrm>
            <a:off x="1260360" y="522936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sh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à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71680" y="1447920"/>
            <a:ext cx="8001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哨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兵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楔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子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责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沥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      射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箭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65760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xi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01992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z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66688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l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41008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ji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à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04920" y="16002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990720" y="1143000"/>
            <a:ext cx="75960" cy="1752480"/>
          </a:xfrm>
          <a:custGeom>
            <a:avLst/>
            <a:gdLst>
              <a:gd name="textAreaLeft" fmla="*/ 48600 w 75960"/>
              <a:gd name="textAreaRight" fmla="*/ 76320 w 759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62120" y="990720"/>
            <a:ext cx="280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762120" y="2286000"/>
            <a:ext cx="280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124080" y="3733920"/>
            <a:ext cx="31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590920" y="1600200"/>
            <a:ext cx="1828800" cy="360"/>
            <a:chOff x="2590920" y="1600200"/>
            <a:chExt cx="1828800" cy="360"/>
          </a:xfrm>
        </p:grpSpPr>
        <p:sp>
          <p:nvSpPr>
            <p:cNvPr id="112" name="Line 10"/>
            <p:cNvSpPr/>
            <p:nvPr/>
          </p:nvSpPr>
          <p:spPr>
            <a:xfrm>
              <a:off x="2590920" y="16002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2590920" y="160020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590920" y="2895480"/>
            <a:ext cx="1828800" cy="360"/>
            <a:chOff x="2590920" y="2895480"/>
            <a:chExt cx="1828800" cy="360"/>
          </a:xfrm>
        </p:grpSpPr>
        <p:sp>
          <p:nvSpPr>
            <p:cNvPr id="115" name="Line 11"/>
            <p:cNvSpPr/>
            <p:nvPr/>
          </p:nvSpPr>
          <p:spPr>
            <a:xfrm>
              <a:off x="2590920" y="28954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2590920" y="28954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Text Box 14"/>
          <p:cNvSpPr/>
          <p:nvPr/>
        </p:nvSpPr>
        <p:spPr>
          <a:xfrm>
            <a:off x="4724280" y="16002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5"/>
          <p:cNvSpPr/>
          <p:nvPr/>
        </p:nvSpPr>
        <p:spPr>
          <a:xfrm>
            <a:off x="5486400" y="1143000"/>
            <a:ext cx="76320" cy="1752480"/>
          </a:xfrm>
          <a:custGeom>
            <a:avLst/>
            <a:gdLst>
              <a:gd name="textAreaLeft" fmla="*/ 48960 w 76320"/>
              <a:gd name="textAreaRight" fmla="*/ 76320 w 763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5257800" y="990720"/>
            <a:ext cx="291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5257800" y="2286000"/>
            <a:ext cx="269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086600" y="1600200"/>
            <a:ext cx="1828800" cy="360"/>
            <a:chOff x="7086600" y="1600200"/>
            <a:chExt cx="1828800" cy="360"/>
          </a:xfrm>
        </p:grpSpPr>
        <p:sp>
          <p:nvSpPr>
            <p:cNvPr id="122" name="Line 20"/>
            <p:cNvSpPr/>
            <p:nvPr/>
          </p:nvSpPr>
          <p:spPr>
            <a:xfrm>
              <a:off x="7086600" y="16002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7086600" y="160020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086600" y="2895480"/>
            <a:ext cx="1828800" cy="360"/>
            <a:chOff x="7086600" y="2895480"/>
            <a:chExt cx="1828800" cy="360"/>
          </a:xfrm>
        </p:grpSpPr>
        <p:sp>
          <p:nvSpPr>
            <p:cNvPr id="125" name="Line 21"/>
            <p:cNvSpPr/>
            <p:nvPr/>
          </p:nvSpPr>
          <p:spPr>
            <a:xfrm>
              <a:off x="7086600" y="28954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7086600" y="28954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Text Box 24"/>
          <p:cNvSpPr/>
          <p:nvPr/>
        </p:nvSpPr>
        <p:spPr>
          <a:xfrm>
            <a:off x="2590920" y="4343400"/>
            <a:ext cx="291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5"/>
          <p:cNvSpPr/>
          <p:nvPr/>
        </p:nvSpPr>
        <p:spPr>
          <a:xfrm>
            <a:off x="3352680" y="3886200"/>
            <a:ext cx="76320" cy="1752480"/>
          </a:xfrm>
          <a:custGeom>
            <a:avLst/>
            <a:gdLst>
              <a:gd name="textAreaLeft" fmla="*/ 48960 w 76320"/>
              <a:gd name="textAreaRight" fmla="*/ 76320 w 763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3124080" y="5029200"/>
            <a:ext cx="31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952880" y="4343400"/>
            <a:ext cx="1828800" cy="360"/>
            <a:chOff x="4952880" y="4343400"/>
            <a:chExt cx="1828800" cy="360"/>
          </a:xfrm>
        </p:grpSpPr>
        <p:sp>
          <p:nvSpPr>
            <p:cNvPr id="131" name="Line 27"/>
            <p:cNvSpPr/>
            <p:nvPr/>
          </p:nvSpPr>
          <p:spPr>
            <a:xfrm>
              <a:off x="4952880" y="43434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4952880" y="434340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52880" y="5638680"/>
            <a:ext cx="1828800" cy="360"/>
            <a:chOff x="4952880" y="5638680"/>
            <a:chExt cx="1828800" cy="360"/>
          </a:xfrm>
        </p:grpSpPr>
        <p:sp>
          <p:nvSpPr>
            <p:cNvPr id="134" name="Line 28"/>
            <p:cNvSpPr/>
            <p:nvPr/>
          </p:nvSpPr>
          <p:spPr>
            <a:xfrm>
              <a:off x="4952880" y="56386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952880" y="56386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04920" y="16002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990720" y="1143000"/>
            <a:ext cx="75960" cy="1752480"/>
          </a:xfrm>
          <a:custGeom>
            <a:avLst/>
            <a:gdLst>
              <a:gd name="textAreaLeft" fmla="*/ 48600 w 75960"/>
              <a:gd name="textAreaRight" fmla="*/ 76320 w 759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62120" y="990720"/>
            <a:ext cx="32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447920" y="91440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zypyyb"/>
                <a:ea typeface="zypyyb"/>
              </a:rPr>
              <a:t>q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762120" y="2286000"/>
            <a:ext cx="29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3124080" y="3733920"/>
            <a:ext cx="281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1447920" y="220968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zypyyb"/>
                <a:ea typeface="zypyyb"/>
              </a:rPr>
              <a:t>q</a:t>
            </a:r>
            <a:r>
              <a:rPr b="1" lang="en-US" sz="4400" spc="-1" strike="noStrike">
                <a:solidFill>
                  <a:srgbClr val="3366ff"/>
                </a:solidFill>
                <a:latin typeface="Times New Roman"/>
                <a:ea typeface="zypyyb"/>
              </a:rPr>
              <a:t>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590920" y="1600200"/>
            <a:ext cx="1828800" cy="360"/>
            <a:chOff x="2590920" y="1600200"/>
            <a:chExt cx="1828800" cy="360"/>
          </a:xfrm>
        </p:grpSpPr>
        <p:sp>
          <p:nvSpPr>
            <p:cNvPr id="145" name="Line 9"/>
            <p:cNvSpPr/>
            <p:nvPr/>
          </p:nvSpPr>
          <p:spPr>
            <a:xfrm>
              <a:off x="2590920" y="16002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2590920" y="160020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590920" y="2895480"/>
            <a:ext cx="1828800" cy="360"/>
            <a:chOff x="2590920" y="2895480"/>
            <a:chExt cx="1828800" cy="360"/>
          </a:xfrm>
        </p:grpSpPr>
        <p:sp>
          <p:nvSpPr>
            <p:cNvPr id="148" name="Line 10"/>
            <p:cNvSpPr/>
            <p:nvPr/>
          </p:nvSpPr>
          <p:spPr>
            <a:xfrm>
              <a:off x="2590920" y="28954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2590920" y="28954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Text Box 11"/>
          <p:cNvSpPr/>
          <p:nvPr/>
        </p:nvSpPr>
        <p:spPr>
          <a:xfrm>
            <a:off x="2743200" y="7621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弯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2743200" y="20718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歌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724280" y="16002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4"/>
          <p:cNvSpPr/>
          <p:nvPr/>
        </p:nvSpPr>
        <p:spPr>
          <a:xfrm>
            <a:off x="5486400" y="1143000"/>
            <a:ext cx="76320" cy="1752480"/>
          </a:xfrm>
          <a:custGeom>
            <a:avLst/>
            <a:gdLst>
              <a:gd name="textAreaLeft" fmla="*/ 48960 w 76320"/>
              <a:gd name="textAreaRight" fmla="*/ 76320 w 763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5257800" y="990720"/>
            <a:ext cx="341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5943600" y="914400"/>
            <a:ext cx="23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zypyyb"/>
                <a:ea typeface="zypyyb"/>
              </a:rPr>
              <a:t>p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257800" y="2286000"/>
            <a:ext cx="29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5943600" y="2209680"/>
            <a:ext cx="23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zypyyb"/>
                <a:ea typeface="zypyyb"/>
              </a:rPr>
              <a:t>p</a:t>
            </a:r>
            <a:r>
              <a:rPr b="1" lang="en-US" sz="4400" spc="-1" strike="noStrike">
                <a:solidFill>
                  <a:srgbClr val="3366ff"/>
                </a:solidFill>
                <a:latin typeface="Times New Roman"/>
                <a:ea typeface="zypyyb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086600" y="1600200"/>
            <a:ext cx="1828800" cy="360"/>
            <a:chOff x="7086600" y="1600200"/>
            <a:chExt cx="1828800" cy="360"/>
          </a:xfrm>
        </p:grpSpPr>
        <p:sp>
          <p:nvSpPr>
            <p:cNvPr id="159" name="Line 19"/>
            <p:cNvSpPr/>
            <p:nvPr/>
          </p:nvSpPr>
          <p:spPr>
            <a:xfrm>
              <a:off x="7086600" y="16002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7086600" y="160020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086600" y="2895480"/>
            <a:ext cx="1828800" cy="360"/>
            <a:chOff x="7086600" y="2895480"/>
            <a:chExt cx="1828800" cy="360"/>
          </a:xfrm>
        </p:grpSpPr>
        <p:sp>
          <p:nvSpPr>
            <p:cNvPr id="162" name="Line 20"/>
            <p:cNvSpPr/>
            <p:nvPr/>
          </p:nvSpPr>
          <p:spPr>
            <a:xfrm>
              <a:off x="7086600" y="28954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7086600" y="28954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Text Box 21"/>
          <p:cNvSpPr/>
          <p:nvPr/>
        </p:nvSpPr>
        <p:spPr>
          <a:xfrm>
            <a:off x="7238880" y="7621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铺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7238880" y="205740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2590920" y="43434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24"/>
          <p:cNvSpPr/>
          <p:nvPr/>
        </p:nvSpPr>
        <p:spPr>
          <a:xfrm>
            <a:off x="3352680" y="3886200"/>
            <a:ext cx="76320" cy="1752480"/>
          </a:xfrm>
          <a:custGeom>
            <a:avLst/>
            <a:gdLst>
              <a:gd name="textAreaLeft" fmla="*/ 48960 w 76320"/>
              <a:gd name="textAreaRight" fmla="*/ 76320 w 763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3124080" y="502920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952880" y="4343400"/>
            <a:ext cx="1828800" cy="360"/>
            <a:chOff x="4952880" y="4343400"/>
            <a:chExt cx="1828800" cy="360"/>
          </a:xfrm>
        </p:grpSpPr>
        <p:sp>
          <p:nvSpPr>
            <p:cNvPr id="170" name="Line 26"/>
            <p:cNvSpPr/>
            <p:nvPr/>
          </p:nvSpPr>
          <p:spPr>
            <a:xfrm>
              <a:off x="4952880" y="43434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4952880" y="434340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952880" y="5638680"/>
            <a:ext cx="1828800" cy="360"/>
            <a:chOff x="4952880" y="5638680"/>
            <a:chExt cx="1828800" cy="360"/>
          </a:xfrm>
        </p:grpSpPr>
        <p:sp>
          <p:nvSpPr>
            <p:cNvPr id="173" name="Line 27"/>
            <p:cNvSpPr/>
            <p:nvPr/>
          </p:nvSpPr>
          <p:spPr>
            <a:xfrm>
              <a:off x="4952880" y="56386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4952880" y="56386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28"/>
          <p:cNvSpPr/>
          <p:nvPr/>
        </p:nvSpPr>
        <p:spPr>
          <a:xfrm>
            <a:off x="3657600" y="36576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zypyyb"/>
                <a:ea typeface="zypyyb"/>
              </a:rPr>
              <a:t>hu</a:t>
            </a:r>
            <a:r>
              <a:rPr b="1" lang="en-US" sz="4400" spc="-1" strike="noStrike">
                <a:solidFill>
                  <a:srgbClr val="3366ff"/>
                </a:solidFill>
                <a:latin typeface="Times New Roman"/>
                <a:ea typeface="zypyyb"/>
              </a:rPr>
              <a:t>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9"/>
          <p:cNvSpPr/>
          <p:nvPr/>
        </p:nvSpPr>
        <p:spPr>
          <a:xfrm>
            <a:off x="3657600" y="495288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zypyyb"/>
                <a:ea typeface="zypyyb"/>
              </a:rPr>
              <a:t>hu</a:t>
            </a:r>
            <a:r>
              <a:rPr b="1" lang="en-US" sz="4400" spc="-1" strike="noStrike">
                <a:solidFill>
                  <a:srgbClr val="3366ff"/>
                </a:solidFill>
                <a:latin typeface="Times New Roman"/>
                <a:ea typeface="zypyyb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0"/>
          <p:cNvSpPr/>
          <p:nvPr/>
        </p:nvSpPr>
        <p:spPr>
          <a:xfrm>
            <a:off x="5105520" y="351936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划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1"/>
          <p:cNvSpPr/>
          <p:nvPr/>
        </p:nvSpPr>
        <p:spPr>
          <a:xfrm>
            <a:off x="5105520" y="48150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32" descr="button106"/>
          <p:cNvPicPr/>
          <p:nvPr/>
        </p:nvPicPr>
        <p:blipFill>
          <a:blip r:embed="rId2"/>
          <a:stretch/>
        </p:blipFill>
        <p:spPr>
          <a:xfrm>
            <a:off x="8077320" y="600876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180" name="文本框 8200"/>
          <p:cNvSpPr/>
          <p:nvPr/>
        </p:nvSpPr>
        <p:spPr>
          <a:xfrm>
            <a:off x="900000" y="587700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533520" y="835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它是那么粗壮、结实、挺拔，就像草原的哨兵一样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533520" y="34732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是对那棵高高的橡树的描写，橡树就像忠诚的哨兵一样守卫着这片土地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685800" y="1339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工人们也沉重地叹着气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09480" y="33210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工人们和工程师一样，内心十分矛盾。橡树阻碍了修路的进程，但如果砍掉这么好的一棵橡树，又令人不舍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685800" y="1339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现在谁也不会责备我们了。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09480" y="33210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工程师想出了解决问题的办法，可以既不用修改筑路计划，又可以留下橡树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05:15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3:06Z</dcterms:modified>
  <cp:revision>2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