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8FB-96D5-4535-9408-BFFACF85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5C67-A798-4996-A5EF-D3C9B6D9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9EE-25A7-435D-A120-2F765C8B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DD1B-6F79-4DB5-8A5A-BFA2C1A2F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6095-931E-4301-AD9D-0CD12351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E5E2-3E27-47DC-999E-24625797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71B1-63BC-4983-95D0-DDDED16A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7590-2C53-4305-BB98-A2992433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B947-8592-4B90-982F-B2C7DD02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73EA-1BD2-4B70-B823-AB8EAA3D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B91E-B7DA-451A-8481-88D4633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471-67E4-47E6-A0F6-AA33926E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9309-6EF5-4B7E-86A3-D07BEB7D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7E49-4C94-4B2C-9710-6CCA650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7719-3DB6-4A4D-A1F6-5C2AB279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8949-A11F-449E-A286-F0147584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6B3B-558C-42F4-AF25-1C6B9BE6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25F2-AA54-4BBC-A351-CED86015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5B2-DA6B-41C2-99DF-BCCAB4DE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167E-9726-4CB2-866B-296F8A22B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CF1-818D-4EC6-BDD9-2AEB43E1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B767-9CA9-414E-8666-0A8FB20F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2DF-BAD8-4CF7-8581-7192013F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94A0-1F24-4718-86A3-840B428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F5E7-6220-4CB8-AEBE-8BAD76B544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2286-C497-469D-8578-0A610896479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FDFB-58E7-402A-B4FE-4180A4CC78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1ppt.com/powerpoint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1ppt.com/powerpoint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1ppt.com/word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1ppt.com/word/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1ppt.com/excel/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0"/>
          <p:cNvSpPr/>
          <p:nvPr/>
        </p:nvSpPr>
        <p:spPr>
          <a:xfrm>
            <a:off x="1908000" y="630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rcRect l="0" t="0" r="14619" b="49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66760" y="1412640"/>
            <a:ext cx="8610480" cy="114300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牧场之国语文</a:t>
            </a:r>
            <a:r>
              <a:rPr b="1" lang="en-US" sz="4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PPT</a:t>
            </a:r>
            <a:r>
              <a:rPr b="1" lang="zh-CN" sz="4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1584947200607190118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596880" y="-299880"/>
            <a:ext cx="10282320" cy="7711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楷体_GB2312"/>
              </a:rPr>
              <a:t>这就是真正的荷兰：</a:t>
            </a:r>
            <a:r>
              <a:rPr b="1" lang="zh-CN" sz="40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碧绿色的低地镶嵌在一条条运河之间，成群的骏马，匹匹膘肥体壮。除了深深的野草遮掩着的运河，没有什么能够阻挡它们飞驰到远方。辽阔无垠的原野似乎归它们所有，它们是这个自由王国的主人和公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3" descr="20041123145465"/>
          <p:cNvPicPr/>
          <p:nvPr/>
        </p:nvPicPr>
        <p:blipFill>
          <a:blip r:embed="rId1"/>
          <a:stretch/>
        </p:blipFill>
        <p:spPr>
          <a:xfrm>
            <a:off x="-307800" y="0"/>
            <a:ext cx="94518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21400" y="5270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碧绿色的低地镶嵌在一条条运河之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250920" y="234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572217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5294520" y="69228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隶书"/>
              </a:rPr>
              <a:t>匹匹膘肥体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20070817215256787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289080" y="-212760"/>
            <a:ext cx="9738000" cy="7299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-76320" y="-114480"/>
            <a:ext cx="709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除了深深的野草遮掩着的运河，没有什么 能够阻挡它们飞驰到远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007627_408b876019823c4d2ed7f190da9c0be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53960" y="-84240"/>
            <a:ext cx="9594720" cy="71931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250920" y="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辽阔无垠的原野似乎归它们所有，它们是这个自由王国的主人和公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27280" y="5516640"/>
            <a:ext cx="56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3" descr="200711131638150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977040" y="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6600" y="1484280"/>
            <a:ext cx="127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骏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原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低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987640" y="1484280"/>
            <a:ext cx="263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膘肥体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辽阔无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碧绿色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4728960" y="4770360"/>
            <a:ext cx="28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骏马飞驰任自由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100_4558"/>
          <p:cNvPicPr/>
          <p:nvPr/>
        </p:nvPicPr>
        <p:blipFill>
          <a:blip r:embed="rId1"/>
          <a:stretch/>
        </p:blipFill>
        <p:spPr>
          <a:xfrm>
            <a:off x="252360" y="0"/>
            <a:ext cx="8567640" cy="633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11280" y="262080"/>
            <a:ext cx="77724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真正的荷兰：在绿色的草地上，绵羊悠然自得，猪群不停地呼噜，小鸡、长毛山羊安闲自在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4080240" y="47260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这就是真正的荷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ximaoy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989640" y="3333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170680" y="1459080"/>
            <a:ext cx="200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白色绵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小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  <a:ea typeface="隶书"/>
              </a:rPr>
              <a:t>的长毛山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619280" y="1557360"/>
            <a:ext cx="2903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悠闲自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成千上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成群结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995640" y="4941720"/>
            <a:ext cx="47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羊闲猪乐鸡安闲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33078937149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525600" y="0"/>
            <a:ext cx="104616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3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金色的晚霞铺在西天，远处偶尔传来汽笛声，接着又是一片寂静。在这里，谁都不叫喊吆喝，牛脖子上的铃铛也没有响声，挤奶的人更是默默无言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20071012134013897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后一抹晚霞也渐渐消失了，整个天地都暗了下来。狗不叫了，圈里的牛也不再发出哞哞声，马也忘记了踢马房的挡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3504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阅读要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33520" y="1219320"/>
            <a:ext cx="86104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读课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想课文的第一自然段有什么作用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默读课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牧场之国荷兰给你留下了怎样的印象？你是从课文的哪些地方感受到的？请把相关的语句划出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带着你的感受读一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读课文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想作者为什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次讲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就是真正的荷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200412618719105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72309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0" y="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睡的牲畜，无声的低地，漆黑的夜晚，远处的几座灯塔在闪烁着微弱的光芒。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64000" y="5851440"/>
            <a:ext cx="64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这就是真正的荷兰</a:t>
            </a:r>
            <a:r>
              <a:rPr b="0" lang="zh-CN" sz="6000" spc="-1" strike="noStrike">
                <a:solidFill>
                  <a:srgbClr val="cc0099"/>
                </a:solidFill>
                <a:latin typeface="Times New Roman"/>
                <a:ea typeface="隶书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文本框 8200"/>
          <p:cNvSpPr/>
          <p:nvPr/>
        </p:nvSpPr>
        <p:spPr>
          <a:xfrm>
            <a:off x="684360" y="2205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1240560" y="2602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551920" y="1386000"/>
            <a:ext cx="1643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的挤奶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的牲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的夜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1160640" y="1484280"/>
            <a:ext cx="3984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默默无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沉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        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寂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892400" y="5300640"/>
            <a:ext cx="28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牲畜归圈夜寂静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</a:rPr>
              <a:t>你觉得此时、此刻荷兰是一个什么样地方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丽， 寂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从哪些地方体会到的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沉默安详”，“一片寂静”，“没有响声”，“默默无语”，“平静”，“万籁俱寂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0AB8-5208-4373-874E-1C52DCC436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四次写“</a:t>
            </a: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这就是真正的荷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牛              －－悠闲漫步   思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马              －－膘肥体壮   自由王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猪、鸡、羊 －－悠然自得   成群结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呼噜        欣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夜晚的牧场－－  幽静、 美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1197000"/>
            <a:ext cx="770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879480" y="1268280"/>
            <a:ext cx="758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620640"/>
            <a:ext cx="9144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99"/>
                </a:solidFill>
                <a:latin typeface="Times New Roman"/>
                <a:ea typeface="楷体_GB2312"/>
              </a:rPr>
              <a:t>     </a:t>
            </a: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镶嵌    骏马  牛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 </a:t>
            </a: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无垠   公爵   牲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毛毡  呼噜  吆喝  丝绒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99"/>
                </a:solidFill>
                <a:latin typeface="楷体_GB2312"/>
                <a:ea typeface="楷体_GB2312"/>
              </a:rPr>
              <a:t>悠然自得   </a:t>
            </a:r>
            <a:r>
              <a:rPr b="1" i="1" lang="zh-CN" sz="6000" spc="-1" strike="noStrike">
                <a:solidFill>
                  <a:srgbClr val="ff9999"/>
                </a:solidFill>
                <a:latin typeface="Times New Roman"/>
                <a:ea typeface="楷体_GB2312"/>
              </a:rPr>
              <a:t>膘肥体壮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11970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0" y="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3399ff"/>
                </a:solidFill>
                <a:latin typeface="Times New Roman"/>
                <a:ea typeface="楷体_GB2312"/>
              </a:rPr>
              <a:t>羊圈         模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68360" y="400536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羊圈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(ju</a:t>
            </a:r>
            <a:r>
              <a:rPr b="1" lang="en-US" sz="6600" spc="-1" strike="noStrike">
                <a:solidFill>
                  <a:srgbClr val="3399ff"/>
                </a:solidFill>
                <a:latin typeface="Times New Roman"/>
              </a:rPr>
              <a:t>à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n) 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模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(mú)</a:t>
            </a:r>
            <a:r>
              <a:rPr b="1" lang="zh-CN" sz="6600" spc="-1" strike="noStrike">
                <a:solidFill>
                  <a:srgbClr val="3399ff"/>
                </a:solidFill>
                <a:latin typeface="Times New Roman"/>
              </a:rPr>
              <a:t>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毛毡  牛犊  无垠  仪态端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1219320"/>
            <a:ext cx="85341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镶 嵌    骏 马    膘肥体壮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辽阔无垠（   ）   公 爵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悠然自得    牲畜（   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429000" y="2286000"/>
            <a:ext cx="121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y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í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791320" y="342900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ch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80880" y="50292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1143000" y="480060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1547640" y="450864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ú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模样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47640" y="5805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mó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模型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4648320" y="5105520"/>
            <a:ext cx="21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1"/>
          <p:cNvSpPr/>
          <p:nvPr/>
        </p:nvSpPr>
        <p:spPr>
          <a:xfrm>
            <a:off x="5410080" y="4876920"/>
            <a:ext cx="457200" cy="1371600"/>
          </a:xfrm>
          <a:custGeom>
            <a:avLst/>
            <a:gdLst>
              <a:gd name="textAreaLeft" fmla="*/ 292320 w 457200"/>
              <a:gd name="textAreaRight" fmla="*/ 45756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867280" y="44956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juàn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羊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867280" y="5791320"/>
            <a:ext cx="39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quān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(</a:t>
            </a:r>
            <a:r>
              <a:rPr b="1" lang="zh-CN" sz="4400" spc="-1" strike="noStrike">
                <a:solidFill>
                  <a:srgbClr val="3333cc"/>
                </a:solidFill>
                <a:latin typeface="宋体"/>
              </a:rPr>
              <a:t>圆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emp_9be7a86c-1f6f-4821-8c97-f9ee9e1a94e92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663480" y="496800"/>
            <a:ext cx="8480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阅读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作者写了几次“这就是真正的荷兰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4400" spc="-1" strike="noStrike">
                <a:solidFill>
                  <a:srgbClr val="cc0099"/>
                </a:solidFill>
                <a:latin typeface="Times New Roman"/>
                <a:ea typeface="隶书"/>
              </a:rPr>
              <a:t>，为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0071113163239549_2"/>
          <p:cNvPicPr/>
          <p:nvPr/>
        </p:nvPicPr>
        <p:blipFill>
          <a:blip r:embed="rId1"/>
          <a:srcRect l="0" t="6294" r="0" b="0"/>
          <a:stretch/>
        </p:blipFill>
        <p:spPr>
          <a:xfrm>
            <a:off x="-236520" y="0"/>
            <a:ext cx="97376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0" y="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牛群吃草时非常专注，有时站立不动，仿佛正在思考着什么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87480" y="1197000"/>
            <a:ext cx="4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牛犊的模样像贵妇人，仪态端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老牛好似牛群的家长，无比尊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极目远眺，碧绿如丝绒般的草原上，是一头头黑白两色的奶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就是真正的荷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2008122152005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24000" y="26028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极目远眺，四周全是丝绒般的碧绿草原和黑白两色的花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4121640" y="49417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这就是真正的荷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20071014233056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820800" y="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这就是真正的荷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924360" y="1197000"/>
            <a:ext cx="4537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的碧绿草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的奶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的牛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ffcc66"/>
                </a:solidFill>
                <a:latin typeface="隶书"/>
                <a:ea typeface="隶书"/>
              </a:rPr>
              <a:t>的老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隶书"/>
                <a:ea typeface="隶书"/>
              </a:rPr>
              <a:t>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403720" y="126828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如丝绒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神情专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仪态端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隶书"/>
              </a:rPr>
              <a:t>无比尊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914360" y="5059440"/>
            <a:ext cx="274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隶书"/>
              </a:rPr>
              <a:t>碧绿草原牛成群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2:5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34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