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ding.wav" ContentType="audio/x-wav"/>
  <Override PartName="/ppt/media/click.wav" ContentType="audio/x-wav"/>
  <Override PartName="/ppt/media/image11.png" ContentType="image/png"/>
  <Override PartName="/ppt/media/image6.wmf" ContentType="image/x-wmf"/>
  <Override PartName="/ppt/media/image7.gif" ContentType="image/gif"/>
  <Override PartName="/ppt/media/image12.jpeg" ContentType="image/jpeg"/>
  <Override PartName="/ppt/media/image8.wmf" ContentType="image/x-wmf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9D35-D769-4ACD-91DA-09D99CC39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6BCE-7209-4D35-95F2-9DA23635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C486-3423-427D-919F-84FBA842E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E1F6-5E64-4C05-81A0-3B7E1C865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3419-BDDD-4C40-B083-B1364AC22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DD85-5052-47F7-A077-CFA8A3AD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6830-DB6B-4307-BCB1-9783AE6C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401B-576E-4ABB-8B50-D955423A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DFAA-3978-49B0-876D-1BD070A1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E1E9-A287-4B80-8ED9-866D0C69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0BDC-94C9-44FC-B444-DA4BD984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113A-4BE7-4F48-A7DB-6C0613F9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FFD0-26DF-4F06-997D-C32620B3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4A38-BEF0-4B5A-AC31-34249E65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949D-809A-426A-801D-10C26CF6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A662-AAE3-4DD6-9024-E540B3E6A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6317-DF54-431A-8834-95F9732A4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176E-93AB-4DAB-A839-7D9E930C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56C3-F8AB-4A59-BD1D-FE1D7358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BD10-2306-4765-80FD-0EE5CD38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BBB0-3421-4258-8FB8-B33B0075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A444-7A8A-43E6-A6A8-F051D171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1587-AE3F-4F91-878E-B6D39218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E0DE-F2D1-40C1-84B8-41997DEB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891C-D213-4F06-9514-2D43B7A402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0ADE-F202-4CD5-9313-2F39595BB92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041B-C692-47FF-B1E0-A9F5704F861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ing.wav"/><Relationship Id="rId3" Type="http://schemas.openxmlformats.org/officeDocument/2006/relationships/audio" Target="../media/ding.wav"/><Relationship Id="rId4" Type="http://schemas.openxmlformats.org/officeDocument/2006/relationships/audio" Target="../media/ding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image" Target="../media/image7.gif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7.gif"/><Relationship Id="rId18" Type="http://schemas.openxmlformats.org/officeDocument/2006/relationships/image" Target="../media/image7.gif"/><Relationship Id="rId19" Type="http://schemas.openxmlformats.org/officeDocument/2006/relationships/image" Target="../media/image7.gif"/><Relationship Id="rId20" Type="http://schemas.openxmlformats.org/officeDocument/2006/relationships/image" Target="../media/image7.gif"/><Relationship Id="rId21" Type="http://schemas.openxmlformats.org/officeDocument/2006/relationships/image" Target="../media/image8.wmf"/><Relationship Id="rId2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3"/>
          <p:cNvSpPr txBox="1"/>
          <p:nvPr/>
        </p:nvSpPr>
        <p:spPr>
          <a:xfrm>
            <a:off x="755640" y="907920"/>
            <a:ext cx="7540560" cy="7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efefe"/>
                  </a:solidFill>
                  <a:round/>
                </a:ln>
                <a:solidFill>
                  <a:srgbClr val="ff0000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华文隶书"/>
              </a:rPr>
              <a:t>蜜蜂引路语文课件</a:t>
            </a:r>
            <a:r>
              <a:rPr b="1" lang="en-US" sz="1800" spc="1" strike="noStrike">
                <a:ln w="19080">
                  <a:solidFill>
                    <a:srgbClr val="fefefe"/>
                  </a:solidFill>
                  <a:round/>
                </a:ln>
                <a:solidFill>
                  <a:srgbClr val="ff0000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华文隶书"/>
              </a:rPr>
              <a:t>PPT</a:t>
            </a:r>
            <a:r>
              <a:rPr b="1" lang="zh-CN" sz="1800" spc="1" strike="noStrike">
                <a:ln w="19080">
                  <a:solidFill>
                    <a:srgbClr val="fefefe"/>
                  </a:solidFill>
                  <a:round/>
                </a:ln>
                <a:solidFill>
                  <a:srgbClr val="ff0000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华文隶书"/>
              </a:rPr>
              <a:t>模板下载</a:t>
            </a:r>
            <a:endParaRPr b="1" lang="en-US" sz="1800" spc="1" strike="noStrike">
              <a:ln w="19080">
                <a:solidFill>
                  <a:srgbClr val="fefefe"/>
                </a:solidFill>
                <a:round/>
              </a:ln>
              <a:solidFill>
                <a:srgbClr val="ff0000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1657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61b2c4ef7ab0e2092cf534dc"/>
          <p:cNvPicPr/>
          <p:nvPr/>
        </p:nvPicPr>
        <p:blipFill>
          <a:blip r:embed="rId1"/>
          <a:stretch/>
        </p:blipFill>
        <p:spPr>
          <a:xfrm>
            <a:off x="0" y="0"/>
            <a:ext cx="4859280" cy="7416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4788000" y="630360"/>
            <a:ext cx="43560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宋体"/>
              </a:rPr>
              <a:t>　　列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(1870-1924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 世界无产阶级及其它劳动人民的领袖和导师、殖民地半殖民地被压迫民族的朋友。创建了俄国布尔什维克党，并缔造了世界上第一个社会主义国家苏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179280" y="107640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2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列宁住在莫斯科附近的一座小山上。当地有个养蜂的人，列宁常常派人去请他来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谈天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2987640" y="3645000"/>
            <a:ext cx="4537080" cy="576000"/>
          </a:xfrm>
          <a:prstGeom prst="wedgeRoundRectCallout">
            <a:avLst>
              <a:gd name="adj1" fmla="val 25611"/>
              <a:gd name="adj2" fmla="val -18002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他们会谈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2612160" y="966960"/>
            <a:ext cx="2923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  <a:ea typeface="宋体"/>
              </a:rPr>
              <a:t>读第二自然段回答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909960" y="2478240"/>
            <a:ext cx="637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列宁为什么这一次亲自去找养蜂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061000" y="3701880"/>
            <a:ext cx="3345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521e"/>
                </a:solidFill>
                <a:latin typeface="黑体"/>
                <a:ea typeface="黑体"/>
              </a:rPr>
              <a:t>（用</a:t>
            </a:r>
            <a:r>
              <a:rPr b="1" lang="zh-CN" sz="2800" spc="-1" strike="noStrike">
                <a:solidFill>
                  <a:srgbClr val="06521e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6521e"/>
                </a:solidFill>
                <a:latin typeface="黑体"/>
                <a:ea typeface="黑体"/>
              </a:rPr>
              <a:t>因为</a:t>
            </a:r>
            <a:r>
              <a:rPr b="1" lang="en-US" sz="2800" spc="-1" strike="noStrike">
                <a:solidFill>
                  <a:srgbClr val="06521e"/>
                </a:solidFill>
                <a:latin typeface="Arial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06521e"/>
                </a:solidFill>
                <a:latin typeface="黑体"/>
                <a:ea typeface="黑体"/>
              </a:rPr>
              <a:t>所以</a:t>
            </a:r>
            <a:r>
              <a:rPr b="1" lang="en-US" sz="2800" spc="-1" strike="noStrike">
                <a:solidFill>
                  <a:srgbClr val="06521e"/>
                </a:solidFill>
                <a:latin typeface="Arial"/>
                <a:ea typeface="黑体"/>
              </a:rPr>
              <a:t>……”</a:t>
            </a:r>
            <a:r>
              <a:rPr b="1" lang="zh-CN" sz="2800" spc="-1" strike="noStrike">
                <a:solidFill>
                  <a:srgbClr val="06521e"/>
                </a:solidFill>
                <a:latin typeface="黑体"/>
                <a:ea typeface="黑体"/>
              </a:rPr>
              <a:t>句式说一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8199"/>
          <p:cNvSpPr/>
          <p:nvPr/>
        </p:nvSpPr>
        <p:spPr>
          <a:xfrm>
            <a:off x="682560" y="4726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"/>
          <p:cNvSpPr/>
          <p:nvPr/>
        </p:nvSpPr>
        <p:spPr>
          <a:xfrm>
            <a:off x="179280" y="620640"/>
            <a:ext cx="756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一回，列宁想找那个人谈谈怎样养蜂。可是往常派去找他的人到莫斯科去了，别人都不知道他住在哪里，列宁就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亲自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去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1835280" y="3500280"/>
            <a:ext cx="5473440" cy="649440"/>
          </a:xfrm>
          <a:prstGeom prst="wedgeRoundRectCallout">
            <a:avLst>
              <a:gd name="adj1" fmla="val 21722"/>
              <a:gd name="adj2" fmla="val -10794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列宁为什么要亲自去找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989360" y="4797360"/>
            <a:ext cx="3345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521e"/>
                </a:solidFill>
                <a:latin typeface="黑体"/>
                <a:ea typeface="黑体"/>
              </a:rPr>
              <a:t>（用</a:t>
            </a:r>
            <a:r>
              <a:rPr b="1" lang="zh-CN" sz="2800" spc="-1" strike="noStrike">
                <a:solidFill>
                  <a:srgbClr val="06521e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6521e"/>
                </a:solidFill>
                <a:latin typeface="黑体"/>
                <a:ea typeface="黑体"/>
              </a:rPr>
              <a:t>因为</a:t>
            </a:r>
            <a:r>
              <a:rPr b="1" lang="en-US" sz="2800" spc="-1" strike="noStrike">
                <a:solidFill>
                  <a:srgbClr val="06521e"/>
                </a:solidFill>
                <a:latin typeface="Arial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06521e"/>
                </a:solidFill>
                <a:latin typeface="黑体"/>
                <a:ea typeface="黑体"/>
              </a:rPr>
              <a:t>所以</a:t>
            </a:r>
            <a:r>
              <a:rPr b="1" lang="en-US" sz="2800" spc="-1" strike="noStrike">
                <a:solidFill>
                  <a:srgbClr val="06521e"/>
                </a:solidFill>
                <a:latin typeface="Arial"/>
                <a:ea typeface="黑体"/>
              </a:rPr>
              <a:t>……”</a:t>
            </a:r>
            <a:r>
              <a:rPr b="1" lang="zh-CN" sz="2800" spc="-1" strike="noStrike">
                <a:solidFill>
                  <a:srgbClr val="06521e"/>
                </a:solidFill>
                <a:latin typeface="黑体"/>
                <a:ea typeface="黑体"/>
              </a:rPr>
              <a:t>句式说一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2"/>
          <p:cNvSpPr/>
          <p:nvPr/>
        </p:nvSpPr>
        <p:spPr>
          <a:xfrm>
            <a:off x="393840" y="2724120"/>
            <a:ext cx="77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一回，列宁想找那个人谈谈怎样养蜂。可是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往常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派去找他的人到莫斯科去了，别人都不知道他住在哪里，列宁就亲自去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250920" y="708120"/>
            <a:ext cx="78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列宁住在莫斯科附近的一座小山上。当地有个养蜂的人，列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常常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派人去请他来谈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9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qccwj20080602q53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0" y="1447920"/>
            <a:ext cx="1295280" cy="26668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1485360" y="496800"/>
            <a:ext cx="3433680" cy="69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红色的词意思一样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332000" y="19162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列宁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常常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养蜂人来谈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往常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派去找他的人不在，列宁只好亲自去找。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9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1103760" y="4083120"/>
            <a:ext cx="1003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往常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176840" y="2840040"/>
            <a:ext cx="1003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常常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182120" y="4083120"/>
            <a:ext cx="1084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过去的，一般的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2649960" y="285912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经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1476360" y="981000"/>
            <a:ext cx="4753080" cy="863640"/>
          </a:xfrm>
          <a:custGeom>
            <a:avLst/>
            <a:gdLst>
              <a:gd name="textAreaLeft" fmla="*/ 1188360 w 4753080"/>
              <a:gd name="textAreaRight" fmla="*/ 3565080 w 4753080"/>
              <a:gd name="textAreaTop" fmla="*/ 2556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fffff"/>
          </a:solidFill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区别词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8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2"/>
          <p:cNvSpPr/>
          <p:nvPr/>
        </p:nvSpPr>
        <p:spPr>
          <a:xfrm>
            <a:off x="1187280" y="1052640"/>
            <a:ext cx="388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常      往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468360" y="2205000"/>
            <a:ext cx="7848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班的语文课       都是周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上的，今天却换了一个老师。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班       获得文明班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586400" y="2781360"/>
            <a:ext cx="1498320" cy="1440"/>
            <a:chOff x="4586400" y="2781360"/>
            <a:chExt cx="1498320" cy="1440"/>
          </a:xfrm>
        </p:grpSpPr>
        <p:sp>
          <p:nvSpPr>
            <p:cNvPr id="155" name="Line 4"/>
            <p:cNvSpPr/>
            <p:nvPr/>
          </p:nvSpPr>
          <p:spPr>
            <a:xfrm>
              <a:off x="4586400" y="2781360"/>
              <a:ext cx="149832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4586400" y="2781360"/>
              <a:ext cx="14983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610000" y="4506840"/>
            <a:ext cx="1674720" cy="1800"/>
            <a:chOff x="2610000" y="4506840"/>
            <a:chExt cx="1674720" cy="1800"/>
          </a:xfrm>
        </p:grpSpPr>
        <p:sp>
          <p:nvSpPr>
            <p:cNvPr id="158" name="Line 5"/>
            <p:cNvSpPr/>
            <p:nvPr/>
          </p:nvSpPr>
          <p:spPr>
            <a:xfrm>
              <a:off x="2610000" y="4506840"/>
              <a:ext cx="1674720" cy="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10000" y="4506840"/>
              <a:ext cx="16747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6"/>
          <p:cNvSpPr/>
          <p:nvPr/>
        </p:nvSpPr>
        <p:spPr>
          <a:xfrm>
            <a:off x="4761000" y="213984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往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2962440" y="379584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常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"/>
          <p:cNvSpPr/>
          <p:nvPr/>
        </p:nvSpPr>
        <p:spPr>
          <a:xfrm>
            <a:off x="2504160" y="1708200"/>
            <a:ext cx="2314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  <a:ea typeface="宋体"/>
              </a:rPr>
              <a:t>读第三自然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564200" y="3363840"/>
            <a:ext cx="4021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说说列宁是怎样找到养蜂人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7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539640" y="76500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395280" y="1557360"/>
            <a:ext cx="79120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30000"/>
              </a:lnSpc>
              <a:buClr>
                <a:srgbClr val="000000"/>
              </a:buClr>
              <a:buFont typeface="楷体_GB231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列宁一边走一边看，在路边发现了什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是怎么想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95280" y="3006720"/>
            <a:ext cx="7993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列宁仔细地观察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到了什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是怎样观察的呢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95280" y="4432320"/>
            <a:ext cx="8074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)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时列宁继续观察，又发现了什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10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"/>
          <p:cNvSpPr/>
          <p:nvPr/>
        </p:nvSpPr>
        <p:spPr>
          <a:xfrm>
            <a:off x="2475000" y="404640"/>
            <a:ext cx="790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谜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2269800" y="1341360"/>
            <a:ext cx="2375280" cy="316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嗡嗡嗡，嗡嗡嗡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成群飞进百花丛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传播花粉又采蜜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个个都是爱劳动的小英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268800" y="5081760"/>
            <a:ext cx="91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谜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140360" y="5589720"/>
            <a:ext cx="1368360" cy="360"/>
            <a:chOff x="4140360" y="5589720"/>
            <a:chExt cx="1368360" cy="360"/>
          </a:xfrm>
        </p:grpSpPr>
        <p:sp>
          <p:nvSpPr>
            <p:cNvPr id="91" name="Line 5"/>
            <p:cNvSpPr/>
            <p:nvPr/>
          </p:nvSpPr>
          <p:spPr>
            <a:xfrm>
              <a:off x="4140360" y="5589720"/>
              <a:ext cx="13683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4140360" y="5589720"/>
              <a:ext cx="136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 Box 6"/>
          <p:cNvSpPr/>
          <p:nvPr/>
        </p:nvSpPr>
        <p:spPr>
          <a:xfrm>
            <a:off x="4501080" y="5013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蜜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5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2"/>
          <p:cNvSpPr/>
          <p:nvPr/>
        </p:nvSpPr>
        <p:spPr>
          <a:xfrm>
            <a:off x="252360" y="1531800"/>
            <a:ext cx="842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列宁一边走一边看，     路边的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里有         。他        ，只见那些蜜蜂采了蜜就飞进附近的一个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里，园子旁边有一所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164360" y="2060640"/>
            <a:ext cx="1203480" cy="1440"/>
            <a:chOff x="7164360" y="2060640"/>
            <a:chExt cx="1203480" cy="1440"/>
          </a:xfrm>
        </p:grpSpPr>
        <p:sp>
          <p:nvSpPr>
            <p:cNvPr id="173" name="Line 4"/>
            <p:cNvSpPr/>
            <p:nvPr/>
          </p:nvSpPr>
          <p:spPr>
            <a:xfrm>
              <a:off x="7164360" y="2060640"/>
              <a:ext cx="120348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7164360" y="2060640"/>
              <a:ext cx="12034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082520" y="2565360"/>
            <a:ext cx="1976760" cy="1800"/>
            <a:chOff x="1082520" y="2565360"/>
            <a:chExt cx="1976760" cy="1800"/>
          </a:xfrm>
        </p:grpSpPr>
        <p:sp>
          <p:nvSpPr>
            <p:cNvPr id="176" name="Line 5"/>
            <p:cNvSpPr/>
            <p:nvPr/>
          </p:nvSpPr>
          <p:spPr>
            <a:xfrm>
              <a:off x="1082520" y="2565360"/>
              <a:ext cx="1976760" cy="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1082520" y="2565360"/>
              <a:ext cx="19767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762360" y="2565360"/>
            <a:ext cx="1889280" cy="1800"/>
            <a:chOff x="3762360" y="2565360"/>
            <a:chExt cx="1889280" cy="1800"/>
          </a:xfrm>
        </p:grpSpPr>
        <p:sp>
          <p:nvSpPr>
            <p:cNvPr id="179" name="Line 6"/>
            <p:cNvSpPr/>
            <p:nvPr/>
          </p:nvSpPr>
          <p:spPr>
            <a:xfrm>
              <a:off x="3762360" y="2565360"/>
              <a:ext cx="1889280" cy="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3762360" y="2565360"/>
              <a:ext cx="18892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873080" y="3548160"/>
            <a:ext cx="1546560" cy="1440"/>
            <a:chOff x="1873080" y="3548160"/>
            <a:chExt cx="1546560" cy="1440"/>
          </a:xfrm>
        </p:grpSpPr>
        <p:sp>
          <p:nvSpPr>
            <p:cNvPr id="182" name="Line 7"/>
            <p:cNvSpPr/>
            <p:nvPr/>
          </p:nvSpPr>
          <p:spPr>
            <a:xfrm flipV="1">
              <a:off x="1873080" y="3548160"/>
              <a:ext cx="154656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 rot="10800000">
              <a:off x="1873080" y="3548160"/>
              <a:ext cx="15465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754520" y="3068640"/>
            <a:ext cx="1546200" cy="1440"/>
            <a:chOff x="4754520" y="3068640"/>
            <a:chExt cx="1546200" cy="1440"/>
          </a:xfrm>
        </p:grpSpPr>
        <p:sp>
          <p:nvSpPr>
            <p:cNvPr id="185" name="Line 8"/>
            <p:cNvSpPr/>
            <p:nvPr/>
          </p:nvSpPr>
          <p:spPr>
            <a:xfrm>
              <a:off x="4754520" y="3068640"/>
              <a:ext cx="154620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4754520" y="3068640"/>
              <a:ext cx="15462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9"/>
          <p:cNvSpPr/>
          <p:nvPr/>
        </p:nvSpPr>
        <p:spPr>
          <a:xfrm>
            <a:off x="4765680" y="1484280"/>
            <a:ext cx="103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发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7164360" y="1484280"/>
            <a:ext cx="120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花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1042920" y="1989000"/>
            <a:ext cx="265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许多蜜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3780000" y="1989000"/>
            <a:ext cx="25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仔细观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4932360" y="2492280"/>
            <a:ext cx="111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园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4"/>
          <p:cNvSpPr/>
          <p:nvPr/>
        </p:nvSpPr>
        <p:spPr>
          <a:xfrm>
            <a:off x="1908000" y="2994120"/>
            <a:ext cx="25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小房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664160" y="2060640"/>
            <a:ext cx="1203120" cy="1440"/>
            <a:chOff x="4664160" y="2060640"/>
            <a:chExt cx="1203120" cy="1440"/>
          </a:xfrm>
        </p:grpSpPr>
        <p:sp>
          <p:nvSpPr>
            <p:cNvPr id="194" name="Line 16"/>
            <p:cNvSpPr/>
            <p:nvPr/>
          </p:nvSpPr>
          <p:spPr>
            <a:xfrm>
              <a:off x="4664160" y="2060640"/>
              <a:ext cx="120312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4664160" y="2060640"/>
              <a:ext cx="12031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2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3"/>
          <p:cNvGrpSpPr/>
          <p:nvPr/>
        </p:nvGrpSpPr>
        <p:grpSpPr>
          <a:xfrm>
            <a:off x="685800" y="914400"/>
            <a:ext cx="7543440" cy="4571640"/>
            <a:chOff x="685800" y="914400"/>
            <a:chExt cx="7543440" cy="4571640"/>
          </a:xfrm>
        </p:grpSpPr>
        <p:sp>
          <p:nvSpPr>
            <p:cNvPr id="198" name="Rectangle 4"/>
            <p:cNvSpPr/>
            <p:nvPr/>
          </p:nvSpPr>
          <p:spPr>
            <a:xfrm>
              <a:off x="685800" y="914400"/>
              <a:ext cx="7543440" cy="4571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5"/>
            <p:cNvSpPr/>
            <p:nvPr/>
          </p:nvSpPr>
          <p:spPr>
            <a:xfrm>
              <a:off x="2671200" y="1154520"/>
              <a:ext cx="3512520" cy="3933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列宁一边走一边看，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发现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路边的花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丛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许多蜜蜂。他仔细观察，只见那些蜜蜂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采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蜜，飞进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附近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一个园子里，园子旁边有一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小房子。列宁走到那所房子跟前，敲了敲门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开门的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果然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是那个养蜂的人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6858000" y="1676520"/>
            <a:ext cx="685800" cy="360"/>
            <a:chOff x="6858000" y="1676520"/>
            <a:chExt cx="685800" cy="360"/>
          </a:xfrm>
        </p:grpSpPr>
        <p:sp>
          <p:nvSpPr>
            <p:cNvPr id="201" name="Line 7"/>
            <p:cNvSpPr/>
            <p:nvPr/>
          </p:nvSpPr>
          <p:spPr>
            <a:xfrm>
              <a:off x="6858000" y="1676520"/>
              <a:ext cx="68580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 txBox="1"/>
            <p:nvPr/>
          </p:nvSpPr>
          <p:spPr>
            <a:xfrm>
              <a:off x="6858000" y="167652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571640" y="1752480"/>
            <a:ext cx="2438640" cy="1219320"/>
            <a:chOff x="4571640" y="1752480"/>
            <a:chExt cx="2438640" cy="1219320"/>
          </a:xfrm>
        </p:grpSpPr>
        <p:sp>
          <p:nvSpPr>
            <p:cNvPr id="204" name="Line 8"/>
            <p:cNvSpPr/>
            <p:nvPr/>
          </p:nvSpPr>
          <p:spPr>
            <a:xfrm flipH="1">
              <a:off x="4571640" y="1752480"/>
              <a:ext cx="2438280" cy="1219320"/>
            </a:xfrm>
            <a:prstGeom prst="line">
              <a:avLst/>
            </a:prstGeom>
            <a:ln w="93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4572000" y="1752480"/>
              <a:ext cx="2438280" cy="121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980720" y="3276720"/>
            <a:ext cx="2057760" cy="685800"/>
            <a:chOff x="1980720" y="3276720"/>
            <a:chExt cx="2057760" cy="685800"/>
          </a:xfrm>
        </p:grpSpPr>
        <p:sp>
          <p:nvSpPr>
            <p:cNvPr id="207" name="Line 9"/>
            <p:cNvSpPr/>
            <p:nvPr/>
          </p:nvSpPr>
          <p:spPr>
            <a:xfrm flipH="1">
              <a:off x="1980720" y="3276720"/>
              <a:ext cx="2057400" cy="685800"/>
            </a:xfrm>
            <a:prstGeom prst="line">
              <a:avLst/>
            </a:prstGeom>
            <a:ln w="93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1981080" y="3276720"/>
              <a:ext cx="205740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114800" y="3352680"/>
            <a:ext cx="685800" cy="360"/>
            <a:chOff x="4114800" y="3352680"/>
            <a:chExt cx="685800" cy="360"/>
          </a:xfrm>
        </p:grpSpPr>
        <p:sp>
          <p:nvSpPr>
            <p:cNvPr id="210" name="Line 10"/>
            <p:cNvSpPr/>
            <p:nvPr/>
          </p:nvSpPr>
          <p:spPr>
            <a:xfrm>
              <a:off x="4114800" y="3352680"/>
              <a:ext cx="68580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4114800" y="335268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914400" y="4267080"/>
            <a:ext cx="914400" cy="360"/>
            <a:chOff x="914400" y="4267080"/>
            <a:chExt cx="914400" cy="360"/>
          </a:xfrm>
        </p:grpSpPr>
        <p:sp>
          <p:nvSpPr>
            <p:cNvPr id="213" name="Line 11"/>
            <p:cNvSpPr/>
            <p:nvPr/>
          </p:nvSpPr>
          <p:spPr>
            <a:xfrm>
              <a:off x="914400" y="4267080"/>
              <a:ext cx="91440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914400" y="426708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PM_047"/>
          <p:cNvPicPr/>
          <p:nvPr/>
        </p:nvPicPr>
        <p:blipFill>
          <a:blip r:embed="rId1"/>
          <a:srcRect l="4750" t="0" r="33594" b="13339"/>
          <a:stretch/>
        </p:blipFill>
        <p:spPr>
          <a:xfrm>
            <a:off x="6551640" y="3168720"/>
            <a:ext cx="1936800" cy="1981080"/>
          </a:xfrm>
          <a:prstGeom prst="rect">
            <a:avLst/>
          </a:prstGeom>
          <a:ln w="0">
            <a:noFill/>
          </a:ln>
        </p:spPr>
      </p:pic>
      <p:grpSp>
        <p:nvGrpSpPr>
          <p:cNvPr id="216" name="Group 3"/>
          <p:cNvGrpSpPr/>
          <p:nvPr/>
        </p:nvGrpSpPr>
        <p:grpSpPr>
          <a:xfrm>
            <a:off x="7272360" y="2592360"/>
            <a:ext cx="1828800" cy="2239920"/>
            <a:chOff x="7272360" y="2592360"/>
            <a:chExt cx="1828800" cy="2239920"/>
          </a:xfrm>
        </p:grpSpPr>
        <p:pic>
          <p:nvPicPr>
            <p:cNvPr id="217" name="Picture 4" descr="HOUSE6"/>
            <p:cNvPicPr/>
            <p:nvPr/>
          </p:nvPicPr>
          <p:blipFill>
            <a:blip r:embed="rId2"/>
            <a:stretch/>
          </p:blipFill>
          <p:spPr>
            <a:xfrm>
              <a:off x="7272360" y="3430440"/>
              <a:ext cx="18288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5"/>
            <p:cNvSpPr/>
            <p:nvPr/>
          </p:nvSpPr>
          <p:spPr>
            <a:xfrm>
              <a:off x="7729560" y="259236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养蜂人的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6"/>
          <p:cNvGrpSpPr/>
          <p:nvPr/>
        </p:nvGrpSpPr>
        <p:grpSpPr>
          <a:xfrm>
            <a:off x="266760" y="1268280"/>
            <a:ext cx="4952880" cy="3962520"/>
            <a:chOff x="266760" y="1268280"/>
            <a:chExt cx="4952880" cy="3962520"/>
          </a:xfrm>
        </p:grpSpPr>
        <p:pic>
          <p:nvPicPr>
            <p:cNvPr id="220" name="Picture 7" descr="Bee_fl1"/>
            <p:cNvPicPr/>
            <p:nvPr/>
          </p:nvPicPr>
          <p:blipFill>
            <a:blip r:embed="rId3"/>
            <a:stretch/>
          </p:blipFill>
          <p:spPr>
            <a:xfrm>
              <a:off x="2552760" y="3630600"/>
              <a:ext cx="9144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8" descr="Bee_fl1"/>
            <p:cNvPicPr/>
            <p:nvPr/>
          </p:nvPicPr>
          <p:blipFill>
            <a:blip r:embed="rId4"/>
            <a:stretch/>
          </p:blipFill>
          <p:spPr>
            <a:xfrm>
              <a:off x="2095560" y="3935160"/>
              <a:ext cx="91440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2" name="Group 9"/>
            <p:cNvGrpSpPr/>
            <p:nvPr/>
          </p:nvGrpSpPr>
          <p:grpSpPr>
            <a:xfrm>
              <a:off x="2247840" y="2868480"/>
              <a:ext cx="2743200" cy="2057400"/>
              <a:chOff x="2247840" y="2868480"/>
              <a:chExt cx="2743200" cy="2057400"/>
            </a:xfrm>
          </p:grpSpPr>
          <p:pic>
            <p:nvPicPr>
              <p:cNvPr id="223" name="Picture 10" descr="Bee_fl1"/>
              <p:cNvPicPr/>
              <p:nvPr/>
            </p:nvPicPr>
            <p:blipFill>
              <a:blip r:embed="rId5"/>
              <a:stretch/>
            </p:blipFill>
            <p:spPr>
              <a:xfrm>
                <a:off x="2705040" y="2868480"/>
                <a:ext cx="91440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Picture 11" descr="Bee_fl1"/>
              <p:cNvPicPr/>
              <p:nvPr/>
            </p:nvPicPr>
            <p:blipFill>
              <a:blip r:embed="rId6"/>
              <a:stretch/>
            </p:blipFill>
            <p:spPr>
              <a:xfrm>
                <a:off x="2247840" y="3173040"/>
                <a:ext cx="91440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5" name="Picture 12" descr="Bee_fl1"/>
              <p:cNvPicPr/>
              <p:nvPr/>
            </p:nvPicPr>
            <p:blipFill>
              <a:blip r:embed="rId7"/>
              <a:stretch/>
            </p:blipFill>
            <p:spPr>
              <a:xfrm>
                <a:off x="2628720" y="3173040"/>
                <a:ext cx="91440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" name="Picture 13" descr="Bee_fl1"/>
              <p:cNvPicPr/>
              <p:nvPr/>
            </p:nvPicPr>
            <p:blipFill>
              <a:blip r:embed="rId8"/>
              <a:stretch/>
            </p:blipFill>
            <p:spPr>
              <a:xfrm>
                <a:off x="4076640" y="3782880"/>
                <a:ext cx="91440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7" name="Group 14"/>
            <p:cNvGrpSpPr/>
            <p:nvPr/>
          </p:nvGrpSpPr>
          <p:grpSpPr>
            <a:xfrm>
              <a:off x="266760" y="1268280"/>
              <a:ext cx="2743200" cy="2057400"/>
              <a:chOff x="266760" y="1268280"/>
              <a:chExt cx="2743200" cy="2057400"/>
            </a:xfrm>
          </p:grpSpPr>
          <p:pic>
            <p:nvPicPr>
              <p:cNvPr id="228" name="Picture 15" descr="Bee_fl1"/>
              <p:cNvPicPr/>
              <p:nvPr/>
            </p:nvPicPr>
            <p:blipFill>
              <a:blip r:embed="rId9"/>
              <a:stretch/>
            </p:blipFill>
            <p:spPr>
              <a:xfrm>
                <a:off x="723960" y="1268280"/>
                <a:ext cx="91440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" name="Picture 16" descr="Bee_fl1"/>
              <p:cNvPicPr/>
              <p:nvPr/>
            </p:nvPicPr>
            <p:blipFill>
              <a:blip r:embed="rId10"/>
              <a:stretch/>
            </p:blipFill>
            <p:spPr>
              <a:xfrm>
                <a:off x="266760" y="1572840"/>
                <a:ext cx="91440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0" name="Picture 17" descr="Bee_fl1"/>
              <p:cNvPicPr/>
              <p:nvPr/>
            </p:nvPicPr>
            <p:blipFill>
              <a:blip r:embed="rId11"/>
              <a:stretch/>
            </p:blipFill>
            <p:spPr>
              <a:xfrm>
                <a:off x="647640" y="1572840"/>
                <a:ext cx="91440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Picture 18" descr="Bee_fl1"/>
              <p:cNvPicPr/>
              <p:nvPr/>
            </p:nvPicPr>
            <p:blipFill>
              <a:blip r:embed="rId12"/>
              <a:stretch/>
            </p:blipFill>
            <p:spPr>
              <a:xfrm>
                <a:off x="2095560" y="2182680"/>
                <a:ext cx="91440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2" name="Group 19"/>
            <p:cNvGrpSpPr/>
            <p:nvPr/>
          </p:nvGrpSpPr>
          <p:grpSpPr>
            <a:xfrm>
              <a:off x="1181160" y="1496880"/>
              <a:ext cx="2743200" cy="2057400"/>
              <a:chOff x="1181160" y="1496880"/>
              <a:chExt cx="2743200" cy="2057400"/>
            </a:xfrm>
          </p:grpSpPr>
          <p:pic>
            <p:nvPicPr>
              <p:cNvPr id="233" name="Picture 20" descr="Bee_fl1"/>
              <p:cNvPicPr/>
              <p:nvPr/>
            </p:nvPicPr>
            <p:blipFill>
              <a:blip r:embed="rId13"/>
              <a:stretch/>
            </p:blipFill>
            <p:spPr>
              <a:xfrm>
                <a:off x="1638360" y="1496880"/>
                <a:ext cx="91440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Picture 21" descr="Bee_fl1"/>
              <p:cNvPicPr/>
              <p:nvPr/>
            </p:nvPicPr>
            <p:blipFill>
              <a:blip r:embed="rId14"/>
              <a:stretch/>
            </p:blipFill>
            <p:spPr>
              <a:xfrm>
                <a:off x="1181160" y="1801440"/>
                <a:ext cx="91440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Picture 22" descr="Bee_fl1"/>
              <p:cNvPicPr/>
              <p:nvPr/>
            </p:nvPicPr>
            <p:blipFill>
              <a:blip r:embed="rId15"/>
              <a:stretch/>
            </p:blipFill>
            <p:spPr>
              <a:xfrm>
                <a:off x="1562040" y="1801440"/>
                <a:ext cx="91440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Picture 23" descr="Bee_fl1"/>
              <p:cNvPicPr/>
              <p:nvPr/>
            </p:nvPicPr>
            <p:blipFill>
              <a:blip r:embed="rId16"/>
              <a:stretch/>
            </p:blipFill>
            <p:spPr>
              <a:xfrm>
                <a:off x="3009960" y="2411280"/>
                <a:ext cx="91440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37" name="Picture 24" descr="Bee_fl1"/>
            <p:cNvPicPr/>
            <p:nvPr/>
          </p:nvPicPr>
          <p:blipFill>
            <a:blip r:embed="rId17"/>
            <a:stretch/>
          </p:blipFill>
          <p:spPr>
            <a:xfrm>
              <a:off x="2933640" y="3173400"/>
              <a:ext cx="9144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25" descr="Bee_fl1"/>
            <p:cNvPicPr/>
            <p:nvPr/>
          </p:nvPicPr>
          <p:blipFill>
            <a:blip r:embed="rId18"/>
            <a:stretch/>
          </p:blipFill>
          <p:spPr>
            <a:xfrm>
              <a:off x="2476440" y="3477960"/>
              <a:ext cx="9144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26" descr="Bee_fl1"/>
            <p:cNvPicPr/>
            <p:nvPr/>
          </p:nvPicPr>
          <p:blipFill>
            <a:blip r:embed="rId19"/>
            <a:stretch/>
          </p:blipFill>
          <p:spPr>
            <a:xfrm>
              <a:off x="2857680" y="3477960"/>
              <a:ext cx="9144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27" descr="Bee_fl1"/>
            <p:cNvPicPr/>
            <p:nvPr/>
          </p:nvPicPr>
          <p:blipFill>
            <a:blip r:embed="rId20"/>
            <a:stretch/>
          </p:blipFill>
          <p:spPr>
            <a:xfrm>
              <a:off x="4305240" y="4087800"/>
              <a:ext cx="9144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 Box 28"/>
            <p:cNvSpPr/>
            <p:nvPr/>
          </p:nvSpPr>
          <p:spPr>
            <a:xfrm>
              <a:off x="3314880" y="43164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花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29"/>
          <p:cNvGrpSpPr/>
          <p:nvPr/>
        </p:nvGrpSpPr>
        <p:grpSpPr>
          <a:xfrm>
            <a:off x="4103640" y="0"/>
            <a:ext cx="4191120" cy="1378080"/>
            <a:chOff x="4103640" y="0"/>
            <a:chExt cx="4191120" cy="1378080"/>
          </a:xfrm>
        </p:grpSpPr>
        <p:pic>
          <p:nvPicPr>
            <p:cNvPr id="243" name="Picture 30" descr="HOUSE4"/>
            <p:cNvPicPr/>
            <p:nvPr/>
          </p:nvPicPr>
          <p:blipFill>
            <a:blip r:embed="rId21"/>
            <a:stretch/>
          </p:blipFill>
          <p:spPr>
            <a:xfrm>
              <a:off x="4103640" y="0"/>
              <a:ext cx="221004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31"/>
            <p:cNvSpPr/>
            <p:nvPr/>
          </p:nvSpPr>
          <p:spPr>
            <a:xfrm>
              <a:off x="6542280" y="83844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列宁的住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852360" y="1440000"/>
            <a:ext cx="1080000" cy="1584360"/>
            <a:chOff x="3852360" y="1440000"/>
            <a:chExt cx="1080000" cy="1584360"/>
          </a:xfrm>
        </p:grpSpPr>
        <p:sp>
          <p:nvSpPr>
            <p:cNvPr id="246" name="Line 32"/>
            <p:cNvSpPr/>
            <p:nvPr/>
          </p:nvSpPr>
          <p:spPr>
            <a:xfrm flipH="1">
              <a:off x="3852360" y="1440000"/>
              <a:ext cx="1079640" cy="158436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>
              <a:off x="3852720" y="1440000"/>
              <a:ext cx="1079640" cy="158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Text Box 33"/>
          <p:cNvSpPr/>
          <p:nvPr/>
        </p:nvSpPr>
        <p:spPr>
          <a:xfrm>
            <a:off x="3672000" y="172728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发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4032360" y="3600360"/>
            <a:ext cx="2447640" cy="863640"/>
            <a:chOff x="4032360" y="3600360"/>
            <a:chExt cx="2447640" cy="863640"/>
          </a:xfrm>
        </p:grpSpPr>
        <p:sp>
          <p:nvSpPr>
            <p:cNvPr id="250" name="Line 34"/>
            <p:cNvSpPr/>
            <p:nvPr/>
          </p:nvSpPr>
          <p:spPr>
            <a:xfrm>
              <a:off x="4032360" y="3600360"/>
              <a:ext cx="2447640" cy="86364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>
              <a:off x="4032360" y="3600360"/>
              <a:ext cx="2447640" cy="86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ext Box 35"/>
          <p:cNvSpPr/>
          <p:nvPr/>
        </p:nvSpPr>
        <p:spPr>
          <a:xfrm>
            <a:off x="5327640" y="331164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观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8"/>
          <p:cNvSpPr/>
          <p:nvPr/>
        </p:nvSpPr>
        <p:spPr>
          <a:xfrm>
            <a:off x="252360" y="5516640"/>
            <a:ext cx="871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列宁一边走一边看，他发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他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他仔细观察，又发现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他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3"/>
          <p:cNvSpPr/>
          <p:nvPr/>
        </p:nvSpPr>
        <p:spPr>
          <a:xfrm>
            <a:off x="250920" y="1700280"/>
            <a:ext cx="7489800" cy="184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列宁为什么认为跟着蜜蜂走就能找到养蜂人？列宁是怎么想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8199"/>
          <p:cNvSpPr/>
          <p:nvPr/>
        </p:nvSpPr>
        <p:spPr>
          <a:xfrm>
            <a:off x="826920" y="4437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5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538200" y="1197000"/>
            <a:ext cx="72738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列宁终于找到养蜂人，他们见面后怎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122560" y="3519360"/>
            <a:ext cx="4581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黑体"/>
                <a:ea typeface="黑体"/>
              </a:rPr>
              <a:t>读课文第四自然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9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pic_6304[1]"/>
          <p:cNvPicPr/>
          <p:nvPr/>
        </p:nvPicPr>
        <p:blipFill>
          <a:blip r:embed="rId1"/>
          <a:srcRect l="7394" t="19234" r="10150" b="3653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5"/>
          <p:cNvSpPr/>
          <p:nvPr/>
        </p:nvSpPr>
        <p:spPr>
          <a:xfrm>
            <a:off x="5865120" y="6156360"/>
            <a:ext cx="2314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图上画的是谁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9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5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3" name="Group 2"/>
          <p:cNvGrpSpPr/>
          <p:nvPr/>
        </p:nvGrpSpPr>
        <p:grpSpPr>
          <a:xfrm>
            <a:off x="730080" y="898560"/>
            <a:ext cx="7010640" cy="4114440"/>
            <a:chOff x="730080" y="898560"/>
            <a:chExt cx="7010640" cy="4114440"/>
          </a:xfrm>
        </p:grpSpPr>
        <p:sp>
          <p:nvSpPr>
            <p:cNvPr id="264" name="Rectangle 3"/>
            <p:cNvSpPr/>
            <p:nvPr/>
          </p:nvSpPr>
          <p:spPr>
            <a:xfrm>
              <a:off x="730080" y="898560"/>
              <a:ext cx="7010640" cy="41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4"/>
            <p:cNvSpPr/>
            <p:nvPr/>
          </p:nvSpPr>
          <p:spPr>
            <a:xfrm>
              <a:off x="1954080" y="1037160"/>
              <a:ext cx="450900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	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养蜂的人看见列宁，</a:t>
              </a: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惊讶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地说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“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您好，列宁同志。是谁把您领到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儿来的？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”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列宁笑着说：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“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我有向导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是您的蜜蜂把我领到这儿来的。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8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7" name="Group 2"/>
          <p:cNvGrpSpPr/>
          <p:nvPr/>
        </p:nvGrpSpPr>
        <p:grpSpPr>
          <a:xfrm>
            <a:off x="539640" y="1628640"/>
            <a:ext cx="7010640" cy="4114440"/>
            <a:chOff x="539640" y="1628640"/>
            <a:chExt cx="7010640" cy="4114440"/>
          </a:xfrm>
        </p:grpSpPr>
        <p:sp>
          <p:nvSpPr>
            <p:cNvPr id="268" name="Rectangle 3"/>
            <p:cNvSpPr/>
            <p:nvPr/>
          </p:nvSpPr>
          <p:spPr>
            <a:xfrm>
              <a:off x="539640" y="1628640"/>
              <a:ext cx="7010640" cy="41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4"/>
            <p:cNvSpPr/>
            <p:nvPr/>
          </p:nvSpPr>
          <p:spPr>
            <a:xfrm>
              <a:off x="613080" y="1767240"/>
              <a:ext cx="183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5"/>
          <p:cNvGrpSpPr/>
          <p:nvPr/>
        </p:nvGrpSpPr>
        <p:grpSpPr>
          <a:xfrm>
            <a:off x="576360" y="765000"/>
            <a:ext cx="7010280" cy="4114440"/>
            <a:chOff x="576360" y="765000"/>
            <a:chExt cx="7010280" cy="4114440"/>
          </a:xfrm>
        </p:grpSpPr>
        <p:sp>
          <p:nvSpPr>
            <p:cNvPr id="271" name="Rectangle 6"/>
            <p:cNvSpPr/>
            <p:nvPr/>
          </p:nvSpPr>
          <p:spPr>
            <a:xfrm>
              <a:off x="576360" y="765000"/>
              <a:ext cx="7010280" cy="41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7"/>
            <p:cNvSpPr/>
            <p:nvPr/>
          </p:nvSpPr>
          <p:spPr>
            <a:xfrm>
              <a:off x="1942920" y="850320"/>
              <a:ext cx="493560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	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养蜂的人看见列宁，</a:t>
              </a:r>
              <a:r>
                <a:rPr b="1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惊讶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地说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“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您好，列宁同志。是谁把您领到这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儿来的？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”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列宁笑着说：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“</a:t>
              </a:r>
              <a:r>
                <a:rPr b="1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我有向导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是您的蜜蜂把我领到这儿来的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3"/>
          <p:cNvSpPr/>
          <p:nvPr/>
        </p:nvSpPr>
        <p:spPr>
          <a:xfrm>
            <a:off x="468360" y="1916280"/>
            <a:ext cx="76327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列宁说的</a:t>
            </a:r>
            <a:r>
              <a:rPr b="1" lang="zh-CN" sz="3600" spc="-1" strike="noStrike">
                <a:solidFill>
                  <a:srgbClr val="06521e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向导</a:t>
            </a:r>
            <a:r>
              <a:rPr b="1" lang="zh-CN" sz="3600" spc="-1" strike="noStrike">
                <a:solidFill>
                  <a:srgbClr val="06521e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指谁？为什么说是蜜蜂引的路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1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3"/>
          <p:cNvSpPr/>
          <p:nvPr/>
        </p:nvSpPr>
        <p:spPr>
          <a:xfrm>
            <a:off x="395280" y="1484280"/>
            <a:ext cx="828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列宁笑着说：“我有向导，是您的蜜蜂把我领到这儿来的。”这句话里“向导”指的是（          ），“您”指的是（                 ）。列宁跟着采了蜜的（               ）走，果然（                 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2776320" y="628560"/>
            <a:ext cx="122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读课文最后一段，填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4284720" y="2852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4643280" y="270828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蜜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1476360" y="3357720"/>
            <a:ext cx="1440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2606760" y="3284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养蜂的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2556000" y="393372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蜜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1042920" y="450864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找到了养蜂人的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7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"/>
          <p:cNvSpPr/>
          <p:nvPr/>
        </p:nvSpPr>
        <p:spPr>
          <a:xfrm>
            <a:off x="2263680" y="1413000"/>
            <a:ext cx="4143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看了题目，你有什么疑问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781640" y="3068640"/>
            <a:ext cx="2375280" cy="175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宋体"/>
              </a:rPr>
              <a:t>是谁让蜜蜂引路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宋体"/>
              </a:rPr>
              <a:t>蜜蜂是怎样引路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5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2"/>
          <p:cNvSpPr/>
          <p:nvPr/>
        </p:nvSpPr>
        <p:spPr>
          <a:xfrm>
            <a:off x="826920" y="112536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夸一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755640" y="1916280"/>
            <a:ext cx="784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你是养蜂的人，听到列宁这么说，你会情不自禁的对列宁说：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列宁同志，你真是一个             的人。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2916360" y="4869000"/>
            <a:ext cx="3456000" cy="360"/>
            <a:chOff x="2916360" y="4869000"/>
            <a:chExt cx="3456000" cy="360"/>
          </a:xfrm>
        </p:grpSpPr>
        <p:sp>
          <p:nvSpPr>
            <p:cNvPr id="288" name="Line 4"/>
            <p:cNvSpPr/>
            <p:nvPr/>
          </p:nvSpPr>
          <p:spPr>
            <a:xfrm>
              <a:off x="2916360" y="4869000"/>
              <a:ext cx="3456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 txBox="1"/>
            <p:nvPr/>
          </p:nvSpPr>
          <p:spPr>
            <a:xfrm>
              <a:off x="2916360" y="4869000"/>
              <a:ext cx="345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5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2"/>
          <p:cNvSpPr/>
          <p:nvPr/>
        </p:nvSpPr>
        <p:spPr>
          <a:xfrm>
            <a:off x="2085840" y="525600"/>
            <a:ext cx="383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  <a:ea typeface="宋体"/>
              </a:rPr>
              <a:t>学习了这课，你懂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250920" y="1751040"/>
            <a:ext cx="8066160" cy="92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521e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列宁遇事细心观察，认真思考，作出判断，解决问题，特别值得我们学习。以后我们遇事也要多思考，多分析，多动脑，想办法解决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7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4"/>
          <p:cNvSpPr/>
          <p:nvPr/>
        </p:nvSpPr>
        <p:spPr>
          <a:xfrm>
            <a:off x="363960" y="1989000"/>
            <a:ext cx="729360" cy="305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惊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观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仔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980080" y="1989000"/>
            <a:ext cx="729360" cy="305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认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观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惊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284720" y="1916280"/>
            <a:ext cx="360" cy="4608360"/>
            <a:chOff x="4284720" y="1916280"/>
            <a:chExt cx="360" cy="4608360"/>
          </a:xfrm>
        </p:grpSpPr>
        <p:sp>
          <p:nvSpPr>
            <p:cNvPr id="297" name="Line 6"/>
            <p:cNvSpPr/>
            <p:nvPr/>
          </p:nvSpPr>
          <p:spPr>
            <a:xfrm>
              <a:off x="4284720" y="1916280"/>
              <a:ext cx="0" cy="460836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 txBox="1"/>
            <p:nvPr/>
          </p:nvSpPr>
          <p:spPr>
            <a:xfrm>
              <a:off x="4284720" y="1916280"/>
              <a:ext cx="360" cy="460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Text Box 7"/>
          <p:cNvSpPr/>
          <p:nvPr/>
        </p:nvSpPr>
        <p:spPr>
          <a:xfrm>
            <a:off x="4899240" y="2062080"/>
            <a:ext cx="729360" cy="305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发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引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常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8093520" y="2062080"/>
            <a:ext cx="729360" cy="305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带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经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发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UpRibbonSharp"/>
          <p:cNvSpPr/>
          <p:nvPr/>
        </p:nvSpPr>
        <p:spPr>
          <a:xfrm>
            <a:off x="179280" y="189000"/>
            <a:ext cx="8748720" cy="718920"/>
          </a:xfrm>
          <a:prstGeom prst="pie">
            <a:avLst/>
          </a:prstGeom>
          <a:solidFill>
            <a:srgbClr val="d8ebb3"/>
          </a:solidFill>
          <a:ln w="9360">
            <a:solidFill>
              <a:srgbClr val="99cc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宋体"/>
              </a:rPr>
              <a:t>连线近意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155600" y="2708280"/>
            <a:ext cx="1656000" cy="1944720"/>
            <a:chOff x="1155600" y="2708280"/>
            <a:chExt cx="1656000" cy="1944720"/>
          </a:xfrm>
        </p:grpSpPr>
        <p:sp>
          <p:nvSpPr>
            <p:cNvPr id="303" name="Line 10"/>
            <p:cNvSpPr/>
            <p:nvPr/>
          </p:nvSpPr>
          <p:spPr>
            <a:xfrm>
              <a:off x="1155600" y="2708280"/>
              <a:ext cx="1656000" cy="19447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 txBox="1"/>
            <p:nvPr/>
          </p:nvSpPr>
          <p:spPr>
            <a:xfrm>
              <a:off x="1155600" y="2708280"/>
              <a:ext cx="1656000" cy="19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1155600" y="2781000"/>
            <a:ext cx="1727280" cy="1942920"/>
            <a:chOff x="1155600" y="2781000"/>
            <a:chExt cx="1727280" cy="1942920"/>
          </a:xfrm>
        </p:grpSpPr>
        <p:sp>
          <p:nvSpPr>
            <p:cNvPr id="306" name="Line 11"/>
            <p:cNvSpPr/>
            <p:nvPr/>
          </p:nvSpPr>
          <p:spPr>
            <a:xfrm flipV="1">
              <a:off x="1155600" y="2781000"/>
              <a:ext cx="1727280" cy="19429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 txBox="1"/>
            <p:nvPr/>
          </p:nvSpPr>
          <p:spPr>
            <a:xfrm rot="10800000">
              <a:off x="1155600" y="2781000"/>
              <a:ext cx="1727280" cy="19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1227240" y="3716280"/>
            <a:ext cx="1655640" cy="360"/>
            <a:chOff x="1227240" y="3716280"/>
            <a:chExt cx="1655640" cy="360"/>
          </a:xfrm>
        </p:grpSpPr>
        <p:sp>
          <p:nvSpPr>
            <p:cNvPr id="309" name="Line 12"/>
            <p:cNvSpPr/>
            <p:nvPr/>
          </p:nvSpPr>
          <p:spPr>
            <a:xfrm>
              <a:off x="1227240" y="371628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>
              <a:off x="1227240" y="3716280"/>
              <a:ext cx="165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5691240" y="2781360"/>
            <a:ext cx="2305080" cy="2016000"/>
            <a:chOff x="5691240" y="2781360"/>
            <a:chExt cx="2305080" cy="2016000"/>
          </a:xfrm>
        </p:grpSpPr>
        <p:sp>
          <p:nvSpPr>
            <p:cNvPr id="312" name="Line 13"/>
            <p:cNvSpPr/>
            <p:nvPr/>
          </p:nvSpPr>
          <p:spPr>
            <a:xfrm>
              <a:off x="5691240" y="2781360"/>
              <a:ext cx="2305080" cy="20160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5691240" y="2781360"/>
              <a:ext cx="2305080" cy="20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5764320" y="3789360"/>
            <a:ext cx="2232000" cy="1008000"/>
            <a:chOff x="5764320" y="3789360"/>
            <a:chExt cx="2232000" cy="1008000"/>
          </a:xfrm>
        </p:grpSpPr>
        <p:sp>
          <p:nvSpPr>
            <p:cNvPr id="315" name="Line 14"/>
            <p:cNvSpPr/>
            <p:nvPr/>
          </p:nvSpPr>
          <p:spPr>
            <a:xfrm flipV="1">
              <a:off x="5764320" y="3789360"/>
              <a:ext cx="2232000" cy="10080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 rot="10800000">
              <a:off x="5764320" y="3789360"/>
              <a:ext cx="2232000" cy="10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5690880" y="2852280"/>
            <a:ext cx="2305440" cy="863640"/>
            <a:chOff x="5690880" y="2852280"/>
            <a:chExt cx="2305440" cy="863640"/>
          </a:xfrm>
        </p:grpSpPr>
        <p:sp>
          <p:nvSpPr>
            <p:cNvPr id="318" name="Line 15"/>
            <p:cNvSpPr/>
            <p:nvPr/>
          </p:nvSpPr>
          <p:spPr>
            <a:xfrm flipV="1">
              <a:off x="5691240" y="2852280"/>
              <a:ext cx="2305080" cy="8636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 txBox="1"/>
            <p:nvPr/>
          </p:nvSpPr>
          <p:spPr>
            <a:xfrm rot="10800000">
              <a:off x="5690880" y="2852280"/>
              <a:ext cx="2305080" cy="86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9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500"/>
                            </p:stCondLst>
                            <p:childTnLst>
                              <p:par>
                                <p:cTn id="39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500"/>
                            </p:stCondLst>
                            <p:childTnLst>
                              <p:par>
                                <p:cTn id="40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3000"/>
                            </p:stCondLst>
                            <p:childTnLst>
                              <p:par>
                                <p:cTn id="40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3" descr="RO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3"/>
          <p:cNvSpPr/>
          <p:nvPr/>
        </p:nvSpPr>
        <p:spPr>
          <a:xfrm>
            <a:off x="5506920" y="1327320"/>
            <a:ext cx="1008360" cy="18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  <a:ea typeface="宋体"/>
              </a:rPr>
              <a:t>yǐ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宋体"/>
                <a:ea typeface="宋体"/>
              </a:rPr>
              <a:t>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4016520" y="1327320"/>
            <a:ext cx="914400" cy="18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  <a:ea typeface="宋体"/>
              </a:rPr>
              <a:t>p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宋体"/>
                <a:ea typeface="宋体"/>
              </a:rPr>
              <a:t>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2482920" y="1339920"/>
            <a:ext cx="863640" cy="23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  <a:ea typeface="宋体"/>
              </a:rPr>
              <a:t>t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宋体"/>
                <a:ea typeface="宋体"/>
              </a:rPr>
              <a:t>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2627280" y="3932280"/>
            <a:ext cx="1584360" cy="18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  <a:ea typeface="宋体"/>
              </a:rPr>
              <a:t>qiā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宋体"/>
                <a:ea typeface="宋体"/>
              </a:rPr>
              <a:t>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1114560" y="836640"/>
            <a:ext cx="761760" cy="23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  <a:ea typeface="宋体"/>
              </a:rPr>
              <a:t>y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宋体"/>
                <a:ea typeface="宋体"/>
              </a:rPr>
              <a:t>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0"/>
          <p:cNvSpPr/>
          <p:nvPr/>
        </p:nvSpPr>
        <p:spPr>
          <a:xfrm>
            <a:off x="1114560" y="3932280"/>
            <a:ext cx="1008000" cy="23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fē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宋体"/>
                <a:ea typeface="宋体"/>
              </a:rPr>
              <a:t>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4210200" y="3932280"/>
            <a:ext cx="936360" cy="18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f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宋体"/>
                <a:ea typeface="宋体"/>
              </a:rPr>
              <a:t>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2"/>
          <p:cNvSpPr/>
          <p:nvPr/>
        </p:nvSpPr>
        <p:spPr>
          <a:xfrm>
            <a:off x="7091280" y="1268280"/>
            <a:ext cx="1152720" cy="18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li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宋体"/>
                <a:ea typeface="宋体"/>
              </a:rPr>
              <a:t>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4"/>
          <p:cNvSpPr/>
          <p:nvPr/>
        </p:nvSpPr>
        <p:spPr>
          <a:xfrm>
            <a:off x="5291280" y="3932280"/>
            <a:ext cx="1584360" cy="18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jì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宋体"/>
                <a:ea typeface="宋体"/>
              </a:rPr>
              <a:t>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12" descr="RO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2"/>
          <p:cNvSpPr/>
          <p:nvPr/>
        </p:nvSpPr>
        <p:spPr>
          <a:xfrm>
            <a:off x="1476360" y="4649760"/>
            <a:ext cx="646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讶   引   谈   列   蜂   敲   派   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1332000" y="1628640"/>
            <a:ext cx="71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n   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   yǐn   fēng   qiāo   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l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907640" y="2276280"/>
            <a:ext cx="5040720" cy="2376360"/>
            <a:chOff x="1907640" y="2276280"/>
            <a:chExt cx="5040720" cy="2376360"/>
          </a:xfrm>
        </p:grpSpPr>
        <p:sp>
          <p:nvSpPr>
            <p:cNvPr id="334" name="Line 4"/>
            <p:cNvSpPr/>
            <p:nvPr/>
          </p:nvSpPr>
          <p:spPr>
            <a:xfrm flipV="1">
              <a:off x="1908000" y="2276280"/>
              <a:ext cx="5040360" cy="2376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 rot="10800000">
              <a:off x="1907640" y="2275920"/>
              <a:ext cx="5040360" cy="23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2484360" y="2205000"/>
            <a:ext cx="1146240" cy="2448000"/>
            <a:chOff x="2484360" y="2205000"/>
            <a:chExt cx="1146240" cy="2448000"/>
          </a:xfrm>
        </p:grpSpPr>
        <p:sp>
          <p:nvSpPr>
            <p:cNvPr id="337" name="Line 5"/>
            <p:cNvSpPr/>
            <p:nvPr/>
          </p:nvSpPr>
          <p:spPr>
            <a:xfrm flipV="1">
              <a:off x="2484360" y="2205000"/>
              <a:ext cx="1146240" cy="2448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 rot="10800000">
              <a:off x="2484360" y="2205000"/>
              <a:ext cx="1146240" cy="244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835280" y="2205000"/>
            <a:ext cx="1557360" cy="2519280"/>
            <a:chOff x="1835280" y="2205000"/>
            <a:chExt cx="1557360" cy="2519280"/>
          </a:xfrm>
        </p:grpSpPr>
        <p:sp>
          <p:nvSpPr>
            <p:cNvPr id="340" name="Line 6"/>
            <p:cNvSpPr/>
            <p:nvPr/>
          </p:nvSpPr>
          <p:spPr>
            <a:xfrm flipH="1" flipV="1">
              <a:off x="1835280" y="2205000"/>
              <a:ext cx="1557360" cy="2519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 txBox="1"/>
            <p:nvPr/>
          </p:nvSpPr>
          <p:spPr>
            <a:xfrm rot="10800000">
              <a:off x="1835280" y="2205000"/>
              <a:ext cx="1557360" cy="251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4284720" y="2133720"/>
            <a:ext cx="409680" cy="2590560"/>
            <a:chOff x="4284720" y="2133720"/>
            <a:chExt cx="409680" cy="2590560"/>
          </a:xfrm>
        </p:grpSpPr>
        <p:sp>
          <p:nvSpPr>
            <p:cNvPr id="343" name="Line 7"/>
            <p:cNvSpPr/>
            <p:nvPr/>
          </p:nvSpPr>
          <p:spPr>
            <a:xfrm>
              <a:off x="4284720" y="2133720"/>
              <a:ext cx="409680" cy="25905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 txBox="1"/>
            <p:nvPr/>
          </p:nvSpPr>
          <p:spPr>
            <a:xfrm>
              <a:off x="4284720" y="2133720"/>
              <a:ext cx="409680" cy="2590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5292720" y="2205000"/>
            <a:ext cx="216000" cy="2448000"/>
            <a:chOff x="5292720" y="2205000"/>
            <a:chExt cx="216000" cy="2448000"/>
          </a:xfrm>
        </p:grpSpPr>
        <p:sp>
          <p:nvSpPr>
            <p:cNvPr id="346" name="Line 8"/>
            <p:cNvSpPr/>
            <p:nvPr/>
          </p:nvSpPr>
          <p:spPr>
            <a:xfrm flipV="1">
              <a:off x="5292720" y="2205000"/>
              <a:ext cx="216000" cy="2448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 txBox="1"/>
            <p:nvPr/>
          </p:nvSpPr>
          <p:spPr>
            <a:xfrm rot="10800000">
              <a:off x="5292720" y="2205000"/>
              <a:ext cx="216000" cy="244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2700000" y="2205000"/>
            <a:ext cx="3684600" cy="2448000"/>
            <a:chOff x="2700000" y="2205000"/>
            <a:chExt cx="3684600" cy="2448000"/>
          </a:xfrm>
        </p:grpSpPr>
        <p:sp>
          <p:nvSpPr>
            <p:cNvPr id="349" name="Line 9"/>
            <p:cNvSpPr/>
            <p:nvPr/>
          </p:nvSpPr>
          <p:spPr>
            <a:xfrm flipH="1" flipV="1">
              <a:off x="2700000" y="2205000"/>
              <a:ext cx="3684600" cy="2448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 txBox="1"/>
            <p:nvPr/>
          </p:nvSpPr>
          <p:spPr>
            <a:xfrm rot="10800000">
              <a:off x="2700000" y="2204640"/>
              <a:ext cx="3684600" cy="244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6443640" y="2205000"/>
            <a:ext cx="246240" cy="2448000"/>
            <a:chOff x="6443640" y="2205000"/>
            <a:chExt cx="246240" cy="2448000"/>
          </a:xfrm>
        </p:grpSpPr>
        <p:sp>
          <p:nvSpPr>
            <p:cNvPr id="352" name="Line 10"/>
            <p:cNvSpPr/>
            <p:nvPr/>
          </p:nvSpPr>
          <p:spPr>
            <a:xfrm flipH="1" flipV="1">
              <a:off x="6443640" y="2205000"/>
              <a:ext cx="246240" cy="2448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 txBox="1"/>
            <p:nvPr/>
          </p:nvSpPr>
          <p:spPr>
            <a:xfrm rot="10800000">
              <a:off x="6443640" y="2205000"/>
              <a:ext cx="246240" cy="244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924000" y="2205000"/>
            <a:ext cx="4032720" cy="2448000"/>
            <a:chOff x="3924000" y="2205000"/>
            <a:chExt cx="4032720" cy="2448000"/>
          </a:xfrm>
        </p:grpSpPr>
        <p:sp>
          <p:nvSpPr>
            <p:cNvPr id="355" name="Line 11"/>
            <p:cNvSpPr/>
            <p:nvPr/>
          </p:nvSpPr>
          <p:spPr>
            <a:xfrm flipV="1">
              <a:off x="3924360" y="2205000"/>
              <a:ext cx="4032360" cy="2448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 txBox="1"/>
            <p:nvPr/>
          </p:nvSpPr>
          <p:spPr>
            <a:xfrm rot="10800000">
              <a:off x="3924000" y="2204640"/>
              <a:ext cx="4032360" cy="244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RO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3"/>
          <p:cNvSpPr/>
          <p:nvPr/>
        </p:nvSpPr>
        <p:spPr>
          <a:xfrm>
            <a:off x="1116000" y="2278080"/>
            <a:ext cx="3095640" cy="367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900000" y="4149360"/>
            <a:ext cx="3718080" cy="17640"/>
            <a:chOff x="900000" y="4149360"/>
            <a:chExt cx="3718080" cy="17640"/>
          </a:xfrm>
        </p:grpSpPr>
        <p:sp>
          <p:nvSpPr>
            <p:cNvPr id="360" name="Line 4"/>
            <p:cNvSpPr/>
            <p:nvPr/>
          </p:nvSpPr>
          <p:spPr>
            <a:xfrm flipV="1">
              <a:off x="900000" y="4149360"/>
              <a:ext cx="3718080" cy="1764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 txBox="1"/>
            <p:nvPr/>
          </p:nvSpPr>
          <p:spPr>
            <a:xfrm rot="10800000">
              <a:off x="900000" y="4149360"/>
              <a:ext cx="3718080" cy="1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2700360" y="2131920"/>
            <a:ext cx="360" cy="3813120"/>
            <a:chOff x="2700360" y="2131920"/>
            <a:chExt cx="360" cy="3813120"/>
          </a:xfrm>
        </p:grpSpPr>
        <p:sp>
          <p:nvSpPr>
            <p:cNvPr id="363" name="Line 5"/>
            <p:cNvSpPr/>
            <p:nvPr/>
          </p:nvSpPr>
          <p:spPr>
            <a:xfrm flipV="1">
              <a:off x="2700360" y="2131920"/>
              <a:ext cx="0" cy="381312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 txBox="1"/>
            <p:nvPr/>
          </p:nvSpPr>
          <p:spPr>
            <a:xfrm rot="16200000">
              <a:off x="793800" y="4038120"/>
              <a:ext cx="3813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Text Box 6"/>
          <p:cNvSpPr/>
          <p:nvPr/>
        </p:nvSpPr>
        <p:spPr>
          <a:xfrm>
            <a:off x="1770840" y="2152800"/>
            <a:ext cx="192564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Times New Roman"/>
              </a:rPr>
              <a:t>讶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7"/>
          <p:cNvSpPr/>
          <p:nvPr/>
        </p:nvSpPr>
        <p:spPr>
          <a:xfrm>
            <a:off x="1711440" y="139680"/>
            <a:ext cx="1968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宋体"/>
                <a:ea typeface="宋体"/>
              </a:rPr>
              <a:t>yà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8" descr="N_178"/>
          <p:cNvPicPr/>
          <p:nvPr/>
        </p:nvPicPr>
        <p:blipFill>
          <a:blip r:embed="rId2"/>
          <a:stretch/>
        </p:blipFill>
        <p:spPr>
          <a:xfrm>
            <a:off x="3780000" y="1125360"/>
            <a:ext cx="1323720" cy="1447920"/>
          </a:xfrm>
          <a:prstGeom prst="rect">
            <a:avLst/>
          </a:prstGeom>
          <a:ln w="0">
            <a:noFill/>
          </a:ln>
        </p:spPr>
      </p:pic>
      <p:sp>
        <p:nvSpPr>
          <p:cNvPr id="368" name="Oval 9"/>
          <p:cNvSpPr/>
          <p:nvPr/>
        </p:nvSpPr>
        <p:spPr>
          <a:xfrm>
            <a:off x="5003640" y="3286080"/>
            <a:ext cx="3240360" cy="223524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ff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宋体"/>
              </a:rPr>
              <a:t>惊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RO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3"/>
          <p:cNvSpPr/>
          <p:nvPr/>
        </p:nvSpPr>
        <p:spPr>
          <a:xfrm>
            <a:off x="1116000" y="2278080"/>
            <a:ext cx="3095640" cy="367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900000" y="4149360"/>
            <a:ext cx="3718080" cy="17640"/>
            <a:chOff x="900000" y="4149360"/>
            <a:chExt cx="3718080" cy="17640"/>
          </a:xfrm>
        </p:grpSpPr>
        <p:sp>
          <p:nvSpPr>
            <p:cNvPr id="372" name="Line 4"/>
            <p:cNvSpPr/>
            <p:nvPr/>
          </p:nvSpPr>
          <p:spPr>
            <a:xfrm flipV="1">
              <a:off x="900000" y="4149360"/>
              <a:ext cx="3718080" cy="1764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 txBox="1"/>
            <p:nvPr/>
          </p:nvSpPr>
          <p:spPr>
            <a:xfrm rot="10800000">
              <a:off x="900000" y="4149360"/>
              <a:ext cx="3718080" cy="1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2700360" y="2131920"/>
            <a:ext cx="360" cy="3813120"/>
            <a:chOff x="2700360" y="2131920"/>
            <a:chExt cx="360" cy="3813120"/>
          </a:xfrm>
        </p:grpSpPr>
        <p:sp>
          <p:nvSpPr>
            <p:cNvPr id="375" name="Line 5"/>
            <p:cNvSpPr/>
            <p:nvPr/>
          </p:nvSpPr>
          <p:spPr>
            <a:xfrm flipV="1">
              <a:off x="2700360" y="2131920"/>
              <a:ext cx="0" cy="381312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 txBox="1"/>
            <p:nvPr/>
          </p:nvSpPr>
          <p:spPr>
            <a:xfrm rot="16200000">
              <a:off x="793800" y="4038120"/>
              <a:ext cx="3813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Text Box 6"/>
          <p:cNvSpPr/>
          <p:nvPr/>
        </p:nvSpPr>
        <p:spPr>
          <a:xfrm>
            <a:off x="1554840" y="2060640"/>
            <a:ext cx="192564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Times New Roman"/>
              </a:rPr>
              <a:t>谈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7"/>
          <p:cNvSpPr/>
          <p:nvPr/>
        </p:nvSpPr>
        <p:spPr>
          <a:xfrm>
            <a:off x="1194480" y="387360"/>
            <a:ext cx="2764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宋体"/>
                <a:ea typeface="宋体"/>
              </a:rPr>
              <a:t>tá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8" descr="N_178"/>
          <p:cNvPicPr/>
          <p:nvPr/>
        </p:nvPicPr>
        <p:blipFill>
          <a:blip r:embed="rId2"/>
          <a:stretch/>
        </p:blipFill>
        <p:spPr>
          <a:xfrm>
            <a:off x="3780000" y="1125360"/>
            <a:ext cx="1323720" cy="1447920"/>
          </a:xfrm>
          <a:prstGeom prst="rect">
            <a:avLst/>
          </a:prstGeom>
          <a:ln w="0">
            <a:noFill/>
          </a:ln>
        </p:spPr>
      </p:pic>
      <p:sp>
        <p:nvSpPr>
          <p:cNvPr id="380" name="Oval 9"/>
          <p:cNvSpPr/>
          <p:nvPr/>
        </p:nvSpPr>
        <p:spPr>
          <a:xfrm>
            <a:off x="5003640" y="3286080"/>
            <a:ext cx="3240360" cy="223524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ff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宋体"/>
              </a:rPr>
              <a:t>谈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RO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3"/>
          <p:cNvSpPr/>
          <p:nvPr/>
        </p:nvSpPr>
        <p:spPr>
          <a:xfrm>
            <a:off x="1116000" y="2278080"/>
            <a:ext cx="3095640" cy="367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900000" y="4149360"/>
            <a:ext cx="3718080" cy="17640"/>
            <a:chOff x="900000" y="4149360"/>
            <a:chExt cx="3718080" cy="17640"/>
          </a:xfrm>
        </p:grpSpPr>
        <p:sp>
          <p:nvSpPr>
            <p:cNvPr id="384" name="Line 4"/>
            <p:cNvSpPr/>
            <p:nvPr/>
          </p:nvSpPr>
          <p:spPr>
            <a:xfrm flipV="1">
              <a:off x="900000" y="4149360"/>
              <a:ext cx="3718080" cy="1764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 txBox="1"/>
            <p:nvPr/>
          </p:nvSpPr>
          <p:spPr>
            <a:xfrm rot="10800000">
              <a:off x="900000" y="4149360"/>
              <a:ext cx="3718080" cy="1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2700360" y="2131920"/>
            <a:ext cx="360" cy="3813120"/>
            <a:chOff x="2700360" y="2131920"/>
            <a:chExt cx="360" cy="3813120"/>
          </a:xfrm>
        </p:grpSpPr>
        <p:sp>
          <p:nvSpPr>
            <p:cNvPr id="387" name="Line 5"/>
            <p:cNvSpPr/>
            <p:nvPr/>
          </p:nvSpPr>
          <p:spPr>
            <a:xfrm flipV="1">
              <a:off x="2700360" y="2131920"/>
              <a:ext cx="0" cy="381312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 txBox="1"/>
            <p:nvPr/>
          </p:nvSpPr>
          <p:spPr>
            <a:xfrm rot="16200000">
              <a:off x="793800" y="4038120"/>
              <a:ext cx="3813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Text Box 6"/>
          <p:cNvSpPr/>
          <p:nvPr/>
        </p:nvSpPr>
        <p:spPr>
          <a:xfrm>
            <a:off x="1775520" y="2060640"/>
            <a:ext cx="192564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Times New Roman"/>
              </a:rPr>
              <a:t>派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1341360" y="260280"/>
            <a:ext cx="253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宋体"/>
                <a:ea typeface="宋体"/>
              </a:rPr>
              <a:t>pài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8" descr="N_178"/>
          <p:cNvPicPr/>
          <p:nvPr/>
        </p:nvPicPr>
        <p:blipFill>
          <a:blip r:embed="rId2"/>
          <a:stretch/>
        </p:blipFill>
        <p:spPr>
          <a:xfrm>
            <a:off x="3780000" y="1125360"/>
            <a:ext cx="1323720" cy="1447920"/>
          </a:xfrm>
          <a:prstGeom prst="rect">
            <a:avLst/>
          </a:prstGeom>
          <a:ln w="0">
            <a:noFill/>
          </a:ln>
        </p:spPr>
      </p:pic>
      <p:sp>
        <p:nvSpPr>
          <p:cNvPr id="392" name="Oval 9"/>
          <p:cNvSpPr/>
          <p:nvPr/>
        </p:nvSpPr>
        <p:spPr>
          <a:xfrm>
            <a:off x="5003640" y="3286080"/>
            <a:ext cx="3240360" cy="223524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ff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宋体"/>
              </a:rPr>
              <a:t>派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RO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3"/>
          <p:cNvSpPr/>
          <p:nvPr/>
        </p:nvSpPr>
        <p:spPr>
          <a:xfrm>
            <a:off x="1116000" y="2278080"/>
            <a:ext cx="3095640" cy="367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900000" y="4149360"/>
            <a:ext cx="3718080" cy="17640"/>
            <a:chOff x="900000" y="4149360"/>
            <a:chExt cx="3718080" cy="17640"/>
          </a:xfrm>
        </p:grpSpPr>
        <p:sp>
          <p:nvSpPr>
            <p:cNvPr id="396" name="Line 4"/>
            <p:cNvSpPr/>
            <p:nvPr/>
          </p:nvSpPr>
          <p:spPr>
            <a:xfrm flipV="1">
              <a:off x="900000" y="4149360"/>
              <a:ext cx="3718080" cy="1764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 txBox="1"/>
            <p:nvPr/>
          </p:nvSpPr>
          <p:spPr>
            <a:xfrm rot="10800000">
              <a:off x="900000" y="4149360"/>
              <a:ext cx="3718080" cy="1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2700360" y="2131920"/>
            <a:ext cx="360" cy="3813120"/>
            <a:chOff x="2700360" y="2131920"/>
            <a:chExt cx="360" cy="3813120"/>
          </a:xfrm>
        </p:grpSpPr>
        <p:sp>
          <p:nvSpPr>
            <p:cNvPr id="399" name="Line 5"/>
            <p:cNvSpPr/>
            <p:nvPr/>
          </p:nvSpPr>
          <p:spPr>
            <a:xfrm flipV="1">
              <a:off x="2700360" y="2131920"/>
              <a:ext cx="0" cy="381312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 txBox="1"/>
            <p:nvPr/>
          </p:nvSpPr>
          <p:spPr>
            <a:xfrm rot="16200000">
              <a:off x="793800" y="4038120"/>
              <a:ext cx="3813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Text Box 6"/>
          <p:cNvSpPr/>
          <p:nvPr/>
        </p:nvSpPr>
        <p:spPr>
          <a:xfrm>
            <a:off x="1775520" y="2060640"/>
            <a:ext cx="192564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Times New Roman"/>
              </a:rPr>
              <a:t>引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7"/>
          <p:cNvSpPr/>
          <p:nvPr/>
        </p:nvSpPr>
        <p:spPr>
          <a:xfrm>
            <a:off x="1319760" y="333360"/>
            <a:ext cx="2513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宋体"/>
                <a:ea typeface="宋体"/>
              </a:rPr>
              <a:t>yǐ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8" descr="N_178"/>
          <p:cNvPicPr/>
          <p:nvPr/>
        </p:nvPicPr>
        <p:blipFill>
          <a:blip r:embed="rId2"/>
          <a:stretch/>
        </p:blipFill>
        <p:spPr>
          <a:xfrm>
            <a:off x="3780000" y="1125360"/>
            <a:ext cx="1323720" cy="1447920"/>
          </a:xfrm>
          <a:prstGeom prst="rect">
            <a:avLst/>
          </a:prstGeom>
          <a:ln w="0">
            <a:noFill/>
          </a:ln>
        </p:spPr>
      </p:pic>
      <p:sp>
        <p:nvSpPr>
          <p:cNvPr id="404" name="Oval 9"/>
          <p:cNvSpPr/>
          <p:nvPr/>
        </p:nvSpPr>
        <p:spPr>
          <a:xfrm>
            <a:off x="5003640" y="3286080"/>
            <a:ext cx="3240360" cy="223524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ff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宋体"/>
              </a:rPr>
              <a:t>指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文本框 8199"/>
          <p:cNvSpPr/>
          <p:nvPr/>
        </p:nvSpPr>
        <p:spPr>
          <a:xfrm>
            <a:off x="1835280" y="6237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RO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3"/>
          <p:cNvSpPr/>
          <p:nvPr/>
        </p:nvSpPr>
        <p:spPr>
          <a:xfrm>
            <a:off x="1116000" y="2278080"/>
            <a:ext cx="3095640" cy="367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900000" y="4149360"/>
            <a:ext cx="3718080" cy="17640"/>
            <a:chOff x="900000" y="4149360"/>
            <a:chExt cx="3718080" cy="17640"/>
          </a:xfrm>
        </p:grpSpPr>
        <p:sp>
          <p:nvSpPr>
            <p:cNvPr id="409" name="Line 4"/>
            <p:cNvSpPr/>
            <p:nvPr/>
          </p:nvSpPr>
          <p:spPr>
            <a:xfrm flipV="1">
              <a:off x="900000" y="4149360"/>
              <a:ext cx="3718080" cy="1764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 txBox="1"/>
            <p:nvPr/>
          </p:nvSpPr>
          <p:spPr>
            <a:xfrm rot="10800000">
              <a:off x="900000" y="4149360"/>
              <a:ext cx="3718080" cy="1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2700360" y="2131920"/>
            <a:ext cx="360" cy="3813120"/>
            <a:chOff x="2700360" y="2131920"/>
            <a:chExt cx="360" cy="3813120"/>
          </a:xfrm>
        </p:grpSpPr>
        <p:sp>
          <p:nvSpPr>
            <p:cNvPr id="412" name="Line 5"/>
            <p:cNvSpPr/>
            <p:nvPr/>
          </p:nvSpPr>
          <p:spPr>
            <a:xfrm flipV="1">
              <a:off x="2700360" y="2131920"/>
              <a:ext cx="0" cy="381312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 txBox="1"/>
            <p:nvPr/>
          </p:nvSpPr>
          <p:spPr>
            <a:xfrm rot="16200000">
              <a:off x="793800" y="4038120"/>
              <a:ext cx="3813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Text Box 6"/>
          <p:cNvSpPr/>
          <p:nvPr/>
        </p:nvSpPr>
        <p:spPr>
          <a:xfrm>
            <a:off x="1775520" y="2079720"/>
            <a:ext cx="192564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Times New Roman"/>
              </a:rPr>
              <a:t>列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"/>
          <p:cNvSpPr/>
          <p:nvPr/>
        </p:nvSpPr>
        <p:spPr>
          <a:xfrm>
            <a:off x="1571040" y="476280"/>
            <a:ext cx="201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宋体"/>
                <a:ea typeface="宋体"/>
              </a:rPr>
              <a:t>liè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8" descr="N_178"/>
          <p:cNvPicPr/>
          <p:nvPr/>
        </p:nvPicPr>
        <p:blipFill>
          <a:blip r:embed="rId2"/>
          <a:stretch/>
        </p:blipFill>
        <p:spPr>
          <a:xfrm>
            <a:off x="3780000" y="1125360"/>
            <a:ext cx="1323720" cy="1447920"/>
          </a:xfrm>
          <a:prstGeom prst="rect">
            <a:avLst/>
          </a:prstGeom>
          <a:ln w="0">
            <a:noFill/>
          </a:ln>
        </p:spPr>
      </p:pic>
      <p:sp>
        <p:nvSpPr>
          <p:cNvPr id="417" name="Oval 9"/>
          <p:cNvSpPr/>
          <p:nvPr/>
        </p:nvSpPr>
        <p:spPr>
          <a:xfrm>
            <a:off x="5003640" y="3286080"/>
            <a:ext cx="3240360" cy="223524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ff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宋体"/>
              </a:rPr>
              <a:t>列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23004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mòsī      fù     pài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莫斯科    附近   派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tán       yà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谈天    惊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RO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3"/>
          <p:cNvSpPr/>
          <p:nvPr/>
        </p:nvSpPr>
        <p:spPr>
          <a:xfrm>
            <a:off x="1116000" y="2278080"/>
            <a:ext cx="3095640" cy="367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900000" y="4149360"/>
            <a:ext cx="3718080" cy="17640"/>
            <a:chOff x="900000" y="4149360"/>
            <a:chExt cx="3718080" cy="17640"/>
          </a:xfrm>
        </p:grpSpPr>
        <p:sp>
          <p:nvSpPr>
            <p:cNvPr id="421" name="Line 4"/>
            <p:cNvSpPr/>
            <p:nvPr/>
          </p:nvSpPr>
          <p:spPr>
            <a:xfrm flipV="1">
              <a:off x="900000" y="4149360"/>
              <a:ext cx="3718080" cy="1764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 txBox="1"/>
            <p:nvPr/>
          </p:nvSpPr>
          <p:spPr>
            <a:xfrm rot="10800000">
              <a:off x="900000" y="4149360"/>
              <a:ext cx="3718080" cy="1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2700360" y="2131920"/>
            <a:ext cx="360" cy="3813120"/>
            <a:chOff x="2700360" y="2131920"/>
            <a:chExt cx="360" cy="3813120"/>
          </a:xfrm>
        </p:grpSpPr>
        <p:sp>
          <p:nvSpPr>
            <p:cNvPr id="424" name="Line 5"/>
            <p:cNvSpPr/>
            <p:nvPr/>
          </p:nvSpPr>
          <p:spPr>
            <a:xfrm flipV="1">
              <a:off x="2700360" y="2131920"/>
              <a:ext cx="0" cy="381312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 txBox="1"/>
            <p:nvPr/>
          </p:nvSpPr>
          <p:spPr>
            <a:xfrm rot="16200000">
              <a:off x="793800" y="4038120"/>
              <a:ext cx="3813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Text Box 6"/>
          <p:cNvSpPr/>
          <p:nvPr/>
        </p:nvSpPr>
        <p:spPr>
          <a:xfrm>
            <a:off x="1775520" y="2206800"/>
            <a:ext cx="192564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Times New Roman"/>
              </a:rPr>
              <a:t>蜂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7"/>
          <p:cNvSpPr/>
          <p:nvPr/>
        </p:nvSpPr>
        <p:spPr>
          <a:xfrm>
            <a:off x="710280" y="355680"/>
            <a:ext cx="363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宋体"/>
                <a:ea typeface="宋体"/>
              </a:rPr>
              <a:t>fēng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8" descr="N_178"/>
          <p:cNvPicPr/>
          <p:nvPr/>
        </p:nvPicPr>
        <p:blipFill>
          <a:blip r:embed="rId2"/>
          <a:stretch/>
        </p:blipFill>
        <p:spPr>
          <a:xfrm>
            <a:off x="3780000" y="1125360"/>
            <a:ext cx="1323720" cy="1447920"/>
          </a:xfrm>
          <a:prstGeom prst="rect">
            <a:avLst/>
          </a:prstGeom>
          <a:ln w="0">
            <a:noFill/>
          </a:ln>
        </p:spPr>
      </p:pic>
      <p:sp>
        <p:nvSpPr>
          <p:cNvPr id="429" name="Oval 9"/>
          <p:cNvSpPr/>
          <p:nvPr/>
        </p:nvSpPr>
        <p:spPr>
          <a:xfrm>
            <a:off x="5003640" y="3286080"/>
            <a:ext cx="3240360" cy="223524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ff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宋体"/>
              </a:rPr>
              <a:t>蜜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2A0E-00BA-4C3D-AB0E-7104BB03058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RO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3"/>
          <p:cNvSpPr/>
          <p:nvPr/>
        </p:nvSpPr>
        <p:spPr>
          <a:xfrm>
            <a:off x="1116000" y="2278080"/>
            <a:ext cx="3095640" cy="367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900000" y="4149360"/>
            <a:ext cx="3718080" cy="17640"/>
            <a:chOff x="900000" y="4149360"/>
            <a:chExt cx="3718080" cy="17640"/>
          </a:xfrm>
        </p:grpSpPr>
        <p:sp>
          <p:nvSpPr>
            <p:cNvPr id="437" name="Line 4"/>
            <p:cNvSpPr/>
            <p:nvPr/>
          </p:nvSpPr>
          <p:spPr>
            <a:xfrm flipV="1">
              <a:off x="900000" y="4149360"/>
              <a:ext cx="3718080" cy="1764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 txBox="1"/>
            <p:nvPr/>
          </p:nvSpPr>
          <p:spPr>
            <a:xfrm rot="10800000">
              <a:off x="900000" y="4149360"/>
              <a:ext cx="3718080" cy="1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2700360" y="2131920"/>
            <a:ext cx="360" cy="3813120"/>
            <a:chOff x="2700360" y="2131920"/>
            <a:chExt cx="360" cy="3813120"/>
          </a:xfrm>
        </p:grpSpPr>
        <p:sp>
          <p:nvSpPr>
            <p:cNvPr id="440" name="Line 5"/>
            <p:cNvSpPr/>
            <p:nvPr/>
          </p:nvSpPr>
          <p:spPr>
            <a:xfrm flipV="1">
              <a:off x="2700360" y="2131920"/>
              <a:ext cx="0" cy="381312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 txBox="1"/>
            <p:nvPr/>
          </p:nvSpPr>
          <p:spPr>
            <a:xfrm rot="16200000">
              <a:off x="793800" y="4038120"/>
              <a:ext cx="3813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Text Box 6"/>
          <p:cNvSpPr/>
          <p:nvPr/>
        </p:nvSpPr>
        <p:spPr>
          <a:xfrm>
            <a:off x="1702440" y="2224080"/>
            <a:ext cx="192564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Times New Roman"/>
              </a:rPr>
              <a:t>敲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846000" y="355680"/>
            <a:ext cx="347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宋体"/>
                <a:ea typeface="宋体"/>
              </a:rPr>
              <a:t>qiāo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8" descr="N_178"/>
          <p:cNvPicPr/>
          <p:nvPr/>
        </p:nvPicPr>
        <p:blipFill>
          <a:blip r:embed="rId2"/>
          <a:stretch/>
        </p:blipFill>
        <p:spPr>
          <a:xfrm>
            <a:off x="3780000" y="1125360"/>
            <a:ext cx="1323720" cy="1447920"/>
          </a:xfrm>
          <a:prstGeom prst="rect">
            <a:avLst/>
          </a:prstGeom>
          <a:ln w="0">
            <a:noFill/>
          </a:ln>
        </p:spPr>
      </p:pic>
      <p:sp>
        <p:nvSpPr>
          <p:cNvPr id="445" name="Oval 9"/>
          <p:cNvSpPr/>
          <p:nvPr/>
        </p:nvSpPr>
        <p:spPr>
          <a:xfrm>
            <a:off x="5003640" y="3286080"/>
            <a:ext cx="3240360" cy="223524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ff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宋体"/>
              </a:rPr>
              <a:t>敲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莫斯科    附近   派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谈天    惊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1401120" y="981000"/>
            <a:ext cx="2314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读课文，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755640" y="2349360"/>
            <a:ext cx="6840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  <a:ea typeface="宋体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自读课文，边读边标出自然段序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思考：课文写了一件什么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0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2"/>
          <p:cNvSpPr/>
          <p:nvPr/>
        </p:nvSpPr>
        <p:spPr>
          <a:xfrm>
            <a:off x="-396720" y="234936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通过       找到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55640" y="2924280"/>
            <a:ext cx="1297080" cy="360"/>
            <a:chOff x="755640" y="2924280"/>
            <a:chExt cx="1297080" cy="360"/>
          </a:xfrm>
        </p:grpSpPr>
        <p:sp>
          <p:nvSpPr>
            <p:cNvPr id="107" name="Line 3"/>
            <p:cNvSpPr/>
            <p:nvPr/>
          </p:nvSpPr>
          <p:spPr>
            <a:xfrm>
              <a:off x="755640" y="2924280"/>
              <a:ext cx="1297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755640" y="2924280"/>
              <a:ext cx="1297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492360" y="2923920"/>
            <a:ext cx="1224000" cy="360"/>
            <a:chOff x="3492360" y="2923920"/>
            <a:chExt cx="1224000" cy="360"/>
          </a:xfrm>
        </p:grpSpPr>
        <p:sp>
          <p:nvSpPr>
            <p:cNvPr id="110" name="Line 4"/>
            <p:cNvSpPr/>
            <p:nvPr/>
          </p:nvSpPr>
          <p:spPr>
            <a:xfrm>
              <a:off x="3492360" y="292428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 rot="10800000">
              <a:off x="3492360" y="2923920"/>
              <a:ext cx="122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227640" y="2924280"/>
            <a:ext cx="1944720" cy="360"/>
            <a:chOff x="6227640" y="2924280"/>
            <a:chExt cx="1944720" cy="360"/>
          </a:xfrm>
        </p:grpSpPr>
        <p:sp>
          <p:nvSpPr>
            <p:cNvPr id="113" name="Line 5"/>
            <p:cNvSpPr/>
            <p:nvPr/>
          </p:nvSpPr>
          <p:spPr>
            <a:xfrm>
              <a:off x="6227640" y="2924280"/>
              <a:ext cx="1944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6227640" y="2924280"/>
              <a:ext cx="1944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 Box 6"/>
          <p:cNvSpPr/>
          <p:nvPr/>
        </p:nvSpPr>
        <p:spPr>
          <a:xfrm>
            <a:off x="900000" y="234936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列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3564000" y="2349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蜜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154560" y="2282760"/>
            <a:ext cx="20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养蜂的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396720" y="909720"/>
            <a:ext cx="749016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件事发生在时间？什么地点呢？课文的哪个自然段告诉了我们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592360" y="4221000"/>
            <a:ext cx="587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读课文第一自然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200"/>
                            </p:stCondLst>
                            <p:childTnLst>
                              <p:par>
                                <p:cTn id="83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32400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922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年，列宁住在莫斯科附近的一座小山上。当地有个养蜂的人，列宁常常派人去请他来谈天。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3505320" y="6172200"/>
            <a:ext cx="152388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4T09:23:3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2:25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