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227-AA0A-4CF4-8F88-5FDCF7F3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434-D678-4FA7-AAFC-18707F48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4FC-3A93-48C1-BB06-11FC814B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D2C-390B-4526-8DFF-16272C07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78CB-11AF-4E65-935D-ED178763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FD59-A635-4874-99D1-2349C33A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2053-D3C7-4DEE-88EE-044710A0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8280-2367-440C-BE72-4941A44F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6068-CDAF-4704-95F6-4A1ACFB6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788D-2FBD-4F5D-8720-D80E8C11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DC73-0CF5-4B94-9013-95EAAA6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696-697E-41D4-B2AD-CCF41EFD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BDEF-653E-48CB-AFD4-1E96EDCC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6ECD-8906-45E2-8138-9596A40F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3C3F-4282-4623-B5DD-40657E5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30E-2487-494D-9986-102BBA70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434C-DA0A-4BC2-8AA8-609A522B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910-4BDF-453C-9742-F3122461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C2B-3204-4FB1-A108-7975531C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37C-757E-42E3-A6A1-5081002A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859-0F4B-46E0-9EA2-C0B4BF00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CF2-9F8E-4740-A063-22B91396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7EB-48B7-4266-858A-8CE8D80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759-6533-46CB-9BE7-9F580B1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7E63-89AE-43FF-9A58-AAA74D06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A5B5-4580-4078-9D6B-940B1DFF1F9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50A5-43E0-4420-B26B-2347A9F445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900000" y="693720"/>
            <a:ext cx="764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ff3399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梅花魂人教版课件</a:t>
            </a:r>
            <a:r>
              <a:rPr b="1" lang="en-US" sz="44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ff3399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PPT</a:t>
            </a:r>
            <a:r>
              <a:rPr b="1" lang="zh-CN" sz="44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ff3399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隶书"/>
              </a:rPr>
              <a:t>模板下载</a:t>
            </a:r>
            <a:endParaRPr b="1" lang="en-US" sz="4400" spc="1" strike="noStrike">
              <a:ln w="17640">
                <a:solidFill>
                  <a:srgbClr val="ffffff"/>
                </a:solidFill>
                <a:miter/>
              </a:ln>
              <a:solidFill>
                <a:srgbClr val="ff3399"/>
              </a:solidFill>
              <a:effectLst>
                <a:outerShdw dist="0" dir="0" blurRad="0" rotWithShape="0">
                  <a:srgbClr val="00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4" name="图片 5" descr=""/>
          <p:cNvPicPr/>
          <p:nvPr/>
        </p:nvPicPr>
        <p:blipFill>
          <a:blip r:embed="rId1"/>
          <a:srcRect l="0" t="5778" r="0" b="0"/>
          <a:stretch/>
        </p:blipFill>
        <p:spPr>
          <a:xfrm>
            <a:off x="1403280" y="2421000"/>
            <a:ext cx="6365880" cy="3976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900000" y="98100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8360" y="485640"/>
            <a:ext cx="7991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文化</a:t>
            </a:r>
            <a:br>
              <a:rPr sz="2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梅花原产我国，在我国栽培已有三仟多年的历史了，与人民在生活、文学、艺术、风俗习惯等有传统的多方关联，人们对梅花已有深厚的民族感情。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书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说命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中记述：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若作和羮，尔惟盐梅。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说明早在公元前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10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世纪的商代，已将梅子作为调味品使用了。在公元前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6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世纪左右的古民歌集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诗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召南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中有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摽有梅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，记述当时青年男女抛梅定情的风俗，从情歌中反映出当时，梅树与梅子的存在都相当普遍。梅花的栽培欣赏，最早的记载在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西京杂记</a:t>
            </a:r>
            <a:r>
              <a:rPr b="0" lang="en-US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中：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汉上林苑与侯梅、同心梅、紫蒂梅、丽友梅</a:t>
            </a:r>
            <a:r>
              <a:rPr b="0" lang="zh-CN" sz="1800" spc="-1" strike="noStrike">
                <a:solidFill>
                  <a:srgbClr val="d60093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魏晋南北朝时，还流传着一些关于梅的典故。</a:t>
            </a:r>
            <a:r>
              <a:rPr b="0" lang="en-US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世说新语</a:t>
            </a:r>
            <a:r>
              <a:rPr b="0" lang="en-US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写道：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魏武帝行失道，三军皆渴帝令曰前有梅林，饶子甘酸，可以解渴，士卒闻之，口皆水出。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望梅止渴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的成语便由此而来。唐代诗人李白写有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郎骑竹马来，绕床弄青梅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，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青梅竹马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便由此而得名。北宋诗人林瀑隐居杭州西湖，放鹤艺梅，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妻梅鹤子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的典故，至今仍传为佳话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古人赏花的文化习俗，当让宋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林逋的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疏影横斜水清浅，暗香浮动月黄昏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明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王圻</a:t>
            </a:r>
            <a:r>
              <a:rPr b="0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三才图会</a:t>
            </a:r>
            <a:r>
              <a:rPr b="0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也认为：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梅有四贵，贵稀不贵繁，贵老不贵嫩，贵瘦不贵肥，贵含不贵开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宋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·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张功甫</a:t>
            </a:r>
            <a:r>
              <a:rPr b="0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梅品</a:t>
            </a:r>
            <a:r>
              <a:rPr b="0" lang="en-US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》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系统阐述了赏梅的美 学观点和文化内涵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花宜称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凡二十六条：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淡阴、晓日、薄寒、细雨、轻烟、佳月、夕阳、微雪、晚霞、珍禽、孤鹤、清溪、小桥、竹边、松下、明窗、疏篱、苍崖、绿台、铜瓶、纸帐、林间吹笛、膝上横琴、石枰下棋、扫雪煎茶、美人淡妆簪戴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” </a:t>
            </a:r>
            <a:r>
              <a:rPr b="0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24000" y="141300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卜算子 咏梅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 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毛泽东　　　　　　　　　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风雨送春归，飞雪迎春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已是悬崖百丈冰，犹有花枝俏。</a:t>
            </a: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　　 俏也不争春，只把春来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待到山花烂漫时，她在丛中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788000" y="1413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白梅</a:t>
            </a:r>
            <a:r>
              <a:rPr b="1" lang="zh-CN" sz="1800" spc="-1" strike="noStrike">
                <a:solidFill>
                  <a:srgbClr val="cc3399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　</a:t>
            </a:r>
            <a:r>
              <a:rPr b="1" lang="zh-CN" sz="1800" spc="-1" strike="noStrike">
                <a:solidFill>
                  <a:srgbClr val="cc3399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 王冕</a:t>
            </a:r>
            <a:r>
              <a:rPr b="1" lang="zh-CN" sz="1800" spc="-1" strike="noStrike">
                <a:solidFill>
                  <a:srgbClr val="cc3399"/>
                </a:solidFill>
                <a:latin typeface="Arial"/>
                <a:ea typeface="楷体_GB2312"/>
              </a:rPr>
              <a:t> </a:t>
            </a:r>
            <a:r>
              <a:rPr b="0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　　冰雪林中著此身，不同桃李混芳尘。</a:t>
            </a:r>
            <a:r>
              <a:rPr b="1" lang="zh-CN" sz="1800" spc="-1" strike="noStrike">
                <a:solidFill>
                  <a:srgbClr val="cc3399"/>
                </a:solidFill>
                <a:latin typeface="Arial"/>
                <a:ea typeface="楷体_GB2312"/>
              </a:rPr>
              <a:t> </a:t>
            </a:r>
            <a:r>
              <a:rPr b="0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楷体_GB2312"/>
                <a:ea typeface="楷体_GB2312"/>
              </a:rPr>
              <a:t>　　忽然一夜清香发，散作乾坤万里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26920" y="3213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忆梅 李商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定定住天涯， 依依向物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寒梅最堪恨， 常作去年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284720" y="32130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早 梅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 </a:t>
            </a: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张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树寒梅白玉条，回临村路傍溪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    </a:t>
            </a:r>
            <a:r>
              <a:rPr b="1" lang="zh-CN" sz="1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知近水花先发，疑是经冬雪未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2268360" y="404640"/>
            <a:ext cx="381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☆☆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词句欣赏☆☆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9" name="Picture 10" descr="fd3bc454e5eadee770b2e23b1d1d2404"/>
          <p:cNvPicPr/>
          <p:nvPr/>
        </p:nvPicPr>
        <p:blipFill>
          <a:blip r:embed="rId1"/>
          <a:stretch/>
        </p:blipFill>
        <p:spPr>
          <a:xfrm>
            <a:off x="4932360" y="4437000"/>
            <a:ext cx="3595680" cy="2157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3"/>
          <p:cNvSpPr/>
          <p:nvPr/>
        </p:nvSpPr>
        <p:spPr>
          <a:xfrm>
            <a:off x="755640" y="436572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古往今来咏花的诗词歌赋，以梅为题者最多，或咏其风韵独胜，或吟其神形俱清，或赞其标格秀雅，或颂其节操凝重。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65DB-06A9-4987-8C99-918C895106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619280" y="62064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990033"/>
                </a:solidFill>
                <a:latin typeface="隶书"/>
                <a:ea typeface="隶书"/>
              </a:rPr>
              <a:t>梅花是原产我国的传统名花 ，是我国的国花，他有着坚韧不拔，不怕严寒酷暑的精神，我们今后也要向梅花学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763640" y="2133720"/>
            <a:ext cx="50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同学们，我们今天就游览到这，你们对梅花已经有所了解，希望你们以后要留心观察周围的事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x3"/>
          <p:cNvPicPr/>
          <p:nvPr/>
        </p:nvPicPr>
        <p:blipFill>
          <a:blip r:embed="rId1"/>
          <a:stretch/>
        </p:blipFill>
        <p:spPr>
          <a:xfrm>
            <a:off x="6156360" y="3429000"/>
            <a:ext cx="2239920" cy="150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5"/>
          <p:cNvPicPr/>
          <p:nvPr/>
        </p:nvPicPr>
        <p:blipFill>
          <a:blip r:embed="rId2"/>
          <a:stretch/>
        </p:blipFill>
        <p:spPr>
          <a:xfrm>
            <a:off x="468360" y="3429000"/>
            <a:ext cx="23749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72960" y="595440"/>
            <a:ext cx="85201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梅花是原产我国的传统名花，她以韵胜，以格高，色、香、韵、态俱佳，且凌寒先与百花之前独放而倍受人们的喜爱。她开花特早，且花期较长，树姿苍劲，花香沁人，品种繁多，且类型丰富，神、态、色、香俱居上乘，在枝姿、花色、花型、萼色等方面均富于变化，易于栽培管理，又易形成花芽。除配植于园林或大片栽植为梅园 、梅岭、梅溪外，又适盆栽、切花、盆景及桩景等用，此外，果梅还有药用，加工食用以及烹调等其它用途。</a:t>
            </a:r>
            <a:br>
              <a:rPr sz="2000"/>
            </a:br>
            <a:r>
              <a:rPr b="0" lang="zh-CN" sz="2000" spc="-1" strike="noStrike">
                <a:solidFill>
                  <a:srgbClr val="3399ff"/>
                </a:solidFill>
                <a:latin typeface="Arial"/>
                <a:ea typeface="隶书"/>
              </a:rPr>
              <a:t>      </a:t>
            </a:r>
            <a:r>
              <a:rPr b="0" lang="zh-CN" sz="2000" spc="-1" strike="noStrike">
                <a:solidFill>
                  <a:srgbClr val="3399ff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梅花属蔷薇科，李属多年生乔木，可高达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0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米，树干褐色，多纵驳纹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小枝青绿，多刺枝，叶广卵型至阔卵圆形，长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4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0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宽⒉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5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先端渐尖，边缘具细锯齿，基部阔楔型或近圆型，幼时两面具短绒毛，后渐脱落，长成之叶仅在反面叶脉处有少量绒毛，柄长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⒈5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花多一芽处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朵，多着生在当年新枝上，具短梗，多呈淡粉红至白色，直径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1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一⒊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5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清香或芳香，于冬末春初先叶而发，核果近球型，侧面扁圆，直径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2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3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厘米，黄色或绿色，密被短绒毛、味酸、粘核、核近卵圆形，表面见蜂窝状圆点，花期从广州的元月至北京的四月，都可欣赏到她的丰姿，果热期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5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隶书"/>
              </a:rPr>
              <a:t>—</a:t>
            </a:r>
            <a:r>
              <a:rPr b="0" lang="en-US" sz="2000" spc="-1" strike="noStrike">
                <a:solidFill>
                  <a:srgbClr val="ff0066"/>
                </a:solidFill>
                <a:latin typeface="隶书"/>
                <a:ea typeface="隶书"/>
              </a:rPr>
              <a:t>7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月。</a:t>
            </a:r>
            <a:br>
              <a:rPr sz="2000"/>
            </a:b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隶书"/>
              </a:rPr>
              <a:t>      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 蜡梅和梅同属蔷薇目，但梅花属蔷薇科，蜡梅属蜡梅科。李时珍在本草纲目中记载：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隶书"/>
              </a:rPr>
              <a:t>“</a:t>
            </a:r>
            <a:r>
              <a:rPr b="0" lang="zh-CN" sz="2000" spc="-1" strike="noStrike">
                <a:solidFill>
                  <a:srgbClr val="ff0066"/>
                </a:solidFill>
                <a:latin typeface="隶书"/>
                <a:ea typeface="隶书"/>
              </a:rPr>
              <a:t>腊梅释名黄梅花，此物非梅也，因其与梅同时，香又相近，色似蜂蜡，故得此名。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  <a:ea typeface="隶书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WordArt 5" descr=""/>
          <p:cNvPicPr/>
          <p:nvPr/>
        </p:nvPicPr>
        <p:blipFill>
          <a:blip r:embed="rId1"/>
          <a:stretch/>
        </p:blipFill>
        <p:spPr>
          <a:xfrm>
            <a:off x="3332160" y="361800"/>
            <a:ext cx="18590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150920" y="790560"/>
            <a:ext cx="68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梅具有的铮铮铁骨、浩然正气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傲雪凌霜、独步早春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下面，我们就一起去欣赏她的雄姿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 rot="5400000">
            <a:off x="-1284120" y="2877840"/>
            <a:ext cx="3676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☆☆☆☆☆☆☆☆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WordArt 8"/>
          <p:cNvSpPr txBox="1"/>
          <p:nvPr/>
        </p:nvSpPr>
        <p:spPr>
          <a:xfrm rot="5400000">
            <a:off x="6298920" y="2854080"/>
            <a:ext cx="42037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☆☆☆☆☆☆☆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Picture 9" descr="fd3bc454e5eadee770b2e23b1d1d2404"/>
          <p:cNvPicPr/>
          <p:nvPr/>
        </p:nvPicPr>
        <p:blipFill>
          <a:blip r:embed="rId1"/>
          <a:stretch/>
        </p:blipFill>
        <p:spPr>
          <a:xfrm>
            <a:off x="1909800" y="3235320"/>
            <a:ext cx="53244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8"/>
          <p:cNvSpPr txBox="1"/>
          <p:nvPr/>
        </p:nvSpPr>
        <p:spPr>
          <a:xfrm>
            <a:off x="6156360" y="1341360"/>
            <a:ext cx="1419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梅花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5940360" y="3284640"/>
            <a:ext cx="18288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单粉垂枝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rcRect l="0" t="0" r="0" b="3992"/>
          <a:stretch/>
        </p:blipFill>
        <p:spPr>
          <a:xfrm>
            <a:off x="179280" y="260280"/>
            <a:ext cx="48974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6588000" y="836640"/>
            <a:ext cx="141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梅花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340000" y="4797360"/>
            <a:ext cx="17780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丰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3"/>
          <a:stretch/>
        </p:blipFill>
        <p:spPr>
          <a:xfrm>
            <a:off x="0" y="549360"/>
            <a:ext cx="5187960" cy="3456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"/>
          <p:cNvPicPr/>
          <p:nvPr/>
        </p:nvPicPr>
        <p:blipFill>
          <a:blip r:embed="rId4"/>
          <a:srcRect l="8775" t="0" r="6428" b="3540"/>
          <a:stretch/>
        </p:blipFill>
        <p:spPr>
          <a:xfrm>
            <a:off x="4708440" y="2565360"/>
            <a:ext cx="4410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4"/>
          <p:cNvPicPr/>
          <p:nvPr/>
        </p:nvPicPr>
        <p:blipFill>
          <a:blip r:embed="rId1"/>
          <a:stretch/>
        </p:blipFill>
        <p:spPr>
          <a:xfrm>
            <a:off x="3276720" y="1052640"/>
            <a:ext cx="4371840" cy="30049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 rot="5400000">
            <a:off x="403560" y="2045520"/>
            <a:ext cx="18496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梅花</a:t>
            </a:r>
            <a:endParaRPr b="0" lang="en-US" sz="1800" spc="1" strike="noStrike">
              <a:ln w="12600">
                <a:solidFill>
                  <a:srgbClr val="c4b596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2916360" y="5300640"/>
            <a:ext cx="41767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复瓣条枝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文本框 8194"/>
          <p:cNvSpPr/>
          <p:nvPr/>
        </p:nvSpPr>
        <p:spPr>
          <a:xfrm>
            <a:off x="1332000" y="465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5"/>
          <p:cNvPicPr/>
          <p:nvPr/>
        </p:nvPicPr>
        <p:blipFill>
          <a:blip r:embed="rId1"/>
          <a:stretch/>
        </p:blipFill>
        <p:spPr>
          <a:xfrm>
            <a:off x="1258920" y="2708280"/>
            <a:ext cx="4537080" cy="290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692360" y="105264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  <a:ea typeface="隶书"/>
              </a:rPr>
              <a:t>梅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23240" y="2349360"/>
            <a:ext cx="85068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  <a:ea typeface="华文彩云"/>
              </a:rPr>
              <a:t>江南朱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x"/>
          <p:cNvPicPr/>
          <p:nvPr/>
        </p:nvPicPr>
        <p:blipFill>
          <a:blip r:embed="rId1"/>
          <a:stretch/>
        </p:blipFill>
        <p:spPr>
          <a:xfrm>
            <a:off x="468360" y="2421000"/>
            <a:ext cx="2716200" cy="410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x1"/>
          <p:cNvPicPr/>
          <p:nvPr/>
        </p:nvPicPr>
        <p:blipFill>
          <a:blip r:embed="rId2"/>
          <a:stretch/>
        </p:blipFill>
        <p:spPr>
          <a:xfrm>
            <a:off x="6300720" y="4797360"/>
            <a:ext cx="2519280" cy="17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x2"/>
          <p:cNvPicPr/>
          <p:nvPr/>
        </p:nvPicPr>
        <p:blipFill>
          <a:blip r:embed="rId3"/>
          <a:stretch/>
        </p:blipFill>
        <p:spPr>
          <a:xfrm>
            <a:off x="3492360" y="4797360"/>
            <a:ext cx="2519640" cy="171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x3"/>
          <p:cNvPicPr/>
          <p:nvPr/>
        </p:nvPicPr>
        <p:blipFill>
          <a:blip r:embed="rId4"/>
          <a:stretch/>
        </p:blipFill>
        <p:spPr>
          <a:xfrm>
            <a:off x="539640" y="404640"/>
            <a:ext cx="2600280" cy="174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0"/>
          <p:cNvPicPr/>
          <p:nvPr/>
        </p:nvPicPr>
        <p:blipFill>
          <a:blip r:embed="rId5"/>
          <a:stretch/>
        </p:blipFill>
        <p:spPr>
          <a:xfrm>
            <a:off x="3851280" y="1700280"/>
            <a:ext cx="4697280" cy="281304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0"/>
          <p:cNvSpPr txBox="1"/>
          <p:nvPr/>
        </p:nvSpPr>
        <p:spPr>
          <a:xfrm>
            <a:off x="4356000" y="620640"/>
            <a:ext cx="324036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梅园雪景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547640" y="4762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华文新魏"/>
              </a:rPr>
              <a:t>大家能猜出这几珠梅花的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1"/>
          <p:cNvPicPr/>
          <p:nvPr/>
        </p:nvPicPr>
        <p:blipFill>
          <a:blip r:embed="rId1"/>
          <a:stretch/>
        </p:blipFill>
        <p:spPr>
          <a:xfrm>
            <a:off x="1403280" y="1197000"/>
            <a:ext cx="1973160" cy="2495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2"/>
          <a:stretch/>
        </p:blipFill>
        <p:spPr>
          <a:xfrm>
            <a:off x="5219640" y="1916280"/>
            <a:ext cx="2578320" cy="177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15"/>
          <p:cNvPicPr/>
          <p:nvPr/>
        </p:nvPicPr>
        <p:blipFill>
          <a:blip r:embed="rId3"/>
          <a:stretch/>
        </p:blipFill>
        <p:spPr>
          <a:xfrm>
            <a:off x="1116000" y="4456080"/>
            <a:ext cx="2735280" cy="178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16"/>
          <p:cNvPicPr/>
          <p:nvPr/>
        </p:nvPicPr>
        <p:blipFill>
          <a:blip r:embed="rId4"/>
          <a:stretch/>
        </p:blipFill>
        <p:spPr>
          <a:xfrm>
            <a:off x="5292720" y="4489560"/>
            <a:ext cx="2519280" cy="171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1547640" y="386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送春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796000" y="38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南宁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1692360" y="623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皱瓣朱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6012000" y="6165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雪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194"/>
          <p:cNvSpPr/>
          <p:nvPr/>
        </p:nvSpPr>
        <p:spPr>
          <a:xfrm>
            <a:off x="1835280" y="83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5:5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2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