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6175-5529-407B-92FC-B658EB80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596-84C9-4990-88B4-0931181D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5774-1B4F-4B16-B661-6CCDAA09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46D-228E-421D-961E-D9C0454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617E-256E-4399-8836-34B1B6AF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25340-3A22-42A5-BDB9-777FD070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1711-1491-485B-A06C-711EF74B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8038-9636-4095-AE0E-49CD1719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CEFA-C527-4791-B192-9C719821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4FA4-8F96-44DE-A80B-F398EF34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BD5F-D570-4568-A26D-4D2BF7F5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616-7010-4116-83FC-EA14B86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EE68-C141-4017-A024-1E64663B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13D8-6767-4BDB-B5E9-3744B6EA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FAB5-7A23-40F1-A93E-B6BB700A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5C62-3D79-4B31-9345-E0CF735B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2EF-157D-4817-9A3E-6E060E5C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C859-E6E9-4A45-BF78-02EEF81A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BFA1-684E-4F00-89E8-D0838872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023F5-FE04-45F8-8D01-4959F92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722E-686B-4F58-BA70-B75A2FCC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A8AEF-A588-4496-9A8F-CA09864A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B86-A679-44E2-8B2B-B85C677B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657C-66F9-4562-BDD9-831CE46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301D9-F041-4BF4-B4EA-B611B274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FE8AA-604C-4AF1-8C35-CBE4E10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6FF8-8DC5-4A83-A8E2-B0BDBAE8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400D-6F23-488C-B6AC-03DE3745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BDB92-6131-415F-B64A-5D17BD92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FD49E-3A33-4590-81F5-01B49BBB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2CB8-3EAE-4F43-A52B-BF6E6F3D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B9A-C95D-4D66-8A59-75F18568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6CE-9387-4CFA-81CC-DF259623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583-A045-4A1D-AAE6-B62DD93A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24D-676C-4F8C-99AA-72038B4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09F-F2CB-4B1C-8683-FF69D32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2639-9C96-4521-BB58-0BACA62F7F0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FB5D-3FD9-4539-9913-5E41051429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9DDC-4031-4B85-8E44-BDA64B819D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C451-EF28-4659-A688-025884982D58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A%DA%C8%CB+%D1%C0%B3%DD+%BB%AD%CF%F1&amp;in=22933&amp;cl=2&amp;cm=1&amp;sc=0&amp;lm=-1&amp;pn=79&amp;rn=1&amp;di=30679010550&amp;ln=2000&amp;fr=&amp;ic=0&amp;s=0&amp;se=1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_1-1-21-312_20030828173758"/>
          <p:cNvPicPr/>
          <p:nvPr/>
        </p:nvPicPr>
        <p:blipFill>
          <a:blip r:embed="rId1"/>
          <a:stretch/>
        </p:blipFill>
        <p:spPr>
          <a:xfrm>
            <a:off x="2209680" y="210960"/>
            <a:ext cx="6629400" cy="5973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609480" y="990720"/>
            <a:ext cx="143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卖木雕的少年语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4" descr="教师援助"/>
          <p:cNvPicPr/>
          <p:nvPr/>
        </p:nvPicPr>
        <p:blipFill>
          <a:blip r:embed="rId1"/>
          <a:stretch/>
        </p:blipFill>
        <p:spPr>
          <a:xfrm>
            <a:off x="0" y="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0" y="6095880"/>
            <a:ext cx="1021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教师正在耐心地为非洲学生讲解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6" descr="教师"/>
          <p:cNvPicPr/>
          <p:nvPr/>
        </p:nvPicPr>
        <p:blipFill>
          <a:blip r:embed="rId2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ransition advTm="5000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6" descr="发放物资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457200" y="6095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人给非洲人民发放物资。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文本框 8200"/>
          <p:cNvSpPr/>
          <p:nvPr/>
        </p:nvSpPr>
        <p:spPr>
          <a:xfrm>
            <a:off x="304920" y="5943600"/>
            <a:ext cx="4419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5000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33520" y="403848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了帮助非洲修筑坦赞铁路，中国派出了大批工程技术人员，其中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为之献出了宝贵的生命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8" descr="援建铁路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356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坦赞铁路"/>
          <p:cNvPicPr/>
          <p:nvPr/>
        </p:nvPicPr>
        <p:blipFill>
          <a:blip r:embed="rId2"/>
          <a:stretch/>
        </p:blipFill>
        <p:spPr>
          <a:xfrm>
            <a:off x="4648320" y="3049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你从文中哪些句子体会到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</a:t>
            </a: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的遗憾？边读边作个记号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odcar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35268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624852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83059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说是坐凳，其实是一个卷鼻大耳象，象背上驮着一块寸把厚的树桩。这些坐凳构思新奇，大象雕得栩栩如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说是坐凳，其实是一个卷鼻大耳象，象背上驮着一块寸把厚的树桩。这些坐凳构思新奇，大象雕得栩栩如生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象墩"/>
          <p:cNvPicPr/>
          <p:nvPr/>
        </p:nvPicPr>
        <p:blipFill>
          <a:blip r:embed="rId1"/>
          <a:stretch/>
        </p:blipFill>
        <p:spPr>
          <a:xfrm>
            <a:off x="2666880" y="2743200"/>
            <a:ext cx="3353040" cy="25779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04920" y="68580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是坐凳，其实是一个卷鼻大耳象，象背上驮着一块寸把厚的树桩。这些坐凳构思新奇，大象雕得栩栩如生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啊，不，路太远，这个太重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有些语无伦次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382240" cy="33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啊，不，路太远，这个太重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我有些语无伦次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7543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捧着象墩，仔细观赏，爱不释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218960" y="5335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不虚传      游人如织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分壮观      清晰可辨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琳琅满目      各式各样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思新奇      栩栩如生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仔细观赏      爱不释手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官端正      语无伦次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10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捧着象墩，仔细观赏，爱不释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7543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您是中国人吧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那少年望着我，猜测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我点了点头。少年的眼睛里流露出一丝遗憾的神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少年的眼睛里流露出一丝遗憾的神情。我也为不能把这件精美的工艺品带回国而感到遗憾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您是中国人吧？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那少年望着我，猜测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我点了点头。少年的眼睛里流露出一丝遗憾的神情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文本框 8200"/>
          <p:cNvSpPr/>
          <p:nvPr/>
        </p:nvSpPr>
        <p:spPr>
          <a:xfrm>
            <a:off x="228600" y="548640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默读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自然段，画出描写少年言行的句子，并想象他当时是怎样想的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他听到谈话声，来到我们面前，原来是白天卖木雕的那个少年。看样子，他是专门在这里等候我的。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他听到谈话声，来到我们面前，原来是白天卖木雕的那个少年。看样子，他是专门在这里等候我的。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4008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5257800" y="2362320"/>
            <a:ext cx="3886200" cy="2209680"/>
          </a:xfrm>
          <a:prstGeom prst="cloudCallout">
            <a:avLst>
              <a:gd name="adj1" fmla="val -99263"/>
              <a:gd name="adj2" fmla="val 56754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5105520" y="304920"/>
            <a:ext cx="2590560" cy="1828800"/>
          </a:xfrm>
          <a:prstGeom prst="cloudCallout">
            <a:avLst>
              <a:gd name="adj1" fmla="val -134129"/>
              <a:gd name="adj2" fmla="val 165972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990720" y="380880"/>
            <a:ext cx="2286000" cy="1905120"/>
          </a:xfrm>
          <a:prstGeom prst="cloudCallout">
            <a:avLst>
              <a:gd name="adj1" fmla="val -9999"/>
              <a:gd name="adj2" fmla="val 153750"/>
            </a:avLst>
          </a:pr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2952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，中国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5410080" y="8380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天，那位中国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638680" y="2971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会儿我把木雕送给她，她可能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Picture 10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421160"/>
            <a:ext cx="312408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自读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自然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3320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提示语：标点藏感情，表情会说话，用心去感受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啊！原来是一个木雕小象墩，和白天见到的一模一样，却只有拳头大小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33520" y="13716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我们是朋友！”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初雪钢琴曲.mp3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5.0)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这个小，可以带上飞机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太好了！（给你钱）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不，不要钱。中国人是我们的朋友。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我们是朋友！我们是朋友！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0" spc="-1" strike="noStrike">
                <a:solidFill>
                  <a:srgbClr val="ff0000"/>
                </a:solidFill>
                <a:latin typeface="Verdana"/>
              </a:rPr>
              <a:t>我们是朋友！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要写几句话夸夸那个黑人少年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可爱的黑人少年，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7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628640"/>
            <a:ext cx="4105440" cy="32004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8200"/>
          <p:cNvSpPr/>
          <p:nvPr/>
        </p:nvSpPr>
        <p:spPr>
          <a:xfrm>
            <a:off x="380880" y="5791320"/>
            <a:ext cx="441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5" descr="瀑布2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4" descr="非洲木雕"/>
          <p:cNvPicPr/>
          <p:nvPr/>
        </p:nvPicPr>
        <p:blipFill>
          <a:blip r:embed="rId1"/>
          <a:stretch/>
        </p:blipFill>
        <p:spPr>
          <a:xfrm>
            <a:off x="-228600" y="-65160"/>
            <a:ext cx="96012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E98D-1801-4D7F-B35A-07B004EA0F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5" descr="u=2017381569,3983531226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609480"/>
            <a:ext cx="410544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1219320" y="40384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国人是我们的朋友！”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1676520" y="914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17404631153073677603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447920" y="60958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穷困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iáo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倒   无家可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5" descr="1"/>
          <p:cNvPicPr/>
          <p:nvPr/>
        </p:nvPicPr>
        <p:blipFill>
          <a:blip r:embed="rId1"/>
          <a:stretch/>
        </p:blipFill>
        <p:spPr>
          <a:xfrm>
            <a:off x="2666880" y="0"/>
            <a:ext cx="6429600" cy="6095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20071123_44bd9cb3b81c23d21452fQL29XTQ4bvB"/>
          <p:cNvPicPr/>
          <p:nvPr/>
        </p:nvPicPr>
        <p:blipFill>
          <a:blip r:embed="rId2"/>
          <a:stretch/>
        </p:blipFill>
        <p:spPr>
          <a:xfrm>
            <a:off x="0" y="0"/>
            <a:ext cx="4267080" cy="6095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2819520" y="6278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不蔽体   食不果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4" descr="衣不蔽体食不果腹"/>
          <p:cNvPicPr/>
          <p:nvPr/>
        </p:nvPicPr>
        <p:blipFill>
          <a:blip r:embed="rId1"/>
          <a:stretch/>
        </p:blipFill>
        <p:spPr>
          <a:xfrm>
            <a:off x="0" y="0"/>
            <a:ext cx="9144000" cy="615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2362320" y="62784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缺衣少食   四肢乏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4" descr="骨瘦如柴瘦骨嶙峋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2209680" y="6095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骨瘦如柴   瘦骨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lín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xú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4" descr="疾病肆虐病魔缠身"/>
          <p:cNvPicPr/>
          <p:nvPr/>
        </p:nvPicPr>
        <p:blipFill>
          <a:blip r:embed="rId1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2438280" y="609588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疾病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ì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ǜe)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病魔缠身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医生援助"/>
          <p:cNvPicPr/>
          <p:nvPr/>
        </p:nvPicPr>
        <p:blipFill>
          <a:blip r:embed="rId1"/>
          <a:stretch/>
        </p:blipFill>
        <p:spPr>
          <a:xfrm>
            <a:off x="0" y="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533520" y="60958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国医生在细心地为非洲病人治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5000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08:05:2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3Z</dcterms:modified>
  <cp:revision>5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NXTAG2">
    <vt:lpwstr>0008006a0f000000000001024120</vt:lpwstr>
  </property>
  <property fmtid="{D5CDD505-2E9C-101B-9397-08002B2CF9AE}" pid="4" name="Version">
    <vt:r8>1</vt:r8>
  </property>
</Properties>
</file>