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105-7703-4E20-A225-97A72F2C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987-0AAB-47C6-B8B9-CFA4DB0F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025-ACD0-4C66-BA21-2A8E136E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B48-0CA8-4DAC-B133-1C6C48E8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06BB-0E1D-450A-A660-5756E207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5BC4-430E-419F-90C9-39F49B32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0438-B62C-4AFD-9C16-97EC7692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31B-1718-449C-AF7D-E639121E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F071-684C-4385-A4DA-83471F5D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A85D-C980-4D2B-8697-826C41AC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9C49-7D0E-4961-AAC4-9CD44976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185-404E-4260-9A9E-DB0EFEB4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EA1A-BF89-4A86-AC1B-7C151A48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A6DF-A80F-4481-949E-C6AE00FB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682F-B656-44E7-8BC6-B5F3B35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DC62-38A2-4887-90C0-9AB06405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1399-E453-4255-A5A7-8C906557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115-A685-4091-A62E-AD5B0AB6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412-B4AD-4E6D-B489-B2A7B291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1F0-C627-468E-B252-5774F6C0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78D-BA67-4A28-8FD5-2944AC10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A6F-1C27-47C5-908F-00B06B69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3A9-735C-4AB2-BB16-4014B9B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4A1-274F-4FEC-8B6D-74E4AF51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8B7B-F94F-4FF4-9671-E7B055D20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3653-12E4-481A-BD43-645B2C900BE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369D-A914-4F37-9FC4-5F73629EEA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59,8,&#24187;&#28783;&#29255; 8" TargetMode="External"/><Relationship Id="rId3" Type="http://schemas.openxmlformats.org/officeDocument/2006/relationships/hyperlink" Target="260,9,&#24187;&#28783;&#29255; 9" TargetMode="External"/><Relationship Id="rId4" Type="http://schemas.openxmlformats.org/officeDocument/2006/relationships/hyperlink" Target="264,3,&#24187;&#28783;&#29255; 3" TargetMode="External"/><Relationship Id="rId5" Type="http://schemas.openxmlformats.org/officeDocument/2006/relationships/hyperlink" Target="267,10,&#24187;&#28783;&#29255; 10" TargetMode="External"/><Relationship Id="rId6" Type="http://schemas.openxmlformats.org/officeDocument/2006/relationships/hyperlink" Target="270,6,&#65288;1&#65289;&#20351;&#24471;&#21477;&#23376;&#24178;&#20928;&#20102;&#20063;&#35268;&#33539;&#20102;&#12290; &#12288;&#12288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63,2,&#24187;&#28783;&#29255; 2" TargetMode="Externa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3,2,&#24187;&#28783;&#29255; 2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1" descr="D:\Documents\My Pictures\8781727_150051244139_2.jpg"/>
          <p:cNvPicPr/>
          <p:nvPr/>
        </p:nvPicPr>
        <p:blipFill>
          <a:blip r:embed="rId16"/>
          <a:srcRect l="0" t="0" r="0" b="62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1371600" y="167652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Times New Roman"/>
                <a:ea typeface="华文隶书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Text Box 29" descr=""/>
          <p:cNvPicPr/>
          <p:nvPr/>
        </p:nvPicPr>
        <p:blipFill>
          <a:blip r:embed="rId17"/>
          <a:stretch/>
        </p:blipFill>
        <p:spPr>
          <a:xfrm>
            <a:off x="539640" y="619200"/>
            <a:ext cx="8280360" cy="70164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F3DC-7601-4219-8C88-5D4B74E1E1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WH15C_pashanhu9050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324000" y="6602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文为什么以“那片绿绿的爬山虎”为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50920" y="216684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因为在叶老家做客见到那片爬山虎，叶老教导我懂得了应该怎样做人、怎能样作文。时间过去近三十年了，但当时情景如在眼前，一想起叶老，就仿佛又看到那片绿绿的爬山虎，所以此为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WH15C_pashanhu9050034"/>
          <p:cNvPicPr/>
          <p:nvPr/>
        </p:nvPicPr>
        <p:blipFill>
          <a:blip r:embed="rId1"/>
          <a:stretch/>
        </p:blipFill>
        <p:spPr>
          <a:xfrm>
            <a:off x="-585720" y="-1500120"/>
            <a:ext cx="10315440" cy="9858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065480" y="76500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叶圣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186080" y="1720800"/>
            <a:ext cx="154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作家肖复兴简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04820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098600" y="42926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进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182120" y="551664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4194000" y="335592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板书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974760" y="62373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句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7"/>
          <p:cNvSpPr/>
          <p:nvPr/>
        </p:nvSpPr>
        <p:spPr>
          <a:xfrm>
            <a:off x="1848600" y="620640"/>
            <a:ext cx="4707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叶圣陶先生是怎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修改</a:t>
            </a:r>
            <a:r>
              <a:rPr b="1" lang="zh-CN" sz="5400" spc="-1" strike="noStrike">
                <a:solidFill>
                  <a:srgbClr val="3333cc"/>
                </a:solidFill>
                <a:latin typeface="华文中宋"/>
                <a:ea typeface="隶书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我</a:t>
            </a:r>
            <a:r>
              <a:rPr b="1" lang="zh-CN" sz="5400" spc="-1" strike="noStrike">
                <a:solidFill>
                  <a:srgbClr val="3333cc"/>
                </a:solidFill>
                <a:latin typeface="华文中宋"/>
                <a:ea typeface="隶书"/>
              </a:rPr>
              <a:t>”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的作文的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请同学们速读</a:t>
            </a:r>
            <a:r>
              <a:rPr b="1" lang="en-US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小节。</a:t>
            </a:r>
            <a:r>
              <a:rPr b="0" lang="zh-CN" sz="4400" spc="-1" strike="noStrike">
                <a:solidFill>
                  <a:srgbClr val="99330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J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826920" y="765000"/>
            <a:ext cx="744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看一看，议一议</a:t>
            </a:r>
            <a:r>
              <a:rPr b="1" lang="en-US" sz="60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看了叶老的修改你有什么感想？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258920" y="765000"/>
            <a:ext cx="65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作者当初刚看到这份修改稿时，有什么反应呢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690960" y="55166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使得句子干净了也规范了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84360" y="1916280"/>
            <a:ext cx="68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095480" y="28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684880" y="2060640"/>
            <a:ext cx="465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干净”</a:t>
            </a:r>
            <a:r>
              <a:rPr b="1" lang="zh-CN" sz="5400" spc="-1" strike="noStrike">
                <a:solidFill>
                  <a:srgbClr val="00b050"/>
                </a:solidFill>
                <a:latin typeface="Times New Roman"/>
              </a:rPr>
              <a:t>，在这里指句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Times New Roman"/>
              </a:rPr>
              <a:t>简洁明白，不啰嗦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规范”</a:t>
            </a:r>
            <a:r>
              <a:rPr b="1" lang="zh-CN" sz="5400" spc="-1" strike="noStrike">
                <a:solidFill>
                  <a:srgbClr val="00b050"/>
                </a:solidFill>
                <a:latin typeface="Times New Roman"/>
              </a:rPr>
              <a:t>，指语言标准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Times New Roman"/>
              </a:rPr>
              <a:t>典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69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虽然未见叶老先生的面，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却从他的批改中感受到他的认真、平和以及温暖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如春风拂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978560" y="3711600"/>
            <a:ext cx="518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拂”，轻轻擦过，“春风拂面”指像春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样从脸上轻轻擦过，形容使人感到非常愉快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舒服。作者运用这个比喻，更形象地表达出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己对叶老的感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835320" y="59482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PM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219320" y="609480"/>
            <a:ext cx="67053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　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叶圣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我国著名的教育家叶圣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894-198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名绍钧，江苏苏州人，著名作家、教育家，父亲在地主家做账房，家境清苦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0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考入草桥中学，毕业后在一个初等小学当教员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1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被排挤出学校，闲居期间作文言小说发表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礼拜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杂志上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秋到上海商务印书馆附设的尚公学校教国文，并为商务印书馆编小学国文课本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1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应聘到吴县甪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l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里县立第五高等小学任教，他称甪里为自己的第二故乡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2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与沈雁冰、郑振铎等人发起组织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学研究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曾与夏丏尊合作出版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阅读与写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心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讲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。解放后，历任出版总署副署长、人民教育出版社社长、教部副部长等职，并当选为第五届全国人大常委，第五届全国政协常委和民进中央主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980040" y="59482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194"/>
          <p:cNvSpPr/>
          <p:nvPr/>
        </p:nvSpPr>
        <p:spPr>
          <a:xfrm>
            <a:off x="3276720" y="587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PM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1066680" y="609480"/>
            <a:ext cx="7010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作家肖复兴简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肖复兴，北京人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8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毕业于中央戏剧学院。现任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民文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杂志社副主编。已出版长篇小说、中短篇小说集、报告文学集、散文随笔集和理论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8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余部。曾有长篇小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青春三部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早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个女中学生的日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青春回旋曲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报告文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当代中学生对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当代中学生通信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近著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音乐笔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音乐的隔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聆听与吟唱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浪漫的丧失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纸的生命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遥远的含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。曾经获得过全国以及北京上海优秀文学奖多种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音乐笔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获首届冰心散文奖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那片绿绿的爬山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向往奥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荔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银色的心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寻找贝多芬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篇入选大中小学课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3:3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8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