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2619-936E-4151-90A0-00D41044D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1954-58C8-481F-8F59-133BD2676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2128-9E3B-468C-854E-4F914B802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36B0-F319-4FD9-9C31-891B739D6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F5992-828C-4A67-BE54-80204E03C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FC8F1-E997-4321-BDCA-A0B3541C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9A07D-89A8-45B3-B076-96C2E70D5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4C6DB-0CB4-4682-A6BA-C98C784DF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A7A79-B297-4314-9081-F8CC6A637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3D00E-ED55-4941-8A4E-1BC935316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62ADB-6ADB-4127-A4FB-8F33BAE1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F8B6-0304-4FF4-8577-9E9778AFF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5E148-55AF-4D59-9C34-2FFD2910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5A71F-48CE-4347-BD8C-A0715EE8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FC775-7887-445E-BCF7-38A615ED1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49A5A-9760-49EF-8349-B2274F502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5F44C-C5C4-415F-A51B-C8D714808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4C0D-FE45-4E01-B22C-6D555AAA7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2CC9-3838-42C5-933B-89DAA6807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4C25-46CE-403C-9BC5-B83FE5383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E20E-418E-4DD2-9965-6E3930B27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269C-8232-4ED0-A7E1-67F2656F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25C9-3C94-4520-95F3-42032F71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4D8A-B450-4B9E-B1F4-57EBB9D1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F47E-3A47-445C-99BB-A08303034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23F45-F482-4ABB-AB18-20181CE62AA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A4B14-8B71-4BF4-BC0C-94CB1FB14C3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763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窃读记语文课件</a:t>
            </a:r>
            <a:r>
              <a:rPr b="0" lang="en-US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模板下载</a:t>
            </a:r>
            <a:br>
              <a:rPr sz="96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林海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6"/>
          <p:cNvSpPr/>
          <p:nvPr/>
        </p:nvSpPr>
        <p:spPr>
          <a:xfrm>
            <a:off x="28440" y="66056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lin"/>
          <p:cNvPicPr/>
          <p:nvPr/>
        </p:nvPicPr>
        <p:blipFill>
          <a:blip r:embed="rId1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"/>
          <p:cNvSpPr/>
          <p:nvPr/>
        </p:nvSpPr>
        <p:spPr>
          <a:xfrm>
            <a:off x="4495680" y="136440"/>
            <a:ext cx="4648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国现代著名女作家。生于日本大坂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岁随父母返台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岁来到北京，在北京度过了童年与青年时期，在北京，她完成了从学生到新闻记者、从少女到为人妻母的转变，北京是她文学之路的起点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4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，举家迁往台湾，在台湾仍以办报、办刊、写作、出版为主，联络了大批在台的文化界人士，提携了大量台湾的文学青年，出版了众多文学名作，被称为台湾文学“祖母级的人物”。林海音对北京有着深厚的情感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城南旧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一书既是她童年生活的写照，更是当年北京平民生活的写真，也是她最具影响的作品。林海音以她的成就、她的为人、她的号召力，成为联接大陆与台湾文学之间的桥梁、中国与世界文坛的桥梁。她的作品被译为多种文字，她的一生荣获众多文学奖项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“第三届世界华文作家大会”荣获“终身成就奖”。有评论认为，林海音的去世，是台湾文学一个时代的结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2518560" y="23760"/>
            <a:ext cx="201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林海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1918—200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304920" y="187200"/>
            <a:ext cx="868680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林海音作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冬青树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1955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绿藻与咸蛋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1957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晓云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1959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城南旧事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1960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婚姻的故事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1963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烛芯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1965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做客美国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1966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两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1966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薇薇的周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1968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窗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1972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林海音自选集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1975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剪影话文坛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1984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家住书坊边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1987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林海音童话集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1987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一家之主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1988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金鲤鱼的百裥裙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1993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奶奶的傻瓜相机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1994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往事悠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1995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英子的心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1996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我们看海去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1996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驴打滚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1996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林海音文集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1997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城南旧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2000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林海音作品集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2000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以上为林海音部分作品名录，不包括其编选的作品集，出版年代为首次出版时间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380880" y="457200"/>
            <a:ext cx="81979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炒菜    锅勺   踮起    脚尖  腋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恶狼    贪婪   惧怕    倾盆大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充足    饥肠辘辘   支撑   屋檐  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皱起眉头    一碗书柜    依依不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8194"/>
          <p:cNvSpPr/>
          <p:nvPr/>
        </p:nvSpPr>
        <p:spPr>
          <a:xfrm>
            <a:off x="990720" y="28195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1885320" y="914400"/>
            <a:ext cx="5509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急忙打开书，一页，两页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我像一匹恶狼，贪婪地读着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我很快乐，也很惧怕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-----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这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窃读的滋味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BC490-74EB-42F2-B8CC-792D13F1670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1769400" y="1371600"/>
            <a:ext cx="559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 “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记住，你们是吃饭长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的，也是读书长大的！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9T01:49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2:01Z</dcterms:modified>
  <cp:revision>1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  <property fmtid="{D5CDD505-2E9C-101B-9397-08002B2CF9AE}" pid="3" name="Version">
    <vt:r8>1</vt:r8>
  </property>
</Properties>
</file>