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3.wmf" ContentType="image/x-wmf"/>
  <Override PartName="/ppt/media/image15.jpeg" ContentType="image/jpeg"/>
  <Override PartName="/ppt/media/type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  <p:custShowLst>
    <p:custShow name="自定义放映1" id="0">
      <p:sldLst>
        <p:sld r:id="rId5"/>
        <p:sld r:id="rId8"/>
        <p:sld r:id="rId9"/>
        <p:sld r:id="rId10"/>
        <p:sld r:id="rId11"/>
        <p:sld r:id="rId12"/>
        <p:sld r:id="rId13"/>
        <p:sld r:id="rId14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875-0F0A-41E7-A6BD-82F1934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31E-7B51-41EF-B1CA-B104003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9D9-8C39-4E2D-A398-8958DFFC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579-D32D-464D-B87D-D87CFE7D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6C03-DB80-4D43-BA60-9994FC07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E591-4E4B-42ED-81E0-7AD6E3B0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7B3F-0FB8-47D8-9AAB-AB1002B3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C8AE-2A66-46ED-8E4F-8B4CB455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26F3-4DEB-4CE0-B644-C1F5ABBA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EE8-3D4E-4DEE-8E9C-69FFB1B0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6E9F-FFF5-4C86-B9BF-16BC785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F83-17C7-47B4-8579-6BB1331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3D45-4BCE-4582-8E9B-2E6D96F6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E2F6-E23B-4247-9874-727BDE57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85C6-3CDD-40D8-995F-5E4A924A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F5F-8C65-42AA-8EAD-CCD49CBF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89B6-62DF-4E78-A813-B5DC3A33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014-487C-49D2-96A0-6CAC7F13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572-6B0A-4855-9281-4B40F40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3A3-2218-4EBE-92D1-D41E5EE0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484-A300-44A4-AF8E-C6D3898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5BE-4B04-454A-8797-73C2903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A43-1A49-49DC-B137-F78107BE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596-60C2-4F9F-A354-16C5A5C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9A09-1640-450C-81E2-065AF81C2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8B03-3408-4A94-BE82-D52D853169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B34-C913-4CB8-B9E8-E6339CABD8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image" Target="../media/image2.png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eeppt.com/moban/" TargetMode="External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0" r="0" b="3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七律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长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轻音乐《山溪》.mp3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29" descr="BD05219_"/>
          <p:cNvPicPr/>
          <p:nvPr/>
        </p:nvPicPr>
        <p:blipFill>
          <a:blip r:embed="rId3"/>
          <a:stretch/>
        </p:blipFill>
        <p:spPr>
          <a:xfrm>
            <a:off x="6821640" y="4038480"/>
            <a:ext cx="232236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48720" y="609480"/>
            <a:ext cx="129528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大渡桥铁索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567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大渡桥横铁索寒 2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飞夺泸定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桥 1"/>
          <p:cNvPicPr/>
          <p:nvPr/>
        </p:nvPicPr>
        <p:blipFill>
          <a:blip r:embed="rId1"/>
          <a:stretch/>
        </p:blipFill>
        <p:spPr>
          <a:xfrm>
            <a:off x="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夺桥 3"/>
          <p:cNvPicPr/>
          <p:nvPr/>
        </p:nvPicPr>
        <p:blipFill>
          <a:blip r:embed="rId2"/>
          <a:stretch/>
        </p:blipFill>
        <p:spPr>
          <a:xfrm>
            <a:off x="4648320" y="121932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553F-0C35-4FFB-A194-5328AA4D71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更喜岷山千里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岷山"/>
          <p:cNvPicPr/>
          <p:nvPr/>
        </p:nvPicPr>
        <p:blipFill>
          <a:blip r:embed="rId1"/>
          <a:stretch/>
        </p:blipFill>
        <p:spPr>
          <a:xfrm>
            <a:off x="4876920" y="990720"/>
            <a:ext cx="4267080" cy="586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雪山图"/>
          <p:cNvPicPr/>
          <p:nvPr/>
        </p:nvPicPr>
        <p:blipFill>
          <a:blip r:embed="rId2"/>
          <a:stretch/>
        </p:blipFill>
        <p:spPr>
          <a:xfrm>
            <a:off x="0" y="990720"/>
            <a:ext cx="4876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4859280" y="242100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七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征</a:t>
            </a:r>
            <a:br>
              <a:rPr sz="44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毛泽东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3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诗朗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军不怕远征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水千山只等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岭逶迤腾细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乌蒙磅礴走泥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沙水拍云崖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渡桥横铁索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喜岷山千里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军过后尽开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6"/>
          <a:stretch/>
        </p:blipFill>
        <p:spPr>
          <a:xfrm>
            <a:off x="4343400" y="1905120"/>
            <a:ext cx="4495680" cy="4647960"/>
          </a:xfrm>
          <a:prstGeom prst="rect">
            <a:avLst/>
          </a:prstGeom>
          <a:ln w="0">
            <a:noFill/>
          </a:ln>
        </p:spPr>
      </p:pic>
      <p:pic>
        <p:nvPicPr>
          <p:cNvPr id="91" name="轻音乐《山溪》.mp3" descr=""/>
          <p:cNvPicPr/>
          <p:nvPr/>
        </p:nvPicPr>
        <p:blipFill>
          <a:blip r:embed="rId17"/>
          <a:stretch/>
        </p:blipFill>
        <p:spPr>
          <a:xfrm>
            <a:off x="78487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5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时代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，在毛泽东同志正确路线指引下，红军取得了四次反“围剿”的胜利。以后，由于王明的错误路线排斥了毛泽东同志的正确领导，造成第五次反“围剿”的失败。红军不得不离开中央苏区根据地，开始长征，北上抗日。长征途中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月，党中央召开了遵义会议，确立了毛泽东同志的领导地位，结束了王明路线的统治，从此，中国革命转危为安，从胜利走向胜利。党中央领导的中国工农红军第一方面军，经过福建、江西、广东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等十一个省。爬雪山、过草地，历经艰难，行程二万五千里，终于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月胜利到达陕北根据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75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9760" y="685800"/>
            <a:ext cx="152388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长征路线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长征路线图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学唱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长征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歌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红军不怕远征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万水千山只等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五岭逶迤腾细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乌蒙磅礴走泥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金沙水拍云崖暖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大渡桥横铁索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更喜岷山千里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军过后尽开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七律-长征.mp3" descr=""/>
          <p:cNvPicPr/>
          <p:nvPr/>
        </p:nvPicPr>
        <p:blipFill>
          <a:blip r:embed="rId1"/>
          <a:stretch/>
        </p:blipFill>
        <p:spPr>
          <a:xfrm>
            <a:off x="7238880" y="4572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大渡桥横铁索寒 2"/>
          <p:cNvPicPr/>
          <p:nvPr/>
        </p:nvPicPr>
        <p:blipFill>
          <a:blip r:embed="rId2"/>
          <a:stretch/>
        </p:blipFill>
        <p:spPr>
          <a:xfrm>
            <a:off x="3809880" y="121932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岷山"/>
          <p:cNvPicPr/>
          <p:nvPr/>
        </p:nvPicPr>
        <p:blipFill>
          <a:blip r:embed="rId3"/>
          <a:stretch/>
        </p:blipFill>
        <p:spPr>
          <a:xfrm>
            <a:off x="640080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乌蒙磅礴"/>
          <p:cNvPicPr/>
          <p:nvPr/>
        </p:nvPicPr>
        <p:blipFill>
          <a:blip r:embed="rId4"/>
          <a:stretch/>
        </p:blipFill>
        <p:spPr>
          <a:xfrm>
            <a:off x="3809880" y="39625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金沙江"/>
          <p:cNvPicPr/>
          <p:nvPr/>
        </p:nvPicPr>
        <p:blipFill>
          <a:blip r:embed="rId5"/>
          <a:stretch/>
        </p:blipFill>
        <p:spPr>
          <a:xfrm>
            <a:off x="6400800" y="121932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8197"/>
          <p:cNvSpPr/>
          <p:nvPr/>
        </p:nvSpPr>
        <p:spPr>
          <a:xfrm>
            <a:off x="2266920" y="836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1"/>
                            </p:stCondLst>
                            <p:childTnLst>
                              <p:par>
                                <p:cTn id="10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1"/>
                            </p:stCondLst>
                            <p:childTnLst>
                              <p:par>
                                <p:cTn id="11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1"/>
                            </p:stCondLst>
                            <p:childTnLst>
                              <p:par>
                                <p:cTn id="114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1"/>
                            </p:stCondLst>
                            <p:childTnLst>
                              <p:par>
                                <p:cTn id="11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1"/>
                            </p:stCondLst>
                            <p:childTnLst>
                              <p:par>
                                <p:cTn id="12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1"/>
                            </p:stCondLst>
                            <p:childTnLst>
                              <p:par>
                                <p:cTn id="12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1"/>
                            </p:stCondLst>
                            <p:childTnLst>
                              <p:par>
                                <p:cTn id="13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1"/>
                            </p:stCondLst>
                            <p:childTnLst>
                              <p:par>
                                <p:cTn id="134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501"/>
                            </p:stCondLst>
                            <p:childTnLst>
                              <p:par>
                                <p:cTn id="139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8001"/>
                            </p:stCondLst>
                            <p:childTnLst>
                              <p:par>
                                <p:cTn id="144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501"/>
                            </p:stCondLst>
                            <p:childTnLst>
                              <p:par>
                                <p:cTn id="149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诗句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句：红军不怕远征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水千山只等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述了红军长征经历的千难万险以及面对困难的态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、三、四句从万水千山中挑选了几个典型的例子，生动具体地描绘了红军战胜艰难险阻的英雄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五岭逶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五岭逶迤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乌蒙磅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80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乌蒙山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720" y="76212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金沙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56768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金沙江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3:43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0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