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28A-4890-420B-B7F0-ABF4966F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7BD-4B3B-4EBC-A8C3-E226F7EE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7FB-AA8C-4D38-B1E5-A5B0D403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687-59D0-4775-82F0-12924DB9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CE8D-3D82-48C7-82EA-98E78C61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7CD2-FFB9-4A25-BA8E-6F062AE7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F0CE-E5B6-4494-9C80-818DD0DE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29B6-A5B3-48E1-807C-DA1774FD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6515-0DAE-4252-815F-F9B26338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EB0A-4895-4E65-81EC-1C0B42FF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21EF-C3E9-4EDB-AF4A-3C0DC47A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8B3-CE2B-47CB-AFD4-613BC63C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92E8-EA1D-4E55-B70A-4062E5EF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254B-983C-43BC-A48F-C05BF2CD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2249-69AA-4A36-944C-F888C82F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9745-820B-46A1-A59C-CADBA389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D429-0544-4DD2-85B4-FB48547A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C8E-5B02-4D69-8A58-55E02293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05B-24BF-433C-8AC8-3E87D7B3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891-4EE5-4F7A-B17E-5A9BCC8B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6D6-782A-4AA3-BE4A-DAFE0332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278-8AE0-45AC-9FA8-A4719009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6FC-50BB-4949-9023-FB175794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53A-3E03-4E61-9362-2B94E8A0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BD6F-0A46-4ED3-8153-88A2913270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41F0-9378-4AD0-9842-8E8AF82CB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1AD3-104E-4D7D-B280-6CD097016EA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C722-158B-4774-A5C1-D08DEF6BF9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插图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5"/>
          <p:cNvSpPr txBox="1"/>
          <p:nvPr/>
        </p:nvSpPr>
        <p:spPr>
          <a:xfrm>
            <a:off x="1116000" y="838080"/>
            <a:ext cx="676764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七月的天山课件</a:t>
            </a:r>
            <a:r>
              <a:rPr b="0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模板打包下载</a:t>
            </a:r>
            <a:endParaRPr b="0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6"/>
          <p:cNvSpPr/>
          <p:nvPr/>
        </p:nvSpPr>
        <p:spPr>
          <a:xfrm>
            <a:off x="3059280" y="1268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2005123122361826512"/>
          <p:cNvPicPr/>
          <p:nvPr/>
        </p:nvPicPr>
        <p:blipFill>
          <a:blip r:embed="rId1"/>
          <a:stretch/>
        </p:blipFill>
        <p:spPr>
          <a:xfrm>
            <a:off x="468360" y="351000"/>
            <a:ext cx="820728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u=1454191501,4025431834&amp;gp=48"/>
          <p:cNvPicPr/>
          <p:nvPr/>
        </p:nvPicPr>
        <p:blipFill>
          <a:blip r:embed="rId1"/>
          <a:stretch/>
        </p:blipFill>
        <p:spPr>
          <a:xfrm>
            <a:off x="755640" y="372960"/>
            <a:ext cx="734544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u=1762376237,3113674859&amp;gp=30"/>
          <p:cNvPicPr/>
          <p:nvPr/>
        </p:nvPicPr>
        <p:blipFill>
          <a:blip r:embed="rId1"/>
          <a:stretch/>
        </p:blipFill>
        <p:spPr>
          <a:xfrm>
            <a:off x="684360" y="512640"/>
            <a:ext cx="7704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u=2157089520,3382673286&amp;gp=6"/>
          <p:cNvPicPr/>
          <p:nvPr/>
        </p:nvPicPr>
        <p:blipFill>
          <a:blip r:embed="rId1"/>
          <a:stretch/>
        </p:blipFill>
        <p:spPr>
          <a:xfrm>
            <a:off x="755640" y="573120"/>
            <a:ext cx="76327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=348078281,990560503&amp;gp=-8"/>
          <p:cNvPicPr/>
          <p:nvPr/>
        </p:nvPicPr>
        <p:blipFill>
          <a:blip r:embed="rId1"/>
          <a:stretch/>
        </p:blipFill>
        <p:spPr>
          <a:xfrm>
            <a:off x="611280" y="455760"/>
            <a:ext cx="763272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u=2293974885,3771244852&amp;gp=22"/>
          <p:cNvPicPr/>
          <p:nvPr/>
        </p:nvPicPr>
        <p:blipFill>
          <a:blip r:embed="rId1"/>
          <a:stretch/>
        </p:blipFill>
        <p:spPr>
          <a:xfrm>
            <a:off x="395280" y="654120"/>
            <a:ext cx="8137440" cy="540684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u=3798728013,139200520&amp;gp=48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F842-7082-4F43-972F-EE3D4735C9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画出描写方位变化的句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作者在写作顺序上和景物描写上有什么特点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阅读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出生字、新词，读准字音，理  解新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通句子，看看作者写了哪些景物，给你留下了怎样的印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不懂的地方作上记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绸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缎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涧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俯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视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皑皑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马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蹄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溅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绵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马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缎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涧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俯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皑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蹄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延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作者在第二自然段中写了哪些景物？找出有关语句读一读，看一看作者是如何把景物写具体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蓝天衬着高耸的巨大的雪峰，太阳下，雪峰间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云影就像白缎上绣了几朵银灰色的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山融化的雪水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高悬的山涧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峭壁断崖上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飞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来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像千百条闪耀的银链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这飞泻下来的雪水，在山脚汇成冲激的溪流，浪花往上抛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形成千万朵盛开的白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200"/>
          <p:cNvSpPr/>
          <p:nvPr/>
        </p:nvSpPr>
        <p:spPr>
          <a:xfrm>
            <a:off x="2482920" y="5734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沿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白皑皑群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雪线以下，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蜿蜒无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翠绿的原始森林，密密的塔松像撑天的巨伞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重重叠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枝丫，只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下斑斑点点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细碎的日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马走在花海中，显得格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矫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，人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浮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花海上，也显得格外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精神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4:0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7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