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4.jpeg" ContentType="image/jpeg"/>
  <Override PartName="/ppt/media/WHOOSH.WAV" ContentType="audio/x-wav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1C0-4CF7-4FA7-BE78-6798E94FD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B29-F9A9-40E4-8B1C-2403DE6A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AC539-286F-4EE7-AC1D-996D6113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7E64E-F779-411B-99FC-3D83E61C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CA3D6-4FA2-406A-998E-2F14DF83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04581-2E3E-49F1-A44E-C4CC32B6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56392-1750-4B32-91DD-28356C8E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16E95-5A04-4A29-A725-F2A762DD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F5114-6363-4ED9-ADF9-6370DCB0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D0A1E-0319-4351-B378-47E55AF2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F3589B-F534-4040-890A-C9079816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6EF5E-A795-40C7-B244-60406C43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83A-1B41-42F3-822C-3AB74E8A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44C35-D8E9-4774-8860-EB35030B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2D591-E920-41CF-9634-6B987965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8F676-459E-48EB-9E71-11596555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22F70-3D12-4AA8-B99D-E0C94583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45838-80C0-4B1D-9A43-E752E57C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C759A-31BF-4BA7-900C-688E186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5813F-B7D3-47F7-AA30-C5B1748F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A518D-A99E-41D9-AB07-B294071E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E9547-595F-460F-A7DB-9CE7BBDF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56D98-ED8C-4D15-9F5A-6B1170EC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58F9-17CE-4AF4-A745-361530F5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6F237-20E3-405A-AD29-3DA1887F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59E99-AAF0-487B-A091-9DAA87AC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C608F-9590-4BB7-AED6-6505EB7A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308D5-79C5-4794-87BA-12527B17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AA86C-B99E-49F1-90E1-7BDAE13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AD1F1-BB78-4B2E-B0DE-40C2C9BB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7A58B-D70C-4D7D-AB1C-DA97EE07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83832-F266-45A6-BF8B-FEEBBEA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52E02-67FC-42A4-B267-F72C5F9A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C3E2C9-540B-45E7-8E0A-4CA28647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3CF3-CFEB-41E1-B781-9381F327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7012B-8156-4C54-9CC7-4B4A8B8D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028E5-C0D0-4980-A675-7E96062F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2280D-5BA4-499E-9CA7-3EB30012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6FA8C-6361-4B1F-8098-831AD6E2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6CE86-8D0F-4D01-BBBE-ABCDFFFB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1A43E-3965-4D7D-B746-4F8A2AD5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58260-CF3B-47C7-8EE3-69021E0E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6E9A0-2BAE-476D-9BEA-36F2516C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D130C-015D-4562-91E8-C93B0B33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7AC92-85D1-430B-8A4E-9546EFA5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AE18-7DAA-4C03-BFAC-13F07BB8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CB024-493F-41BF-8966-3E502926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B8B68-F86C-4D22-94F1-805499D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E1BDE-0106-449C-B84C-2B62B462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D4C02-5252-48E6-9B9E-67D57461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7E3EF-34D9-4297-913A-D15F2143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A7F4D-078A-4B83-BB25-0C0A6C4D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76CC1-05B4-40A8-BF22-990156EB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7F643-C252-4BA8-BAAE-43E9129B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5BCC7-01CC-4D5E-9B57-AA70C604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354DF-E7C4-44DA-AF01-10F5EDDC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D95F-D7F7-4050-A6FF-E68EAAB0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DC7DC1-40B8-4987-99E7-E787FA66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06C03-B833-4E46-A7E5-775555F9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20CA6-8EF1-46FB-BC93-F618A036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75CD6-F2E8-4F6D-ABA3-DDFBA74E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36392-D297-47D4-823F-747C1EE3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618A5-0B2C-4B51-8D8D-9796E3B0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5F9AA-DFA2-44CC-95DC-FD642543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23E9-6475-4DD5-B651-B3BC74EA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783C-0443-4AF8-B884-B89196A4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159F-DC6E-4A0A-872F-DBA1DB75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4716-7128-46D2-A441-573D7255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A82-30DB-498A-A0D0-1A56BFB3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B47D-2243-4C9F-B529-42426053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BEA5-8E9E-4500-ADB4-5DCCBC23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9CBD-E820-4AB4-8FEC-866C788C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5B34-0856-41DB-B34A-2FA7AA9A2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E616-9B7E-4154-8ADF-F87C46AE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1ACD-CB47-4D21-A76D-49DBCE8B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32A69-59A5-463E-905F-A8C23CB2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0E42-7332-4D30-92D2-FD402B8B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4E91-1442-4DCA-BC93-F5658AD8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31E85-7E11-4AEE-8546-3A2F40E0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EB9-92BE-40F4-A81D-85772CC0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3BD1-15FC-444D-A9AC-1BF6284C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E838D-8485-46B3-AC46-D4F356C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B7C4F-45C7-4E88-A7AA-903651BD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4B6D-629D-4CDF-8FB3-C6FF49AF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23BDE-4955-4B05-B529-0B379A73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487A4-734E-45DE-825C-53B38E6A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0E5B5-99F6-432C-B152-7D8A0344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685EF-BA11-48E4-B4D6-A40D1764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DAF3B-740A-420A-9999-F8005013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662F2-6E65-425A-A27F-AB753C19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74D-6822-4A38-AC5C-F94D5A0D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D3A15-290D-49E6-B09A-495E21C8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525A1-E00A-4CE2-AF6E-CC3E81AB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4E73E-8311-4187-8E5F-2084EA56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C649-47D0-4ED1-AA72-DACBF488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8C3B8-5F6E-488C-AE01-D168E741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ECBCF-36AB-4B17-95EA-BFD56D68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92107-83A4-403C-AE67-9B7C43EF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02A83-44F2-47A8-950F-0D856858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C640A-4FC6-4717-8979-E9F740EC3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7FE8-00FD-4F96-AF0E-2CC6110F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2DF-EE40-41D5-8C10-28F67A81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F9E7C-9A05-44DE-A2FE-AE46BAA1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61A5-46FC-44E9-8A56-AF02B948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012F8-7A28-43C7-ACF8-07A41E7D6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60067-4F24-4A51-B9F0-107E1D41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DD39D-128F-4BC9-B5BE-2FE49118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51863-2EB7-407D-B71B-F46363C0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22DB5-3815-493E-AEB2-951DA824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C3224-636B-40B3-9F80-DE62D3B6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38B2-F2AE-4BEE-8AC2-09288516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74353-B2F8-48D5-A9CD-1157ECD2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CE9-3667-4D3B-9DC6-CCC0101F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8D20B-5C9A-495A-A661-1B49FFFE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FB28C-F049-4F0B-BA2A-C090357B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F19D5-038A-45C5-8B67-C743960C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06727-2463-41FB-8E8B-9DF5532F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FF02-A501-4D87-8EFE-3C1369A3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32F0F-7E13-4D2C-9D2F-76DC77FE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77CF1-46D6-4488-82E2-3DA192E3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D5186-09C9-4410-96F5-99156AFA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2B53D-38A2-4440-9E80-6950ED16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D2DE3-BF1D-4813-86A8-D6932EA3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147D-EB59-4C05-A4AB-52CEBC29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4C5D9-25FD-4641-8B6C-5369B5A6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3EE1E-49EE-4058-8D06-06A0F9A5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BB253-078C-49CD-8CE0-35186873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46555-D2AD-4459-8ECB-D7CA97F7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843E1-35A1-4530-9C40-E5D20B37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1E146-D76A-4636-8281-F33093B7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C35E4-3730-4D96-9A0A-23B0567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7E530-DA58-410C-90F0-D392BBAB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AA761-0972-44A3-A6B2-49E37CEE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47296-491B-4579-AE26-9E75137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2E2-9384-483E-8FAA-91F6F333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5DE83-3628-4E1B-B0BD-EFB052E2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71281-6E6A-4F92-A30A-3408C53E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F8E87-A1A2-431E-9DFE-3CB16533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BA5F8-0CBA-4C42-8ED5-1EA9A4D8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C6E0E-0D33-4F46-8EEE-90117466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1B447-8AE5-4569-9653-C487E21E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4ABA2-4330-4887-96DA-563FFE57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FB093-B5FF-42BF-8C02-A6AFFCBF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FBF38-2EE3-4325-B2D9-FB87E675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0C757-6832-4538-B607-A10F4CCA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0B8-F8BC-4B20-80CF-2F717C0D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533AD-554F-4EAF-94C5-B689CB59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F8AEF-10E5-4582-AD81-DC930A92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80344-4420-4F72-ACA5-024B4D5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3029B-75FF-46F5-9B2A-54ADD783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D780-DD4D-4331-A986-E06579A6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E4E48-9808-4C2C-9798-EA4B4B61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0430E-1589-4EB4-93A9-FE5992B0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9CE9F-0E79-4A6B-834C-EBFFB18E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1A65C-E227-4EB5-B1F5-86DB85E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1A458-2F27-4392-8BCB-FC31FB4F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015920" y="1600200"/>
            <a:ext cx="7670880" cy="360"/>
            <a:chOff x="1015920" y="1600200"/>
            <a:chExt cx="7670880" cy="360"/>
          </a:xfrm>
        </p:grpSpPr>
        <p:sp>
          <p:nvSpPr>
            <p:cNvPr id="2" name="Line 3"/>
            <p:cNvSpPr/>
            <p:nvPr/>
          </p:nvSpPr>
          <p:spPr>
            <a:xfrm>
              <a:off x="1015920" y="1600200"/>
              <a:ext cx="7670880" cy="0"/>
            </a:xfrm>
            <a:prstGeom prst="line">
              <a:avLst/>
            </a:prstGeom>
            <a:ln w="3240">
              <a:solidFill>
                <a:srgbClr val="cbbd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 txBox="1"/>
            <p:nvPr/>
          </p:nvSpPr>
          <p:spPr>
            <a:xfrm>
              <a:off x="1015920" y="1600200"/>
              <a:ext cx="767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" name="Picture 4" descr="A:\minispir.GIF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5" descr="A:\minispir.GIF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105A-D2BD-4392-9A2F-F6E473C54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88A1-C0F8-4730-AE86-D83781718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267D-4B63-4EBF-8D05-55D6D4FA8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511-73CB-468B-8390-2703274E5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71E8-632A-486F-B8CE-D22FF49C1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5387-588B-48B6-A3BD-276D0AC2620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3CD3-4AAB-4ED3-98E2-0691AA6FA2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A:\minispir.GIF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A:\minispir.GIF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FECE-DEF8-46ED-A8E9-2C55FA9BB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5350-06B5-4E3D-8FBC-B874B9385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753F-6B14-4FF5-9C71-A1FA2AFDC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3D86-96E0-4C26-8662-89B11552E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C84C-4FED-42E2-91B8-C08185E1B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C025-BFB4-4A51-A95E-6D724860B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84E1-3F58-463C-9F36-7BBCAF797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z.sm.fj.cninfo.net/jxzy/tp/dltp.htm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hyperlink" Target="http://www.bjww.gov.cn/msgj/gb/m4.htm" TargetMode="External"/><Relationship Id="rId5" Type="http://schemas.openxmlformats.org/officeDocument/2006/relationships/image" Target="../media/image16.jpeg"/><Relationship Id="rId6" Type="http://schemas.openxmlformats.org/officeDocument/2006/relationships/hyperlink" Target="http://www.gansutong.com/wjys/wjys/whys/gsww/ccbwg/ccbwg.htm" TargetMode="External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6"/>
          <p:cNvSpPr txBox="1"/>
          <p:nvPr/>
        </p:nvSpPr>
        <p:spPr>
          <a:xfrm>
            <a:off x="1384200" y="695160"/>
            <a:ext cx="65437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e3d18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人教版长城课件</a:t>
            </a:r>
            <a:r>
              <a:rPr b="1" lang="en-US" sz="4000" spc="-1" strike="noStrike">
                <a:ln w="0">
                  <a:noFill/>
                </a:ln>
                <a:solidFill>
                  <a:srgbClr val="e3d18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e3d18f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华文新魏"/>
              </a:rPr>
              <a:t>模板下载</a:t>
            </a:r>
            <a:endParaRPr b="1" lang="en-US" sz="4000" spc="-1" strike="noStrike">
              <a:ln w="0">
                <a:noFill/>
              </a:ln>
              <a:solidFill>
                <a:srgbClr val="e3d18f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44" name="Text Box 7"/>
          <p:cNvSpPr/>
          <p:nvPr/>
        </p:nvSpPr>
        <p:spPr>
          <a:xfrm>
            <a:off x="250920" y="415800"/>
            <a:ext cx="44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d18f"/>
                </a:solidFill>
                <a:latin typeface="黑体"/>
                <a:ea typeface="黑体"/>
              </a:rPr>
              <a:t>人教版小学语文四年级上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5BE8-0ED2-4C03-A6BB-07B75DFEA92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学习评价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676" name=""/>
          <p:cNvGraphicFramePr/>
          <p:nvPr/>
        </p:nvGraphicFramePr>
        <p:xfrm>
          <a:off x="1066680" y="1752480"/>
          <a:ext cx="7315200" cy="46306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812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zh-CN" sz="16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评价项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小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汇报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汇报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汇报效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探究</a:t>
                      </a:r>
                      <a:r>
                        <a:rPr b="0" lang="en-US" sz="2800" spc="-1" strike="noStrike">
                          <a:solidFill>
                            <a:srgbClr val="fa4708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7"/>
          <p:cNvSpPr/>
          <p:nvPr/>
        </p:nvSpPr>
        <p:spPr>
          <a:xfrm>
            <a:off x="1187280" y="2708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7" name="Picture 4" descr="E:\方启德\课件材料\chmap.jpg"/>
          <p:cNvPicPr/>
          <p:nvPr/>
        </p:nvPicPr>
        <p:blipFill>
          <a:blip r:embed="rId1"/>
          <a:stretch/>
        </p:blipFill>
        <p:spPr>
          <a:xfrm>
            <a:off x="762120" y="2362320"/>
            <a:ext cx="8076960" cy="39193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教材简析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580920" y="304920"/>
            <a:ext cx="4953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19f9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fa1843"/>
                </a:solidFill>
                <a:latin typeface="Times New Roman"/>
              </a:rPr>
              <a:t>这篇看图学文按由远及近、由整体到部分的顺序介绍了长城气势雄伟的远景和高大坚固的近景，使学生认识到长城是我国古代劳动人民血汗和智慧的结晶，是世界历史上的伟大奇迹，激发学生民族自豪感，使学生受到爱国主义教育。</a:t>
            </a:r>
            <a:r>
              <a:rPr b="0" lang="zh-CN" sz="2800" spc="-1" strike="noStrike">
                <a:solidFill>
                  <a:srgbClr val="fa1843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184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a1843"/>
                </a:solidFill>
                <a:latin typeface="Times New Roman"/>
              </a:rPr>
              <a:t>认知目标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：掌握本课生字、生词，了解长城的概貌、构造、历史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a1843"/>
                </a:solidFill>
                <a:latin typeface="Times New Roman"/>
              </a:rPr>
              <a:t>智能目标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：指导学生图文对照，学习由远及近、由整体到部分的观察方法，培养观察能力和良好的观察习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．</a:t>
            </a:r>
            <a:r>
              <a:rPr b="0" lang="zh-CN" sz="3200" spc="-1" strike="noStrike">
                <a:solidFill>
                  <a:srgbClr val="fa1843"/>
                </a:solidFill>
                <a:latin typeface="Times New Roman"/>
              </a:rPr>
              <a:t>情感目标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：通过读文讨论，激发学生的民族自豪感和爱国主义情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主题学习的探究任务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远看长城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长城的构造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为什么说“长城是人类历史上的一个伟大奇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2919f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、长城到底给中华民族带来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919f9"/>
                </a:solidFill>
                <a:latin typeface="Times New Roman"/>
              </a:rPr>
              <a:t>学习方式指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990720" y="16761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、自己和几个兴趣相同的同学一起，组成一个研究小组来共同来开展研究。由组长给小组成员明确分工，有的负责图片的收集整理，有的负责历史记载资料的收集整理，有的负责</a:t>
            </a:r>
            <a:r>
              <a:rPr b="0" lang="zh-CN" sz="2800" spc="-1" strike="noStrike">
                <a:solidFill>
                  <a:srgbClr val="2919f9"/>
                </a:solidFill>
                <a:latin typeface="Times New Roman"/>
              </a:rPr>
              <a:t>音像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资料的收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、选定一个研究方面，收集学习资料。可查阅书籍，也可通过老师提供的链接，查阅关于长城的网站，或者在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上自己用搜索引擎，收集资料，进行收集、整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2919f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2919f9"/>
                </a:solidFill>
                <a:latin typeface="Times New Roman"/>
              </a:rPr>
              <a:t>、分析、筛选资料，以一定的方式（例如：手抄报、演示文稿或网页）设计完成小组的汇报讲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文本框 8194"/>
          <p:cNvSpPr/>
          <p:nvPr/>
        </p:nvSpPr>
        <p:spPr>
          <a:xfrm>
            <a:off x="1835280" y="134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Oval 9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1066320" y="24922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远看长城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0" descr="E:\方启德\课件材料\$greatwall02.jpg"/>
          <p:cNvPicPr/>
          <p:nvPr/>
        </p:nvPicPr>
        <p:blipFill>
          <a:blip r:embed="rId1"/>
          <a:stretch/>
        </p:blipFill>
        <p:spPr>
          <a:xfrm>
            <a:off x="5613480" y="4437000"/>
            <a:ext cx="3225600" cy="21877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1" descr="E:\方启德\课件材料\新建 文件夹\01-3.jpg"/>
          <p:cNvPicPr/>
          <p:nvPr/>
        </p:nvPicPr>
        <p:blipFill>
          <a:blip r:embed="rId2"/>
          <a:stretch/>
        </p:blipFill>
        <p:spPr>
          <a:xfrm>
            <a:off x="4775040" y="369720"/>
            <a:ext cx="1905120" cy="1371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2" descr="E:\方启德\课件材料\新建 文件夹\cc00130jsl.jpg"/>
          <p:cNvPicPr/>
          <p:nvPr/>
        </p:nvPicPr>
        <p:blipFill>
          <a:blip r:embed="rId3"/>
          <a:stretch/>
        </p:blipFill>
        <p:spPr>
          <a:xfrm>
            <a:off x="6705720" y="380880"/>
            <a:ext cx="1981080" cy="133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Oval 5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066320" y="17524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长城的构造是什么样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Picture 6" descr="E:\方启德\课件材料\新建 文件夹\21.jpg"/>
          <p:cNvPicPr/>
          <p:nvPr/>
        </p:nvPicPr>
        <p:blipFill>
          <a:blip r:embed="rId1"/>
          <a:stretch/>
        </p:blipFill>
        <p:spPr>
          <a:xfrm>
            <a:off x="2743200" y="304920"/>
            <a:ext cx="2590920" cy="14475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E:\方启德\课件材料\新建 文件夹\55.jpg"/>
          <p:cNvPicPr/>
          <p:nvPr/>
        </p:nvPicPr>
        <p:blipFill>
          <a:blip r:embed="rId2"/>
          <a:stretch/>
        </p:blipFill>
        <p:spPr>
          <a:xfrm>
            <a:off x="5715000" y="304920"/>
            <a:ext cx="2895480" cy="217152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2"/>
          <p:cNvGrpSpPr/>
          <p:nvPr/>
        </p:nvGrpSpPr>
        <p:grpSpPr>
          <a:xfrm>
            <a:off x="1143000" y="4952880"/>
            <a:ext cx="7543440" cy="1089720"/>
            <a:chOff x="1143000" y="4952880"/>
            <a:chExt cx="7543440" cy="1089720"/>
          </a:xfrm>
        </p:grpSpPr>
        <p:grpSp>
          <p:nvGrpSpPr>
            <p:cNvPr id="569" name=""/>
            <p:cNvGrpSpPr/>
            <p:nvPr/>
          </p:nvGrpSpPr>
          <p:grpSpPr>
            <a:xfrm>
              <a:off x="2008440" y="5631840"/>
              <a:ext cx="309240" cy="360"/>
              <a:chOff x="2008440" y="5631840"/>
              <a:chExt cx="309240" cy="360"/>
            </a:xfrm>
          </p:grpSpPr>
          <p:sp>
            <p:nvSpPr>
              <p:cNvPr id="570" name="Line 13"/>
              <p:cNvSpPr/>
              <p:nvPr/>
            </p:nvSpPr>
            <p:spPr>
              <a:xfrm>
                <a:off x="2008440" y="5631840"/>
                <a:ext cx="30924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2008440" y="5631840"/>
                <a:ext cx="30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317320" y="5385960"/>
              <a:ext cx="360" cy="245520"/>
              <a:chOff x="2317320" y="5385960"/>
              <a:chExt cx="360" cy="245520"/>
            </a:xfrm>
          </p:grpSpPr>
          <p:sp>
            <p:nvSpPr>
              <p:cNvPr id="573" name="Line 14"/>
              <p:cNvSpPr/>
              <p:nvPr/>
            </p:nvSpPr>
            <p:spPr>
              <a:xfrm flipV="1">
                <a:off x="231768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 txBox="1"/>
              <p:nvPr/>
            </p:nvSpPr>
            <p:spPr>
              <a:xfrm rot="10800000">
                <a:off x="231732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317680" y="5385960"/>
              <a:ext cx="370800" cy="360"/>
              <a:chOff x="2317680" y="5385960"/>
              <a:chExt cx="370800" cy="360"/>
            </a:xfrm>
          </p:grpSpPr>
          <p:sp>
            <p:nvSpPr>
              <p:cNvPr id="576" name="Line 15"/>
              <p:cNvSpPr/>
              <p:nvPr/>
            </p:nvSpPr>
            <p:spPr>
              <a:xfrm>
                <a:off x="231768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 txBox="1"/>
              <p:nvPr/>
            </p:nvSpPr>
            <p:spPr>
              <a:xfrm>
                <a:off x="231768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688840" y="5385960"/>
              <a:ext cx="360" cy="245520"/>
              <a:chOff x="2688840" y="5385960"/>
              <a:chExt cx="360" cy="245520"/>
            </a:xfrm>
          </p:grpSpPr>
          <p:sp>
            <p:nvSpPr>
              <p:cNvPr id="579" name="Line 16"/>
              <p:cNvSpPr/>
              <p:nvPr/>
            </p:nvSpPr>
            <p:spPr>
              <a:xfrm>
                <a:off x="268884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 txBox="1"/>
              <p:nvPr/>
            </p:nvSpPr>
            <p:spPr>
              <a:xfrm>
                <a:off x="268884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2688840" y="5631840"/>
              <a:ext cx="308880" cy="360"/>
              <a:chOff x="2688840" y="5631840"/>
              <a:chExt cx="308880" cy="360"/>
            </a:xfrm>
          </p:grpSpPr>
          <p:sp>
            <p:nvSpPr>
              <p:cNvPr id="582" name="Line 17"/>
              <p:cNvSpPr/>
              <p:nvPr/>
            </p:nvSpPr>
            <p:spPr>
              <a:xfrm>
                <a:off x="268884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 txBox="1"/>
              <p:nvPr/>
            </p:nvSpPr>
            <p:spPr>
              <a:xfrm>
                <a:off x="268884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2688840" y="5631840"/>
              <a:ext cx="308880" cy="360"/>
              <a:chOff x="2688840" y="5631840"/>
              <a:chExt cx="308880" cy="360"/>
            </a:xfrm>
          </p:grpSpPr>
          <p:sp>
            <p:nvSpPr>
              <p:cNvPr id="585" name="Line 18"/>
              <p:cNvSpPr/>
              <p:nvPr/>
            </p:nvSpPr>
            <p:spPr>
              <a:xfrm>
                <a:off x="268884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 txBox="1"/>
              <p:nvPr/>
            </p:nvSpPr>
            <p:spPr>
              <a:xfrm>
                <a:off x="268884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2997360" y="5385960"/>
              <a:ext cx="360" cy="245520"/>
              <a:chOff x="2997360" y="5385960"/>
              <a:chExt cx="360" cy="245520"/>
            </a:xfrm>
          </p:grpSpPr>
          <p:sp>
            <p:nvSpPr>
              <p:cNvPr id="588" name="Line 19"/>
              <p:cNvSpPr/>
              <p:nvPr/>
            </p:nvSpPr>
            <p:spPr>
              <a:xfrm flipV="1">
                <a:off x="29977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 rot="10800000">
                <a:off x="299736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2997720" y="5385960"/>
              <a:ext cx="370800" cy="360"/>
              <a:chOff x="2997720" y="5385960"/>
              <a:chExt cx="370800" cy="360"/>
            </a:xfrm>
          </p:grpSpPr>
          <p:sp>
            <p:nvSpPr>
              <p:cNvPr id="591" name="Line 20"/>
              <p:cNvSpPr/>
              <p:nvPr/>
            </p:nvSpPr>
            <p:spPr>
              <a:xfrm>
                <a:off x="299772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 txBox="1"/>
              <p:nvPr/>
            </p:nvSpPr>
            <p:spPr>
              <a:xfrm>
                <a:off x="299772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3368880" y="5385960"/>
              <a:ext cx="360" cy="245520"/>
              <a:chOff x="3368880" y="5385960"/>
              <a:chExt cx="360" cy="245520"/>
            </a:xfrm>
          </p:grpSpPr>
          <p:sp>
            <p:nvSpPr>
              <p:cNvPr id="594" name="Line 21"/>
              <p:cNvSpPr/>
              <p:nvPr/>
            </p:nvSpPr>
            <p:spPr>
              <a:xfrm>
                <a:off x="336888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 txBox="1"/>
              <p:nvPr/>
            </p:nvSpPr>
            <p:spPr>
              <a:xfrm>
                <a:off x="336888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3368880" y="5631840"/>
              <a:ext cx="308880" cy="360"/>
              <a:chOff x="3368880" y="5631840"/>
              <a:chExt cx="308880" cy="360"/>
            </a:xfrm>
          </p:grpSpPr>
          <p:sp>
            <p:nvSpPr>
              <p:cNvPr id="597" name="Line 22"/>
              <p:cNvSpPr/>
              <p:nvPr/>
            </p:nvSpPr>
            <p:spPr>
              <a:xfrm>
                <a:off x="336888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 txBox="1"/>
              <p:nvPr/>
            </p:nvSpPr>
            <p:spPr>
              <a:xfrm>
                <a:off x="336888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368880" y="5631840"/>
              <a:ext cx="308880" cy="360"/>
              <a:chOff x="3368880" y="5631840"/>
              <a:chExt cx="308880" cy="360"/>
            </a:xfrm>
          </p:grpSpPr>
          <p:sp>
            <p:nvSpPr>
              <p:cNvPr id="600" name="Line 23"/>
              <p:cNvSpPr/>
              <p:nvPr/>
            </p:nvSpPr>
            <p:spPr>
              <a:xfrm>
                <a:off x="336888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 txBox="1"/>
              <p:nvPr/>
            </p:nvSpPr>
            <p:spPr>
              <a:xfrm>
                <a:off x="336888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677760" y="5385960"/>
              <a:ext cx="360" cy="245520"/>
              <a:chOff x="3677760" y="5385960"/>
              <a:chExt cx="360" cy="245520"/>
            </a:xfrm>
          </p:grpSpPr>
          <p:sp>
            <p:nvSpPr>
              <p:cNvPr id="603" name="Line 24"/>
              <p:cNvSpPr/>
              <p:nvPr/>
            </p:nvSpPr>
            <p:spPr>
              <a:xfrm flipV="1">
                <a:off x="36781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 rot="10800000">
                <a:off x="367776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3678120" y="5385960"/>
              <a:ext cx="370800" cy="360"/>
              <a:chOff x="3678120" y="5385960"/>
              <a:chExt cx="370800" cy="360"/>
            </a:xfrm>
          </p:grpSpPr>
          <p:sp>
            <p:nvSpPr>
              <p:cNvPr id="606" name="Line 25"/>
              <p:cNvSpPr/>
              <p:nvPr/>
            </p:nvSpPr>
            <p:spPr>
              <a:xfrm>
                <a:off x="367812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367812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048920" y="5385960"/>
              <a:ext cx="360" cy="245520"/>
              <a:chOff x="4048920" y="5385960"/>
              <a:chExt cx="360" cy="245520"/>
            </a:xfrm>
          </p:grpSpPr>
          <p:sp>
            <p:nvSpPr>
              <p:cNvPr id="609" name="Line 26"/>
              <p:cNvSpPr/>
              <p:nvPr/>
            </p:nvSpPr>
            <p:spPr>
              <a:xfrm>
                <a:off x="40489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404892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4048920" y="5631840"/>
              <a:ext cx="309240" cy="360"/>
              <a:chOff x="4048920" y="5631840"/>
              <a:chExt cx="309240" cy="360"/>
            </a:xfrm>
          </p:grpSpPr>
          <p:sp>
            <p:nvSpPr>
              <p:cNvPr id="612" name="Line 27"/>
              <p:cNvSpPr/>
              <p:nvPr/>
            </p:nvSpPr>
            <p:spPr>
              <a:xfrm>
                <a:off x="4048920" y="5631840"/>
                <a:ext cx="30924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 txBox="1"/>
              <p:nvPr/>
            </p:nvSpPr>
            <p:spPr>
              <a:xfrm>
                <a:off x="4048920" y="5631840"/>
                <a:ext cx="30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4048920" y="5631840"/>
              <a:ext cx="309240" cy="360"/>
              <a:chOff x="4048920" y="5631840"/>
              <a:chExt cx="309240" cy="360"/>
            </a:xfrm>
          </p:grpSpPr>
          <p:sp>
            <p:nvSpPr>
              <p:cNvPr id="615" name="Line 28"/>
              <p:cNvSpPr/>
              <p:nvPr/>
            </p:nvSpPr>
            <p:spPr>
              <a:xfrm>
                <a:off x="4048920" y="5631840"/>
                <a:ext cx="30924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 txBox="1"/>
              <p:nvPr/>
            </p:nvSpPr>
            <p:spPr>
              <a:xfrm>
                <a:off x="4048920" y="5631840"/>
                <a:ext cx="30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358160" y="5385960"/>
              <a:ext cx="360" cy="245520"/>
              <a:chOff x="4358160" y="5385960"/>
              <a:chExt cx="360" cy="245520"/>
            </a:xfrm>
          </p:grpSpPr>
          <p:sp>
            <p:nvSpPr>
              <p:cNvPr id="618" name="Line 29"/>
              <p:cNvSpPr/>
              <p:nvPr/>
            </p:nvSpPr>
            <p:spPr>
              <a:xfrm flipV="1">
                <a:off x="43585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 txBox="1"/>
              <p:nvPr/>
            </p:nvSpPr>
            <p:spPr>
              <a:xfrm rot="10800000">
                <a:off x="435816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4358520" y="5385960"/>
              <a:ext cx="370800" cy="360"/>
              <a:chOff x="4358520" y="5385960"/>
              <a:chExt cx="370800" cy="360"/>
            </a:xfrm>
          </p:grpSpPr>
          <p:sp>
            <p:nvSpPr>
              <p:cNvPr id="621" name="Line 30"/>
              <p:cNvSpPr/>
              <p:nvPr/>
            </p:nvSpPr>
            <p:spPr>
              <a:xfrm>
                <a:off x="435852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435852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4729320" y="5385960"/>
              <a:ext cx="360" cy="245520"/>
              <a:chOff x="4729320" y="5385960"/>
              <a:chExt cx="360" cy="245520"/>
            </a:xfrm>
          </p:grpSpPr>
          <p:sp>
            <p:nvSpPr>
              <p:cNvPr id="624" name="Line 31"/>
              <p:cNvSpPr/>
              <p:nvPr/>
            </p:nvSpPr>
            <p:spPr>
              <a:xfrm>
                <a:off x="472932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 txBox="1"/>
              <p:nvPr/>
            </p:nvSpPr>
            <p:spPr>
              <a:xfrm>
                <a:off x="472932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729320" y="5631840"/>
              <a:ext cx="308880" cy="360"/>
              <a:chOff x="4729320" y="5631840"/>
              <a:chExt cx="308880" cy="360"/>
            </a:xfrm>
          </p:grpSpPr>
          <p:sp>
            <p:nvSpPr>
              <p:cNvPr id="627" name="Line 32"/>
              <p:cNvSpPr/>
              <p:nvPr/>
            </p:nvSpPr>
            <p:spPr>
              <a:xfrm>
                <a:off x="472932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>
                <a:off x="472932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4729320" y="5631840"/>
              <a:ext cx="308880" cy="360"/>
              <a:chOff x="4729320" y="5631840"/>
              <a:chExt cx="308880" cy="360"/>
            </a:xfrm>
          </p:grpSpPr>
          <p:sp>
            <p:nvSpPr>
              <p:cNvPr id="630" name="Line 33"/>
              <p:cNvSpPr/>
              <p:nvPr/>
            </p:nvSpPr>
            <p:spPr>
              <a:xfrm>
                <a:off x="472932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>
                <a:off x="472932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5038200" y="5385960"/>
              <a:ext cx="360" cy="245520"/>
              <a:chOff x="5038200" y="5385960"/>
              <a:chExt cx="360" cy="245520"/>
            </a:xfrm>
          </p:grpSpPr>
          <p:sp>
            <p:nvSpPr>
              <p:cNvPr id="633" name="Line 34"/>
              <p:cNvSpPr/>
              <p:nvPr/>
            </p:nvSpPr>
            <p:spPr>
              <a:xfrm flipV="1">
                <a:off x="503856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 rot="10800000">
                <a:off x="503820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038560" y="5385960"/>
              <a:ext cx="370800" cy="360"/>
              <a:chOff x="5038560" y="5385960"/>
              <a:chExt cx="370800" cy="360"/>
            </a:xfrm>
          </p:grpSpPr>
          <p:sp>
            <p:nvSpPr>
              <p:cNvPr id="636" name="Line 35"/>
              <p:cNvSpPr/>
              <p:nvPr/>
            </p:nvSpPr>
            <p:spPr>
              <a:xfrm>
                <a:off x="5038560" y="5385960"/>
                <a:ext cx="37080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5038560" y="5385960"/>
                <a:ext cx="370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5409360" y="5385960"/>
              <a:ext cx="360" cy="245520"/>
              <a:chOff x="5409360" y="5385960"/>
              <a:chExt cx="360" cy="245520"/>
            </a:xfrm>
          </p:grpSpPr>
          <p:sp>
            <p:nvSpPr>
              <p:cNvPr id="639" name="Line 36"/>
              <p:cNvSpPr/>
              <p:nvPr/>
            </p:nvSpPr>
            <p:spPr>
              <a:xfrm>
                <a:off x="5409360" y="5385960"/>
                <a:ext cx="0" cy="24552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5409360" y="5385960"/>
                <a:ext cx="360" cy="24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5409360" y="5631840"/>
              <a:ext cx="308880" cy="360"/>
              <a:chOff x="5409360" y="5631840"/>
              <a:chExt cx="308880" cy="360"/>
            </a:xfrm>
          </p:grpSpPr>
          <p:sp>
            <p:nvSpPr>
              <p:cNvPr id="642" name="Line 37"/>
              <p:cNvSpPr/>
              <p:nvPr/>
            </p:nvSpPr>
            <p:spPr>
              <a:xfrm>
                <a:off x="5409360" y="5631840"/>
                <a:ext cx="30888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5409360" y="5631840"/>
                <a:ext cx="308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4" name="Rectangle 38"/>
            <p:cNvSpPr/>
            <p:nvPr/>
          </p:nvSpPr>
          <p:spPr>
            <a:xfrm>
              <a:off x="2441520" y="5681160"/>
              <a:ext cx="12348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3121560" y="5681160"/>
              <a:ext cx="12384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3801960" y="5681160"/>
              <a:ext cx="12348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4482000" y="5681160"/>
              <a:ext cx="12348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5162040" y="5681160"/>
              <a:ext cx="123840" cy="979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AutoShape 43"/>
            <p:cNvSpPr/>
            <p:nvPr/>
          </p:nvSpPr>
          <p:spPr>
            <a:xfrm>
              <a:off x="2132280" y="4952880"/>
              <a:ext cx="792000" cy="630000"/>
            </a:xfrm>
            <a:custGeom>
              <a:avLst/>
              <a:gdLst/>
              <a:ahLst/>
              <a:rect l="l" t="t" r="r" b="b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44"/>
            <p:cNvSpPr/>
            <p:nvPr/>
          </p:nvSpPr>
          <p:spPr>
            <a:xfrm>
              <a:off x="1143000" y="5090760"/>
              <a:ext cx="105084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efde3"/>
                  </a:solidFill>
                  <a:latin typeface="Times New Roman"/>
                </a:rPr>
                <a:t>瞭望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AutoShape 45"/>
            <p:cNvSpPr/>
            <p:nvPr/>
          </p:nvSpPr>
          <p:spPr>
            <a:xfrm>
              <a:off x="5657040" y="5582880"/>
              <a:ext cx="988920" cy="313200"/>
            </a:xfrm>
            <a:prstGeom prst="leftArrow">
              <a:avLst>
                <a:gd name="adj1" fmla="val 50000"/>
                <a:gd name="adj2" fmla="val 78908"/>
              </a:avLst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46"/>
            <p:cNvSpPr/>
            <p:nvPr/>
          </p:nvSpPr>
          <p:spPr>
            <a:xfrm>
              <a:off x="6771240" y="5582880"/>
              <a:ext cx="1915200" cy="4597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cbb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射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AutoShape 47"/>
          <p:cNvSpPr/>
          <p:nvPr/>
        </p:nvSpPr>
        <p:spPr>
          <a:xfrm>
            <a:off x="4038480" y="4495680"/>
            <a:ext cx="1905120" cy="762120"/>
          </a:xfrm>
          <a:prstGeom prst="downArrowCallout">
            <a:avLst>
              <a:gd name="adj1" fmla="val 70139"/>
              <a:gd name="adj2" fmla="val 62494"/>
              <a:gd name="adj3" fmla="val 16657"/>
              <a:gd name="adj4" fmla="val 66667"/>
            </a:avLst>
          </a:prstGeom>
          <a:solidFill>
            <a:srgbClr val="ed75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垛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60066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Oval 4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14264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为什么说“长城是人类历史上的            一个伟大奇迹</a:t>
            </a:r>
            <a:r>
              <a:rPr b="0" lang="zh-CN" sz="3200" spc="-1" strike="noStrike">
                <a:solidFill>
                  <a:srgbClr val="2919f9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Picture 6" descr="E:\方启德\课件材料\新建 文件夹\112206_sml.jpg"/>
          <p:cNvPicPr/>
          <p:nvPr/>
        </p:nvPicPr>
        <p:blipFill>
          <a:blip r:embed="rId1"/>
          <a:stretch/>
        </p:blipFill>
        <p:spPr>
          <a:xfrm>
            <a:off x="7380360" y="4205160"/>
            <a:ext cx="1496880" cy="24638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7" descr="E:\方启德\课件材料\新建 文件夹\cc00055smt.jpg"/>
          <p:cNvPicPr/>
          <p:nvPr/>
        </p:nvPicPr>
        <p:blipFill>
          <a:blip r:embed="rId2"/>
          <a:stretch/>
        </p:blipFill>
        <p:spPr>
          <a:xfrm>
            <a:off x="1187280" y="4224240"/>
            <a:ext cx="3616560" cy="245268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8" descr="E:\方启德\课件材料\新建 文件夹\cc00072jsl.jpg"/>
          <p:cNvPicPr/>
          <p:nvPr/>
        </p:nvPicPr>
        <p:blipFill>
          <a:blip r:embed="rId3"/>
          <a:stretch/>
        </p:blipFill>
        <p:spPr>
          <a:xfrm>
            <a:off x="4952880" y="30492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9" descr="E:\方启德\课件材料\新建 文件夹\Cc-020.jpg"/>
          <p:cNvPicPr/>
          <p:nvPr/>
        </p:nvPicPr>
        <p:blipFill>
          <a:blip r:embed="rId4"/>
          <a:stretch/>
        </p:blipFill>
        <p:spPr>
          <a:xfrm>
            <a:off x="6934320" y="304920"/>
            <a:ext cx="182880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4" descr="DL003000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8880" y="228600"/>
            <a:ext cx="1543320" cy="25909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秦始皇"/>
          <p:cNvPicPr/>
          <p:nvPr/>
        </p:nvPicPr>
        <p:blipFill>
          <a:blip r:embed="rId3"/>
          <a:stretch/>
        </p:blipFill>
        <p:spPr>
          <a:xfrm>
            <a:off x="7162920" y="3886200"/>
            <a:ext cx="1646280" cy="2671920"/>
          </a:xfrm>
          <a:prstGeom prst="rect">
            <a:avLst/>
          </a:prstGeom>
          <a:ln w="0">
            <a:noFill/>
          </a:ln>
        </p:spPr>
      </p:pic>
      <p:sp>
        <p:nvSpPr>
          <p:cNvPr id="664" name="Oval 5"/>
          <p:cNvSpPr/>
          <p:nvPr/>
        </p:nvSpPr>
        <p:spPr>
          <a:xfrm>
            <a:off x="990720" y="533520"/>
            <a:ext cx="1676160" cy="914400"/>
          </a:xfrm>
          <a:prstGeom prst="ellipse">
            <a:avLst/>
          </a:prstGeom>
          <a:solidFill>
            <a:srgbClr val="fa184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探究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4000" y="1989000"/>
            <a:ext cx="6745320" cy="40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19f9"/>
                </a:solidFill>
                <a:latin typeface="Times New Roman"/>
              </a:rPr>
              <a:t>长城到底给中华民族带来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2919f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7924680" y="4572000"/>
            <a:ext cx="41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秦始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7629480" y="49831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9" name="Picture 12" descr="mty_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43200" y="304920"/>
            <a:ext cx="2133720" cy="14824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6" descr="ccbwg1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952880" y="304920"/>
            <a:ext cx="2210040" cy="145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4T01:10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05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